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56FB-2976-4170-B4A1-B85579A49B7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836E-884B-4CED-A1A6-478E1683D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1004-331B-4AF9-8C02-D05978813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6F4C-4E80-4FB5-9A86-D568B53DB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3484-5E36-4484-9F03-251AD01F6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0323-DF1C-4573-BAF6-6D1508FAF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11BF-D17F-4AFF-BD35-11B1BD5AA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51E5-4979-4243-9F7D-2D1728BF9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DE2D-0E97-4819-9E3F-E941D3648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0FE2-141E-47AD-AAA1-E85159FF9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E589-C917-4BC2-80DC-8691DD1F4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C16E-5D97-478B-B143-8A2C61F2B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70D9-4DB5-4426-A834-CD39C1A0E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18FF-657E-4EFC-8890-D76D98E81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7238-9130-4C85-B10E-180E0F35D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BFF6-7694-4E08-9F3B-95D53A993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0258-D65E-4148-8B67-2F1C35A3C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39D3-9E2F-40F2-AD82-0CD6BC8B6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8C5C-24A3-4899-ACE5-75F2829E3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4B71-68DE-47E4-BCC7-17EA62996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AF14-925D-4E8B-B3BB-A675705B6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02A9-AE2D-4950-8954-89968A481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EA54-7F21-4F99-8EC9-A43F54D12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B927-80B8-4018-856A-EB9540188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14C0-335E-4B73-8A56-A960CBD3C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210D-AC0D-42C3-8511-3C7A93E4D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7AAF-38F9-4C47-97FD-8F174DE1E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3002-284A-420C-BB1D-8E1EBC272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C0DC-7263-41C9-911C-3F84862B7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15CF-B442-465F-8AF3-64BE14281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AD6E-9681-4F21-A656-FD462F7AE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624B-6C93-4895-8D5B-C4014D55B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B096-062D-407B-9C70-75C5D64BF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C1BD-A1C7-420A-A222-1AD136B84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F84B-44FC-4F55-91AB-9B5E2A1EC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61CE-7540-4A83-A7FF-7865654BF9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ED24-1DFB-42C9-A9A0-B5563693F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7754-0B97-4721-BC28-EA4A08E6F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A06A-0498-4A8D-8943-289514D04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495C-A01C-4309-AFBF-C8C2A4DB0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2F10-CFD7-4068-9397-188B6879B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03E7-0712-448E-87AD-9172F31AB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5E6C-9A18-4873-B91E-47DEF8CD6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DDEC-6789-4D54-A028-9CB590262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814B-243D-48BA-9F25-ACFB9606E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376C-1D4A-42FA-89BE-0FC65014E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B5C7-8075-41CB-9265-A602DCE53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7E42-2DEE-4A7E-89D0-AEBA13F64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4DF3-4A0E-4A19-9B65-8AD67EC0D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4A8E-513B-44A3-B50E-8EF2AA55E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DCFC-5898-4FC9-BC7F-F8FC7BD19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B86A-3411-450A-9C74-4473F08C1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C8190-D431-4C0C-91E0-ED16D237F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F3E0F-05B3-405B-B8A4-137C78A7E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01C1D-6A73-45B4-BCF0-4D1229975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DC455-1C29-44C5-AD17-200A4653B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F6C97-EE4A-4BD6-AD2F-7D22A625E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263F7-3E92-4234-96D0-25A5382D6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554AB-AF07-4538-B686-A9803D6AA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F62F7-5B07-4F81-9C20-A07AAA0B9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AD283-B879-4C9D-A675-CFC19DA38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D56D5-A1A4-444E-B84D-00B678E18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1D049-5E0E-492D-AD37-08B6DDF45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E992D-6A96-4E05-85EF-AAE26D94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34B53-CE7D-4174-8210-AD03E14B6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2CA92-269F-4089-94D7-2070EE8D8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33D01-32AF-4B53-A3E3-CF971AB29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5A06E-F2F5-43DA-A53B-5D3005AE2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3C23E-E63B-455F-98EE-CBB1146EE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6C4009-B345-4EDC-BF7E-B15408717D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BADFD-F34F-4A9F-B8B8-E3FCBC988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185C0-5292-4DA6-AB66-F97F40557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E831DE-FF01-4D34-A7F7-7388EFDDD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A2FE0-8642-49A7-87A7-ECC90ADE21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5140D-40F5-4321-89A2-14901BC50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2B661-35BF-4CBB-9D24-1F12343EE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19486-0AD7-44CC-BEB6-C22A7DC6E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76D01-2666-4A4E-8FD2-B9DFB748D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6FFD2-C8D6-4A4A-99E5-B73B8E22D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47130-36B4-4E99-B702-7A978108A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1F5FCC-E3B0-4013-9DD2-D9F1724EA6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004A63-2BF4-4D1B-A8E5-0DF5CEF3C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882EAA-BC36-4214-8836-D463433F9B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3E2CB-BE85-495F-8C39-3FD03DC2DF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82E82-87BD-4C47-9CDA-E0F492407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D9324-2719-4567-B305-CFB3E2AC5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2BC24-93C2-44D8-B42A-7C2FAA7EA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4917D-6640-4BB3-B763-6E66C9498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7D3609-9577-4578-9630-E1D4361C4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CC2E3-10B6-4894-B9A0-0EA694545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4B875-595B-40E8-9D9C-9A0318CF9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B3CB8-5838-4095-AF59-C17C4622E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8B4BC-0436-4D47-90BB-822F04816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6E9198-D99F-40B1-A12C-DF98941C44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69B4E4-60CB-45CA-9A88-EAD3E8DBC2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64BC7-7DF5-4331-847D-DDBAE808E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8887A-73E4-47E2-BD33-A8C8C3AFC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C793B-DE4E-4370-B3F8-8346D95F3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8BC9-5D0C-4738-AA2D-E74810F0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4C8C3-1D49-4F07-85D3-01A3402B8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BED0-82A2-448E-9D56-E6E19FECC7A0}"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771D41D-AC24-4CFE-9F1F-52675AE1CAF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0069-3B3E-4CC1-99E9-B173ECFF19E4}"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a:t>
            </a:r>
            <a:fld id="{2D56BF44-2CFF-46F1-942D-893FD924B7F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63D8-ECA9-436D-A9CF-AFD994F6AF01}"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a:t>
            </a:r>
            <a:fld id="{C63AEF05-1867-43CA-BE3A-512C375F00E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2571-3518-43FD-887F-2C2A8944CD66}"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120527C3-885E-41FA-A928-3A841FC5E6A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Commerce: Mechanisms, Infrastructures, and Tool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8000"/>
          </a:bodyPr>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ont end</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ortion of an e-seller’s business processes through which customers interact, including the seller’s portal, electronic catalogs, a shopping cart, a search engine, and a payment gatewa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ck end</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ctivities that support online order fulfillment, inventory management, purchasing from suppliers, payment processing, packaging, and deliver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mediary</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hird party that operates between sellers and buyers</a:t>
            </a:r>
            <a:endParaRPr b="0" lang="en-US" sz="2400" spc="-1" strike="noStrike">
              <a:solidFill>
                <a:srgbClr val="000000"/>
              </a:solidFill>
              <a:latin typeface="Constantia"/>
            </a:endParaRPr>
          </a:p>
        </p:txBody>
      </p:sp>
      <p:sp>
        <p:nvSpPr>
          <p:cNvPr id="23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A0BA6072-CE09-4DEE-BBAC-A6BE209E9C2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INTERMEDIATION AND REINTERMEDIA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sintermedia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limination of intermediaries between sellers and buyers</a:t>
            </a:r>
            <a:endParaRPr b="0" lang="en-US" sz="2400" spc="-1" strike="noStrike">
              <a:solidFill>
                <a:srgbClr val="000000"/>
              </a:solidFill>
              <a:latin typeface="Constantia"/>
            </a:endParaRPr>
          </a:p>
        </p:txBody>
      </p:sp>
      <p:sp>
        <p:nvSpPr>
          <p:cNvPr id="239"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659E8D86-DEA8-4C3E-9F0D-C9290741656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S OF E-MARKETPLA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ll-side e-marketpla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rivate e-marketplace in which one company sells either standard and/or customized products to qualified compani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y-side e-marketplac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rivate e-marketplace in which one company makes purchases from invited suppliers</a:t>
            </a:r>
            <a:endParaRPr b="0" lang="en-US" sz="2400" spc="-1" strike="noStrike">
              <a:solidFill>
                <a:srgbClr val="000000"/>
              </a:solidFill>
              <a:latin typeface="Constantia"/>
            </a:endParaRPr>
          </a:p>
        </p:txBody>
      </p:sp>
      <p:sp>
        <p:nvSpPr>
          <p:cNvPr id="243"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B82E8D72-812F-44F7-98A5-2DF3361219F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ustomer Shopping Mechanisms: Storefronts, Malls, and Portals</a:t>
            </a:r>
            <a:endParaRPr b="0" lang="en-US" sz="4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ebstore (storefro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ingle company’s website where products or services are sold; usually has an online shopping cart associated with i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Many Webstores target a specific industry and find their own unique corner of the mark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icrosites</a:t>
            </a:r>
            <a:endParaRPr b="0" lang="en-US" sz="2400" spc="-1" strike="noStrike">
              <a:solidFill>
                <a:srgbClr val="000000"/>
              </a:solidFill>
              <a:latin typeface="Constantia"/>
            </a:endParaRPr>
          </a:p>
        </p:txBody>
      </p:sp>
      <p:sp>
        <p:nvSpPr>
          <p:cNvPr id="24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72A17650-EFD3-443A-8758-2165D6D2348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ustomer Shopping Mechanisms: Storefronts, Malls, and Portals</a:t>
            </a:r>
            <a:endParaRPr b="0" lang="en-US" sz="4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all (online mal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online shopping center where many online stores are loca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S OF STORES AND MALL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eneral stores/mal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ecialized stores/mal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gional versus global stor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re-play versus click-and-mortar stores</a:t>
            </a:r>
            <a:endParaRPr b="0" lang="en-US" sz="2400" spc="-1" strike="noStrike">
              <a:solidFill>
                <a:srgbClr val="000000"/>
              </a:solidFill>
              <a:latin typeface="Constantia"/>
            </a:endParaRPr>
          </a:p>
        </p:txBody>
      </p:sp>
      <p:sp>
        <p:nvSpPr>
          <p:cNvPr id="251"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0ADE0AA-7BF8-4807-BE28-A72E1841622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ustomer Shopping Mechanisms: Storefronts, Malls, and Portals</a:t>
            </a:r>
            <a:endParaRPr b="0" lang="en-US" sz="4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information) portal</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ingle point of access, through a Web browser, to critical business information located inside and outside (via Internet) an organization</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ypes of Portals</a:t>
            </a:r>
            <a:endParaRPr b="0" lang="en-US" sz="22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mmercial (public) portals</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rporate portals</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ublishing portals</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ersonal portals</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mobile portal</a:t>
            </a:r>
            <a:endParaRPr b="0" lang="en-US" sz="1900" spc="-1" strike="noStrike">
              <a:solidFill>
                <a:srgbClr val="000000"/>
              </a:solidFill>
              <a:latin typeface="Constantia"/>
            </a:endParaRPr>
          </a:p>
          <a:p>
            <a:pPr lvl="2" marL="914400" indent="-24624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A portal accessible via a mobile device.</a:t>
            </a:r>
            <a:endParaRPr b="0" lang="en-US" sz="1900" spc="-1" strike="noStrike">
              <a:solidFill>
                <a:srgbClr val="000000"/>
              </a:solidFill>
              <a:latin typeface="Constantia"/>
            </a:endParaRPr>
          </a:p>
          <a:p>
            <a:pPr lvl="2" marL="914400" indent="-2462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voice portal</a:t>
            </a:r>
            <a:endParaRPr b="0" lang="en-US" sz="1900" spc="-1" strike="noStrike">
              <a:solidFill>
                <a:srgbClr val="000000"/>
              </a:solidFill>
              <a:latin typeface="Constantia"/>
            </a:endParaRPr>
          </a:p>
          <a:p>
            <a:pPr lvl="2" marL="914400" indent="-24624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A portal accessed by telephone or cell phone.</a:t>
            </a:r>
            <a:endParaRPr b="0" lang="en-US" sz="1900" spc="-1" strike="noStrike">
              <a:solidFill>
                <a:srgbClr val="000000"/>
              </a:solidFill>
              <a:latin typeface="Constantia"/>
            </a:endParaRPr>
          </a:p>
        </p:txBody>
      </p:sp>
      <p:sp>
        <p:nvSpPr>
          <p:cNvPr id="25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19DAAFBF-3B2D-4067-AB6D-F2D8D75F57E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457200" y="685800"/>
            <a:ext cx="8358120" cy="5505480"/>
          </a:xfrm>
          <a:prstGeom prst="rect">
            <a:avLst/>
          </a:prstGeom>
          <a:ln w="0">
            <a:noFill/>
          </a:ln>
        </p:spPr>
      </p:pic>
      <p:sp>
        <p:nvSpPr>
          <p:cNvPr id="25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52B97D22-B9F9-4C13-85A2-9CDE41544AC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ustomer Shopping Mechanisms: Storefronts, Malls, and Portals</a:t>
            </a:r>
            <a:endParaRPr b="0" lang="en-US" sz="4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ROLES AND VALUE OF INTERMEDIARIES IN E-MARKETPLACES</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roker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mediaries</a:t>
            </a:r>
            <a:endParaRPr b="0" lang="en-US" sz="22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Electronic intermediaries that provide and/or control information flow in cyberspace, often aggregating information and selling it to other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distributor</a:t>
            </a:r>
            <a:endParaRPr b="0" lang="en-US" sz="22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n e-commerce intermediary that connects manufacturers with business buyers (customers) by aggregating the catalogs of many manufacturers in one place—the intermediary’s website</a:t>
            </a:r>
            <a:endParaRPr b="0" lang="en-US" sz="2200" spc="-1" strike="noStrike">
              <a:solidFill>
                <a:srgbClr val="000000"/>
              </a:solidFill>
              <a:latin typeface="Constantia"/>
            </a:endParaRPr>
          </a:p>
        </p:txBody>
      </p:sp>
      <p:sp>
        <p:nvSpPr>
          <p:cNvPr id="26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1263EC12-71E3-4C51-AB2D-8F4F38433FE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catalogs (e-catalog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esentation of product information in an electronic form; the backbone of most e-selling sit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Online Catalogs Versus Paper Catalogs</a:t>
            </a:r>
            <a:endParaRPr b="0" lang="en-US" sz="2400" spc="-1" strike="noStrike">
              <a:solidFill>
                <a:srgbClr val="000000"/>
              </a:solidFill>
              <a:latin typeface="Constantia"/>
            </a:endParaRPr>
          </a:p>
        </p:txBody>
      </p:sp>
      <p:sp>
        <p:nvSpPr>
          <p:cNvPr id="26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D4A84FD3-C764-417F-8A2B-D9F02B99E45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7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onstantia"/>
              </a:rPr>
              <a:t>EC SEARCH ACTIVITIES, TYPES, AND ENGINES</a:t>
            </a:r>
            <a:endParaRPr b="0" lang="en-US" sz="31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ypes of EC Searches</a:t>
            </a:r>
            <a:endParaRPr b="0" lang="en-US" sz="28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rnet/Web Search</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terprise search</a:t>
            </a:r>
            <a:endParaRPr b="0" lang="en-US" sz="2600" spc="-1" strike="noStrike">
              <a:solidFill>
                <a:srgbClr val="000000"/>
              </a:solidFill>
              <a:latin typeface="Constantia"/>
            </a:endParaRPr>
          </a:p>
          <a:p>
            <a:pPr lvl="2" marL="914400" indent="-246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ractice of identifying and enabling specific content across the enterprise to be indexed, searched, and displayed to authorized users</a:t>
            </a:r>
            <a:endParaRPr b="0" lang="en-US" sz="2600" spc="-1" strike="noStrike">
              <a:solidFill>
                <a:srgbClr val="000000"/>
              </a:solidFill>
              <a:latin typeface="Constantia"/>
            </a:endParaRPr>
          </a:p>
        </p:txBody>
      </p:sp>
      <p:sp>
        <p:nvSpPr>
          <p:cNvPr id="27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7FDCAACF-F65E-4735-B5F2-8FA2F9813FF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7000"/>
          </a:bodyPr>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major electronic commerce (EC) activities and processes and the mechanisms that support them.</a:t>
            </a:r>
            <a:endParaRPr b="0" lang="en-US" sz="2600" spc="-1" strike="noStrike">
              <a:solidFill>
                <a:srgbClr val="000000"/>
              </a:solidFill>
              <a:latin typeface="Constantia"/>
            </a:endParaRPr>
          </a:p>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e-marketplaces and list their components.</a:t>
            </a:r>
            <a:endParaRPr b="0" lang="en-US" sz="2600" spc="-1" strike="noStrike">
              <a:solidFill>
                <a:srgbClr val="000000"/>
              </a:solidFill>
              <a:latin typeface="Constantia"/>
            </a:endParaRPr>
          </a:p>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the major types of e-marketplaces and describe their features.</a:t>
            </a:r>
            <a:endParaRPr b="0" lang="en-US" sz="2600" spc="-1" strike="noStrike">
              <a:solidFill>
                <a:srgbClr val="000000"/>
              </a:solidFill>
              <a:latin typeface="Constantia"/>
            </a:endParaRPr>
          </a:p>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lectronic catalogs, search engines, and shopping carts.</a:t>
            </a:r>
            <a:endParaRPr b="0" lang="en-US" sz="2600" spc="-1" strike="noStrike">
              <a:solidFill>
                <a:srgbClr val="000000"/>
              </a:solidFill>
              <a:latin typeface="Constantia"/>
            </a:endParaRPr>
          </a:p>
          <a:p>
            <a:pPr marL="498960" indent="-4989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major types of auctions and list their characteristics.</a:t>
            </a:r>
            <a:endParaRPr b="0" lang="en-US" sz="2600" spc="-1" strike="noStrike">
              <a:solidFill>
                <a:srgbClr val="000000"/>
              </a:solidFill>
              <a:latin typeface="Constantia"/>
            </a:endParaRPr>
          </a:p>
        </p:txBody>
      </p:sp>
      <p:sp>
        <p:nvSpPr>
          <p:cNvPr id="20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0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077D62FF-F255-470D-9391-ADA4DB79AC5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lvl="2" marL="914400" indent="-246240">
              <a:spcBef>
                <a:spcPts val="6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sktop search</a:t>
            </a:r>
            <a:endParaRPr b="0" lang="en-US" sz="2600" spc="-1" strike="noStrike">
              <a:solidFill>
                <a:srgbClr val="000000"/>
              </a:solidFill>
              <a:latin typeface="Constantia"/>
            </a:endParaRPr>
          </a:p>
          <a:p>
            <a:pPr lvl="2" marL="914400" indent="-246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earch tools that search the contents of a user’s or organization’s computer files, rather than searching the Internet</a:t>
            </a:r>
            <a:endParaRPr b="0" lang="en-US" sz="2600" spc="-1" strike="noStrike">
              <a:solidFill>
                <a:srgbClr val="000000"/>
              </a:solidFill>
              <a:latin typeface="Constantia"/>
            </a:endParaRPr>
          </a:p>
          <a:p>
            <a:pPr lvl="2" marL="914400" indent="-246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emphasis is on finding all the information that is available on the user’s PC, including Web browser histories, e-mail archives, and word-processed documents, as well as in all internal files and databases.</a:t>
            </a:r>
            <a:endParaRPr b="0" lang="en-US" sz="2600" spc="-1" strike="noStrike">
              <a:solidFill>
                <a:srgbClr val="000000"/>
              </a:solidFill>
              <a:latin typeface="Constantia"/>
            </a:endParaRPr>
          </a:p>
        </p:txBody>
      </p:sp>
      <p:sp>
        <p:nvSpPr>
          <p:cNvPr id="27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6055936-5243-4AF8-B9EB-21DC476F936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engin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computer program that can access databases of Internet resources, search for specific information or key words, and report the resul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ftware (Intelligent) Ag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estions and Answers Onlin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oice-Powered Searc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sual Shopping Search Engine</a:t>
            </a:r>
            <a:endParaRPr b="0" lang="en-US" sz="2400" spc="-1" strike="noStrike">
              <a:solidFill>
                <a:srgbClr val="000000"/>
              </a:solidFill>
              <a:latin typeface="Constantia"/>
            </a:endParaRPr>
          </a:p>
        </p:txBody>
      </p:sp>
      <p:sp>
        <p:nvSpPr>
          <p:cNvPr id="27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0C052248-2EE4-474A-B17F-A9AD0FBA0AE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4617b"/>
                </a:solidFill>
                <a:latin typeface="Calibri"/>
              </a:rPr>
              <a:t>Merchant Solutions: Electronic Catalogs, Search Engines, and Shopping Carts</a:t>
            </a:r>
            <a:endParaRPr b="0" lang="en-US" sz="35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shopping car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order-processing technology that allows customers to accumulate items they wish to buy while they continue to sh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THER MECHANISMS IN MERCHANT SOFTW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Shopping Engi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duct Configuration</a:t>
            </a:r>
            <a:endParaRPr b="0" lang="en-US" sz="2400" spc="-1" strike="noStrike">
              <a:solidFill>
                <a:srgbClr val="000000"/>
              </a:solidFill>
              <a:latin typeface="Constantia"/>
            </a:endParaRPr>
          </a:p>
        </p:txBody>
      </p:sp>
      <p:sp>
        <p:nvSpPr>
          <p:cNvPr id="28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1C2892B8-DCF9-4BBD-84C1-70D2FCE0852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u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competitive process in which a seller solicits consecutive bids from buyers (forward auctions) or a buyer solicits bids from sellers (backward auctions); prices are determined dynamically by the bi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ynamic pric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ices that change based on supply and demand relationships at any given time</a:t>
            </a:r>
            <a:endParaRPr b="0" lang="en-US" sz="2600" spc="-1" strike="noStrike">
              <a:solidFill>
                <a:srgbClr val="000000"/>
              </a:solidFill>
              <a:latin typeface="Constantia"/>
            </a:endParaRPr>
          </a:p>
        </p:txBody>
      </p:sp>
      <p:sp>
        <p:nvSpPr>
          <p:cNvPr id="28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DA4C798-6278-463D-AD71-4DE59E9909B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DITIONAL AUCTIONS VERSUS E-AU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mitations of Traditional Offline Au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auctions (e-auction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uctions conducted onlin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NOVATIVE AUCTIONS</a:t>
            </a:r>
            <a:endParaRPr b="0" lang="en-US" sz="2600" spc="-1" strike="noStrike">
              <a:solidFill>
                <a:srgbClr val="000000"/>
              </a:solidFill>
              <a:latin typeface="Constantia"/>
            </a:endParaRPr>
          </a:p>
        </p:txBody>
      </p:sp>
      <p:sp>
        <p:nvSpPr>
          <p:cNvPr id="29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3A5AF6F9-866D-41D7-825A-8177DDB6DED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S OF AU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e Buyer, One Sell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ne Seller, Many Potential Buye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forward auction</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n auction in which a seller entertains bids from buyers; bidders increase price sequentially</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CEB9DAD9-B383-4A9D-A744-EBE656269ED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lvl="1" marL="639720" indent="-245880">
              <a:lnSpc>
                <a:spcPct val="9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ne Buyer, Many Potential Sellers</a:t>
            </a:r>
            <a:endParaRPr b="0" lang="en-US" sz="27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verse auction (bidding or tendering system)</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uction in which the buyer places an item for bid (tender) on a request for quote (RFQ) system, potential suppliers bid on the job, with the price reducing sequentially, and the lowest bid wins; primarily a B2B or G2B mechanism</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ame-your-own-price model</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uction model in which a would-be buyer specifies the price (and other terms) he or she is willing to pay to any willing and able seller; a C2B model that was pioneered by Priceline.com.</a:t>
            </a:r>
            <a:endParaRPr b="0" lang="en-US" sz="2400" spc="-1" strike="noStrike">
              <a:solidFill>
                <a:srgbClr val="000000"/>
              </a:solidFill>
              <a:latin typeface="Constantia"/>
            </a:endParaRPr>
          </a:p>
        </p:txBody>
      </p:sp>
      <p:sp>
        <p:nvSpPr>
          <p:cNvPr id="29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768B390-D659-4982-B7A7-A88F6AA9AC0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380880" y="838080"/>
            <a:ext cx="8548920" cy="5254920"/>
          </a:xfrm>
          <a:prstGeom prst="rect">
            <a:avLst/>
          </a:prstGeom>
          <a:ln w="0">
            <a:noFill/>
          </a:ln>
        </p:spPr>
      </p:pic>
      <p:sp>
        <p:nvSpPr>
          <p:cNvPr id="30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B2CD857B-3AFD-4058-89DF-B13B78AD5D4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ny Sellers, Many Buye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double auction</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n auction in which multiple buyers and their bidding prices are matched with multiple sellers and their asking prices, considering the quantities on both sid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nny auct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formal auction in which participants pay a nonrefundable small fee for each bid; bid level changes by small increments</a:t>
            </a:r>
            <a:endParaRPr b="0" lang="en-US" sz="2400" spc="-1" strike="noStrike">
              <a:solidFill>
                <a:srgbClr val="000000"/>
              </a:solidFill>
              <a:latin typeface="Constantia"/>
            </a:endParaRPr>
          </a:p>
        </p:txBody>
      </p:sp>
      <p:sp>
        <p:nvSpPr>
          <p:cNvPr id="30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A43D27E-F319-4864-B4D1-F5ED31C1DF2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
          <p:cNvPicPr/>
          <p:nvPr/>
        </p:nvPicPr>
        <p:blipFill>
          <a:blip r:embed="rId1"/>
          <a:stretch/>
        </p:blipFill>
        <p:spPr>
          <a:xfrm>
            <a:off x="304920" y="838080"/>
            <a:ext cx="8547120" cy="5410440"/>
          </a:xfrm>
          <a:prstGeom prst="rect">
            <a:avLst/>
          </a:prstGeom>
          <a:ln w="0">
            <a:noFill/>
          </a:ln>
        </p:spPr>
      </p:pic>
      <p:sp>
        <p:nvSpPr>
          <p:cNvPr id="3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349B8EB5-35B8-465D-B707-6124E368917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the benefits and limitations of e-auct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bartering and negotiating onlin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virtual communit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the major Web 2.0 tools and their use in EC. </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social networks as an EC mechanism.</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 virtual worlds and their use in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Web 3.0 and define Web 4.0.</a:t>
            </a:r>
            <a:endParaRPr b="0" lang="en-US" sz="2600" spc="-1" strike="noStrike">
              <a:solidFill>
                <a:srgbClr val="000000"/>
              </a:solidFill>
              <a:latin typeface="Constantia"/>
            </a:endParaRPr>
          </a:p>
        </p:txBody>
      </p:sp>
      <p:sp>
        <p:nvSpPr>
          <p:cNvPr id="21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7A01A84F-FC59-48F7-910F-DD694AB2123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imitations of E-Au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inimal Secur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ossibility of Frau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mited Participation</a:t>
            </a:r>
            <a:endParaRPr b="0" lang="en-US" sz="2400" spc="-1" strike="noStrike">
              <a:solidFill>
                <a:srgbClr val="000000"/>
              </a:solidFill>
              <a:latin typeface="Constantia"/>
            </a:endParaRPr>
          </a:p>
        </p:txBody>
      </p:sp>
      <p:sp>
        <p:nvSpPr>
          <p:cNvPr id="31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5E8A2F4B-3A20-45AA-A256-149D33387E3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ACTS OF AU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ctions as a Social Mechanism to Determine a Pr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ctions as a Highly Visible Distribution Mechanis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ctions as an EC Component in a Business Mod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ctions for Profit for Individuals</a:t>
            </a:r>
            <a:endParaRPr b="0" lang="en-US" sz="2400" spc="-1" strike="noStrike">
              <a:solidFill>
                <a:srgbClr val="000000"/>
              </a:solidFill>
              <a:latin typeface="Constantia"/>
            </a:endParaRPr>
          </a:p>
        </p:txBody>
      </p:sp>
      <p:sp>
        <p:nvSpPr>
          <p:cNvPr id="31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A22BAB65-D75F-463E-B10B-78E72837DF5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uctions, Bartering, </a:t>
            </a:r>
            <a:br>
              <a:rPr sz="4000"/>
            </a:br>
            <a:r>
              <a:rPr b="0" lang="en-US" sz="4000" spc="-1" strike="noStrike">
                <a:solidFill>
                  <a:srgbClr val="04617b"/>
                </a:solidFill>
                <a:latin typeface="Calibri"/>
              </a:rPr>
              <a:t>and Negotiating Online</a:t>
            </a:r>
            <a:endParaRPr b="0" lang="en-US" sz="4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BARTER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rter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exchange of goods and servi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bartering (electronic barter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artering conducted online, usually in a bartering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rtering exchange</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rketplace in which an intermediary arranges barter transaction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NEGOTIATING</a:t>
            </a:r>
            <a:endParaRPr b="0" lang="en-US" sz="2600" spc="-1" strike="noStrike">
              <a:solidFill>
                <a:srgbClr val="000000"/>
              </a:solidFill>
              <a:latin typeface="Constantia"/>
            </a:endParaRPr>
          </a:p>
        </p:txBody>
      </p:sp>
      <p:sp>
        <p:nvSpPr>
          <p:cNvPr id="32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C4C8690A-0341-4292-A4E1-16F1A4F81B1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software</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oftware product that enables people to rendezvous, connect, and collaborate through computer-mediated communication</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log</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personal website that is open to the public to read and to interact with; dedicated to specific topics or issue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log (or video blog)</a:t>
            </a: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blog with video content</a:t>
            </a:r>
            <a:endParaRPr b="0" lang="en-US" sz="2400" spc="-1" strike="noStrike">
              <a:solidFill>
                <a:srgbClr val="000000"/>
              </a:solidFill>
              <a:latin typeface="Constantia"/>
            </a:endParaRPr>
          </a:p>
        </p:txBody>
      </p:sp>
      <p:sp>
        <p:nvSpPr>
          <p:cNvPr id="32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261A17DC-09BE-49DC-A1CD-81E782E5CCC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fontScale="98000"/>
          </a:bodyPr>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uilding Effective Blog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ommercial Uses of Blog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otential Risks of Corporate Blogs</a:t>
            </a:r>
            <a:endParaRPr b="0" lang="en-US" sz="22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icroblogging</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form of blogging that allows users to write messages (usually up to 140 characters) and publish them, either to be viewed by anyone or by a restricted group that can be chosen by the user; these messages can be submitted by a variety of means, including text messaging, instant messaging, e-mail, MP3, or just on the Web</a:t>
            </a:r>
            <a:endParaRPr b="0" lang="en-US" sz="2600" spc="-1" strike="noStrike">
              <a:solidFill>
                <a:srgbClr val="000000"/>
              </a:solidFill>
              <a:latin typeface="Constantia"/>
            </a:endParaRPr>
          </a:p>
        </p:txBody>
      </p:sp>
      <p:sp>
        <p:nvSpPr>
          <p:cNvPr id="32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22AD687-551F-4F3D-92D5-C939B5BCFC9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witt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free microblogging service that allows its users to send and read other users’ updat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weet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ext-based posts up to 140 characters in length posted to Twitt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Essentials of Twitter for Busines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Major Benefits of Twitter</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amples of Twitter as Enterprise Tools</a:t>
            </a:r>
            <a:endParaRPr b="0" lang="en-US" sz="2100" spc="-1" strike="noStrike">
              <a:solidFill>
                <a:srgbClr val="000000"/>
              </a:solidFill>
              <a:latin typeface="Constantia"/>
            </a:endParaRPr>
          </a:p>
        </p:txBody>
      </p:sp>
      <p:sp>
        <p:nvSpPr>
          <p:cNvPr id="33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3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3888E9B0-186E-4DC1-A5D5-E9EA3A68136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iki (wikilo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blog that allows everyone to participate as a peer; anyone may add, delete, or change cont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Applications of Wikis</a:t>
            </a:r>
            <a:endParaRPr b="0" lang="en-US" sz="2400" spc="-1" strike="noStrike">
              <a:solidFill>
                <a:srgbClr val="000000"/>
              </a:solidFill>
              <a:latin typeface="Constantia"/>
            </a:endParaRPr>
          </a:p>
        </p:txBody>
      </p:sp>
      <p:sp>
        <p:nvSpPr>
          <p:cNvPr id="33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F72C389-002A-4AFC-A7EC-EFFDE33EF55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ECHANISM AIDS FOR WEB 2.0 TOOLS: TAGS, FOLKSONOMY, MASHUPS, AND SOCIAL BOOKMARKS</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ag</a:t>
            </a:r>
            <a:endParaRPr b="0" lang="en-US" sz="2400" spc="-1" strike="noStrike">
              <a:solidFill>
                <a:srgbClr val="000000"/>
              </a:solidFill>
              <a:latin typeface="Constantia"/>
            </a:endParaRPr>
          </a:p>
          <a:p>
            <a:pPr lvl="1" marL="607680" indent="-233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nonhierarchical key word or term assigned to a piece of information (such as an Internet bookmark, digital image, video clip, or any computer document)</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lksonomy (collaborative tagging, social tagging)</a:t>
            </a:r>
            <a:endParaRPr b="0" lang="en-US" sz="2400" spc="-1" strike="noStrike">
              <a:solidFill>
                <a:srgbClr val="000000"/>
              </a:solidFill>
              <a:latin typeface="Constantia"/>
            </a:endParaRPr>
          </a:p>
          <a:p>
            <a:pPr lvl="1" marL="607680" indent="-233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actice and method of collaboratively creating, classifying, and managing tags to annotate and categorize content</a:t>
            </a:r>
            <a:endParaRPr b="0" lang="en-US" sz="2400" spc="-1" strike="noStrike">
              <a:solidFill>
                <a:srgbClr val="000000"/>
              </a:solidFill>
              <a:latin typeface="Constantia"/>
            </a:endParaRPr>
          </a:p>
        </p:txBody>
      </p:sp>
      <p:sp>
        <p:nvSpPr>
          <p:cNvPr id="34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3999FDC0-1910-4C14-882B-BBB87BB80F0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ocial Software Tools: </a:t>
            </a:r>
            <a:br>
              <a:rPr sz="4000"/>
            </a:br>
            <a:r>
              <a:rPr b="0" lang="en-US" sz="4000" spc="-1" strike="noStrike">
                <a:solidFill>
                  <a:srgbClr val="04617b"/>
                </a:solidFill>
                <a:latin typeface="Calibri"/>
              </a:rPr>
              <a:t>From Blogs to Wikis to Twitter</a:t>
            </a:r>
            <a:endParaRPr b="0" lang="en-US" sz="4000" spc="-1" strike="noStrike">
              <a:solidFill>
                <a:srgbClr val="04617b"/>
              </a:solidFill>
              <a:latin typeface="Calibri"/>
            </a:endParaRPr>
          </a:p>
        </p:txBody>
      </p:sp>
      <p:sp>
        <p:nvSpPr>
          <p:cNvPr id="343"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shup</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ombination of two or more websites into a single website that provides the content of both sites (whole or partial) to deliver a novel product to consu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bookmark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b service for sharing Internet bookmarks; the sites are a popular way to store, classify, share, and search links through the practice of folksonomy techniques on the Internet and intranets</a:t>
            </a:r>
            <a:endParaRPr b="0" lang="en-US" sz="2400" spc="-1" strike="noStrike">
              <a:solidFill>
                <a:srgbClr val="000000"/>
              </a:solidFill>
              <a:latin typeface="Constantia"/>
            </a:endParaRPr>
          </a:p>
        </p:txBody>
      </p:sp>
      <p:sp>
        <p:nvSpPr>
          <p:cNvPr id="34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4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BA9532E5-B0EF-4FE3-88E2-A20E8E4ECAA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communit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group of people with similar interests who interact with one another using the Internet</a:t>
            </a:r>
            <a:endParaRPr b="0" lang="en-US" sz="2600" spc="-1" strike="noStrike">
              <a:solidFill>
                <a:srgbClr val="000000"/>
              </a:solidFill>
              <a:latin typeface="Constantia"/>
            </a:endParaRPr>
          </a:p>
        </p:txBody>
      </p:sp>
      <p:sp>
        <p:nvSpPr>
          <p:cNvPr id="34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4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F4030298-404C-4FA9-B881-6C1624FF598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lectronic Commerce Mechanisms: An Overview</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C ACTIVITIES AND SUPPORT MECHANIS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ELLERS, BUYERS, AND TRANSAC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Purchasing Process</a:t>
            </a:r>
            <a:endParaRPr b="0" lang="en-US" sz="2400" spc="-1" strike="noStrike">
              <a:solidFill>
                <a:srgbClr val="000000"/>
              </a:solidFill>
              <a:latin typeface="Constantia"/>
            </a:endParaRPr>
          </a:p>
        </p:txBody>
      </p:sp>
      <p:sp>
        <p:nvSpPr>
          <p:cNvPr id="21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A7B67141-949C-4D14-9547-285BF933239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HARACTERISTICS OF TRADITIONAL ONLINE COMMUNITIES AND THEIR CLASSIFICATION</a:t>
            </a:r>
            <a:endParaRPr b="0" lang="en-US" sz="26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Communities</a:t>
            </a:r>
            <a:endParaRPr b="0" lang="en-US" sz="24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ssociation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ffinity portal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thnic communiti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ender communiti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tering to young people</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mmunities of practice</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eighborhood communiti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cial networks sit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Virtual worlds</a:t>
            </a:r>
            <a:endParaRPr b="0" lang="en-US" sz="2100" spc="-1" strike="noStrike">
              <a:solidFill>
                <a:srgbClr val="000000"/>
              </a:solidFill>
              <a:latin typeface="Constantia"/>
            </a:endParaRPr>
          </a:p>
        </p:txBody>
      </p:sp>
      <p:sp>
        <p:nvSpPr>
          <p:cNvPr id="35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5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BCE1A7E8-F880-43C0-8FCB-413DC62C3D5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Classifications of Virtual Communiti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Public Versus Private Communiti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lassification Categories</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SOCIAL NETWORK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 Definition and Basic Inform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Size of Social Network Si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 Global Phenomen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presentative Capabilities and Services Provided by Social Network Sites</a:t>
            </a:r>
            <a:endParaRPr b="0" lang="en-US" sz="2400" spc="-1" strike="noStrike">
              <a:solidFill>
                <a:srgbClr val="000000"/>
              </a:solidFill>
              <a:latin typeface="Constantia"/>
            </a:endParaRPr>
          </a:p>
        </p:txBody>
      </p:sp>
      <p:sp>
        <p:nvSpPr>
          <p:cNvPr id="35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5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1EE4FE66-85CF-4633-BFF7-FE35B933596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704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oriented social network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ocial network whose major interest is business topics and whose members are professional people; such networks are used mostly for creating contacts, providing requirements, and enlisting members’ support for problem solving and knowledge sharing</a:t>
            </a:r>
            <a:endParaRPr b="0" lang="en-US" sz="2600" spc="-1" strike="noStrike">
              <a:solidFill>
                <a:srgbClr val="000000"/>
              </a:solidFill>
              <a:latin typeface="Constantia"/>
            </a:endParaRPr>
          </a:p>
        </p:txBody>
      </p:sp>
      <p:sp>
        <p:nvSpPr>
          <p:cNvPr id="36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6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719FB918-0B6C-419A-AA11-2B9448F1AA8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Virtual Communities and Social Networks</a:t>
            </a:r>
            <a:endParaRPr b="0" lang="en-US" sz="38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anchor="t">
            <a:normAutofit/>
          </a:bodyPr>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xample of a Business-Oriented Social Network</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ome Capabilities of Business-Oriented Network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usiness Models and Services Related to Social Networking</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ocial Network Analysis Softwar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Xanga</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igg</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mobile social networking</a:t>
            </a:r>
            <a:endParaRPr b="0" lang="en-US" sz="22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Members converse and connect with one another using cell phones or other mobile device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Mobile Community Activities</a:t>
            </a:r>
            <a:endParaRPr b="0" lang="en-US" sz="22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CIAL NETWORK SERVICES</a:t>
            </a:r>
            <a:endParaRPr b="0" lang="en-US" sz="2400" spc="-1" strike="noStrike">
              <a:solidFill>
                <a:srgbClr val="000000"/>
              </a:solidFill>
              <a:latin typeface="Constantia"/>
            </a:endParaRPr>
          </a:p>
        </p:txBody>
      </p:sp>
      <p:sp>
        <p:nvSpPr>
          <p:cNvPr id="364"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6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84CE4B2-F421-47EC-A70A-7E59B470F1F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Virtual Worlds as an</a:t>
            </a:r>
            <a:br>
              <a:rPr sz="4000"/>
            </a:br>
            <a:r>
              <a:rPr b="0" lang="en-US" sz="4000" spc="-1" strike="noStrike">
                <a:solidFill>
                  <a:srgbClr val="04617b"/>
                </a:solidFill>
                <a:latin typeface="Calibri"/>
              </a:rPr>
              <a:t>Electronic Commerce Mechanism</a:t>
            </a:r>
            <a:endParaRPr b="0" lang="en-US" sz="4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worl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user-defined world in which people can interact, play, and do business; the most publicized virtual world is Second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vata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imated computer characters that exhibit humanlike movements and behaviors</a:t>
            </a:r>
            <a:endParaRPr b="0" lang="en-US" sz="2600" spc="-1" strike="noStrike">
              <a:solidFill>
                <a:srgbClr val="000000"/>
              </a:solidFill>
              <a:latin typeface="Constantia"/>
            </a:endParaRPr>
          </a:p>
        </p:txBody>
      </p:sp>
      <p:sp>
        <p:nvSpPr>
          <p:cNvPr id="36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6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5D2A16D-3B8F-4101-8391-59E556296AA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Virtual Worlds as an</a:t>
            </a:r>
            <a:br>
              <a:rPr sz="4000"/>
            </a:br>
            <a:r>
              <a:rPr b="0" lang="en-US" sz="4000" spc="-1" strike="noStrike">
                <a:solidFill>
                  <a:srgbClr val="04617b"/>
                </a:solidFill>
                <a:latin typeface="Calibri"/>
              </a:rPr>
              <a:t>Electronic Commerce Mechanism</a:t>
            </a:r>
            <a:endParaRPr b="0" lang="en-US" sz="40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USINESS ACTIVITIES AND VALUE IN VIRTUAL WORLDS</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Collaborat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Research and Marketing</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Shopp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rading Virtual Properties</a:t>
            </a:r>
            <a:endParaRPr b="0" lang="en-US" sz="2400" spc="-1" strike="noStrike">
              <a:solidFill>
                <a:srgbClr val="000000"/>
              </a:solidFill>
              <a:latin typeface="Constantia"/>
            </a:endParaRPr>
          </a:p>
        </p:txBody>
      </p:sp>
      <p:sp>
        <p:nvSpPr>
          <p:cNvPr id="372"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7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FAFC709-6261-4A51-8D3A-C3C0446007B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Future: Web 3.0 and Web 4.0</a:t>
            </a:r>
            <a:endParaRPr b="0" lang="en-US" sz="4500" spc="-1" strike="noStrike">
              <a:solidFill>
                <a:srgbClr val="04617b"/>
              </a:solidFill>
              <a:latin typeface="Calibri"/>
            </a:endParaRPr>
          </a:p>
        </p:txBody>
      </p:sp>
      <p:sp>
        <p:nvSpPr>
          <p:cNvPr id="37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eb 3.0</a:t>
            </a:r>
            <a:endParaRPr b="0" lang="en-US" sz="2400" spc="-1" strike="noStrike">
              <a:solidFill>
                <a:srgbClr val="000000"/>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term used to describe the future of the World Wide Web; it consists of the creation of high-quality content and services produced by gifted individuals using Web 2.0 technology as an enabling platform</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mantic Web</a:t>
            </a:r>
            <a:endParaRPr b="0" lang="en-US" sz="2400" spc="-1" strike="noStrike">
              <a:solidFill>
                <a:srgbClr val="000000"/>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evolving extension of the Web in which Web content can be expressed not only in natural language, but also in a form that can be understood, interpreted, and used by intelligent computer software agents, permitting them to find, share, and integrate information more easily</a:t>
            </a:r>
            <a:endParaRPr b="0" lang="en-US" sz="2400" spc="-1" strike="noStrike">
              <a:solidFill>
                <a:srgbClr val="000000"/>
              </a:solidFill>
              <a:latin typeface="Constantia"/>
            </a:endParaRPr>
          </a:p>
        </p:txBody>
      </p:sp>
      <p:sp>
        <p:nvSpPr>
          <p:cNvPr id="37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7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0F3463FB-B8BE-48A1-A050-93730845000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Future: Web 3.0 and Web 4.0</a:t>
            </a:r>
            <a:endParaRPr b="0" lang="en-US" sz="4500" spc="-1" strike="noStrike">
              <a:solidFill>
                <a:srgbClr val="04617b"/>
              </a:solidFill>
              <a:latin typeface="Calibri"/>
            </a:endParaRPr>
          </a:p>
        </p:txBody>
      </p:sp>
      <p:sp>
        <p:nvSpPr>
          <p:cNvPr id="3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eb 4.0</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Web generation after Web 3.0 that is still an unknown entity; however, it is envisioned as being based on islands of intelligence and as being ubiquito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ECHNOLOGICAL ENVIRON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cKinsey &amp; Company’s Predic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icholas Carr’s &amp; Company’s Prediction</a:t>
            </a:r>
            <a:endParaRPr b="0" lang="en-US" sz="2400" spc="-1" strike="noStrike">
              <a:solidFill>
                <a:srgbClr val="000000"/>
              </a:solidFill>
              <a:latin typeface="Constantia"/>
            </a:endParaRPr>
          </a:p>
        </p:txBody>
      </p:sp>
      <p:sp>
        <p:nvSpPr>
          <p:cNvPr id="380"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8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169B857-2C36-4336-8EDB-9BA9F702D57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
          <p:cNvPicPr/>
          <p:nvPr/>
        </p:nvPicPr>
        <p:blipFill>
          <a:blip r:embed="rId1"/>
          <a:stretch/>
        </p:blipFill>
        <p:spPr>
          <a:xfrm>
            <a:off x="457200" y="914400"/>
            <a:ext cx="8296200" cy="5210280"/>
          </a:xfrm>
          <a:prstGeom prst="rect">
            <a:avLst/>
          </a:prstGeom>
          <a:ln w="0">
            <a:noFill/>
          </a:ln>
        </p:spPr>
      </p:pic>
      <p:sp>
        <p:nvSpPr>
          <p:cNvPr id="38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8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889DAEA-A6DE-439F-88E7-66C969B9262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86"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uld we use auctions for sell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uld we barter?</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select merchant softwar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can we use Facebook and other social networks in our busines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all we start using Web 2.0 too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all we take part in virtual worl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ould we deal with Web 2.0 risks?</a:t>
            </a:r>
            <a:endParaRPr b="0" lang="en-US" sz="2600" spc="-1" strike="noStrike">
              <a:solidFill>
                <a:srgbClr val="000000"/>
              </a:solidFill>
              <a:latin typeface="Constantia"/>
            </a:endParaRPr>
          </a:p>
        </p:txBody>
      </p:sp>
      <p:sp>
        <p:nvSpPr>
          <p:cNvPr id="38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8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EF7A944-B374-4B3F-95D6-9F5AF3F82FB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2D8EBA50-0DB3-4C96-B558-EDD72467A5B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5" descr=""/>
          <p:cNvPicPr/>
          <p:nvPr/>
        </p:nvPicPr>
        <p:blipFill>
          <a:blip r:embed="rId1"/>
          <a:stretch/>
        </p:blipFill>
        <p:spPr>
          <a:xfrm>
            <a:off x="2049480" y="339840"/>
            <a:ext cx="4713120" cy="59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90"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ities and mechanis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arketplaces and their componen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jor types of e-marketplac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lectronic catalogs, search engines, and shopping cart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es of auctions and their characteristic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enefits and limitations of auctions</a:t>
            </a:r>
            <a:endParaRPr b="0" lang="en-US" sz="2600" spc="-1" strike="noStrike">
              <a:solidFill>
                <a:srgbClr val="000000"/>
              </a:solidFill>
              <a:latin typeface="Constantia"/>
            </a:endParaRPr>
          </a:p>
        </p:txBody>
      </p:sp>
      <p:sp>
        <p:nvSpPr>
          <p:cNvPr id="391"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9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EA17BAEA-30B7-4575-8ECE-B07F8A37520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rtering and negotiat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tructure and role of virtual communit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 2.0 too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 networks as an EC mechanism</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rtual worl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 3.0 and Web 4.0</a:t>
            </a:r>
            <a:endParaRPr b="0" lang="en-US" sz="2600" spc="-1" strike="noStrike">
              <a:solidFill>
                <a:srgbClr val="000000"/>
              </a:solidFill>
              <a:latin typeface="Constantia"/>
            </a:endParaRPr>
          </a:p>
        </p:txBody>
      </p:sp>
      <p:sp>
        <p:nvSpPr>
          <p:cNvPr id="39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9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D41AEBA1-BABB-48D0-AA3F-B0AFA3FAF9A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399"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400"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5C4DE0-DCC8-42BA-BDC5-7606374AC5AD}"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
          <p:cNvPicPr/>
          <p:nvPr/>
        </p:nvPicPr>
        <p:blipFill>
          <a:blip r:embed="rId1"/>
          <a:stretch/>
        </p:blipFill>
        <p:spPr>
          <a:xfrm>
            <a:off x="584280" y="1371600"/>
            <a:ext cx="7975440" cy="4114800"/>
          </a:xfrm>
          <a:prstGeom prst="rect">
            <a:avLst/>
          </a:prstGeom>
          <a:ln w="0">
            <a:noFill/>
          </a:ln>
        </p:spPr>
      </p:pic>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06777F72-226F-46A0-82FF-2D26DA8C7E4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2023920" y="272880"/>
            <a:ext cx="5024520" cy="5975640"/>
          </a:xfrm>
          <a:prstGeom prst="rect">
            <a:avLst/>
          </a:prstGeom>
          <a:ln w="0">
            <a:noFill/>
          </a:ln>
        </p:spPr>
      </p:pic>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AF819774-7ACC-4E7B-97B0-E564F5F4869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marketplace</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n online market, usually B2B, in which buyers and sellers exchange goods or services; the three types of e-marketplaces are private, public, and consorti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MPONENTS OF AND THE PARTICIPANTS IN E-MARKETPLACES</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rketspace</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marketplace in which sellers and buyers exchange goods and services for money (or for other goods and services), but do so electronically</a:t>
            </a:r>
            <a:endParaRPr b="0" lang="en-US" sz="2400" spc="-1" strike="noStrike">
              <a:solidFill>
                <a:srgbClr val="000000"/>
              </a:solidFill>
              <a:latin typeface="Constantia"/>
            </a:endParaRPr>
          </a:p>
        </p:txBody>
      </p:sp>
      <p:sp>
        <p:nvSpPr>
          <p:cNvPr id="22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9E9F43C4-6F85-4E66-B973-A3A740A3BE8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Marketplace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jor components and players in a marketspace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usto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ll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ducts and servic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digital product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Goods that can be transformed to digital format and delivered over the Internet</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frastructure</a:t>
            </a:r>
            <a:endParaRPr b="0" lang="en-US" sz="2400" spc="-1" strike="noStrike">
              <a:solidFill>
                <a:srgbClr val="000000"/>
              </a:solidFill>
              <a:latin typeface="Constantia"/>
            </a:endParaRPr>
          </a:p>
        </p:txBody>
      </p:sp>
      <p:sp>
        <p:nvSpPr>
          <p:cNvPr id="231"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a:t>
            </a:r>
            <a:fld id="{48D0101C-009A-4311-8799-52F125FF826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4:23Z</dcterms:modified>
  <cp:revision>41</cp:revision>
  <dc:subject/>
  <dc:title>Chapter 1</dc:title>
</cp:coreProperties>
</file>