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FE0C-FB03-4CBE-AB5B-3679DFDB543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22AE-ACCC-4FC4-AAF4-D2E5A656E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D574-7150-4F69-888C-47984438B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59AF-3E05-4E97-B27E-77E80DC36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85BB-3E96-44E2-B4DA-B6A1EB59A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BB7F-FA4F-44B3-8F7F-DBF26F7944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3876-7605-45A1-B96F-A38E7A203D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4D45-A244-49DB-8308-5E6F41C75C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CA75-7F56-4BC3-A45C-6F2D74CF2C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C508-1CAB-4BC0-BFB3-4702B28209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C68A-FC88-4FAF-8478-941985265E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07C2-54F5-483D-A2FF-1F3FCDA8A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FFA5-1D7E-4788-B596-1C39C03D66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51F1-F0F5-4638-B030-C5BD7F4A2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4E62-73AE-4388-ACF0-FCB7A7E83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AF71-9B2A-4FC0-A1F7-2EA22A7F5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EE6D-3AB7-482E-87BC-486EA2AD7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EC3A-A692-4D1A-A406-D7835ECF4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14A3-6C19-4E5A-9AAD-9BA6347493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B66E-8EFD-40EC-9157-0175BBFF00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0CFD-C25E-4B08-9ED9-ECEF2EB4C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7618-126F-4F3B-BB4A-98E017EEB8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EAE2-6647-40E8-A3A7-9BA7A79FF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E14D-F07A-45A6-A7D0-9BC3F8A2BC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72EA6-D77A-4AA2-8C44-6190531EE9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9CE3-A04A-454B-9291-E9C1E0427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5DF2-9A8A-4439-B6F1-FCD84EC8E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EADA-21E4-4F12-8CD7-A8A956912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0F1E-56E0-41F8-93CC-66744112F5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F054-3EDD-4D87-973B-D49E0D3D74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9FDC-8F68-46D5-A246-E5807A480E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C8FA-C807-420D-A462-6892FF076F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119E-B3DE-491D-8FE8-3F5FEC203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3CA5-D223-43ED-946B-F8874FA840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48AC-0FCB-43E4-AA7C-8213757D86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BD03-D079-43F7-A906-8E32188BDB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1F0E-3EB0-43E2-AED7-04F5CFBA0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6FAD-C5EE-4725-9873-47FF7C030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C371-E0C1-4BDB-9987-B64AD3F8E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296E-278E-46ED-9FDD-85E393F60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02A1-6E85-400D-B934-17D1906B94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7846-8377-4A5B-9C55-423563E0B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A11A-7271-42D5-8080-43FADD7F60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5A4B-C257-46C5-823B-D002D7873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3010-9299-4965-BE00-611112977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C273-A8A7-4324-B7F0-994CCE7C57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09329-84E1-4864-AB0F-FC31E2A01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C11C-3B37-4FAE-B3F2-15D033CAD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24AA-0232-4EC5-9E7C-04723D2971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A16F-9129-485E-A0AA-E7973C806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E8E6-4A52-460E-A1CD-56A8343B1B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80AD-0C5A-4C54-A4AD-A0076A024A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27C42-DFB0-44F7-A542-DB3C3B145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59658-4C1C-405A-8D26-A99668891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BC80D-B3C0-42AC-9215-40C7BC88B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4ABF7-9F4B-411F-875F-7DCAF577C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5D5A9-445A-429C-88EA-955949BE1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64E63-BD23-424D-B3B9-D610A23E9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1DD62-94F9-4F34-942A-A3442575C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01017-049D-4AAB-87D6-44F207DFD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463F9-68CA-450E-85A8-60FFC519B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96FB3-455D-40DB-A59A-8B641FD5B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F24A9-9121-4A4F-8A1A-2C46BB49F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1717C-0FDD-4313-9F3F-E00889712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7E434-5D8C-4873-9D50-015E39231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44377-79BD-4ECE-8584-116CBADBB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D93B4-D9C9-4CD4-9B09-805337CAA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08717-11BD-41F0-8BC1-BE2D1B4849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4C947-4F9C-491D-8E56-05C2FEEC6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73B61F-E83B-4397-A254-71900C7C9D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51E77E-0057-4681-96B6-650883B4AD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399D8-683D-4214-9E43-839FE34B6A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C1D733-3D71-4585-B179-B3C3B3AAC0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7E4AE-1A60-4AF2-853F-2C6AA2EE98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F3B71-DC87-4430-8706-64512F9B7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84F63E-6F8C-4765-94A9-30E971A034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C40F3-6663-4B51-A086-2ED6F58E95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575A1-F67A-48ED-A16E-E1D9A9367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404E1E-700F-4811-86D0-9CD0A0813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10E06C-26B0-487F-8ACB-FA49D33382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2927F1-1CB4-4915-AC59-14387C002C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1A22FE-E21D-4B12-AF17-241191286F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FD4B32-E3F2-4CDB-A721-8ECE1CC6A6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4F035F-5CBA-42EA-BC67-63C327ADAE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528F4C-B9FB-48BA-A229-D8EDEC1ED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7BE3E-2A15-45C2-8AD8-2C25FE4C8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31193E-234D-46B4-A8EC-50FC879E56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261340-E154-4A81-AACB-2DA7DAA3D9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04F653-C5D6-49DA-A3E6-620B990E68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981BD-8445-47F9-A57B-4783DFF95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E1D819-A4AF-4A5C-8901-14D32430F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C418E-B6ED-4517-984E-0A82E5ECA6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1AB5B1-F2E5-4315-8221-4F21C7DD15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4B9D4E-9165-4D1B-BC07-AFBFC1AFE4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6A074F-6109-45E7-AF73-F1D2302693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A1A33-3641-4A56-B831-B7F2E87E7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D9782-E143-4176-8F1B-2520EAFFD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A03A9-85CB-4DAB-981D-6E5869ADB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ADC7F-6C9B-443B-9D01-B65C7936C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F4122-A399-4159-BF39-DC0FF2993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D355-B00A-4E18-AAB3-DA3683C075FB}"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5AB6DA36-B28D-4571-A968-711C94DAB80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57D0-3B11-4240-882B-20412DB76BF3}"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2-</a:t>
            </a:r>
            <a:fld id="{AD7570C6-AB53-4540-9FA0-5F743296547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F186-F38D-4158-BD63-627A5C233B81}"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2-</a:t>
            </a:r>
            <a:fld id="{ECE76850-6A9F-4F93-B950-1F138199D1B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4CC7-BDE4-4CEC-825F-1BE9B0FBBA5D}"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357843F3-CC4C-460D-B5EC-589A90DA2AE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3"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Commerce: Mechanisms, Infrastructures, and Tool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Marketplaces</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8000"/>
          </a:bodyPr>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ront end</a:t>
            </a:r>
            <a:endParaRPr b="0" lang="en-US" sz="2400" spc="-1" strike="noStrike">
              <a:solidFill>
                <a:srgbClr val="000000"/>
              </a:solidFill>
              <a:latin typeface="Constantia"/>
            </a:endParaRPr>
          </a:p>
          <a:p>
            <a:pPr lvl="1" marL="626760" indent="-240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ortion of an e-seller’s business processes through which customers interact, including the seller’s portal, electronic catalogs, a shopping cart, a search engine, and a payment gatewa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ack end</a:t>
            </a:r>
            <a:endParaRPr b="0" lang="en-US" sz="2400" spc="-1" strike="noStrike">
              <a:solidFill>
                <a:srgbClr val="000000"/>
              </a:solidFill>
              <a:latin typeface="Constantia"/>
            </a:endParaRPr>
          </a:p>
          <a:p>
            <a:pPr lvl="1" marL="626760" indent="-240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ctivities that support online order fulfillment, inventory management, purchasing from suppliers, payment processing, packaging, and deliver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rmediary</a:t>
            </a:r>
            <a:endParaRPr b="0" lang="en-US" sz="2400" spc="-1" strike="noStrike">
              <a:solidFill>
                <a:srgbClr val="000000"/>
              </a:solidFill>
              <a:latin typeface="Constantia"/>
            </a:endParaRPr>
          </a:p>
          <a:p>
            <a:pPr lvl="1" marL="626760" indent="-240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third party that operates between sellers and buyers</a:t>
            </a:r>
            <a:endParaRPr b="0" lang="en-US" sz="2400" spc="-1" strike="noStrike">
              <a:solidFill>
                <a:srgbClr val="000000"/>
              </a:solidFill>
              <a:latin typeface="Constantia"/>
            </a:endParaRPr>
          </a:p>
        </p:txBody>
      </p:sp>
      <p:sp>
        <p:nvSpPr>
          <p:cNvPr id="235"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3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2CDE1B69-DE68-4DDD-982B-A670149D6AA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Marketplaces</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ISINTERMEDIATION AND REINTERMEDIAT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sintermediatio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limination of intermediaries between sellers and buyers</a:t>
            </a:r>
            <a:endParaRPr b="0" lang="en-US" sz="2400" spc="-1" strike="noStrike">
              <a:solidFill>
                <a:srgbClr val="000000"/>
              </a:solidFill>
              <a:latin typeface="Constantia"/>
            </a:endParaRPr>
          </a:p>
        </p:txBody>
      </p:sp>
      <p:sp>
        <p:nvSpPr>
          <p:cNvPr id="239"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C78FFE91-E71C-4FD1-B301-E995CD7A4DA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Marketplaces</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YPES OF E-MARKETPLA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ll-side e-marketplac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private e-marketplace in which one company sells either standard and/or customized products to qualified compani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y-side e-marketplac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private e-marketplace in which one company makes purchases from invited suppliers</a:t>
            </a:r>
            <a:endParaRPr b="0" lang="en-US" sz="2400" spc="-1" strike="noStrike">
              <a:solidFill>
                <a:srgbClr val="000000"/>
              </a:solidFill>
              <a:latin typeface="Constantia"/>
            </a:endParaRPr>
          </a:p>
        </p:txBody>
      </p:sp>
      <p:sp>
        <p:nvSpPr>
          <p:cNvPr id="243"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4012BA34-500D-4551-A282-7E19904452F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ustomer Shopping Mechanisms: Storefronts, Malls, and Portals</a:t>
            </a:r>
            <a:endParaRPr b="0" lang="en-US" sz="40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ebstore (storefro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single company’s website where products or services are sold; usually has an online shopping cart associated with i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Many Webstores target a specific industry and find their own unique corner of the marke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icrosites</a:t>
            </a:r>
            <a:endParaRPr b="0" lang="en-US" sz="2400" spc="-1" strike="noStrike">
              <a:solidFill>
                <a:srgbClr val="000000"/>
              </a:solidFill>
              <a:latin typeface="Constantia"/>
            </a:endParaRPr>
          </a:p>
        </p:txBody>
      </p:sp>
      <p:sp>
        <p:nvSpPr>
          <p:cNvPr id="247"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BA4AAACB-8823-4EBB-BC08-D56528B952A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ustomer Shopping Mechanisms: Storefronts, Malls, and Portals</a:t>
            </a:r>
            <a:endParaRPr b="0" lang="en-US" sz="4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mall (online mal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online shopping center where many online stores are loca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YPES OF STORES AND MALL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eneral stores/mall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ecialized stores/mall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gional versus global stor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ure-play versus click-and-mortar stores</a:t>
            </a:r>
            <a:endParaRPr b="0" lang="en-US" sz="2400" spc="-1" strike="noStrike">
              <a:solidFill>
                <a:srgbClr val="000000"/>
              </a:solidFill>
              <a:latin typeface="Constantia"/>
            </a:endParaRPr>
          </a:p>
        </p:txBody>
      </p:sp>
      <p:sp>
        <p:nvSpPr>
          <p:cNvPr id="251"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5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2D52CDF6-133B-4068-898B-B69AD61698A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ustomer Shopping Mechanisms: Storefronts, Malls, and Portals</a:t>
            </a:r>
            <a:endParaRPr b="0" lang="en-US" sz="4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eb (information) portal</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ingle point of access, through a Web browser, to critical business information located inside and outside (via Internet) an organization</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Types of Portals</a:t>
            </a:r>
            <a:endParaRPr b="0" lang="en-US" sz="2200" spc="-1" strike="noStrike">
              <a:solidFill>
                <a:srgbClr val="000000"/>
              </a:solidFill>
              <a:latin typeface="Constantia"/>
            </a:endParaRPr>
          </a:p>
          <a:p>
            <a:pPr lvl="2" marL="914400" indent="-2462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ommercial (public) portals</a:t>
            </a:r>
            <a:endParaRPr b="0" lang="en-US" sz="1900" spc="-1" strike="noStrike">
              <a:solidFill>
                <a:srgbClr val="000000"/>
              </a:solidFill>
              <a:latin typeface="Constantia"/>
            </a:endParaRPr>
          </a:p>
          <a:p>
            <a:pPr lvl="2" marL="914400" indent="-2462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orporate portals</a:t>
            </a:r>
            <a:endParaRPr b="0" lang="en-US" sz="1900" spc="-1" strike="noStrike">
              <a:solidFill>
                <a:srgbClr val="000000"/>
              </a:solidFill>
              <a:latin typeface="Constantia"/>
            </a:endParaRPr>
          </a:p>
          <a:p>
            <a:pPr lvl="2" marL="914400" indent="-2462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ublishing portals</a:t>
            </a:r>
            <a:endParaRPr b="0" lang="en-US" sz="1900" spc="-1" strike="noStrike">
              <a:solidFill>
                <a:srgbClr val="000000"/>
              </a:solidFill>
              <a:latin typeface="Constantia"/>
            </a:endParaRPr>
          </a:p>
          <a:p>
            <a:pPr lvl="2" marL="914400" indent="-2462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ersonal portals</a:t>
            </a:r>
            <a:endParaRPr b="0" lang="en-US" sz="1900" spc="-1" strike="noStrike">
              <a:solidFill>
                <a:srgbClr val="000000"/>
              </a:solidFill>
              <a:latin typeface="Constantia"/>
            </a:endParaRPr>
          </a:p>
          <a:p>
            <a:pPr lvl="2" marL="914400" indent="-2462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mobile portal</a:t>
            </a:r>
            <a:endParaRPr b="0" lang="en-US" sz="1900" spc="-1" strike="noStrike">
              <a:solidFill>
                <a:srgbClr val="000000"/>
              </a:solidFill>
              <a:latin typeface="Constantia"/>
            </a:endParaRPr>
          </a:p>
          <a:p>
            <a:pPr lvl="2" marL="914400" indent="-24624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A portal accessible via a mobile device.</a:t>
            </a:r>
            <a:endParaRPr b="0" lang="en-US" sz="1900" spc="-1" strike="noStrike">
              <a:solidFill>
                <a:srgbClr val="000000"/>
              </a:solidFill>
              <a:latin typeface="Constantia"/>
            </a:endParaRPr>
          </a:p>
          <a:p>
            <a:pPr lvl="2" marL="914400" indent="-2462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voice portal</a:t>
            </a:r>
            <a:endParaRPr b="0" lang="en-US" sz="1900" spc="-1" strike="noStrike">
              <a:solidFill>
                <a:srgbClr val="000000"/>
              </a:solidFill>
              <a:latin typeface="Constantia"/>
            </a:endParaRPr>
          </a:p>
          <a:p>
            <a:pPr lvl="2" marL="914400" indent="-24624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A portal accessed by telephone or cell phone.</a:t>
            </a:r>
            <a:endParaRPr b="0" lang="en-US" sz="1900" spc="-1" strike="noStrike">
              <a:solidFill>
                <a:srgbClr val="000000"/>
              </a:solidFill>
              <a:latin typeface="Constantia"/>
            </a:endParaRPr>
          </a:p>
        </p:txBody>
      </p:sp>
      <p:sp>
        <p:nvSpPr>
          <p:cNvPr id="255"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5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82B8B203-64B6-47FF-A57C-3CA855C7DFE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457200" y="685800"/>
            <a:ext cx="8358120" cy="5505480"/>
          </a:xfrm>
          <a:prstGeom prst="rect">
            <a:avLst/>
          </a:prstGeom>
          <a:ln w="0">
            <a:noFill/>
          </a:ln>
        </p:spPr>
      </p:pic>
      <p:sp>
        <p:nvSpPr>
          <p:cNvPr id="25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5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8BEC2355-CF7B-431A-A85A-8F2D9861AEF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ustomer Shopping Mechanisms: Storefronts, Malls, and Portals</a:t>
            </a:r>
            <a:endParaRPr b="0" lang="en-US" sz="4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ROLES AND VALUE OF INTERMEDIARIES IN E-MARKETPLACES</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Brokers</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fomediaries</a:t>
            </a:r>
            <a:endParaRPr b="0" lang="en-US" sz="2200" spc="-1" strike="noStrike">
              <a:solidFill>
                <a:srgbClr val="000000"/>
              </a:solidFill>
              <a:latin typeface="Constanti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Electronic intermediaries that provide and/or control information flow in cyberspace, often aggregating information and selling it to others</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e-distributor</a:t>
            </a:r>
            <a:endParaRPr b="0" lang="en-US" sz="2200" spc="-1" strike="noStrike">
              <a:solidFill>
                <a:srgbClr val="000000"/>
              </a:solidFill>
              <a:latin typeface="Constanti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An e-commerce intermediary that connects manufacturers with business buyers (customers) by aggregating the catalogs of many manufacturers in one place—the intermediary’s website</a:t>
            </a:r>
            <a:endParaRPr b="0" lang="en-US" sz="2200" spc="-1" strike="noStrike">
              <a:solidFill>
                <a:srgbClr val="000000"/>
              </a:solidFill>
              <a:latin typeface="Constantia"/>
            </a:endParaRPr>
          </a:p>
        </p:txBody>
      </p:sp>
      <p:sp>
        <p:nvSpPr>
          <p:cNvPr id="262"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6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F095932D-3DA2-47C1-8DDB-BAF74E56243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Merchant Solutions: Electronic Catalogs, Search Engines, and Shopping Carts</a:t>
            </a:r>
            <a:endParaRPr b="0" lang="en-US" sz="35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lectronic catalogs (e-catalog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presentation of product information in an electronic form; the backbone of most e-selling sit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Online Catalogs Versus Paper Catalogs</a:t>
            </a:r>
            <a:endParaRPr b="0" lang="en-US" sz="2400" spc="-1" strike="noStrike">
              <a:solidFill>
                <a:srgbClr val="000000"/>
              </a:solidFill>
              <a:latin typeface="Constantia"/>
            </a:endParaRPr>
          </a:p>
        </p:txBody>
      </p:sp>
      <p:sp>
        <p:nvSpPr>
          <p:cNvPr id="26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6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4B556759-AFAE-449C-A13E-54A1F882049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Merchant Solutions: Electronic Catalogs, Search Engines, and Shopping Carts</a:t>
            </a:r>
            <a:endParaRPr b="0" lang="en-US" sz="35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spcBef>
                <a:spcPts val="7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onstantia"/>
              </a:rPr>
              <a:t>EC SEARCH ACTIVITIES, TYPES, AND ENGINES</a:t>
            </a:r>
            <a:endParaRPr b="0" lang="en-US" sz="31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Types of EC Searches</a:t>
            </a:r>
            <a:endParaRPr b="0" lang="en-US" sz="28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ternet/Web Search</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nterprise search</a:t>
            </a:r>
            <a:endParaRPr b="0" lang="en-US" sz="2600" spc="-1" strike="noStrike">
              <a:solidFill>
                <a:srgbClr val="000000"/>
              </a:solidFill>
              <a:latin typeface="Constantia"/>
            </a:endParaRPr>
          </a:p>
          <a:p>
            <a:pPr lvl="2" marL="914400" indent="-246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practice of identifying and enabling specific content across the enterprise to be indexed, searched, and displayed to authorized users</a:t>
            </a:r>
            <a:endParaRPr b="0" lang="en-US" sz="2600" spc="-1" strike="noStrike">
              <a:solidFill>
                <a:srgbClr val="000000"/>
              </a:solidFill>
              <a:latin typeface="Constantia"/>
            </a:endParaRPr>
          </a:p>
        </p:txBody>
      </p:sp>
      <p:sp>
        <p:nvSpPr>
          <p:cNvPr id="270"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B254D568-DF79-4E66-A00A-CC37FD4E2C5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97000"/>
          </a:bodyPr>
          <a:p>
            <a:pPr marL="498960" indent="-4989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major electronic commerce (EC) activities and processes and the mechanisms that support them.</a:t>
            </a:r>
            <a:endParaRPr b="0" lang="en-US" sz="2600" spc="-1" strike="noStrike">
              <a:solidFill>
                <a:srgbClr val="000000"/>
              </a:solidFill>
              <a:latin typeface="Constantia"/>
            </a:endParaRPr>
          </a:p>
          <a:p>
            <a:pPr marL="498960" indent="-4989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e-marketplaces and list their components.</a:t>
            </a:r>
            <a:endParaRPr b="0" lang="en-US" sz="2600" spc="-1" strike="noStrike">
              <a:solidFill>
                <a:srgbClr val="000000"/>
              </a:solidFill>
              <a:latin typeface="Constantia"/>
            </a:endParaRPr>
          </a:p>
          <a:p>
            <a:pPr marL="498960" indent="-4989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st the major types of e-marketplaces and describe their features.</a:t>
            </a:r>
            <a:endParaRPr b="0" lang="en-US" sz="2600" spc="-1" strike="noStrike">
              <a:solidFill>
                <a:srgbClr val="000000"/>
              </a:solidFill>
              <a:latin typeface="Constantia"/>
            </a:endParaRPr>
          </a:p>
          <a:p>
            <a:pPr marL="498960" indent="-4989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electronic catalogs, search engines, and shopping carts.</a:t>
            </a:r>
            <a:endParaRPr b="0" lang="en-US" sz="2600" spc="-1" strike="noStrike">
              <a:solidFill>
                <a:srgbClr val="000000"/>
              </a:solidFill>
              <a:latin typeface="Constantia"/>
            </a:endParaRPr>
          </a:p>
          <a:p>
            <a:pPr marL="498960" indent="-4989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major types of auctions and list their characteristics.</a:t>
            </a:r>
            <a:endParaRPr b="0" lang="en-US" sz="2600" spc="-1" strike="noStrike">
              <a:solidFill>
                <a:srgbClr val="000000"/>
              </a:solidFill>
              <a:latin typeface="Constantia"/>
            </a:endParaRPr>
          </a:p>
        </p:txBody>
      </p:sp>
      <p:sp>
        <p:nvSpPr>
          <p:cNvPr id="20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0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E646FB23-0A71-472B-802D-BFBD461D9B4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Merchant Solutions: Electronic Catalogs, Search Engines, and Shopping Carts</a:t>
            </a:r>
            <a:endParaRPr b="0" lang="en-US" sz="35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lvl="2" marL="914400" indent="-246240">
              <a:spcBef>
                <a:spcPts val="64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esktop search</a:t>
            </a:r>
            <a:endParaRPr b="0" lang="en-US" sz="2600" spc="-1" strike="noStrike">
              <a:solidFill>
                <a:srgbClr val="000000"/>
              </a:solidFill>
              <a:latin typeface="Constantia"/>
            </a:endParaRPr>
          </a:p>
          <a:p>
            <a:pPr lvl="2" marL="914400" indent="-246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earch tools that search the contents of a user’s or organization’s computer files, rather than searching the Internet</a:t>
            </a:r>
            <a:endParaRPr b="0" lang="en-US" sz="2600" spc="-1" strike="noStrike">
              <a:solidFill>
                <a:srgbClr val="000000"/>
              </a:solidFill>
              <a:latin typeface="Constantia"/>
            </a:endParaRPr>
          </a:p>
          <a:p>
            <a:pPr lvl="2" marL="914400" indent="-246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emphasis is on finding all the information that is available on the user’s PC, including Web browser histories, e-mail archives, and word-processed documents, as well as in all internal files and databases.</a:t>
            </a:r>
            <a:endParaRPr b="0" lang="en-US" sz="2600" spc="-1" strike="noStrike">
              <a:solidFill>
                <a:srgbClr val="000000"/>
              </a:solidFill>
              <a:latin typeface="Constantia"/>
            </a:endParaRPr>
          </a:p>
        </p:txBody>
      </p:sp>
      <p:sp>
        <p:nvSpPr>
          <p:cNvPr id="274"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42D3D0CE-64A4-4C06-A65F-8C556D860E3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Merchant Solutions: Electronic Catalogs, Search Engines, and Shopping Carts</a:t>
            </a:r>
            <a:endParaRPr b="0" lang="en-US" sz="35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arch engin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computer program that can access databases of Internet resources, search for specific information or key words, and report the resul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ftware (Intelligent) Ag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Questions and Answers Onlin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oice-Powered Searc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sual Shopping Search Engine</a:t>
            </a:r>
            <a:endParaRPr b="0" lang="en-US" sz="2400" spc="-1" strike="noStrike">
              <a:solidFill>
                <a:srgbClr val="000000"/>
              </a:solidFill>
              <a:latin typeface="Constantia"/>
            </a:endParaRPr>
          </a:p>
        </p:txBody>
      </p:sp>
      <p:sp>
        <p:nvSpPr>
          <p:cNvPr id="278"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DA4AA8B3-8D97-44BF-A83B-1660D703711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Merchant Solutions: Electronic Catalogs, Search Engines, and Shopping Carts</a:t>
            </a:r>
            <a:endParaRPr b="0" lang="en-US" sz="35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lectronic shopping car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order-processing technology that allows customers to accumulate items they wish to buy while they continue to sho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THER MECHANISMS IN MERCHANT SOFTWAR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Shopping Engi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duct Configuration</a:t>
            </a:r>
            <a:endParaRPr b="0" lang="en-US" sz="2400" spc="-1" strike="noStrike">
              <a:solidFill>
                <a:srgbClr val="000000"/>
              </a:solidFill>
              <a:latin typeface="Constantia"/>
            </a:endParaRPr>
          </a:p>
        </p:txBody>
      </p:sp>
      <p:sp>
        <p:nvSpPr>
          <p:cNvPr id="282"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8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82E86339-6689-4EF7-B606-164A740520D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uctions, Bartering, </a:t>
            </a:r>
            <a:br>
              <a:rPr sz="4000"/>
            </a:br>
            <a:r>
              <a:rPr b="0" lang="en-US" sz="4000" spc="-1" strike="noStrike">
                <a:solidFill>
                  <a:srgbClr val="04617b"/>
                </a:solidFill>
                <a:latin typeface="Calibri"/>
              </a:rPr>
              <a:t>and Negotiating Online</a:t>
            </a:r>
            <a:endParaRPr b="0" lang="en-US" sz="4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uc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competitive process in which a seller solicits consecutive bids from buyers (forward auctions) or a buyer solicits bids from sellers (backward auctions); prices are determined dynamically by the bi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ynamic pric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ices that change based on supply and demand relationships at any given time</a:t>
            </a:r>
            <a:endParaRPr b="0" lang="en-US" sz="2600" spc="-1" strike="noStrike">
              <a:solidFill>
                <a:srgbClr val="000000"/>
              </a:solidFill>
              <a:latin typeface="Constantia"/>
            </a:endParaRPr>
          </a:p>
        </p:txBody>
      </p:sp>
      <p:sp>
        <p:nvSpPr>
          <p:cNvPr id="28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8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04099E83-AB50-4E3F-B731-F7E9BA576F5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uctions, Bartering, </a:t>
            </a:r>
            <a:br>
              <a:rPr sz="4000"/>
            </a:br>
            <a:r>
              <a:rPr b="0" lang="en-US" sz="4000" spc="-1" strike="noStrike">
                <a:solidFill>
                  <a:srgbClr val="04617b"/>
                </a:solidFill>
                <a:latin typeface="Calibri"/>
              </a:rPr>
              <a:t>and Negotiating Online</a:t>
            </a:r>
            <a:endParaRPr b="0" lang="en-US" sz="4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RADITIONAL AUCTIONS VERSUS E-AUCT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imitations of Traditional Offline Auc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lectronic auctions (e-auction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uctions conducted onlin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NOVATIVE AUCTIONS</a:t>
            </a:r>
            <a:endParaRPr b="0" lang="en-US" sz="2600" spc="-1" strike="noStrike">
              <a:solidFill>
                <a:srgbClr val="000000"/>
              </a:solidFill>
              <a:latin typeface="Constantia"/>
            </a:endParaRPr>
          </a:p>
        </p:txBody>
      </p:sp>
      <p:sp>
        <p:nvSpPr>
          <p:cNvPr id="290"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9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5E88F505-6490-4690-81EF-F46C028DBCC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uctions, Bartering, </a:t>
            </a:r>
            <a:br>
              <a:rPr sz="4000"/>
            </a:br>
            <a:r>
              <a:rPr b="0" lang="en-US" sz="4000" spc="-1" strike="noStrike">
                <a:solidFill>
                  <a:srgbClr val="04617b"/>
                </a:solidFill>
                <a:latin typeface="Calibri"/>
              </a:rPr>
              <a:t>and Negotiating Online</a:t>
            </a:r>
            <a:endParaRPr b="0" lang="en-US" sz="4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YPES OF AUCT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e Buyer, One Sell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e Seller, Many Potential Buyer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forward auction</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n auction in which a seller entertains bids from buyers; bidders increase price sequentially</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4"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9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DEDB4A29-6D04-4086-83B1-3905BF698B5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uctions, Bartering, </a:t>
            </a:r>
            <a:br>
              <a:rPr sz="4000"/>
            </a:br>
            <a:r>
              <a:rPr b="0" lang="en-US" sz="4000" spc="-1" strike="noStrike">
                <a:solidFill>
                  <a:srgbClr val="04617b"/>
                </a:solidFill>
                <a:latin typeface="Calibri"/>
              </a:rPr>
              <a:t>and Negotiating Online</a:t>
            </a:r>
            <a:endParaRPr b="0" lang="en-US" sz="4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lvl="1" marL="639720" indent="-245880">
              <a:lnSpc>
                <a:spcPct val="9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One Buyer, Many Potential Sellers</a:t>
            </a:r>
            <a:endParaRPr b="0" lang="en-US" sz="27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verse auction (bidding or tendering system)</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uction in which the buyer places an item for bid (tender) on a request for quote (RFQ) system, potential suppliers bid on the job, with the price reducing sequentially, and the lowest bid wins; primarily a B2B or G2B mechanism</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ame-your-own-price model</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uction model in which a would-be buyer specifies the price (and other terms) he or she is willing to pay to any willing and able seller; a C2B model that was pioneered by Priceline.com.</a:t>
            </a:r>
            <a:endParaRPr b="0" lang="en-US" sz="2400" spc="-1" strike="noStrike">
              <a:solidFill>
                <a:srgbClr val="000000"/>
              </a:solidFill>
              <a:latin typeface="Constantia"/>
            </a:endParaRPr>
          </a:p>
        </p:txBody>
      </p:sp>
      <p:sp>
        <p:nvSpPr>
          <p:cNvPr id="298"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9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A05AD9FA-8C52-4D86-9AD8-71DF26617A3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380880" y="838080"/>
            <a:ext cx="8548920" cy="5254920"/>
          </a:xfrm>
          <a:prstGeom prst="rect">
            <a:avLst/>
          </a:prstGeom>
          <a:ln w="0">
            <a:noFill/>
          </a:ln>
        </p:spPr>
      </p:pic>
      <p:sp>
        <p:nvSpPr>
          <p:cNvPr id="30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8C2A43E3-CE62-4D19-95D3-93C3179909E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uctions, Bartering, </a:t>
            </a:r>
            <a:br>
              <a:rPr sz="4000"/>
            </a:br>
            <a:r>
              <a:rPr b="0" lang="en-US" sz="4000" spc="-1" strike="noStrike">
                <a:solidFill>
                  <a:srgbClr val="04617b"/>
                </a:solidFill>
                <a:latin typeface="Calibri"/>
              </a:rPr>
              <a:t>and Negotiating Online</a:t>
            </a:r>
            <a:endParaRPr b="0" lang="en-US" sz="4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ny Sellers, Many Buyer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double auction</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n auction in which multiple buyers and their bidding prices are matched with multiple sellers and their asking prices, considering the quantities on both side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nny auctio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formal auction in which participants pay a nonrefundable small fee for each bid; bid level changes by small increments</a:t>
            </a:r>
            <a:endParaRPr b="0" lang="en-US" sz="2400" spc="-1" strike="noStrike">
              <a:solidFill>
                <a:srgbClr val="000000"/>
              </a:solidFill>
              <a:latin typeface="Constantia"/>
            </a:endParaRPr>
          </a:p>
        </p:txBody>
      </p:sp>
      <p:sp>
        <p:nvSpPr>
          <p:cNvPr id="305"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3068EE84-9070-4746-8590-44A51F5FF27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2" descr=""/>
          <p:cNvPicPr/>
          <p:nvPr/>
        </p:nvPicPr>
        <p:blipFill>
          <a:blip r:embed="rId1"/>
          <a:stretch/>
        </p:blipFill>
        <p:spPr>
          <a:xfrm>
            <a:off x="304920" y="838080"/>
            <a:ext cx="8547120" cy="5410440"/>
          </a:xfrm>
          <a:prstGeom prst="rect">
            <a:avLst/>
          </a:prstGeom>
          <a:ln w="0">
            <a:noFill/>
          </a:ln>
        </p:spPr>
      </p:pic>
      <p:sp>
        <p:nvSpPr>
          <p:cNvPr id="30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9D69B13F-4DD6-44F9-950E-A3A47A67ADF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 the benefits and limitations of e-auction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bartering and negotiating onlin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virtual communiti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st the major Web 2.0 tools and their use in EC. </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social networks as an EC mechanism.</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derstand virtual worlds and their use in EC.</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Web 3.0 and define Web 4.0.</a:t>
            </a:r>
            <a:endParaRPr b="0" lang="en-US" sz="2600" spc="-1" strike="noStrike">
              <a:solidFill>
                <a:srgbClr val="000000"/>
              </a:solidFill>
              <a:latin typeface="Constantia"/>
            </a:endParaRPr>
          </a:p>
        </p:txBody>
      </p:sp>
      <p:sp>
        <p:nvSpPr>
          <p:cNvPr id="210"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F2EA6E45-25E2-41FD-8BBB-B5748A517C1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uctions, Bartering, </a:t>
            </a:r>
            <a:br>
              <a:rPr sz="4000"/>
            </a:br>
            <a:r>
              <a:rPr b="0" lang="en-US" sz="4000" spc="-1" strike="noStrike">
                <a:solidFill>
                  <a:srgbClr val="04617b"/>
                </a:solidFill>
                <a:latin typeface="Calibri"/>
              </a:rPr>
              <a:t>and Negotiating Online</a:t>
            </a:r>
            <a:endParaRPr b="0" lang="en-US" sz="40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Limitations of E-Auct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inimal Securit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ossibility of Frau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imited Participation</a:t>
            </a:r>
            <a:endParaRPr b="0" lang="en-US" sz="2400" spc="-1" strike="noStrike">
              <a:solidFill>
                <a:srgbClr val="000000"/>
              </a:solidFill>
              <a:latin typeface="Constantia"/>
            </a:endParaRPr>
          </a:p>
        </p:txBody>
      </p:sp>
      <p:sp>
        <p:nvSpPr>
          <p:cNvPr id="312"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1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A61528D6-4911-49BA-83E7-EFF7AE3B867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uctions, Bartering, </a:t>
            </a:r>
            <a:br>
              <a:rPr sz="4000"/>
            </a:br>
            <a:r>
              <a:rPr b="0" lang="en-US" sz="4000" spc="-1" strike="noStrike">
                <a:solidFill>
                  <a:srgbClr val="04617b"/>
                </a:solidFill>
                <a:latin typeface="Calibri"/>
              </a:rPr>
              <a:t>and Negotiating Online</a:t>
            </a:r>
            <a:endParaRPr b="0" lang="en-US" sz="40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MPACTS OF AUCT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ctions as a Social Mechanism to Determine a Pri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ctions as a Highly Visible Distribution Mechanis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ctions as an EC Component in a Business Mode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ctions for Profit for Individuals</a:t>
            </a:r>
            <a:endParaRPr b="0" lang="en-US" sz="2400" spc="-1" strike="noStrike">
              <a:solidFill>
                <a:srgbClr val="000000"/>
              </a:solidFill>
              <a:latin typeface="Constantia"/>
            </a:endParaRPr>
          </a:p>
        </p:txBody>
      </p:sp>
      <p:sp>
        <p:nvSpPr>
          <p:cNvPr id="31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1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FCE419A5-BFA6-4D54-AD37-39AB05F062B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uctions, Bartering, </a:t>
            </a:r>
            <a:br>
              <a:rPr sz="4000"/>
            </a:br>
            <a:r>
              <a:rPr b="0" lang="en-US" sz="4000" spc="-1" strike="noStrike">
                <a:solidFill>
                  <a:srgbClr val="04617b"/>
                </a:solidFill>
                <a:latin typeface="Calibri"/>
              </a:rPr>
              <a:t>and Negotiating Online</a:t>
            </a:r>
            <a:endParaRPr b="0" lang="en-US" sz="4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BARTER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arter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exchange of goods and servi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bartering (electronic barter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Bartering conducted online, usually in a bartering exchan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artering exchang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marketplace in which an intermediary arranges barter transaction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NEGOTIATING</a:t>
            </a:r>
            <a:endParaRPr b="0" lang="en-US" sz="2600" spc="-1" strike="noStrike">
              <a:solidFill>
                <a:srgbClr val="000000"/>
              </a:solidFill>
              <a:latin typeface="Constantia"/>
            </a:endParaRPr>
          </a:p>
        </p:txBody>
      </p:sp>
      <p:sp>
        <p:nvSpPr>
          <p:cNvPr id="320"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2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F6995D75-C596-4A20-80C7-E265E79E8D8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ocial Software Tools: </a:t>
            </a:r>
            <a:br>
              <a:rPr sz="4000"/>
            </a:br>
            <a:r>
              <a:rPr b="0" lang="en-US" sz="4000" spc="-1" strike="noStrike">
                <a:solidFill>
                  <a:srgbClr val="04617b"/>
                </a:solidFill>
                <a:latin typeface="Calibri"/>
              </a:rPr>
              <a:t>From Blogs to Wikis to Twitter</a:t>
            </a:r>
            <a:endParaRPr b="0" lang="en-US" sz="4000" spc="-1" strike="noStrike">
              <a:solidFill>
                <a:srgbClr val="04617b"/>
              </a:solidFill>
              <a:latin typeface="Calibri"/>
            </a:endParaRPr>
          </a:p>
        </p:txBody>
      </p:sp>
      <p:sp>
        <p:nvSpPr>
          <p:cNvPr id="323"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cial software</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software product that enables people to rendezvous, connect, and collaborate through computer-mediated communication</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log</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personal website that is open to the public to read and to interact with; dedicated to specific topics or issues</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log (or video blog)</a:t>
            </a:r>
            <a:endParaRPr b="0" lang="en-US" sz="2400" spc="-1" strike="noStrike">
              <a:solidFill>
                <a:srgbClr val="000000"/>
              </a:solidFill>
              <a:latin typeface="Constantia"/>
            </a:endParaRPr>
          </a:p>
          <a:p>
            <a:pPr lvl="1" marL="63324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blog with video content</a:t>
            </a:r>
            <a:endParaRPr b="0" lang="en-US" sz="2400" spc="-1" strike="noStrike">
              <a:solidFill>
                <a:srgbClr val="000000"/>
              </a:solidFill>
              <a:latin typeface="Constantia"/>
            </a:endParaRPr>
          </a:p>
        </p:txBody>
      </p:sp>
      <p:sp>
        <p:nvSpPr>
          <p:cNvPr id="324"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2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9C0F7A19-1DC3-4342-BC61-CB71321B11C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ocial Software Tools: </a:t>
            </a:r>
            <a:br>
              <a:rPr sz="4000"/>
            </a:br>
            <a:r>
              <a:rPr b="0" lang="en-US" sz="4000" spc="-1" strike="noStrike">
                <a:solidFill>
                  <a:srgbClr val="04617b"/>
                </a:solidFill>
                <a:latin typeface="Calibri"/>
              </a:rPr>
              <a:t>From Blogs to Wikis to Twitter</a:t>
            </a:r>
            <a:endParaRPr b="0" lang="en-US" sz="4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fontScale="98000"/>
          </a:bodyPr>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Building Effective Blogs</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ommercial Uses of Blogs</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otential Risks of Corporate Blogs</a:t>
            </a:r>
            <a:endParaRPr b="0" lang="en-US" sz="22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icroblogging</a:t>
            </a:r>
            <a:endParaRPr b="0" lang="en-US" sz="2600" spc="-1" strike="noStrike">
              <a:solidFill>
                <a:srgbClr val="000000"/>
              </a:solidFill>
              <a:latin typeface="Constantia"/>
            </a:endParaRPr>
          </a:p>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form of blogging that allows users to write messages (usually up to 140 characters) and publish them, either to be viewed by anyone or by a restricted group that can be chosen by the user; these messages can be submitted by a variety of means, including text messaging, instant messaging, e-mail, MP3, or just on the Web</a:t>
            </a:r>
            <a:endParaRPr b="0" lang="en-US" sz="2600" spc="-1" strike="noStrike">
              <a:solidFill>
                <a:srgbClr val="000000"/>
              </a:solidFill>
              <a:latin typeface="Constantia"/>
            </a:endParaRPr>
          </a:p>
        </p:txBody>
      </p:sp>
      <p:sp>
        <p:nvSpPr>
          <p:cNvPr id="328"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2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B257AC5B-A314-416E-BEC7-5BFCCB3F3CB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ocial Software Tools: </a:t>
            </a:r>
            <a:br>
              <a:rPr sz="4000"/>
            </a:br>
            <a:r>
              <a:rPr b="0" lang="en-US" sz="4000" spc="-1" strike="noStrike">
                <a:solidFill>
                  <a:srgbClr val="04617b"/>
                </a:solidFill>
                <a:latin typeface="Calibri"/>
              </a:rPr>
              <a:t>From Blogs to Wikis to Twitter</a:t>
            </a:r>
            <a:endParaRPr b="0" lang="en-US" sz="4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witt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free microblogging service that allows its users to send and read other users’ updat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weet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ext-based posts up to 140 characters in length posted to Twitt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Essentials of Twitter for Busines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Major Benefits of Twitter</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xamples of Twitter as Enterprise Tools</a:t>
            </a:r>
            <a:endParaRPr b="0" lang="en-US" sz="2100" spc="-1" strike="noStrike">
              <a:solidFill>
                <a:srgbClr val="000000"/>
              </a:solidFill>
              <a:latin typeface="Constantia"/>
            </a:endParaRPr>
          </a:p>
        </p:txBody>
      </p:sp>
      <p:sp>
        <p:nvSpPr>
          <p:cNvPr id="332"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3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D76C3A83-2518-4EEA-A73B-57830747D7E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ocial Software Tools: </a:t>
            </a:r>
            <a:br>
              <a:rPr sz="4000"/>
            </a:br>
            <a:r>
              <a:rPr b="0" lang="en-US" sz="4000" spc="-1" strike="noStrike">
                <a:solidFill>
                  <a:srgbClr val="04617b"/>
                </a:solidFill>
                <a:latin typeface="Calibri"/>
              </a:rPr>
              <a:t>From Blogs to Wikis to Twitter</a:t>
            </a:r>
            <a:endParaRPr b="0" lang="en-US" sz="4000" spc="-1" strike="noStrike">
              <a:solidFill>
                <a:srgbClr val="04617b"/>
              </a:solidFill>
              <a:latin typeface="Calibri"/>
            </a:endParaRPr>
          </a:p>
        </p:txBody>
      </p:sp>
      <p:sp>
        <p:nvSpPr>
          <p:cNvPr id="3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iki (wikilo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blog that allows everyone to participate as a peer; anyone may add, delete, or change conten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 Applications of Wikis</a:t>
            </a:r>
            <a:endParaRPr b="0" lang="en-US" sz="2400" spc="-1" strike="noStrike">
              <a:solidFill>
                <a:srgbClr val="000000"/>
              </a:solidFill>
              <a:latin typeface="Constantia"/>
            </a:endParaRPr>
          </a:p>
        </p:txBody>
      </p:sp>
      <p:sp>
        <p:nvSpPr>
          <p:cNvPr id="33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3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8B6A4046-7B23-475C-9C9C-D8353E9EF50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ocial Software Tools: </a:t>
            </a:r>
            <a:br>
              <a:rPr sz="4000"/>
            </a:br>
            <a:r>
              <a:rPr b="0" lang="en-US" sz="4000" spc="-1" strike="noStrike">
                <a:solidFill>
                  <a:srgbClr val="04617b"/>
                </a:solidFill>
                <a:latin typeface="Calibri"/>
              </a:rPr>
              <a:t>From Blogs to Wikis to Twitter</a:t>
            </a:r>
            <a:endParaRPr b="0" lang="en-US" sz="4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ECHANISM AIDS FOR WEB 2.0 TOOLS: TAGS, FOLKSONOMY, MASHUPS, AND SOCIAL BOOKMARKS</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ag</a:t>
            </a:r>
            <a:endParaRPr b="0" lang="en-US" sz="2400" spc="-1" strike="noStrike">
              <a:solidFill>
                <a:srgbClr val="000000"/>
              </a:solidFill>
              <a:latin typeface="Constantia"/>
            </a:endParaRPr>
          </a:p>
          <a:p>
            <a:pPr lvl="1" marL="607680" indent="-233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nonhierarchical key word or term assigned to a piece of information (such as an Internet bookmark, digital image, video clip, or any computer document)</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lksonomy (collaborative tagging, social tagging)</a:t>
            </a:r>
            <a:endParaRPr b="0" lang="en-US" sz="2400" spc="-1" strike="noStrike">
              <a:solidFill>
                <a:srgbClr val="000000"/>
              </a:solidFill>
              <a:latin typeface="Constantia"/>
            </a:endParaRPr>
          </a:p>
          <a:p>
            <a:pPr lvl="1" marL="607680" indent="-233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ractice and method of collaboratively creating, classifying, and managing tags to annotate and categorize content</a:t>
            </a:r>
            <a:endParaRPr b="0" lang="en-US" sz="2400" spc="-1" strike="noStrike">
              <a:solidFill>
                <a:srgbClr val="000000"/>
              </a:solidFill>
              <a:latin typeface="Constantia"/>
            </a:endParaRPr>
          </a:p>
        </p:txBody>
      </p:sp>
      <p:sp>
        <p:nvSpPr>
          <p:cNvPr id="340"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4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96CFCCA8-5576-401F-989B-18B06BF8CE3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ocial Software Tools: </a:t>
            </a:r>
            <a:br>
              <a:rPr sz="4000"/>
            </a:br>
            <a:r>
              <a:rPr b="0" lang="en-US" sz="4000" spc="-1" strike="noStrike">
                <a:solidFill>
                  <a:srgbClr val="04617b"/>
                </a:solidFill>
                <a:latin typeface="Calibri"/>
              </a:rPr>
              <a:t>From Blogs to Wikis to Twitter</a:t>
            </a:r>
            <a:endParaRPr b="0" lang="en-US" sz="4000" spc="-1" strike="noStrike">
              <a:solidFill>
                <a:srgbClr val="04617b"/>
              </a:solidFill>
              <a:latin typeface="Calibri"/>
            </a:endParaRPr>
          </a:p>
        </p:txBody>
      </p:sp>
      <p:sp>
        <p:nvSpPr>
          <p:cNvPr id="343"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shup</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ombination of two or more websites into a single website that provides the content of both sites (whole or partial) to deliver a novel product to consum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cial bookmark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eb service for sharing Internet bookmarks; the sites are a popular way to store, classify, share, and search links through the practice of folksonomy techniques on the Internet and intranets</a:t>
            </a:r>
            <a:endParaRPr b="0" lang="en-US" sz="2400" spc="-1" strike="noStrike">
              <a:solidFill>
                <a:srgbClr val="000000"/>
              </a:solidFill>
              <a:latin typeface="Constantia"/>
            </a:endParaRPr>
          </a:p>
        </p:txBody>
      </p:sp>
      <p:sp>
        <p:nvSpPr>
          <p:cNvPr id="344"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4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53040EDD-D0BB-4A19-BC2E-924A0A858EB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Virtual Communities and Social Networks</a:t>
            </a:r>
            <a:endParaRPr b="0" lang="en-US" sz="38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rtual communit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group of people with similar interests who interact with one another using the Internet</a:t>
            </a:r>
            <a:endParaRPr b="0" lang="en-US" sz="2600" spc="-1" strike="noStrike">
              <a:solidFill>
                <a:srgbClr val="000000"/>
              </a:solidFill>
              <a:latin typeface="Constantia"/>
            </a:endParaRPr>
          </a:p>
        </p:txBody>
      </p:sp>
      <p:sp>
        <p:nvSpPr>
          <p:cNvPr id="348"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4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F61769F8-2460-432D-8EFB-82D5B265D55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Electronic Commerce Mechanisms: An Overview</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C ACTIVITIES AND SUPPORT MECHANIS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ELLERS, BUYERS, AND TRANSACT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Purchasing Process</a:t>
            </a:r>
            <a:endParaRPr b="0" lang="en-US" sz="2400" spc="-1" strike="noStrike">
              <a:solidFill>
                <a:srgbClr val="000000"/>
              </a:solidFill>
              <a:latin typeface="Constantia"/>
            </a:endParaRPr>
          </a:p>
        </p:txBody>
      </p:sp>
      <p:sp>
        <p:nvSpPr>
          <p:cNvPr id="214"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CC943D4F-8C59-4AD0-A17F-B5448877EFD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Virtual Communities and Social Networks</a:t>
            </a:r>
            <a:endParaRPr b="0" lang="en-US" sz="38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HARACTERISTICS OF TRADITIONAL ONLINE COMMUNITIES AND THEIR CLASSIFICATION</a:t>
            </a:r>
            <a:endParaRPr b="0" lang="en-US" sz="2600" spc="-1" strike="noStrike">
              <a:solidFill>
                <a:srgbClr val="000000"/>
              </a:solidFill>
              <a:latin typeface="Constantia"/>
            </a:endParaRPr>
          </a:p>
          <a:p>
            <a:pPr lvl="1" marL="633240" indent="-2433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ypes of Communities</a:t>
            </a:r>
            <a:endParaRPr b="0" lang="en-US" sz="24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ssociation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ffinity portal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thnic communitie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Gender communitie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atering to young people</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mmunities of practice</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Neighborhood communitie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ocial networks site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Virtual worlds</a:t>
            </a:r>
            <a:endParaRPr b="0" lang="en-US" sz="2100" spc="-1" strike="noStrike">
              <a:solidFill>
                <a:srgbClr val="000000"/>
              </a:solidFill>
              <a:latin typeface="Constantia"/>
            </a:endParaRPr>
          </a:p>
        </p:txBody>
      </p:sp>
      <p:sp>
        <p:nvSpPr>
          <p:cNvPr id="352"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5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1DE788E9-291C-4055-B25F-8E08185C170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Virtual Communities and Social Networks</a:t>
            </a:r>
            <a:endParaRPr b="0" lang="en-US" sz="38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Classifications of Virtual Communiti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ublic Versus Private Communitie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Classification Categories</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SOCIAL NETWORK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 Definition and Basic Inform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Size of Social Network Sit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 Global Phenomen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presentative Capabilities and Services Provided by Social Network Sites</a:t>
            </a:r>
            <a:endParaRPr b="0" lang="en-US" sz="2400" spc="-1" strike="noStrike">
              <a:solidFill>
                <a:srgbClr val="000000"/>
              </a:solidFill>
              <a:latin typeface="Constantia"/>
            </a:endParaRPr>
          </a:p>
        </p:txBody>
      </p:sp>
      <p:sp>
        <p:nvSpPr>
          <p:cNvPr id="35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5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03E6EB00-0295-4036-9774-BE36C54952D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70452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Virtual Communities and Social Networks</a:t>
            </a:r>
            <a:endParaRPr b="0" lang="en-US" sz="3800" spc="-1" strike="noStrike">
              <a:solidFill>
                <a:srgbClr val="04617b"/>
              </a:solidFill>
              <a:latin typeface="Calibri"/>
            </a:endParaRPr>
          </a:p>
        </p:txBody>
      </p:sp>
      <p:sp>
        <p:nvSpPr>
          <p:cNvPr id="35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usiness-oriented social network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social network whose major interest is business topics and whose members are professional people; such networks are used mostly for creating contacts, providing requirements, and enlisting members’ support for problem solving and knowledge sharing</a:t>
            </a:r>
            <a:endParaRPr b="0" lang="en-US" sz="2600" spc="-1" strike="noStrike">
              <a:solidFill>
                <a:srgbClr val="000000"/>
              </a:solidFill>
              <a:latin typeface="Constantia"/>
            </a:endParaRPr>
          </a:p>
        </p:txBody>
      </p:sp>
      <p:sp>
        <p:nvSpPr>
          <p:cNvPr id="360"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6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AC20FAED-AC47-49A4-9BDA-0455E6A610D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Virtual Communities and Social Networks</a:t>
            </a:r>
            <a:endParaRPr b="0" lang="en-US" sz="3800" spc="-1" strike="noStrike">
              <a:solidFill>
                <a:srgbClr val="04617b"/>
              </a:solidFill>
              <a:latin typeface="Calibri"/>
            </a:endParaRPr>
          </a:p>
        </p:txBody>
      </p:sp>
      <p:sp>
        <p:nvSpPr>
          <p:cNvPr id="363" name=""/>
          <p:cNvSpPr txBox="1"/>
          <p:nvPr/>
        </p:nvSpPr>
        <p:spPr>
          <a:xfrm>
            <a:off x="457200" y="1934640"/>
            <a:ext cx="8229600" cy="4389480"/>
          </a:xfrm>
          <a:prstGeom prst="rect">
            <a:avLst/>
          </a:prstGeom>
          <a:noFill/>
          <a:ln w="0">
            <a:noFill/>
          </a:ln>
        </p:spPr>
        <p:txBody>
          <a:bodyPr anchor="t">
            <a:normAutofit/>
          </a:bodyPr>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Example of a Business-Oriented Social Network</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ome Capabilities of Business-Oriented Networks</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Business Models and Services Related to Social Networking</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ocial Network Analysis Software</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Xanga</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Digg</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mobile social networking</a:t>
            </a:r>
            <a:endParaRPr b="0" lang="en-US" sz="2200" spc="-1" strike="noStrike">
              <a:solidFill>
                <a:srgbClr val="000000"/>
              </a:solidFill>
              <a:latin typeface="Constanti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Members converse and connect with one another using cell phones or other mobile devices.</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Mobile Community Activities</a:t>
            </a:r>
            <a:endParaRPr b="0" lang="en-US" sz="22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CIAL NETWORK SERVICES</a:t>
            </a:r>
            <a:endParaRPr b="0" lang="en-US" sz="2400" spc="-1" strike="noStrike">
              <a:solidFill>
                <a:srgbClr val="000000"/>
              </a:solidFill>
              <a:latin typeface="Constantia"/>
            </a:endParaRPr>
          </a:p>
        </p:txBody>
      </p:sp>
      <p:sp>
        <p:nvSpPr>
          <p:cNvPr id="364"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6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910832F8-84FD-45CF-8F21-D3BA964917A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Virtual Worlds as an</a:t>
            </a:r>
            <a:br>
              <a:rPr sz="4000"/>
            </a:br>
            <a:r>
              <a:rPr b="0" lang="en-US" sz="4000" spc="-1" strike="noStrike">
                <a:solidFill>
                  <a:srgbClr val="04617b"/>
                </a:solidFill>
                <a:latin typeface="Calibri"/>
              </a:rPr>
              <a:t>Electronic Commerce Mechanism</a:t>
            </a:r>
            <a:endParaRPr b="0" lang="en-US" sz="4000" spc="-1" strike="noStrike">
              <a:solidFill>
                <a:srgbClr val="04617b"/>
              </a:solidFill>
              <a:latin typeface="Calibri"/>
            </a:endParaRPr>
          </a:p>
        </p:txBody>
      </p:sp>
      <p:sp>
        <p:nvSpPr>
          <p:cNvPr id="36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rtual worl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user-defined world in which people can interact, play, and do business; the most publicized virtual world is Second Lif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vatar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imated computer characters that exhibit humanlike movements and behaviors</a:t>
            </a:r>
            <a:endParaRPr b="0" lang="en-US" sz="2600" spc="-1" strike="noStrike">
              <a:solidFill>
                <a:srgbClr val="000000"/>
              </a:solidFill>
              <a:latin typeface="Constantia"/>
            </a:endParaRPr>
          </a:p>
        </p:txBody>
      </p:sp>
      <p:sp>
        <p:nvSpPr>
          <p:cNvPr id="368"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6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AF7B2F0B-AA3D-42CF-B31C-3D2F468F651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Virtual Worlds as an</a:t>
            </a:r>
            <a:br>
              <a:rPr sz="4000"/>
            </a:br>
            <a:r>
              <a:rPr b="0" lang="en-US" sz="4000" spc="-1" strike="noStrike">
                <a:solidFill>
                  <a:srgbClr val="04617b"/>
                </a:solidFill>
                <a:latin typeface="Calibri"/>
              </a:rPr>
              <a:t>Electronic Commerce Mechanism</a:t>
            </a:r>
            <a:endParaRPr b="0" lang="en-US" sz="4000" spc="-1" strike="noStrike">
              <a:solidFill>
                <a:srgbClr val="04617b"/>
              </a:solidFill>
              <a:latin typeface="Calibri"/>
            </a:endParaRPr>
          </a:p>
        </p:txBody>
      </p:sp>
      <p:sp>
        <p:nvSpPr>
          <p:cNvPr id="37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USINESS ACTIVITIES AND VALUE IN VIRTUAL WORLDS</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Collaboratio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Research and Marketing</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tual Shopp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rading Virtual Properties</a:t>
            </a:r>
            <a:endParaRPr b="0" lang="en-US" sz="2400" spc="-1" strike="noStrike">
              <a:solidFill>
                <a:srgbClr val="000000"/>
              </a:solidFill>
              <a:latin typeface="Constantia"/>
            </a:endParaRPr>
          </a:p>
        </p:txBody>
      </p:sp>
      <p:sp>
        <p:nvSpPr>
          <p:cNvPr id="372"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7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4D308224-D678-47BA-A51D-A3B381F09EF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Future: Web 3.0 and Web 4.0</a:t>
            </a:r>
            <a:endParaRPr b="0" lang="en-US" sz="4500" spc="-1" strike="noStrike">
              <a:solidFill>
                <a:srgbClr val="04617b"/>
              </a:solidFill>
              <a:latin typeface="Calibri"/>
            </a:endParaRPr>
          </a:p>
        </p:txBody>
      </p:sp>
      <p:sp>
        <p:nvSpPr>
          <p:cNvPr id="375"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eb 3.0</a:t>
            </a:r>
            <a:endParaRPr b="0" lang="en-US" sz="2400" spc="-1" strike="noStrike">
              <a:solidFill>
                <a:srgbClr val="000000"/>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term used to describe the future of the World Wide Web; it consists of the creation of high-quality content and services produced by gifted individuals using Web 2.0 technology as an enabling platform</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mantic Web</a:t>
            </a:r>
            <a:endParaRPr b="0" lang="en-US" sz="2400" spc="-1" strike="noStrike">
              <a:solidFill>
                <a:srgbClr val="000000"/>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evolving extension of the Web in which Web content can be expressed not only in natural language, but also in a form that can be understood, interpreted, and used by intelligent computer software agents, permitting them to find, share, and integrate information more easily</a:t>
            </a:r>
            <a:endParaRPr b="0" lang="en-US" sz="2400" spc="-1" strike="noStrike">
              <a:solidFill>
                <a:srgbClr val="000000"/>
              </a:solidFill>
              <a:latin typeface="Constantia"/>
            </a:endParaRPr>
          </a:p>
        </p:txBody>
      </p:sp>
      <p:sp>
        <p:nvSpPr>
          <p:cNvPr id="37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7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9F963A06-A0EA-426E-ADE5-1E80F18B8CD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Future: Web 3.0 and Web 4.0</a:t>
            </a:r>
            <a:endParaRPr b="0" lang="en-US" sz="4500" spc="-1" strike="noStrike">
              <a:solidFill>
                <a:srgbClr val="04617b"/>
              </a:solidFill>
              <a:latin typeface="Calibri"/>
            </a:endParaRPr>
          </a:p>
        </p:txBody>
      </p:sp>
      <p:sp>
        <p:nvSpPr>
          <p:cNvPr id="3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eb 4.0</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Web generation after Web 3.0 that is still an unknown entity; however, it is envisioned as being based on islands of intelligence and as being ubiquitou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TECHNOLOGICAL ENVIRONMEN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cKinsey &amp; Company’s Predic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icholas Carr’s &amp; Company’s Prediction</a:t>
            </a:r>
            <a:endParaRPr b="0" lang="en-US" sz="2400" spc="-1" strike="noStrike">
              <a:solidFill>
                <a:srgbClr val="000000"/>
              </a:solidFill>
              <a:latin typeface="Constantia"/>
            </a:endParaRPr>
          </a:p>
        </p:txBody>
      </p:sp>
      <p:sp>
        <p:nvSpPr>
          <p:cNvPr id="380"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8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FF6EE22C-40C6-4E71-A195-A88B676E998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
          <p:cNvPicPr/>
          <p:nvPr/>
        </p:nvPicPr>
        <p:blipFill>
          <a:blip r:embed="rId1"/>
          <a:stretch/>
        </p:blipFill>
        <p:spPr>
          <a:xfrm>
            <a:off x="457200" y="914400"/>
            <a:ext cx="8296200" cy="5210280"/>
          </a:xfrm>
          <a:prstGeom prst="rect">
            <a:avLst/>
          </a:prstGeom>
          <a:ln w="0">
            <a:noFill/>
          </a:ln>
        </p:spPr>
      </p:pic>
      <p:sp>
        <p:nvSpPr>
          <p:cNvPr id="38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8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2BD83E54-48A9-4FBD-ADAE-2C212BD591D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386"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ould we use auctions for selling?</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ould we barter?</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we select merchant softwar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can we use Facebook and other social networks in our busines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shall we start using Web 2.0 tool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all we take part in virtual world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should we deal with Web 2.0 risks?</a:t>
            </a:r>
            <a:endParaRPr b="0" lang="en-US" sz="2600" spc="-1" strike="noStrike">
              <a:solidFill>
                <a:srgbClr val="000000"/>
              </a:solidFill>
              <a:latin typeface="Constantia"/>
            </a:endParaRPr>
          </a:p>
        </p:txBody>
      </p:sp>
      <p:sp>
        <p:nvSpPr>
          <p:cNvPr id="387"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8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0D1FE97C-44FF-4EB2-9ECD-A77A60424E2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EE183071-E06D-435A-84FE-840C36EA680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8" name="Picture 5" descr=""/>
          <p:cNvPicPr/>
          <p:nvPr/>
        </p:nvPicPr>
        <p:blipFill>
          <a:blip r:embed="rId1"/>
          <a:stretch/>
        </p:blipFill>
        <p:spPr>
          <a:xfrm>
            <a:off x="2049480" y="339840"/>
            <a:ext cx="4713120" cy="5943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390"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tivities and mechanism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marketplaces and their component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jor types of e-marketplac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lectronic catalogs, search engines, and shopping cart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ypes of auctions and their characteristic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benefits and limitations of auctions</a:t>
            </a:r>
            <a:endParaRPr b="0" lang="en-US" sz="2600" spc="-1" strike="noStrike">
              <a:solidFill>
                <a:srgbClr val="000000"/>
              </a:solidFill>
              <a:latin typeface="Constantia"/>
            </a:endParaRPr>
          </a:p>
        </p:txBody>
      </p:sp>
      <p:sp>
        <p:nvSpPr>
          <p:cNvPr id="391"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9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001B47A7-3F16-4BE2-A3F0-6F20194DECB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394"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rtering and negotiating</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tructure and role of virtual communiti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b 2.0 tool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cial networks as an EC mechanism</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rtual world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b 3.0 and Web 4.0</a:t>
            </a:r>
            <a:endParaRPr b="0" lang="en-US" sz="2600" spc="-1" strike="noStrike">
              <a:solidFill>
                <a:srgbClr val="000000"/>
              </a:solidFill>
              <a:latin typeface="Constantia"/>
            </a:endParaRPr>
          </a:p>
        </p:txBody>
      </p:sp>
      <p:sp>
        <p:nvSpPr>
          <p:cNvPr id="395"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9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BC9921E4-BE71-4A7A-98D3-AF9D9F3A8D8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8" name="Picture 3" descr="cid:3287383400_2177562"/>
          <p:cNvPicPr/>
          <p:nvPr/>
        </p:nvPicPr>
        <p:blipFill>
          <a:blip r:embed="rId2"/>
          <a:stretch/>
        </p:blipFill>
        <p:spPr>
          <a:xfrm>
            <a:off x="762120" y="1522440"/>
            <a:ext cx="7242120" cy="2363760"/>
          </a:xfrm>
          <a:prstGeom prst="rect">
            <a:avLst/>
          </a:prstGeom>
          <a:ln w="9360">
            <a:solidFill>
              <a:srgbClr val="ffffff"/>
            </a:solidFill>
            <a:miter/>
          </a:ln>
        </p:spPr>
      </p:pic>
      <p:sp>
        <p:nvSpPr>
          <p:cNvPr id="399" name="Rectangle 4"/>
          <p:cNvSpPr/>
          <p:nvPr/>
        </p:nvSpPr>
        <p:spPr>
          <a:xfrm>
            <a:off x="685800" y="403668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400" name="Rectangle 5"/>
          <p:cNvSpPr/>
          <p:nvPr/>
        </p:nvSpPr>
        <p:spPr>
          <a:xfrm>
            <a:off x="762120" y="5383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645B3E5-13B4-471A-BFFC-AA7F64D48E03}" type="slidenum">
              <a:t>52</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
          <p:cNvPicPr/>
          <p:nvPr/>
        </p:nvPicPr>
        <p:blipFill>
          <a:blip r:embed="rId1"/>
          <a:stretch/>
        </p:blipFill>
        <p:spPr>
          <a:xfrm>
            <a:off x="584280" y="1371600"/>
            <a:ext cx="7975440" cy="4114800"/>
          </a:xfrm>
          <a:prstGeom prst="rect">
            <a:avLst/>
          </a:prstGeom>
          <a:ln w="0">
            <a:noFill/>
          </a:ln>
        </p:spPr>
      </p:pic>
      <p:sp>
        <p:nvSpPr>
          <p:cNvPr id="22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2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BB973D62-10D3-4E71-8106-1F5F8C52278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2023920" y="272880"/>
            <a:ext cx="5024520" cy="5975640"/>
          </a:xfrm>
          <a:prstGeom prst="rect">
            <a:avLst/>
          </a:prstGeom>
          <a:ln w="0">
            <a:noFill/>
          </a:ln>
        </p:spPr>
      </p:pic>
      <p:sp>
        <p:nvSpPr>
          <p:cNvPr id="2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2094B1B3-6F48-4F49-895D-0374515647E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Marketplaces</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marketplace</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online market, usually B2B, in which buyers and sellers exchange goods or services; the three types of e-marketplaces are private, public, and consorti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MPONENTS OF AND THE PARTICIPANTS IN E-MARKETPLACES</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rketspace</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marketplace in which sellers and buyers exchange goods and services for money (or for other goods and services), but do so electronically</a:t>
            </a:r>
            <a:endParaRPr b="0" lang="en-US" sz="2400" spc="-1" strike="noStrike">
              <a:solidFill>
                <a:srgbClr val="000000"/>
              </a:solidFill>
              <a:latin typeface="Constantia"/>
            </a:endParaRPr>
          </a:p>
        </p:txBody>
      </p:sp>
      <p:sp>
        <p:nvSpPr>
          <p:cNvPr id="227"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2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C087C0A5-E0AF-4070-9CB4-DF408C4ED48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Marketplaces</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jor components and players in a marketspace ar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ustom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ll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ducts and servic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digital products</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Goods that can be transformed to digital format and delivered over the Internet</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frastructure</a:t>
            </a:r>
            <a:endParaRPr b="0" lang="en-US" sz="2400" spc="-1" strike="noStrike">
              <a:solidFill>
                <a:srgbClr val="000000"/>
              </a:solidFill>
              <a:latin typeface="Constantia"/>
            </a:endParaRPr>
          </a:p>
        </p:txBody>
      </p:sp>
      <p:sp>
        <p:nvSpPr>
          <p:cNvPr id="231"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3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A684B059-A268-4307-A2D0-8A17F1A0938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6:10:10Z</dcterms:created>
  <dc:creator>Judy</dc:creator>
  <dc:description/>
  <dc:language>en-US</dc:language>
  <cp:lastModifiedBy>ULOFTKE</cp:lastModifiedBy>
  <dcterms:modified xsi:type="dcterms:W3CDTF">2011-10-14T16:14:23Z</dcterms:modified>
  <cp:revision>41</cp:revision>
  <dc:subject/>
  <dc:title>Chapter 1</dc:title>
</cp:coreProperties>
</file>