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0CAA-F6BE-4126-846B-74CCFA19F93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FC23-1077-478F-B0D3-B7A8CDF2B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3CDB-5784-4C0F-B0B5-1B405FA76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9CC1-8B0B-43D1-A778-4F9D6F8B1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E8B7-70B5-4A86-BACF-65FAE1F48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198D-905F-4739-A1F0-C2B39D522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67BA-BD66-4396-A180-0E2541672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713B-5165-4972-B40C-95270DDDA2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83EC-85F8-4746-97BC-B23850216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BD45-CAE1-4700-A6D9-F3EFFF39F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65EF-5016-475B-AD24-C4BD9C7AB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E678-F01C-4FF9-AED2-AB5F9C9AE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B48B-BDAC-4068-84EB-CD91D0866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54DE-7A81-48F1-B355-D1F929E26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CC50-A17C-4C93-AE22-B68F0998F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6439-BF15-440A-8F32-C39B53A66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780B-2AFA-48B6-84DC-88F4DB68F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754E-DB05-4E85-921C-DA036941F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43B6-E30B-4BAE-BB36-752D03BE8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6835-3445-4D87-A047-4BEEAF1E5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608F-6B77-4103-A791-4311543A3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A3F0-FF19-4AD9-A832-F2B41266E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3E39-8881-430D-89DF-62F6B783F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91DF-C392-47F9-A301-C624FF791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C952-61C0-43BC-B3B3-84B33CA0C9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1BB7-947F-42DE-B57D-5A116B0CA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4CF7-E202-4342-9FFE-C5065DCB3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04F7-536B-42CD-A27F-E33DFD2A9E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A30C-4E02-46A0-B2DC-DBAF84897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5D8E-1E8F-44D7-B131-A37931BAAF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35F8-0DF6-408C-AF70-296ADEBEB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4C51-FBFB-4214-B2FD-6B8AC84DC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F2AE-203A-4196-9A45-D88B1A893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6522-45D2-4DFC-BD22-656B88A4D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F6B5-3664-4EA1-B552-C959B34D4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71149-E569-488E-BFE6-3D04AEFC9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A4828-098E-43D4-87C2-842DBAC1B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FFB50-3EAC-4A69-8691-F2C9302BB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3D2CC-50A8-4083-9E71-ACD6371EF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F60B8-0967-477A-B11F-426C00FFE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4BAC6-F18A-4D05-8482-AE47C0BC2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E43A0-0E54-4A3F-A40E-C79F59EB2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D1FB9-C1E0-4588-A447-08180CF6F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6930C-0C35-4644-AB36-319DEAA71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66BDC-4675-4BA9-9325-267AB57FD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50A75-0EC9-4F6A-A975-4223D7ED0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9B09F-1CFF-427D-AABD-7992C491A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864B6-5598-4E75-8057-33C1139DB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18476-F384-4F8A-B817-E1911AFB8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5C38B-BAD8-47D4-9F89-21A4C85A1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8EA97-A44A-44A0-B8C2-85EB0169C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7B88D-27E6-498E-A473-D63D67690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0F452F-8202-4EF8-BC9D-57134D79EB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3989A-3583-4342-A35F-4A12F8F2B6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F58D83-B855-48A2-9C13-638394E83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E88345-DBBF-484C-A789-A65EEB5675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A92F9-27EC-4065-BF46-CB3B1C2D6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5C191-C296-4F1C-8B42-AEEC2B5CD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B7859-6CC9-44F4-92C3-F286CE0194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38C82-B3CE-49F3-A5C5-F247C4ACF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56D29-5F5F-4B16-8D9D-4367A56FD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938A9-6DA2-483D-9608-A8C1BCA2B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433C5-FE16-4DE0-8606-E98E2A39B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45AA3C-75BF-41D6-B69E-0296E783EF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01C02E-CCA4-44CF-9075-EB1682E4C5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C34520-023E-444C-B26B-4832B5F97F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6DC80B-1A53-4524-B0E7-CD69DF802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9DCA51-6B29-4A80-898F-54378111D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E5DA7-3AB8-4AE4-9E8C-714912029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957482-E06F-4584-85D0-C721E7BB9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FB39D2-8960-477B-9194-FFD078D57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DA417-65C9-4482-8198-A2F2CF8AD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991E6-AF7A-461D-BAAD-FFFC8925A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CB037-8F6C-4BA7-9A05-E01D7CBDA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6D7B0-2D20-467F-933C-8C97946DF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E40066-875D-441B-AD49-4E3B435AE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2DE88F-A080-48B8-A672-158E60AF59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C2BC24-AC86-4E66-A10C-F8DF8AA28D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EEF2E-E085-4E03-82E7-CD6AA1C77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9600D-FD2A-41A0-BD79-56DBE7730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FE374-EED1-44B4-94FF-4358D1668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1B65-580C-4CE7-B230-6D3968E93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600CE-EEFC-4F4C-9832-AB1DDBBDF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467A-8082-4D9A-812A-F89C80D8C866}"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9CEAFB07-95AB-400B-949C-4114B777A4A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3D59-91CF-40F5-807B-7092462A1A04}"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3-</a:t>
            </a:r>
            <a:fld id="{9E1EFE3F-D77F-4E1A-A03C-08C0B488BA2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0A08-E52B-4861-8282-15EB926BB084}"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205F-0C99-4853-91B0-AED17B93945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7741-FCAE-47E0-A5DB-8FC60A3AAF53}"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442E3778-DE98-4F8A-922E-3C6C1A4384A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304560" y="322848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tailing In Electronic Commerce:  Products and Service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tailing in Online Mall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ferring Directori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lls with Shared Services</a:t>
            </a:r>
            <a:endParaRPr b="0" lang="en-US" sz="2100" spc="-1" strike="noStrike">
              <a:solidFill>
                <a:srgbClr val="000000"/>
              </a:solidFill>
              <a:latin typeface="Constantia"/>
            </a:endParaRPr>
          </a:p>
        </p:txBody>
      </p:sp>
      <p:sp>
        <p:nvSpPr>
          <p:cNvPr id="23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A36A6F80-0787-4143-9537-7772AEEF0A0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THER B2C MODELS AND SPECIAL RETAILING</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2C SOCIAL SHOPP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Group Buying</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ized Event Shopping</a:t>
            </a:r>
            <a:endParaRPr b="0" lang="en-US" sz="2400" spc="-1" strike="noStrike">
              <a:solidFill>
                <a:srgbClr val="000000"/>
              </a:solidFill>
              <a:latin typeface="Constantia"/>
            </a:endParaRPr>
          </a:p>
          <a:p>
            <a:pPr lvl="2" marL="850320" indent="-22896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vent shopping</a:t>
            </a:r>
            <a:endParaRPr b="0" lang="en-US" sz="2400" spc="-1" strike="noStrike">
              <a:solidFill>
                <a:srgbClr val="000000"/>
              </a:solidFill>
              <a:latin typeface="Constantia"/>
            </a:endParaRPr>
          </a:p>
          <a:p>
            <a:pPr lvl="2" marL="850320" indent="-2289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B2C model in which sales are done to meet the needs of special events (e.g., a wedding, Black Friday).</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ivate shopping club</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embers-only shopping club, where members can buy goods at large discounts</a:t>
            </a:r>
            <a:endParaRPr b="0" lang="en-US" sz="2400" spc="-1" strike="noStrike">
              <a:solidFill>
                <a:srgbClr val="000000"/>
              </a:solidFill>
              <a:latin typeface="Constantia"/>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C969E918-B479-418A-BDD4-67110ED7396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roup Gifting Onlin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ocation-based e-commerce</a:t>
            </a:r>
            <a:r>
              <a:rPr b="0" lang="en-US" sz="2400" spc="-1" strike="noStrike">
                <a:solidFill>
                  <a:srgbClr val="000000"/>
                </a:solidFill>
                <a:latin typeface="Constantia"/>
              </a:rPr>
              <a:t> </a:t>
            </a:r>
            <a:r>
              <a:rPr b="1" lang="en-US" sz="2400" spc="-1" strike="noStrike">
                <a:solidFill>
                  <a:srgbClr val="000000"/>
                </a:solidFill>
                <a:latin typeface="Constantia"/>
              </a:rPr>
              <a:t>(l-commer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elivery of e-commerce transactions to individuals in a specific location, at a specific ti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hopping in Virtual World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TUAL VISUAL SHOPPING</a:t>
            </a:r>
            <a:endParaRPr b="0" lang="en-US" sz="2600" spc="-1" strike="noStrike">
              <a:solidFill>
                <a:srgbClr val="000000"/>
              </a:solidFill>
              <a:latin typeface="Constantia"/>
            </a:endParaRPr>
          </a:p>
        </p:txBody>
      </p:sp>
      <p:sp>
        <p:nvSpPr>
          <p:cNvPr id="24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9745936B-0B39-4CBC-A7C5-7F4411BED3F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ravel And Tourism </a:t>
            </a:r>
            <a:br>
              <a:rPr sz="4500"/>
            </a:br>
            <a:r>
              <a:rPr b="0" lang="en-US" sz="4500" spc="-1" strike="noStrike">
                <a:solidFill>
                  <a:srgbClr val="04617b"/>
                </a:solidFill>
                <a:latin typeface="Calibri"/>
              </a:rPr>
              <a:t>(Hospitality) Services Online</a:t>
            </a:r>
            <a:endParaRPr b="0" lang="en-US" sz="45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ERVICES PROVID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ECIAL SERVICES ONLINE</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ireless servic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dvanced check-i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rect marketing</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lliances and consortia</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Travel Network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ENEFITS AND LIMITATIONS OF ONLINE TRAVEL SERVI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RPORATE TRAVEL</a:t>
            </a:r>
            <a:endParaRPr b="0" lang="en-US" sz="2600" spc="-1" strike="noStrike">
              <a:solidFill>
                <a:srgbClr val="000000"/>
              </a:solidFill>
              <a:latin typeface="Constantia"/>
            </a:endParaRPr>
          </a:p>
        </p:txBody>
      </p:sp>
      <p:sp>
        <p:nvSpPr>
          <p:cNvPr id="24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371D3FA0-7302-4475-A188-05FD4D64F75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mployment Placement </a:t>
            </a:r>
            <a:br>
              <a:rPr sz="4500"/>
            </a:br>
            <a:r>
              <a:rPr b="0" lang="en-US" sz="4500" spc="-1" strike="noStrike">
                <a:solidFill>
                  <a:srgbClr val="04617b"/>
                </a:solidFill>
                <a:latin typeface="Calibri"/>
              </a:rPr>
              <a:t>and the Job Market Online</a:t>
            </a:r>
            <a:endParaRPr b="0" lang="en-US" sz="45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ARTIES WHO USE THE INTERNET JOB MARKET</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Job seeker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mployers seeking employe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assified ad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Job agenci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Government agencies and institution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Job Markets on Social Networ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lobal Online Portals for Job Place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Job Fairs</a:t>
            </a:r>
            <a:endParaRPr b="0" lang="en-US" sz="2400" spc="-1" strike="noStrike">
              <a:solidFill>
                <a:srgbClr val="000000"/>
              </a:solidFill>
              <a:latin typeface="Constantia"/>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7A692E07-93D2-4414-B4B2-2F61835A55A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990720" y="609480"/>
            <a:ext cx="7118280" cy="5510160"/>
          </a:xfrm>
          <a:prstGeom prst="rect">
            <a:avLst/>
          </a:prstGeom>
          <a:ln w="0">
            <a:noFill/>
          </a:ln>
        </p:spPr>
      </p:pic>
      <p:sp>
        <p:nvSpPr>
          <p:cNvPr id="25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97FE4362-10A0-4BEE-A312-8AAA828AD94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90360" y="1162080"/>
            <a:ext cx="9050400" cy="4781520"/>
          </a:xfrm>
          <a:prstGeom prst="rect">
            <a:avLst/>
          </a:prstGeom>
          <a:ln w="0">
            <a:noFill/>
          </a:ln>
        </p:spPr>
      </p:pic>
      <p:sp>
        <p:nvSpPr>
          <p:cNvPr id="25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F882AFBF-8B6E-4386-9E54-12017781B6D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al Estate, Insurance, </a:t>
            </a:r>
            <a:br>
              <a:rPr sz="4500"/>
            </a:br>
            <a:r>
              <a:rPr b="0" lang="en-US" sz="4500" spc="-1" strike="noStrike">
                <a:solidFill>
                  <a:srgbClr val="04617b"/>
                </a:solidFill>
                <a:latin typeface="Calibri"/>
              </a:rPr>
              <a:t>and Stock Trading Online</a:t>
            </a:r>
            <a:endParaRPr b="0" lang="en-US" sz="45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AL ESTATE ONLIN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Zillow, Craigslist, and Other Web 2.0 Real Estate Servic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SURANCE ONLIN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STOCK TRAD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Risk of Trading in an Online Stock Account</a:t>
            </a:r>
            <a:endParaRPr b="0" lang="en-US" sz="2400" spc="-1" strike="noStrike">
              <a:solidFill>
                <a:srgbClr val="000000"/>
              </a:solidFill>
              <a:latin typeface="Constantia"/>
            </a:endParaRPr>
          </a:p>
        </p:txBody>
      </p:sp>
      <p:sp>
        <p:nvSpPr>
          <p:cNvPr id="26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808D6AC6-801A-4CEB-993E-E2A3C96D05C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39EC1EB3-361D-4D69-9D9D-79A06C044FE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67" name="Picture 5" descr=""/>
          <p:cNvPicPr/>
          <p:nvPr/>
        </p:nvPicPr>
        <p:blipFill>
          <a:blip r:embed="rId1"/>
          <a:stretch/>
        </p:blipFill>
        <p:spPr>
          <a:xfrm>
            <a:off x="1108080" y="685800"/>
            <a:ext cx="683100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nking and </a:t>
            </a:r>
            <a:br>
              <a:rPr sz="4500"/>
            </a:br>
            <a:r>
              <a:rPr b="0" lang="en-US" sz="4500" spc="-1" strike="noStrike">
                <a:solidFill>
                  <a:srgbClr val="04617b"/>
                </a:solidFill>
                <a:latin typeface="Calibri"/>
              </a:rPr>
              <a:t>Personal Finance Online</a:t>
            </a:r>
            <a:endParaRPr b="0" lang="en-US" sz="45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online) banking or e-bank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Various banking activities conducted from home or the road using an Internet connection; also known as cyberbanking, virtual banking, online banking, and home banking</a:t>
            </a:r>
            <a:endParaRPr b="0" lang="en-US" sz="2600" spc="-1" strike="noStrike">
              <a:solidFill>
                <a:srgbClr val="000000"/>
              </a:solidFill>
              <a:latin typeface="Constantia"/>
            </a:endParaRPr>
          </a:p>
        </p:txBody>
      </p:sp>
      <p:sp>
        <p:nvSpPr>
          <p:cNvPr id="27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E7D11C24-5512-4A2E-8DE3-8891D2257FC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4000"/>
          </a:bodyPr>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electronic retailing (e-tailing) and its characteristics.</a:t>
            </a:r>
            <a:endParaRPr b="0" lang="en-US" sz="2600" spc="-1" strike="noStrike">
              <a:solidFill>
                <a:srgbClr val="000000"/>
              </a:solidFill>
              <a:latin typeface="Constantia"/>
            </a:endParaRPr>
          </a:p>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ify the primary e-tailing business models.</a:t>
            </a:r>
            <a:endParaRPr b="0" lang="en-US" sz="2600" spc="-1" strike="noStrike">
              <a:solidFill>
                <a:srgbClr val="000000"/>
              </a:solidFill>
              <a:latin typeface="Constantia"/>
            </a:endParaRPr>
          </a:p>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how online travel and tourism services operate and their impact on the industry.</a:t>
            </a:r>
            <a:endParaRPr b="0" lang="en-US" sz="2600" spc="-1" strike="noStrike">
              <a:solidFill>
                <a:srgbClr val="000000"/>
              </a:solidFill>
              <a:latin typeface="Constantia"/>
            </a:endParaRPr>
          </a:p>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the online employment market, including its participants, benefits, and limitations.</a:t>
            </a:r>
            <a:endParaRPr b="0" lang="en-US" sz="2600" spc="-1" strike="noStrike">
              <a:solidFill>
                <a:srgbClr val="000000"/>
              </a:solidFill>
              <a:latin typeface="Constantia"/>
            </a:endParaRPr>
          </a:p>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online real estate services.</a:t>
            </a:r>
            <a:endParaRPr b="0" lang="en-US" sz="2600" spc="-1" strike="noStrike">
              <a:solidFill>
                <a:srgbClr val="000000"/>
              </a:solidFill>
              <a:latin typeface="Constantia"/>
            </a:endParaRPr>
          </a:p>
          <a:p>
            <a:pPr marL="483480" indent="-483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online stock-trading services.</a:t>
            </a:r>
            <a:endParaRPr b="0" lang="en-US" sz="2600" spc="-1" strike="noStrike">
              <a:solidFill>
                <a:srgbClr val="000000"/>
              </a:solidFill>
              <a:latin typeface="Constantia"/>
            </a:endParaRPr>
          </a:p>
        </p:txBody>
      </p:sp>
      <p:sp>
        <p:nvSpPr>
          <p:cNvPr id="20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0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9A28AC6E-9669-4D26-91EF-1A5A2AD8EB8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nking and </a:t>
            </a:r>
            <a:br>
              <a:rPr sz="4500"/>
            </a:br>
            <a:r>
              <a:rPr b="0" lang="en-US" sz="4500" spc="-1" strike="noStrike">
                <a:solidFill>
                  <a:srgbClr val="04617b"/>
                </a:solidFill>
                <a:latin typeface="Calibri"/>
              </a:rPr>
              <a:t>Personal Finance Online</a:t>
            </a:r>
            <a:endParaRPr b="0" lang="en-US" sz="45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OME BANKING CAPABIL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TUAL BANK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RNATIONAL AND MULTIPLE-CURRENCY BANKING</a:t>
            </a:r>
            <a:endParaRPr b="0" lang="en-US" sz="2600" spc="-1" strike="noStrike">
              <a:solidFill>
                <a:srgbClr val="000000"/>
              </a:solidFill>
              <a:latin typeface="Constantia"/>
            </a:endParaRPr>
          </a:p>
        </p:txBody>
      </p:sp>
      <p:sp>
        <p:nvSpPr>
          <p:cNvPr id="27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0EB55F77-3B74-4F97-A639-3A0A0FE3A89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nking and </a:t>
            </a:r>
            <a:br>
              <a:rPr sz="4500"/>
            </a:br>
            <a:r>
              <a:rPr b="0" lang="en-US" sz="4500" spc="-1" strike="noStrike">
                <a:solidFill>
                  <a:srgbClr val="04617b"/>
                </a:solidFill>
                <a:latin typeface="Calibri"/>
              </a:rPr>
              <a:t>Personal Finance Online</a:t>
            </a:r>
            <a:endParaRPr b="0" lang="en-US" sz="45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FINANCIAL TRANSACTION IMPLEMENTATION ISSU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curing Financial Transac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maging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ees Online Versus Fees for Offline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isk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BILLING AND BILL PAY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ax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AEED2D02-D156-4072-885D-A4496F04A02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On-Demand Delivery of Products, </a:t>
            </a:r>
            <a:br>
              <a:rPr sz="3800"/>
            </a:br>
            <a:r>
              <a:rPr b="0" lang="en-US" sz="3800" spc="-1" strike="noStrike">
                <a:solidFill>
                  <a:srgbClr val="04617b"/>
                </a:solidFill>
                <a:latin typeface="Calibri"/>
              </a:rPr>
              <a:t>Digital Items, Entertainment, and Gaming</a:t>
            </a:r>
            <a:endParaRPr b="0" lang="en-US" sz="38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DEMAND DELIVERY OF PRODUC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grocer</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grocer that takes orders online and provides deliveries on a daily or other regular schedule or within a very short period of ti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demand delivery servi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xpress delivery made fairly quickly after an online order is received</a:t>
            </a:r>
            <a:endParaRPr b="0" lang="en-US" sz="2400" spc="-1" strike="noStrike">
              <a:solidFill>
                <a:srgbClr val="000000"/>
              </a:solidFill>
              <a:latin typeface="Constantia"/>
            </a:endParaRPr>
          </a:p>
        </p:txBody>
      </p:sp>
      <p:sp>
        <p:nvSpPr>
          <p:cNvPr id="28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A2C9C28C-01A2-408D-A350-DC83F29F880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On-Demand Delivery of Products, </a:t>
            </a:r>
            <a:br>
              <a:rPr sz="3800"/>
            </a:br>
            <a:r>
              <a:rPr b="0" lang="en-US" sz="3800" spc="-1" strike="noStrike">
                <a:solidFill>
                  <a:srgbClr val="04617b"/>
                </a:solidFill>
                <a:latin typeface="Calibri"/>
              </a:rPr>
              <a:t>Digital Items, Entertainment, and Gaming</a:t>
            </a:r>
            <a:endParaRPr b="0" lang="en-US" sz="38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DELIVERY OF DIGITAL PRODUCTS, ENTERTAINMENT, AND MEDI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ENTERTAINM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ult Entertain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net Gam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line Dating Services</a:t>
            </a:r>
            <a:endParaRPr b="0" lang="en-US" sz="2400" spc="-1" strike="noStrike">
              <a:solidFill>
                <a:srgbClr val="000000"/>
              </a:solidFill>
              <a:latin typeface="Constantia"/>
            </a:endParaRPr>
          </a:p>
        </p:txBody>
      </p:sp>
      <p:sp>
        <p:nvSpPr>
          <p:cNvPr id="28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9EB7AFCC-8E48-429E-8765-096571B0E68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nline Purchasing-Decision Aids</a:t>
            </a:r>
            <a:endParaRPr b="0" lang="en-US" sz="45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hopping port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Gateways to webstores and e-malls; may be comprehensive or niche oriente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elping Communiti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73064CA6-FAD7-4DDA-BFA1-05FA8D14200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nline Purchasing-Decision Aids</a:t>
            </a:r>
            <a:endParaRPr b="0" lang="en-US" sz="45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ICE AND QUALITY COMPARISON BY SHOPBOT SOFTWARE AGEN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hopping robots (shopping agents or shopbot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ools that scout the Web on behalf of consumers who specify search crite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oogle Commerce Search 2.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py”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ireless Shopping Comparisons</a:t>
            </a:r>
            <a:endParaRPr b="0" lang="en-US" sz="2400" spc="-1" strike="noStrike">
              <a:solidFill>
                <a:srgbClr val="000000"/>
              </a:solidFill>
              <a:latin typeface="Constantia"/>
            </a:endParaRPr>
          </a:p>
        </p:txBody>
      </p:sp>
      <p:sp>
        <p:nvSpPr>
          <p:cNvPr id="29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C9C868AF-65E9-4912-A3D4-4199BA2DC1B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nline Purchasing-Decision Aids</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USINESS RATINGS SIT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commendations from Other Shoppers and Friend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referral economy</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The effect upon sales of consumers receiving a referral or recommendation from other consumers.</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UST VERIFICATION SI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THER SHOPPING TOOL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Yelp</a:t>
            </a:r>
            <a:endParaRPr b="0" lang="en-US" sz="2400" spc="-1" strike="noStrike">
              <a:solidFill>
                <a:srgbClr val="000000"/>
              </a:solidFill>
              <a:latin typeface="Constantia"/>
            </a:endParaRPr>
          </a:p>
        </p:txBody>
      </p:sp>
      <p:sp>
        <p:nvSpPr>
          <p:cNvPr id="29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F5E93D25-0AEE-4967-85BA-9EFA7AD50A8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ssues In E-Tailing </a:t>
            </a:r>
            <a:br>
              <a:rPr sz="4500"/>
            </a:br>
            <a:r>
              <a:rPr b="0" lang="en-US" sz="4500" spc="-1" strike="noStrike">
                <a:solidFill>
                  <a:srgbClr val="04617b"/>
                </a:solidFill>
                <a:latin typeface="Calibri"/>
              </a:rPr>
              <a:t>and Lessons Learned</a:t>
            </a:r>
            <a:endParaRPr b="0" lang="en-US" sz="45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intermed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removal of organizations or business process layers responsible for certain intermediary steps in a given supply cha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intermed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rocess whereby intermediaries (either new ones or those that had been disintermediated) take on new intermediary roles</a:t>
            </a:r>
            <a:endParaRPr b="0" lang="en-US" sz="2600" spc="-1" strike="noStrike">
              <a:solidFill>
                <a:srgbClr val="000000"/>
              </a:solidFill>
              <a:latin typeface="Constantia"/>
            </a:endParaRPr>
          </a:p>
        </p:txBody>
      </p:sp>
      <p:sp>
        <p:nvSpPr>
          <p:cNvPr id="30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B46B3EF5-40BF-41B2-879F-AC9EF9DE909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533520" y="609480"/>
            <a:ext cx="7915320" cy="5562720"/>
          </a:xfrm>
          <a:prstGeom prst="rect">
            <a:avLst/>
          </a:prstGeom>
          <a:ln w="0">
            <a:noFill/>
          </a:ln>
        </p:spPr>
      </p:pic>
      <p:sp>
        <p:nvSpPr>
          <p:cNvPr id="30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5D11FBC1-B995-46D0-A50D-C40109F1333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ssues In E-Tailing </a:t>
            </a:r>
            <a:br>
              <a:rPr sz="4500"/>
            </a:br>
            <a:r>
              <a:rPr b="0" lang="en-US" sz="4500" spc="-1" strike="noStrike">
                <a:solidFill>
                  <a:srgbClr val="04617b"/>
                </a:solidFill>
                <a:latin typeface="Calibri"/>
              </a:rPr>
              <a:t>and Lessons Learned</a:t>
            </a:r>
            <a:endParaRPr b="0" lang="en-US" sz="45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hannel confli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ituation in which an online marketing channel upsets the traditional channels due to real or perceived damage from competition</a:t>
            </a:r>
            <a:endParaRPr b="0" lang="en-US" sz="2600" spc="-1" strike="noStrike">
              <a:solidFill>
                <a:srgbClr val="000000"/>
              </a:solidFill>
              <a:latin typeface="Constantia"/>
            </a:endParaRPr>
          </a:p>
        </p:txBody>
      </p:sp>
      <p:sp>
        <p:nvSpPr>
          <p:cNvPr id="30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79200411-3979-4EE9-B960-CB0965C142E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3000"/>
          </a:bodyPr>
          <a:p>
            <a:pPr marL="478080" indent="-47808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cyberbanking and online personal finance.</a:t>
            </a:r>
            <a:endParaRPr b="0" lang="en-US" sz="2600" spc="-1" strike="noStrike">
              <a:solidFill>
                <a:srgbClr val="000000"/>
              </a:solidFill>
              <a:latin typeface="Constantia"/>
            </a:endParaRPr>
          </a:p>
          <a:p>
            <a:pPr marL="478080" indent="-47808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on-demand delivery of groceries and similar perishable products and services related to them.</a:t>
            </a:r>
            <a:endParaRPr b="0" lang="en-US" sz="2600" spc="-1" strike="noStrike">
              <a:solidFill>
                <a:srgbClr val="000000"/>
              </a:solidFill>
              <a:latin typeface="Constantia"/>
            </a:endParaRPr>
          </a:p>
          <a:p>
            <a:pPr marL="478080" indent="-47808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delivery of digital products and online entertainment.</a:t>
            </a:r>
            <a:endParaRPr b="0" lang="en-US" sz="2600" spc="-1" strike="noStrike">
              <a:solidFill>
                <a:srgbClr val="000000"/>
              </a:solidFill>
              <a:latin typeface="Constantia"/>
            </a:endParaRPr>
          </a:p>
          <a:p>
            <a:pPr marL="478080" indent="-47808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various online consumer aids, including comparison-shopping aids.</a:t>
            </a:r>
            <a:endParaRPr b="0" lang="en-US" sz="2600" spc="-1" strike="noStrike">
              <a:solidFill>
                <a:srgbClr val="000000"/>
              </a:solidFill>
              <a:latin typeface="Constantia"/>
            </a:endParaRPr>
          </a:p>
          <a:p>
            <a:pPr marL="478080" indent="-47808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disintermediation and other B2C strategic issues.</a:t>
            </a:r>
            <a:endParaRPr b="0" lang="en-US" sz="2600" spc="-1" strike="noStrike">
              <a:solidFill>
                <a:srgbClr val="000000"/>
              </a:solidFill>
              <a:latin typeface="Constantia"/>
            </a:endParaRPr>
          </a:p>
        </p:txBody>
      </p:sp>
      <p:sp>
        <p:nvSpPr>
          <p:cNvPr id="21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D5FA9A78-8438-410E-8C89-FC10D78948D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ssues In E-Tailing </a:t>
            </a:r>
            <a:br>
              <a:rPr sz="4500"/>
            </a:br>
            <a:r>
              <a:rPr b="0" lang="en-US" sz="4500" spc="-1" strike="noStrike">
                <a:solidFill>
                  <a:srgbClr val="04617b"/>
                </a:solidFill>
                <a:latin typeface="Calibri"/>
              </a:rPr>
              <a:t>and Lessons Learned</a:t>
            </a:r>
            <a:endParaRPr b="0" lang="en-US" sz="45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OSSIBILITY OF A PRICE CONFLICT AND DETERMINING THE RIGHT PRICE BY SELL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DUCT AND SERVICE CUSTOMIZATION AND PERSONALIZ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COMPETI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RAUD AND OTHER ILLEGAL ACTIV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CED299D7-CA56-42CC-B5D1-8A1A37EA38D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ssues In E-Tailing </a:t>
            </a:r>
            <a:br>
              <a:rPr sz="4500"/>
            </a:br>
            <a:r>
              <a:rPr b="0" lang="en-US" sz="4500" spc="-1" strike="noStrike">
                <a:solidFill>
                  <a:srgbClr val="04617b"/>
                </a:solidFill>
                <a:latin typeface="Calibri"/>
              </a:rPr>
              <a:t>and Lessons Learned</a:t>
            </a:r>
            <a:endParaRPr b="0" lang="en-US" sz="45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ESSONS LEARNED FROM FAILURES AND LACK OF SUCCESS OF E-TAIL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eak with one vo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everage the multichanne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mpower the customer</a:t>
            </a:r>
            <a:endParaRPr b="0" lang="en-US" sz="2400" spc="-1" strike="noStrike">
              <a:solidFill>
                <a:srgbClr val="000000"/>
              </a:solidFill>
              <a:latin typeface="Constantia"/>
            </a:endParaRPr>
          </a:p>
        </p:txBody>
      </p:sp>
      <p:sp>
        <p:nvSpPr>
          <p:cNvPr id="31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20CC9080-F3F3-4FD6-83DA-5506DB484AF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fontScale="97000"/>
          </a:bodyPr>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limitations of e-tailing? Where is e-tailing going?</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should we introduce wireless shopping?</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 we have ethics and privacy guidelines?</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will intermediaries act in cyberspace?</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ould we try to capitalize on social networks?</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should we manage multichannel marketing to avoid channel and/or price conflicts?</a:t>
            </a:r>
            <a:endParaRPr b="0" lang="en-US" sz="2600" spc="-1" strike="noStrike">
              <a:solidFill>
                <a:srgbClr val="000000"/>
              </a:solidFill>
              <a:latin typeface="Constantia"/>
            </a:endParaRPr>
          </a:p>
          <a:p>
            <a:pPr marL="498960" indent="-49896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major potential limitations of the growth of B2C EC?</a:t>
            </a:r>
            <a:endParaRPr b="0" lang="en-US" sz="2600" spc="-1" strike="noStrike">
              <a:solidFill>
                <a:srgbClr val="000000"/>
              </a:solidFill>
              <a:latin typeface="Constantia"/>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18F02E8E-C899-4E05-A777-9A67DC510A8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cope and characteristics of e-tail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ify e-tailing business mode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online travel/tourism services operat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online job market and its benefi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lectronic real estate marketpla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trading of stocks and bonds</a:t>
            </a:r>
            <a:endParaRPr b="0" lang="en-US" sz="2600" spc="-1" strike="noStrike">
              <a:solidFill>
                <a:srgbClr val="000000"/>
              </a:solidFill>
              <a:latin typeface="Constantia"/>
            </a:endParaRPr>
          </a:p>
        </p:txBody>
      </p:sp>
      <p:sp>
        <p:nvSpPr>
          <p:cNvPr id="3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BFE68342-ABDE-4750-BF02-1E6F552AC9C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yberbanking and personal finan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demand delivery servi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livery of digital produc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iding consumer purchase decision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intermediation and other B2C strategic issues</a:t>
            </a:r>
            <a:endParaRPr b="0" lang="en-US" sz="2600" spc="-1" strike="noStrike">
              <a:solidFill>
                <a:srgbClr val="000000"/>
              </a:solidFill>
              <a:latin typeface="Constantia"/>
            </a:endParaRPr>
          </a:p>
        </p:txBody>
      </p:sp>
      <p:sp>
        <p:nvSpPr>
          <p:cNvPr id="32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8FF7BC82-6DBF-4DBB-AE3E-C31ADD17AA7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333"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34"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4A1504-4383-497D-8CDF-C3C22769EDE0}"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nternet Marketing </a:t>
            </a:r>
            <a:br>
              <a:rPr sz="4500"/>
            </a:br>
            <a:r>
              <a:rPr b="0" lang="en-US" sz="4500" spc="-1" strike="noStrike">
                <a:solidFill>
                  <a:srgbClr val="04617b"/>
                </a:solidFill>
                <a:latin typeface="Calibri"/>
              </a:rPr>
              <a:t>and B2C Electronic Retailing</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retailing (e-tail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tailing conducted online, over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taile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tailers who sell over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IZE AND GROWTH OF THE B2C MARK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SELLS WELL ON THE INTERNE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velopments in E-Commerce</a:t>
            </a:r>
            <a:endParaRPr b="0" lang="en-US" sz="2400" spc="-1" strike="noStrike">
              <a:solidFill>
                <a:srgbClr val="000000"/>
              </a:solidFill>
              <a:latin typeface="Constantia"/>
            </a:endParaRPr>
          </a:p>
        </p:txBody>
      </p:sp>
      <p:sp>
        <p:nvSpPr>
          <p:cNvPr id="21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04E82949-FCEA-47E2-A85A-1116DF02413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nternet Marketing </a:t>
            </a:r>
            <a:br>
              <a:rPr sz="4500"/>
            </a:br>
            <a:r>
              <a:rPr b="0" lang="en-US" sz="4500" spc="-1" strike="noStrike">
                <a:solidFill>
                  <a:srgbClr val="04617b"/>
                </a:solidFill>
                <a:latin typeface="Calibri"/>
              </a:rPr>
              <a:t>and B2C Electronic Retailing</a:t>
            </a:r>
            <a:endParaRPr b="0" lang="en-US" sz="45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HARACTERISTICS AND ADVANTAGES OF SUCCESSFUL E-TAI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vantages of E-Tailing</a:t>
            </a:r>
            <a:endParaRPr b="0" lang="en-US" sz="2400" spc="-1" strike="noStrike">
              <a:solidFill>
                <a:srgbClr val="000000"/>
              </a:solidFill>
              <a:latin typeface="Constantia"/>
            </a:endParaRPr>
          </a:p>
        </p:txBody>
      </p:sp>
      <p:sp>
        <p:nvSpPr>
          <p:cNvPr id="21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86F1F736-C29B-4FB6-96FE-53D0BC0E39E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685800" y="457200"/>
            <a:ext cx="7637400" cy="5740560"/>
          </a:xfrm>
          <a:prstGeom prst="rect">
            <a:avLst/>
          </a:prstGeom>
          <a:ln w="0">
            <a:noFill/>
          </a:ln>
        </p:spPr>
      </p:pic>
      <p:sp>
        <p:nvSpPr>
          <p:cNvPr id="22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10BB1581-B582-45F2-BFA7-A78599A8545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ASSIFICATION OF MODELS BY DISTRIBUTION CHANNEL</a:t>
            </a:r>
            <a:endParaRPr b="0" lang="en-US" sz="24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irect marketing by mail-order retailers that go online</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irect marketing by manufacturers</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ure-play e-tailers</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lick-and-mortar retailers</a:t>
            </a:r>
            <a:endParaRPr b="0" lang="en-US" sz="2200" spc="-1" strike="noStrike">
              <a:solidFill>
                <a:srgbClr val="000000"/>
              </a:solidFill>
              <a:latin typeface="Constantia"/>
            </a:endParaRPr>
          </a:p>
          <a:p>
            <a:pPr lvl="2" marL="896040" indent="-24120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multichannel business model</a:t>
            </a:r>
            <a:endParaRPr b="0" lang="en-US" sz="1900" spc="-1" strike="noStrike">
              <a:solidFill>
                <a:srgbClr val="000000"/>
              </a:solidFill>
              <a:latin typeface="Constantia"/>
            </a:endParaRPr>
          </a:p>
          <a:p>
            <a:pPr lvl="2" marL="896040" indent="-24120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A business model where a company sells in multiple marketing channels simultaneously (e.g., both physical and online stores)</a:t>
            </a:r>
            <a:endParaRPr b="0" lang="en-US" sz="19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rnet (online) malls</a:t>
            </a:r>
            <a:endParaRPr b="0" lang="en-US" sz="2200" spc="-1" strike="noStrike">
              <a:solidFill>
                <a:srgbClr val="000000"/>
              </a:solidFill>
              <a:latin typeface="Constantia"/>
            </a:endParaRPr>
          </a:p>
        </p:txBody>
      </p:sp>
      <p:sp>
        <p:nvSpPr>
          <p:cNvPr id="2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C0EA04B8-A56E-410B-B85A-7BE107D7E37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rect market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roadly, marketing that takes place without intermediaries between manufacturers and buyers; in the context of this book, marketing done online between any seller and buyer</a:t>
            </a:r>
            <a:endParaRPr b="0" lang="en-US" sz="2400" spc="-1" strike="noStrike">
              <a:solidFill>
                <a:srgbClr val="000000"/>
              </a:solidFill>
              <a:latin typeface="Constantia"/>
            </a:endParaRPr>
          </a:p>
        </p:txBody>
      </p:sp>
      <p:sp>
        <p:nvSpPr>
          <p:cNvPr id="22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856CF486-1777-40D5-B13C-6E7D0744BED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ailing Business Models</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fontScale="95000"/>
          </a:bodyPr>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rect Sales by Manufacturer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virtual (pure-play) e-tailer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irms that sell directly to consumers over the Internet without maintaining a physical sales channel</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ck-and-mortar retailer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rick-and-mortar retailers that offer a transactional website from which to conduct busines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rick-and-mortar retailer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etailers who do business in the non-Internet, physical world in traditional brick-and-mortar stores</a:t>
            </a:r>
            <a:endParaRPr b="0" lang="en-US" sz="2400" spc="-1" strike="noStrike">
              <a:solidFill>
                <a:srgbClr val="000000"/>
              </a:solidFill>
              <a:latin typeface="Constantia"/>
            </a:endParaRPr>
          </a:p>
        </p:txBody>
      </p:sp>
      <p:sp>
        <p:nvSpPr>
          <p:cNvPr id="23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a:t>
            </a:r>
            <a:fld id="{359D49EE-FD2D-42F6-AF78-FDE74BCCAA7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4:33Z</dcterms:modified>
  <cp:revision>44</cp:revision>
  <dc:subject/>
  <dc:title>Chapter 1</dc:title>
</cp:coreProperties>
</file>