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921F5-68CA-4028-A167-547023C3ECD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E2247-8C0B-4857-AD62-CFA7DD4B95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1A607-6AAD-46D3-9317-356C0AF7E3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D3DCD-181C-485B-AE36-D4C2A75D90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68F8D-9D88-4E77-B7A3-47915E5616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19DE6-4CC7-4042-8BA6-AA9EEFEE46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B9A50-4035-4204-B9B5-DF1602F8C9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3B5A7-B905-4DEE-8343-26CFF8E417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4BED1-FD40-4D56-AC5B-09B12E1E38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564EA-5577-453B-B2A4-1A5A18C9DE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5BD25-3757-416B-9E45-A36512E58B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0DBB9-CE1B-4C87-B674-081CF12595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2AD40-EBF1-4E79-B543-2BA4F18232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D76C3-C3B5-4BD6-B6A5-DA227F2335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A0911-172D-4B4B-A374-D6E112EF82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CF045-4FAD-4B94-9FD8-AD86600302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ABF20-F8B6-43FB-A915-669A756352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7D69A-A886-4E1A-ADB0-839BAD3C2E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8F808-106B-46E8-925F-3FB6A44097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7EB7D-2885-4F86-BA47-4A61928C4F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C6523-8E2A-4AAF-9B60-C2487BC70E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4264F-65DE-426D-A838-BF25A30C8B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2D09D-5D28-47BB-B951-02DD710502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22E63-3C38-486F-8853-8E2AF24F2A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67981-2A43-48B6-9D32-716FDA7951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6598E-2A02-46E6-A167-BEB9BE096B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DCEAB-825A-4532-965C-15CABBCC27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6590B-8B09-491F-B55E-6E51D3EB54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559BB-2497-4E27-8E6D-D562D1EA13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FC374-96AF-43DB-9881-DE65184747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4F1FF-6DAF-4C72-A53A-D165A70E5C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85C26-1588-4685-A997-5A1C853A5B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47F72-DAF2-474E-9B0C-58ADCDBCA6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02222-E566-46EE-A49E-F948C77789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41139-4C06-444E-893F-5876F461C4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7B3121-9DB0-4C63-BDD5-D999C6B6FA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06FFC-290F-4EC9-BF00-8345A89EE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E5E655-3656-4336-BFD6-4FBD000EDE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03DD8-65DA-4BE7-83FB-B683C64006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61E165-8760-4B97-B394-DFE7505D49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6F5741-BFD7-4A53-A94A-81AAFA6D23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817E0-28D0-4D36-A831-D84ED97AD5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C05E34-D404-4563-A6F6-56ACA883CE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051137-D04A-409F-BF15-9D01755AF7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EB0C86-2B33-40CE-ABED-5951D56A47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3B330-5A3C-4F62-AF56-BC451E7F19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5AEE5-D422-455A-9896-EAE641844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A0BF6-E0E7-43E3-94C6-6C9EE15FF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D5619-0B2B-4FFC-ADD2-797B33E8B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459542-E8ED-4B37-9368-6300F101C7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AE2FE3-0105-473E-9DB1-E8A0E6D7A6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5E6092-9AC8-4DA8-888C-F56D5D5576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1D3A41-3F57-4B49-8D4F-6198E91412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651B79-FEF7-4258-B29C-FBABA4B3E1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7F24DC-979F-49F2-AD37-8C401F41AC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9182D6-FA67-4DB6-90F5-5BCF278E0B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8138EF-C132-452F-97C5-9EB8675412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3E853-ECCC-4100-98DD-079063D71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925445-C444-4AD8-AD96-3A43F27EA0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09263C-4816-430B-A6BA-F1641E1BF3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D26520-04C1-481D-95D4-B9E455AFBC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991BA7-0D6E-44A8-90C4-3D4273FBA9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D11C4E-C7DA-47CB-85E1-9899E7E3C5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2D499E-AC36-494F-B360-FFB9738803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AFA590-E21F-4902-B160-4E2DEE3A2E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320C00-F4A9-42BD-B33F-FEBBA94B0D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871EB7-8286-4552-AEC5-C50E0E041D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5D7303-DC23-4507-97C5-33D2133277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0C94E-1572-4D29-9381-1C2C529D6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D7EC4C-9212-4745-B5E1-FD1EA07BEA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303900-32D4-4B75-AEA9-45E785075B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E0783C-A2F6-4E79-A68A-25A5682022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990F68-3767-4125-9809-D7111E2FFE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79100C-3C6F-465B-A321-F7B108725E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FADDC1-C413-4020-A3B3-98E32F59C0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43DA9F-CA10-4BFA-99A7-9F474948D3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21E724-5FF2-4193-AD6F-3F2ABA27E3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773360-FC09-49B4-8BCF-F9CA6C94A0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94BE2-81A4-4D9F-80C6-585CA39A3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4D987-1E3F-4CBA-8744-B8E806491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EAB73-A69E-4C04-9CEC-44B5E6138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4F865-6527-45CD-9D6D-257D2B1D4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F452A-D22B-409D-89E1-12757EA240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95017-FAF0-4B8F-97C1-BDBB8C602B5B}" type="datetime">
              <a:rPr b="0" lang="en-US" sz="1200" spc="-1" strike="noStrike">
                <a:solidFill>
                  <a:srgbClr val="045c75"/>
                </a:solidFill>
                <a:latin typeface="Constantia"/>
              </a:rPr>
              <a:t>07/31/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1DD36268-AC7D-4276-8C33-55D524DB5D05}"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FE2C9-B7F5-4B8A-8DA7-7AC76DDC0E66}" type="datetime">
              <a:rPr b="0" lang="en-US" sz="1200" spc="-1" strike="noStrike">
                <a:solidFill>
                  <a:srgbClr val="d1eaee"/>
                </a:solidFill>
                <a:latin typeface="Constantia"/>
              </a:rPr>
              <a:t>07/31/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opyright © 2012 Pearson Education, Inc. Publishing as Prentice Hall </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3-</a:t>
            </a:r>
            <a:fld id="{79393409-2DB5-4802-958B-2CDCC4E221C9}"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970F8-610C-4997-A8EB-B7FA186D6EB9}" type="datetime">
              <a:rPr b="0" lang="en-US" sz="1200" spc="-1" strike="noStrike">
                <a:solidFill>
                  <a:srgbClr val="d1eaee"/>
                </a:solidFill>
                <a:latin typeface="Constantia"/>
              </a:rPr>
              <a:t>07/31/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opyright © 2012 Pearson Education, Inc. Publishing as Prentice Hall </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63BEA-F1C3-455B-9EC6-0781DC0FE3BC}"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0D670-666D-4465-B2DB-9B64C75F481C}" type="datetime">
              <a:rPr b="0" lang="en-US" sz="1200" spc="-1" strike="noStrike">
                <a:solidFill>
                  <a:srgbClr val="045c75"/>
                </a:solidFill>
                <a:latin typeface="Constantia"/>
              </a:rPr>
              <a:t>07/31/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E3BB4AD1-5B22-418F-B175-7530216BC448}"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3" descr=""/>
          <p:cNvPicPr/>
          <p:nvPr/>
        </p:nvPicPr>
        <p:blipFill>
          <a:blip r:embed="rId1"/>
          <a:stretch/>
        </p:blipFill>
        <p:spPr>
          <a:xfrm>
            <a:off x="530280" y="1365120"/>
            <a:ext cx="8308800" cy="1901880"/>
          </a:xfrm>
          <a:prstGeom prst="rect">
            <a:avLst/>
          </a:prstGeom>
          <a:ln w="0">
            <a:noFill/>
          </a:ln>
        </p:spPr>
      </p:pic>
      <p:sp>
        <p:nvSpPr>
          <p:cNvPr id="203" name="PlaceHolder 1"/>
          <p:cNvSpPr>
            <a:spLocks noGrp="1"/>
          </p:cNvSpPr>
          <p:nvPr>
            <p:ph type="subTitle"/>
          </p:nvPr>
        </p:nvSpPr>
        <p:spPr>
          <a:xfrm>
            <a:off x="304560" y="3228480"/>
            <a:ext cx="845820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Retailing In Electronic Commerce:  Products and Services</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Tailing Business Models</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etailing in Online Mall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Referring Directories</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Malls with Shared Services</a:t>
            </a:r>
            <a:endParaRPr b="0" lang="en-US" sz="2100" spc="-1" strike="noStrike">
              <a:solidFill>
                <a:srgbClr val="000000"/>
              </a:solidFill>
              <a:latin typeface="Constantia"/>
            </a:endParaRPr>
          </a:p>
        </p:txBody>
      </p:sp>
      <p:sp>
        <p:nvSpPr>
          <p:cNvPr id="237"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3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0DCCE869-E839-4917-9BBE-925C1282ED0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Tailing Business Models</a:t>
            </a:r>
            <a:endParaRPr b="0" lang="en-US" sz="50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THER B2C MODELS AND SPECIAL RETAILING</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B2C SOCIAL SHOPPING</a:t>
            </a:r>
            <a:endParaRPr b="0" lang="en-US" sz="26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nline Group Buying</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ersonalized Event Shopping</a:t>
            </a:r>
            <a:endParaRPr b="0" lang="en-US" sz="2400" spc="-1" strike="noStrike">
              <a:solidFill>
                <a:srgbClr val="000000"/>
              </a:solidFill>
              <a:latin typeface="Constantia"/>
            </a:endParaRPr>
          </a:p>
          <a:p>
            <a:pPr lvl="2" marL="850320" indent="-22896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vent shopping</a:t>
            </a:r>
            <a:endParaRPr b="0" lang="en-US" sz="2400" spc="-1" strike="noStrike">
              <a:solidFill>
                <a:srgbClr val="000000"/>
              </a:solidFill>
              <a:latin typeface="Constantia"/>
            </a:endParaRPr>
          </a:p>
          <a:p>
            <a:pPr lvl="2" marL="850320" indent="-22896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B2C model in which sales are done to meet the needs of special events (e.g., a wedding, Black Friday).</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rivate shopping club</a:t>
            </a:r>
            <a:endParaRPr b="0" lang="en-US" sz="2400" spc="-1" strike="noStrike">
              <a:solidFill>
                <a:srgbClr val="000000"/>
              </a:solidFill>
              <a:latin typeface="Constantia"/>
            </a:endParaRPr>
          </a:p>
          <a:p>
            <a:pPr lvl="1" marL="59472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members-only shopping club, where members can buy goods at large discounts</a:t>
            </a:r>
            <a:endParaRPr b="0" lang="en-US" sz="2400" spc="-1" strike="noStrike">
              <a:solidFill>
                <a:srgbClr val="000000"/>
              </a:solidFill>
              <a:latin typeface="Constantia"/>
            </a:endParaRPr>
          </a:p>
        </p:txBody>
      </p:sp>
      <p:sp>
        <p:nvSpPr>
          <p:cNvPr id="24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4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28B909FC-EDBC-4869-B79E-3EFC69A1EB2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Tailing Business Models</a:t>
            </a:r>
            <a:endParaRPr b="0" lang="en-US" sz="5000" spc="-1" strike="noStrike">
              <a:solidFill>
                <a:srgbClr val="04617b"/>
              </a:solidFill>
              <a:latin typeface="Calibri"/>
            </a:endParaRPr>
          </a:p>
        </p:txBody>
      </p:sp>
      <p:sp>
        <p:nvSpPr>
          <p:cNvPr id="244"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Group Gifting Onlin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location-based e-commerce</a:t>
            </a:r>
            <a:r>
              <a:rPr b="0" lang="en-US" sz="2400" spc="-1" strike="noStrike">
                <a:solidFill>
                  <a:srgbClr val="000000"/>
                </a:solidFill>
                <a:latin typeface="Constantia"/>
              </a:rPr>
              <a:t> </a:t>
            </a:r>
            <a:r>
              <a:rPr b="1" lang="en-US" sz="2400" spc="-1" strike="noStrike">
                <a:solidFill>
                  <a:srgbClr val="000000"/>
                </a:solidFill>
                <a:latin typeface="Constantia"/>
              </a:rPr>
              <a:t>(l-commerce)</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Delivery of e-commerce transactions to individuals in a specific location, at a specific tim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hopping in Virtual World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VIRTUAL VISUAL SHOPPING</a:t>
            </a:r>
            <a:endParaRPr b="0" lang="en-US" sz="2600" spc="-1" strike="noStrike">
              <a:solidFill>
                <a:srgbClr val="000000"/>
              </a:solidFill>
              <a:latin typeface="Constantia"/>
            </a:endParaRPr>
          </a:p>
        </p:txBody>
      </p:sp>
      <p:sp>
        <p:nvSpPr>
          <p:cNvPr id="24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4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8D126A9A-71A9-4C5F-A9AB-ECD4E4F50F8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ravel And Tourism </a:t>
            </a:r>
            <a:br>
              <a:rPr sz="4500"/>
            </a:br>
            <a:r>
              <a:rPr b="0" lang="en-US" sz="4500" spc="-1" strike="noStrike">
                <a:solidFill>
                  <a:srgbClr val="04617b"/>
                </a:solidFill>
                <a:latin typeface="Calibri"/>
              </a:rPr>
              <a:t>(Hospitality) Services Online</a:t>
            </a:r>
            <a:endParaRPr b="0" lang="en-US" sz="45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ERVICES PROVID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PECIAL SERVICES ONLINE</a:t>
            </a:r>
            <a:endParaRPr b="0" lang="en-US" sz="26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Wireless services</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dvanced check-in</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Direct marketing</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lliances and consortia</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ocial Travel Network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BENEFITS AND LIMITATIONS OF ONLINE TRAVEL SERVIC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ORPORATE TRAVEL</a:t>
            </a:r>
            <a:endParaRPr b="0" lang="en-US" sz="2600" spc="-1" strike="noStrike">
              <a:solidFill>
                <a:srgbClr val="000000"/>
              </a:solidFill>
              <a:latin typeface="Constantia"/>
            </a:endParaRPr>
          </a:p>
        </p:txBody>
      </p:sp>
      <p:sp>
        <p:nvSpPr>
          <p:cNvPr id="24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5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94577B28-32C6-48EB-A0C2-135FF2B98A5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Employment Placement </a:t>
            </a:r>
            <a:br>
              <a:rPr sz="4500"/>
            </a:br>
            <a:r>
              <a:rPr b="0" lang="en-US" sz="4500" spc="-1" strike="noStrike">
                <a:solidFill>
                  <a:srgbClr val="04617b"/>
                </a:solidFill>
                <a:latin typeface="Calibri"/>
              </a:rPr>
              <a:t>and the Job Market Online</a:t>
            </a:r>
            <a:endParaRPr b="0" lang="en-US" sz="45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ARTIES WHO USE THE INTERNET JOB MARKET</a:t>
            </a:r>
            <a:endParaRPr b="0" lang="en-US" sz="26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Job seekers</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Employers seeking employees</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lassified ads</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Job agencies</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Government agencies and institutions</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nline Job Markets on Social Network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Global Online Portals for Job Placemen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Virtual Job Fairs</a:t>
            </a:r>
            <a:endParaRPr b="0" lang="en-US" sz="2400" spc="-1" strike="noStrike">
              <a:solidFill>
                <a:srgbClr val="000000"/>
              </a:solidFill>
              <a:latin typeface="Constantia"/>
            </a:endParaRPr>
          </a:p>
        </p:txBody>
      </p:sp>
      <p:sp>
        <p:nvSpPr>
          <p:cNvPr id="25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5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186C6DFA-0C8D-4E84-96C8-395FE8D4FFE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
          <p:cNvPicPr/>
          <p:nvPr/>
        </p:nvPicPr>
        <p:blipFill>
          <a:blip r:embed="rId1"/>
          <a:stretch/>
        </p:blipFill>
        <p:spPr>
          <a:xfrm>
            <a:off x="990720" y="609480"/>
            <a:ext cx="7118280" cy="5510160"/>
          </a:xfrm>
          <a:prstGeom prst="rect">
            <a:avLst/>
          </a:prstGeom>
          <a:ln w="0">
            <a:noFill/>
          </a:ln>
        </p:spPr>
      </p:pic>
      <p:sp>
        <p:nvSpPr>
          <p:cNvPr id="256"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5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68566B05-A970-436F-A29E-37C3AEABE44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2" descr=""/>
          <p:cNvPicPr/>
          <p:nvPr/>
        </p:nvPicPr>
        <p:blipFill>
          <a:blip r:embed="rId1"/>
          <a:stretch/>
        </p:blipFill>
        <p:spPr>
          <a:xfrm>
            <a:off x="90360" y="1162080"/>
            <a:ext cx="9050400" cy="4781520"/>
          </a:xfrm>
          <a:prstGeom prst="rect">
            <a:avLst/>
          </a:prstGeom>
          <a:ln w="0">
            <a:noFill/>
          </a:ln>
        </p:spPr>
      </p:pic>
      <p:sp>
        <p:nvSpPr>
          <p:cNvPr id="259"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6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55F05A85-DC79-4829-AB2F-2C025CC3ECE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Real Estate, Insurance, </a:t>
            </a:r>
            <a:br>
              <a:rPr sz="4500"/>
            </a:br>
            <a:r>
              <a:rPr b="0" lang="en-US" sz="4500" spc="-1" strike="noStrike">
                <a:solidFill>
                  <a:srgbClr val="04617b"/>
                </a:solidFill>
                <a:latin typeface="Calibri"/>
              </a:rPr>
              <a:t>and Stock Trading Online</a:t>
            </a:r>
            <a:endParaRPr b="0" lang="en-US" sz="45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REAL ESTATE ONLIN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Zillow, Craigslist, and Other Web 2.0 Real Estate Service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NSURANCE ONLIN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NLINE STOCK TRADING</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Risk of Trading in an Online Stock Account</a:t>
            </a:r>
            <a:endParaRPr b="0" lang="en-US" sz="2400" spc="-1" strike="noStrike">
              <a:solidFill>
                <a:srgbClr val="000000"/>
              </a:solidFill>
              <a:latin typeface="Constantia"/>
            </a:endParaRPr>
          </a:p>
        </p:txBody>
      </p:sp>
      <p:sp>
        <p:nvSpPr>
          <p:cNvPr id="26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6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1C058796-9A3F-49EB-8645-EAF206B0B8A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6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094D2C6E-C6F7-4875-A9E5-C4B07FC9B31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67" name="Picture 5" descr=""/>
          <p:cNvPicPr/>
          <p:nvPr/>
        </p:nvPicPr>
        <p:blipFill>
          <a:blip r:embed="rId1"/>
          <a:stretch/>
        </p:blipFill>
        <p:spPr>
          <a:xfrm>
            <a:off x="1108080" y="685800"/>
            <a:ext cx="6831000" cy="5410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Banking and </a:t>
            </a:r>
            <a:br>
              <a:rPr sz="4500"/>
            </a:br>
            <a:r>
              <a:rPr b="0" lang="en-US" sz="4500" spc="-1" strike="noStrike">
                <a:solidFill>
                  <a:srgbClr val="04617b"/>
                </a:solidFill>
                <a:latin typeface="Calibri"/>
              </a:rPr>
              <a:t>Personal Finance Online</a:t>
            </a:r>
            <a:endParaRPr b="0" lang="en-US" sz="45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lectronic (online) banking or e-bank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Various banking activities conducted from home or the road using an Internet connection; also known as cyberbanking, virtual banking, online banking, and home banking</a:t>
            </a:r>
            <a:endParaRPr b="0" lang="en-US" sz="2600" spc="-1" strike="noStrike">
              <a:solidFill>
                <a:srgbClr val="000000"/>
              </a:solidFill>
              <a:latin typeface="Constantia"/>
            </a:endParaRPr>
          </a:p>
        </p:txBody>
      </p:sp>
      <p:sp>
        <p:nvSpPr>
          <p:cNvPr id="27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7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07FCE5D6-D23B-44FC-BE0B-8251C6CF746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arning Objectives</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fontScale="94000"/>
          </a:bodyPr>
          <a:p>
            <a:pPr marL="483480" indent="-4834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electronic retailing (e-tailing) and its characteristics.</a:t>
            </a:r>
            <a:endParaRPr b="0" lang="en-US" sz="2600" spc="-1" strike="noStrike">
              <a:solidFill>
                <a:srgbClr val="000000"/>
              </a:solidFill>
              <a:latin typeface="Constantia"/>
            </a:endParaRPr>
          </a:p>
          <a:p>
            <a:pPr marL="483480" indent="-4834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assify the primary e-tailing business models.</a:t>
            </a:r>
            <a:endParaRPr b="0" lang="en-US" sz="2600" spc="-1" strike="noStrike">
              <a:solidFill>
                <a:srgbClr val="000000"/>
              </a:solidFill>
              <a:latin typeface="Constantia"/>
            </a:endParaRPr>
          </a:p>
          <a:p>
            <a:pPr marL="483480" indent="-4834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how online travel and tourism services operate and their impact on the industry.</a:t>
            </a:r>
            <a:endParaRPr b="0" lang="en-US" sz="2600" spc="-1" strike="noStrike">
              <a:solidFill>
                <a:srgbClr val="000000"/>
              </a:solidFill>
              <a:latin typeface="Constantia"/>
            </a:endParaRPr>
          </a:p>
          <a:p>
            <a:pPr marL="483480" indent="-4834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scuss the online employment market, including its participants, benefits, and limitations.</a:t>
            </a:r>
            <a:endParaRPr b="0" lang="en-US" sz="2600" spc="-1" strike="noStrike">
              <a:solidFill>
                <a:srgbClr val="000000"/>
              </a:solidFill>
              <a:latin typeface="Constantia"/>
            </a:endParaRPr>
          </a:p>
          <a:p>
            <a:pPr marL="483480" indent="-4834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online real estate services.</a:t>
            </a:r>
            <a:endParaRPr b="0" lang="en-US" sz="2600" spc="-1" strike="noStrike">
              <a:solidFill>
                <a:srgbClr val="000000"/>
              </a:solidFill>
              <a:latin typeface="Constantia"/>
            </a:endParaRPr>
          </a:p>
          <a:p>
            <a:pPr marL="483480" indent="-4834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scuss online stock-trading services.</a:t>
            </a:r>
            <a:endParaRPr b="0" lang="en-US" sz="2600" spc="-1" strike="noStrike">
              <a:solidFill>
                <a:srgbClr val="000000"/>
              </a:solidFill>
              <a:latin typeface="Constantia"/>
            </a:endParaRPr>
          </a:p>
        </p:txBody>
      </p:sp>
      <p:sp>
        <p:nvSpPr>
          <p:cNvPr id="206"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0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BFFDF65A-E88A-4D8D-BAAE-3F849826D0F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Banking and </a:t>
            </a:r>
            <a:br>
              <a:rPr sz="4500"/>
            </a:br>
            <a:r>
              <a:rPr b="0" lang="en-US" sz="4500" spc="-1" strike="noStrike">
                <a:solidFill>
                  <a:srgbClr val="04617b"/>
                </a:solidFill>
                <a:latin typeface="Calibri"/>
              </a:rPr>
              <a:t>Personal Finance Online</a:t>
            </a:r>
            <a:endParaRPr b="0" lang="en-US" sz="45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HOME BANKING CAPABILITI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VIRTUAL BANK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NTERNATIONAL AND MULTIPLE-CURRENCY BANKING</a:t>
            </a:r>
            <a:endParaRPr b="0" lang="en-US" sz="2600" spc="-1" strike="noStrike">
              <a:solidFill>
                <a:srgbClr val="000000"/>
              </a:solidFill>
              <a:latin typeface="Constantia"/>
            </a:endParaRPr>
          </a:p>
        </p:txBody>
      </p:sp>
      <p:sp>
        <p:nvSpPr>
          <p:cNvPr id="274"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7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DA338672-4AF5-4D7A-B5FA-ACF730DA403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Banking and </a:t>
            </a:r>
            <a:br>
              <a:rPr sz="4500"/>
            </a:br>
            <a:r>
              <a:rPr b="0" lang="en-US" sz="4500" spc="-1" strike="noStrike">
                <a:solidFill>
                  <a:srgbClr val="04617b"/>
                </a:solidFill>
                <a:latin typeface="Calibri"/>
              </a:rPr>
              <a:t>Personal Finance Online</a:t>
            </a:r>
            <a:endParaRPr b="0" lang="en-US" sz="45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NLINE FINANCIAL TRANSACTION IMPLEMENTATION ISSU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ecuring Financial Transactio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maging System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ees Online Versus Fees for Offline Servic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isk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NLINE BILLING AND BILL PAYING</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axe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7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6A219CBF-7590-4AA3-9ABF-AC346D637E3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4617b"/>
                </a:solidFill>
                <a:latin typeface="Calibri"/>
              </a:rPr>
              <a:t>On-Demand Delivery of Products, </a:t>
            </a:r>
            <a:br>
              <a:rPr sz="3800"/>
            </a:br>
            <a:r>
              <a:rPr b="0" lang="en-US" sz="3800" spc="-1" strike="noStrike">
                <a:solidFill>
                  <a:srgbClr val="04617b"/>
                </a:solidFill>
                <a:latin typeface="Calibri"/>
              </a:rPr>
              <a:t>Digital Items, Entertainment, and Gaming</a:t>
            </a:r>
            <a:endParaRPr b="0" lang="en-US" sz="38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N-DEMAND DELIVERY OF PRODUCT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grocer</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grocer that takes orders online and provides deliveries on a daily or other regular schedule or within a very short period of tim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n-demand delivery service</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Express delivery made fairly quickly after an online order is received</a:t>
            </a:r>
            <a:endParaRPr b="0" lang="en-US" sz="2400" spc="-1" strike="noStrike">
              <a:solidFill>
                <a:srgbClr val="000000"/>
              </a:solidFill>
              <a:latin typeface="Constantia"/>
            </a:endParaRPr>
          </a:p>
        </p:txBody>
      </p:sp>
      <p:sp>
        <p:nvSpPr>
          <p:cNvPr id="282"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8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53362D28-C9AF-45BB-8C3E-A42548A7A02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4617b"/>
                </a:solidFill>
                <a:latin typeface="Calibri"/>
              </a:rPr>
              <a:t>On-Demand Delivery of Products, </a:t>
            </a:r>
            <a:br>
              <a:rPr sz="3800"/>
            </a:br>
            <a:r>
              <a:rPr b="0" lang="en-US" sz="3800" spc="-1" strike="noStrike">
                <a:solidFill>
                  <a:srgbClr val="04617b"/>
                </a:solidFill>
                <a:latin typeface="Calibri"/>
              </a:rPr>
              <a:t>Digital Items, Entertainment, and Gaming</a:t>
            </a:r>
            <a:endParaRPr b="0" lang="en-US" sz="38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NLINE DELIVERY OF DIGITAL PRODUCTS, ENTERTAINMENT, AND MEDI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NLINE ENTERTAINMENT</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dult Entertainmen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ternet Gaming</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nline Dating Services</a:t>
            </a:r>
            <a:endParaRPr b="0" lang="en-US" sz="2400" spc="-1" strike="noStrike">
              <a:solidFill>
                <a:srgbClr val="000000"/>
              </a:solidFill>
              <a:latin typeface="Constantia"/>
            </a:endParaRPr>
          </a:p>
        </p:txBody>
      </p:sp>
      <p:sp>
        <p:nvSpPr>
          <p:cNvPr id="286"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8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7B622461-EFE9-45A7-AAB6-7718F27E6A5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Online Purchasing-Decision Aids</a:t>
            </a:r>
            <a:endParaRPr b="0" lang="en-US" sz="45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hopping portal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Gateways to webstores and e-malls; may be comprehensive or niche oriented</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Helping Communitie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9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7D049139-2369-4B46-BBFC-167913D3803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Online Purchasing-Decision Aids</a:t>
            </a:r>
            <a:endParaRPr b="0" lang="en-US" sz="45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RICE AND QUALITY COMPARISON BY SHOPBOT SOFTWARE AGENT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hopping robots (shopping agents or shopbots)</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ools that scout the Web on behalf of consumers who specify search criteri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Google Commerce Search 2.0</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t>
            </a:r>
            <a:r>
              <a:rPr b="1" lang="en-US" sz="2400" spc="-1" strike="noStrike">
                <a:solidFill>
                  <a:srgbClr val="000000"/>
                </a:solidFill>
                <a:latin typeface="Constantia"/>
              </a:rPr>
              <a:t>Spy” Servic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Wireless Shopping Comparisons</a:t>
            </a:r>
            <a:endParaRPr b="0" lang="en-US" sz="2400" spc="-1" strike="noStrike">
              <a:solidFill>
                <a:srgbClr val="000000"/>
              </a:solidFill>
              <a:latin typeface="Constantia"/>
            </a:endParaRPr>
          </a:p>
        </p:txBody>
      </p:sp>
      <p:sp>
        <p:nvSpPr>
          <p:cNvPr id="294"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9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FE3B3094-D42A-49E6-9666-7BCA8B137C9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Online Purchasing-Decision Aids</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BUSINESS RATINGS SIT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ecommendations from Other Shoppers and Friend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referral economy</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The effect upon sales of consumers receiving a referral or recommendation from other consumers.</a:t>
            </a:r>
            <a:endParaRPr b="0" lang="en-US" sz="21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RUST VERIFICATION SIT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THER SHOPPING TOOL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Yelp</a:t>
            </a:r>
            <a:endParaRPr b="0" lang="en-US" sz="2400" spc="-1" strike="noStrike">
              <a:solidFill>
                <a:srgbClr val="000000"/>
              </a:solidFill>
              <a:latin typeface="Constantia"/>
            </a:endParaRPr>
          </a:p>
        </p:txBody>
      </p:sp>
      <p:sp>
        <p:nvSpPr>
          <p:cNvPr id="29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9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380CD83B-2384-4853-8512-E7CE86BDC70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Issues In E-Tailing </a:t>
            </a:r>
            <a:br>
              <a:rPr sz="4500"/>
            </a:br>
            <a:r>
              <a:rPr b="0" lang="en-US" sz="4500" spc="-1" strike="noStrike">
                <a:solidFill>
                  <a:srgbClr val="04617b"/>
                </a:solidFill>
                <a:latin typeface="Calibri"/>
              </a:rPr>
              <a:t>and Lessons Learned</a:t>
            </a:r>
            <a:endParaRPr b="0" lang="en-US" sz="4500" spc="-1" strike="noStrike">
              <a:solidFill>
                <a:srgbClr val="04617b"/>
              </a:solidFill>
              <a:latin typeface="Calibri"/>
            </a:endParaRPr>
          </a:p>
        </p:txBody>
      </p:sp>
      <p:sp>
        <p:nvSpPr>
          <p:cNvPr id="30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disintermediatio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 removal of organizations or business process layers responsible for certain intermediary steps in a given supply chai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reintermediatio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 process whereby intermediaries (either new ones or those that had been disintermediated) take on new intermediary roles</a:t>
            </a:r>
            <a:endParaRPr b="0" lang="en-US" sz="2600" spc="-1" strike="noStrike">
              <a:solidFill>
                <a:srgbClr val="000000"/>
              </a:solidFill>
              <a:latin typeface="Constantia"/>
            </a:endParaRPr>
          </a:p>
        </p:txBody>
      </p:sp>
      <p:sp>
        <p:nvSpPr>
          <p:cNvPr id="302"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0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DBBB922C-C0D0-462F-953F-F4F7225E03D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2" descr=""/>
          <p:cNvPicPr/>
          <p:nvPr/>
        </p:nvPicPr>
        <p:blipFill>
          <a:blip r:embed="rId1"/>
          <a:stretch/>
        </p:blipFill>
        <p:spPr>
          <a:xfrm>
            <a:off x="533520" y="609480"/>
            <a:ext cx="7915320" cy="5562720"/>
          </a:xfrm>
          <a:prstGeom prst="rect">
            <a:avLst/>
          </a:prstGeom>
          <a:ln w="0">
            <a:noFill/>
          </a:ln>
        </p:spPr>
      </p:pic>
      <p:sp>
        <p:nvSpPr>
          <p:cNvPr id="305"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0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8F1087BE-839A-494C-9F56-7DE3FDBBB7E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Issues In E-Tailing </a:t>
            </a:r>
            <a:br>
              <a:rPr sz="4500"/>
            </a:br>
            <a:r>
              <a:rPr b="0" lang="en-US" sz="4500" spc="-1" strike="noStrike">
                <a:solidFill>
                  <a:srgbClr val="04617b"/>
                </a:solidFill>
                <a:latin typeface="Calibri"/>
              </a:rPr>
              <a:t>and Lessons Learned</a:t>
            </a:r>
            <a:endParaRPr b="0" lang="en-US" sz="45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hannel confli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Situation in which an online marketing channel upsets the traditional channels due to real or perceived damage from competition</a:t>
            </a:r>
            <a:endParaRPr b="0" lang="en-US" sz="2600" spc="-1" strike="noStrike">
              <a:solidFill>
                <a:srgbClr val="000000"/>
              </a:solidFill>
              <a:latin typeface="Constantia"/>
            </a:endParaRPr>
          </a:p>
        </p:txBody>
      </p:sp>
      <p:sp>
        <p:nvSpPr>
          <p:cNvPr id="30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1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2E770446-266D-4A4E-A89B-4E6D8466485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arning Objectives</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fontScale="93000"/>
          </a:bodyPr>
          <a:p>
            <a:pPr marL="478080" indent="-478080">
              <a:spcBef>
                <a:spcPts val="649"/>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scuss cyberbanking and online personal finance.</a:t>
            </a:r>
            <a:endParaRPr b="0" lang="en-US" sz="2600" spc="-1" strike="noStrike">
              <a:solidFill>
                <a:srgbClr val="000000"/>
              </a:solidFill>
              <a:latin typeface="Constantia"/>
            </a:endParaRPr>
          </a:p>
          <a:p>
            <a:pPr marL="478080" indent="-478080">
              <a:spcBef>
                <a:spcPts val="649"/>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on-demand delivery of groceries and similar perishable products and services related to them.</a:t>
            </a:r>
            <a:endParaRPr b="0" lang="en-US" sz="2600" spc="-1" strike="noStrike">
              <a:solidFill>
                <a:srgbClr val="000000"/>
              </a:solidFill>
              <a:latin typeface="Constantia"/>
            </a:endParaRPr>
          </a:p>
          <a:p>
            <a:pPr marL="478080" indent="-478080">
              <a:spcBef>
                <a:spcPts val="649"/>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the delivery of digital products and online entertainment.</a:t>
            </a:r>
            <a:endParaRPr b="0" lang="en-US" sz="2600" spc="-1" strike="noStrike">
              <a:solidFill>
                <a:srgbClr val="000000"/>
              </a:solidFill>
              <a:latin typeface="Constantia"/>
            </a:endParaRPr>
          </a:p>
          <a:p>
            <a:pPr marL="478080" indent="-478080">
              <a:spcBef>
                <a:spcPts val="649"/>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scuss various online consumer aids, including comparison-shopping aids.</a:t>
            </a:r>
            <a:endParaRPr b="0" lang="en-US" sz="2600" spc="-1" strike="noStrike">
              <a:solidFill>
                <a:srgbClr val="000000"/>
              </a:solidFill>
              <a:latin typeface="Constantia"/>
            </a:endParaRPr>
          </a:p>
          <a:p>
            <a:pPr marL="478080" indent="-478080">
              <a:spcBef>
                <a:spcPts val="649"/>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disintermediation and other B2C strategic issues.</a:t>
            </a:r>
            <a:endParaRPr b="0" lang="en-US" sz="2600" spc="-1" strike="noStrike">
              <a:solidFill>
                <a:srgbClr val="000000"/>
              </a:solidFill>
              <a:latin typeface="Constantia"/>
            </a:endParaRPr>
          </a:p>
        </p:txBody>
      </p:sp>
      <p:sp>
        <p:nvSpPr>
          <p:cNvPr id="21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F19ADF5F-9382-42A8-9416-DAB59985F7A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Issues In E-Tailing </a:t>
            </a:r>
            <a:br>
              <a:rPr sz="4500"/>
            </a:br>
            <a:r>
              <a:rPr b="0" lang="en-US" sz="4500" spc="-1" strike="noStrike">
                <a:solidFill>
                  <a:srgbClr val="04617b"/>
                </a:solidFill>
                <a:latin typeface="Calibri"/>
              </a:rPr>
              <a:t>and Lessons Learned</a:t>
            </a:r>
            <a:endParaRPr b="0" lang="en-US" sz="4500" spc="-1" strike="noStrike">
              <a:solidFill>
                <a:srgbClr val="04617b"/>
              </a:solidFill>
              <a:latin typeface="Calibri"/>
            </a:endParaRPr>
          </a:p>
        </p:txBody>
      </p:sp>
      <p:sp>
        <p:nvSpPr>
          <p:cNvPr id="31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OSSIBILITY OF A PRICE CONFLICT AND DETERMINING THE RIGHT PRICE BY SELLE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RODUCT AND SERVICE CUSTOMIZATION AND PERSONALIZ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NLINE COMPETI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FRAUD AND OTHER ILLEGAL ACTIVITI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8CB57D52-5922-4294-9F1C-D8CBF3AAE2A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Issues In E-Tailing </a:t>
            </a:r>
            <a:br>
              <a:rPr sz="4500"/>
            </a:br>
            <a:r>
              <a:rPr b="0" lang="en-US" sz="4500" spc="-1" strike="noStrike">
                <a:solidFill>
                  <a:srgbClr val="04617b"/>
                </a:solidFill>
                <a:latin typeface="Calibri"/>
              </a:rPr>
              <a:t>and Lessons Learned</a:t>
            </a:r>
            <a:endParaRPr b="0" lang="en-US" sz="4500" spc="-1" strike="noStrike">
              <a:solidFill>
                <a:srgbClr val="04617b"/>
              </a:solidFill>
              <a:latin typeface="Calibri"/>
            </a:endParaRPr>
          </a:p>
        </p:txBody>
      </p:sp>
      <p:sp>
        <p:nvSpPr>
          <p:cNvPr id="31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LESSONS LEARNED FROM FAILURES AND LACK OF SUCCESS OF E-TAILER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peak with one voic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Leverage the multichannel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mpower the customer</a:t>
            </a:r>
            <a:endParaRPr b="0" lang="en-US" sz="2400" spc="-1" strike="noStrike">
              <a:solidFill>
                <a:srgbClr val="000000"/>
              </a:solidFill>
              <a:latin typeface="Constantia"/>
            </a:endParaRPr>
          </a:p>
        </p:txBody>
      </p:sp>
      <p:sp>
        <p:nvSpPr>
          <p:cNvPr id="317"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1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06B2A8BF-4268-4314-B018-A072FBA06B8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Managerial Issues</a:t>
            </a:r>
            <a:endParaRPr b="0" lang="en-US" sz="4500" spc="-1" strike="noStrike">
              <a:solidFill>
                <a:srgbClr val="04617b"/>
              </a:solidFill>
              <a:latin typeface="Calibri"/>
            </a:endParaRPr>
          </a:p>
        </p:txBody>
      </p:sp>
      <p:sp>
        <p:nvSpPr>
          <p:cNvPr id="320" name=""/>
          <p:cNvSpPr txBox="1"/>
          <p:nvPr/>
        </p:nvSpPr>
        <p:spPr>
          <a:xfrm>
            <a:off x="457200" y="1934640"/>
            <a:ext cx="8229600" cy="4389480"/>
          </a:xfrm>
          <a:prstGeom prst="rect">
            <a:avLst/>
          </a:prstGeom>
          <a:noFill/>
          <a:ln w="0">
            <a:noFill/>
          </a:ln>
        </p:spPr>
        <p:txBody>
          <a:bodyPr anchor="t">
            <a:normAutofit fontScale="97000"/>
          </a:bodyPr>
          <a:p>
            <a:pPr marL="498960" indent="-498960">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are the limitations of e-tailing? Where is e-tailing going?</a:t>
            </a:r>
            <a:endParaRPr b="0" lang="en-US" sz="2600" spc="-1" strike="noStrike">
              <a:solidFill>
                <a:srgbClr val="000000"/>
              </a:solidFill>
              <a:latin typeface="Constantia"/>
            </a:endParaRPr>
          </a:p>
          <a:p>
            <a:pPr marL="498960" indent="-498960">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should we introduce wireless shopping?</a:t>
            </a:r>
            <a:endParaRPr b="0" lang="en-US" sz="2600" spc="-1" strike="noStrike">
              <a:solidFill>
                <a:srgbClr val="000000"/>
              </a:solidFill>
              <a:latin typeface="Constantia"/>
            </a:endParaRPr>
          </a:p>
          <a:p>
            <a:pPr marL="498960" indent="-498960">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o we have ethics and privacy guidelines?</a:t>
            </a:r>
            <a:endParaRPr b="0" lang="en-US" sz="2600" spc="-1" strike="noStrike">
              <a:solidFill>
                <a:srgbClr val="000000"/>
              </a:solidFill>
              <a:latin typeface="Constantia"/>
            </a:endParaRPr>
          </a:p>
          <a:p>
            <a:pPr marL="498960" indent="-498960">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will intermediaries act in cyberspace?</a:t>
            </a:r>
            <a:endParaRPr b="0" lang="en-US" sz="2600" spc="-1" strike="noStrike">
              <a:solidFill>
                <a:srgbClr val="000000"/>
              </a:solidFill>
              <a:latin typeface="Constantia"/>
            </a:endParaRPr>
          </a:p>
          <a:p>
            <a:pPr marL="498960" indent="-498960">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hould we try to capitalize on social networks?</a:t>
            </a:r>
            <a:endParaRPr b="0" lang="en-US" sz="2600" spc="-1" strike="noStrike">
              <a:solidFill>
                <a:srgbClr val="000000"/>
              </a:solidFill>
              <a:latin typeface="Constantia"/>
            </a:endParaRPr>
          </a:p>
          <a:p>
            <a:pPr marL="498960" indent="-498960">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should we manage multichannel marketing to avoid channel and/or price conflicts?</a:t>
            </a:r>
            <a:endParaRPr b="0" lang="en-US" sz="2600" spc="-1" strike="noStrike">
              <a:solidFill>
                <a:srgbClr val="000000"/>
              </a:solidFill>
              <a:latin typeface="Constantia"/>
            </a:endParaRPr>
          </a:p>
          <a:p>
            <a:pPr marL="498960" indent="-498960">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are the major potential limitations of the growth of B2C EC?</a:t>
            </a:r>
            <a:endParaRPr b="0" lang="en-US" sz="2600" spc="-1" strike="noStrike">
              <a:solidFill>
                <a:srgbClr val="000000"/>
              </a:solidFill>
              <a:latin typeface="Constantia"/>
            </a:endParaRPr>
          </a:p>
        </p:txBody>
      </p:sp>
      <p:sp>
        <p:nvSpPr>
          <p:cNvPr id="32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2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2F3078F3-0D89-4BAD-B03A-24F45D9A4ED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ummary</a:t>
            </a:r>
            <a:endParaRPr b="0" lang="en-US" sz="4500" spc="-1" strike="noStrike">
              <a:solidFill>
                <a:srgbClr val="04617b"/>
              </a:solidFill>
              <a:latin typeface="Calibri"/>
            </a:endParaRPr>
          </a:p>
        </p:txBody>
      </p:sp>
      <p:sp>
        <p:nvSpPr>
          <p:cNvPr id="324" name=""/>
          <p:cNvSpPr txBox="1"/>
          <p:nvPr/>
        </p:nvSpPr>
        <p:spPr>
          <a:xfrm>
            <a:off x="457200" y="1934640"/>
            <a:ext cx="8229600" cy="438948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scope and characteristics of e-tailing</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assify e-tailing business model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online travel/tourism services operate</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online job market and its benefit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electronic real estate marketplace</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line trading of stocks and bonds</a:t>
            </a:r>
            <a:endParaRPr b="0" lang="en-US" sz="2600" spc="-1" strike="noStrike">
              <a:solidFill>
                <a:srgbClr val="000000"/>
              </a:solidFill>
              <a:latin typeface="Constantia"/>
            </a:endParaRPr>
          </a:p>
        </p:txBody>
      </p:sp>
      <p:sp>
        <p:nvSpPr>
          <p:cNvPr id="32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2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AAC1118D-952F-42D6-ACCF-697BA13B2A6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ummary</a:t>
            </a:r>
            <a:endParaRPr b="0" lang="en-US" sz="4500" spc="-1" strike="noStrike">
              <a:solidFill>
                <a:srgbClr val="04617b"/>
              </a:solidFill>
              <a:latin typeface="Calibri"/>
            </a:endParaRPr>
          </a:p>
        </p:txBody>
      </p:sp>
      <p:sp>
        <p:nvSpPr>
          <p:cNvPr id="328" name=""/>
          <p:cNvSpPr txBox="1"/>
          <p:nvPr/>
        </p:nvSpPr>
        <p:spPr>
          <a:xfrm>
            <a:off x="457200" y="1934640"/>
            <a:ext cx="8229600" cy="438948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yberbanking and personal finance</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demand delivery service</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livery of digital product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iding consumer purchase decision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sintermediation and other B2C strategic issues</a:t>
            </a:r>
            <a:endParaRPr b="0" lang="en-US" sz="2600" spc="-1" strike="noStrike">
              <a:solidFill>
                <a:srgbClr val="000000"/>
              </a:solidFill>
              <a:latin typeface="Constantia"/>
            </a:endParaRPr>
          </a:p>
        </p:txBody>
      </p:sp>
      <p:sp>
        <p:nvSpPr>
          <p:cNvPr id="32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3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51BA44BE-C343-42AA-B087-0EC603E81F8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2" name="Picture 3" descr="cid:3287383400_2177562"/>
          <p:cNvPicPr/>
          <p:nvPr/>
        </p:nvPicPr>
        <p:blipFill>
          <a:blip r:embed="rId2"/>
          <a:stretch/>
        </p:blipFill>
        <p:spPr>
          <a:xfrm>
            <a:off x="762120" y="1522440"/>
            <a:ext cx="7242120" cy="2363760"/>
          </a:xfrm>
          <a:prstGeom prst="rect">
            <a:avLst/>
          </a:prstGeom>
          <a:ln w="9360">
            <a:solidFill>
              <a:srgbClr val="ffffff"/>
            </a:solidFill>
            <a:miter/>
          </a:ln>
        </p:spPr>
      </p:pic>
      <p:sp>
        <p:nvSpPr>
          <p:cNvPr id="333" name="Rectangle 4"/>
          <p:cNvSpPr/>
          <p:nvPr/>
        </p:nvSpPr>
        <p:spPr>
          <a:xfrm>
            <a:off x="685800" y="403668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334" name="Rectangle 5"/>
          <p:cNvSpPr/>
          <p:nvPr/>
        </p:nvSpPr>
        <p:spPr>
          <a:xfrm>
            <a:off x="762120" y="5383080"/>
            <a:ext cx="78454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3E1E787-7E69-4534-A46A-E048E4F7E086}" type="slidenum">
              <a:t>35</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Internet Marketing </a:t>
            </a:r>
            <a:br>
              <a:rPr sz="4500"/>
            </a:br>
            <a:r>
              <a:rPr b="0" lang="en-US" sz="4500" spc="-1" strike="noStrike">
                <a:solidFill>
                  <a:srgbClr val="04617b"/>
                </a:solidFill>
                <a:latin typeface="Calibri"/>
              </a:rPr>
              <a:t>and B2C Electronic Retailing</a:t>
            </a:r>
            <a:endParaRPr b="0" lang="en-US" sz="45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lectronic retailing (e-tail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Retailing conducted online, over the Interne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tailer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Retailers who sell over the Interne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IZE AND GROWTH OF THE B2C MARKE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WHAT SELLS WELL ON THE INTERNET</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evelopments in E-Commerce</a:t>
            </a:r>
            <a:endParaRPr b="0" lang="en-US" sz="2400" spc="-1" strike="noStrike">
              <a:solidFill>
                <a:srgbClr val="000000"/>
              </a:solidFill>
              <a:latin typeface="Constantia"/>
            </a:endParaRPr>
          </a:p>
        </p:txBody>
      </p:sp>
      <p:sp>
        <p:nvSpPr>
          <p:cNvPr id="214"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1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6889950E-75DA-4E0A-A3E3-1AEECF383A9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Internet Marketing </a:t>
            </a:r>
            <a:br>
              <a:rPr sz="4500"/>
            </a:br>
            <a:r>
              <a:rPr b="0" lang="en-US" sz="4500" spc="-1" strike="noStrike">
                <a:solidFill>
                  <a:srgbClr val="04617b"/>
                </a:solidFill>
                <a:latin typeface="Calibri"/>
              </a:rPr>
              <a:t>and B2C Electronic Retailing</a:t>
            </a:r>
            <a:endParaRPr b="0" lang="en-US" sz="45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HARACTERISTICS AND ADVANTAGES OF SUCCESSFUL E-TAILING</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dvantages of E-Tailing</a:t>
            </a:r>
            <a:endParaRPr b="0" lang="en-US" sz="2400" spc="-1" strike="noStrike">
              <a:solidFill>
                <a:srgbClr val="000000"/>
              </a:solidFill>
              <a:latin typeface="Constantia"/>
            </a:endParaRPr>
          </a:p>
        </p:txBody>
      </p:sp>
      <p:sp>
        <p:nvSpPr>
          <p:cNvPr id="21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1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62C0F905-5F7F-48BA-B81B-4F4D3CE5929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685800" y="457200"/>
            <a:ext cx="7637400" cy="5740560"/>
          </a:xfrm>
          <a:prstGeom prst="rect">
            <a:avLst/>
          </a:prstGeom>
          <a:ln w="0">
            <a:noFill/>
          </a:ln>
        </p:spPr>
      </p:pic>
      <p:sp>
        <p:nvSpPr>
          <p:cNvPr id="221"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2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43F6AB3F-9206-4F50-8625-2C4CECC24C2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Tailing Business Models</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LASSIFICATION OF MODELS BY DISTRIBUTION CHANNEL</a:t>
            </a:r>
            <a:endParaRPr b="0" lang="en-US" sz="24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Direct marketing by mail-order retailers that go online</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Direct marketing by manufacturers</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Pure-play e-tailers</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Click-and-mortar retailers</a:t>
            </a:r>
            <a:endParaRPr b="0" lang="en-US" sz="2200" spc="-1" strike="noStrike">
              <a:solidFill>
                <a:srgbClr val="000000"/>
              </a:solidFill>
              <a:latin typeface="Constantia"/>
            </a:endParaRPr>
          </a:p>
          <a:p>
            <a:pPr lvl="2" marL="896040" indent="-24120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nstantia"/>
              </a:rPr>
              <a:t>multichannel business model</a:t>
            </a:r>
            <a:endParaRPr b="0" lang="en-US" sz="1900" spc="-1" strike="noStrike">
              <a:solidFill>
                <a:srgbClr val="000000"/>
              </a:solidFill>
              <a:latin typeface="Constantia"/>
            </a:endParaRPr>
          </a:p>
          <a:p>
            <a:pPr lvl="2" marL="896040" indent="-241200">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	</a:t>
            </a:r>
            <a:r>
              <a:rPr b="0" lang="en-US" sz="1900" spc="-1" strike="noStrike">
                <a:solidFill>
                  <a:srgbClr val="000000"/>
                </a:solidFill>
                <a:latin typeface="Constantia"/>
              </a:rPr>
              <a:t>A business model where a company sells in multiple marketing channels simultaneously (e.g., both physical and online stores)</a:t>
            </a:r>
            <a:endParaRPr b="0" lang="en-US" sz="19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Internet (online) malls</a:t>
            </a:r>
            <a:endParaRPr b="0" lang="en-US" sz="2200" spc="-1" strike="noStrike">
              <a:solidFill>
                <a:srgbClr val="000000"/>
              </a:solidFill>
              <a:latin typeface="Constantia"/>
            </a:endParaRPr>
          </a:p>
        </p:txBody>
      </p:sp>
      <p:sp>
        <p:nvSpPr>
          <p:cNvPr id="22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2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33B4BB58-B573-41DD-B46B-8ECFD23955C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Tailing Business Models</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irect marketing</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Broadly, marketing that takes place without intermediaries between manufacturers and buyers; in the context of this book, marketing done online between any seller and buyer</a:t>
            </a:r>
            <a:endParaRPr b="0" lang="en-US" sz="2400" spc="-1" strike="noStrike">
              <a:solidFill>
                <a:srgbClr val="000000"/>
              </a:solidFill>
              <a:latin typeface="Constantia"/>
            </a:endParaRPr>
          </a:p>
        </p:txBody>
      </p:sp>
      <p:sp>
        <p:nvSpPr>
          <p:cNvPr id="22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3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D46E26CB-3895-493E-AF8F-D30CD80F2D1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Tailing Business Models</a:t>
            </a:r>
            <a:endParaRPr b="0" lang="en-US" sz="50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fontScale="95000"/>
          </a:bodyPr>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irect Sales by Manufacturers</a:t>
            </a:r>
            <a:endParaRPr b="0" lang="en-US" sz="2400" spc="-1" strike="noStrike">
              <a:solidFill>
                <a:srgbClr val="000000"/>
              </a:solidFill>
              <a:latin typeface="Constantia"/>
            </a:endParaRPr>
          </a:p>
          <a:p>
            <a:pPr lvl="1" marL="607680" indent="-233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r>
              <a:rPr b="1" lang="en-US" sz="2400" spc="-1" strike="noStrike">
                <a:solidFill>
                  <a:srgbClr val="000000"/>
                </a:solidFill>
                <a:latin typeface="Constantia"/>
              </a:rPr>
              <a:t>virtual (pure-play) e-tailers</a:t>
            </a:r>
            <a:endParaRPr b="0" lang="en-US" sz="2400" spc="-1" strike="noStrike">
              <a:solidFill>
                <a:srgbClr val="000000"/>
              </a:solidFill>
              <a:latin typeface="Constantia"/>
            </a:endParaRPr>
          </a:p>
          <a:p>
            <a:pPr lvl="1" marL="607680" indent="-233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Firms that sell directly to consumers over the Internet without maintaining a physical sales channel</a:t>
            </a:r>
            <a:endParaRPr b="0" lang="en-US" sz="24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lick-and-mortar retailers</a:t>
            </a:r>
            <a:endParaRPr b="0" lang="en-US" sz="2400" spc="-1" strike="noStrike">
              <a:solidFill>
                <a:srgbClr val="000000"/>
              </a:solidFill>
              <a:latin typeface="Constantia"/>
            </a:endParaRPr>
          </a:p>
          <a:p>
            <a:pPr lvl="1" marL="607680" indent="-233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Brick-and-mortar retailers that offer a transactional website from which to conduct business</a:t>
            </a:r>
            <a:endParaRPr b="0" lang="en-US" sz="24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rick-and-mortar retailers</a:t>
            </a:r>
            <a:endParaRPr b="0" lang="en-US" sz="2400" spc="-1" strike="noStrike">
              <a:solidFill>
                <a:srgbClr val="000000"/>
              </a:solidFill>
              <a:latin typeface="Constantia"/>
            </a:endParaRPr>
          </a:p>
          <a:p>
            <a:pPr lvl="1" marL="607680" indent="-233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Retailers who do business in the non-Internet, physical world in traditional brick-and-mortar stores</a:t>
            </a:r>
            <a:endParaRPr b="0" lang="en-US" sz="2400" spc="-1" strike="noStrike">
              <a:solidFill>
                <a:srgbClr val="000000"/>
              </a:solidFill>
              <a:latin typeface="Constantia"/>
            </a:endParaRPr>
          </a:p>
        </p:txBody>
      </p:sp>
      <p:sp>
        <p:nvSpPr>
          <p:cNvPr id="23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3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2774D4A3-AF33-42F1-89FC-6B5B3C23850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1T16:10:10Z</dcterms:created>
  <dc:creator>Judy</dc:creator>
  <dc:description/>
  <dc:language>en-US</dc:language>
  <cp:lastModifiedBy>ULOFTKE</cp:lastModifiedBy>
  <dcterms:modified xsi:type="dcterms:W3CDTF">2011-10-14T16:14:33Z</dcterms:modified>
  <cp:revision>44</cp:revision>
  <dc:subject/>
  <dc:title>Chapter 1</dc:title>
</cp:coreProperties>
</file>