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0901-F5ED-4F92-927F-931BCDE7657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D12D-DD78-47AE-9991-823FD3BAF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EDA9-B254-463F-9B0E-889B7955D0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0E44-9898-4855-AF45-03E783BA7A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3ECCE-A558-4F14-9504-03628A55E6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FFBF9-9CA8-48A7-8119-6E204CFFA1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5E028-565E-465E-80A7-530E29A26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2DD63-70B3-4E20-9DDB-B8C8725DAF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F6DED-E5C2-425B-A60A-87CA84F9C0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78A5-D76A-482D-A99E-FF9544BDA3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8E545-B0A9-4053-B0D4-35BEDB7FF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711E-94C7-42ED-AD89-33D7186F02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F9C1E-A8E6-417A-86E6-A579D4BFEE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DAF6-769A-47E6-B98B-D4FEBC6396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B029-22C7-465B-BD5D-6297352208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3A560-AA59-4A49-8353-F2957EF40B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8CC0-6681-4107-B4CB-C36C008E2B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23DEE-43FE-47AA-9570-7E58245961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403FE-9899-46C5-8CC2-C302E0536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CAC1B-F519-4326-B01C-637F8116F0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8EB6-ECA2-4C4F-A28B-F295EAFAD7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5A6A-6791-47B4-8C8C-E63B3DC9A9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42EEE-ACFA-44EC-844D-B84B1674EF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CA903-747A-4D28-A0E0-C66F325713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12E6A-19D1-4170-A0C0-6CEF5BD886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0547-22BC-4A71-9AA1-2BC3A52D06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BF473-6DF9-408D-9E32-6CC75BFD3A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C866F-47CA-4B57-A487-77F632FC23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7BCC-E9FA-4F82-A36F-F63F5AA03E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EFE1D-5FDD-45A5-9D99-C52016FB34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C71B-7B9E-49A5-A67A-58DE8680A8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D8BB-67CD-45C3-B2AA-57AEC84443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ED23C-F131-4821-8AE0-65E5CCE22E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A7007-AC42-404A-8E53-97915954B2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2BD33-BE19-41ED-9B07-52E1BC7C81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2B152-4FA2-4C16-AE33-0C7934013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5F582-66D8-4378-A5D7-93CC5F326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B1F0F-42B9-46F8-BEF2-CD0FCF672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04ECD-010E-41C7-ACD5-AD336ECE9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46B29E-322B-491A-8BAA-FE92EB780E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19E33-2DC5-40C2-BDBB-40FD07275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DFC43-EBFA-47C3-A124-711F6D64D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2517A-924C-499D-A54D-4D3BE53A4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3A339-D06A-4451-942A-813F1A227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96B4F-6145-4BA2-9C3A-6E575D2E0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CA34E-18CF-4B2B-A645-656C84F25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3E5C1-207C-46F3-ABA6-518350FE7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FFE8C-D08C-404A-B59A-CCD2CE2BC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61BA6-A0F7-4365-8DE0-2711D60FF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23A87-EA2E-4FFE-AC86-7298A2CC8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F5F50C-EE4F-4087-B393-29357AA013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10D354-93AE-4901-885F-18C286316D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75570C-BB7B-44A8-BAF7-BFF2F96CA4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678273-BE85-4A4E-A7A8-685A42F1A0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1353F3-B90A-42CF-AF16-4D3B2F103A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9FAE6F-B564-4941-90B1-5349ACF9D8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D03F94-CAB1-487D-B5E3-839B67F5B7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1FEE2-2748-4974-847C-04A4C4D0F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B4AE55-034A-40E0-AE0D-5FE495D727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D37AE4-2492-4321-A823-B8D2D6B279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1B0219-B7EE-4C9F-AD2B-92F7DA669D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A45A7D-A216-4918-820C-BCAAA8DA36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2629BB-1D97-4927-95FC-B1FC5DD04A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F87820-47B0-4A74-A70C-A6CB071A9D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659DC3-CBCD-4817-8A64-0F6CF22E06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CDE889-FA7E-43E4-B07E-B43EE33DB4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46B86E-F59F-4350-B3D6-38FA903C31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BE20C6-5958-42FC-B7B3-BFD2E8AF68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6517C-EBBB-4AF6-A959-7C2924FD8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F4292E-84EE-4877-92D4-A7B3943493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95F1B2-532D-43C4-9FE8-E94401CDC5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6B61AA-3F85-4EAE-868F-9B8F099C8E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325F41-2BEF-49D2-9248-D0535421C7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6B013D-F9DC-496A-B387-8C06976879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50AE5-E023-48D0-92EB-474558DED5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580DFD-9BC7-4671-AD21-5A3AEBD0EC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7D8B72-1BD4-46B0-902B-A3C35CFF66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C8FC86-BCA8-44F1-9C56-802D44D891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967B5-ABD9-4F82-AC49-B16265F4A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A18D6-8D8D-4C92-ABCF-30070EE3F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F4CF3-2F2B-4F4F-A560-651546CA1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C2D3C-543C-47A9-87BB-BEC2E409D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1B17F-FA37-4543-BDAB-B036BFF53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F41C-9F3E-438A-817C-64970BBF898C}"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B7DBAA49-9D6F-4D0C-A92B-EF8889A0732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4C9A-3427-4CAA-89F6-0589875BBDE3}"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B338-B6DF-4679-88F7-C4AEF0B419A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EA21-13C2-41BE-91B2-D1C4F7D1C252}"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5-</a:t>
            </a:r>
            <a:fld id="{89A23280-FAD2-491A-BCDA-6C445BA4D3C4}"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E0B22-677C-4345-9CFF-F5AF721895F3}"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D737E031-D62C-4801-B8A0-0530B209489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3"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304560" y="3228480"/>
            <a:ext cx="845820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novative EC Systems: From E-Government to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Learning, Collaborative Commerce, and C2C Commerc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Learning, E-Training, and E-Books</a:t>
            </a:r>
            <a:endParaRPr b="0" lang="en-US" sz="44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learn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online delivery of information for purposes of education, training, or knowledge manag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ENEFITS AND DRAWBACKS OF E-LEARNING</a:t>
            </a:r>
            <a:endParaRPr b="0" lang="en-US" sz="2600" spc="-1" strike="noStrike">
              <a:solidFill>
                <a:srgbClr val="000000"/>
              </a:solidFill>
              <a:latin typeface="Constantia"/>
            </a:endParaRPr>
          </a:p>
        </p:txBody>
      </p:sp>
      <p:sp>
        <p:nvSpPr>
          <p:cNvPr id="23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3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6A721DF8-2F8E-4FB2-AD6E-97684B42FBE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990720" y="685800"/>
            <a:ext cx="7021440" cy="5572080"/>
          </a:xfrm>
          <a:prstGeom prst="rect">
            <a:avLst/>
          </a:prstGeom>
          <a:ln w="0">
            <a:noFill/>
          </a:ln>
        </p:spPr>
      </p:pic>
      <p:sp>
        <p:nvSpPr>
          <p:cNvPr id="240"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82E5D056-A5FC-47AC-A2CB-AEB5F66F221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Learning, E-Training, and E-Books</a:t>
            </a:r>
            <a:endParaRPr b="0" lang="en-US" sz="44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istance learn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Formal education that takes place off campus, usually, but not always, through online resour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rtual university</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n online university from which students take classes from home or other offsite locations, usually via the Interne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novations in E-Learning</a:t>
            </a:r>
            <a:endParaRPr b="0" lang="en-US" sz="2400" spc="-1" strike="noStrike">
              <a:solidFill>
                <a:srgbClr val="000000"/>
              </a:solidFill>
              <a:latin typeface="Constantia"/>
            </a:endParaRPr>
          </a:p>
        </p:txBody>
      </p:sp>
      <p:sp>
        <p:nvSpPr>
          <p:cNvPr id="24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4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52587AF1-E5CC-43B1-94E7-E9111185367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Learning, E-Training, and E-Books</a:t>
            </a:r>
            <a:endParaRPr b="0" lang="en-US" sz="44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CORPORATE TRAIN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xamples of Corporate Trainin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ocial learn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Learning, training, and knowledge sharing in social networks and by using social software tools for learning</a:t>
            </a:r>
            <a:endParaRPr b="0" lang="en-US" sz="2600" spc="-1" strike="noStrike">
              <a:solidFill>
                <a:srgbClr val="000000"/>
              </a:solidFill>
              <a:latin typeface="Constantia"/>
            </a:endParaRPr>
          </a:p>
        </p:txBody>
      </p:sp>
      <p:sp>
        <p:nvSpPr>
          <p:cNvPr id="24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4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D245C160-2BA6-40D7-80E6-B094C206E5C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Learning, E-Training, and E-Books</a:t>
            </a:r>
            <a:endParaRPr b="0" lang="en-US" sz="4400" spc="-1" strike="noStrike">
              <a:solidFill>
                <a:srgbClr val="04617b"/>
              </a:solidFill>
              <a:latin typeface="Calibri"/>
            </a:endParaRPr>
          </a:p>
        </p:txBody>
      </p:sp>
      <p:sp>
        <p:nvSpPr>
          <p:cNvPr id="251" name=""/>
          <p:cNvSpPr txBox="1"/>
          <p:nvPr/>
        </p:nvSpPr>
        <p:spPr>
          <a:xfrm>
            <a:off x="457200" y="1935000"/>
            <a:ext cx="8229600" cy="46180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LEARNING IN VIRTUAL WORLDS AND SECOND LIF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VISUAL INTERACTIVE SIMULATI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earning on-demand</a:t>
            </a:r>
            <a:endParaRPr b="0" lang="en-US" sz="2400" spc="-1" strike="noStrike">
              <a:solidFill>
                <a:srgbClr val="000000"/>
              </a:solidFill>
              <a:latin typeface="Constanti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200" spc="-1" strike="noStrike">
                <a:solidFill>
                  <a:srgbClr val="000000"/>
                </a:solidFill>
                <a:latin typeface="Constantia"/>
              </a:rPr>
              <a:t>Learning provided to an employee while the work is being done (in terms of troubleshooting or performance support)</a:t>
            </a:r>
            <a:endParaRPr b="0" lang="en-US" sz="2200" spc="-1" strike="noStrike">
              <a:solidFill>
                <a:srgbClr val="000000"/>
              </a:solidFill>
              <a:latin typeface="Constanti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In a learning on-demand environment, courses, references, help files, documents, Webcasts, audios, videos, books, and presentations are all made available when and where a worker needs them.</a:t>
            </a:r>
            <a:endParaRPr b="0" lang="en-US" sz="2200" spc="-1" strike="noStrike">
              <a:solidFill>
                <a:srgbClr val="000000"/>
              </a:solidFill>
              <a:latin typeface="Constantia"/>
            </a:endParaRPr>
          </a:p>
        </p:txBody>
      </p:sp>
      <p:sp>
        <p:nvSpPr>
          <p:cNvPr id="25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5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7285AFA5-95EC-4C41-ADCE-E0B77C467D7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
          <p:cNvPicPr/>
          <p:nvPr/>
        </p:nvPicPr>
        <p:blipFill>
          <a:blip r:embed="rId1"/>
          <a:stretch/>
        </p:blipFill>
        <p:spPr>
          <a:xfrm>
            <a:off x="66600" y="1730520"/>
            <a:ext cx="8907480" cy="3867120"/>
          </a:xfrm>
          <a:prstGeom prst="rect">
            <a:avLst/>
          </a:prstGeom>
          <a:ln w="0">
            <a:noFill/>
          </a:ln>
        </p:spPr>
      </p:pic>
      <p:sp>
        <p:nvSpPr>
          <p:cNvPr id="255"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5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C9436196-2A06-43AF-A96B-888966ECBB7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Learning, E-Training, and E-Books</a:t>
            </a:r>
            <a:endParaRPr b="0" lang="en-US" sz="44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learning management system (LM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oftware applications for the administration, documentation, tracking, and reporting of training programs, classroom and online events, e-learning programs, and training cont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MPLEMENTING E-LEARNING AND E-TRAIN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me Representative E-Learning Tool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6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4A5945B2-076C-4CD6-9554-51860D91794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Learning, E-Training, and E-Books</a:t>
            </a:r>
            <a:endParaRPr b="0" lang="en-US" sz="44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lectronic book (e-book)</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book in digital form that can be read on a computer screen or on a special devic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evices for Reading E-Book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dvantages and Limitations of E-Books</a:t>
            </a:r>
            <a:endParaRPr b="0" lang="en-US" sz="2400" spc="-1" strike="noStrike">
              <a:solidFill>
                <a:srgbClr val="000000"/>
              </a:solidFill>
              <a:latin typeface="Constantia"/>
            </a:endParaRPr>
          </a:p>
        </p:txBody>
      </p:sp>
      <p:sp>
        <p:nvSpPr>
          <p:cNvPr id="26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6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7444BAF6-92C9-42F9-823A-12FE2943D2D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Knowledge Management, Advisory Systems, and Electronic Commerce</a:t>
            </a:r>
            <a:endParaRPr b="0" lang="en-US" sz="4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knowledge management (KM)</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process of capturing or creating knowledge, storing it, updating it constantly, disseminating it, and using it whenever necessar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KM TYPES AND ACTIVITIES</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Create knowledge</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Capture knowledge</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Refine knowledge</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Store knowledge</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Manage knowledge</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Disseminate knowledge</a:t>
            </a:r>
            <a:endParaRPr b="0" lang="en-US" sz="2200" spc="-1" strike="noStrike">
              <a:solidFill>
                <a:srgbClr val="000000"/>
              </a:solidFill>
              <a:latin typeface="Constantia"/>
            </a:endParaRPr>
          </a:p>
        </p:txBody>
      </p:sp>
      <p:sp>
        <p:nvSpPr>
          <p:cNvPr id="26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6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7DAD933A-091B-4570-BCC7-CF5C6616499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
          <p:cNvPicPr/>
          <p:nvPr/>
        </p:nvPicPr>
        <p:blipFill>
          <a:blip r:embed="rId1"/>
          <a:stretch/>
        </p:blipFill>
        <p:spPr>
          <a:xfrm>
            <a:off x="762120" y="838080"/>
            <a:ext cx="7592760" cy="5453280"/>
          </a:xfrm>
          <a:prstGeom prst="rect">
            <a:avLst/>
          </a:prstGeom>
          <a:ln w="0">
            <a:noFill/>
          </a:ln>
        </p:spPr>
      </p:pic>
      <p:sp>
        <p:nvSpPr>
          <p:cNvPr id="270"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7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22AD92F6-C96F-4433-B4E9-198CD624F43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various e-government initiativ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e-government activities and implementation issues including e-government 2.0 and m-government.</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e-learning, virtual universities, and e-training. </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e-books and their readers.</a:t>
            </a:r>
            <a:endParaRPr b="0" lang="en-US" sz="2600" spc="-1" strike="noStrike">
              <a:solidFill>
                <a:srgbClr val="000000"/>
              </a:solidFill>
              <a:latin typeface="Constantia"/>
            </a:endParaRPr>
          </a:p>
        </p:txBody>
      </p:sp>
      <p:sp>
        <p:nvSpPr>
          <p:cNvPr id="20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0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C0367E24-A41E-4908-B574-3BF0A67FD17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Knowledge Management, Advisory Systems, and Electronic Commerce</a:t>
            </a:r>
            <a:endParaRPr b="0" lang="en-US" sz="38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KNOWLEDGE SHAR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ftware Tools for Knowledge Sharin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OW IS KNOWLEDGE MANAGEMENT RELATED TO E-COMMER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KM AND SOCIAL NETWORK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Knowledge cre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Knowledge sharin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EPLOYING KM TECHNOLOGIES</a:t>
            </a:r>
            <a:endParaRPr b="0" lang="en-US" sz="2600" spc="-1" strike="noStrike">
              <a:solidFill>
                <a:srgbClr val="000000"/>
              </a:solidFill>
              <a:latin typeface="Constantia"/>
            </a:endParaRPr>
          </a:p>
        </p:txBody>
      </p:sp>
      <p:sp>
        <p:nvSpPr>
          <p:cNvPr id="27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7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DB39FF86-244A-47D0-B6E1-4E7B3985C94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Knowledge Management, Advisory Systems, and Electronic Commerce</a:t>
            </a:r>
            <a:endParaRPr b="0" lang="en-US" sz="38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ADVICE AND CONSULT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dical advi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agement consult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gal advi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uru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nancial advi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cial network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 advisory services</a:t>
            </a:r>
            <a:endParaRPr b="0" lang="en-US" sz="2400" spc="-1" strike="noStrike">
              <a:solidFill>
                <a:srgbClr val="000000"/>
              </a:solidFill>
              <a:latin typeface="Constantia"/>
            </a:endParaRPr>
          </a:p>
        </p:txBody>
      </p:sp>
      <p:sp>
        <p:nvSpPr>
          <p:cNvPr id="27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7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E0BED484-799B-4AD9-B50B-A5D900388AD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Knowledge Management, Advisory Systems, and Electronic Commerce</a:t>
            </a:r>
            <a:endParaRPr b="0" lang="en-US" sz="38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utomated question/answer (QA) system</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system that locates, extracts, and provides specific answers to user questions expressed in natural languag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ive Chat with Expert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8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FD384E70-5B8D-4124-A5ED-CF0620AFAD0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Knowledge Management, Advisory Systems, and Electronic Commerce</a:t>
            </a:r>
            <a:endParaRPr b="0" lang="en-US" sz="38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xpert location systems (E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Interactive computerized systems that help employees find and connect with colleagues who have expertise required for specific problems—whether they are across the country or across the room—in order to solve specific, critical business problems in second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eking Expertise in Social Networks</a:t>
            </a:r>
            <a:endParaRPr b="0" lang="en-US" sz="2400" spc="-1" strike="noStrike">
              <a:solidFill>
                <a:srgbClr val="000000"/>
              </a:solidFill>
              <a:latin typeface="Constantia"/>
            </a:endParaRPr>
          </a:p>
        </p:txBody>
      </p:sp>
      <p:sp>
        <p:nvSpPr>
          <p:cNvPr id="28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8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CA6A0832-0849-4405-ABF9-120097DC80B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1676520" y="457200"/>
            <a:ext cx="5611680" cy="5867280"/>
          </a:xfrm>
          <a:prstGeom prst="rect">
            <a:avLst/>
          </a:prstGeom>
          <a:ln w="0">
            <a:noFill/>
          </a:ln>
        </p:spPr>
      </p:pic>
      <p:sp>
        <p:nvSpPr>
          <p:cNvPr id="289"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9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62A07A77-BE33-4A05-B25C-719CCFA7014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ollaborative Commerce</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llaborative commerce (c-commerce)</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use of digital technologies that enable companies to collaboratively plan, design, develop, manage, and research products, services, and innovative EC application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llaboration hub (c-hub)</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central point of control for an e-market; a single c-hub, representing one e-market owner, can host multiple collaboration spaces (c-spaces) in which trading partners use c-enablers to exchange data with the c-hub</a:t>
            </a:r>
            <a:endParaRPr b="0" lang="en-US" sz="2600" spc="-1" strike="noStrike">
              <a:solidFill>
                <a:srgbClr val="000000"/>
              </a:solidFill>
              <a:latin typeface="Constantia"/>
            </a:endParaRPr>
          </a:p>
        </p:txBody>
      </p:sp>
      <p:sp>
        <p:nvSpPr>
          <p:cNvPr id="29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9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72B9D0F2-895E-4815-9FEE-1CC78621951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
          <p:cNvPicPr/>
          <p:nvPr/>
        </p:nvPicPr>
        <p:blipFill>
          <a:blip r:embed="rId1"/>
          <a:stretch/>
        </p:blipFill>
        <p:spPr>
          <a:xfrm>
            <a:off x="1066680" y="533520"/>
            <a:ext cx="6942240" cy="5790960"/>
          </a:xfrm>
          <a:prstGeom prst="rect">
            <a:avLst/>
          </a:prstGeom>
          <a:ln w="0">
            <a:noFill/>
          </a:ln>
        </p:spPr>
      </p:pic>
      <p:sp>
        <p:nvSpPr>
          <p:cNvPr id="296"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9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F5105F28-624D-442F-B2F2-0C3D6FC1BD7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ollaborative Commerce</a:t>
            </a:r>
            <a:endParaRPr b="0" lang="en-US" sz="45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EPRESENTATIVE EXAMPLES OF COLLABORATIVE COMMERC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endor-managed inventory (VMI)</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system in which retailers make their suppliers fully responsible for determining when to order and possibly how much to ord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tailer-Supplier Collaboration</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Example: Target</a:t>
            </a:r>
            <a:endParaRPr b="0" lang="en-US" sz="2100" spc="-1" strike="noStrike">
              <a:solidFill>
                <a:srgbClr val="000000"/>
              </a:solidFill>
              <a:latin typeface="Constantia"/>
            </a:endParaRPr>
          </a:p>
        </p:txBody>
      </p:sp>
      <p:sp>
        <p:nvSpPr>
          <p:cNvPr id="30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0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88764DA1-C423-4509-842A-BAAF1BBC4A9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
          <p:cNvPicPr/>
          <p:nvPr/>
        </p:nvPicPr>
        <p:blipFill>
          <a:blip r:embed="rId1"/>
          <a:stretch/>
        </p:blipFill>
        <p:spPr>
          <a:xfrm>
            <a:off x="1219320" y="533520"/>
            <a:ext cx="6600600" cy="5800680"/>
          </a:xfrm>
          <a:prstGeom prst="rect">
            <a:avLst/>
          </a:prstGeom>
          <a:ln w="0">
            <a:noFill/>
          </a:ln>
        </p:spPr>
      </p:pic>
      <p:sp>
        <p:nvSpPr>
          <p:cNvPr id="303"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0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331F74E2-207E-4640-B344-852CFD038AD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ollaborative Commerce</a:t>
            </a:r>
            <a:endParaRPr b="0" lang="en-US" sz="45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ducing Transportation and Inventory Cos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duction of Design Cycle Tim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duction of Product Development Tim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limination of Channel Conflict: Collaboration with Dealers and Retailer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MPLEMENTING C-COMMER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ARRIERS TO C-COMMERC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vercoming Barriers to Collaboration</a:t>
            </a:r>
            <a:endParaRPr b="0" lang="en-US" sz="2400" spc="-1" strike="noStrike">
              <a:solidFill>
                <a:srgbClr val="000000"/>
              </a:solidFill>
              <a:latin typeface="Constantia"/>
            </a:endParaRPr>
          </a:p>
        </p:txBody>
      </p:sp>
      <p:sp>
        <p:nvSpPr>
          <p:cNvPr id="30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0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50B46A8B-8DCF-4C24-AA0D-6A350625F35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knowledge management and dissemination as an e-busines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and discuss online advisory system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collaborative e-commerc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collaboration 2.0.</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C2C activities in e-commerce.</a:t>
            </a:r>
            <a:endParaRPr b="0" lang="en-US" sz="2600" spc="-1" strike="noStrike">
              <a:solidFill>
                <a:srgbClr val="000000"/>
              </a:solidFill>
              <a:latin typeface="Constantia"/>
            </a:endParaRPr>
          </a:p>
        </p:txBody>
      </p:sp>
      <p:sp>
        <p:nvSpPr>
          <p:cNvPr id="21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1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04AF26BB-FDC4-4FE1-9EB1-8653A015D0F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onsumer-to-Consumer </a:t>
            </a:r>
            <a:br>
              <a:rPr sz="4500"/>
            </a:br>
            <a:r>
              <a:rPr b="0" lang="en-US" sz="4500" spc="-1" strike="noStrike">
                <a:solidFill>
                  <a:srgbClr val="04617b"/>
                </a:solidFill>
                <a:latin typeface="Calibri"/>
              </a:rPr>
              <a:t>Electronic Commerce</a:t>
            </a:r>
            <a:endParaRPr b="0" lang="en-US" sz="45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nsumer-to-consumer (C2C) EC</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commerce model in which consumers sell directly to other consumer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COMMERCE: C2C APPLICATION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2C Auction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lassified Ad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ersonal Servic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ile-Sharing Utilities: Napster and Other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2C Activities in Social Networks and Trading Virtual Properties</a:t>
            </a:r>
            <a:endParaRPr b="0" lang="en-US" sz="2400" spc="-1" strike="noStrike">
              <a:solidFill>
                <a:srgbClr val="000000"/>
              </a:solidFill>
              <a:latin typeface="Constantia"/>
            </a:endParaRPr>
          </a:p>
        </p:txBody>
      </p:sp>
      <p:sp>
        <p:nvSpPr>
          <p:cNvPr id="31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1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A26D81A8-1030-4862-8AF2-32A5C3FB052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nagerial Issues</a:t>
            </a:r>
            <a:endParaRPr b="0" lang="en-US" sz="4500" spc="-1" strike="noStrike">
              <a:solidFill>
                <a:srgbClr val="04617b"/>
              </a:solidFill>
              <a:latin typeface="Calibri"/>
            </a:endParaRPr>
          </a:p>
        </p:txBody>
      </p:sp>
      <p:sp>
        <p:nvSpPr>
          <p:cNvPr id="314"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re the e-government opportuniti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we design the most cost-efficient government e-procurement system?</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we design the portfolio of e-learning knowledge sourc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we incorporate social networking–based learning and services in our organization?</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will the impact be of the e-book platform?</a:t>
            </a:r>
            <a:endParaRPr b="0" lang="en-US" sz="2600" spc="-1" strike="noStrike">
              <a:solidFill>
                <a:srgbClr val="000000"/>
              </a:solidFill>
              <a:latin typeface="Constantia"/>
            </a:endParaRPr>
          </a:p>
        </p:txBody>
      </p:sp>
      <p:sp>
        <p:nvSpPr>
          <p:cNvPr id="31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1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8E3B5F63-F19E-41AB-9E93-9EB6B1C74B0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nagerial Issues</a:t>
            </a:r>
            <a:endParaRPr b="0" lang="en-US" sz="4500" spc="-1" strike="noStrike">
              <a:solidFill>
                <a:srgbClr val="04617b"/>
              </a:solidFill>
              <a:latin typeface="Calibri"/>
            </a:endParaRPr>
          </a:p>
        </p:txBody>
      </p:sp>
      <p:sp>
        <p:nvSpPr>
          <p:cNvPr id="318"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we connect our expert location system and social networking initiativ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ifficult is it to introduce e-collaboration?</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we capitalize on C2C EC?</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much can be shared with business partner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o benefits from vendor-managed inventory?</a:t>
            </a:r>
            <a:endParaRPr b="0" lang="en-US" sz="2600" spc="-1" strike="noStrike">
              <a:solidFill>
                <a:srgbClr val="000000"/>
              </a:solidFill>
              <a:latin typeface="Constantia"/>
            </a:endParaRPr>
          </a:p>
        </p:txBody>
      </p:sp>
      <p:sp>
        <p:nvSpPr>
          <p:cNvPr id="31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2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D09DCB17-2DEC-4353-81E1-027E6FAD9EB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government activiti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lementing e-government to citizens, businesses, and its own operation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learning and training</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books and their reader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nowledge management and dissemination as an e-business</a:t>
            </a:r>
            <a:endParaRPr b="0" lang="en-US" sz="2600" spc="-1" strike="noStrike">
              <a:solidFill>
                <a:srgbClr val="000000"/>
              </a:solidFill>
              <a:latin typeface="Constantia"/>
            </a:endParaRPr>
          </a:p>
        </p:txBody>
      </p:sp>
      <p:sp>
        <p:nvSpPr>
          <p:cNvPr id="32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2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41E629BF-33CE-414A-AB64-B5EF1752BD5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326"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line advisory system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commerc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llaboration 2.0</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2C activities</a:t>
            </a:r>
            <a:endParaRPr b="0" lang="en-US" sz="2600" spc="-1" strike="noStrike">
              <a:solidFill>
                <a:srgbClr val="000000"/>
              </a:solidFill>
              <a:latin typeface="Constantia"/>
            </a:endParaRPr>
          </a:p>
        </p:txBody>
      </p:sp>
      <p:sp>
        <p:nvSpPr>
          <p:cNvPr id="32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2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1DC58515-BA7D-44BC-A306-F4D1C334FC6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0" name="Picture 3" descr="cid:3287383400_2177562"/>
          <p:cNvPicPr/>
          <p:nvPr/>
        </p:nvPicPr>
        <p:blipFill>
          <a:blip r:embed="rId2"/>
          <a:stretch/>
        </p:blipFill>
        <p:spPr>
          <a:xfrm>
            <a:off x="762120" y="1522440"/>
            <a:ext cx="7242120" cy="2363760"/>
          </a:xfrm>
          <a:prstGeom prst="rect">
            <a:avLst/>
          </a:prstGeom>
          <a:ln w="9360">
            <a:solidFill>
              <a:srgbClr val="ffffff"/>
            </a:solidFill>
            <a:miter/>
          </a:ln>
        </p:spPr>
      </p:pic>
      <p:sp>
        <p:nvSpPr>
          <p:cNvPr id="331" name="Rectangle 4"/>
          <p:cNvSpPr/>
          <p:nvPr/>
        </p:nvSpPr>
        <p:spPr>
          <a:xfrm>
            <a:off x="685800" y="403668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332" name="Rectangle 5"/>
          <p:cNvSpPr/>
          <p:nvPr/>
        </p:nvSpPr>
        <p:spPr>
          <a:xfrm>
            <a:off x="762120" y="5383080"/>
            <a:ext cx="78454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58DBAD3-7F23-4D3B-929D-7D1A575786A9}"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Government: An Overview</a:t>
            </a:r>
            <a:endParaRPr b="0" lang="en-US" sz="44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government</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commerce model in which a government entity buys or provides goods, services, or information to businesses or individual citizens</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government-to-citizens (G2C)</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government category that includes all the interactions between a government and its citizens</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lectronic Voting</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lectronic Benefits Transfer</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1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48DA630C-4109-4495-B6E2-A0D92E4718C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1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CBBCB7A4-089C-460F-A8FF-CF86452D158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8" name="Picture 5" descr=""/>
          <p:cNvPicPr/>
          <p:nvPr/>
        </p:nvPicPr>
        <p:blipFill>
          <a:blip r:embed="rId1"/>
          <a:stretch/>
        </p:blipFill>
        <p:spPr>
          <a:xfrm>
            <a:off x="914400" y="304920"/>
            <a:ext cx="7183440" cy="59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Government: An Overview</a:t>
            </a:r>
            <a:endParaRPr b="0" lang="en-US" sz="44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government-to-business (G2B)</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government category that includes interactions between governments and businesses (government selling to businesses and providing them with services and businesses selling products and services to the governmen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overnment E-Procuremen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roup Purchas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2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A2A485BD-36EC-4A7D-9DB9-E000A62ABEC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Government: An Overview</a:t>
            </a:r>
            <a:endParaRPr b="0" lang="en-US" sz="44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government-to-government (G2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government category that includes activities within  government units and those between governme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government-to-employees (G2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government category that includes activities and services between government units and their employe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ernal Efficiency and Effectiveness (IEE)</a:t>
            </a:r>
            <a:endParaRPr b="0" lang="en-US" sz="2400" spc="-1" strike="noStrike">
              <a:solidFill>
                <a:srgbClr val="000000"/>
              </a:solidFill>
              <a:latin typeface="Constantia"/>
            </a:endParaRPr>
          </a:p>
        </p:txBody>
      </p:sp>
      <p:sp>
        <p:nvSpPr>
          <p:cNvPr id="22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2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0C14E69E-77D6-4E3B-928E-A03A383EC1D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Government: An Overview</a:t>
            </a:r>
            <a:endParaRPr b="0" lang="en-US" sz="44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MPLEMENTING E-GOVERN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TRANSFORMATION TO E-GOVERN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Government 2.0</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How government makes use of Web 2.0 technologies to interact with citizens and provide government servi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Promise of Government 2.0</a:t>
            </a:r>
            <a:endParaRPr b="0" lang="en-US" sz="2400" spc="-1" strike="noStrike">
              <a:solidFill>
                <a:srgbClr val="000000"/>
              </a:solidFill>
              <a:latin typeface="Constantia"/>
            </a:endParaRPr>
          </a:p>
        </p:txBody>
      </p:sp>
      <p:sp>
        <p:nvSpPr>
          <p:cNvPr id="22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3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C5DAE74F-94B8-405C-9077-CDCD09EE6C4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Government: An Overview</a:t>
            </a:r>
            <a:endParaRPr b="0" lang="en-US" sz="44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obile government (m-governmen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wireless implementation of e-government mostly to citizens but also to business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Benefits of M-Governmen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me Implementation Issu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pplications</a:t>
            </a:r>
            <a:endParaRPr b="0" lang="en-US" sz="2400" spc="-1" strike="noStrike">
              <a:solidFill>
                <a:srgbClr val="000000"/>
              </a:solidFill>
              <a:latin typeface="Constantia"/>
            </a:endParaRPr>
          </a:p>
        </p:txBody>
      </p:sp>
      <p:sp>
        <p:nvSpPr>
          <p:cNvPr id="23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3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975953A6-51C9-4FAB-AD36-3E950538BC5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16:10:10Z</dcterms:created>
  <dc:creator>Judy</dc:creator>
  <dc:description/>
  <dc:language>en-US</dc:language>
  <cp:lastModifiedBy>ULOFTKE</cp:lastModifiedBy>
  <dcterms:modified xsi:type="dcterms:W3CDTF">2011-10-14T16:14:48Z</dcterms:modified>
  <cp:revision>68</cp:revision>
  <dc:subject/>
  <dc:title>Chapter 1</dc:title>
</cp:coreProperties>
</file>