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48BE-C3A5-4A04-AF02-2BF8E1675C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71FC-AE5B-439D-8915-9F7F045A1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2198-D95E-4F96-801A-68D6F56D6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B79C-D65B-4BF4-A69B-03F9BC1FD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1BD1-D3EE-4C32-BB94-6D6FED994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6385-EF3C-448E-9AEF-D0560F170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72B1-B223-40D8-AFC8-B11A4834A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48E7-BF5E-455B-A318-446368A51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C398-D6A9-40C3-92A7-79443B566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D998-B025-4A5F-B4CC-E0D43CC73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D14A-EDF4-49BC-9441-9EF236AF7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67DD-8D46-44CA-B785-A5259ECED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43C9-A552-4B28-A5B9-68CF5AA28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145B-347C-47FD-A229-F7325D765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246C-8A7F-4CB6-8952-84EF6FE99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B4D9-21C3-422C-A444-2EBE12031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2EA7-8331-41F1-9071-02EF37C9A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7538-6AF5-4703-8F5A-93789AAEB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3942-328C-41C7-A38A-4EAD9CBF3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C40E-BDC3-4166-B978-E927047B4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53EA-5333-4FD8-8331-4F8489595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E4C3-2A52-4AB7-8F0C-9D59D88E4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4272-A6B5-47A0-BE34-676594FD5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6C13-1F09-4B3F-AB99-4126C3D46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5027-465C-4AA9-AC9E-F44797B4B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B0ED-CE2C-4703-8C1E-BB7FFB29E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5C63-63A4-4F91-9C9E-CD85DE6A8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5D3F-4B1A-4BFF-A82C-5D6FD14AC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B875-BDF5-4B55-A721-9CB33F90A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90A2-E833-497E-82EF-D597C3E0E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49E1-71AB-4006-B4CD-837C3B170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3A7E-161B-4F94-8F20-AAAE0C3C1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D682-49F8-49E4-A6B9-2F04D9C32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DC50-515F-40D3-8F3B-3BCC24FB7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482A-D5E4-4C51-9E6B-00C4AE090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99B3-7688-45E7-A501-03E69BB8A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103A-135C-4CE9-8E61-C0A1EB435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73B6-D63C-4E9A-8C6E-7CECE35FA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43A7-5FD4-42C2-AA44-57F27C890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25C0-C238-4191-89AC-25E55E234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2987-3935-49E3-BD42-E2C74AF93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54F-59F6-4AD9-BFDE-51CD49F64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9A56-05AD-43F9-96F0-FD0C97285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BFE5-C499-4E9C-9DFE-D47B3B342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9C66-A950-4EE3-8E28-026A333E3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FB9B-00F2-462C-A496-D7CA9F9F1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C1C1-6FCC-48B9-977F-0F258AADC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C64C-A96D-4813-965C-B006798D0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07BA-A3C5-437B-B3B5-91F5C043B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69AD-916E-429F-B1C3-8B253C41E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44E9-6F1D-4905-AEC9-B2D6B64DF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EC8E-0085-4B30-9BA1-9021BE0B6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0087-A10C-403A-9653-D64CA20F3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CEB6-BBB3-43C5-8275-F17D767D7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BF0F5-7802-4FFE-B87F-6537A1C91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9E34-ED58-4816-B4FE-C7CE6E42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ECF5B-A1B8-468B-A477-A0101453F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62AA4-608A-4729-A0E0-3E7F05D13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DFB8E-7C0B-43EA-BEBD-57040809F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F7DA2-BFD1-47B7-92AD-06A9A182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DDB7B-852F-4D13-8215-F9FC5ADA1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4DFCE-5F21-4D54-B44A-C0A402476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DA9C5-ED76-4DB9-8A89-ED808635A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2F70C-123B-4EA4-B565-1F752B9E9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70E3A-6994-42C3-B3B4-9CDA50D2C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2E1D-CC44-4842-9809-AF83F79E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C8415-8C58-4BAD-B4D7-008FB509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B989-280B-4DB9-8844-D48540A4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BF8C1-CB3F-431A-B9A1-9B688AB4B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AEC99-6630-4CCD-8273-CBB5E56D0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E99CE-00DC-4D5B-972A-05D239EC6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A592FF-2972-4C36-9FB2-724E34E89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8156F-A056-46AE-B092-9656A34F0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C2EA6-202E-4A8B-9CC4-F3B3C0DD3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36A0E-1A9E-409B-BBE7-075AB0250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ACA3D-8EFF-4B69-BEBA-9C6637892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F44C-820D-4BFA-8971-594C9B91F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3960E-6C54-488A-B89E-ED2E1A878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C5A1F-5E08-4661-8CDB-BB09DBA9D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A9714-1CF0-4AF8-9537-4F98D1D9B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DBE03-4B1C-4E15-945D-F86CBACEF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52740-645B-4284-9F1A-9570FD109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C36C7-E0A3-4276-93C4-93A20F573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854AD-C348-4F1E-8E3B-8F8F546313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E94818-4FA9-409B-B6DB-3FF4A6EB1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A1C46-8D4B-4523-88E7-AD27279E8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859FD-E270-4704-9E5E-E1773E59E3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4B8B-D178-4AAE-8FA8-DE7F37AA5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DC73F-4C7F-4C0A-98FC-693B53461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2AEA6-1650-4C23-9BB4-31692E06B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5701A-32A5-4C44-8B4F-858E8266D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941F1-EA92-4D23-ACE7-81D2D7F2B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B8F41-82FF-49FA-B355-616D90737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92E42-661B-40C8-9418-B9653E560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8C50D-2C74-410C-9E20-A8E53DB0D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5317F-7F19-407E-B4D5-1E223BCF9A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85591-33A9-4C30-A2EB-DCF2C6FF7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04DA-9939-4A3D-ABBD-E040D18C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59699-3656-4F53-B734-19ABBC1E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44C2-5EC6-4B1B-89BB-51CDC55D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3D27-97DE-4B1F-9C34-9432AAB5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79A6-D239-42FC-9833-8A7AFF085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F560-5659-4501-AEF9-4ABBC5D0126B}"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13995988-E9C1-413E-80E9-286FBC90A4E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5ADD-697B-4660-A69C-FA56212037B9}"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81</a:t>
            </a:r>
            <a:fld id="{2D3638EE-5601-4A30-93CF-BF66FA8BBDF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0134-28F6-47E3-8EA3-55C544F848EC}"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8-</a:t>
            </a:r>
            <a:fld id="{F9BF593C-50B0-4342-934A-84C1EDFE0CC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A06D-AB2F-4D8C-93F8-95A40EFAE8BF}"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12FE616-E26D-4063-959B-5DC7556CBC1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rketing and Advertising in E-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609480" y="457200"/>
            <a:ext cx="7863120" cy="5888160"/>
          </a:xfrm>
          <a:prstGeom prst="rect">
            <a:avLst/>
          </a:prstGeom>
          <a:ln w="0">
            <a:noFill/>
          </a:ln>
        </p:spPr>
      </p:pic>
      <p:sp>
        <p:nvSpPr>
          <p:cNvPr id="23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42224F0-2D93-410B-A767-5421B257EA8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oyalty, Satisfaction, </a:t>
            </a:r>
            <a:br>
              <a:rPr sz="4500"/>
            </a:br>
            <a:r>
              <a:rPr b="0" lang="en-US" sz="4500" spc="-1" strike="noStrike">
                <a:solidFill>
                  <a:srgbClr val="04617b"/>
                </a:solidFill>
                <a:latin typeface="Calibri"/>
              </a:rPr>
              <a:t>and Trust in E-Commerce</a:t>
            </a:r>
            <a:endParaRPr b="0" lang="en-US" sz="4500" spc="-1" strike="noStrike">
              <a:solidFill>
                <a:srgbClr val="04617b"/>
              </a:solidFill>
              <a:latin typeface="Calibri"/>
            </a:endParaRPr>
          </a:p>
        </p:txBody>
      </p:sp>
      <p:sp>
        <p:nvSpPr>
          <p:cNvPr id="238" name=""/>
          <p:cNvSpPr txBox="1"/>
          <p:nvPr/>
        </p:nvSpPr>
        <p:spPr>
          <a:xfrm>
            <a:off x="457200" y="15235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UST IN E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u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sychological status of willingness to depend on another person or organiz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C Trust Mode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online trust</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belief that an online website or other digital entities can deliver what they promise so that the recipient trusts them</a:t>
            </a:r>
            <a:endParaRPr b="0" lang="en-US" sz="2100" spc="-1" strike="noStrike">
              <a:solidFill>
                <a:srgbClr val="000000"/>
              </a:solidFill>
              <a:latin typeface="Constantia"/>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941CDB0-5D20-4679-A34B-566E2062A1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Loyalty, Satisfaction, </a:t>
            </a:r>
            <a:br>
              <a:rPr sz="4800"/>
            </a:br>
            <a:r>
              <a:rPr b="0" lang="en-US" sz="4800" spc="-1" strike="noStrike">
                <a:solidFill>
                  <a:srgbClr val="04617b"/>
                </a:solidFill>
                <a:latin typeface="Calibri"/>
              </a:rPr>
              <a:t>and Trust in E-Commerce</a:t>
            </a:r>
            <a:endParaRPr b="0" lang="en-US" sz="48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fontScale="98000"/>
          </a:bodyPr>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ow to Increase Trust in EC</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 Your Website</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ffiliate with an Objective Third Party</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 Trustworthiness</a:t>
            </a:r>
            <a:endParaRPr b="0" lang="en-US" sz="21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Methods for Facilitating Trust</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putation-based systems</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ystems used to establish trust among members of online communities where parties with no prior knowledge of each other use the feedback from their peers to assess the trustworthiness of the peers in the community</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Online Word of Mouth</a:t>
            </a:r>
            <a:endParaRPr b="0" lang="en-US" sz="2100" spc="-1" strike="noStrike">
              <a:solidFill>
                <a:srgbClr val="000000"/>
              </a:solidFill>
              <a:latin typeface="Constantia"/>
            </a:endParaRPr>
          </a:p>
        </p:txBody>
      </p:sp>
      <p:sp>
        <p:nvSpPr>
          <p:cNvPr id="24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DA4E326-47DA-4603-A7F6-E916BF0D81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ss Marketing, Market Segmentation, and Relationship Marketing</a:t>
            </a:r>
            <a:endParaRPr b="0" lang="en-US" sz="4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OM MASS MARKETING TO ONE-TO-ONE MARKET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ss Marketing and Adverti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 segment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dividing a consumer market into logical groups for conducting marketing research and analyzing personal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84CD3FC-1905-409E-98A7-357490FC9B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ss Marketing, Market Segmentation, and Relationship Marketing</a:t>
            </a:r>
            <a:endParaRPr b="0" lang="en-US" sz="4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lationship market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rketing method that focuses on building a long-term relationship with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to-one marketing</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arketing that treats </a:t>
            </a:r>
            <a:r>
              <a:rPr b="0" lang="en-US" sz="2800" spc="-1" strike="noStrike">
                <a:solidFill>
                  <a:srgbClr val="000000"/>
                </a:solidFill>
                <a:latin typeface="Constantia"/>
              </a:rPr>
              <a:t>each customer in a unique way</a:t>
            </a:r>
            <a:endParaRPr b="0" lang="en-US" sz="2800" spc="-1" strike="noStrike">
              <a:solidFill>
                <a:srgbClr val="000000"/>
              </a:solidFill>
              <a:latin typeface="Constantia"/>
            </a:endParaRPr>
          </a:p>
        </p:txBody>
      </p:sp>
      <p:sp>
        <p:nvSpPr>
          <p:cNvPr id="25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A76A792-14CD-433D-95F1-A815DDBC0D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762120" y="457200"/>
            <a:ext cx="7669080" cy="5638680"/>
          </a:xfrm>
          <a:prstGeom prst="rect">
            <a:avLst/>
          </a:prstGeom>
          <a:ln w="0">
            <a:noFill/>
          </a:ln>
        </p:spPr>
      </p:pic>
      <p:sp>
        <p:nvSpPr>
          <p:cNvPr id="25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967840F-49A4-42D6-8C8A-5711057B615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457200" y="533520"/>
            <a:ext cx="8158320" cy="5619600"/>
          </a:xfrm>
          <a:prstGeom prst="rect">
            <a:avLst/>
          </a:prstGeom>
          <a:ln w="0">
            <a:noFill/>
          </a:ln>
        </p:spPr>
      </p:pic>
      <p:sp>
        <p:nvSpPr>
          <p:cNvPr id="25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E40209D-020C-4857-8753-B54953DA2C0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sonaliz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matching of services, products, and advertising content with individual consumers and their prefer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r profi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requirements, preferences, behaviors, and demographic traits of a particular customer</a:t>
            </a:r>
            <a:endParaRPr b="0" lang="en-US" sz="2600" spc="-1" strike="noStrike">
              <a:solidFill>
                <a:srgbClr val="000000"/>
              </a:solidFill>
              <a:latin typeface="Constantia"/>
            </a:endParaRPr>
          </a:p>
        </p:txBody>
      </p:sp>
      <p:sp>
        <p:nvSpPr>
          <p:cNvPr id="26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17A0FDF-0E21-42DD-8402-A855DFE041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okies in E-Commer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oki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data file that is placed on a user’s hard drive by a remote Web server, frequently without disclosure or the user’s consent, which collects information about the user’s activities at a 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Personalized Techniques to Increase Sales</a:t>
            </a:r>
            <a:endParaRPr b="0" lang="en-US" sz="2400" spc="-1" strike="noStrike">
              <a:solidFill>
                <a:srgbClr val="000000"/>
              </a:solidFill>
              <a:latin typeface="Constantia"/>
            </a:endParaRPr>
          </a:p>
        </p:txBody>
      </p:sp>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07EF6EF-0AC7-42BF-B53B-C78E447CB57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havioral targeting</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argeting that uses information collected about an individual’s Web-browsing behavior, such as the pages they have visited or the searches they have made, to select an advertisement to display to that individual</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llaborative filtering</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 research and personalization method that uses customer data to predict, based on formulas derived from behavioral sciences, what other products or services a customer may enjoy; predictions can be extended to other customers with similar profiles</a:t>
            </a:r>
            <a:endParaRPr b="0" lang="en-US" sz="2400" spc="-1" strike="noStrike">
              <a:solidFill>
                <a:srgbClr val="000000"/>
              </a:solidFill>
              <a:latin typeface="Constantia"/>
            </a:endParaRPr>
          </a:p>
        </p:txBody>
      </p:sp>
      <p:sp>
        <p:nvSpPr>
          <p:cNvPr id="26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6F24322-25EF-49F8-AC90-1B8D3CCEAAF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factors that influence consumer behavior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decision-making process of consumer purchasing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issues of e-loyalty and e-trust in electronic commerce (EC).</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segmentation and how companies are building one-to-one relationships with customer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how consumer behavior can be analyzed for creating personalized services.</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ECB74B9-FF93-44D1-B16F-E352507746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sonalization </a:t>
            </a:r>
            <a:br>
              <a:rPr sz="4500"/>
            </a:br>
            <a:r>
              <a:rPr b="0" lang="en-US" sz="4500" spc="-1" strike="noStrike">
                <a:solidFill>
                  <a:srgbClr val="04617b"/>
                </a:solidFill>
                <a:latin typeface="Calibri"/>
              </a:rPr>
              <a:t>and Behavioral Marketing</a:t>
            </a:r>
            <a:endParaRPr b="0" lang="en-US" sz="45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Metho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ule-Based Filter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ent-Based Filter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ctivity-Based Filter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gal and Ethical Issues in Collaborative Filter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Psychology and Morphing in Behavioral Marke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 of Customer Database Marketing</a:t>
            </a:r>
            <a:endParaRPr b="0" lang="en-US" sz="2400" spc="-1" strike="noStrike">
              <a:solidFill>
                <a:srgbClr val="000000"/>
              </a:solidFill>
              <a:latin typeface="Constantia"/>
            </a:endParaRPr>
          </a:p>
        </p:txBody>
      </p:sp>
      <p:sp>
        <p:nvSpPr>
          <p:cNvPr id="27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88FCC55-B71C-4051-8937-B545E9A8FE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BJECTIVES AND CONCEPTS OF MARKET RESEARCH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Are Marketers Looking For in EC Market Research?</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PRESENTATIVE MARKET RESEARCH APPROA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 Segmentation Resear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ollection and Analy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Survey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earing Directly from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2D061C8-ACA4-4570-82B4-91B064E245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ollection in the Web 2.0 Enviro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bserving Customers’ Movements Onlin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transaction log</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record of user activities at a company’s websit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lickstream behavior</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Customer movements on the Internet</a:t>
            </a:r>
            <a:endParaRPr b="0" lang="en-US" sz="2100" spc="-1" strike="noStrike">
              <a:solidFill>
                <a:srgbClr val="000000"/>
              </a:solidFill>
              <a:latin typeface="Constantia"/>
            </a:endParaRPr>
          </a:p>
        </p:txBody>
      </p:sp>
      <p:sp>
        <p:nvSpPr>
          <p:cNvPr id="2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65017C5-72B0-499F-99AC-7292BBDCAE5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bug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iny graphics files embedded in e-mail messages and in websites that transmit information about users and their movements to a Web serv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ywar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ftware that gathers user information over an Internet connection without the user’s knowled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Analytics and Mining</a:t>
            </a:r>
            <a:endParaRPr b="0" lang="en-US" sz="2400" spc="-1" strike="noStrike">
              <a:solidFill>
                <a:srgbClr val="000000"/>
              </a:solidFill>
              <a:latin typeface="Constantia"/>
            </a:endParaRPr>
          </a:p>
        </p:txBody>
      </p:sp>
      <p:sp>
        <p:nvSpPr>
          <p:cNvPr id="2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85DE989-7876-4213-A712-5F5F8A8629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stream dat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ata that occur inside the Web environment; they provide a trail of the user’s activities (the user’s clickstream behavior) in the webs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min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ata mining techniques for discovering and extracting information from Web documents; explores both Web content and Web usage</a:t>
            </a:r>
            <a:endParaRPr b="0" lang="en-US" sz="2400" spc="-1" strike="noStrike">
              <a:solidFill>
                <a:srgbClr val="000000"/>
              </a:solidFill>
              <a:latin typeface="Constantia"/>
            </a:endParaRPr>
          </a:p>
        </p:txBody>
      </p:sp>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70F07BE-F8FC-4BC6-BAB5-C05907F1EB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rket Research for E-Commerce</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IMITATIONS OF ONLINE MARKET RESEARCH AND HOW TO OVERCOME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iometric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individual’s unique physical or behavioral characteristics that can be used to identify an individual precisely (e.g., fingerprints)</a:t>
            </a:r>
            <a:endParaRPr b="0" lang="en-US" sz="2600" spc="-1" strike="noStrike">
              <a:solidFill>
                <a:srgbClr val="000000"/>
              </a:solidFill>
              <a:latin typeface="Constantia"/>
            </a:endParaRPr>
          </a:p>
        </p:txBody>
      </p:sp>
      <p:sp>
        <p:nvSpPr>
          <p:cNvPr id="29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A184359-DB08-44AE-81B2-0DCA6642182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active marke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marketing, facilitated by the Internet, by which marketers and advertisers can interact directly with customers, and consumers can interact with advertisers/vendors</a:t>
            </a:r>
            <a:endParaRPr b="0" lang="en-US" sz="2600" spc="-1" strike="noStrike">
              <a:solidFill>
                <a:srgbClr val="000000"/>
              </a:solidFill>
              <a:latin typeface="Constantia"/>
            </a:endParaRPr>
          </a:p>
        </p:txBody>
      </p:sp>
      <p:sp>
        <p:nvSpPr>
          <p:cNvPr id="29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5CF6638-B421-44D7-A70B-1BB87A98F8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762120" y="533520"/>
            <a:ext cx="7692840" cy="5638680"/>
          </a:xfrm>
          <a:prstGeom prst="rect">
            <a:avLst/>
          </a:prstGeom>
          <a:ln w="0">
            <a:noFill/>
          </a:ln>
        </p:spPr>
      </p:pic>
      <p:sp>
        <p:nvSpPr>
          <p:cNvPr id="30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F74272D-5703-4571-AFB4-8705A171F26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ME BASIC INTERNET ADVERTISING TERMINOLOG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 view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number of times users call up a page that has a banner on it during a specific period; known as </a:t>
            </a:r>
            <a:r>
              <a:rPr b="0" i="1" lang="en-US" sz="2400" spc="-1" strike="noStrike">
                <a:solidFill>
                  <a:srgbClr val="000000"/>
                </a:solidFill>
                <a:latin typeface="Constantia"/>
              </a:rPr>
              <a:t>impressions </a:t>
            </a:r>
            <a:r>
              <a:rPr b="0" lang="en-US" sz="2400" spc="-1" strike="noStrike">
                <a:solidFill>
                  <a:srgbClr val="000000"/>
                </a:solidFill>
                <a:latin typeface="Constantia"/>
              </a:rPr>
              <a:t>or</a:t>
            </a:r>
            <a:r>
              <a:rPr b="0" i="1" lang="en-US" sz="2400" spc="-1" strike="noStrike">
                <a:solidFill>
                  <a:srgbClr val="000000"/>
                </a:solidFill>
                <a:latin typeface="Constantia"/>
              </a:rPr>
              <a:t> page view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tt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ll banner that is linked to a website; may contain downloadable software</a:t>
            </a:r>
            <a:endParaRPr b="0" lang="en-US" sz="2400" spc="-1" strike="noStrike">
              <a:solidFill>
                <a:srgbClr val="000000"/>
              </a:solidFill>
              <a:latin typeface="Constantia"/>
            </a:endParaRPr>
          </a:p>
        </p:txBody>
      </p:sp>
      <p:sp>
        <p:nvSpPr>
          <p:cNvPr id="30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B3DB958-FB56-4568-9602-AAB2750C76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07" name=""/>
          <p:cNvSpPr txBox="1"/>
          <p:nvPr/>
        </p:nvSpPr>
        <p:spPr>
          <a:xfrm>
            <a:off x="457200" y="1676160"/>
            <a:ext cx="8229600" cy="4389480"/>
          </a:xfrm>
          <a:prstGeom prst="rect">
            <a:avLst/>
          </a:prstGeom>
          <a:noFill/>
          <a:ln w="0">
            <a:noFill/>
          </a:ln>
        </p:spPr>
        <p:txBody>
          <a:bodyPr anchor="t">
            <a:normAutofit fontScale="96000"/>
          </a:bodyPr>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ge</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HTML (Hypertext Markup Language) document that may contain text, images, and other online elements, such as Java applets and multimedia files; may be generated statically or dynamically</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 (ad click)</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unt made each time a visitor clicks on an advertising banner to access the advertiser’s websit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PM (cost per mille, i.e., thousand impressions)</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fee an advertiser pays for each 1,000 times a page with a banner ad is shown</a:t>
            </a:r>
            <a:endParaRPr b="0" lang="en-US" sz="2400" spc="-1" strike="noStrike">
              <a:solidFill>
                <a:srgbClr val="000000"/>
              </a:solidFill>
              <a:latin typeface="Constantia"/>
            </a:endParaRPr>
          </a:p>
        </p:txBody>
      </p:sp>
      <p:sp>
        <p:nvSpPr>
          <p:cNvPr id="30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668453C-99BD-4B60-B3CB-33767D5128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nsumer market research in EC.</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objectives of Web advertising and its characteristic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advertising methods used on the Web.</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mobile marketing concepts and technique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online advertising strategies and types of promotio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some implementation topics.</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FB95DF52-3443-4F45-8F89-6F29579F11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version rat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ercentage of clickers who actually make a purch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through rate/ratio (CT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ercentage of visitors who are exposed to a banner ad and click on 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request for data from a Web page or file</a:t>
            </a:r>
            <a:endParaRPr b="0" lang="en-US" sz="2400" spc="-1" strike="noStrike">
              <a:solidFill>
                <a:srgbClr val="000000"/>
              </a:solidFill>
              <a:latin typeface="Constantia"/>
            </a:endParaRPr>
          </a:p>
        </p:txBody>
      </p:sp>
      <p:sp>
        <p:nvSpPr>
          <p:cNvPr id="31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FA9C109-9316-4A17-B1EF-3D18DFDA52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eries of requests during one navigation of a website; a pause of a certain length of time ends a vis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nique visi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unt of the number of visitors entering a site, regardless of how many pages are viewed per vis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ickines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haracteristic that influences the average length of time a visitor stays in a sit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9D4D19A-46CB-448C-9B89-91F12F9755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Web Advertising</a:t>
            </a:r>
            <a:endParaRPr b="0" lang="en-US" sz="48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ertising Online and Its Advantag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s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ichness of forma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rsonaliz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imelines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cation-base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ink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gital brand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ditional Versus Online Advertisement</a:t>
            </a:r>
            <a:endParaRPr b="0" lang="en-US" sz="2400" spc="-1" strike="noStrike">
              <a:solidFill>
                <a:srgbClr val="000000"/>
              </a:solidFill>
              <a:latin typeface="Constantia"/>
            </a:endParaRPr>
          </a:p>
        </p:txBody>
      </p:sp>
      <p:sp>
        <p:nvSpPr>
          <p:cNvPr id="32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45FE0BE-0841-40EF-9C3C-9A230845420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380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23" name=""/>
          <p:cNvSpPr txBox="1"/>
          <p:nvPr/>
        </p:nvSpPr>
        <p:spPr>
          <a:xfrm>
            <a:off x="533520" y="15998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JOR CATEGORIES OF AD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ified Ad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play Ad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ve Ads</a:t>
            </a:r>
            <a:endParaRPr b="0" lang="en-US" sz="24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nner</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 a Web page, a graphic advertising display linked to the advertiser’s Web page</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word banners</a:t>
            </a: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nner ads that appear when a predetermined word is queried from a search engine</a:t>
            </a:r>
            <a:endParaRPr b="0" lang="en-US" sz="2400" spc="-1" strike="noStrike">
              <a:solidFill>
                <a:srgbClr val="000000"/>
              </a:solidFill>
              <a:latin typeface="Constantia"/>
            </a:endParaRPr>
          </a:p>
        </p:txBody>
      </p:sp>
      <p:sp>
        <p:nvSpPr>
          <p:cNvPr id="32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7A8877A-A1C7-4707-AC31-40FD951CDBB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andom banner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nner ads that appear at random, not as the result of the user’s a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banner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anner ad that is created dynamically (or whose content is created dynamically) at the time of display, instead of being preprogrammed with fixed cont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nefits and Limitations of Banner Ads</a:t>
            </a:r>
            <a:endParaRPr b="0" lang="en-US" sz="2400" spc="-1" strike="noStrike">
              <a:solidFill>
                <a:srgbClr val="000000"/>
              </a:solidFill>
              <a:latin typeface="Constantia"/>
            </a:endParaRPr>
          </a:p>
        </p:txBody>
      </p:sp>
      <p:sp>
        <p:nvSpPr>
          <p:cNvPr id="32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009CA656-302F-4D7B-964C-75295DFC631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p-up 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d that appears in a separate window before, after, or during Internet surfing or when reading e-ma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p-under 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ad that appears underneath the current browser window, so when the user closes the active window the ad is still on the screen</a:t>
            </a:r>
            <a:endParaRPr b="0" lang="en-US" sz="2600" spc="-1" strike="noStrike">
              <a:solidFill>
                <a:srgbClr val="000000"/>
              </a:solidFill>
              <a:latin typeface="Constantia"/>
            </a:endParaRPr>
          </a:p>
        </p:txBody>
      </p:sp>
      <p:sp>
        <p:nvSpPr>
          <p:cNvPr id="33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0319033-6751-42C1-A3C4-ABBE21E5D0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5" name=""/>
          <p:cNvSpPr txBox="1"/>
          <p:nvPr/>
        </p:nvSpPr>
        <p:spPr>
          <a:xfrm>
            <a:off x="457200" y="17521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il market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orm of direct marketing which uses e-mail as a means of communicating commercial messages to an audi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il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ding advertisements to e-mail messages sent to custom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Advantages and Limitations of E-Mail Advertis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plementing E-Mail Advertising</a:t>
            </a:r>
            <a:endParaRPr b="0" lang="en-US" sz="2400" spc="-1" strike="noStrike">
              <a:solidFill>
                <a:srgbClr val="000000"/>
              </a:solidFill>
              <a:latin typeface="Constantia"/>
            </a:endParaRPr>
          </a:p>
        </p:txBody>
      </p:sp>
      <p:sp>
        <p:nvSpPr>
          <p:cNvPr id="33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E31725C-2A6E-49CA-96ED-E406527873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arch advertis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method of placing online advertisements on Web pages that show results from search engine queri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RL Listing</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eyword Advertising</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 optimization (SEO)</a:t>
            </a:r>
            <a:endParaRPr b="0" lang="en-US" sz="2400" spc="-1" strike="noStrike">
              <a:solidFill>
                <a:srgbClr val="000000"/>
              </a:solidFill>
              <a:latin typeface="Constantia"/>
            </a:endParaRPr>
          </a:p>
          <a:p>
            <a:pPr lvl="1" marL="601200" indent="-23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craft of increasing site rank on search engines; the optimizer uses the ranking algorithm of the search engine (which may be different for different search engines) and best search phrases, and tailors the ad accordingly</a:t>
            </a:r>
            <a:endParaRPr b="0" lang="en-US" sz="2400" spc="-1" strike="noStrike">
              <a:solidFill>
                <a:srgbClr val="000000"/>
              </a:solidFill>
              <a:latin typeface="Constantia"/>
            </a:endParaRPr>
          </a:p>
        </p:txBody>
      </p:sp>
      <p:sp>
        <p:nvSpPr>
          <p:cNvPr id="34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FF43053-CD02-4E51-9730-C372F090DB5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631800" y="501480"/>
            <a:ext cx="7881840" cy="5715000"/>
          </a:xfrm>
          <a:prstGeom prst="rect">
            <a:avLst/>
          </a:prstGeom>
          <a:ln w="0">
            <a:noFill/>
          </a:ln>
        </p:spPr>
      </p:pic>
      <p:sp>
        <p:nvSpPr>
          <p:cNvPr id="34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156C9BB7-2772-49E6-9161-E03DAD06CE2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OGLE: THE ONLINE ADVERTISING K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ogle’s Major Advertisement Methods: AdWords and AdSens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al marketing (viral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ord-of-mouth marketing by which customers promote a product or service by telling others about it</a:t>
            </a:r>
            <a:endParaRPr b="0" lang="en-US" sz="2600" spc="-1" strike="noStrike">
              <a:solidFill>
                <a:srgbClr val="000000"/>
              </a:solidFill>
              <a:latin typeface="Constantia"/>
            </a:endParaRPr>
          </a:p>
        </p:txBody>
      </p:sp>
      <p:sp>
        <p:nvSpPr>
          <p:cNvPr id="34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D85202B-C2C0-4E41-AE36-517B6BD057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earning About </a:t>
            </a:r>
            <a:br>
              <a:rPr sz="4500"/>
            </a:br>
            <a:r>
              <a:rPr b="0" lang="en-US" sz="4500" spc="-1" strike="noStrike">
                <a:solidFill>
                  <a:srgbClr val="04617b"/>
                </a:solidFill>
                <a:latin typeface="Calibri"/>
              </a:rPr>
              <a:t>Consumer Behavior Online</a:t>
            </a:r>
            <a:endParaRPr b="0" lang="en-US" sz="4500" spc="-1" strike="noStrike">
              <a:solidFill>
                <a:srgbClr val="04617b"/>
              </a:solidFill>
              <a:latin typeface="Calibri"/>
            </a:endParaRPr>
          </a:p>
        </p:txBody>
      </p:sp>
      <p:sp>
        <p:nvSpPr>
          <p:cNvPr id="213" name=""/>
          <p:cNvSpPr txBox="1"/>
          <p:nvPr/>
        </p:nvSpPr>
        <p:spPr>
          <a:xfrm>
            <a:off x="380880" y="167616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MODEL OF CONSUMER BEHAVIOR ONLINE</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Major Influential Factors</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ersonal Characteristic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roduct/Service Factor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erchant and Intermediary Factors</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C Systems</a:t>
            </a:r>
            <a:endParaRPr b="0" lang="en-US" sz="21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Motivational Factors</a:t>
            </a:r>
            <a:endParaRPr b="0" lang="en-US" sz="20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Hygiene Factors</a:t>
            </a:r>
            <a:endParaRPr b="0" lang="en-US" sz="20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nvironmental Factors</a:t>
            </a:r>
            <a:endParaRPr b="0" lang="en-US" sz="2100" spc="-1" strike="noStrike">
              <a:solidFill>
                <a:srgbClr val="000000"/>
              </a:solidFill>
              <a:latin typeface="Constantia"/>
            </a:endParaRPr>
          </a:p>
          <a:p>
            <a:pPr lvl="3" marL="1104120" indent="-1947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Social Variables</a:t>
            </a:r>
            <a:endParaRPr b="0" lang="en-US" sz="2000" spc="-1" strike="noStrike">
              <a:solidFill>
                <a:srgbClr val="000000"/>
              </a:solidFill>
              <a:latin typeface="Constantia"/>
            </a:endParaRPr>
          </a:p>
          <a:p>
            <a:pPr lvl="4" marL="1359360" indent="-19476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Cultural/Community Variables</a:t>
            </a:r>
            <a:endParaRPr b="0" lang="en-US" sz="2000" spc="-1" strike="noStrike">
              <a:solidFill>
                <a:srgbClr val="000000"/>
              </a:solidFill>
              <a:latin typeface="Constantia"/>
            </a:endParaRPr>
          </a:p>
          <a:p>
            <a:pPr lvl="4" marL="1359360" indent="-19476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Other Environmental Variables</a:t>
            </a:r>
            <a:endParaRPr b="0" lang="en-US" sz="20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2C3E3025-8C07-48BC-A365-35F8FD58BF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DEO 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umer-Generated Vide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active video</a:t>
            </a:r>
            <a:endParaRPr b="0" lang="en-US" sz="2400" spc="-1" strike="noStrike">
              <a:solidFill>
                <a:srgbClr val="000000"/>
              </a:solidFill>
              <a:latin typeface="Constantia"/>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echnique used to blend </a:t>
            </a:r>
            <a:r>
              <a:rPr b="0" lang="en-US" sz="2800" spc="-1" strike="noStrike">
                <a:solidFill>
                  <a:srgbClr val="000000"/>
                </a:solidFill>
                <a:latin typeface="Constantia"/>
              </a:rPr>
              <a:t>user interaction and video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video</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video clip that gains widespread popularity through the process of Internet sharing, typically through e-mail or IM messages, blogs, and  other media-sharing websit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4875BBAF-FC64-4143-880D-9AC608AA7B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228600" y="1066680"/>
            <a:ext cx="8572680" cy="5019840"/>
          </a:xfrm>
          <a:prstGeom prst="rect">
            <a:avLst/>
          </a:prstGeom>
          <a:ln w="0">
            <a:noFill/>
          </a:ln>
        </p:spPr>
      </p:pic>
      <p:sp>
        <p:nvSpPr>
          <p:cNvPr id="35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353DBFCD-682E-4C13-A484-7F9BB8E8E0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nline Advertising Methods</a:t>
            </a:r>
            <a:endParaRPr b="0" lang="en-US" sz="48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vergam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actice of using computer games to advertise a product, an organization, or a viewpo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gmented reality (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live direct or indirect view of a physical, real-world environment whose elements are </a:t>
            </a:r>
            <a:r>
              <a:rPr b="0" i="1" lang="en-US" sz="2600" spc="-1" strike="noStrike">
                <a:solidFill>
                  <a:srgbClr val="000000"/>
                </a:solidFill>
                <a:latin typeface="Constantia"/>
              </a:rPr>
              <a:t>augmented by computer-generated </a:t>
            </a:r>
            <a:r>
              <a:rPr b="0" lang="en-US" sz="2600" spc="-1" strike="noStrike">
                <a:solidFill>
                  <a:srgbClr val="000000"/>
                </a:solidFill>
                <a:latin typeface="Constantia"/>
              </a:rPr>
              <a:t>sensory input, such as sound or graph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VERTISING IN CHAT ROOMS AND FORUMS</a:t>
            </a:r>
            <a:endParaRPr b="0" lang="en-US" sz="2600" spc="-1" strike="noStrike">
              <a:solidFill>
                <a:srgbClr val="000000"/>
              </a:solidFill>
              <a:latin typeface="Constantia"/>
            </a:endParaRPr>
          </a:p>
        </p:txBody>
      </p:sp>
      <p:sp>
        <p:nvSpPr>
          <p:cNvPr id="3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D02573C-B12A-467E-BA37-B02EDF4AEB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bile Marketing and Advertising</a:t>
            </a:r>
            <a:endParaRPr b="0" lang="en-US" sz="4500" spc="-1" strike="noStrike">
              <a:solidFill>
                <a:srgbClr val="04617b"/>
              </a:solidFill>
              <a:latin typeface="Calibri"/>
            </a:endParaRPr>
          </a:p>
        </p:txBody>
      </p:sp>
      <p:sp>
        <p:nvSpPr>
          <p:cNvPr id="3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marketing</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onducting marketing on or with a mobile devic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advertising (m-advertising)</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s sent to and presented on mobile devic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bile Interactive Advertising</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Mobile Ad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al Mobile Marketing</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bile Marketing and Advertising Campaign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resentative Examples of Mobile Advertising</a:t>
            </a:r>
            <a:endParaRPr b="0" lang="en-US" sz="2400" spc="-1" strike="noStrike">
              <a:solidFill>
                <a:srgbClr val="000000"/>
              </a:solidFill>
              <a:latin typeface="Constantia"/>
            </a:endParaRPr>
          </a:p>
        </p:txBody>
      </p:sp>
      <p:sp>
        <p:nvSpPr>
          <p:cNvPr id="36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49F4374-3AD8-43F9-A023-3E3C99E648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380880" y="914400"/>
            <a:ext cx="8506080" cy="5410080"/>
          </a:xfrm>
          <a:prstGeom prst="rect">
            <a:avLst/>
          </a:prstGeom>
          <a:ln w="0">
            <a:noFill/>
          </a:ln>
        </p:spPr>
      </p:pic>
      <p:sp>
        <p:nvSpPr>
          <p:cNvPr id="36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AE0AD21-16D6-4081-A390-FAAA4507B92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bile Marketing and Advertising</a:t>
            </a:r>
            <a:endParaRPr b="0" lang="en-US" sz="45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MARKETING IMPLEMENTATION GUIDELIN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ice</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ice and consent</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ization and constraint</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urity</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 and accountability</a:t>
            </a:r>
            <a:endParaRPr b="0" lang="en-US" sz="24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OLS TO SUPPORT MOBILE ADVERTISEMEN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AD TRENDS</a:t>
            </a:r>
            <a:endParaRPr b="0" lang="en-US" sz="2600" spc="-1" strike="noStrike">
              <a:solidFill>
                <a:srgbClr val="000000"/>
              </a:solidFill>
              <a:latin typeface="Constantia"/>
            </a:endParaRPr>
          </a:p>
        </p:txBody>
      </p:sp>
      <p:sp>
        <p:nvSpPr>
          <p:cNvPr id="36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4E3749EE-4D9A-4243-B7E2-101AE743EE1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amm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sing e-mail to send unwanted ads (sometimes floods of a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mission advertis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dvertising (marketing) strategy in which customers agree to accept advertising and marketing materials (known as </a:t>
            </a:r>
            <a:r>
              <a:rPr b="0" i="1" lang="en-US" sz="2600" spc="-1" strike="noStrike">
                <a:solidFill>
                  <a:srgbClr val="000000"/>
                </a:solidFill>
                <a:latin typeface="Constantia"/>
              </a:rPr>
              <a:t>opt-in)</a:t>
            </a:r>
            <a:endParaRPr b="0" lang="en-US" sz="2600" spc="-1" strike="noStrike">
              <a:solidFill>
                <a:srgbClr val="000000"/>
              </a:solidFill>
              <a:latin typeface="Constantia"/>
            </a:endParaRPr>
          </a:p>
        </p:txBody>
      </p:sp>
      <p:sp>
        <p:nvSpPr>
          <p:cNvPr id="37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1F557DDC-01D7-4BA5-9A68-64BE7E7B0A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ADVERTISING STRATEGI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ffiliate marketing</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ing arrangement by which an organization refers consumers to the selling company’s website</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ffiliate network</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network that acts as an intermediary between publishers (affiliates) and merchant affiliate programs</a:t>
            </a:r>
            <a:endParaRPr b="0" lang="en-US" sz="21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s as a Commodity (Paying People to Watch Ad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ing Space by Pixel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ADA2B0BB-B38C-454A-A601-F8A394D377A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5331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dvertising </a:t>
            </a:r>
            <a:br>
              <a:rPr sz="4500"/>
            </a:br>
            <a:r>
              <a:rPr b="0" lang="en-US" sz="4500" spc="-1" strike="noStrike">
                <a:solidFill>
                  <a:srgbClr val="04617b"/>
                </a:solidFill>
                <a:latin typeface="Calibri"/>
              </a:rPr>
              <a:t>Strategies and Promotions</a:t>
            </a:r>
            <a:endParaRPr b="0" lang="en-US" sz="4500" spc="-1" strike="noStrike">
              <a:solidFill>
                <a:srgbClr val="04617b"/>
              </a:solidFill>
              <a:latin typeface="Calibri"/>
            </a:endParaRPr>
          </a:p>
        </p:txBody>
      </p:sp>
      <p:sp>
        <p:nvSpPr>
          <p:cNvPr id="380" name=""/>
          <p:cNvSpPr txBox="1"/>
          <p:nvPr/>
        </p:nvSpPr>
        <p:spPr>
          <a:xfrm>
            <a:off x="457200" y="1752120"/>
            <a:ext cx="8229600" cy="4389480"/>
          </a:xfrm>
          <a:prstGeom prst="rect">
            <a:avLst/>
          </a:prstGeom>
          <a:noFill/>
          <a:ln w="0">
            <a:noFill/>
          </a:ln>
        </p:spPr>
        <p:txBody>
          <a:bodyPr anchor="t">
            <a:normAutofit fontScale="92000"/>
          </a:bodyPr>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ed Ad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casting</a:t>
            </a:r>
            <a:endParaRPr b="0" lang="en-US" sz="2400" spc="-1" strike="noStrike">
              <a:solidFill>
                <a:srgbClr val="000000"/>
              </a:solidFill>
              <a:latin typeface="Constantia"/>
            </a:endParaRPr>
          </a:p>
          <a:p>
            <a:pPr lvl="1" marL="588240" indent="-226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free Internet news </a:t>
            </a:r>
            <a:r>
              <a:rPr b="0" lang="en-US" sz="2800" spc="-1" strike="noStrike">
                <a:solidFill>
                  <a:srgbClr val="000000"/>
                </a:solidFill>
                <a:latin typeface="Constantia"/>
              </a:rPr>
              <a:t>service that broadcasts personalized news and information, including seminars, in categories selected by the user</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 Exchange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ertisement as a Revenue Model</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ay per click (PPC)</a:t>
            </a:r>
            <a:endParaRPr b="0" lang="en-US" sz="2100" spc="-1" strike="noStrike">
              <a:solidFill>
                <a:srgbClr val="000000"/>
              </a:solidFill>
              <a:latin typeface="Constantia"/>
            </a:endParaRPr>
          </a:p>
          <a:p>
            <a:pPr lvl="2" marL="840960" indent="-2264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popular Internet advertising payment model where advertisers pay their host only when the ad is clicked on</a:t>
            </a:r>
            <a:endParaRPr b="0" lang="en-US" sz="21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hoose-Your-Own-Ad Format</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76E4772-3B85-49B1-835D-2AE273A7385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Advertising </a:t>
            </a:r>
            <a:br>
              <a:rPr sz="4800"/>
            </a:br>
            <a:r>
              <a:rPr b="0" lang="en-US" sz="4800" spc="-1" strike="noStrike">
                <a:solidFill>
                  <a:srgbClr val="04617b"/>
                </a:solidFill>
                <a:latin typeface="Calibri"/>
              </a:rPr>
              <a:t>Strategies and Promotions</a:t>
            </a:r>
            <a:endParaRPr b="0" lang="en-US" sz="48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VENTS, PROMOTIONS, AND ATTRACTION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Web Events for Advertising</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ocalization</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ocess of converting media products developed in one environment (e.g., country) to a form culturally and linguistically acceptable in countries outside the original target marke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LLIGENT AGENTS APPLICATION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VELOPING AN ONLINE ADVERTISING PLAN</a:t>
            </a:r>
            <a:endParaRPr b="0" lang="en-US" sz="2600" spc="-1" strike="noStrike">
              <a:solidFill>
                <a:srgbClr val="000000"/>
              </a:solidFill>
              <a:latin typeface="Constantia"/>
            </a:endParaRPr>
          </a:p>
        </p:txBody>
      </p:sp>
      <p:sp>
        <p:nvSpPr>
          <p:cNvPr id="3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C59E2C1-8A61-4B36-82F3-FCF432C3E92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71600" y="457200"/>
            <a:ext cx="6327720" cy="5867280"/>
          </a:xfrm>
          <a:prstGeom prst="rect">
            <a:avLst/>
          </a:prstGeom>
          <a:ln w="0">
            <a:noFill/>
          </a:ln>
        </p:spPr>
      </p:pic>
      <p:sp>
        <p:nvSpPr>
          <p:cNvPr id="21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663EDAEF-701F-4925-AD43-41D45A52622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
          <p:cNvPicPr/>
          <p:nvPr/>
        </p:nvPicPr>
        <p:blipFill>
          <a:blip r:embed="rId1"/>
          <a:stretch/>
        </p:blipFill>
        <p:spPr>
          <a:xfrm>
            <a:off x="1695600" y="341280"/>
            <a:ext cx="5344920" cy="5983200"/>
          </a:xfrm>
          <a:prstGeom prst="rect">
            <a:avLst/>
          </a:prstGeom>
          <a:ln w="0">
            <a:noFill/>
          </a:ln>
        </p:spPr>
      </p:pic>
      <p:sp>
        <p:nvSpPr>
          <p:cNvPr id="38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AF4F033-22AF-4D42-80F6-AB816027AB7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380880" y="762120"/>
            <a:ext cx="8428320" cy="5486400"/>
          </a:xfrm>
          <a:prstGeom prst="rect">
            <a:avLst/>
          </a:prstGeom>
          <a:ln w="0">
            <a:noFill/>
          </a:ln>
        </p:spPr>
      </p:pic>
      <p:sp>
        <p:nvSpPr>
          <p:cNvPr id="39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D205D663-F5C5-4EDC-8E06-1FA227C80A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fontScale="93000"/>
          </a:bodyPr>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Do we focus on value-creating customer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ich Internet marketing/advertising channel do we use?</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metrics do we use to guide advertiser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is our commitment to Web advertising? </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integrate our Internet and non-Internet marketing campaign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o will conduct the market research?</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use intelligent agent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hould we use mobile coupons?</a:t>
            </a:r>
            <a:endParaRPr b="0" lang="en-US" sz="2300" spc="-1" strike="noStrike">
              <a:solidFill>
                <a:srgbClr val="000000"/>
              </a:solidFill>
              <a:latin typeface="Constantia"/>
            </a:endParaRPr>
          </a:p>
          <a:p>
            <a:pPr marL="478080" indent="-478080">
              <a:spcBef>
                <a:spcPts val="5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hat ethical issues should we consider in online marketing?</a:t>
            </a:r>
            <a:endParaRPr b="0" lang="en-US" sz="2300" spc="-1" strike="noStrike">
              <a:solidFill>
                <a:srgbClr val="000000"/>
              </a:solidFill>
              <a:latin typeface="Constantia"/>
            </a:endParaRPr>
          </a:p>
        </p:txBody>
      </p:sp>
      <p:sp>
        <p:nvSpPr>
          <p:cNvPr id="39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7A5E896-A30C-4618-B811-1C1566E305C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8" name=""/>
          <p:cNvSpPr txBox="1"/>
          <p:nvPr/>
        </p:nvSpPr>
        <p:spPr>
          <a:xfrm>
            <a:off x="533520" y="1676160"/>
            <a:ext cx="8229600" cy="4389480"/>
          </a:xfrm>
          <a:prstGeom prst="rect">
            <a:avLst/>
          </a:prstGeom>
          <a:noFill/>
          <a:ln w="0">
            <a:noFill/>
          </a:ln>
        </p:spPr>
        <p:txBody>
          <a:bodyPr anchor="t">
            <a:normAutofit fontScale="94000"/>
          </a:bodyPr>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tors influencing online consumer behavior</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nline consumer decision-making proces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ing loyalty and trust</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 segmentation and building one-to-one relationships with customer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personalization</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 consumer market research</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jectives and characteristics of Web advertising</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online advertising methods</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Marketing</a:t>
            </a:r>
            <a:endParaRPr b="0" lang="en-US" sz="2400" spc="-1" strike="noStrike">
              <a:solidFill>
                <a:srgbClr val="000000"/>
              </a:solidFill>
              <a:latin typeface="Constantia"/>
            </a:endParaRPr>
          </a:p>
          <a:p>
            <a:pPr marL="483480" indent="-483480">
              <a:lnSpc>
                <a:spcPct val="90000"/>
              </a:lnSpc>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ious advertising strategies and types of promotions</a:t>
            </a:r>
            <a:endParaRPr b="0" lang="en-US" sz="2400" spc="-1" strike="noStrike">
              <a:solidFill>
                <a:srgbClr val="000000"/>
              </a:solidFill>
              <a:latin typeface="Constantia"/>
            </a:endParaRPr>
          </a:p>
        </p:txBody>
      </p:sp>
      <p:sp>
        <p:nvSpPr>
          <p:cNvPr id="39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5E5C606E-21D2-4A5A-9251-959CE20F47A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403"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04"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4F6806-F08E-4673-85E9-CCCE1D859340}"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Consumer Purchasing </a:t>
            </a:r>
            <a:br>
              <a:rPr sz="4500"/>
            </a:br>
            <a:r>
              <a:rPr b="0" lang="en-US" sz="4500" spc="-1" strike="noStrike">
                <a:solidFill>
                  <a:srgbClr val="04617b"/>
                </a:solidFill>
                <a:latin typeface="Calibri"/>
              </a:rPr>
              <a:t>Decision-Making Process</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GENERIC PURCHASING-DECISION MODEL</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ed identificatio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ormation search</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roduct brokering</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Deciding what product to buy</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erchant brokering</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Deciding from whom (from what merchant) to buy a product</a:t>
            </a:r>
            <a:endParaRPr b="0" lang="en-US" sz="21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valuation of alternative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rchase and delivery</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stpurchase activities</a:t>
            </a:r>
            <a:endParaRPr b="0" lang="en-US" sz="2400" spc="-1" strike="noStrike">
              <a:solidFill>
                <a:srgbClr val="000000"/>
              </a:solidFill>
              <a:latin typeface="Constantia"/>
            </a:endParaRPr>
          </a:p>
        </p:txBody>
      </p:sp>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72D68BCB-9353-41AB-B5E5-11EE97521A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1143000" y="304920"/>
            <a:ext cx="6800760" cy="6095880"/>
          </a:xfrm>
          <a:prstGeom prst="rect">
            <a:avLst/>
          </a:prstGeom>
          <a:ln w="0">
            <a:noFill/>
          </a:ln>
        </p:spPr>
      </p:pic>
      <p:sp>
        <p:nvSpPr>
          <p:cNvPr id="22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CFB550B4-4E5D-4032-89D3-70CE0C20F12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Consumer Purchasing </a:t>
            </a:r>
            <a:br>
              <a:rPr sz="4500"/>
            </a:br>
            <a:r>
              <a:rPr b="0" lang="en-US" sz="4500" spc="-1" strike="noStrike">
                <a:solidFill>
                  <a:srgbClr val="04617b"/>
                </a:solidFill>
                <a:latin typeface="Calibri"/>
              </a:rPr>
              <a:t>Decision-Making Process</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YERS IN THE CONSUMER DECISION PROC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t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fluenc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id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B2553377-AA50-4DF5-B81B-AA7E3378578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Loyalty, Satisfaction, </a:t>
            </a:r>
            <a:br>
              <a:rPr sz="4800"/>
            </a:br>
            <a:r>
              <a:rPr b="0" lang="en-US" sz="4800" spc="-1" strike="noStrike">
                <a:solidFill>
                  <a:srgbClr val="04617b"/>
                </a:solidFill>
                <a:latin typeface="Calibri"/>
              </a:rPr>
              <a:t>and Trust in E-Commerce</a:t>
            </a:r>
            <a:endParaRPr b="0" lang="en-US" sz="48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loyalty</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ep commitment to repurchase or repatronize a preferred product/service continually in the future, thereby causing repetitive same-brand or same brand-set purchasing, despite situational influences and marketing efforts that have the potential to cause switching behavior</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oyalty</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ustomer loyalty to an e-tailer or loyalty programs delivered online or supported electronically</a:t>
            </a:r>
            <a:endParaRPr b="0" lang="en-US" sz="2400" spc="-1" strike="noStrike">
              <a:solidFill>
                <a:srgbClr val="000000"/>
              </a:solidFill>
              <a:latin typeface="Constantia"/>
            </a:endParaRPr>
          </a:p>
        </p:txBody>
      </p:sp>
      <p:sp>
        <p:nvSpPr>
          <p:cNvPr id="23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8-</a:t>
            </a:r>
            <a:fld id="{9826EB7C-7EDD-4979-80BF-32E9061983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5:11Z</dcterms:modified>
  <cp:revision>120</cp:revision>
  <dc:subject/>
  <dc:title>Chapter 1</dc:title>
</cp:coreProperties>
</file>