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944E-0F4C-4430-972D-F7B8F8210F3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D5CE-8F11-4636-80B6-B8878EDDE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00D2-F191-4500-8CFD-E2FDE1120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AB3C-8C94-441F-9E51-9D30B8494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5204-A6A5-456A-9927-7BE6BEBF5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A0CD-43DA-400B-AEA7-9452A6E04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96C0-F5DF-4C5E-A9D7-6190D80239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DAEE-3C3B-471C-BAAF-72A28EC43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D653-E1F6-4DC8-BCBE-18B42A459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638F-1C69-45F6-86DE-3E54DD0C1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CF0A-FED6-4524-A397-19DAE71D5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1711-51A1-4E36-8DB1-70CADC1A2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8B23-9902-4038-A76E-7554AEB26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5247-891F-40C8-BAB3-4A2DA95C7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0E76-76CF-48ED-8B88-83862AEBB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7264-8595-412B-9879-325D7EE3D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C64F-98AD-4FEF-92AE-4C380758D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F9A5-4710-4B45-B790-B5792E0FC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A324-843E-4829-872D-A902C8CB1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0A31-6E49-45CE-BCD6-4667BC06F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522A-3B8D-4D60-B8D5-5DF663A72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D9B1-5B23-41F1-80DA-2F3892E75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0FBF-249C-4678-A545-AF0E357CA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10F2-9A96-4769-8D68-7C7AA8194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A582-EE20-4407-8F8E-AF6EC8E26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5ED6-0F14-4D60-9D7A-B1C367E78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B374-56FD-4C01-9BEB-36BF1F4D6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F049-B41C-4B3D-8544-0D505FBAF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8BBF-29F2-43A3-A8FC-7E2F7CFB0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1828-F879-4270-9622-8A10A6CE0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2267-A41A-41CD-9BEF-5FA55AE7B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F025-D0B7-43C1-AAFD-E8DA81AED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874E-0B40-43FB-865A-B165315F8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5254-8DBA-4D55-AAAA-B9469010D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B4C7-0E89-411E-A7C0-65C980026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DE1A-8065-4EAB-94FF-3E9CD905D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6353-6C45-4CC7-A065-0B139F712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1FC9-6248-4E17-8F6B-694AB88138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DD44-3B8B-4C57-8AFC-1177AE19C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4BA8-3D80-443F-B43A-AFE743F37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D567-1338-4E32-8C14-BD950D53D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A5C8-9672-4B23-8667-7C96C0BB3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3423-CBB9-4F55-8EF9-705AB883E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F332-EC53-4CC7-8841-106B34286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9A5D-F9A4-4958-82D3-4BB9B62B0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AE01-9A58-414A-94A5-0D3EB0CF1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4D1F-2FCE-4877-8C13-15BAB7BB1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E5D6-13AB-4CCE-8120-5612D8CC8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8496-57B4-4BD4-9C20-5DE1B3962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FB4C-CE42-490E-AB0D-359527D2E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340E-440F-49D9-88E4-28BE944DC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73F8-FB7F-42AD-8AD5-502D8D95E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E2E5-1082-4434-BCEF-B2DC44832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75B0-CCC3-4A27-9ED6-5F4888DC0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810C-62AA-44C9-A03F-9E10A0A25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DE96-A921-4C6E-8E33-4BBCF7B17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B5AD-C1F1-471C-B3B2-27B2D9905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1373-072A-4F77-9B00-35F304E36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9114-A227-4919-9F8B-DF3BDB9F3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AB82-13C1-407A-899A-F0C22615A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9920-96B6-47E5-B70A-74EFE9916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FDF9-DAD9-40BC-BDB1-65206A60C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A5A7-CC9E-4677-830C-7174A55B7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DDA1-6117-4A95-AB5A-AA55C6CE1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B0D3-71F3-4C76-9466-84DF98462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28AF-FA6D-494C-820F-84005C4AA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F0A4-4B83-4711-B36F-08E7C8E64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03EA-E23C-4E38-986F-C1F429CD8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478D-6184-45EA-BEA2-9D1697F4D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83BD-779E-4D33-A118-BB220457D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C5CD-5E6A-4D69-BC7D-58A379DA3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EBDCF-4E75-4117-870D-F53A0BB62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14493-98F7-4D81-A918-6DBF1391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B93FF0-11EB-4860-9116-5132FFD617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CF0624-3EFB-4FB1-825D-CC65476AE6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22172A-277E-4FCC-84B0-A596CF9172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87443-112F-4436-9AE6-D3B7E4E8B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A87BC3-7D02-49B4-ADA1-3B56DDDDD3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693684-75C5-48E6-8389-5C7E212D64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9D075E-21CE-441A-B9C9-A2BCA5618B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FC24CB-48A2-4AA8-9CA0-B597D40D78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7FE314-50E6-45C6-BB73-300EC6E6CE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688EA1-058F-4080-8A7F-B38D756AA9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2AE9E-8B98-4EC6-A585-52015C1E9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2B01A5-EED5-473D-8595-0CD2263779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C0F779-6E6E-40B1-A9D5-63903C227D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E51C0F-D27B-49B9-A123-D6A9C84664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DF5DE5-1DEF-4C19-853B-684B0BB674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AFC979-2004-4C2C-B22D-91586EEBBF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A147B7-F3CC-4E24-9A85-5C3A80726D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755453-E066-494C-A3F1-FF28797B90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72C251-3657-4C39-AD33-8D92B3A1B0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69C903-1E08-4914-82AB-F2CB6A317B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67B96F-0F8C-420A-9724-2B64DED1A5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407E8-F48A-4E88-8D2D-F26DB39B8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330BD5-DA24-4E32-95F4-C64F1AF3CB6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06EAA6-5734-46EE-A500-5BACE288AC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B9D1B6-1A6D-4770-AF06-32FE178FC3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C8D1AB-65BA-43CC-BD9D-C3E23C1C07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8FADC0-6AFF-4253-B9CB-DDEA23A39D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C36EF5-41EF-4CA5-9D02-F621B9C12E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C01891-5E15-4E83-88C1-F19BE43556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3A8206-7CAD-4B37-A8F3-709862ADD3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5DB89E-E5DE-40EC-8B26-DB1AE72B25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45D3FD-E4E5-446C-892F-E3EB071CEB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D5D4F-3AE6-4D19-8F6D-E4B672EBE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6BBCE4-6363-4C31-8BE0-1CE5327BBB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42112F-27F5-49D3-9379-0EEDDE3E48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96E8DC-DF01-4F5E-874D-1B61A1D300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6A6CAD-6506-4588-862E-9476D311DD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89CEDE-C23F-40D3-A7EB-C2385408F7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38BD5D-0D97-4D85-9C87-ED943F0BD7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3AE77F-3076-4922-96FF-BDB8D1C121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394F90-1C89-494B-BB92-9042394DED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B36003-6591-4EDB-ACEF-7DDB191A95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F433DD-45F1-4CEE-83BF-39FF5B61BB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BCE9C-B0F3-4CBF-B30E-83D0CB6A8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8AE613-F6AE-4416-9EFC-3E6CA7199E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43301F-AA30-4FBE-B641-4999230A08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983611-C422-45CC-9CFC-B17C6DA28C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3E2BFE-E14F-4F0B-8011-16353BC9C7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206CD9-47B1-4853-83C4-7A455FD587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E948C-3646-4D16-8BAB-3EC56D13D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9CC7D-2C45-4094-8162-8BB9CE5F3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B0D93-4DAF-4DCC-9908-385586E04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B9FD5-F49E-450D-841D-E3E88976C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E4AB1-F60E-48EC-9C89-6247F3934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2B202-C446-431B-A0EF-3F4525E3A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02E56-097B-427F-A44B-BD4B603DC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66A38-4E06-47C0-A3E3-5BED48155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2711A-7359-454D-9052-A0CF6C6B5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8D8FB-F255-4959-A4EA-CC458548B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50C40-724D-43E3-856E-C009A4C05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4C5A39-C399-470A-A2BA-60409149C9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607D5-7239-4128-B632-8AA258ECF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5846B-1AE8-48DA-A6EB-8E3C1F477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32A4C2-C112-491A-A23F-A42535D0F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7DA50-6641-410B-8C70-CD74DB02E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BA55A-44A8-4537-8F1E-E6F5C10E4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6BA09-34CA-4612-8D7A-CF7126535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4C6B5-1C6F-40AF-B7D0-C79F68E2D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E23A9-6A7C-494E-83A6-2F8527632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0138E-6823-48B5-B9B2-F84093A1D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334B94-4449-4172-9E88-08677BC71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7B49CC-49A2-41F1-94C0-2684101D45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FB489E-93B1-4314-BABF-E087B28A70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744388-89E4-478C-B0BF-A3F90B93B4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D87781-7BEE-4C8C-8D0E-1DA738EC4D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EEFD1-A44C-4157-9132-92B0221697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2684A-E509-4B35-A81E-ACAF79063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ABF1B-97B8-46D7-ABCB-E7C8BF238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516DD-D0E7-4BCE-917A-496ABA86F5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69576-C7D3-4223-BC39-A4C1B30A4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8F7B1-EEAB-4EC0-8120-3B5DAD1B9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8B344-D188-4E93-B6CB-0D852B9D3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B607F-D5D9-4245-A8DD-AA5036E25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387F55-073E-4886-8976-074C1CAF13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9134D2-36B3-43DC-8E1B-0CEAE811FF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E82FC5-5C76-4FEC-829A-C68CE89BA0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93DBD9-9FFD-48B7-A8A5-F13FE599E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ABE39-77C4-4BC5-8C33-7E1C90434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956A9-3761-4261-ABE1-4C8E60A3F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0B7533-5E6B-49C2-8E8C-C7F2CE535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6270A-90D1-42FD-BAE4-58182223FF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1F89C4-BA11-4D29-A8AE-B3CA2A0CB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57202-2B48-477B-9704-678FEDE09A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50B3B-2413-4286-A4C8-8A12D7F76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A3277C-8283-4480-8BDA-AA5337C43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CFC7D-AA3D-4364-A1E4-CF7FE5B04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3E962-69B2-42A0-91A7-75427960A0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5A1041-A5E7-468E-BC37-0CD2815561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EC79C-1C55-4A74-B6D3-E44495E67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9249B3-FCA9-48ED-B823-8421821258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481F02-F72E-47B1-A4B6-B71CC8C772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9D1051-1BD9-4DF8-AFDB-322F040C9C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A534F2-2C37-43E3-80A1-A1AFCFE6CC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F53B44-87EE-4E4E-B5C3-67911BE435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71AB3D-9366-449E-9DD7-75C6BB2EB0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6F0D05-D745-45D7-B7EA-1E2CC0F809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A9C72-224D-4061-AD55-C2D1F75DA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836DB-F6DD-4F0A-B893-ADB6F0904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785096-F9E6-4937-B15F-D62371EEA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C497-8165-4B57-9C6D-58BC1E69D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38915E-3C51-4AA6-91C4-7ABE9F03F6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FEB564-2593-4333-B1F4-B40B3C92DB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F70A69-3BF4-432E-922A-CBD39726DF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FF55FD-D38B-4036-B9AD-58D2858AE0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DC71B7-F617-4DE4-AB29-EE374EDAFF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BB6CA5-E82E-4B68-8D42-72FE18EB7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38915A-E82B-49CB-A772-A834C893EA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00D4CC-69D3-4C48-953E-F4E31F630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AB33CA-47F4-4272-A851-6A4E8768AF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D589D7-9EB4-474D-9B2C-D5023EF9E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A712A-F8EE-4CB7-998E-FDAD8445F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FD7E96-864D-4843-B113-6DEE5C1524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213A7-C48D-4103-88A7-97E4669E2B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53574-E3D1-46B8-AFA7-897CCDA04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606729-6B07-4D01-9F4A-8809FD7EF1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B54291-3B43-4AAE-A2EA-B1714246E9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AFF8A5-B183-4F43-AF3E-2E53A52FB6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DE8A7A-E5D1-4B5D-8DEC-8768196BE0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C4B843-7D6B-4910-B445-2020B677DA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728BF4-1791-4AF8-809F-BAE3AEE8A2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9D3CAF-3AFB-4272-9B32-6509B83688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193E-A8C5-4AA3-8C32-F6DFB77AA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31784-EED9-462E-89D1-16A157F4EE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0E89F-0A12-4287-80DD-88266D150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FC2D29-DFEF-49AD-82A8-C601B5B25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7C204-428F-4803-9472-01F8AF3E1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24989A-67F1-44EE-842D-FCDE976F03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7B8B65-6230-40EC-AC9E-EF617968AA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1E8165-9E26-4F5B-9503-67CE142CDC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40C1F2-F924-4456-B210-773ECCB6E5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A399FA-911B-4922-A8F9-4ED3C54810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66B137-EA7C-4B11-BAC8-16E183A69C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09CC-9D38-4A13-B61F-B0EB5194F689}"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752D830-55D9-459E-A491-90601C6BFAC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8040-A266-485B-9D1E-C5B4930DD897}"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267A930D-01AF-4E67-B19E-F943893A56B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7983-DBF3-4AF3-893E-5CBD0E1B6ADE}"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2E2CF4D4-98E5-4BD9-A8C9-A268311E4C7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DF29-1F20-4B46-A1F6-1A1D0BEE68E9}"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0E4D11F-F750-46A3-8877-B0469A97405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FCB9-3306-4B29-9EFD-78287CBADCBB}"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9-</a:t>
            </a:r>
            <a:fld id="{10C6DD2E-279C-44D1-BBCC-350EECFE174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8802-6D4B-4661-9986-4D0157CB53E0}"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DBBD6196-DD42-4B76-B761-A9F1ACB39F6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DF4B-994E-4297-9208-B043B9FE398A}"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9-</a:t>
            </a:r>
            <a:fld id="{44120396-7533-458F-9677-A2283E84EAB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12DC-A8CA-4A83-9A58-D0F2453E1636}"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819A84A0-A787-4FDE-947D-22D5B6E18FD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4633-C37C-436D-B1EE-A3F6B62AD407}"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7865F70C-D0F0-4FC5-8BAA-1C2295E76D3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4254-CB98-4F18-B9B9-79ACA60603A6}"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A486BE6-75B7-4F4C-B139-B43688C77B9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C8D1-60E3-4EB6-9CBD-D5F7C9C704AD}"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7519855E-6E23-4DBB-915F-C33D078467B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249F-5743-498B-AD33-F021E120E2C8}"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FCC86CC8-A6BD-4C5B-8A7D-E9C7CDFA59E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3" descr=""/>
          <p:cNvPicPr/>
          <p:nvPr/>
        </p:nvPicPr>
        <p:blipFill>
          <a:blip r:embed="rId1"/>
          <a:stretch/>
        </p:blipFill>
        <p:spPr>
          <a:xfrm>
            <a:off x="530280" y="1365120"/>
            <a:ext cx="8308800" cy="1901880"/>
          </a:xfrm>
          <a:prstGeom prst="rect">
            <a:avLst/>
          </a:prstGeom>
          <a:ln w="0">
            <a:noFill/>
          </a:ln>
        </p:spPr>
      </p:pic>
      <p:sp>
        <p:nvSpPr>
          <p:cNvPr id="6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Commerce Security and Fraud Protect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36" name=""/>
          <p:cNvSpPr txBox="1"/>
          <p:nvPr/>
        </p:nvSpPr>
        <p:spPr>
          <a:xfrm>
            <a:off x="380880" y="1676160"/>
            <a:ext cx="8229600" cy="4389480"/>
          </a:xfrm>
          <a:prstGeom prst="rect">
            <a:avLst/>
          </a:prstGeom>
          <a:noFill/>
          <a:ln w="0">
            <a:noFill/>
          </a:ln>
        </p:spPr>
        <p:txBody>
          <a:bodyPr anchor="t">
            <a:normAutofit fontScale="93000"/>
          </a:bodyPr>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posure</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estimated cost, loss, or damage that can result if a threat exploits a vulnerability</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aud</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y business activity that uses deceitful practices or devices to deprive another of property or other right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lware (malicious software)</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generic term for malicious software</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hishing</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crimeware technique to steal the identity of a target company to get the identities of its customers</a:t>
            </a:r>
            <a:endParaRPr b="0" lang="en-US" sz="2400" spc="-1" strike="noStrike">
              <a:solidFill>
                <a:srgbClr val="000000"/>
              </a:solidFill>
              <a:latin typeface="Constantia"/>
            </a:endParaRPr>
          </a:p>
        </p:txBody>
      </p:sp>
      <p:sp>
        <p:nvSpPr>
          <p:cNvPr id="6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28870F6-0E83-44B6-B161-17D97331EE0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38"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4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isk</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obability that a vulnerability will be known and us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engineer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ype of nontechnical attack that uses some ruse to trick users into revealing information or performing an action that compromises a computer or networ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a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electronic equivalent of junk mail</a:t>
            </a:r>
            <a:endParaRPr b="0" lang="en-US" sz="2400" spc="-1" strike="noStrike">
              <a:solidFill>
                <a:srgbClr val="000000"/>
              </a:solidFill>
              <a:latin typeface="Constantia"/>
            </a:endParaRPr>
          </a:p>
        </p:txBody>
      </p:sp>
      <p:sp>
        <p:nvSpPr>
          <p:cNvPr id="6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386302DF-E9BB-4615-BE9B-A051B5A440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42"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4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ulnerabil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akness in software or other mechanism that threatens the confidentiality, integrity, or availability of an asset (recall the CIA model); it can be directly used by a hacker to gain access to a system or networ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zombie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omputers infected with malware that are under the control of a spammer, hacker, or other criminal</a:t>
            </a:r>
            <a:endParaRPr b="0" lang="en-US" sz="2400" spc="-1" strike="noStrike">
              <a:solidFill>
                <a:srgbClr val="000000"/>
              </a:solidFill>
              <a:latin typeface="Constantia"/>
            </a:endParaRPr>
          </a:p>
        </p:txBody>
      </p:sp>
      <p:sp>
        <p:nvSpPr>
          <p:cNvPr id="64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806BC9D-ED4A-4AAC-B887-5AF25DC968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4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2" descr=""/>
          <p:cNvPicPr/>
          <p:nvPr/>
        </p:nvPicPr>
        <p:blipFill>
          <a:blip r:embed="rId1"/>
          <a:stretch/>
        </p:blipFill>
        <p:spPr>
          <a:xfrm>
            <a:off x="533520" y="990720"/>
            <a:ext cx="8153280" cy="5153040"/>
          </a:xfrm>
          <a:prstGeom prst="rect">
            <a:avLst/>
          </a:prstGeom>
          <a:ln w="0">
            <a:noFill/>
          </a:ln>
        </p:spPr>
      </p:pic>
      <p:sp>
        <p:nvSpPr>
          <p:cNvPr id="6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97CACE7-7F07-440C-82CE-57D1E6002FB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49"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HREATS, ATTACKS, AND ATTACK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nintentional Threa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ntional Attacks and Crim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Criminals and Method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hacker</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Someone who gains unauthorized access to a computer system</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racker</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malicious hacker, such as Maxwell, in the opening case, who may represent a serious problem for a corporation</a:t>
            </a:r>
            <a:endParaRPr b="0" lang="en-US" sz="2100" spc="-1" strike="noStrike">
              <a:solidFill>
                <a:srgbClr val="000000"/>
              </a:solidFill>
              <a:latin typeface="Constantia"/>
            </a:endParaRPr>
          </a:p>
        </p:txBody>
      </p:sp>
      <p:sp>
        <p:nvSpPr>
          <p:cNvPr id="6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5260594A-A015-4A97-B0DF-40E46F3CA01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53"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ARGETS OF THE ATTACKS IN VULNERABLE AREA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ulnerable Areas Are Being Attack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Vulnerabilities in Business IT and EC System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CURITY SCENARIOS AND REQUIREMENTS IN E-COMME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Content of Information Security</a:t>
            </a:r>
            <a:endParaRPr b="0" lang="en-US" sz="2400" spc="-1" strike="noStrike">
              <a:solidFill>
                <a:srgbClr val="000000"/>
              </a:solidFill>
              <a:latin typeface="Constantia"/>
            </a:endParaRPr>
          </a:p>
        </p:txBody>
      </p:sp>
      <p:sp>
        <p:nvSpPr>
          <p:cNvPr id="65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998D67E1-011B-45B9-893E-410A5109824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5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sic E-Commerce </a:t>
            </a:r>
            <a:br>
              <a:rPr sz="4500"/>
            </a:br>
            <a:r>
              <a:rPr b="0" lang="en-US" sz="4500" spc="-1" strike="noStrike">
                <a:solidFill>
                  <a:srgbClr val="04617b"/>
                </a:solidFill>
                <a:latin typeface="Calibri"/>
              </a:rPr>
              <a:t>Security Issues and Landscape</a:t>
            </a:r>
            <a:endParaRPr b="0" lang="en-US" sz="4500" spc="-1" strike="noStrike">
              <a:solidFill>
                <a:srgbClr val="04617b"/>
              </a:solidFill>
              <a:latin typeface="Calibri"/>
            </a:endParaRPr>
          </a:p>
        </p:txBody>
      </p:sp>
      <p:sp>
        <p:nvSpPr>
          <p:cNvPr id="659" name=""/>
          <p:cNvSpPr txBox="1"/>
          <p:nvPr/>
        </p:nvSpPr>
        <p:spPr>
          <a:xfrm>
            <a:off x="457200" y="1599840"/>
            <a:ext cx="8229600" cy="4389480"/>
          </a:xfrm>
          <a:prstGeom prst="rect">
            <a:avLst/>
          </a:prstGeom>
          <a:noFill/>
          <a:ln w="0">
            <a:noFill/>
          </a:ln>
        </p:spPr>
        <p:txBody>
          <a:bodyPr anchor="t">
            <a:normAutofit fontScale="91000"/>
          </a:bodyPr>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ecurity Requirements</a:t>
            </a:r>
            <a:endParaRPr b="0" lang="en-US" sz="24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uthentication</a:t>
            </a: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Process to verify (assure) the real identity of an individual, computer, computer program, or EC website</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uthorization</a:t>
            </a: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Process of determining what the authenticated entity is allowed to access and what operations it is allowed to perform</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uditing</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vailability</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nonrepudiation</a:t>
            </a: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ssurance that online customers or trading partners cannot falsely deny (repudiate) their purchase or transaction</a:t>
            </a:r>
            <a:endParaRPr b="0" lang="en-US" sz="2100" spc="-1" strike="noStrike">
              <a:solidFill>
                <a:srgbClr val="000000"/>
              </a:solidFill>
              <a:latin typeface="Constantia"/>
            </a:endParaRPr>
          </a:p>
        </p:txBody>
      </p:sp>
      <p:sp>
        <p:nvSpPr>
          <p:cNvPr id="66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2EB66EA-81A1-45A8-9B6F-177793BB759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6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63"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DEFENSE: DEFENDERS, STRATEGY, AND METHODS</a:t>
            </a:r>
            <a:endParaRPr b="0" lang="en-US" sz="24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C security strategy</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 strategy that views EC security as the process of preventing and detecting unauthorized use of the organization’s brand, identity, website, e-mail, information, or other asset and attempts to defraud the organization, its customers, and employee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eterring measures</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ctions that will make criminals abandon their idea of attacking a specific system (e.g., the possibility of losing a job for insiders)</a:t>
            </a:r>
            <a:endParaRPr b="0" lang="en-US" sz="2200" spc="-1" strike="noStrike">
              <a:solidFill>
                <a:srgbClr val="000000"/>
              </a:solidFill>
              <a:latin typeface="Constantia"/>
            </a:endParaRPr>
          </a:p>
        </p:txBody>
      </p:sp>
      <p:sp>
        <p:nvSpPr>
          <p:cNvPr id="66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890B472-0977-4A32-B0B2-0642D1D094A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6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sic E-Commerce </a:t>
            </a:r>
            <a:br>
              <a:rPr sz="4500"/>
            </a:br>
            <a:r>
              <a:rPr b="0" lang="en-US" sz="4500" spc="-1" strike="noStrike">
                <a:solidFill>
                  <a:srgbClr val="04617b"/>
                </a:solidFill>
                <a:latin typeface="Calibri"/>
              </a:rPr>
              <a:t>Security Issues and Landscape</a:t>
            </a:r>
            <a:endParaRPr b="0" lang="en-US" sz="4500" spc="-1" strike="noStrike">
              <a:solidFill>
                <a:srgbClr val="04617b"/>
              </a:solidFill>
              <a:latin typeface="Calibri"/>
            </a:endParaRPr>
          </a:p>
        </p:txBody>
      </p:sp>
      <p:sp>
        <p:nvSpPr>
          <p:cNvPr id="667" name=""/>
          <p:cNvSpPr txBox="1"/>
          <p:nvPr/>
        </p:nvSpPr>
        <p:spPr>
          <a:xfrm>
            <a:off x="533520" y="1523520"/>
            <a:ext cx="8229600" cy="4389480"/>
          </a:xfrm>
          <a:prstGeom prst="rect">
            <a:avLst/>
          </a:prstGeom>
          <a:noFill/>
          <a:ln w="0">
            <a:noFill/>
          </a:ln>
        </p:spPr>
        <p:txBody>
          <a:bodyPr anchor="t">
            <a:normAutofit fontScale="91000"/>
          </a:bodyPr>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revention measures</a:t>
            </a:r>
            <a:endParaRPr b="0" lang="en-US" sz="2200" spc="-1" strike="noStrike">
              <a:solidFill>
                <a:srgbClr val="000000"/>
              </a:solidFill>
              <a:latin typeface="Constantia"/>
            </a:endParaRPr>
          </a:p>
          <a:p>
            <a:pPr lvl="1" marL="582120" indent="-223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Ways to help stop unauthorized users (also known as “intruders”) from accessing any part of the EC system</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etection measures</a:t>
            </a:r>
            <a:endParaRPr b="0" lang="en-US" sz="2200" spc="-1" strike="noStrike">
              <a:solidFill>
                <a:srgbClr val="000000"/>
              </a:solidFill>
              <a:latin typeface="Constantia"/>
            </a:endParaRPr>
          </a:p>
          <a:p>
            <a:pPr lvl="1" marL="582120" indent="-223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Ways to determine whether intruders attempted to break into the EC system; whether they were successful; and what they may have done</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tion assurance (IA)</a:t>
            </a:r>
            <a:endParaRPr b="0" lang="en-US" sz="2200" spc="-1" strike="noStrike">
              <a:solidFill>
                <a:srgbClr val="000000"/>
              </a:solidFill>
              <a:latin typeface="Constantia"/>
            </a:endParaRPr>
          </a:p>
          <a:p>
            <a:pPr lvl="1" marL="582120" indent="-223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The protection of information systems against unauthorized access to or modification of information whether in storage, processing, or transit, and against the denial of service to authorized users, including those measures necessary to detect, document, and counter such threats</a:t>
            </a:r>
            <a:endParaRPr b="0" lang="en-US" sz="2200" spc="-1" strike="noStrike">
              <a:solidFill>
                <a:srgbClr val="000000"/>
              </a:solidFill>
              <a:latin typeface="Constantia"/>
            </a:endParaRPr>
          </a:p>
        </p:txBody>
      </p:sp>
      <p:sp>
        <p:nvSpPr>
          <p:cNvPr id="66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38EDE8F4-9ED0-46F4-91A2-DD233C23CE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6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2" descr=""/>
          <p:cNvPicPr/>
          <p:nvPr/>
        </p:nvPicPr>
        <p:blipFill>
          <a:blip r:embed="rId1"/>
          <a:stretch/>
        </p:blipFill>
        <p:spPr>
          <a:xfrm>
            <a:off x="457200" y="1143000"/>
            <a:ext cx="8335800" cy="4614840"/>
          </a:xfrm>
          <a:prstGeom prst="rect">
            <a:avLst/>
          </a:prstGeom>
          <a:ln w="0">
            <a:noFill/>
          </a:ln>
        </p:spPr>
      </p:pic>
      <p:sp>
        <p:nvSpPr>
          <p:cNvPr id="6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972CB4F5-C905-4330-BB0E-58816548A03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72"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605" name=""/>
          <p:cNvSpPr txBox="1"/>
          <p:nvPr/>
        </p:nvSpPr>
        <p:spPr>
          <a:xfrm>
            <a:off x="457200" y="1934640"/>
            <a:ext cx="8229600" cy="4389480"/>
          </a:xfrm>
          <a:prstGeom prst="rect">
            <a:avLst/>
          </a:prstGeom>
          <a:noFill/>
          <a:ln w="0">
            <a:noFill/>
          </a:ln>
        </p:spPr>
        <p:txBody>
          <a:bodyPr anchor="t">
            <a:normAutofit fontScale="97000"/>
          </a:bodyPr>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importance and scope of security of information systems for EC.</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major concepts and terminology of EC security.</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arn about the major EC security threats, vulnerabilities, and technical attacks.</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Internet fraud, phishing, and spam.</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information assurance security principles.</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and assess major technologies and methods for securing EC access and communications.</a:t>
            </a:r>
            <a:endParaRPr b="0" lang="en-US" sz="2400" spc="-1" strike="noStrike">
              <a:solidFill>
                <a:srgbClr val="000000"/>
              </a:solidFill>
              <a:latin typeface="Constantia"/>
            </a:endParaRPr>
          </a:p>
        </p:txBody>
      </p:sp>
      <p:sp>
        <p:nvSpPr>
          <p:cNvPr id="60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CCC7E4A-0EDC-4EF6-8B28-5E9CC5E42B9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0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chnical Attack Methods: </a:t>
            </a:r>
            <a:br>
              <a:rPr sz="4500"/>
            </a:br>
            <a:r>
              <a:rPr b="0" lang="en-US" sz="4500" spc="-1" strike="noStrike">
                <a:solidFill>
                  <a:srgbClr val="04617b"/>
                </a:solidFill>
                <a:latin typeface="Calibri"/>
              </a:rPr>
              <a:t>From Viruses to Denial of Service</a:t>
            </a:r>
            <a:endParaRPr b="0" lang="en-US" sz="4500" spc="-1" strike="noStrike">
              <a:solidFill>
                <a:srgbClr val="04617b"/>
              </a:solidFill>
              <a:latin typeface="Calibri"/>
            </a:endParaRPr>
          </a:p>
        </p:txBody>
      </p:sp>
      <p:sp>
        <p:nvSpPr>
          <p:cNvPr id="674"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LICIOUS CODE: VIRUSES, WORMS, AND TROJAN HORSES</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us</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iece of software code that inserts itself into a host, including the operating systems, in order to propagate; it requires that its host program be run to activate i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orm </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oftware program that runs independently, consuming the resources of its host in order to maintain itself, that is capable of propagating a complete working version of itself onto another machine</a:t>
            </a:r>
            <a:endParaRPr b="0" lang="en-US" sz="2400" spc="-1" strike="noStrike">
              <a:solidFill>
                <a:srgbClr val="000000"/>
              </a:solidFill>
              <a:latin typeface="Constantia"/>
            </a:endParaRPr>
          </a:p>
        </p:txBody>
      </p:sp>
      <p:sp>
        <p:nvSpPr>
          <p:cNvPr id="67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A1DD46E-530C-45A5-B6C7-CC3A3E0FB7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7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
          <p:cNvPicPr/>
          <p:nvPr/>
        </p:nvPicPr>
        <p:blipFill>
          <a:blip r:embed="rId1"/>
          <a:stretch/>
        </p:blipFill>
        <p:spPr>
          <a:xfrm>
            <a:off x="990720" y="457200"/>
            <a:ext cx="7100640" cy="5743440"/>
          </a:xfrm>
          <a:prstGeom prst="rect">
            <a:avLst/>
          </a:prstGeom>
          <a:ln w="0">
            <a:noFill/>
          </a:ln>
        </p:spPr>
      </p:pic>
      <p:sp>
        <p:nvSpPr>
          <p:cNvPr id="6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5A16B278-9436-4DFC-A90A-6E1B613E584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79"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chnical Attack Methods: </a:t>
            </a:r>
            <a:br>
              <a:rPr sz="4500"/>
            </a:br>
            <a:r>
              <a:rPr b="0" lang="en-US" sz="4500" spc="-1" strike="noStrike">
                <a:solidFill>
                  <a:srgbClr val="04617b"/>
                </a:solidFill>
                <a:latin typeface="Calibri"/>
              </a:rPr>
              <a:t>From Viruses to Denial of Service</a:t>
            </a:r>
            <a:endParaRPr b="0" lang="en-US" sz="4500" spc="-1" strike="noStrike">
              <a:solidFill>
                <a:srgbClr val="04617b"/>
              </a:solidFill>
              <a:latin typeface="Calibri"/>
            </a:endParaRPr>
          </a:p>
        </p:txBody>
      </p:sp>
      <p:sp>
        <p:nvSpPr>
          <p:cNvPr id="681" name=""/>
          <p:cNvSpPr txBox="1"/>
          <p:nvPr/>
        </p:nvSpPr>
        <p:spPr>
          <a:xfrm>
            <a:off x="457200" y="1934640"/>
            <a:ext cx="8229600" cy="4389480"/>
          </a:xfrm>
          <a:prstGeom prst="rect">
            <a:avLst/>
          </a:prstGeom>
          <a:noFill/>
          <a:ln w="0">
            <a:noFill/>
          </a:ln>
        </p:spPr>
        <p:txBody>
          <a:bodyPr anchor="t">
            <a:normAutofit/>
          </a:bodyPr>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acro virus (macro worm)</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macro virus or macro worm is executed when the application object that contains the macro is opened or a particular procedure is execute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Trojan hors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program that appears to have a useful function but that contains a hidden function that presents a security risk</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banking Trojan</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Trojan that comes to life when computer owners visit one of a number of online banking or e-commerce sites</a:t>
            </a:r>
            <a:endParaRPr b="0" lang="en-US" sz="2100" spc="-1" strike="noStrike">
              <a:solidFill>
                <a:srgbClr val="000000"/>
              </a:solidFill>
              <a:latin typeface="Constantia"/>
            </a:endParaRPr>
          </a:p>
        </p:txBody>
      </p:sp>
      <p:sp>
        <p:nvSpPr>
          <p:cNvPr id="68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B2BD3AF-DF2B-4321-8535-94C6E8AC673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83"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chnical Attack Methods: </a:t>
            </a:r>
            <a:br>
              <a:rPr sz="4500"/>
            </a:br>
            <a:r>
              <a:rPr b="0" lang="en-US" sz="4500" spc="-1" strike="noStrike">
                <a:solidFill>
                  <a:srgbClr val="04617b"/>
                </a:solidFill>
                <a:latin typeface="Calibri"/>
              </a:rPr>
              <a:t>From Viruses to Denial of Service</a:t>
            </a:r>
            <a:endParaRPr b="0" lang="en-US" sz="4500" spc="-1" strike="noStrike">
              <a:solidFill>
                <a:srgbClr val="04617b"/>
              </a:solidFill>
              <a:latin typeface="Calibri"/>
            </a:endParaRPr>
          </a:p>
        </p:txBody>
      </p:sp>
      <p:sp>
        <p:nvSpPr>
          <p:cNvPr id="685"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nial-of-service (DoS) attack</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attack on a website in which an attacker uses specialized software to send a flood of data packets to the target computer with the aim of overloading its resour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ge hijack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reating a rogue copy of a popular website that shows contents similar to the original to a Web crawler; once there, an unsuspecting user is redirected to malicious websites</a:t>
            </a:r>
            <a:endParaRPr b="0" lang="en-US" sz="2400" spc="-1" strike="noStrike">
              <a:solidFill>
                <a:srgbClr val="000000"/>
              </a:solidFill>
              <a:latin typeface="Constantia"/>
            </a:endParaRPr>
          </a:p>
        </p:txBody>
      </p:sp>
      <p:sp>
        <p:nvSpPr>
          <p:cNvPr id="68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DB447D99-0E0F-407D-AA95-03746B8FD66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8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chnical Attack Methods: </a:t>
            </a:r>
            <a:br>
              <a:rPr sz="4500"/>
            </a:br>
            <a:r>
              <a:rPr b="0" lang="en-US" sz="4500" spc="-1" strike="noStrike">
                <a:solidFill>
                  <a:srgbClr val="04617b"/>
                </a:solidFill>
                <a:latin typeface="Calibri"/>
              </a:rPr>
              <a:t>From Viruses to Denial of Service</a:t>
            </a:r>
            <a:endParaRPr b="0" lang="en-US" sz="4500" spc="-1" strike="noStrike">
              <a:solidFill>
                <a:srgbClr val="04617b"/>
              </a:solidFill>
              <a:latin typeface="Calibri"/>
            </a:endParaRPr>
          </a:p>
        </p:txBody>
      </p:sp>
      <p:sp>
        <p:nvSpPr>
          <p:cNvPr id="68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otne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huge number (e.g., hundreds of thousands) of hijacked Internet computers that have been set up to forward traffic, including spam and viruses, to other computers on the Intern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lvertising</a:t>
            </a:r>
            <a:endParaRPr b="0" lang="en-US" sz="2400" spc="-1" strike="noStrike">
              <a:solidFill>
                <a:srgbClr val="000000"/>
              </a:solidFill>
              <a:latin typeface="Constantia"/>
            </a:endParaRPr>
          </a:p>
        </p:txBody>
      </p:sp>
      <p:sp>
        <p:nvSpPr>
          <p:cNvPr id="69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FB427433-85CA-4A5C-838D-847BED483E7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9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
          <p:cNvPicPr/>
          <p:nvPr/>
        </p:nvPicPr>
        <p:blipFill>
          <a:blip r:embed="rId1"/>
          <a:stretch/>
        </p:blipFill>
        <p:spPr>
          <a:xfrm>
            <a:off x="457200" y="914400"/>
            <a:ext cx="8359920" cy="5181480"/>
          </a:xfrm>
          <a:prstGeom prst="rect">
            <a:avLst/>
          </a:prstGeom>
          <a:ln w="0">
            <a:noFill/>
          </a:ln>
        </p:spPr>
      </p:pic>
      <p:sp>
        <p:nvSpPr>
          <p:cNvPr id="6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B216D81-BAAF-4C26-8A21-9E7DDA2103F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94"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Nontechnical Methods: </a:t>
            </a:r>
            <a:br>
              <a:rPr sz="4800"/>
            </a:br>
            <a:r>
              <a:rPr b="0" lang="en-US" sz="4800" spc="-1" strike="noStrike">
                <a:solidFill>
                  <a:srgbClr val="04617b"/>
                </a:solidFill>
                <a:latin typeface="Calibri"/>
              </a:rPr>
              <a:t>From Phishing To Spam</a:t>
            </a:r>
            <a:endParaRPr b="0" lang="en-US" sz="4800" spc="-1" strike="noStrike">
              <a:solidFill>
                <a:srgbClr val="04617b"/>
              </a:solidFill>
              <a:latin typeface="Calibri"/>
            </a:endParaRPr>
          </a:p>
        </p:txBody>
      </p:sp>
      <p:sp>
        <p:nvSpPr>
          <p:cNvPr id="6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PHISH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phisticated Phishing Method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RAUD ON THE INTERN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amples of Typical Online Fraud Attac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dentity Theft and Identify Fraud</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identity theft</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Fraud that involves stealing an identity of a person and then the use of that identity by someone pretending to be someone else in order to steal money or get other benefits</a:t>
            </a:r>
            <a:endParaRPr b="0" lang="en-US" sz="2100" spc="-1" strike="noStrike">
              <a:solidFill>
                <a:srgbClr val="000000"/>
              </a:solidFill>
              <a:latin typeface="Constantia"/>
            </a:endParaRPr>
          </a:p>
        </p:txBody>
      </p:sp>
      <p:sp>
        <p:nvSpPr>
          <p:cNvPr id="69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9F082944-2CF8-4F51-AC19-7A87D06E275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98"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Picture 2" descr=""/>
          <p:cNvPicPr/>
          <p:nvPr/>
        </p:nvPicPr>
        <p:blipFill>
          <a:blip r:embed="rId1"/>
          <a:stretch/>
        </p:blipFill>
        <p:spPr>
          <a:xfrm>
            <a:off x="380880" y="914400"/>
            <a:ext cx="8429760" cy="5191200"/>
          </a:xfrm>
          <a:prstGeom prst="rect">
            <a:avLst/>
          </a:prstGeom>
          <a:ln w="0">
            <a:noFill/>
          </a:ln>
        </p:spPr>
      </p:pic>
      <p:sp>
        <p:nvSpPr>
          <p:cNvPr id="7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F0FE762-2E17-4BC4-8FA2-A5DDA65054B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0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8052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ontechnical Methods: </a:t>
            </a:r>
            <a:br>
              <a:rPr sz="4500"/>
            </a:br>
            <a:r>
              <a:rPr b="0" lang="en-US" sz="4500" spc="-1" strike="noStrike">
                <a:solidFill>
                  <a:srgbClr val="04617b"/>
                </a:solidFill>
                <a:latin typeface="Calibri"/>
              </a:rPr>
              <a:t>From Phishing To Spam</a:t>
            </a:r>
            <a:endParaRPr b="0" lang="en-US" sz="4500" spc="-1" strike="noStrike">
              <a:solidFill>
                <a:srgbClr val="04617b"/>
              </a:solidFill>
              <a:latin typeface="Calibri"/>
            </a:endParaRPr>
          </a:p>
        </p:txBody>
      </p:sp>
      <p:sp>
        <p:nvSpPr>
          <p:cNvPr id="703" name=""/>
          <p:cNvSpPr txBox="1"/>
          <p:nvPr/>
        </p:nvSpPr>
        <p:spPr>
          <a:xfrm>
            <a:off x="457200" y="1676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YBER BANK ROBBER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Financial Fraud</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AM AND SPYWARE ATTACK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mail spa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ubset of spam that involves nearly identical messages sent to numerous recipients by e-mai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ical Examples of Spamm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ywar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oftware that gathers user information over an Internet connection without the user’s knowledge</a:t>
            </a:r>
            <a:endParaRPr b="0" lang="en-US" sz="2400" spc="-1" strike="noStrike">
              <a:solidFill>
                <a:srgbClr val="000000"/>
              </a:solidFill>
              <a:latin typeface="Constantia"/>
            </a:endParaRPr>
          </a:p>
        </p:txBody>
      </p:sp>
      <p:sp>
        <p:nvSpPr>
          <p:cNvPr id="70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4D183BA-EF2E-4CA5-80CC-B9FCE64267B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0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Nontechnical Methods: </a:t>
            </a:r>
            <a:br>
              <a:rPr sz="4800"/>
            </a:br>
            <a:r>
              <a:rPr b="0" lang="en-US" sz="4800" spc="-1" strike="noStrike">
                <a:solidFill>
                  <a:srgbClr val="04617b"/>
                </a:solidFill>
                <a:latin typeface="Calibri"/>
              </a:rPr>
              <a:t>From Phishing To Spam</a:t>
            </a:r>
            <a:endParaRPr b="0" lang="en-US" sz="4800" spc="-1" strike="noStrike">
              <a:solidFill>
                <a:srgbClr val="04617b"/>
              </a:solidFill>
              <a:latin typeface="Calibri"/>
            </a:endParaRPr>
          </a:p>
        </p:txBody>
      </p:sp>
      <p:sp>
        <p:nvSpPr>
          <p:cNvPr id="7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NETWORKING MAKES SOCIAL ENGINEERING EAS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ow Hackers Are Attacking Social Networ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am in Social Networks and in the Web 2.0 Environment</a:t>
            </a:r>
            <a:endParaRPr b="0" lang="en-US" sz="2400" spc="-1" strike="noStrike">
              <a:solidFill>
                <a:srgbClr val="000000"/>
              </a:solidFill>
              <a:latin typeface="Constantia"/>
            </a:endParaRPr>
          </a:p>
        </p:txBody>
      </p:sp>
      <p:sp>
        <p:nvSpPr>
          <p:cNvPr id="70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77033EE-ACF0-4DF1-BD76-1CF9C37F524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0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609" name=""/>
          <p:cNvSpPr txBox="1"/>
          <p:nvPr/>
        </p:nvSpPr>
        <p:spPr>
          <a:xfrm>
            <a:off x="457200" y="1934640"/>
            <a:ext cx="8229600" cy="4389480"/>
          </a:xfrm>
          <a:prstGeom prst="rect">
            <a:avLst/>
          </a:prstGeom>
          <a:noFill/>
          <a:ln w="0">
            <a:noFill/>
          </a:ln>
        </p:spPr>
        <p:txBody>
          <a:bodyPr anchor="t">
            <a:normAutofit fontScale="96000"/>
          </a:bodyPr>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major technologies for protection of EC networks.</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various types of controls and special defense mechanisms.</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consumer and seller protection from fraud.</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role of business continuity and disaster recovery planning.</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EC security’s enterprisewide implementation issues.</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why it is not possible to stop computer crimes.</a:t>
            </a:r>
            <a:endParaRPr b="0" lang="en-US" sz="2400" spc="-1" strike="noStrike">
              <a:solidFill>
                <a:srgbClr val="000000"/>
              </a:solidFill>
              <a:latin typeface="Constantia"/>
            </a:endParaRPr>
          </a:p>
        </p:txBody>
      </p:sp>
      <p:sp>
        <p:nvSpPr>
          <p:cNvPr id="61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F2A6E410-092C-4110-A3C2-D660EB1C124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1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Nontechnical Methods: </a:t>
            </a:r>
            <a:br>
              <a:rPr sz="4800"/>
            </a:br>
            <a:r>
              <a:rPr b="0" lang="en-US" sz="4800" spc="-1" strike="noStrike">
                <a:solidFill>
                  <a:srgbClr val="04617b"/>
                </a:solidFill>
                <a:latin typeface="Calibri"/>
              </a:rPr>
              <a:t>From Phishing To Spam</a:t>
            </a:r>
            <a:endParaRPr b="0" lang="en-US" sz="4800" spc="-1" strike="noStrike">
              <a:solidFill>
                <a:srgbClr val="04617b"/>
              </a:solidFill>
              <a:latin typeface="Calibri"/>
            </a:endParaRPr>
          </a:p>
        </p:txBody>
      </p:sp>
      <p:sp>
        <p:nvSpPr>
          <p:cNvPr id="711" name=""/>
          <p:cNvSpPr txBox="1"/>
          <p:nvPr/>
        </p:nvSpPr>
        <p:spPr>
          <a:xfrm>
            <a:off x="457200" y="1934640"/>
            <a:ext cx="8229600" cy="4389480"/>
          </a:xfrm>
          <a:prstGeom prst="rect">
            <a:avLst/>
          </a:prstGeom>
          <a:noFill/>
          <a:ln w="0">
            <a:noFill/>
          </a:ln>
        </p:spPr>
        <p:txBody>
          <a:bodyPr anchor="t">
            <a:normAutofit fontScale="97000"/>
          </a:bodyPr>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engine spam</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ages created deliberately to trick the search engine into offering inappropriate, redundant, or poor-quality search results</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am site</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age that uses techniques that deliberately subvert a search engine’s algorithms to artificially inflate the page’s rankings</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log</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hort for </a:t>
            </a:r>
            <a:r>
              <a:rPr b="0" i="1" lang="en-US" sz="2400" spc="-1" strike="noStrike">
                <a:solidFill>
                  <a:srgbClr val="000000"/>
                </a:solidFill>
                <a:latin typeface="Constantia"/>
              </a:rPr>
              <a:t>spam blog</a:t>
            </a:r>
            <a:r>
              <a:rPr b="0" lang="en-US" sz="2400" spc="-1" strike="noStrike">
                <a:solidFill>
                  <a:srgbClr val="000000"/>
                </a:solidFill>
                <a:latin typeface="Constantia"/>
              </a:rPr>
              <a:t>, a site created solely for marketing purposes</a:t>
            </a:r>
            <a:endParaRPr b="0" lang="en-US" sz="2400" spc="-1" strike="noStrike">
              <a:solidFill>
                <a:srgbClr val="000000"/>
              </a:solidFill>
              <a:latin typeface="Constantia"/>
            </a:endParaRPr>
          </a:p>
        </p:txBody>
      </p:sp>
      <p:sp>
        <p:nvSpPr>
          <p:cNvPr id="71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75F4918-EC27-43CE-A23D-7CD3DF644F4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13"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Nontechnical Methods: </a:t>
            </a:r>
            <a:br>
              <a:rPr sz="4800"/>
            </a:br>
            <a:r>
              <a:rPr b="0" lang="en-US" sz="4800" spc="-1" strike="noStrike">
                <a:solidFill>
                  <a:srgbClr val="04617b"/>
                </a:solidFill>
                <a:latin typeface="Calibri"/>
              </a:rPr>
              <a:t>From Phishing To Spam</a:t>
            </a:r>
            <a:endParaRPr b="0" lang="en-US" sz="4800" spc="-1" strike="noStrike">
              <a:solidFill>
                <a:srgbClr val="04617b"/>
              </a:solidFill>
              <a:latin typeface="Calibri"/>
            </a:endParaRPr>
          </a:p>
        </p:txBody>
      </p:sp>
      <p:sp>
        <p:nvSpPr>
          <p:cNvPr id="715"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breach</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ecurity incident in which sensitive, protected, or confidential data is copied, transmitted, viewed, stolen, or used by an individual unauthorized to do s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1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6FDAE16D-09A9-4B3D-9768-67931099662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1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IA security triad (CIA tria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ree security concepts important to information on the Internet: confidentiality, integrity, and availabil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fidential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ssurance of data privacy and accuracy; keeping private or sensitive information from being disclosed to unauthorized individuals, entities, or processes</a:t>
            </a:r>
            <a:endParaRPr b="0" lang="en-US" sz="2400" spc="-1" strike="noStrike">
              <a:solidFill>
                <a:srgbClr val="000000"/>
              </a:solidFill>
              <a:latin typeface="Constantia"/>
            </a:endParaRPr>
          </a:p>
        </p:txBody>
      </p:sp>
      <p:sp>
        <p:nvSpPr>
          <p:cNvPr id="72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B26CD3C-AF61-4650-91F9-B31C6369491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2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23"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gr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ssurance that stored data has not been modified without authorization; a message that was sent is the same message as that which was receiv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vailabil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ssurance that access to data, the website, or other EC data service is timely, available, reliable, and restricted to authorized users</a:t>
            </a:r>
            <a:endParaRPr b="0" lang="en-US" sz="2400" spc="-1" strike="noStrike">
              <a:solidFill>
                <a:srgbClr val="000000"/>
              </a:solidFill>
              <a:latin typeface="Constantia"/>
            </a:endParaRPr>
          </a:p>
        </p:txBody>
      </p:sp>
      <p:sp>
        <p:nvSpPr>
          <p:cNvPr id="72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3084B423-3F05-4578-8B6A-2A8B63D016E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2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UTHENTICATION, AUTHORIZATION, AND NONREPUDI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COMMERCE SECURITY STRATEG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Objective of Security Defen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urity Spending Versus Needs Ga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ssessing Security Need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vulnerability assessment</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The process of identifying, quantifying, and prioritizing the vulnerabilities in a system</a:t>
            </a:r>
            <a:endParaRPr b="0" lang="en-US" sz="2100" spc="-1" strike="noStrike">
              <a:solidFill>
                <a:srgbClr val="000000"/>
              </a:solidFill>
              <a:latin typeface="Constantia"/>
            </a:endParaRPr>
          </a:p>
        </p:txBody>
      </p:sp>
      <p:sp>
        <p:nvSpPr>
          <p:cNvPr id="72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538AD9C6-24A4-44FE-9CB7-B7C4D52B4CD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2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2" descr=""/>
          <p:cNvPicPr/>
          <p:nvPr/>
        </p:nvPicPr>
        <p:blipFill>
          <a:blip r:embed="rId1"/>
          <a:stretch/>
        </p:blipFill>
        <p:spPr>
          <a:xfrm>
            <a:off x="380880" y="990720"/>
            <a:ext cx="8358480" cy="5181480"/>
          </a:xfrm>
          <a:prstGeom prst="rect">
            <a:avLst/>
          </a:prstGeom>
          <a:ln w="0">
            <a:noFill/>
          </a:ln>
        </p:spPr>
      </p:pic>
      <p:sp>
        <p:nvSpPr>
          <p:cNvPr id="73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7500058-7E79-41F7-B035-75BBD9695C0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32"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3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netration test (pen tes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ethod of evaluating the security of a computer system or a network by simulating an attack from a malicious source, (e.g., a crack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ecurity program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ll the policies, procedures, documents, standards, hardware, software, training, and personnel that work together to protect information, the ability to conduct business, and other assets</a:t>
            </a:r>
            <a:endParaRPr b="0" lang="en-US" sz="2400" spc="-1" strike="noStrike">
              <a:solidFill>
                <a:srgbClr val="000000"/>
              </a:solidFill>
              <a:latin typeface="Constantia"/>
            </a:endParaRPr>
          </a:p>
        </p:txBody>
      </p:sp>
      <p:sp>
        <p:nvSpPr>
          <p:cNvPr id="73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654C0CD-4F71-44FE-AED2-8BE27E2299A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3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mputer security incident manage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monitoring and detection of security events on a computer or computer network, and the execution of proper responses to those events. The primary purpose of incident management is the development of a well understood and predictable response to damaging events and computer intrusions.</a:t>
            </a:r>
            <a:endParaRPr b="0" lang="en-US" sz="2600" spc="-1" strike="noStrike">
              <a:solidFill>
                <a:srgbClr val="000000"/>
              </a:solidFill>
              <a:latin typeface="Constantia"/>
            </a:endParaRPr>
          </a:p>
        </p:txBody>
      </p:sp>
      <p:sp>
        <p:nvSpPr>
          <p:cNvPr id="73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8356BCF-A727-4763-A856-C6C0C1DA0E6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4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BB04C8C-94D9-41B8-A3E0-FD9B2966A75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42"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pic>
        <p:nvPicPr>
          <p:cNvPr id="743" name="Picture 5" descr=""/>
          <p:cNvPicPr/>
          <p:nvPr/>
        </p:nvPicPr>
        <p:blipFill>
          <a:blip r:embed="rId1"/>
          <a:stretch/>
        </p:blipFill>
        <p:spPr>
          <a:xfrm>
            <a:off x="855720" y="762120"/>
            <a:ext cx="7327800" cy="5257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DEFENSE SIDE OF EC SYSTEMS</a:t>
            </a:r>
            <a:endParaRPr b="0" lang="en-US" sz="26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ending access to computing systems, data flow, and EC transactions</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ending EC networks</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l, administrative, and application controls</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tection against social engineering and fraud</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aster preparation, business continuity, and risk management</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lementing enterprisewide security programs</a:t>
            </a:r>
            <a:endParaRPr b="0" lang="en-US" sz="2400" spc="-1" strike="noStrike">
              <a:solidFill>
                <a:srgbClr val="000000"/>
              </a:solidFill>
              <a:latin typeface="Constantia"/>
            </a:endParaRPr>
          </a:p>
        </p:txBody>
      </p:sp>
      <p:sp>
        <p:nvSpPr>
          <p:cNvPr id="74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F2458A41-62C8-4D8B-92E2-F830E80E8D4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4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Security Problem</a:t>
            </a:r>
            <a:endParaRPr b="0" lang="en-US" sz="4500" spc="-1" strike="noStrike">
              <a:solidFill>
                <a:srgbClr val="04617b"/>
              </a:solidFill>
              <a:latin typeface="Calibri"/>
            </a:endParaRPr>
          </a:p>
        </p:txBody>
      </p:sp>
      <p:sp>
        <p:nvSpPr>
          <p:cNvPr id="613" name=""/>
          <p:cNvSpPr txBox="1"/>
          <p:nvPr/>
        </p:nvSpPr>
        <p:spPr>
          <a:xfrm>
            <a:off x="457200" y="18284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formation security</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tecting information and information systems from unauthorized access, use, disclosure, disruption, modification, perusal, inspection, recording or destruction</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IS EC SECURITY?</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SI Computer Crime and Security Survey</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nual security survey of U.S. corporations, government agencies, financial and medical institutions, and universities conducted by the Computer Security Institute</a:t>
            </a:r>
            <a:endParaRPr b="0" lang="en-US" sz="2400" spc="-1" strike="noStrike">
              <a:solidFill>
                <a:srgbClr val="000000"/>
              </a:solidFill>
              <a:latin typeface="Constantia"/>
            </a:endParaRPr>
          </a:p>
        </p:txBody>
      </p:sp>
      <p:sp>
        <p:nvSpPr>
          <p:cNvPr id="61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DC136466-6F3B-4CBD-82DD-9619F4E94C5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1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04560" y="3045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49" name=""/>
          <p:cNvSpPr txBox="1"/>
          <p:nvPr/>
        </p:nvSpPr>
        <p:spPr>
          <a:xfrm>
            <a:off x="457200" y="15998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ccess control</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Mechanism that determines who can legitimately use a network resource</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horization and Authentication</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iometric control</a:t>
            </a: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automated method for verifying the identity of a person based on physical or behavioral characteristic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iometric systems</a:t>
            </a: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uthentication systems that identify a person by measurement of a biological characteristic, such as fingerprints, iris (eye) patterns, facial features, or voice</a:t>
            </a:r>
            <a:endParaRPr b="0" lang="en-US" sz="2400" spc="-1" strike="noStrike">
              <a:solidFill>
                <a:srgbClr val="000000"/>
              </a:solidFill>
              <a:latin typeface="Constantia"/>
            </a:endParaRPr>
          </a:p>
        </p:txBody>
      </p:sp>
      <p:sp>
        <p:nvSpPr>
          <p:cNvPr id="75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CEB8298-DFAD-4ED2-8E1A-2347814D569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5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53"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NCRYPTION AND THE ONE-KEY (SYMMETRIC) SYSTEM</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ncryption</a:t>
            </a:r>
            <a:endParaRPr b="0" lang="en-US" sz="2200" spc="-1" strike="noStrike">
              <a:solidFill>
                <a:srgbClr val="000000"/>
              </a:solidFill>
              <a:latin typeface="Constantia"/>
            </a:endParaRPr>
          </a:p>
          <a:p>
            <a:pPr lvl="1" marL="620280" indent="-238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The process of scrambling (encrypting) a message in such a way that it is difficult, expensive, or time-consuming for an unauthorized person to unscramble (decrypt) it</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laintext</a:t>
            </a:r>
            <a:endParaRPr b="0" lang="en-US" sz="2200" spc="-1" strike="noStrike">
              <a:solidFill>
                <a:srgbClr val="000000"/>
              </a:solidFill>
              <a:latin typeface="Constantia"/>
            </a:endParaRPr>
          </a:p>
          <a:p>
            <a:pPr lvl="1" marL="620280" indent="-238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n unencrypted message in human-readable form</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iphertext</a:t>
            </a:r>
            <a:endParaRPr b="0" lang="en-US" sz="2200" spc="-1" strike="noStrike">
              <a:solidFill>
                <a:srgbClr val="000000"/>
              </a:solidFill>
              <a:latin typeface="Constantia"/>
            </a:endParaRPr>
          </a:p>
          <a:p>
            <a:pPr lvl="1" marL="620280" indent="-238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 plaintext message after it has been encrypted into a machine-readable form</a:t>
            </a:r>
            <a:endParaRPr b="0" lang="en-US" sz="2200" spc="-1" strike="noStrike">
              <a:solidFill>
                <a:srgbClr val="000000"/>
              </a:solidFill>
              <a:latin typeface="Constantia"/>
            </a:endParaRPr>
          </a:p>
        </p:txBody>
      </p:sp>
      <p:sp>
        <p:nvSpPr>
          <p:cNvPr id="75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E91742C-C30F-41B9-B85B-D9F205B75A5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5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5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ncryption algorith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mathematical formula used to encrypt the plaintext into the ciphertext, and vice vers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ey (key valu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secret code used to encrypt and decrypt a messa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ey spa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large number of possible key values (keys) created by the algorithm to use when transforming the message</a:t>
            </a:r>
            <a:endParaRPr b="0" lang="en-US" sz="2400" spc="-1" strike="noStrike">
              <a:solidFill>
                <a:srgbClr val="000000"/>
              </a:solidFill>
              <a:latin typeface="Constantia"/>
            </a:endParaRPr>
          </a:p>
        </p:txBody>
      </p:sp>
      <p:sp>
        <p:nvSpPr>
          <p:cNvPr id="75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5DAF7D8-A78E-43F7-9920-5AE3B865FF9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5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675DF99F-19F2-4C22-818C-F2F22AC7C8A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6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pic>
        <p:nvPicPr>
          <p:cNvPr id="762" name="Picture 5" descr=""/>
          <p:cNvPicPr/>
          <p:nvPr/>
        </p:nvPicPr>
        <p:blipFill>
          <a:blip r:embed="rId1"/>
          <a:stretch/>
        </p:blipFill>
        <p:spPr>
          <a:xfrm>
            <a:off x="463680" y="1905120"/>
            <a:ext cx="8216640" cy="304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6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ymmetric (private) key encryp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encryption system that uses the same key to encrypt and decrypt the messa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Encryption Standard (DE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standard symmetric encryption algorithm supported by the NIST and used by U.S. government agencies until October 2000</a:t>
            </a:r>
            <a:endParaRPr b="0" lang="en-US" sz="2400" spc="-1" strike="noStrike">
              <a:solidFill>
                <a:srgbClr val="000000"/>
              </a:solidFill>
              <a:latin typeface="Constantia"/>
            </a:endParaRPr>
          </a:p>
        </p:txBody>
      </p:sp>
      <p:sp>
        <p:nvSpPr>
          <p:cNvPr id="76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2568DC78-41E9-47AE-B1F3-89407D0A44E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6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04560" y="380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68" name=""/>
          <p:cNvSpPr txBox="1"/>
          <p:nvPr/>
        </p:nvSpPr>
        <p:spPr>
          <a:xfrm>
            <a:off x="533520" y="167616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ublic key infrastructure (PKI)</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cheme for securing e-payments using public key encryption and various technical components</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blic (asymmetric) key encryption</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ethod of encryption that uses a pair of matched keys—a public key to encrypt a message and a private key to decrypt it, or vice versa</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blic key</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ncryption code that is publicly available to anyone</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ivate key</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ncryption code that is known only to its owner</a:t>
            </a:r>
            <a:endParaRPr b="0" lang="en-US" sz="2400" spc="-1" strike="noStrike">
              <a:solidFill>
                <a:srgbClr val="000000"/>
              </a:solidFill>
              <a:latin typeface="Constantia"/>
            </a:endParaRPr>
          </a:p>
        </p:txBody>
      </p:sp>
      <p:sp>
        <p:nvSpPr>
          <p:cNvPr id="76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9AD4601-F2D8-4147-9679-5F7C44741AF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7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72" name=""/>
          <p:cNvSpPr txBox="1"/>
          <p:nvPr/>
        </p:nvSpPr>
        <p:spPr>
          <a:xfrm>
            <a:off x="457200" y="1934640"/>
            <a:ext cx="8229600" cy="4389480"/>
          </a:xfrm>
          <a:prstGeom prst="rect">
            <a:avLst/>
          </a:prstGeom>
          <a:noFill/>
          <a:ln w="0">
            <a:noFill/>
          </a:ln>
        </p:spPr>
        <p:txBody>
          <a:bodyPr anchor="t">
            <a:normAutofit fontScale="97000"/>
          </a:bodyPr>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ital signature or digital certificate</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Validates the sender and time stamp of a transaction so it cannot be later claimed that the transaction was unauthorized or invalid</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ash function</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thematical computation that is applied to a message, using a private key, to encrypt the message</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essage digest (MD)</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ummary of a message converted into a string of digits after the hash has been applied</a:t>
            </a:r>
            <a:endParaRPr b="0" lang="en-US" sz="2400" spc="-1" strike="noStrike">
              <a:solidFill>
                <a:srgbClr val="000000"/>
              </a:solidFill>
              <a:latin typeface="Constantia"/>
            </a:endParaRPr>
          </a:p>
        </p:txBody>
      </p:sp>
      <p:sp>
        <p:nvSpPr>
          <p:cNvPr id="77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20DCD089-3F54-4F59-A7D8-0F32DD76425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74"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2" descr=""/>
          <p:cNvPicPr/>
          <p:nvPr/>
        </p:nvPicPr>
        <p:blipFill>
          <a:blip r:embed="rId1"/>
          <a:stretch/>
        </p:blipFill>
        <p:spPr>
          <a:xfrm>
            <a:off x="1533600" y="304920"/>
            <a:ext cx="6002280" cy="6019560"/>
          </a:xfrm>
          <a:prstGeom prst="rect">
            <a:avLst/>
          </a:prstGeom>
          <a:ln w="0">
            <a:noFill/>
          </a:ln>
        </p:spPr>
      </p:pic>
      <p:sp>
        <p:nvSpPr>
          <p:cNvPr id="7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2F3761EA-09BB-4780-96EA-B93AA9A0971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77"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7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ital envelop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combination of the encrypted original message and the digital signature, using the recipient’s public ke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ertificate authorities (CA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ird parties that issue digital certifica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ure Socket Layer (SSL)</a:t>
            </a:r>
            <a:endParaRPr b="0" lang="en-US" sz="2400" spc="-1" strike="noStrike">
              <a:solidFill>
                <a:srgbClr val="000000"/>
              </a:solidFill>
              <a:latin typeface="Constantia"/>
            </a:endParaRPr>
          </a:p>
        </p:txBody>
      </p:sp>
      <p:sp>
        <p:nvSpPr>
          <p:cNvPr id="78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CD6936B-1518-49CF-92C2-4EBEC78928E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8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7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irewal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ingle point between two or more networks where all traffic must pass (choke point); the device authenticates, controls, and logs all traff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cke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egment of data sent from one computer to another on a networ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Dual Firewall Architecture: The DMZ</a:t>
            </a:r>
            <a:endParaRPr b="0" lang="en-US" sz="2400" spc="-1" strike="noStrike">
              <a:solidFill>
                <a:srgbClr val="000000"/>
              </a:solidFill>
              <a:latin typeface="Constantia"/>
            </a:endParaRPr>
          </a:p>
        </p:txBody>
      </p:sp>
      <p:sp>
        <p:nvSpPr>
          <p:cNvPr id="78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9BBBE8D-DB4B-4569-83CA-C3B6B26A323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8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Security Problem</a:t>
            </a:r>
            <a:endParaRPr b="0" lang="en-US" sz="4500" spc="-1" strike="noStrike">
              <a:solidFill>
                <a:srgbClr val="04617b"/>
              </a:solidFill>
              <a:latin typeface="Calibri"/>
            </a:endParaRPr>
          </a:p>
        </p:txBody>
      </p:sp>
      <p:sp>
        <p:nvSpPr>
          <p:cNvPr id="61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 Secur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ational Secur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urity Risks for 2011–2012</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yberwars, Cyberespionage, and Cybercrimes Across Bord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Attack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rporate espionage that plagues businesses around the worl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olitical espionage and warfar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61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1AF7D17-F1F7-4DD1-AC0F-1DF504969E3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1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Picture 2" descr=""/>
          <p:cNvPicPr/>
          <p:nvPr/>
        </p:nvPicPr>
        <p:blipFill>
          <a:blip r:embed="rId1"/>
          <a:stretch/>
        </p:blipFill>
        <p:spPr>
          <a:xfrm>
            <a:off x="380880" y="990720"/>
            <a:ext cx="8220240" cy="5391000"/>
          </a:xfrm>
          <a:prstGeom prst="rect">
            <a:avLst/>
          </a:prstGeom>
          <a:ln w="0">
            <a:noFill/>
          </a:ln>
        </p:spPr>
      </p:pic>
      <p:sp>
        <p:nvSpPr>
          <p:cNvPr id="78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BF53CFE-40A1-44D3-A0DC-2823C223F26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88"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79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 firewal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etwork node designed to protect an individual user’s desktop system from the public network by monitoring all the traffic that passes through the computer’s network interface car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ditional Virus, Malware, and Botnet Protection</a:t>
            </a:r>
            <a:endParaRPr b="0" lang="en-US" sz="2400" spc="-1" strike="noStrike">
              <a:solidFill>
                <a:srgbClr val="000000"/>
              </a:solidFill>
              <a:latin typeface="Constantia"/>
            </a:endParaRPr>
          </a:p>
        </p:txBody>
      </p:sp>
      <p:sp>
        <p:nvSpPr>
          <p:cNvPr id="79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96AF203-0652-473D-BEEC-E9DAC35FE09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92"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794"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private network (VPN)</a:t>
            </a: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etwork that uses the public Internet to carry information but remains private by using encryption to scramble the communications, authentication to ensure that information has not been tampered with, and access control to verify the identity of anyone using the network</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rotocol tunneling</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Method used to ensure confidentiality and integrity of data transmitted over the Internet by encrypting data packets, sending them in packets across the Internet, and decrypting them at the destination address</a:t>
            </a:r>
            <a:endParaRPr b="0" lang="en-US" sz="2200" spc="-1" strike="noStrike">
              <a:solidFill>
                <a:srgbClr val="000000"/>
              </a:solidFill>
              <a:latin typeface="Constantia"/>
            </a:endParaRPr>
          </a:p>
        </p:txBody>
      </p:sp>
      <p:sp>
        <p:nvSpPr>
          <p:cNvPr id="79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6E4749DA-C288-4CB4-B17B-1ECA4F83DE0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9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7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rusion detection system (I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pecial category of software that can monitor activity across a network or on a host computer, watch for suspicious activity, and take automated action based on what it se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aling with DoS Attack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oud Computing Prevents DoS Attacks</a:t>
            </a:r>
            <a:endParaRPr b="0" lang="en-US" sz="2100" spc="-1" strike="noStrike">
              <a:solidFill>
                <a:srgbClr val="000000"/>
              </a:solidFill>
              <a:latin typeface="Constantia"/>
            </a:endParaRPr>
          </a:p>
        </p:txBody>
      </p:sp>
      <p:sp>
        <p:nvSpPr>
          <p:cNvPr id="7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F7AE376-0F4A-4BCD-B4C7-DC4B5C838E3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0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8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neyne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network of honeypo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neypo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duction system (e.g., firewalls, routers, Web servers, database servers) that looks like it does real work, but that acts as a decoy and is watched to study how network intrusions occu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Mail Secur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FDA5FB01-6814-4F77-88FD-9E08F712F2C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04"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4617b"/>
                </a:solidFill>
                <a:latin typeface="Calibri"/>
              </a:rPr>
              <a:t>The Defense III: General Controls, Internal Controls, Compliance, and Other Defense Mechanisms</a:t>
            </a:r>
            <a:endParaRPr b="0" lang="en-US" sz="3300" spc="-1" strike="noStrike">
              <a:solidFill>
                <a:srgbClr val="04617b"/>
              </a:solidFill>
              <a:latin typeface="Calibri"/>
            </a:endParaRPr>
          </a:p>
        </p:txBody>
      </p:sp>
      <p:sp>
        <p:nvSpPr>
          <p:cNvPr id="8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eneral contro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ontrols established to protect the system regardless of the specific application; for example, protecting hardware and controlling access to the data center are independent of the specific applic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pplication contro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ontrols that are intended to protect specific applications</a:t>
            </a:r>
            <a:endParaRPr b="0" lang="en-US" sz="2600" spc="-1" strike="noStrike">
              <a:solidFill>
                <a:srgbClr val="000000"/>
              </a:solidFill>
              <a:latin typeface="Constantia"/>
            </a:endParaRPr>
          </a:p>
        </p:txBody>
      </p:sp>
      <p:sp>
        <p:nvSpPr>
          <p:cNvPr id="80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F11167C-C64D-498B-A8D6-5ECFF971AA3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08"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9" name="Picture 2" descr=""/>
          <p:cNvPicPr/>
          <p:nvPr/>
        </p:nvPicPr>
        <p:blipFill>
          <a:blip r:embed="rId1"/>
          <a:stretch/>
        </p:blipFill>
        <p:spPr>
          <a:xfrm>
            <a:off x="1219320" y="609480"/>
            <a:ext cx="6715080" cy="5705640"/>
          </a:xfrm>
          <a:prstGeom prst="rect">
            <a:avLst/>
          </a:prstGeom>
          <a:ln w="0">
            <a:noFill/>
          </a:ln>
        </p:spPr>
      </p:pic>
      <p:sp>
        <p:nvSpPr>
          <p:cNvPr id="8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8959D35-B021-46C1-9093-02E317590F8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1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4617b"/>
                </a:solidFill>
                <a:latin typeface="Calibri"/>
              </a:rPr>
              <a:t>The Defense III: General Controls, Internal Controls, Compliance, and Other Defense Mechanisms</a:t>
            </a:r>
            <a:endParaRPr b="0" lang="en-US" sz="3300" spc="-1" strike="noStrike">
              <a:solidFill>
                <a:srgbClr val="04617b"/>
              </a:solidFill>
              <a:latin typeface="Calibri"/>
            </a:endParaRPr>
          </a:p>
        </p:txBody>
      </p:sp>
      <p:sp>
        <p:nvSpPr>
          <p:cNvPr id="813"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ENERAL, ADMINISTRATIVE, AND OTHER CONTROLS</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hysical Controls</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dministrative Controls</a:t>
            </a:r>
            <a:endParaRPr b="0" lang="en-US" sz="22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PPLICATION CONTROLS AND INTELLIGENT AGENTS</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lligent agents</a:t>
            </a:r>
            <a:endParaRPr b="0" lang="en-US" sz="2200" spc="-1" strike="noStrike">
              <a:solidFill>
                <a:srgbClr val="000000"/>
              </a:solidFill>
              <a:latin typeface="Constantia"/>
            </a:endParaRPr>
          </a:p>
          <a:p>
            <a:pPr lvl="1" marL="620280" indent="-238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Software applications that have some degree of reactivity, autonomy, and adaptability—as is needed in unpredictable attack situations; an agent is able to adapt itself based on changes occurring in its environment</a:t>
            </a:r>
            <a:endParaRPr b="0" lang="en-US" sz="2200" spc="-1" strike="noStrike">
              <a:solidFill>
                <a:srgbClr val="000000"/>
              </a:solidFill>
              <a:latin typeface="Constantia"/>
            </a:endParaRPr>
          </a:p>
        </p:txBody>
      </p:sp>
      <p:sp>
        <p:nvSpPr>
          <p:cNvPr id="81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8901709-5A05-45FE-80D4-30495095ACA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1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Picture 2" descr=""/>
          <p:cNvPicPr/>
          <p:nvPr/>
        </p:nvPicPr>
        <p:blipFill>
          <a:blip r:embed="rId1"/>
          <a:stretch/>
        </p:blipFill>
        <p:spPr>
          <a:xfrm>
            <a:off x="914400" y="457200"/>
            <a:ext cx="6958080" cy="5835600"/>
          </a:xfrm>
          <a:prstGeom prst="rect">
            <a:avLst/>
          </a:prstGeom>
          <a:ln w="0">
            <a:noFill/>
          </a:ln>
        </p:spPr>
      </p:pic>
      <p:sp>
        <p:nvSpPr>
          <p:cNvPr id="8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E56AD87-D769-490A-965B-1A63BE99579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18"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4617b"/>
                </a:solidFill>
                <a:latin typeface="Calibri"/>
              </a:rPr>
              <a:t>The Defense III: General Controls, Internal Controls, Compliance, and Other Defense Mechanisms</a:t>
            </a:r>
            <a:endParaRPr b="0" lang="en-US" sz="3300" spc="-1" strike="noStrike">
              <a:solidFill>
                <a:srgbClr val="04617b"/>
              </a:solidFill>
              <a:latin typeface="Calibri"/>
            </a:endParaRPr>
          </a:p>
        </p:txBody>
      </p:sp>
      <p:sp>
        <p:nvSpPr>
          <p:cNvPr id="8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TECTING AGAINST SPA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trolling the Assault of Non-Solicited Pornography and Marketing (CAN-SPAM) Ac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Law that makes it a crime to send commercial e-mail messages with false or misleading message headers or misleading subject lin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2E78A62-1233-4112-B494-D213AB4593B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22"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
          <p:cNvPicPr/>
          <p:nvPr/>
        </p:nvPicPr>
        <p:blipFill>
          <a:blip r:embed="rId1"/>
          <a:stretch/>
        </p:blipFill>
        <p:spPr>
          <a:xfrm>
            <a:off x="641520" y="1066680"/>
            <a:ext cx="7975440" cy="5257800"/>
          </a:xfrm>
          <a:prstGeom prst="rect">
            <a:avLst/>
          </a:prstGeom>
          <a:ln w="0">
            <a:noFill/>
          </a:ln>
        </p:spPr>
      </p:pic>
      <p:sp>
        <p:nvSpPr>
          <p:cNvPr id="6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95AD8674-ABF7-444A-8F99-A516B386071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22"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4617b"/>
                </a:solidFill>
                <a:latin typeface="Calibri"/>
              </a:rPr>
              <a:t>The Defense III: General Controls, Internal Controls, Compliance, and Other Defense Mechanisms</a:t>
            </a:r>
            <a:endParaRPr b="0" lang="en-US" sz="3300" spc="-1" strike="noStrike">
              <a:solidFill>
                <a:srgbClr val="04617b"/>
              </a:solidFill>
              <a:latin typeface="Calibri"/>
            </a:endParaRPr>
          </a:p>
        </p:txBody>
      </p:sp>
      <p:sp>
        <p:nvSpPr>
          <p:cNvPr id="8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TECTING AGAINST POP-UP A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TECTING AGAINST SOCIAL ENGINEERING ATTACK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tecting Against Phish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tecting Against Malvertis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TECTING AGAINST SPYW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Policies and Training</a:t>
            </a:r>
            <a:endParaRPr b="0" lang="en-US" sz="2400" spc="-1" strike="noStrike">
              <a:solidFill>
                <a:srgbClr val="000000"/>
              </a:solidFill>
              <a:latin typeface="Constantia"/>
            </a:endParaRPr>
          </a:p>
        </p:txBody>
      </p:sp>
      <p:sp>
        <p:nvSpPr>
          <p:cNvPr id="82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D12DF7A9-912D-4D28-8909-D1705FB23E1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2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Business Continuity, Disaster Recovery,</a:t>
            </a:r>
            <a:br>
              <a:rPr sz="4000"/>
            </a:br>
            <a:r>
              <a:rPr b="0" lang="en-US" sz="4000" spc="-1" strike="noStrike">
                <a:solidFill>
                  <a:srgbClr val="04617b"/>
                </a:solidFill>
                <a:latin typeface="Calibri"/>
              </a:rPr>
              <a:t>Security Auditing, and Risk Management</a:t>
            </a:r>
            <a:endParaRPr b="0" lang="en-US" sz="4000" spc="-1" strike="noStrike">
              <a:solidFill>
                <a:srgbClr val="04617b"/>
              </a:solidFill>
              <a:latin typeface="Calibri"/>
            </a:endParaRPr>
          </a:p>
        </p:txBody>
      </p:sp>
      <p:sp>
        <p:nvSpPr>
          <p:cNvPr id="8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 CONTINUITY AND DISASTER RECOVERY PLANN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saster avoidan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approach oriented toward prevention, the idea is to minimize the chance of avoidable disasters (such as fire or other human-caused threats)</a:t>
            </a:r>
            <a:endParaRPr b="0" lang="en-US" sz="2400" spc="-1" strike="noStrike">
              <a:solidFill>
                <a:srgbClr val="000000"/>
              </a:solidFill>
              <a:latin typeface="Constantia"/>
            </a:endParaRPr>
          </a:p>
        </p:txBody>
      </p:sp>
      <p:sp>
        <p:nvSpPr>
          <p:cNvPr id="82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9BFD8A1-8DB6-4A91-BA4F-0AB93139929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3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Picture 2" descr=""/>
          <p:cNvPicPr/>
          <p:nvPr/>
        </p:nvPicPr>
        <p:blipFill>
          <a:blip r:embed="rId1"/>
          <a:stretch/>
        </p:blipFill>
        <p:spPr>
          <a:xfrm>
            <a:off x="1523880" y="457200"/>
            <a:ext cx="5943600" cy="5796000"/>
          </a:xfrm>
          <a:prstGeom prst="rect">
            <a:avLst/>
          </a:prstGeom>
          <a:ln w="0">
            <a:noFill/>
          </a:ln>
        </p:spPr>
      </p:pic>
      <p:sp>
        <p:nvSpPr>
          <p:cNvPr id="8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DD043AD-FB5C-434D-8D0D-754B76C07F7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33"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Business Continuity, Disaster Recovery,</a:t>
            </a:r>
            <a:br>
              <a:rPr sz="4000"/>
            </a:br>
            <a:r>
              <a:rPr b="0" lang="en-US" sz="4000" spc="-1" strike="noStrike">
                <a:solidFill>
                  <a:srgbClr val="04617b"/>
                </a:solidFill>
                <a:latin typeface="Calibri"/>
              </a:rPr>
              <a:t>Security Auditing, and Risk Management</a:t>
            </a:r>
            <a:endParaRPr b="0" lang="en-US" sz="4000" spc="-1" strike="noStrike">
              <a:solidFill>
                <a:srgbClr val="04617b"/>
              </a:solidFill>
              <a:latin typeface="Calibri"/>
            </a:endParaRPr>
          </a:p>
        </p:txBody>
      </p:sp>
      <p:sp>
        <p:nvSpPr>
          <p:cNvPr id="8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ISK-MANAGEMENT AND COST–BENEFIT ANALY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isk-Management Analysi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alculating the Cost of a Fraud-Prevention Sys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thical Issu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9786F51-50FE-468B-A87F-02D70C3F21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3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mplementing </a:t>
            </a:r>
            <a:br>
              <a:rPr sz="4200"/>
            </a:br>
            <a:r>
              <a:rPr b="0" lang="en-US" sz="4200" spc="-1" strike="noStrike">
                <a:solidFill>
                  <a:srgbClr val="04617b"/>
                </a:solidFill>
                <a:latin typeface="Calibri"/>
              </a:rPr>
              <a:t>Enterprisewide E-Commerce Security</a:t>
            </a:r>
            <a:endParaRPr b="0" lang="en-US" sz="4200" spc="-1" strike="noStrike">
              <a:solidFill>
                <a:srgbClr val="04617b"/>
              </a:solidFill>
              <a:latin typeface="Calibri"/>
            </a:endParaRPr>
          </a:p>
        </p:txBody>
      </p:sp>
      <p:sp>
        <p:nvSpPr>
          <p:cNvPr id="839" name=""/>
          <p:cNvSpPr txBox="1"/>
          <p:nvPr/>
        </p:nvSpPr>
        <p:spPr>
          <a:xfrm>
            <a:off x="457200" y="1935000"/>
            <a:ext cx="8229600" cy="202752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DRIVERS OF EC SECURITY MANAGEMENT</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NIOR MANAGEMENT COMMITMENT AND SUPPORT</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nified Front</a:t>
            </a:r>
            <a:endParaRPr b="0" lang="en-US" sz="2400" spc="-1" strike="noStrike">
              <a:solidFill>
                <a:srgbClr val="000000"/>
              </a:solidFill>
              <a:latin typeface="Constantia"/>
            </a:endParaRPr>
          </a:p>
        </p:txBody>
      </p:sp>
      <p:pic>
        <p:nvPicPr>
          <p:cNvPr id="840" name="Picture 3" descr=""/>
          <p:cNvPicPr/>
          <p:nvPr/>
        </p:nvPicPr>
        <p:blipFill>
          <a:blip r:embed="rId1"/>
          <a:stretch/>
        </p:blipFill>
        <p:spPr>
          <a:xfrm>
            <a:off x="457200" y="4267080"/>
            <a:ext cx="8238960" cy="1695600"/>
          </a:xfrm>
          <a:prstGeom prst="rect">
            <a:avLst/>
          </a:prstGeom>
          <a:ln w="0">
            <a:noFill/>
          </a:ln>
        </p:spPr>
      </p:pic>
      <p:sp>
        <p:nvSpPr>
          <p:cNvPr id="84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73A5E30-3C75-41F6-A794-5AB408C50AC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42" name="Footer Placeholder 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51920" y="53316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mplementing </a:t>
            </a:r>
            <a:br>
              <a:rPr sz="4200"/>
            </a:br>
            <a:r>
              <a:rPr b="0" lang="en-US" sz="4200" spc="-1" strike="noStrike">
                <a:solidFill>
                  <a:srgbClr val="04617b"/>
                </a:solidFill>
                <a:latin typeface="Calibri"/>
              </a:rPr>
              <a:t>Enterprisewide E-Commerce Security</a:t>
            </a:r>
            <a:endParaRPr b="0" lang="en-US" sz="4200" spc="-1" strike="noStrike">
              <a:solidFill>
                <a:srgbClr val="04617b"/>
              </a:solidFill>
              <a:latin typeface="Calibri"/>
            </a:endParaRPr>
          </a:p>
        </p:txBody>
      </p:sp>
      <p:sp>
        <p:nvSpPr>
          <p:cNvPr id="844" name=""/>
          <p:cNvSpPr txBox="1"/>
          <p:nvPr/>
        </p:nvSpPr>
        <p:spPr>
          <a:xfrm>
            <a:off x="533520" y="1752120"/>
            <a:ext cx="8229600" cy="43894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ECURITY POLICIES AND TRAINING</a:t>
            </a:r>
            <a:endParaRPr b="0" lang="en-US" sz="24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cceptable use policy (AUP)</a:t>
            </a:r>
            <a:endParaRPr b="0" lang="en-US" sz="2200" spc="-1" strike="noStrike">
              <a:solidFill>
                <a:srgbClr val="000000"/>
              </a:solidFill>
              <a:latin typeface="Constantia"/>
            </a:endParaRPr>
          </a:p>
          <a:p>
            <a:pPr lvl="1" marL="607680" indent="-233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Policy that informs users of their responsibilities when using company networks, wireless devices, customer data, and so forth</a:t>
            </a:r>
            <a:endParaRPr b="0" lang="en-US" sz="22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ECURITY PROCEDURES AND ENFORCEMENT</a:t>
            </a:r>
            <a:endParaRPr b="0" lang="en-US" sz="24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usiness impact analysis (BIA)</a:t>
            </a:r>
            <a:endParaRPr b="0" lang="en-US" sz="2200" spc="-1" strike="noStrike">
              <a:solidFill>
                <a:srgbClr val="000000"/>
              </a:solidFill>
              <a:latin typeface="Constantia"/>
            </a:endParaRPr>
          </a:p>
          <a:p>
            <a:pPr lvl="1" marL="607680" indent="-233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n exercise that determines the impact of losing the support of an EC resource to an organization and establishes the escalation of that loss over time, identifies the minimum resources needed to recover, and prioritizes the recovery of processes and supporting systems</a:t>
            </a:r>
            <a:endParaRPr b="0" lang="en-US" sz="2200" spc="-1" strike="noStrike">
              <a:solidFill>
                <a:srgbClr val="000000"/>
              </a:solidFill>
              <a:latin typeface="Constantia"/>
            </a:endParaRPr>
          </a:p>
        </p:txBody>
      </p:sp>
      <p:sp>
        <p:nvSpPr>
          <p:cNvPr id="84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6C0F36F7-C9EE-4E7F-815E-DE1126131B1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4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mplementing </a:t>
            </a:r>
            <a:br>
              <a:rPr sz="4200"/>
            </a:br>
            <a:r>
              <a:rPr b="0" lang="en-US" sz="4200" spc="-1" strike="noStrike">
                <a:solidFill>
                  <a:srgbClr val="04617b"/>
                </a:solidFill>
                <a:latin typeface="Calibri"/>
              </a:rPr>
              <a:t>Enterprisewide E-Commerce Security</a:t>
            </a:r>
            <a:endParaRPr b="0" lang="en-US" sz="4200" spc="-1" strike="noStrike">
              <a:solidFill>
                <a:srgbClr val="04617b"/>
              </a:solidFill>
              <a:latin typeface="Calibri"/>
            </a:endParaRPr>
          </a:p>
        </p:txBody>
      </p:sp>
      <p:sp>
        <p:nvSpPr>
          <p:cNvPr id="848"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Y IS IT DIFFICULT TO STOP INTERNET CRIME?</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king Shopping Inconvenient</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ck of Cooperation from Credit Card Issuers and ISP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hoppers’ Negligence</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gnoring EC Security Best Practices</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omputing Technology Industry Association (CompTIA)</a:t>
            </a:r>
            <a:endParaRPr b="0" lang="en-US" sz="2100" spc="-1" strike="noStrike">
              <a:solidFill>
                <a:srgbClr val="000000"/>
              </a:solidFill>
              <a:latin typeface="Constantia"/>
            </a:endParaRPr>
          </a:p>
          <a:p>
            <a:pPr lvl="2" marL="905040" indent="-2437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Nonprofit trade group providing information security research and best practices</a:t>
            </a:r>
            <a:endParaRPr b="0" lang="en-US" sz="2100" spc="-1" strike="noStrike">
              <a:solidFill>
                <a:srgbClr val="000000"/>
              </a:solidFill>
              <a:latin typeface="Constantia"/>
            </a:endParaRPr>
          </a:p>
        </p:txBody>
      </p:sp>
      <p:sp>
        <p:nvSpPr>
          <p:cNvPr id="84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3A242FE-32B4-4078-9D7F-4151FACA4D7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5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mplementing </a:t>
            </a:r>
            <a:br>
              <a:rPr sz="4200"/>
            </a:br>
            <a:r>
              <a:rPr b="0" lang="en-US" sz="4200" spc="-1" strike="noStrike">
                <a:solidFill>
                  <a:srgbClr val="04617b"/>
                </a:solidFill>
                <a:latin typeface="Calibri"/>
              </a:rPr>
              <a:t>Enterprisewide E-Commerce Security</a:t>
            </a:r>
            <a:endParaRPr b="0" lang="en-US" sz="4200" spc="-1" strike="noStrike">
              <a:solidFill>
                <a:srgbClr val="04617b"/>
              </a:solidFill>
              <a:latin typeface="Calibri"/>
            </a:endParaRPr>
          </a:p>
        </p:txBody>
      </p:sp>
      <p:sp>
        <p:nvSpPr>
          <p:cNvPr id="852"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sign and Architecture Issu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ck of Due Care in Business Practic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standard of due car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Care that a company is reasonably expected to take  based on the risks affecting its EC business and online transactions</a:t>
            </a:r>
            <a:endParaRPr b="0" lang="en-US" sz="2100" spc="-1" strike="noStrike">
              <a:solidFill>
                <a:srgbClr val="000000"/>
              </a:solidFill>
              <a:latin typeface="Constantia"/>
            </a:endParaRPr>
          </a:p>
        </p:txBody>
      </p:sp>
      <p:sp>
        <p:nvSpPr>
          <p:cNvPr id="85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DA4AFF44-5954-44CE-9AE1-41171512012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54"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856"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best EC security strategy for my company?</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the budget for EC security adequate?</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steps should businesses follow in establishing a security plan?</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organizations be concerned with internal security threat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key to establishing strong e-commerce security?</a:t>
            </a:r>
            <a:endParaRPr b="0" lang="en-US" sz="2400" spc="-1" strike="noStrike">
              <a:solidFill>
                <a:srgbClr val="000000"/>
              </a:solidFill>
              <a:latin typeface="Constantia"/>
            </a:endParaRPr>
          </a:p>
        </p:txBody>
      </p:sp>
      <p:sp>
        <p:nvSpPr>
          <p:cNvPr id="85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6C890830-0495-4ED1-8F5B-3769D86E4AC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58"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860" name=""/>
          <p:cNvSpPr txBox="1"/>
          <p:nvPr/>
        </p:nvSpPr>
        <p:spPr>
          <a:xfrm>
            <a:off x="533520" y="167616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ey to establishing strong e-commerce  securit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sic EC security issues and terminolog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reats, vulnerabilities, and technical attack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net fraud, phishing, and spam</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 assuran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uring EC access control and communications</a:t>
            </a:r>
            <a:endParaRPr b="0" lang="en-US" sz="2600" spc="-1" strike="noStrike">
              <a:solidFill>
                <a:srgbClr val="000000"/>
              </a:solidFill>
              <a:latin typeface="Constantia"/>
            </a:endParaRPr>
          </a:p>
        </p:txBody>
      </p:sp>
      <p:sp>
        <p:nvSpPr>
          <p:cNvPr id="86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FFBAC9F3-26D0-4D64-AFF5-E43D32C9893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62"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Security Problem</a:t>
            </a:r>
            <a:endParaRPr b="0" lang="en-US" sz="4500" spc="-1" strike="noStrike">
              <a:solidFill>
                <a:srgbClr val="04617b"/>
              </a:solidFill>
              <a:latin typeface="Calibri"/>
            </a:endParaRPr>
          </a:p>
        </p:txBody>
      </p:sp>
      <p:sp>
        <p:nvSpPr>
          <p:cNvPr id="6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DRIVERS OF EC SECURITY PROBL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Internet’s Vulnerable Desig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Domain Name System (DN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Translates (converts) domain names to their numeric IP address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IP addres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n address that uniquely identifies each computer connected to a network or the Internet</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hift to Profit-Induced Crimes</a:t>
            </a:r>
            <a:endParaRPr b="0" lang="en-US" sz="2400" spc="-1" strike="noStrike">
              <a:solidFill>
                <a:srgbClr val="000000"/>
              </a:solidFill>
              <a:latin typeface="Constantia"/>
            </a:endParaRPr>
          </a:p>
        </p:txBody>
      </p:sp>
      <p:sp>
        <p:nvSpPr>
          <p:cNvPr id="62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D58124E-E1A0-48AE-BF32-BBFFB81B36A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2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864" name=""/>
          <p:cNvSpPr txBox="1"/>
          <p:nvPr/>
        </p:nvSpPr>
        <p:spPr>
          <a:xfrm>
            <a:off x="533520" y="167616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chnologies for protecting network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ifferent controls and special defense mechanis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tecting from fraud.</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ole of business continuity and disaster recovery plann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terprisewide EC securit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is it impossible to stop computer crimes?</a:t>
            </a:r>
            <a:endParaRPr b="0" lang="en-US" sz="2600" spc="-1" strike="noStrike">
              <a:solidFill>
                <a:srgbClr val="000000"/>
              </a:solidFill>
              <a:latin typeface="Constantia"/>
            </a:endParaRPr>
          </a:p>
        </p:txBody>
      </p:sp>
      <p:sp>
        <p:nvSpPr>
          <p:cNvPr id="86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8466F3E7-E6AC-4E35-8020-10F0E7AF218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6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8"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869"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870"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A6A27632-DC3C-4D79-81CE-6923C724948F}"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Security Problem</a:t>
            </a:r>
            <a:endParaRPr b="0" lang="en-US" sz="4500" spc="-1" strike="noStrike">
              <a:solidFill>
                <a:srgbClr val="04617b"/>
              </a:solidFill>
              <a:latin typeface="Calibri"/>
            </a:endParaRPr>
          </a:p>
        </p:txBody>
      </p:sp>
      <p:sp>
        <p:nvSpPr>
          <p:cNvPr id="628" name=""/>
          <p:cNvSpPr txBox="1"/>
          <p:nvPr/>
        </p:nvSpPr>
        <p:spPr>
          <a:xfrm>
            <a:off x="380880" y="1752120"/>
            <a:ext cx="8229600" cy="4389480"/>
          </a:xfrm>
          <a:prstGeom prst="rect">
            <a:avLst/>
          </a:prstGeom>
          <a:noFill/>
          <a:ln w="0">
            <a:noFill/>
          </a:ln>
        </p:spPr>
        <p:txBody>
          <a:bodyPr anchor="t">
            <a:normAutofit fontScale="96000"/>
          </a:bodyPr>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rnet underground economy</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E-markets for stolen information made up of thousands of websites that sell credit card numbers, social security numbers, other data such as numbers of bank accounts, social network IDs, passwords, and much more</a:t>
            </a:r>
            <a:endParaRPr b="0" lang="en-US" sz="2200" spc="-1" strike="noStrike">
              <a:solidFill>
                <a:srgbClr val="000000"/>
              </a:solidFill>
              <a:latin typeface="Constantia"/>
            </a:endParaRPr>
          </a:p>
          <a:p>
            <a:pPr lvl="2" marL="877680" indent="-2361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keystroke logging (keylogging)</a:t>
            </a:r>
            <a:endParaRPr b="0" lang="en-US" sz="2000" spc="-1" strike="noStrike">
              <a:solidFill>
                <a:srgbClr val="000000"/>
              </a:solidFill>
              <a:latin typeface="Constantia"/>
            </a:endParaRPr>
          </a:p>
          <a:p>
            <a:pPr lvl="2" marL="877680" indent="-236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method of capturing and recording user keystrokes</a:t>
            </a:r>
            <a:endParaRPr b="0" lang="en-US" sz="20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 Dynamic Nature of EC Systems and the Role of Insiders</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Y IS AN E-COMMERCE SECURITY STRATEGY NEEDED?</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 Computer Security Strategy Dilemma</a:t>
            </a:r>
            <a:endParaRPr b="0" lang="en-US" sz="2200" spc="-1" strike="noStrike">
              <a:solidFill>
                <a:srgbClr val="000000"/>
              </a:solidFill>
              <a:latin typeface="Constantia"/>
            </a:endParaRPr>
          </a:p>
        </p:txBody>
      </p:sp>
      <p:sp>
        <p:nvSpPr>
          <p:cNvPr id="62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6D4A9D0-CCB9-4ECA-B090-7E238AF17A3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3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ASIC SECURITY TERMINOLOG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continuity pla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lan that keeps the business running after a disaster occurs; each function in the business should have a valid recovery capability pl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ybercrim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tentional crimes carried out on the Intern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ybercrimina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erson who intentionally carries out crimes over the Internet</a:t>
            </a:r>
            <a:endParaRPr b="0" lang="en-US" sz="2400" spc="-1" strike="noStrike">
              <a:solidFill>
                <a:srgbClr val="000000"/>
              </a:solidFill>
              <a:latin typeface="Constantia"/>
            </a:endParaRPr>
          </a:p>
        </p:txBody>
      </p:sp>
      <p:sp>
        <p:nvSpPr>
          <p:cNvPr id="63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D79AD938-EE6D-487A-9352-2BC8757111D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34"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7:46Z</dcterms:modified>
  <cp:revision>135</cp:revision>
  <dc:subject/>
  <dc:title>Chapter 1</dc:title>
</cp:coreProperties>
</file>