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D57A-A31B-46EC-AD5E-45DD825E9C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81EB-A499-40F7-9E16-3CDBED467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2C51-E0C7-4399-9FC9-6DDAD7B01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D68D-1910-44C0-A129-763587C6C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CA7D-3373-46F1-84F4-D0617E5C0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D526-CF9D-4CC4-8972-4B3AAFD7A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CEF9-657B-49C8-9DFD-19B2B81D0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A647-90C5-45B9-A76F-6833E5911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77C8-E44C-4088-A312-E5EEB850C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CB9B-BCA5-4E68-AF65-02199C4BB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A410-FE98-49D1-8229-1482F92AA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6DCC-04B0-484F-9277-EF9BB8335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2F02-7CC8-4783-B512-61C8FCD6A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044B-3499-45C5-8B1B-FA2B46CED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A17B-E4AD-4DD7-BAF0-C576C417B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12DD-2E0C-420C-BBA5-49B38A18E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3332-CCC5-4441-89BA-9D445DDE3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20D4-7BCC-4EA3-BE77-B5C4F9190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3792-1578-4366-86D8-8CCD29201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5D1A-87DB-47F0-86F5-834D0E66F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8C2A-AFC6-4DAD-B7EF-757473262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EBE5-03DD-4139-95F0-D39811D15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77A6-F612-4401-8FEC-99DCC66ED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21F1-EFE3-414F-8D6B-92C2600E5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2A02-C950-4D76-8A5F-D5C9DF6A7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BE60-B7D6-4A75-BAC5-9A01D7705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F9E1-E399-455A-BF70-FBDC450DA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0F4E7-DD8D-4332-A575-3432E70EB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FDC7F-4E64-4E54-BAAF-915EB10A6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BC0B3-57B4-42E0-B610-0F1E4266F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49B0A-6F4A-49BD-B8B0-5BB05EF42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B25B4-2710-4565-983A-A4ACA1F6D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55B4F-F52B-480C-8B0D-2F7FA73ED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53569-9AF0-43AD-84FA-FC13D0D2E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1E90B-764C-4170-A433-FD96FE572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0D090-5AB4-45B5-A50D-A1E4B9E5B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4FCDD-F03F-42CF-A788-3A786BE84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33107-A5B3-4E75-BB24-2C171CED4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2791-1525-4E6E-8582-4732B81DE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0B23C-7325-4C54-826D-3B16D06F6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7D951-7F85-458B-8F54-E9FBCABEB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30892-3216-4F35-B5F3-C51797902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6E985-2E72-44FF-8984-7E84AA4E3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6A4EA-B8ED-40D6-A189-B5623A718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77287-309D-41DA-8292-5965DE9E17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E4AB3-63F8-48FB-99A1-2A0433052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8B371-3AA8-4886-822F-5DD6F9520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7210B-61F5-43F4-9B2B-B2F97BDAF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EF2A3-BCF9-4866-8BB2-8B4339B3B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ADF45-3C45-498C-B278-8B07EA3B5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3CD37-F424-4D21-8780-3C44F8A78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6DA61-B921-4FEB-872C-ACE014B5E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65FC0-48B6-4540-B199-A1C959D37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D8A71-18F5-42F8-B09A-37861B2DF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DD7B2-7CF0-4AB2-B06B-A5FDFD9C2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F539B3-6597-4818-89F1-349F144B33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C21A24-E738-46DF-ABC9-36561973D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33B738-D8A4-429E-B1C9-FDF70840A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ED06D-C5E1-470E-9EA3-75847DB97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360B2-1A4B-45E6-A23B-6B2004B9DB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E755D-DAA3-4F9D-8F87-CFDC6BFB9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806A90-74A4-4F8D-8143-B167315495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D8101-4F0C-4E85-9465-1C3E27130A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89BD3F-E1DF-40B0-9823-9D516AAF3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F3B19-D793-4F37-9B94-D79AE130D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1A50D-7D85-4F7E-BF4B-923D4CE61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8929C-1B0A-44D6-8927-B6774DBEA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2789C9-FB63-448C-AEE9-206B97AB1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828C53-F70D-4807-AFFE-20C6570417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6B490E-3917-4772-9C3D-D9352ED01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6CB44-19A8-41B4-97AE-3905449A4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9A4E6-E7AA-48B3-9C0B-AEB72C1D4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979B-F6E5-4F8B-9A0D-A7411033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1BE6-FD7A-4E11-8FE9-24F0462B7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753FC-8063-4F74-B2C1-6874E6C0E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1A47-255A-4CE0-AB00-8A44DF3A4826}"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4CF1FB11-4C02-48EA-946F-853826127A2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E7C2-E431-4A26-81F2-FAABB888B0C3}"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0-</a:t>
            </a:r>
            <a:fld id="{3C306437-8776-430E-A811-A36F2F34981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4BD3-8773-44DE-A358-B63A158D9F97}"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0-</a:t>
            </a:r>
            <a:fld id="{CDDFA828-36EB-4C9A-9871-30EBFFD9F92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2D5D-0F92-4138-8600-F0F1B27FB267}"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06213827-8EB8-48DF-BC27-099B3B8BACF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71600"/>
            <a:ext cx="7918560" cy="1981080"/>
          </a:xfrm>
          <a:prstGeom prst="rect">
            <a:avLst/>
          </a:prstGeom>
          <a:ln w="0">
            <a:noFill/>
          </a:ln>
        </p:spPr>
      </p:pic>
      <p:sp>
        <p:nvSpPr>
          <p:cNvPr id="203" name="PlaceHolder 1"/>
          <p:cNvSpPr>
            <a:spLocks noGrp="1"/>
          </p:cNvSpPr>
          <p:nvPr>
            <p:ph type="subTitle"/>
          </p:nvPr>
        </p:nvSpPr>
        <p:spPr>
          <a:xfrm>
            <a:off x="304560" y="335232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lectronic Commerce Payment System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37" name=""/>
          <p:cNvSpPr txBox="1"/>
          <p:nvPr/>
        </p:nvSpPr>
        <p:spPr>
          <a:xfrm>
            <a:off x="533520" y="1600200"/>
            <a:ext cx="8229600" cy="182880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mart card</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electronic card containing an embedded microchip that enables predefined operations or the addition, deletion, or manipulation of information on the card</a:t>
            </a:r>
            <a:endParaRPr b="0" lang="en-US" sz="2600" spc="-1" strike="noStrike">
              <a:solidFill>
                <a:srgbClr val="000000"/>
              </a:solidFill>
              <a:latin typeface="Constantia"/>
            </a:endParaRPr>
          </a:p>
        </p:txBody>
      </p:sp>
      <p:sp>
        <p:nvSpPr>
          <p:cNvPr id="23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4A6DC712-7A1C-4A82-9AB1-D46605617A1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05931A0D-9F3D-41BF-879A-5228126108F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2" name="Picture 2" descr=""/>
          <p:cNvPicPr/>
          <p:nvPr/>
        </p:nvPicPr>
        <p:blipFill>
          <a:blip r:embed="rId1"/>
          <a:stretch/>
        </p:blipFill>
        <p:spPr>
          <a:xfrm>
            <a:off x="914400" y="1828800"/>
            <a:ext cx="6934320" cy="34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SMART CARDS</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tact card</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mart card containing a small gold plate on the face that when inserted in a smart card reader makes contact and passes data to and from the embedded microchip</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tactless (proximity) card</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mart card with an embedded antenna, by means of which data and applications are passed to and from a card reader unit or other device without contact between the card and the card reader</a:t>
            </a:r>
            <a:endParaRPr b="0" lang="en-US" sz="2400" spc="-1" strike="noStrike">
              <a:solidFill>
                <a:srgbClr val="000000"/>
              </a:solidFill>
              <a:latin typeface="Constantia"/>
            </a:endParaRPr>
          </a:p>
        </p:txBody>
      </p:sp>
      <p:sp>
        <p:nvSpPr>
          <p:cNvPr id="24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E1E0E576-1DD6-4C7E-AD5A-BE9EF13D9E2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mart card reader</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ctivates and reads the contents of the chip on a smart card, usually passing the information on to a host 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mart card operating syste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pecial system that handles file management, security, input/output (I/O), and command execution and provides an application programming interface (API) for a smart card</a:t>
            </a:r>
            <a:endParaRPr b="0" lang="en-US" sz="2400" spc="-1" strike="noStrike">
              <a:solidFill>
                <a:srgbClr val="000000"/>
              </a:solidFill>
              <a:latin typeface="Constantia"/>
            </a:endParaRPr>
          </a:p>
        </p:txBody>
      </p:sp>
      <p:sp>
        <p:nvSpPr>
          <p:cNvPr id="24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2C6DCA5B-2396-4C5A-8EF8-649431DCDA5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PPLICATIONS OF SMART CAR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tail Purchas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ansit Fa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1E8BFB2-446C-4FB7-93CF-94E3204D83A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tored-Value Cards</a:t>
            </a:r>
            <a:endParaRPr b="0" lang="en-US" sz="48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ored-value car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card that has monetary value loaded onto it and that is usually rechargeab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ored-value cards come in two varietie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Closed loop </a:t>
            </a:r>
            <a:r>
              <a:rPr b="0" lang="en-US" sz="2100" spc="-1" strike="noStrike">
                <a:solidFill>
                  <a:srgbClr val="000000"/>
                </a:solidFill>
                <a:latin typeface="Constantia"/>
              </a:rPr>
              <a:t>are</a:t>
            </a:r>
            <a:r>
              <a:rPr b="0" i="1" lang="en-US" sz="2100" spc="-1" strike="noStrike">
                <a:solidFill>
                  <a:srgbClr val="000000"/>
                </a:solidFill>
                <a:latin typeface="Constantia"/>
              </a:rPr>
              <a:t> </a:t>
            </a:r>
            <a:r>
              <a:rPr b="0" lang="en-US" sz="2100" spc="-1" strike="noStrike">
                <a:solidFill>
                  <a:srgbClr val="000000"/>
                </a:solidFill>
                <a:latin typeface="Constantia"/>
              </a:rPr>
              <a:t>single-purpose cards issued by a specific merchant or merchant group</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Open loop </a:t>
            </a:r>
            <a:r>
              <a:rPr b="0" lang="en-US" sz="2100" spc="-1" strike="noStrike">
                <a:solidFill>
                  <a:srgbClr val="000000"/>
                </a:solidFill>
                <a:latin typeface="Constantia"/>
              </a:rPr>
              <a:t>are</a:t>
            </a:r>
            <a:r>
              <a:rPr b="0" i="1" lang="en-US" sz="2100" spc="-1" strike="noStrike">
                <a:solidFill>
                  <a:srgbClr val="000000"/>
                </a:solidFill>
                <a:latin typeface="Constantia"/>
              </a:rPr>
              <a:t> </a:t>
            </a:r>
            <a:r>
              <a:rPr b="0" lang="en-US" sz="2100" spc="-1" strike="noStrike">
                <a:solidFill>
                  <a:srgbClr val="000000"/>
                </a:solidFill>
                <a:latin typeface="Constantia"/>
              </a:rPr>
              <a:t>multipurpose cards that can be used to make debit transactions at a variety of retailers</a:t>
            </a:r>
            <a:endParaRPr b="0" lang="en-US" sz="2100" spc="-1" strike="noStrike">
              <a:solidFill>
                <a:srgbClr val="000000"/>
              </a:solidFill>
              <a:latin typeface="Constantia"/>
            </a:endParaRPr>
          </a:p>
        </p:txBody>
      </p:sp>
      <p:sp>
        <p:nvSpPr>
          <p:cNvPr id="25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E3F630F9-7114-4D62-9CE7-98331DD6206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E-Micropayments</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icropaymen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mall online payments, typically under $10</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ve basic micropayment models that do not depend solely or directly on credit or debit cards</a:t>
            </a:r>
            <a:endParaRPr b="0" lang="en-US" sz="24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ggregation</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 payment</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tored value</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bscriptions</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À la carte</a:t>
            </a:r>
            <a:endParaRPr b="0" lang="en-US" sz="2100" spc="-1" strike="noStrike">
              <a:solidFill>
                <a:srgbClr val="000000"/>
              </a:solidFill>
              <a:latin typeface="Constantia"/>
            </a:endParaRPr>
          </a:p>
        </p:txBody>
      </p:sp>
      <p:sp>
        <p:nvSpPr>
          <p:cNvPr id="26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B19586BF-D02F-4F5B-B898-57704AAD157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E-Checking</a:t>
            </a:r>
            <a:endParaRPr b="0" lang="en-US" sz="48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he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legally valid electronic version or representation of a paper chec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mated Clearing House (ACH) Networ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ationwide batch-oriented electronic funds transfer system that provides for the interbank clearing of electronic payments for participating financial institutions</a:t>
            </a:r>
            <a:endParaRPr b="0" lang="en-US" sz="2400" spc="-1" strike="noStrike">
              <a:solidFill>
                <a:srgbClr val="000000"/>
              </a:solidFill>
              <a:latin typeface="Constantia"/>
            </a:endParaRPr>
          </a:p>
        </p:txBody>
      </p:sp>
      <p:sp>
        <p:nvSpPr>
          <p:cNvPr id="26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58BBAF4-E639-4691-AF37-17F64D3CD20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457200" y="914400"/>
            <a:ext cx="8342280" cy="4952880"/>
          </a:xfrm>
          <a:prstGeom prst="rect">
            <a:avLst/>
          </a:prstGeom>
          <a:ln w="0">
            <a:noFill/>
          </a:ln>
        </p:spPr>
      </p:pic>
      <p:sp>
        <p:nvSpPr>
          <p:cNvPr id="26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B89FC25C-2DEC-4DE4-AED6-474AE4A18F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Mobile Payments</a:t>
            </a:r>
            <a:endParaRPr b="0" lang="en-US" sz="48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Mobile payment: </a:t>
            </a:r>
            <a:r>
              <a:rPr b="0" lang="en-US" sz="2600" spc="-1" strike="noStrike">
                <a:solidFill>
                  <a:srgbClr val="000000"/>
                </a:solidFill>
                <a:latin typeface="Constantia"/>
              </a:rPr>
              <a:t>payment transactions initiated or confirmed using a person</a:t>
            </a:r>
            <a:r>
              <a:rPr b="0" lang="ja-JP" sz="2600" spc="-1" strike="noStrike">
                <a:solidFill>
                  <a:srgbClr val="000000"/>
                </a:solidFill>
                <a:latin typeface="Constantia"/>
              </a:rPr>
              <a:t>’</a:t>
            </a:r>
            <a:r>
              <a:rPr b="0" lang="en-US" sz="2600" spc="-1" strike="noStrike">
                <a:solidFill>
                  <a:srgbClr val="000000"/>
                </a:solidFill>
                <a:latin typeface="Constantia"/>
              </a:rPr>
              <a:t>s cell phone or smartphone</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PROXIMITY PAYMENTS</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bile proximity payments are used for making purchases in physical stores or transportation services. </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ximity payments involve a special mobile phone equipped with an integrated chip or smart card, a specialized reader that recognizes the chip when the chip comes within a short distance of the reader, and a network for handling the payment.</a:t>
            </a:r>
            <a:endParaRPr b="0" lang="en-US" sz="2400" spc="-1" strike="noStrike">
              <a:solidFill>
                <a:srgbClr val="000000"/>
              </a:solidFill>
              <a:latin typeface="Constantia"/>
            </a:endParaRPr>
          </a:p>
        </p:txBody>
      </p:sp>
      <p:sp>
        <p:nvSpPr>
          <p:cNvPr id="27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CB35124D-B9A7-4EFA-BC90-BEAA6EEB8C2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shifts that are occurring with regard to online payment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players and processes involved in using credit cards onlin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different categories and potential uses of smart card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stored-value cards and identify under what circumstances they are best used.</a:t>
            </a:r>
            <a:endParaRPr b="0" lang="en-US" sz="24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9CAEF08A-4A92-474A-A093-673BF1AC336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Mobile Payments</a:t>
            </a:r>
            <a:endParaRPr b="0" lang="en-US" sz="4800" spc="-1" strike="noStrike">
              <a:solidFill>
                <a:srgbClr val="04617b"/>
              </a:solidFill>
              <a:latin typeface="Calibri"/>
            </a:endParaRPr>
          </a:p>
        </p:txBody>
      </p:sp>
      <p:sp>
        <p:nvSpPr>
          <p:cNvPr id="275" name=""/>
          <p:cNvSpPr txBox="1"/>
          <p:nvPr/>
        </p:nvSpPr>
        <p:spPr>
          <a:xfrm>
            <a:off x="457200" y="15998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REMOTE PAYMEN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king Mobile Payments</a:t>
            </a:r>
            <a:endParaRPr b="0" lang="en-US" sz="2400" spc="-1" strike="noStrike">
              <a:solidFill>
                <a:srgbClr val="000000"/>
              </a:solidFill>
              <a:latin typeface="Constantia"/>
            </a:endParaRPr>
          </a:p>
          <a:p>
            <a:pPr lvl="2" marL="914400" indent="-247680">
              <a:spcBef>
                <a:spcPts val="550"/>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ayer initiating the payment sets up an account with a mobile payment service provider (MPSP).</a:t>
            </a:r>
            <a:endParaRPr b="0" lang="en-US" sz="2200" spc="-1" strike="noStrike">
              <a:solidFill>
                <a:srgbClr val="000000"/>
              </a:solidFill>
              <a:latin typeface="Constantia"/>
            </a:endParaRPr>
          </a:p>
          <a:p>
            <a:pPr lvl="2" marL="914400" indent="-247680">
              <a:spcBef>
                <a:spcPts val="550"/>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user selects an item to purchase. The merchant asks for a payment.</a:t>
            </a:r>
            <a:endParaRPr b="0" lang="en-US" sz="2200" spc="-1" strike="noStrike">
              <a:solidFill>
                <a:srgbClr val="000000"/>
              </a:solidFill>
              <a:latin typeface="Constantia"/>
            </a:endParaRPr>
          </a:p>
          <a:p>
            <a:pPr lvl="2" marL="914400" indent="-247680">
              <a:spcBef>
                <a:spcPts val="550"/>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make the payment, the payer sends a text message (or a command) to the MPSP that includes the dollar amount and the receiver</a:t>
            </a:r>
            <a:r>
              <a:rPr b="0" lang="ja-JP" sz="2200" spc="-1" strike="noStrike">
                <a:solidFill>
                  <a:srgbClr val="000000"/>
                </a:solidFill>
                <a:latin typeface="Constantia"/>
              </a:rPr>
              <a:t>’</a:t>
            </a:r>
            <a:r>
              <a:rPr b="0" lang="en-US" sz="2200" spc="-1" strike="noStrike">
                <a:solidFill>
                  <a:srgbClr val="000000"/>
                </a:solidFill>
                <a:latin typeface="Constantia"/>
              </a:rPr>
              <a:t>s mobile phone number.</a:t>
            </a:r>
            <a:endParaRPr b="0" lang="en-US" sz="2200" spc="-1" strike="noStrike">
              <a:solidFill>
                <a:srgbClr val="000000"/>
              </a:solidFill>
              <a:latin typeface="Constantia"/>
            </a:endParaRPr>
          </a:p>
        </p:txBody>
      </p:sp>
      <p:sp>
        <p:nvSpPr>
          <p:cNvPr id="27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375C56B5-1BA6-4420-AB53-9376732FC2F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Mobile Payments</a:t>
            </a:r>
            <a:endParaRPr b="0" lang="en-US" sz="4800" spc="-1" strike="noStrike">
              <a:solidFill>
                <a:srgbClr val="04617b"/>
              </a:solidFill>
              <a:latin typeface="Calibri"/>
            </a:endParaRPr>
          </a:p>
        </p:txBody>
      </p:sp>
      <p:sp>
        <p:nvSpPr>
          <p:cNvPr id="279" name=""/>
          <p:cNvSpPr txBox="1"/>
          <p:nvPr/>
        </p:nvSpPr>
        <p:spPr>
          <a:xfrm>
            <a:off x="457200" y="1599840"/>
            <a:ext cx="8229600" cy="4389480"/>
          </a:xfrm>
          <a:prstGeom prst="rect">
            <a:avLst/>
          </a:prstGeom>
          <a:noFill/>
          <a:ln w="0">
            <a:noFill/>
          </a:ln>
        </p:spPr>
        <p:txBody>
          <a:bodyPr anchor="t">
            <a:normAutofit fontScale="97000"/>
          </a:bodyPr>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MPSP receives the information and sends a message back to the payer, confirming the request and asking for the customer</a:t>
            </a:r>
            <a:r>
              <a:rPr b="0" lang="ja-JP" sz="2200" spc="-1" strike="noStrike">
                <a:solidFill>
                  <a:srgbClr val="000000"/>
                </a:solidFill>
                <a:latin typeface="Constantia"/>
              </a:rPr>
              <a:t>’</a:t>
            </a:r>
            <a:r>
              <a:rPr b="0" lang="en-US" sz="2200" spc="-1" strike="noStrike">
                <a:solidFill>
                  <a:srgbClr val="000000"/>
                </a:solidFill>
                <a:latin typeface="Constantia"/>
              </a:rPr>
              <a:t>s PIN.</a:t>
            </a:r>
            <a:endParaRPr b="0" lang="en-US" sz="2200" spc="-1" strike="noStrike">
              <a:solidFill>
                <a:srgbClr val="000000"/>
              </a:solidFill>
              <a:latin typeface="Constantia"/>
            </a:endParaRPr>
          </a:p>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ayer receives the request on his or her mobile device and enters the PIN.</a:t>
            </a:r>
            <a:endParaRPr b="0" lang="en-US" sz="2200" spc="-1" strike="noStrike">
              <a:solidFill>
                <a:srgbClr val="000000"/>
              </a:solidFill>
              <a:latin typeface="Constantia"/>
            </a:endParaRPr>
          </a:p>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fter the MPSP receives the payer</a:t>
            </a:r>
            <a:r>
              <a:rPr b="0" lang="ja-JP" sz="2200" spc="-1" strike="noStrike">
                <a:solidFill>
                  <a:srgbClr val="000000"/>
                </a:solidFill>
                <a:latin typeface="Constantia"/>
              </a:rPr>
              <a:t>’</a:t>
            </a:r>
            <a:r>
              <a:rPr b="0" lang="en-US" sz="2200" spc="-1" strike="noStrike">
                <a:solidFill>
                  <a:srgbClr val="000000"/>
                </a:solidFill>
                <a:latin typeface="Constantia"/>
              </a:rPr>
              <a:t>s PIN, money is transferred to the receiver</a:t>
            </a:r>
            <a:r>
              <a:rPr b="0" lang="ja-JP" sz="2200" spc="-1" strike="noStrike">
                <a:solidFill>
                  <a:srgbClr val="000000"/>
                </a:solidFill>
                <a:latin typeface="Constantia"/>
              </a:rPr>
              <a:t>’</a:t>
            </a:r>
            <a:r>
              <a:rPr b="0" lang="en-US" sz="2200" spc="-1" strike="noStrike">
                <a:solidFill>
                  <a:srgbClr val="000000"/>
                </a:solidFill>
                <a:latin typeface="Constantia"/>
              </a:rPr>
              <a:t>s account (credit card or bank account). The payer</a:t>
            </a:r>
            <a:r>
              <a:rPr b="0" lang="ja-JP" sz="2200" spc="-1" strike="noStrike">
                <a:solidFill>
                  <a:srgbClr val="000000"/>
                </a:solidFill>
                <a:latin typeface="Constantia"/>
              </a:rPr>
              <a:t>’</a:t>
            </a:r>
            <a:r>
              <a:rPr b="0" lang="en-US" sz="2200" spc="-1" strike="noStrike">
                <a:solidFill>
                  <a:srgbClr val="000000"/>
                </a:solidFill>
                <a:latin typeface="Constantia"/>
              </a:rPr>
              <a:t>s account is debited.</a:t>
            </a:r>
            <a:endParaRPr b="0" lang="en-US" sz="2200" spc="-1" strike="noStrike">
              <a:solidFill>
                <a:srgbClr val="000000"/>
              </a:solidFill>
              <a:latin typeface="Constantia"/>
            </a:endParaRPr>
          </a:p>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fter the transaction occurs, the payment information is sent to the payer</a:t>
            </a:r>
            <a:r>
              <a:rPr b="0" lang="ja-JP" sz="2200" spc="-1" strike="noStrike">
                <a:solidFill>
                  <a:srgbClr val="000000"/>
                </a:solidFill>
                <a:latin typeface="Constantia"/>
              </a:rPr>
              <a:t>’</a:t>
            </a:r>
            <a:r>
              <a:rPr b="0" lang="en-US" sz="2200" spc="-1" strike="noStrike">
                <a:solidFill>
                  <a:srgbClr val="000000"/>
                </a:solidFill>
                <a:latin typeface="Constantia"/>
              </a:rPr>
              <a:t>s mobile device and his or her account at MPSP is debited.</a:t>
            </a:r>
            <a:endParaRPr b="0" lang="en-US" sz="2200" spc="-1" strike="noStrike">
              <a:solidFill>
                <a:srgbClr val="000000"/>
              </a:solidFill>
              <a:latin typeface="Constantia"/>
            </a:endParaRPr>
          </a:p>
          <a:p>
            <a:pPr marL="46800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OBILE POS PAYMENTS</a:t>
            </a:r>
            <a:endParaRPr b="0" lang="en-US" sz="2800" spc="-1" strike="noStrike">
              <a:solidFill>
                <a:srgbClr val="000000"/>
              </a:solidFill>
              <a:latin typeface="Constantia"/>
            </a:endParaRPr>
          </a:p>
        </p:txBody>
      </p:sp>
      <p:sp>
        <p:nvSpPr>
          <p:cNvPr id="28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85AF2B4-4273-440F-A126-7C6EFC80807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2B Electronic Payments</a:t>
            </a:r>
            <a:endParaRPr b="0" lang="en-US" sz="48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RRENT B2B PAYMENT PRACT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terprise invoice presentment and payment (EIP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esenting and paying B2B invoices online</a:t>
            </a:r>
            <a:endParaRPr b="0" lang="en-US" sz="2600" spc="-1" strike="noStrike">
              <a:solidFill>
                <a:srgbClr val="000000"/>
              </a:solidFill>
              <a:latin typeface="Constantia"/>
            </a:endParaRPr>
          </a:p>
        </p:txBody>
      </p:sp>
      <p:sp>
        <p:nvSpPr>
          <p:cNvPr id="28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4636F79F-DF65-42BE-B639-3C17680A5FE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2B Electronic Payments</a:t>
            </a:r>
            <a:endParaRPr b="0" lang="en-US" sz="48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IPP Mode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ller Direc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yer Direc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solidator</a:t>
            </a:r>
            <a:endParaRPr b="0" lang="en-US" sz="2100" spc="-1" strike="noStrike">
              <a:solidFill>
                <a:srgbClr val="000000"/>
              </a:solidFill>
              <a:latin typeface="Constantia"/>
            </a:endParaRPr>
          </a:p>
        </p:txBody>
      </p:sp>
      <p:sp>
        <p:nvSpPr>
          <p:cNvPr id="28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5616930C-6D26-4571-A31D-3D4CD13F883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2B Electronic Payments</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IPP Optio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CH Network</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urchasing cards (p-card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Special-purpose payment cards issued to a company</a:t>
            </a:r>
            <a:r>
              <a:rPr b="0" lang="ja-JP" sz="2100" spc="-1" strike="noStrike">
                <a:solidFill>
                  <a:srgbClr val="000000"/>
                </a:solidFill>
                <a:latin typeface="Constantia"/>
              </a:rPr>
              <a:t>’</a:t>
            </a:r>
            <a:r>
              <a:rPr b="0" lang="en-US" sz="2100" spc="-1" strike="noStrike">
                <a:solidFill>
                  <a:srgbClr val="000000"/>
                </a:solidFill>
                <a:latin typeface="Constantia"/>
              </a:rPr>
              <a:t>s employees to be used solely for purchasing nonstrategic materials and services up to a preset dollar limi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Fedwire or Wire Transfer</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letter of credit (L/C)</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written agreement by a bank to pay the seller, on account of the buyer, a sum of money upon presentation of certain documents</a:t>
            </a:r>
            <a:endParaRPr b="0" lang="en-US" sz="2100" spc="-1" strike="noStrike">
              <a:solidFill>
                <a:srgbClr val="000000"/>
              </a:solidFill>
              <a:latin typeface="Constantia"/>
            </a:endParaRPr>
          </a:p>
        </p:txBody>
      </p:sp>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98CDF192-95B6-4663-9260-A44EC8B918F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payment methods should your B2C site suppor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e-micropayment strategy should your  e-marketplace suppor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payment methods should the C2C marketplace suppor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we outsource our payment gateway servic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secure are e-payment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B2B payment methods should we use?</a:t>
            </a:r>
            <a:endParaRPr b="0" lang="en-US" sz="2400" spc="-1" strike="noStrike">
              <a:solidFill>
                <a:srgbClr val="000000"/>
              </a:solidFill>
              <a:latin typeface="Constantia"/>
            </a:endParaRPr>
          </a:p>
        </p:txBody>
      </p:sp>
      <p:sp>
        <p:nvSpPr>
          <p:cNvPr id="29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DD2ACAD-5B23-45A6-B046-687A74D39AF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299"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yment revolutio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payment cards onlin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art car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ored-value car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icropaymen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eck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 paymen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2B electronic payments</a:t>
            </a:r>
            <a:endParaRPr b="0" lang="en-US" sz="2600" spc="-1" strike="noStrike">
              <a:solidFill>
                <a:srgbClr val="000000"/>
              </a:solidFill>
              <a:latin typeface="Constantia"/>
            </a:endParaRPr>
          </a:p>
        </p:txBody>
      </p:sp>
      <p:sp>
        <p:nvSpPr>
          <p:cNvPr id="30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E6D5A937-0917-4BB3-A3EB-4049B308134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6C7497B-E72A-4D4D-87F4-218373FC84C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3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3" descr="cid:3287383400_2177562"/>
          <p:cNvPicPr/>
          <p:nvPr/>
        </p:nvPicPr>
        <p:blipFill>
          <a:blip r:embed="rId1"/>
          <a:stretch/>
        </p:blipFill>
        <p:spPr>
          <a:xfrm>
            <a:off x="762120" y="1522440"/>
            <a:ext cx="7242120" cy="2363760"/>
          </a:xfrm>
          <a:prstGeom prst="rect">
            <a:avLst/>
          </a:prstGeom>
          <a:ln w="9360">
            <a:solidFill>
              <a:srgbClr val="ffffff"/>
            </a:solidFill>
            <a:miter/>
          </a:ln>
        </p:spPr>
      </p:pic>
      <p:sp>
        <p:nvSpPr>
          <p:cNvPr id="306"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07"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situations where e-micropayments are used and the alternative ways for handling these situation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processes and parties involved in </a:t>
            </a:r>
            <a:endParaRPr b="0" lang="en-US" sz="2400" spc="-1" strike="noStrike">
              <a:solidFill>
                <a:srgbClr val="000000"/>
              </a:solidFill>
              <a:latin typeface="Constant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hecking.</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major types of mobile payment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payment methods in B2B EC, including payments for global trade.</a:t>
            </a:r>
            <a:endParaRPr b="0" lang="en-US" sz="24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BAC5E31E-3FC3-4293-96E9-63C1974974C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Payment Revolution</a:t>
            </a:r>
            <a:endParaRPr b="0" lang="en-US" sz="4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itical factors that come into play in determining whether a particular method of e-payment achieves critical mass:</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ependence</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operability and Portability</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urity. How safe is the transfer?</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onymity</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sibility</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ase of Use</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ansaction Fees</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national Support</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gulations</a:t>
            </a:r>
            <a:endParaRPr b="0" lang="en-US" sz="2200" spc="-1" strike="noStrike">
              <a:solidFill>
                <a:srgbClr val="000000"/>
              </a:solidFill>
              <a:latin typeface="Constantia"/>
            </a:endParaRPr>
          </a:p>
        </p:txBody>
      </p:sp>
      <p:sp>
        <p:nvSpPr>
          <p:cNvPr id="2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11166F2D-8DB3-444E-B9AA-CC95C87468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ayment car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lectronic card that contains information that can be used for payment purpo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dit car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ge car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bit cards</a:t>
            </a:r>
            <a:endParaRPr b="0" lang="en-US" sz="2400" spc="-1" strike="noStrike">
              <a:solidFill>
                <a:srgbClr val="000000"/>
              </a:solidFill>
              <a:latin typeface="Constantia"/>
            </a:endParaRPr>
          </a:p>
        </p:txBody>
      </p:sp>
      <p:sp>
        <p:nvSpPr>
          <p:cNvPr id="21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00A09D8-B346-4A26-AE8F-09E373BC165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CESSING CARDS ONLIN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horiza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termines whether a buyer</a:t>
            </a:r>
            <a:r>
              <a:rPr b="0" lang="ja-JP" sz="2400" spc="-1" strike="noStrike">
                <a:solidFill>
                  <a:srgbClr val="000000"/>
                </a:solidFill>
                <a:latin typeface="Constantia"/>
              </a:rPr>
              <a:t>’</a:t>
            </a:r>
            <a:r>
              <a:rPr b="0" lang="en-US" sz="2400" spc="-1" strike="noStrike">
                <a:solidFill>
                  <a:srgbClr val="000000"/>
                </a:solidFill>
                <a:latin typeface="Constantia"/>
              </a:rPr>
              <a:t>s card is active and whether the customer has sufficient fun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ttlemen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ferring money from the buyer</a:t>
            </a:r>
            <a:r>
              <a:rPr b="0" lang="ja-JP" sz="2400" spc="-1" strike="noStrike">
                <a:solidFill>
                  <a:srgbClr val="000000"/>
                </a:solidFill>
                <a:latin typeface="Constantia"/>
              </a:rPr>
              <a:t>’</a:t>
            </a:r>
            <a:r>
              <a:rPr b="0" lang="en-US" sz="2400" spc="-1" strike="noStrike">
                <a:solidFill>
                  <a:srgbClr val="000000"/>
                </a:solidFill>
                <a:latin typeface="Constantia"/>
              </a:rPr>
              <a:t>s to the merchant</a:t>
            </a:r>
            <a:r>
              <a:rPr b="0" lang="ja-JP" sz="2400" spc="-1" strike="noStrike">
                <a:solidFill>
                  <a:srgbClr val="000000"/>
                </a:solidFill>
                <a:latin typeface="Constantia"/>
              </a:rPr>
              <a:t>’</a:t>
            </a:r>
            <a:r>
              <a:rPr b="0" lang="en-US" sz="2400" spc="-1" strike="noStrike">
                <a:solidFill>
                  <a:srgbClr val="000000"/>
                </a:solidFill>
                <a:latin typeface="Constantia"/>
              </a:rPr>
              <a:t>s account</a:t>
            </a:r>
            <a:endParaRPr b="0" lang="en-US" sz="2400" spc="-1" strike="noStrike">
              <a:solidFill>
                <a:srgbClr val="000000"/>
              </a:solidFill>
              <a:latin typeface="Constantia"/>
            </a:endParaRPr>
          </a:p>
        </p:txBody>
      </p:sp>
      <p:sp>
        <p:nvSpPr>
          <p:cNvPr id="22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C0644EA9-1F04-47DF-9BDA-DF0F6E93EF3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ree basic configurations for processing online payments. The EC merchant ma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wn the payment softwa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e a point-of-sale system (POS) operated by an acquirer</a:t>
            </a:r>
            <a:endParaRPr b="0" lang="en-US" sz="24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yment service </a:t>
            </a:r>
            <a:r>
              <a:rPr b="1" lang="en-US" sz="2800" spc="-1" strike="noStrike">
                <a:solidFill>
                  <a:srgbClr val="000000"/>
                </a:solidFill>
                <a:latin typeface="Constantia"/>
              </a:rPr>
              <a:t>provider (PSP)</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hird-party service connecting a merchant</a:t>
            </a:r>
            <a:r>
              <a:rPr b="0" lang="ja-JP" sz="2400" spc="-1" strike="noStrike">
                <a:solidFill>
                  <a:srgbClr val="000000"/>
                </a:solidFill>
                <a:latin typeface="Constantia"/>
              </a:rPr>
              <a:t>’</a:t>
            </a:r>
            <a:r>
              <a:rPr b="0" lang="en-US" sz="2400" spc="-1" strike="noStrike">
                <a:solidFill>
                  <a:srgbClr val="000000"/>
                </a:solidFill>
                <a:latin typeface="Constantia"/>
              </a:rPr>
              <a:t>s EC system to the appropriate acquiring bank or financial institution; PSPs must be registered with the various card associations they support</a:t>
            </a:r>
            <a:endParaRPr b="0" lang="en-US" sz="2400" spc="-1" strike="noStrike">
              <a:solidFill>
                <a:srgbClr val="000000"/>
              </a:solidFill>
              <a:latin typeface="Constantia"/>
            </a:endParaRPr>
          </a:p>
        </p:txBody>
      </p:sp>
      <p:sp>
        <p:nvSpPr>
          <p:cNvPr id="22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090444CB-CD0F-4D2B-BE27-B73A70F3EFB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29" name=""/>
          <p:cNvSpPr txBox="1"/>
          <p:nvPr/>
        </p:nvSpPr>
        <p:spPr>
          <a:xfrm>
            <a:off x="457200" y="167616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AUDULENT CARD TRANSACTION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ey tools used in combating fraud:</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dress Verification System (AVS)</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tects fraud by comparing the address entered on a Web page with the address information on file with the cardholder</a:t>
            </a:r>
            <a:r>
              <a:rPr b="0" lang="ja-JP" sz="2000" spc="-1" strike="noStrike">
                <a:solidFill>
                  <a:srgbClr val="000000"/>
                </a:solidFill>
                <a:latin typeface="Constantia"/>
              </a:rPr>
              <a:t>’</a:t>
            </a:r>
            <a:r>
              <a:rPr b="0" lang="en-US" sz="2000" spc="-1" strike="noStrike">
                <a:solidFill>
                  <a:srgbClr val="000000"/>
                </a:solidFill>
                <a:latin typeface="Constantia"/>
              </a:rPr>
              <a:t>s issuing bank</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anual review</a:t>
            </a:r>
            <a:endParaRPr b="0" lang="en-US" sz="2000" spc="-1" strike="noStrike">
              <a:solidFill>
                <a:srgbClr val="000000"/>
              </a:solidFill>
              <a:latin typeface="Constantia"/>
            </a:endParaRPr>
          </a:p>
        </p:txBody>
      </p:sp>
      <p:sp>
        <p:nvSpPr>
          <p:cNvPr id="23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988B7D33-D22D-4D0E-8992-8E877E63C30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33" name=""/>
          <p:cNvSpPr txBox="1"/>
          <p:nvPr/>
        </p:nvSpPr>
        <p:spPr>
          <a:xfrm>
            <a:off x="457200" y="1676160"/>
            <a:ext cx="8229600" cy="4389480"/>
          </a:xfrm>
          <a:prstGeom prst="rect">
            <a:avLst/>
          </a:prstGeom>
          <a:noFill/>
          <a:ln w="0">
            <a:noFill/>
          </a:ln>
        </p:spPr>
        <p:txBody>
          <a:bodyPr anchor="t">
            <a:normAutofit/>
          </a:bodyPr>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raud screens and automated decision model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d verification number (CVN)</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tects fraud by comparing the verification number printed on the signature strip on the back of the card with the information on file with the cardholder</a:t>
            </a:r>
            <a:r>
              <a:rPr b="0" lang="ja-JP" sz="2000" spc="-1" strike="noStrike">
                <a:solidFill>
                  <a:srgbClr val="000000"/>
                </a:solidFill>
                <a:latin typeface="Constantia"/>
              </a:rPr>
              <a:t>’</a:t>
            </a:r>
            <a:r>
              <a:rPr b="0" lang="en-US" sz="2000" spc="-1" strike="noStrike">
                <a:solidFill>
                  <a:srgbClr val="000000"/>
                </a:solidFill>
                <a:latin typeface="Constantia"/>
              </a:rPr>
              <a:t>s issuing bank</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d association payer authentication servic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egative lists</a:t>
            </a:r>
            <a:endParaRPr b="0" lang="en-US" sz="2000" spc="-1" strike="noStrike">
              <a:solidFill>
                <a:srgbClr val="000000"/>
              </a:solidFill>
              <a:latin typeface="Constantia"/>
            </a:endParaRPr>
          </a:p>
        </p:txBody>
      </p:sp>
      <p:sp>
        <p:nvSpPr>
          <p:cNvPr id="23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17E3790E-EA7E-48C4-BABA-496FB24543A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sahar alshathry</cp:lastModifiedBy>
  <dcterms:modified xsi:type="dcterms:W3CDTF">2014-11-29T16:33:36Z</dcterms:modified>
  <cp:revision>134</cp:revision>
  <dc:subject/>
  <dc:title>Chapter 1</dc:title>
</cp:coreProperties>
</file>