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3236-4B35-49CF-8958-76164591503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B6CC-0090-48CE-A983-8692CBFA4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8848-9465-44F7-AA30-A95E1A75E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97D0-6B88-4A62-94D0-4E5143ED4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3462-458A-402C-AC8B-0D09489F1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C460-1C93-4853-9379-EC78FBA86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B96E-A088-4E54-80F0-041DB168B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D8B1-E18E-4606-824E-597BCECDF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C6F6-6675-4D90-8B8D-A6D210C4F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BDDC-74F9-47F6-9C9E-B92079EE4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8848-0E60-433F-9D99-8BA6BB76F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34D6-F843-49E8-A571-D637AE75A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0913-4C5B-4CBC-BA2D-1A29B61BA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AC43-8540-463A-B25B-82C92E571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7372-D195-4626-82F6-AEDD0967B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A004-22F7-4E2E-B9FF-7038A7300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9A47-96F5-432E-961E-B0591A04E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50E1-4501-43E1-A31E-7232F224B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9D09-9DC8-4879-A7DA-83B2CFB5F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5246-33B9-44DD-B73E-6DC45859E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AB96-87EF-46D8-93BB-B8F71F11A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9D5E-DC1A-44CB-8248-FFE32B690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9605-2437-4AB5-B043-CFE48D404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9807-6B50-42CA-9704-0242DD227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3875-EA35-4288-90EF-11239937E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A24B-EE66-4B92-A1AE-5A0D22095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8C8D-51D2-419B-8EAA-7D2E94EE4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4606-AC73-4A1A-8B15-A0B12E3D4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C998-8B62-40A3-B97B-A246589B9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F13D-1BFA-42F6-948A-D7086D9FF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6928-19A8-426A-AD49-6211485D1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790B-5770-4627-906A-C1338026A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E7EF-E477-4A74-B88E-C27FE9C56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82CED-3EB8-49D3-B665-1B5346624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2119D-9AB6-4BA5-A029-1AB280E9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BE445-0BE7-44C5-9663-43DBB240E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9D50C-20EB-4526-9DFE-F699C2405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A0A0D-B77C-439B-AA3A-24815A1D2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9916E-65BB-400C-833C-32D27E4B2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C96AB-C6E2-4E33-B85D-9D811A981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D592B-045A-42C8-AB83-F175CADEC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879BB-A09F-4C9F-9240-93BF467B7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80435-7393-42CA-AA87-40CBF5984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51109-96F8-41E4-BFFF-ECFEF8EE8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594C7-3C0E-456B-AF9E-EDFBA259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EE299-4404-43D0-ADF2-02CD455AA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9FF59-57E1-47DD-A1E7-33F629D91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EC10E-C755-477B-B00F-897F2116B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EC384-AB63-4F39-B1EF-76392AC80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EB135-CA43-4F74-8799-250EAD9FC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0B0510-2DA3-43B8-A2F0-29D78C756E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232441-8432-4477-A786-287C18F09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D4D66-3B02-4E6C-B6B5-AFD710B74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18FDE2-8D81-44DB-9158-FBC41B25C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3233F-CC8F-4B3A-8E43-0734E8929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2D155-A563-4009-89DF-798913CFA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33AD5-AF4C-403A-BE21-130656668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EEAF9-4E7B-4223-B5FA-A7A7DFDB6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109DC-465A-449B-9ACA-09F99139A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83A13-EDEB-4C0F-9BAF-D358FF100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DE1E5-7202-486D-B165-237C39D6D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286F1D-B1A2-430B-91C3-F51C1AD102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C2436A-FF7C-4EAE-98E2-17834F5301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592AD1-95CC-4B5F-A1CB-09A14069D0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996164-FC68-4250-B8A8-45C7D9D41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52C65-567B-4A9D-8D57-6630DFC24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6CBD6-8C08-4807-A537-CD9209A52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D5445-20A9-4450-B78E-16972F1FA3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A8F6D-BFD4-4C18-BE14-CFB79D2C57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C36092-81CE-4582-8F0E-3A17938A6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0AE94-548D-4540-857E-8FE7484E7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6D513-1C29-44CC-B2E8-0B74CC472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467F8-CE09-4CDF-AD02-536C9DF4D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03875-2775-4059-B545-D13AB3F72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CC5654-7196-4C85-95DD-AF96C614EC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5EC124-E07B-4A25-A7F6-FA303A8F6B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57AFC-FCB2-4F65-BC16-CA6F56321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9623C-BB28-4644-99CF-66120825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FB49-316D-45B8-B900-B203535C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67589-6847-4E5C-8229-29924FB13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10CCE-A776-4E1B-A0F6-CEC0B9B55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F2A0-16DC-454E-8C1F-31306EE6F5CE}"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0A5DE6B7-6284-48DD-914A-1E34667A8FB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84D6-666F-4EC1-A387-46517E99A9D5}"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1-</a:t>
            </a:r>
            <a:fld id="{8AEB0CBA-B5D4-42E3-8121-E4496D71ECC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889F-9A7C-4580-B47E-1CF064BA5BAE}"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1-</a:t>
            </a:r>
            <a:fld id="{BBCABBC1-D699-47CC-80EA-6F050566672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09F2-9021-47D0-90AB-46680D003AC7}"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BE920705-333B-42D3-B7AF-F1F32329132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71600"/>
            <a:ext cx="7918560" cy="1981080"/>
          </a:xfrm>
          <a:prstGeom prst="rect">
            <a:avLst/>
          </a:prstGeom>
          <a:ln w="0">
            <a:noFill/>
          </a:ln>
        </p:spPr>
      </p:pic>
      <p:sp>
        <p:nvSpPr>
          <p:cNvPr id="2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Order Fulfillment Along the Supply Chain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d Other Support Servic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Problems in </a:t>
            </a:r>
            <a:br>
              <a:rPr sz="4200"/>
            </a:br>
            <a:r>
              <a:rPr b="0" lang="en-US" sz="4200" spc="-1" strike="noStrike">
                <a:solidFill>
                  <a:srgbClr val="04617b"/>
                </a:solidFill>
                <a:latin typeface="Calibri"/>
              </a:rPr>
              <a:t>Order Fulfillment Along Supply Chains</a:t>
            </a:r>
            <a:endParaRPr b="0" lang="en-US" sz="42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ICAL SUPPLY CHAI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Y SUPPLY CHAIN PROBLEMS EXI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ird-party logistics suppliers (3P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xternal, rather than in-house, providers of logistics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efficient Financial Supply Chains Can Grind Businesses to a Hal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Need for Information Sharing Along the Supply Chai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DF3D6113-BE73-48BB-A970-8C31B919F32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ROVEMENTS IN THE ORDER-TAKING ACTIV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Payments in E-Commerc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arehouse management system (WM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oftware system that helps in managing warehous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Warehousing and Inventory Management Improve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omated Warehous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Wireless Technologies</a:t>
            </a:r>
            <a:endParaRPr b="0" lang="en-US" sz="2400" spc="-1" strike="noStrike">
              <a:solidFill>
                <a:srgbClr val="000000"/>
              </a:solidFill>
              <a:latin typeface="Constantia"/>
            </a:endParaRPr>
          </a:p>
        </p:txBody>
      </p:sp>
      <p:sp>
        <p:nvSpPr>
          <p:cNvPr id="23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263627B1-B488-48CD-B9D2-8DB9F4E7F17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1752480" y="322200"/>
            <a:ext cx="4737240" cy="5926320"/>
          </a:xfrm>
          <a:prstGeom prst="rect">
            <a:avLst/>
          </a:prstGeom>
          <a:ln w="0">
            <a:noFill/>
          </a:ln>
        </p:spPr>
      </p:pic>
      <p:sp>
        <p:nvSpPr>
          <p:cNvPr id="242"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B3F8A4B5-7D96-4E5A-B728-6994772AB59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EEDING DELIVER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ame-Day, Even Same-Hour, Deliver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upermarket Deliver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ARTNERING EFFORTS AND OUTSOURCING LOGISTIC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mprehensive Logistics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utsourcing Logistic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F5A37593-E5A2-42D6-AB71-7F34819924A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GRATED GLOBAL LOGISTICS SYSTEMS</a:t>
            </a: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ORDER FULFILLMENT IN MAKE-TO-ORDER AND MASS CUSTOMIZATION</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ulfilling Orders</a:t>
            </a:r>
            <a:endParaRPr b="0" lang="en-US" sz="2400" spc="-1" strike="noStrike">
              <a:solidFill>
                <a:srgbClr val="000000"/>
              </a:solidFill>
              <a:latin typeface="Constantia"/>
            </a:endParaRPr>
          </a:p>
        </p:txBody>
      </p:sp>
      <p:sp>
        <p:nvSpPr>
          <p:cNvPr id="25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30493ACC-1E93-479A-9F20-ACE6CF5932B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ANDLING RETURNS (REVERSE LOGISTIC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urn the item to the place of purcha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parate the logistics of returns from the logistics of deliver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etely outsource retur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w the customer to physically drop the returned item at a collection st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ction the returned items</a:t>
            </a:r>
            <a:endParaRPr b="0" lang="en-US" sz="2400" spc="-1" strike="noStrike">
              <a:solidFill>
                <a:srgbClr val="000000"/>
              </a:solidFill>
              <a:latin typeface="Constantia"/>
            </a:endParaRPr>
          </a:p>
        </p:txBody>
      </p:sp>
      <p:sp>
        <p:nvSpPr>
          <p:cNvPr id="25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66354DE1-FC21-49FD-BACF-DD24508483A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RDER FULFILLMENT IN B2B</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BPM to Improve Order Fulfill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E-Marketplaces and Exchanges to Ease Order Fulfillment Problems in B2B</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rder Fulfillment in Services</a:t>
            </a:r>
            <a:endParaRPr b="0" lang="en-US" sz="2400" spc="-1" strike="noStrike">
              <a:solidFill>
                <a:srgbClr val="000000"/>
              </a:solidFill>
              <a:latin typeface="Constantia"/>
            </a:endParaRPr>
          </a:p>
        </p:txBody>
      </p:sp>
      <p:sp>
        <p:nvSpPr>
          <p:cNvPr id="25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1BA1C0D6-1CB9-4279-B8B1-BF1233FD4AF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SOLUTIONS TO SUPPLY CHAIN PROBLEMS</a:t>
            </a:r>
            <a:endParaRPr b="0" lang="en-US" sz="26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sibility</a:t>
            </a:r>
            <a:endParaRPr b="0" lang="en-US" sz="2400" spc="-1" strike="noStrike">
              <a:solidFill>
                <a:srgbClr val="000000"/>
              </a:solidFill>
              <a:latin typeface="Constantia"/>
            </a:endParaRPr>
          </a:p>
          <a:p>
            <a:pPr lvl="1" marL="620280" indent="-23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knowledge about where materials and parts are  at any given time, which helps in solving problems such as delay, combining shipments, and more</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Order fulfillment</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Managing risk</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nventories can be minimized</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Self-service</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Collaborative commerce</a:t>
            </a:r>
            <a:endParaRPr b="0" lang="en-US" sz="2400" spc="-1" strike="noStrike">
              <a:solidFill>
                <a:srgbClr val="000000"/>
              </a:solidFill>
              <a:latin typeface="Constantia"/>
            </a:endParaRPr>
          </a:p>
        </p:txBody>
      </p:sp>
      <p:sp>
        <p:nvSpPr>
          <p:cNvPr id="26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89182621-C8C2-494D-839D-87FB3BD7C2E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NOVATIVE E-FULFILLMENT STRATEGIE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erge-in-transit</a:t>
            </a:r>
            <a:endParaRPr b="0" lang="en-US" sz="2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Logistics model in which components for a product may come from two (or more) different physical locations and are shipped directly to the customer</a:t>
            </a:r>
            <a:r>
              <a:rPr b="0" lang="ja-JP" sz="2400" spc="-1" strike="noStrike">
                <a:solidFill>
                  <a:srgbClr val="000000"/>
                </a:solidFill>
                <a:latin typeface="Constantia"/>
              </a:rPr>
              <a:t>’</a:t>
            </a:r>
            <a:r>
              <a:rPr b="0" lang="en-US" sz="2400" spc="-1" strike="noStrike">
                <a:solidFill>
                  <a:srgbClr val="000000"/>
                </a:solidFill>
                <a:latin typeface="Constantia"/>
              </a:rPr>
              <a:t>s location</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olling warehouse</a:t>
            </a:r>
            <a:endParaRPr b="0" lang="en-US" sz="2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Logistics method in which products on the delivery truck are not preassigned to a destination, but the decision about the quantity to unload at each destination is made at the time of unloading</a:t>
            </a:r>
            <a:endParaRPr b="0" lang="en-US" sz="2400" spc="-1" strike="noStrike">
              <a:solidFill>
                <a:srgbClr val="000000"/>
              </a:solidFill>
              <a:latin typeface="Constantia"/>
            </a:endParaRPr>
          </a:p>
        </p:txBody>
      </p:sp>
      <p:sp>
        <p:nvSpPr>
          <p:cNvPr id="26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C89F15A3-AF16-414D-AE7D-19F6B79F867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ample: A World-Class Supply Chain and Order Fulfillment System Works at Del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gration and Enterprise Resource Plann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upply Chains of Tomorrow</a:t>
            </a:r>
            <a:endParaRPr b="0" lang="en-US" sz="2400" spc="-1" strike="noStrike">
              <a:solidFill>
                <a:srgbClr val="000000"/>
              </a:solidFill>
              <a:latin typeface="Constantia"/>
            </a:endParaRPr>
          </a:p>
        </p:txBody>
      </p:sp>
      <p:sp>
        <p:nvSpPr>
          <p:cNvPr id="27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6EA33B1A-683D-40C2-8BEF-3BBAD0B3EEC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380880" y="1676160"/>
            <a:ext cx="8229600" cy="4389480"/>
          </a:xfrm>
          <a:prstGeom prst="rect">
            <a:avLst/>
          </a:prstGeom>
          <a:noFill/>
          <a:ln w="0">
            <a:noFill/>
          </a:ln>
        </p:spPr>
        <p:txBody>
          <a:bodyPr anchor="t">
            <a:normAutofit fontScale="93000"/>
          </a:bodyPr>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role of support services in electronic commerce (EC).</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EC order fulfillment and describe the EC order fulfillment process.</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major problems of EC order fulfillment.</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various solutions to EC order fulfillment problems.</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RFID supply chain applications. </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collaborative planning and the CPFR model.</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other EC support services.</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drivers of outsourcing support services.</a:t>
            </a:r>
            <a:endParaRPr b="0" lang="en-US" sz="2400" spc="-1" strike="noStrike">
              <a:solidFill>
                <a:srgbClr val="000000"/>
              </a:solidFill>
              <a:latin typeface="Constantia"/>
            </a:endParaRPr>
          </a:p>
        </p:txBody>
      </p:sp>
      <p:sp>
        <p:nvSpPr>
          <p:cNvPr id="20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765DC7B9-AECC-4318-B114-160C93CA18D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FID and CPFR as Key Enablers </a:t>
            </a:r>
            <a:br>
              <a:rPr sz="4400"/>
            </a:br>
            <a:r>
              <a:rPr b="0" lang="en-US" sz="4400" spc="-1" strike="noStrike">
                <a:solidFill>
                  <a:srgbClr val="04617b"/>
                </a:solidFill>
                <a:latin typeface="Calibri"/>
              </a:rPr>
              <a:t>in Supply Chain Management</a:t>
            </a:r>
            <a:endParaRPr b="0" lang="en-US" sz="44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adio frequency identification (RFI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ags that can be attached to or embedded in objects, animals, or humans and use radio waves to communicate with a reader for the purpose of uniquely identifying the object or transmitting data and/or storing information about the object</a:t>
            </a:r>
            <a:endParaRPr b="0" lang="en-US" sz="2600" spc="-1" strike="noStrike">
              <a:solidFill>
                <a:srgbClr val="000000"/>
              </a:solidFill>
              <a:latin typeface="Constantia"/>
            </a:endParaRPr>
          </a:p>
        </p:txBody>
      </p:sp>
      <p:sp>
        <p:nvSpPr>
          <p:cNvPr id="27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B1B08E8E-A34C-4AD4-8627-5227B1C5EA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533520" y="457200"/>
            <a:ext cx="7924680" cy="5824440"/>
          </a:xfrm>
          <a:prstGeom prst="rect">
            <a:avLst/>
          </a:prstGeom>
          <a:ln w="0">
            <a:noFill/>
          </a:ln>
        </p:spPr>
      </p:pic>
      <p:sp>
        <p:nvSpPr>
          <p:cNvPr id="27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4377BD33-7978-487C-8085-E7804CCE59E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FID and CPFR as Key Enablers </a:t>
            </a:r>
            <a:br>
              <a:rPr sz="4400"/>
            </a:br>
            <a:r>
              <a:rPr b="0" lang="en-US" sz="4400" spc="-1" strike="noStrike">
                <a:solidFill>
                  <a:srgbClr val="04617b"/>
                </a:solidFill>
                <a:latin typeface="Calibri"/>
              </a:rPr>
              <a:t>in Supply Chain Management</a:t>
            </a:r>
            <a:endParaRPr b="0" lang="en-US" sz="4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FID APPLICATIONS IN THE SUPPLY CHAIN AROUND THE GLOB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at Metro AG-German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at Starbuc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nstantia"/>
              </a:rPr>
              <a:t>RFID at Deutsche Post (German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in the Federal Government (U.S. Department of Defense)</a:t>
            </a:r>
            <a:endParaRPr b="0" lang="en-US" sz="2400" spc="-1" strike="noStrike">
              <a:solidFill>
                <a:srgbClr val="000000"/>
              </a:solidFill>
              <a:latin typeface="Constantia"/>
            </a:endParaRPr>
          </a:p>
        </p:txBody>
      </p:sp>
      <p:sp>
        <p:nvSpPr>
          <p:cNvPr id="28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BDB33543-50AC-4D77-9A21-B8079780DCE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FID and CPFR as Key Enablers </a:t>
            </a:r>
            <a:br>
              <a:rPr sz="4400"/>
            </a:br>
            <a:r>
              <a:rPr b="0" lang="en-US" sz="4400" spc="-1" strike="noStrike">
                <a:solidFill>
                  <a:srgbClr val="04617b"/>
                </a:solidFill>
                <a:latin typeface="Calibri"/>
              </a:rPr>
              <a:t>in Supply Chain Management</a:t>
            </a:r>
            <a:endParaRPr b="0" lang="en-US" sz="44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at Atlantic Beef Products (Ontario, Canad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at Yodobashi Camera Handles Inventory of About 1 Million Items (Jap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in Pharmaceutica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Jeweler Gains Efficiency and Improves Customer Service  with RFID (In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Uses</a:t>
            </a:r>
            <a:endParaRPr b="0" lang="en-US" sz="2400" spc="-1" strike="noStrike">
              <a:solidFill>
                <a:srgbClr val="000000"/>
              </a:solidFill>
              <a:latin typeface="Constantia"/>
            </a:endParaRPr>
          </a:p>
        </p:txBody>
      </p:sp>
      <p:sp>
        <p:nvSpPr>
          <p:cNvPr id="28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4706C7FE-E321-48BC-832D-6F3348D6A27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1066680" y="457200"/>
            <a:ext cx="6855120" cy="5838840"/>
          </a:xfrm>
          <a:prstGeom prst="rect">
            <a:avLst/>
          </a:prstGeom>
          <a:ln w="0">
            <a:noFill/>
          </a:ln>
        </p:spPr>
      </p:pic>
      <p:sp>
        <p:nvSpPr>
          <p:cNvPr id="28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1D1B12C5-DD89-4CBD-99AD-BD440744B89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FID and CPFR as Key Enablers </a:t>
            </a:r>
            <a:br>
              <a:rPr sz="4400"/>
            </a:br>
            <a:r>
              <a:rPr b="0" lang="en-US" sz="4400" spc="-1" strike="noStrike">
                <a:solidFill>
                  <a:srgbClr val="04617b"/>
                </a:solidFill>
                <a:latin typeface="Calibri"/>
              </a:rPr>
              <a:t>in Supply Chain Management</a:t>
            </a:r>
            <a:endParaRPr b="0" lang="en-US" sz="44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llaborative planning, forecasting, and replenishment (CPF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ject in which suppliers and retailers collaborate in their planning and demand forecasting to optimize flow of materials along the supply cha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B6EFE1FC-C703-4271-887B-5719B0136E4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447920" y="291960"/>
            <a:ext cx="6014880" cy="6032520"/>
          </a:xfrm>
          <a:prstGeom prst="rect">
            <a:avLst/>
          </a:prstGeom>
          <a:ln w="0">
            <a:noFill/>
          </a:ln>
        </p:spPr>
      </p:pic>
      <p:sp>
        <p:nvSpPr>
          <p:cNvPr id="29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DEA0501E-0A14-4D10-B7C1-8EBF37891A0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Other E-Commerce Support Services</a:t>
            </a:r>
            <a:endParaRPr b="0" lang="en-US" sz="44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SULTING SERVI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Consult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rectory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ewslett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Engines and News Aggregators</a:t>
            </a:r>
            <a:endParaRPr b="0" lang="en-US" sz="2400" spc="-1" strike="noStrike">
              <a:solidFill>
                <a:srgbClr val="000000"/>
              </a:solidFill>
              <a:latin typeface="Constantia"/>
            </a:endParaRPr>
          </a:p>
        </p:txBody>
      </p:sp>
      <p:sp>
        <p:nvSpPr>
          <p:cNvPr id="29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F4107CD0-927F-4143-8BC3-82A2F2147FA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3045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Other E-Commerce Support Services</a:t>
            </a:r>
            <a:endParaRPr b="0" lang="en-US" sz="4400" spc="-1" strike="noStrike">
              <a:solidFill>
                <a:srgbClr val="04617b"/>
              </a:solidFill>
              <a:latin typeface="Calibri"/>
            </a:endParaRPr>
          </a:p>
        </p:txBody>
      </p:sp>
      <p:sp>
        <p:nvSpPr>
          <p:cNvPr id="302" name=""/>
          <p:cNvSpPr txBox="1"/>
          <p:nvPr/>
        </p:nvSpPr>
        <p:spPr>
          <a:xfrm>
            <a:off x="457200" y="1447560"/>
            <a:ext cx="8229600" cy="4389480"/>
          </a:xfrm>
          <a:prstGeom prst="rect">
            <a:avLst/>
          </a:prstGeom>
          <a:noFill/>
          <a:ln w="0">
            <a:noFill/>
          </a:ln>
        </p:spPr>
        <p:txBody>
          <a:bodyPr anchor="t">
            <a:normAutofit fontScale="89000"/>
          </a:bodyPr>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RE EC SUPPORT SERVICES</a:t>
            </a:r>
            <a:endParaRPr b="0" lang="en-US" sz="24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ust Servic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ademark and Domain Nam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gital Photo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lobal Business Communiti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cess to Commercial Databas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nowledge Management</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lient Matching</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Business Rating Sit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urity and Encryption Sit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eb Research Servic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upon-Generating Sites</a:t>
            </a:r>
            <a:endParaRPr b="0" lang="en-US" sz="2200" spc="-1" strike="noStrike">
              <a:solidFill>
                <a:srgbClr val="000000"/>
              </a:solidFill>
              <a:latin typeface="Constantia"/>
            </a:endParaRPr>
          </a:p>
        </p:txBody>
      </p:sp>
      <p:sp>
        <p:nvSpPr>
          <p:cNvPr id="30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D57CBB14-F956-47CC-ABB2-9145AE2E7A7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Other E-Commerce Support Services</a:t>
            </a:r>
            <a:endParaRPr b="0" lang="en-US" sz="44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UTSOURCING EC SUPPORT SERVI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y Outsource EC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T Outsourcing and Application Service Provide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pplication service provider (ASP)</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n agent or vendor who assembles the functions needed by enterprises and packages them with outsourced development, operation, maintenance, and other services</a:t>
            </a:r>
            <a:endParaRPr b="0" lang="en-US" sz="2100" spc="-1" strike="noStrike">
              <a:solidFill>
                <a:srgbClr val="000000"/>
              </a:solidFill>
              <a:latin typeface="Constantia"/>
            </a:endParaRPr>
          </a:p>
        </p:txBody>
      </p:sp>
      <p:sp>
        <p:nvSpPr>
          <p:cNvPr id="30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1CE7381B-E66D-4316-B164-4C6CDA71411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rder Fulfillment and Logistics: An Overview</a:t>
            </a:r>
            <a:endParaRPr b="0" lang="en-US" sz="4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CQUIRING GOODS AND SERVICE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rder fulfillment </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0" lang="en-US" sz="2400" spc="-1" strike="noStrike">
                <a:solidFill>
                  <a:srgbClr val="000000"/>
                </a:solidFill>
                <a:latin typeface="Constantia"/>
              </a:rPr>
              <a:t>All the activities needed to provide customers with their ordered goods and services, including related customer service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ck-office operation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ctivities that support fulfillment of orders, such as packing, delivery, accounting, and logistic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ont-office operation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business processes, such as sales and advertising, which are visible to customers</a:t>
            </a:r>
            <a:endParaRPr b="0" lang="en-US" sz="2400" spc="-1" strike="noStrike">
              <a:solidFill>
                <a:srgbClr val="000000"/>
              </a:solidFill>
              <a:latin typeface="Constantia"/>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71EEDE74-C325-4BE3-8783-D0D0A1914BA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0B72078A-EF9C-45D9-A1CC-A2ED7B76FC0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11" name="Picture 5" descr=""/>
          <p:cNvPicPr/>
          <p:nvPr/>
        </p:nvPicPr>
        <p:blipFill>
          <a:blip r:embed="rId1"/>
          <a:stretch/>
        </p:blipFill>
        <p:spPr>
          <a:xfrm>
            <a:off x="609480" y="838080"/>
            <a:ext cx="7751880" cy="524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are an EC vendor, what is the bottleneck in the order fulfillment proces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which items should we keep our own inventory?</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alliance strategy in order fulfillmen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should we manage return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logistics information should we provide to customer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we use RFID for the order fulfillmen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we use CPFR in SMEs?</a:t>
            </a:r>
            <a:endParaRPr b="0" lang="en-US" sz="2400" spc="-1" strike="noStrike">
              <a:solidFill>
                <a:srgbClr val="000000"/>
              </a:solidFill>
              <a:latin typeface="Constantia"/>
            </a:endParaRPr>
          </a:p>
        </p:txBody>
      </p:sp>
      <p:sp>
        <p:nvSpPr>
          <p:cNvPr id="31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C5657C2E-9363-42F3-9437-2A197559592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17" name=""/>
          <p:cNvSpPr txBox="1"/>
          <p:nvPr/>
        </p:nvSpPr>
        <p:spPr>
          <a:xfrm>
            <a:off x="533520" y="167616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ole of support services in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order fulfillment proces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blems in order fulfillmen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lutions to order fulfillment proble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FID tag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llaborative planning and CPFR</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support servic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sourcing EC services</a:t>
            </a:r>
            <a:endParaRPr b="0" lang="en-US" sz="2600" spc="-1" strike="noStrike">
              <a:solidFill>
                <a:srgbClr val="000000"/>
              </a:solidFill>
              <a:latin typeface="Constantia"/>
            </a:endParaRPr>
          </a:p>
        </p:txBody>
      </p:sp>
      <p:sp>
        <p:nvSpPr>
          <p:cNvPr id="31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CB63AA4C-2C78-4358-8982-260100562DE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1"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22871CD3-A069-42CE-BEC8-826E755B07C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3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3" name="Picture 3" descr="cid:3287383400_2177562"/>
          <p:cNvPicPr/>
          <p:nvPr/>
        </p:nvPicPr>
        <p:blipFill>
          <a:blip r:embed="rId1"/>
          <a:stretch/>
        </p:blipFill>
        <p:spPr>
          <a:xfrm>
            <a:off x="762120" y="1522440"/>
            <a:ext cx="7242120" cy="2363760"/>
          </a:xfrm>
          <a:prstGeom prst="rect">
            <a:avLst/>
          </a:prstGeom>
          <a:ln w="9360">
            <a:solidFill>
              <a:srgbClr val="ffffff"/>
            </a:solidFill>
            <a:miter/>
          </a:ln>
        </p:spPr>
      </p:pic>
      <p:sp>
        <p:nvSpPr>
          <p:cNvPr id="324"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25"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457200" y="457200"/>
            <a:ext cx="7959600" cy="5813280"/>
          </a:xfrm>
          <a:prstGeom prst="rect">
            <a:avLst/>
          </a:prstGeom>
          <a:ln w="0">
            <a:noFill/>
          </a:ln>
        </p:spPr>
      </p:pic>
      <p:sp>
        <p:nvSpPr>
          <p:cNvPr id="21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1D4B3329-BD0A-4F83-9896-E063C714D86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rder Fulfillment and Logistics: An Overview</a:t>
            </a:r>
            <a:endParaRPr b="0" lang="en-US" sz="48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ogistic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operations involved in the efficient and effective flow and storage of goods, services, and related information from point of origin to point of consumption</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logistics</a:t>
            </a:r>
            <a:endParaRPr b="0" lang="en-US" sz="22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The logistics of EC </a:t>
            </a:r>
            <a:r>
              <a:rPr b="0" lang="en-US" sz="2400" spc="-1" strike="noStrike">
                <a:solidFill>
                  <a:srgbClr val="000000"/>
                </a:solidFill>
                <a:latin typeface="Constantia"/>
              </a:rPr>
              <a:t>systems, typically involving small parcels sent to many customers</a:t>
            </a:r>
            <a:r>
              <a:rPr b="0" lang="ja-JP" sz="2400" spc="-1" strike="noStrike">
                <a:solidFill>
                  <a:srgbClr val="000000"/>
                </a:solidFill>
                <a:latin typeface="Constantia"/>
              </a:rPr>
              <a:t>’</a:t>
            </a:r>
            <a:r>
              <a:rPr b="0" lang="en-US" sz="2400" spc="-1" strike="noStrike">
                <a:solidFill>
                  <a:srgbClr val="000000"/>
                </a:solidFill>
                <a:latin typeface="Constantia"/>
              </a:rPr>
              <a:t> homes (in B2C)</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11FD4507-20FF-43EA-9904-AC7DCC3A1D5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27000" y="1627200"/>
            <a:ext cx="8991720" cy="3962520"/>
          </a:xfrm>
          <a:prstGeom prst="rect">
            <a:avLst/>
          </a:prstGeom>
          <a:ln w="0">
            <a:noFill/>
          </a:ln>
        </p:spPr>
      </p:pic>
      <p:sp>
        <p:nvSpPr>
          <p:cNvPr id="22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8287C50C-7764-451E-B55E-09297D35A69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909720" y="622440"/>
            <a:ext cx="7472160" cy="5626080"/>
          </a:xfrm>
          <a:prstGeom prst="rect">
            <a:avLst/>
          </a:prstGeom>
          <a:ln w="0">
            <a:noFill/>
          </a:ln>
        </p:spPr>
      </p:pic>
      <p:sp>
        <p:nvSpPr>
          <p:cNvPr id="22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C5E2BBA5-75E1-41DC-99F9-1D3FD38E578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rder Fulfillment and Logistics: An Overview</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EC ORDER FULFILLMENT PROCES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1: Making sure the customer will pay</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2: Checking for in-stock availability</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3: Arranging shipment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4: Insurance</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5: Replenishment</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6: In-house production</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7: Use contractor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8: Contacts with customer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9: Returns</a:t>
            </a:r>
            <a:endParaRPr b="0" lang="en-US" sz="2200" spc="-1" strike="noStrike">
              <a:solidFill>
                <a:srgbClr val="000000"/>
              </a:solidFill>
              <a:latin typeface="Constantia"/>
            </a:endParaRPr>
          </a:p>
        </p:txBody>
      </p:sp>
      <p:sp>
        <p:nvSpPr>
          <p:cNvPr id="22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E944FD3C-A6A7-48E9-BC6F-0B7CB34835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rder Fulfillment and Logistics: An Overview</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lvl="1" marL="639720" indent="-245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nstantia"/>
              </a:rPr>
              <a:t>reverse logistics</a:t>
            </a:r>
            <a:endParaRPr b="0" lang="en-US" sz="23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vement of returns from customers to vendors</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 Administrative Activities of Order Taking and Fulfillment</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rder Fulfillment and the Supply Chain</a:t>
            </a:r>
            <a:endParaRPr b="0" lang="en-US" sz="2000" spc="-1" strike="noStrike">
              <a:solidFill>
                <a:srgbClr val="000000"/>
              </a:solidFill>
              <a:latin typeface="Constantia"/>
            </a:endParaRPr>
          </a:p>
        </p:txBody>
      </p:sp>
      <p:sp>
        <p:nvSpPr>
          <p:cNvPr id="2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20763CF1-43CB-49C5-9B91-957582B39D3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sahar alshathry</cp:lastModifiedBy>
  <dcterms:modified xsi:type="dcterms:W3CDTF">2014-11-24T16:09:17Z</dcterms:modified>
  <cp:revision>143</cp:revision>
  <dc:subject/>
  <dc:title>Chapter 1</dc:title>
</cp:coreProperties>
</file>