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E1D4-D892-47DB-9F72-75C24E26B1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D10D-58C9-4566-AEAB-BB19C4E13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128B-E018-47D3-883A-4A64B34E2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FB0F-237E-4771-8AAC-156D26CB0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1004-5A97-4E67-BE65-B2DA498E7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9166-795E-4A6C-AEBE-A896EB8B7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A892-DF19-4CD5-BE90-A280C6032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C7DA-4FDA-4C8A-8177-A68CB0D6E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4715-AE84-479E-8A04-098B8384B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77E5-D708-4E4C-A9B2-1FD221938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C594-9CA5-4E07-9DA4-C4A8A0BE1C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B557-4020-44DE-8295-F5E319895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C418-8378-480C-A290-8E7EB9850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70F6-F1E1-427F-95EF-C2FA65637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9293-2F94-40C6-8419-50860DC68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4FED-5F8E-4D47-A1DE-193473011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6838-BE22-4443-A237-E6B61418A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F7FA-C7DD-478F-B3DB-11162EF57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FE33-9C02-4313-9EFF-D2E673E76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ECDF-4ACC-4BD4-9E7C-FB4D9FC95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0962-57BC-4F12-95F0-989CB6020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1AFE-9AF4-4279-BB53-42059F2C3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3CB9-8660-4030-800C-F928D06A1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621A-B1C4-42A6-BAAD-808924D51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F3A8-C9DE-4C5B-AD3A-BEE64A0E8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3C86-8EBC-4663-83D1-B5F298BAD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CAFD-08F8-4F5F-AECD-4B8A7FAF9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5042-5956-4DE1-BB82-9D07585FF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6A60-3883-45EF-B027-D8EBD2528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4304-2BB9-491F-8DD2-574250F9E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D712-0867-45EA-915C-C89EF57E4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3AE1-0296-441A-BFF4-B8CE880CE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6300-8091-4632-9B74-3E5D18D15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563A4-760F-4F7C-995A-E570DB206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A58C5-EF0E-47E9-810B-C85263650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243C5-ADBA-4FD4-ACDF-2EE0F23A9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85879-E5E8-40E5-B9E5-DFED34D79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28880-4111-4AA1-A592-22B06FD1B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CB4BC-4EAE-47B0-BD25-0AA7B931A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2D922-9B19-45F0-991E-FA3A07313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95A1A-31B4-4347-8FD0-34E7A33FF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E51FD-A2F2-4AB5-B76B-0AA49E6FC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3FACD-21F2-4BD0-AC9E-BD46B8B62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C91CA-337B-473F-B9B4-99EEDE740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B9A60-39E5-4B8A-B918-67557F8F6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A0B27-9C1E-4C84-99AE-4EA93A54E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94C15-5C9A-4944-A611-F63C36E54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FB074-E2E8-44A7-83EE-43FE0A63A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F2C75-B100-47FD-8DFE-CF269EE96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6AEDE-E99F-4C94-852A-B699E417F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9C9CF0-1196-4B27-B1B2-654FE73549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CC651-DF67-4022-8D70-A209F686D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9B49D-FF2D-429B-98C2-82B40F042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6C4A5E-A992-426A-ACE2-B9A90A869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C3ECE3-DC4F-4F6C-AFEF-F69D4E52F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A1D4A-EC7F-47AB-BA23-134B58035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66EF8A-33C5-4CE5-A090-DDC60C6FF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B13AE-1B7D-4032-9F95-FB4900B3F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1A4CD-683A-4463-9331-6895DB206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EB0F2-A182-4553-A24C-F0DC53A59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EC9A1-0096-4FAC-B1FE-2727E5C2A8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E7E1E3-775B-45AF-8D74-10B46DDA0B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CBBC94-8DB2-4B1D-A13D-7287937FE5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4F04F1-58AB-40D8-902D-4F98A66205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D6A922-74B9-4C35-8897-8A7E1CC1A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E2187-72F1-434F-8CB4-47EE34946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96B2-89A3-4A1B-B7FC-FA348ED33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7C094-A808-42D1-9C8B-159D1276B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40615-D9CF-4881-9593-0C5D4012DB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BCD223-61FE-4388-9E3C-DC6A083A2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F6938-AA46-44B2-9548-8616BDA5F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EB357-5D2A-4BA3-9E0F-BFF6FC2F9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5F753-9AC2-4E80-992A-3201B7306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BB1300-74BA-4024-933B-19230DAE27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CD6D39-9E59-42E3-A2A5-D6F9C53F84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8B4960-ED84-46C4-ABCD-4E2DB29671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02F42-0764-4021-9F86-1B1B02AFA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BA4AB-8E2B-47D8-B5F1-C63A20F11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14C2-B484-4591-B920-B843A0EB3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5C574-8D8C-40CA-896E-720EA023B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2CAA-EC90-4455-AD2A-36A02EDBE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6285-12B7-44A7-80EA-DB191BF537E5}"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DB3AEDA1-DA8C-4745-A8F6-7D79496595C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BF7A-EABE-481B-BC8F-6A5C9D3F2FEB}"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1-</a:t>
            </a:r>
            <a:fld id="{61A6E028-D165-464D-91B0-8ECB23ADBCF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8B51-4058-43FA-B864-A543925B5188}"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1-</a:t>
            </a:r>
            <a:fld id="{E0CDA597-F964-4634-89A5-5E020FA4DE4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E8BA-B56F-4DA9-B819-82978E87AA17}"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32BE1224-68E4-4081-A77A-C1ED939B4C6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71600"/>
            <a:ext cx="7918560" cy="1981080"/>
          </a:xfrm>
          <a:prstGeom prst="rect">
            <a:avLst/>
          </a:prstGeom>
          <a:ln w="0">
            <a:noFill/>
          </a:ln>
        </p:spPr>
      </p:pic>
      <p:sp>
        <p:nvSpPr>
          <p:cNvPr id="2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Order Fulfillment Along the Supply Chain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d Other Support Service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Problems in </a:t>
            </a:r>
            <a:br>
              <a:rPr sz="4200"/>
            </a:br>
            <a:r>
              <a:rPr b="0" lang="en-US" sz="4200" spc="-1" strike="noStrike">
                <a:solidFill>
                  <a:srgbClr val="04617b"/>
                </a:solidFill>
                <a:latin typeface="Calibri"/>
              </a:rPr>
              <a:t>Order Fulfillment Along Supply Chains</a:t>
            </a:r>
            <a:endParaRPr b="0" lang="en-US" sz="42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ICAL SUPPLY CHAI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Y SUPPLY CHAIN PROBLEMS EXI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ird-party logistics suppliers (3P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xternal, rather than in-house, providers of logistics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efficient Financial Supply Chains Can Grind Businesses to a Hal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Need for Information Sharing Along the Supply Chai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5423C29C-B48B-4AD5-AB58-406A1395C82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ROVEMENTS IN THE ORDER-TAKING ACTIV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Payments in E-Commerc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arehouse management system (WM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oftware system that helps in managing warehous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Warehousing and Inventory Management Improve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omated Warehous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Wireless Technologies</a:t>
            </a:r>
            <a:endParaRPr b="0" lang="en-US" sz="2400" spc="-1" strike="noStrike">
              <a:solidFill>
                <a:srgbClr val="000000"/>
              </a:solidFill>
              <a:latin typeface="Constantia"/>
            </a:endParaRPr>
          </a:p>
        </p:txBody>
      </p:sp>
      <p:sp>
        <p:nvSpPr>
          <p:cNvPr id="23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8A37923A-9210-4991-8AB7-A72E72948A6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1752480" y="322200"/>
            <a:ext cx="4737240" cy="5926320"/>
          </a:xfrm>
          <a:prstGeom prst="rect">
            <a:avLst/>
          </a:prstGeom>
          <a:ln w="0">
            <a:noFill/>
          </a:ln>
        </p:spPr>
      </p:pic>
      <p:sp>
        <p:nvSpPr>
          <p:cNvPr id="242"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D75A5EAE-74E8-4EA0-ABF7-BFA76D3CCF4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EEDING DELIVER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ame-Day, Even Same-Hour, Deliver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upermarket Deliver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ARTNERING EFFORTS AND OUTSOURCING LOGISTIC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mprehensive Logistics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utsourcing Logistic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B69A4FB1-8844-4910-BF7B-E8D8C6A714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GRATED GLOBAL LOGISTICS SYSTEMS</a:t>
            </a: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ORDER FULFILLMENT IN MAKE-TO-ORDER AND MASS CUSTOMIZATION</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ulfilling Orders</a:t>
            </a:r>
            <a:endParaRPr b="0" lang="en-US" sz="2400" spc="-1" strike="noStrike">
              <a:solidFill>
                <a:srgbClr val="000000"/>
              </a:solidFill>
              <a:latin typeface="Constantia"/>
            </a:endParaRPr>
          </a:p>
        </p:txBody>
      </p:sp>
      <p:sp>
        <p:nvSpPr>
          <p:cNvPr id="25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09123645-DA9F-4C16-B336-1973654E309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ANDLING RETURNS (REVERSE LOGISTIC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urn the item to the place of purcha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parate the logistics of returns from the logistics of deliver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letely outsource retur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ow the customer to physically drop the returned item at a collection st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ction the returned items</a:t>
            </a:r>
            <a:endParaRPr b="0" lang="en-US" sz="2400" spc="-1" strike="noStrike">
              <a:solidFill>
                <a:srgbClr val="000000"/>
              </a:solidFill>
              <a:latin typeface="Constantia"/>
            </a:endParaRPr>
          </a:p>
        </p:txBody>
      </p:sp>
      <p:sp>
        <p:nvSpPr>
          <p:cNvPr id="25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1069D1EE-E2AA-4204-870A-05D909B2A13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RDER FULFILLMENT IN B2B</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BPM to Improve Order Fulfill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ing E-Marketplaces and Exchanges to Ease Order Fulfillment Problems in B2B</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rder Fulfillment in Services</a:t>
            </a:r>
            <a:endParaRPr b="0" lang="en-US" sz="2400" spc="-1" strike="noStrike">
              <a:solidFill>
                <a:srgbClr val="000000"/>
              </a:solidFill>
              <a:latin typeface="Constantia"/>
            </a:endParaRPr>
          </a:p>
        </p:txBody>
      </p:sp>
      <p:sp>
        <p:nvSpPr>
          <p:cNvPr id="25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E24D5354-50F6-464E-A312-19CC48FBF1F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SOLUTIONS TO SUPPLY CHAIN PROBLEMS</a:t>
            </a:r>
            <a:endParaRPr b="0" lang="en-US" sz="26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sibility</a:t>
            </a:r>
            <a:endParaRPr b="0" lang="en-US" sz="2400" spc="-1" strike="noStrike">
              <a:solidFill>
                <a:srgbClr val="000000"/>
              </a:solidFill>
              <a:latin typeface="Constantia"/>
            </a:endParaRPr>
          </a:p>
          <a:p>
            <a:pPr lvl="1" marL="620280" indent="-23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knowledge about where materials and parts are  at any given time, which helps in solving problems such as delay, combining shipments, and more</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Order fulfillment</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Managing risk</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Inventories can be minimized</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Self-service</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Collaborative commerce</a:t>
            </a:r>
            <a:endParaRPr b="0" lang="en-US" sz="2400" spc="-1" strike="noStrike">
              <a:solidFill>
                <a:srgbClr val="000000"/>
              </a:solidFill>
              <a:latin typeface="Constantia"/>
            </a:endParaRPr>
          </a:p>
        </p:txBody>
      </p:sp>
      <p:sp>
        <p:nvSpPr>
          <p:cNvPr id="26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8DE475F5-0F8B-4600-AC3F-EBE938ACD0A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NOVATIVE E-FULFILLMENT STRATEGIE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erge-in-transit</a:t>
            </a:r>
            <a:endParaRPr b="0" lang="en-US" sz="2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Logistics model in which components for a product may come from two (or more) different physical locations and are shipped directly to the customer</a:t>
            </a:r>
            <a:r>
              <a:rPr b="0" lang="ja-JP" sz="2400" spc="-1" strike="noStrike">
                <a:solidFill>
                  <a:srgbClr val="000000"/>
                </a:solidFill>
                <a:latin typeface="Constantia"/>
              </a:rPr>
              <a:t>’</a:t>
            </a:r>
            <a:r>
              <a:rPr b="0" lang="en-US" sz="2400" spc="-1" strike="noStrike">
                <a:solidFill>
                  <a:srgbClr val="000000"/>
                </a:solidFill>
                <a:latin typeface="Constantia"/>
              </a:rPr>
              <a:t>s location</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olling warehouse</a:t>
            </a:r>
            <a:endParaRPr b="0" lang="en-US" sz="2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Logistics method in which products on the delivery truck are not preassigned to a destination, but the decision about the quantity to unload at each destination is made at the time of unloading</a:t>
            </a:r>
            <a:endParaRPr b="0" lang="en-US" sz="2400" spc="-1" strike="noStrike">
              <a:solidFill>
                <a:srgbClr val="000000"/>
              </a:solidFill>
              <a:latin typeface="Constantia"/>
            </a:endParaRPr>
          </a:p>
        </p:txBody>
      </p:sp>
      <p:sp>
        <p:nvSpPr>
          <p:cNvPr id="26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FCFF9FB9-E75D-4B5E-9DBF-72B9864A993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olutions to Order Fulfillment Problems Along Supply Chains</a:t>
            </a:r>
            <a:endParaRPr b="0" lang="en-US" sz="44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ample: A World-Class Supply Chain and Order Fulfillment System Works at Del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gration and Enterprise Resource Plann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upply Chains of Tomorrow</a:t>
            </a:r>
            <a:endParaRPr b="0" lang="en-US" sz="2400" spc="-1" strike="noStrike">
              <a:solidFill>
                <a:srgbClr val="000000"/>
              </a:solidFill>
              <a:latin typeface="Constantia"/>
            </a:endParaRPr>
          </a:p>
        </p:txBody>
      </p:sp>
      <p:sp>
        <p:nvSpPr>
          <p:cNvPr id="27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20415A20-AE4B-4D43-933C-5524581C622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380880" y="1676160"/>
            <a:ext cx="8229600" cy="4389480"/>
          </a:xfrm>
          <a:prstGeom prst="rect">
            <a:avLst/>
          </a:prstGeom>
          <a:noFill/>
          <a:ln w="0">
            <a:noFill/>
          </a:ln>
        </p:spPr>
        <p:txBody>
          <a:bodyPr anchor="t">
            <a:normAutofit fontScale="93000"/>
          </a:bodyPr>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role of support services in electronic commerce (EC).</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EC order fulfillment and describe the EC order fulfillment process.</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major problems of EC order fulfillment.</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various solutions to EC order fulfillment problems.</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RFID supply chain applications. </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collaborative planning and the CPFR model.</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other EC support services.</a:t>
            </a:r>
            <a:endParaRPr b="0" lang="en-US" sz="2400" spc="-1" strike="noStrike">
              <a:solidFill>
                <a:srgbClr val="000000"/>
              </a:solidFill>
              <a:latin typeface="Constantia"/>
            </a:endParaRPr>
          </a:p>
          <a:p>
            <a:pPr marL="425160" indent="-4251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drivers of outsourcing support services.</a:t>
            </a:r>
            <a:endParaRPr b="0" lang="en-US" sz="2400" spc="-1" strike="noStrike">
              <a:solidFill>
                <a:srgbClr val="000000"/>
              </a:solidFill>
              <a:latin typeface="Constantia"/>
            </a:endParaRPr>
          </a:p>
        </p:txBody>
      </p:sp>
      <p:sp>
        <p:nvSpPr>
          <p:cNvPr id="20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0D0D7588-4C66-42FD-A4EB-6812A2E5A78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FID and CPFR as Key Enablers </a:t>
            </a:r>
            <a:br>
              <a:rPr sz="4400"/>
            </a:br>
            <a:r>
              <a:rPr b="0" lang="en-US" sz="4400" spc="-1" strike="noStrike">
                <a:solidFill>
                  <a:srgbClr val="04617b"/>
                </a:solidFill>
                <a:latin typeface="Calibri"/>
              </a:rPr>
              <a:t>in Supply Chain Management</a:t>
            </a:r>
            <a:endParaRPr b="0" lang="en-US" sz="44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adio frequency identification (RFI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ags that can be attached to or embedded in objects, animals, or humans and use radio waves to communicate with a reader for the purpose of uniquely identifying the object or transmitting data and/or storing information about the object</a:t>
            </a:r>
            <a:endParaRPr b="0" lang="en-US" sz="2600" spc="-1" strike="noStrike">
              <a:solidFill>
                <a:srgbClr val="000000"/>
              </a:solidFill>
              <a:latin typeface="Constantia"/>
            </a:endParaRPr>
          </a:p>
        </p:txBody>
      </p:sp>
      <p:sp>
        <p:nvSpPr>
          <p:cNvPr id="27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0C1B9D8C-0156-4D63-A9BF-57A72E8B14D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533520" y="457200"/>
            <a:ext cx="7924680" cy="5824440"/>
          </a:xfrm>
          <a:prstGeom prst="rect">
            <a:avLst/>
          </a:prstGeom>
          <a:ln w="0">
            <a:noFill/>
          </a:ln>
        </p:spPr>
      </p:pic>
      <p:sp>
        <p:nvSpPr>
          <p:cNvPr id="27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1EE07C2F-6397-49B0-8E01-87DE3C31A1C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FID and CPFR as Key Enablers </a:t>
            </a:r>
            <a:br>
              <a:rPr sz="4400"/>
            </a:br>
            <a:r>
              <a:rPr b="0" lang="en-US" sz="4400" spc="-1" strike="noStrike">
                <a:solidFill>
                  <a:srgbClr val="04617b"/>
                </a:solidFill>
                <a:latin typeface="Calibri"/>
              </a:rPr>
              <a:t>in Supply Chain Management</a:t>
            </a:r>
            <a:endParaRPr b="0" lang="en-US" sz="4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FID APPLICATIONS IN THE SUPPLY CHAIN AROUND THE GLOB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at Metro AG-German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at Starbuc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nstantia"/>
              </a:rPr>
              <a:t>RFID at Deutsche Post (German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in the Federal Government (U.S. Department of Defense)</a:t>
            </a:r>
            <a:endParaRPr b="0" lang="en-US" sz="2400" spc="-1" strike="noStrike">
              <a:solidFill>
                <a:srgbClr val="000000"/>
              </a:solidFill>
              <a:latin typeface="Constantia"/>
            </a:endParaRPr>
          </a:p>
        </p:txBody>
      </p:sp>
      <p:sp>
        <p:nvSpPr>
          <p:cNvPr id="28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F5445AFE-FF95-4B42-933D-07AA39D788A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FID and CPFR as Key Enablers </a:t>
            </a:r>
            <a:br>
              <a:rPr sz="4400"/>
            </a:br>
            <a:r>
              <a:rPr b="0" lang="en-US" sz="4400" spc="-1" strike="noStrike">
                <a:solidFill>
                  <a:srgbClr val="04617b"/>
                </a:solidFill>
                <a:latin typeface="Calibri"/>
              </a:rPr>
              <a:t>in Supply Chain Management</a:t>
            </a:r>
            <a:endParaRPr b="0" lang="en-US" sz="44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at Atlantic Beef Products (Ontario, Canad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at Yodobashi Camera Handles Inventory of About 1 Million Items (Jap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FID in Pharmaceutica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Jeweler Gains Efficiency and Improves Customer Service  with RFID (Ind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Uses</a:t>
            </a:r>
            <a:endParaRPr b="0" lang="en-US" sz="2400" spc="-1" strike="noStrike">
              <a:solidFill>
                <a:srgbClr val="000000"/>
              </a:solidFill>
              <a:latin typeface="Constantia"/>
            </a:endParaRPr>
          </a:p>
        </p:txBody>
      </p:sp>
      <p:sp>
        <p:nvSpPr>
          <p:cNvPr id="28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4BB1B0E1-B320-4E7B-86FC-3B95063F0B7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1066680" y="457200"/>
            <a:ext cx="6855120" cy="5838840"/>
          </a:xfrm>
          <a:prstGeom prst="rect">
            <a:avLst/>
          </a:prstGeom>
          <a:ln w="0">
            <a:noFill/>
          </a:ln>
        </p:spPr>
      </p:pic>
      <p:sp>
        <p:nvSpPr>
          <p:cNvPr id="288"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BC971B03-B37C-4A6A-9F99-10CC8ED7058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FID and CPFR as Key Enablers </a:t>
            </a:r>
            <a:br>
              <a:rPr sz="4400"/>
            </a:br>
            <a:r>
              <a:rPr b="0" lang="en-US" sz="4400" spc="-1" strike="noStrike">
                <a:solidFill>
                  <a:srgbClr val="04617b"/>
                </a:solidFill>
                <a:latin typeface="Calibri"/>
              </a:rPr>
              <a:t>in Supply Chain Management</a:t>
            </a:r>
            <a:endParaRPr b="0" lang="en-US" sz="44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llaborative planning, forecasting, and replenishment (CPF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ject in which suppliers and retailers collaborate in their planning and demand forecasting to optimize flow of materials along the supply cha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C31ACCDE-CC23-495A-99B1-1895DB4444E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447920" y="291960"/>
            <a:ext cx="6014880" cy="6032520"/>
          </a:xfrm>
          <a:prstGeom prst="rect">
            <a:avLst/>
          </a:prstGeom>
          <a:ln w="0">
            <a:noFill/>
          </a:ln>
        </p:spPr>
      </p:pic>
      <p:sp>
        <p:nvSpPr>
          <p:cNvPr id="29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3FD92D67-532F-4162-A0D8-C86989E3682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Other E-Commerce Support Services</a:t>
            </a:r>
            <a:endParaRPr b="0" lang="en-US" sz="44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SULTING SERVI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Consult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rectory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ewslett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Engines and News Aggregators</a:t>
            </a:r>
            <a:endParaRPr b="0" lang="en-US" sz="2400" spc="-1" strike="noStrike">
              <a:solidFill>
                <a:srgbClr val="000000"/>
              </a:solidFill>
              <a:latin typeface="Constantia"/>
            </a:endParaRPr>
          </a:p>
        </p:txBody>
      </p:sp>
      <p:sp>
        <p:nvSpPr>
          <p:cNvPr id="29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429E3AFF-B37D-427A-9346-BD98F59D764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30456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Other E-Commerce Support Services</a:t>
            </a:r>
            <a:endParaRPr b="0" lang="en-US" sz="4400" spc="-1" strike="noStrike">
              <a:solidFill>
                <a:srgbClr val="04617b"/>
              </a:solidFill>
              <a:latin typeface="Calibri"/>
            </a:endParaRPr>
          </a:p>
        </p:txBody>
      </p:sp>
      <p:sp>
        <p:nvSpPr>
          <p:cNvPr id="302" name=""/>
          <p:cNvSpPr txBox="1"/>
          <p:nvPr/>
        </p:nvSpPr>
        <p:spPr>
          <a:xfrm>
            <a:off x="457200" y="1447560"/>
            <a:ext cx="8229600" cy="4389480"/>
          </a:xfrm>
          <a:prstGeom prst="rect">
            <a:avLst/>
          </a:prstGeom>
          <a:noFill/>
          <a:ln w="0">
            <a:noFill/>
          </a:ln>
        </p:spPr>
        <p:txBody>
          <a:bodyPr anchor="t">
            <a:normAutofit fontScale="89000"/>
          </a:bodyPr>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RE EC SUPPORT SERVICES</a:t>
            </a:r>
            <a:endParaRPr b="0" lang="en-US" sz="24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ust Servic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ademark and Domain Nam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gital Photo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lobal Business Communiti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cess to Commercial Databas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nowledge Management</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lient Matching</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Business Rating Sit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urity and Encryption Sit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eb Research Services</a:t>
            </a:r>
            <a:endParaRPr b="0" lang="en-US" sz="2200" spc="-1" strike="noStrike">
              <a:solidFill>
                <a:srgbClr val="000000"/>
              </a:solidFill>
              <a:latin typeface="Constantia"/>
            </a:endParaRPr>
          </a:p>
          <a:p>
            <a:pPr lvl="1" marL="569160" indent="-2185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upon-Generating Sites</a:t>
            </a:r>
            <a:endParaRPr b="0" lang="en-US" sz="2200" spc="-1" strike="noStrike">
              <a:solidFill>
                <a:srgbClr val="000000"/>
              </a:solidFill>
              <a:latin typeface="Constantia"/>
            </a:endParaRPr>
          </a:p>
        </p:txBody>
      </p:sp>
      <p:sp>
        <p:nvSpPr>
          <p:cNvPr id="30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FCD9EDD2-707F-4A15-AADA-7B7B4D0360C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Other E-Commerce Support Services</a:t>
            </a:r>
            <a:endParaRPr b="0" lang="en-US" sz="44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UTSOURCING EC SUPPORT SERVI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y Outsource EC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T Outsourcing and Application Service Provide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pplication service provider (ASP)</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n agent or vendor who assembles the functions needed by enterprises and packages them with outsourced development, operation, maintenance, and other services</a:t>
            </a:r>
            <a:endParaRPr b="0" lang="en-US" sz="2100" spc="-1" strike="noStrike">
              <a:solidFill>
                <a:srgbClr val="000000"/>
              </a:solidFill>
              <a:latin typeface="Constantia"/>
            </a:endParaRPr>
          </a:p>
        </p:txBody>
      </p:sp>
      <p:sp>
        <p:nvSpPr>
          <p:cNvPr id="30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9F6CA8D6-7FE2-4816-B1E7-82909D8C362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rder Fulfillment and Logistics: An Overview</a:t>
            </a:r>
            <a:endParaRPr b="0" lang="en-US" sz="4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CQUIRING GOODS AND SERVICE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rder fulfillment </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0" lang="en-US" sz="2400" spc="-1" strike="noStrike">
                <a:solidFill>
                  <a:srgbClr val="000000"/>
                </a:solidFill>
                <a:latin typeface="Constantia"/>
              </a:rPr>
              <a:t>All the activities needed to provide customers with their ordered goods and services, including related customer service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ck-office operation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ctivities that support fulfillment of orders, such as packing, delivery, accounting, and logistic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ont-office operation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business processes, such as sales and advertising, which are visible to customers</a:t>
            </a:r>
            <a:endParaRPr b="0" lang="en-US" sz="2400" spc="-1" strike="noStrike">
              <a:solidFill>
                <a:srgbClr val="000000"/>
              </a:solidFill>
              <a:latin typeface="Constantia"/>
            </a:endParaRPr>
          </a:p>
        </p:txBody>
      </p:sp>
      <p:sp>
        <p:nvSpPr>
          <p:cNvPr id="21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EAB5CB54-B579-436A-A55C-0A62645F3FF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5C313CF6-6725-448C-BC24-1BA03EE0C60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11" name="Picture 5" descr=""/>
          <p:cNvPicPr/>
          <p:nvPr/>
        </p:nvPicPr>
        <p:blipFill>
          <a:blip r:embed="rId1"/>
          <a:stretch/>
        </p:blipFill>
        <p:spPr>
          <a:xfrm>
            <a:off x="609480" y="838080"/>
            <a:ext cx="7751880" cy="524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are an EC vendor, what is the bottleneck in the order fulfillment proces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which items should we keep our own inventory?</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alliance strategy in order fulfillmen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should we manage return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logistics information should we provide to customer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we use RFID for the order fulfillmen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we use CPFR in SMEs?</a:t>
            </a:r>
            <a:endParaRPr b="0" lang="en-US" sz="2400" spc="-1" strike="noStrike">
              <a:solidFill>
                <a:srgbClr val="000000"/>
              </a:solidFill>
              <a:latin typeface="Constantia"/>
            </a:endParaRPr>
          </a:p>
        </p:txBody>
      </p:sp>
      <p:sp>
        <p:nvSpPr>
          <p:cNvPr id="31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BAE9E07C-7E42-42EF-90BA-B622B530CA4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17" name=""/>
          <p:cNvSpPr txBox="1"/>
          <p:nvPr/>
        </p:nvSpPr>
        <p:spPr>
          <a:xfrm>
            <a:off x="533520" y="167616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ole of support services in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order fulfillment proces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blems in order fulfillmen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lutions to order fulfillment proble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FID tag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llaborative planning and CPFR</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 support servic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sourcing EC services</a:t>
            </a:r>
            <a:endParaRPr b="0" lang="en-US" sz="2600" spc="-1" strike="noStrike">
              <a:solidFill>
                <a:srgbClr val="000000"/>
              </a:solidFill>
              <a:latin typeface="Constantia"/>
            </a:endParaRPr>
          </a:p>
        </p:txBody>
      </p:sp>
      <p:sp>
        <p:nvSpPr>
          <p:cNvPr id="31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F5434540-2E8F-405D-AC42-2A523678A06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1"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C9CFA3AA-7361-4782-BA31-2D6916683B9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3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3" name="Picture 3" descr="cid:3287383400_2177562"/>
          <p:cNvPicPr/>
          <p:nvPr/>
        </p:nvPicPr>
        <p:blipFill>
          <a:blip r:embed="rId1"/>
          <a:stretch/>
        </p:blipFill>
        <p:spPr>
          <a:xfrm>
            <a:off x="762120" y="1522440"/>
            <a:ext cx="7242120" cy="2363760"/>
          </a:xfrm>
          <a:prstGeom prst="rect">
            <a:avLst/>
          </a:prstGeom>
          <a:ln w="9360">
            <a:solidFill>
              <a:srgbClr val="ffffff"/>
            </a:solidFill>
            <a:miter/>
          </a:ln>
        </p:spPr>
      </p:pic>
      <p:sp>
        <p:nvSpPr>
          <p:cNvPr id="324"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25"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457200" y="457200"/>
            <a:ext cx="7959600" cy="5813280"/>
          </a:xfrm>
          <a:prstGeom prst="rect">
            <a:avLst/>
          </a:prstGeom>
          <a:ln w="0">
            <a:noFill/>
          </a:ln>
        </p:spPr>
      </p:pic>
      <p:sp>
        <p:nvSpPr>
          <p:cNvPr id="21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5E6435C2-26F7-4B2B-B933-5E96253703F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rder Fulfillment and Logistics: An Overview</a:t>
            </a:r>
            <a:endParaRPr b="0" lang="en-US" sz="48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ogistic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operations involved in the efficient and effective flow and storage of goods, services, and related information from point of origin to point of consumption</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logistics</a:t>
            </a:r>
            <a:endParaRPr b="0" lang="en-US" sz="22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The logistics of EC </a:t>
            </a:r>
            <a:r>
              <a:rPr b="0" lang="en-US" sz="2400" spc="-1" strike="noStrike">
                <a:solidFill>
                  <a:srgbClr val="000000"/>
                </a:solidFill>
                <a:latin typeface="Constantia"/>
              </a:rPr>
              <a:t>systems, typically involving small parcels sent to many customers</a:t>
            </a:r>
            <a:r>
              <a:rPr b="0" lang="ja-JP" sz="2400" spc="-1" strike="noStrike">
                <a:solidFill>
                  <a:srgbClr val="000000"/>
                </a:solidFill>
                <a:latin typeface="Constantia"/>
              </a:rPr>
              <a:t>’</a:t>
            </a:r>
            <a:r>
              <a:rPr b="0" lang="en-US" sz="2400" spc="-1" strike="noStrike">
                <a:solidFill>
                  <a:srgbClr val="000000"/>
                </a:solidFill>
                <a:latin typeface="Constantia"/>
              </a:rPr>
              <a:t> homes (in B2C)</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E62F7DCF-B753-4E84-9FBC-880C2EB9FCB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
          <p:cNvPicPr/>
          <p:nvPr/>
        </p:nvPicPr>
        <p:blipFill>
          <a:blip r:embed="rId1"/>
          <a:stretch/>
        </p:blipFill>
        <p:spPr>
          <a:xfrm>
            <a:off x="27000" y="1627200"/>
            <a:ext cx="8991720" cy="3962520"/>
          </a:xfrm>
          <a:prstGeom prst="rect">
            <a:avLst/>
          </a:prstGeom>
          <a:ln w="0">
            <a:noFill/>
          </a:ln>
        </p:spPr>
      </p:pic>
      <p:sp>
        <p:nvSpPr>
          <p:cNvPr id="220"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ED7F2F34-6DA6-4298-9BDE-C9CBB638540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909720" y="622440"/>
            <a:ext cx="7472160" cy="5626080"/>
          </a:xfrm>
          <a:prstGeom prst="rect">
            <a:avLst/>
          </a:prstGeom>
          <a:ln w="0">
            <a:noFill/>
          </a:ln>
        </p:spPr>
      </p:pic>
      <p:sp>
        <p:nvSpPr>
          <p:cNvPr id="22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6E8DDAE5-7081-4170-B78E-0F72C5AC789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rder Fulfillment and Logistics: An Overview</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EC ORDER FULFILLMENT PROCES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1: Making sure the customer will pay</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2: Checking for in-stock availability</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3: Arranging shipment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4: Insurance</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5: Replenishment</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6: In-house production</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7: Use contractor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8: Contacts with customer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tivity 9: Returns</a:t>
            </a:r>
            <a:endParaRPr b="0" lang="en-US" sz="2200" spc="-1" strike="noStrike">
              <a:solidFill>
                <a:srgbClr val="000000"/>
              </a:solidFill>
              <a:latin typeface="Constantia"/>
            </a:endParaRPr>
          </a:p>
        </p:txBody>
      </p:sp>
      <p:sp>
        <p:nvSpPr>
          <p:cNvPr id="22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F69476FD-CD3E-41AE-8856-887959F75C7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Order Fulfillment and Logistics: An Overview</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lvl="1" marL="639720" indent="-245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nstantia"/>
              </a:rPr>
              <a:t>reverse logistics</a:t>
            </a:r>
            <a:endParaRPr b="0" lang="en-US" sz="23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vement of returns from customers to vendors</a:t>
            </a: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 Administrative Activities of Order Taking and Fulfillment</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rder Fulfillment and the Supply Chain</a:t>
            </a:r>
            <a:endParaRPr b="0" lang="en-US" sz="2000" spc="-1" strike="noStrike">
              <a:solidFill>
                <a:srgbClr val="000000"/>
              </a:solidFill>
              <a:latin typeface="Constantia"/>
            </a:endParaRPr>
          </a:p>
        </p:txBody>
      </p:sp>
      <p:sp>
        <p:nvSpPr>
          <p:cNvPr id="23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1-</a:t>
            </a:r>
            <a:fld id="{2C927DAC-EFFC-449C-93D5-A28B8E76FC9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sahar alshathry</cp:lastModifiedBy>
  <dcterms:modified xsi:type="dcterms:W3CDTF">2014-11-24T16:09:17Z</dcterms:modified>
  <cp:revision>143</cp:revision>
  <dc:subject/>
  <dc:title>Chapter 1</dc:title>
</cp:coreProperties>
</file>