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6.jpeg" ContentType="image/jpeg"/>
  <Override PartName="/ppt/media/image2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3D96-6BBA-4F64-992F-DBDEBCB3E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41BB-7B73-45D4-8D8A-6E66AEB1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31C4-A8FA-43DA-8074-4777B20B5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0492-6CD5-4CEF-B6E0-77FC44018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10ED-2EB6-44FE-8C99-481FA376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0DA6-96D1-458A-A254-D88A7074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DE22-6A29-4411-BA1C-CE6539AE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C5D2-417C-45F4-B6CA-CB85FE3A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EB5D-B38C-4E9A-A63A-8409D747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EED7-FE26-4B86-9AD7-44E5E0FA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23AD-B1BD-4BFC-8DB8-C8C8E862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84B7-DD75-4D33-8FB9-D3890CB2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2863-94F7-498B-A509-D5AA2041536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pTO_LeT-8t8" TargetMode="External"/><Relationship Id="rId2" Type="http://schemas.openxmlformats.org/officeDocument/2006/relationships/hyperlink" Target="http://www.youtube.com/watch?v=-UFkeEfrmGU" TargetMode="External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saudiwildlife.com/site/home/category/111" TargetMode="External"/><Relationship Id="rId2" Type="http://schemas.openxmlformats.org/officeDocument/2006/relationships/hyperlink" Target="http://www.saudiwildlife.com/site/home/category/111" TargetMode="External"/><Relationship Id="rId3" Type="http://schemas.openxmlformats.org/officeDocument/2006/relationships/hyperlink" Target="http://www.saudiwildlife.com/site/home/category/111" TargetMode="External"/><Relationship Id="rId4" Type="http://schemas.openxmlformats.org/officeDocument/2006/relationships/hyperlink" Target="http://www.saudiwildlife.com/site/home/category/111" TargetMode="External"/><Relationship Id="rId5" Type="http://schemas.openxmlformats.org/officeDocument/2006/relationships/hyperlink" Target="http://www.saudiwildlife.com/site/home/category/111" TargetMode="External"/><Relationship Id="rId6" Type="http://schemas.openxmlformats.org/officeDocument/2006/relationships/hyperlink" Target="http://www.saudiwildlife.com/site/home/category/111" TargetMode="External"/><Relationship Id="rId7" Type="http://schemas.openxmlformats.org/officeDocument/2006/relationships/hyperlink" Target="http://www.saudiwildlife.com/site/home/category/111" TargetMode="External"/><Relationship Id="rId8" Type="http://schemas.openxmlformats.org/officeDocument/2006/relationships/hyperlink" Target="http://www.saudiwildlife.com/site/home/category/111" TargetMode="External"/><Relationship Id="rId9" Type="http://schemas.openxmlformats.org/officeDocument/2006/relationships/hyperlink" Target="http://www.saudiwildlife.com/site/home/category/111" TargetMode="External"/><Relationship Id="rId10" Type="http://schemas.openxmlformats.org/officeDocument/2006/relationships/hyperlink" Target="http://www.saudiwildlife.com/site/home/category/111" TargetMode="External"/><Relationship Id="rId11" Type="http://schemas.openxmlformats.org/officeDocument/2006/relationships/hyperlink" Target="http://www.saudiwildlife.com/site/home/category/111" TargetMode="External"/><Relationship Id="rId12" Type="http://schemas.openxmlformats.org/officeDocument/2006/relationships/hyperlink" Target="http://www.saudiwildlife.com/site/home/category/111" TargetMode="External"/><Relationship Id="rId13" Type="http://schemas.openxmlformats.org/officeDocument/2006/relationships/hyperlink" Target="http://www.saudiwildlife.com/site/home/category/111" TargetMode="External"/><Relationship Id="rId14" Type="http://schemas.openxmlformats.org/officeDocument/2006/relationships/hyperlink" Target="http://www.saudiwildlife.com/site/home/category/111" TargetMode="External"/><Relationship Id="rId15" Type="http://schemas.openxmlformats.org/officeDocument/2006/relationships/hyperlink" Target="http://www.saudiwildlife.com/site/home/category/111" TargetMode="External"/><Relationship Id="rId1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47640" y="1915920"/>
            <a:ext cx="245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3300"/>
                </a:solidFill>
                <a:latin typeface="Arial"/>
              </a:rPr>
              <a:t>الســلاحـ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0920" y="304920"/>
            <a:ext cx="8424720" cy="6138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16360" y="188640"/>
            <a:ext cx="237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3300"/>
                </a:solidFill>
                <a:latin typeface="Arial"/>
              </a:rPr>
              <a:t>تحـديد العـم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 flipV="1">
            <a:off x="4932360" y="2565360"/>
            <a:ext cx="863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32360" y="2781360"/>
            <a:ext cx="1295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627280" y="1413000"/>
            <a:ext cx="4762440" cy="4762440"/>
            <a:chOff x="2627280" y="1413000"/>
            <a:chExt cx="4762440" cy="476244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2627280" y="1413000"/>
              <a:ext cx="4762440" cy="476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 flipV="1">
              <a:off x="3995640" y="2421000"/>
              <a:ext cx="863640" cy="2160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95640" y="2637000"/>
              <a:ext cx="1295280" cy="2872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274920" y="2060640"/>
              <a:ext cx="5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8800" spc="-1" strike="noStrike">
                  <a:solidFill>
                    <a:srgbClr val="ffff00"/>
                  </a:solidFill>
                  <a:latin typeface="Arial"/>
                </a:rPr>
                <a:t>؟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1233360"/>
            <a:ext cx="731520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20908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7848360" cy="54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3300"/>
                </a:solidFill>
                <a:latin typeface="Arial"/>
              </a:rPr>
              <a:t>نشاط... تقدير العـمـر؟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736272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7280" y="333000"/>
            <a:ext cx="289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3300"/>
                </a:solidFill>
                <a:latin typeface="Arial"/>
              </a:rPr>
              <a:t>التركيب الداخلي</a:t>
            </a:r>
            <a:br>
              <a:rPr sz="4000"/>
            </a:br>
            <a:r>
              <a:rPr b="1" lang="ar-SA" sz="4000" spc="-1" strike="noStrike">
                <a:solidFill>
                  <a:srgbClr val="cc3300"/>
                </a:solidFill>
                <a:latin typeface="Arial"/>
              </a:rPr>
              <a:t>للسلحفا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461016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تركيب الداخ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582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14240" y="990720"/>
            <a:ext cx="7715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395280" y="765000"/>
            <a:ext cx="8572320" cy="5877000"/>
            <a:chOff x="395280" y="765000"/>
            <a:chExt cx="8572320" cy="5877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395280" y="765000"/>
              <a:ext cx="8572320" cy="587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5868720" y="4076640"/>
              <a:ext cx="287640" cy="2887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60720" y="3500280"/>
              <a:ext cx="71640" cy="8650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92440" y="3429000"/>
              <a:ext cx="71280" cy="8650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3131640" y="3429000"/>
              <a:ext cx="289080" cy="7207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1547280" y="2491920"/>
              <a:ext cx="1297080" cy="5763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2555640" y="1989000"/>
              <a:ext cx="936720" cy="7207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3995640" y="1484280"/>
              <a:ext cx="1297080" cy="11541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708360" y="1557000"/>
              <a:ext cx="71280" cy="6490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5868720" y="2275920"/>
              <a:ext cx="1079640" cy="5065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669080" y="4024080"/>
              <a:ext cx="287280" cy="2890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87280" y="998640"/>
            <a:ext cx="6896160" cy="5670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دورة حياة السلاح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195640" y="549360"/>
            <a:ext cx="496080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03280" y="561960"/>
            <a:ext cx="709308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295200"/>
            <a:ext cx="853416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bc2d00"/>
                </a:solidFill>
                <a:latin typeface="Arial"/>
              </a:rPr>
              <a:t>لتحديد الجنس في السلاح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65800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07960" y="590400"/>
            <a:ext cx="8128080" cy="56772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347640" y="83628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bc2d00"/>
                </a:solidFill>
                <a:latin typeface="Arial"/>
              </a:rPr>
              <a:t>ترس الحل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bc2d00"/>
                </a:solidFill>
                <a:latin typeface="Arial"/>
              </a:rPr>
              <a:t>لمشاهدة تشريح السلحفا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pTO_LeT-8t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-UFkeEfrm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2000" y="2214360"/>
            <a:ext cx="561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3300"/>
                </a:solidFill>
                <a:latin typeface="Arial"/>
              </a:rPr>
              <a:t>الســلاحـف</a:t>
            </a:r>
            <a:br>
              <a:rPr sz="4800"/>
            </a:br>
            <a:br>
              <a:rPr sz="4800"/>
            </a:br>
            <a:r>
              <a:rPr b="1" lang="ar-SA" sz="4800" spc="-1" strike="noStrike">
                <a:solidFill>
                  <a:srgbClr val="cc3300"/>
                </a:solidFill>
                <a:latin typeface="Arial"/>
              </a:rPr>
              <a:t>الممكلة العـربية السعـودي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4581360"/>
            <a:ext cx="691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من موقع الحياة البرية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ar-SA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</a:t>
            </a:r>
            <a:r>
              <a:rPr b="0" lang="ar-SA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audiwildlife</a:t>
            </a:r>
            <a:r>
              <a:rPr b="0" lang="ar-SA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com</a:t>
            </a:r>
            <a:r>
              <a:rPr b="0" lang="ar-SA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site</a:t>
            </a:r>
            <a:r>
              <a:rPr b="0" lang="ar-SA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ome</a:t>
            </a:r>
            <a:r>
              <a:rPr b="0" lang="ar-SA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category</a:t>
            </a:r>
            <a:r>
              <a:rPr b="0" lang="ar-SA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111</a:t>
            </a: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r" rtl="1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400" spc="-1" strike="noStrike">
                <a:solidFill>
                  <a:srgbClr val="bc2d00"/>
                </a:solidFill>
                <a:latin typeface="Arial"/>
              </a:rPr>
              <a:t>رتبة السلاحف </a:t>
            </a:r>
            <a:r>
              <a:rPr b="0" lang="en-US" sz="3400" spc="-1" strike="noStrike">
                <a:solidFill>
                  <a:srgbClr val="bc2d00"/>
                </a:solidFill>
                <a:latin typeface="Arial"/>
              </a:rPr>
              <a:t>Order: Testudine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   ويوجد في الجزيرة العربية </a:t>
            </a: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 أنواع من السلاحف المائية والأرضية (</a:t>
            </a: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 أنواع تتبع رتيبة السلاحف ذات الرقبة الملتوية على شكل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 ، ونوع واحد يتبع السلاحف جانبية الرقبة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ff"/>
                </a:solidFill>
                <a:latin typeface="Arial"/>
              </a:rPr>
              <a:t>أ- رتيبة السلاحف ذات الرقبة الملتوية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- عائلة سلاحف المياه العذبة: مثال / سلحفاة المياه العذبة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- عائلة السلاحف الأرضية: مثال / السلحفاة ذات الحزو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- عائلة سلاحف المياه البحرية: مثال / السلحفاة المطرقة ، سلحفاة صقرية المنقار ، السلحفاة الخضراء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- عائلة سلاحف المياه الجلدية: مثال / السلحفاة الجلدية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ff"/>
                </a:solidFill>
                <a:latin typeface="Arial"/>
              </a:rPr>
              <a:t>ب- رتيبة السلاحف جانبية الرأس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عائلة سلاحف جانبية الرأس: مثال / سلحفاة جانبية الرأس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03280" y="981000"/>
            <a:ext cx="6858000" cy="4667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76720" y="6021360"/>
            <a:ext cx="28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سلحفاة المياه العذب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1095480"/>
            <a:ext cx="6858000" cy="4667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76720" y="6021360"/>
            <a:ext cx="28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سلحفاة ذات الحـزو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bc2d00"/>
                </a:solidFill>
                <a:latin typeface="Arial"/>
              </a:rPr>
              <a:t>الشكل الخارج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819840" cy="50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43000" y="1095480"/>
            <a:ext cx="6858000" cy="46670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76720" y="6021360"/>
            <a:ext cx="28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سلحفاة المـطرق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43000" y="1095480"/>
            <a:ext cx="6858000" cy="4667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76720" y="6021360"/>
            <a:ext cx="28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سلحفاة صقرية المنقا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43000" y="1095480"/>
            <a:ext cx="6858000" cy="4667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76720" y="6021360"/>
            <a:ext cx="28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السلحفاة الخضر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3000" y="1095480"/>
            <a:ext cx="6858000" cy="4667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76720" y="60213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السلحفاة الجلد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43000" y="1095480"/>
            <a:ext cx="6858000" cy="46670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76720" y="6021360"/>
            <a:ext cx="28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السلحفاة جانبية الرقب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333440"/>
            <a:ext cx="857088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3300"/>
                </a:solidFill>
                <a:latin typeface="Arial"/>
              </a:rPr>
              <a:t>تسمية تروس الدرع الظهري والبطن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8153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40000" y="765000"/>
            <a:ext cx="4662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5203800" cy="6381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360" y="259920"/>
            <a:ext cx="338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3300"/>
                </a:solidFill>
                <a:latin typeface="Arial"/>
              </a:rPr>
              <a:t>ترميز الدرع الظهر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74640" y="428760"/>
            <a:ext cx="5229360" cy="6095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8360" y="475920"/>
            <a:ext cx="296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3300"/>
                </a:solidFill>
                <a:latin typeface="Arial"/>
              </a:rPr>
              <a:t>الهيكل العـظم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4000" y="487440"/>
            <a:ext cx="849600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11:32:43Z</dcterms:created>
  <dc:creator>خالد</dc:creator>
  <dc:description/>
  <dc:language>en-US</dc:language>
  <cp:lastModifiedBy>خالد</cp:lastModifiedBy>
  <dcterms:modified xsi:type="dcterms:W3CDTF">2014-03-10T06:57:35Z</dcterms:modified>
  <cp:revision>18</cp:revision>
  <dc:subject/>
  <dc:title>Slide 1</dc:title>
</cp:coreProperties>
</file>