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6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A00-4309-4688-BA88-18472B129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579-A44E-4700-9415-E1F8E269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590-A29F-42DA-885E-ABDB01B2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E981-123E-475C-AC38-47DFD541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ADF-7005-4B8E-AC57-2F527730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4D32-AB75-4677-86D7-D717FCC4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D39C-54C3-47F2-BB91-37242651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9D5D-EFEF-4D61-85AF-F85FD3D4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45D0-FA67-4636-940A-862EC12B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149-E179-4BB6-837D-5C9300D6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F239-DAB0-40B4-93C9-01B817F5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1A1-8633-44B7-9AB3-4F5922D7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E6E3-710B-44F5-AB63-2DAB6D2AB2E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pTO_LeT-8t8" TargetMode="External"/><Relationship Id="rId2" Type="http://schemas.openxmlformats.org/officeDocument/2006/relationships/hyperlink" Target="http://www.youtube.com/watch?v=-UFkeEfrmGU" TargetMode="External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audiwildlife.com/site/home/category/111" TargetMode="External"/><Relationship Id="rId2" Type="http://schemas.openxmlformats.org/officeDocument/2006/relationships/hyperlink" Target="http://www.saudiwildlife.com/site/home/category/111" TargetMode="External"/><Relationship Id="rId3" Type="http://schemas.openxmlformats.org/officeDocument/2006/relationships/hyperlink" Target="http://www.saudiwildlife.com/site/home/category/111" TargetMode="External"/><Relationship Id="rId4" Type="http://schemas.openxmlformats.org/officeDocument/2006/relationships/hyperlink" Target="http://www.saudiwildlife.com/site/home/category/111" TargetMode="External"/><Relationship Id="rId5" Type="http://schemas.openxmlformats.org/officeDocument/2006/relationships/hyperlink" Target="http://www.saudiwildlife.com/site/home/category/111" TargetMode="External"/><Relationship Id="rId6" Type="http://schemas.openxmlformats.org/officeDocument/2006/relationships/hyperlink" Target="http://www.saudiwildlife.com/site/home/category/111" TargetMode="External"/><Relationship Id="rId7" Type="http://schemas.openxmlformats.org/officeDocument/2006/relationships/hyperlink" Target="http://www.saudiwildlife.com/site/home/category/111" TargetMode="External"/><Relationship Id="rId8" Type="http://schemas.openxmlformats.org/officeDocument/2006/relationships/hyperlink" Target="http://www.saudiwildlife.com/site/home/category/111" TargetMode="External"/><Relationship Id="rId9" Type="http://schemas.openxmlformats.org/officeDocument/2006/relationships/hyperlink" Target="http://www.saudiwildlife.com/site/home/category/111" TargetMode="External"/><Relationship Id="rId10" Type="http://schemas.openxmlformats.org/officeDocument/2006/relationships/hyperlink" Target="http://www.saudiwildlife.com/site/home/category/111" TargetMode="External"/><Relationship Id="rId11" Type="http://schemas.openxmlformats.org/officeDocument/2006/relationships/hyperlink" Target="http://www.saudiwildlife.com/site/home/category/111" TargetMode="External"/><Relationship Id="rId12" Type="http://schemas.openxmlformats.org/officeDocument/2006/relationships/hyperlink" Target="http://www.saudiwildlife.com/site/home/category/111" TargetMode="External"/><Relationship Id="rId13" Type="http://schemas.openxmlformats.org/officeDocument/2006/relationships/hyperlink" Target="http://www.saudiwildlife.com/site/home/category/111" TargetMode="External"/><Relationship Id="rId14" Type="http://schemas.openxmlformats.org/officeDocument/2006/relationships/hyperlink" Target="http://www.saudiwildlife.com/site/home/category/111" TargetMode="External"/><Relationship Id="rId15" Type="http://schemas.openxmlformats.org/officeDocument/2006/relationships/hyperlink" Target="http://www.saudiwildlife.com/site/home/category/111" TargetMode="External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347640" y="1915920"/>
            <a:ext cx="24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الســلاحـ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50920" y="304920"/>
            <a:ext cx="8424720" cy="6138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16360" y="188640"/>
            <a:ext cx="237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تحـديد العـم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 flipV="1">
            <a:off x="4932360" y="2565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2781360"/>
            <a:ext cx="1295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627280" y="1413000"/>
            <a:ext cx="4762440" cy="4762440"/>
            <a:chOff x="2627280" y="1413000"/>
            <a:chExt cx="4762440" cy="476244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627280" y="1413000"/>
              <a:ext cx="4762440" cy="476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V="1">
              <a:off x="3995640" y="2421000"/>
              <a:ext cx="863640" cy="2160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95640" y="2637000"/>
              <a:ext cx="1295280" cy="28728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74920" y="2060640"/>
              <a:ext cx="5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8800" spc="-1" strike="noStrike">
                  <a:solidFill>
                    <a:srgbClr val="ffff00"/>
                  </a:solidFill>
                  <a:latin typeface="Arial"/>
                </a:rPr>
                <a:t>؟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233360"/>
            <a:ext cx="73152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2090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نشاط... تقدير العـمـر؟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736272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867280" y="333000"/>
            <a:ext cx="289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التركيب الداخلي</a:t>
            </a:r>
            <a:br>
              <a:rPr sz="4000"/>
            </a:b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للسلحفا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71640" y="260280"/>
            <a:ext cx="46101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تركيب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5820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4240" y="990720"/>
            <a:ext cx="7715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395280" y="765000"/>
            <a:ext cx="8572320" cy="5877000"/>
            <a:chOff x="395280" y="765000"/>
            <a:chExt cx="8572320" cy="5877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395280" y="765000"/>
              <a:ext cx="8572320" cy="587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5868720" y="4076640"/>
              <a:ext cx="287640" cy="288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60720" y="3500280"/>
              <a:ext cx="71640" cy="865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92440" y="3429000"/>
              <a:ext cx="71280" cy="865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131640" y="3429000"/>
              <a:ext cx="289080" cy="720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1547280" y="2491920"/>
              <a:ext cx="1297080" cy="5763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2555640" y="1989000"/>
              <a:ext cx="936720" cy="7207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995640" y="1484280"/>
              <a:ext cx="1297080" cy="115416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708360" y="1557000"/>
              <a:ext cx="71280" cy="649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868720" y="2275920"/>
              <a:ext cx="1079640" cy="50652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69080" y="4024080"/>
              <a:ext cx="287280" cy="28908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87280" y="998640"/>
            <a:ext cx="6896160" cy="567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دورة حياة السل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195640" y="549360"/>
            <a:ext cx="49608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03280" y="561960"/>
            <a:ext cx="70930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295200"/>
            <a:ext cx="853416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لتحديد الجنس في السل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5800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7960" y="590400"/>
            <a:ext cx="8128080" cy="56772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47640" y="8362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ترس الحل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لمشاهدة تشريح السلحف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pTO_LeT-8t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-UFkeEfrm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214360"/>
            <a:ext cx="5614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cc3300"/>
                </a:solidFill>
                <a:latin typeface="Arial"/>
              </a:rPr>
              <a:t>الســلاحـف</a:t>
            </a:r>
            <a:br>
              <a:rPr sz="4800"/>
            </a:br>
            <a:br>
              <a:rPr sz="4800"/>
            </a:br>
            <a:r>
              <a:rPr b="1" lang="ar-SA" sz="4800" spc="-1" strike="noStrike">
                <a:solidFill>
                  <a:srgbClr val="cc3300"/>
                </a:solidFill>
                <a:latin typeface="Arial"/>
              </a:rPr>
              <a:t>الممكلة العـربية السعـ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4581360"/>
            <a:ext cx="691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من موقع الحياة البرية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audiwildlife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om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site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ome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category</a:t>
            </a:r>
            <a:r>
              <a:rPr b="0" lang="ar-SA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111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400" spc="-1" strike="noStrike">
                <a:solidFill>
                  <a:srgbClr val="bc2d00"/>
                </a:solidFill>
                <a:latin typeface="Arial"/>
              </a:rPr>
              <a:t>رتبة السلاحف </a:t>
            </a:r>
            <a:r>
              <a:rPr b="0" lang="en-US" sz="3400" spc="-1" strike="noStrike">
                <a:solidFill>
                  <a:srgbClr val="bc2d00"/>
                </a:solidFill>
                <a:latin typeface="Arial"/>
              </a:rPr>
              <a:t>Order: Testudines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  ويوجد في الجزيرة العربية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أنواع من السلاحف المائية والأرضية (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أنواع تتبع رتيبة السلاحف ذات الرقبة الملتوية على شكل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 ، ونوع واحد يتبع السلاحف جانبية الرقبة)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</a:rPr>
              <a:t>أ- رتيبة السلاحف ذات الرقبة الملتوية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سلاحف المياه العذبة: مثال / سلحفاة المياه العذب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السلاحف الأرضية: مثال / السلحفاة ذات الحزو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سلاحف المياه البحرية: مثال / السلحفاة المطرقة ، سلحفاة صقرية المنقار ، السلحفاة الخضراء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- عائلة سلاحف المياه الجلدية: مثال / السلحفاة الجلد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ff"/>
                </a:solidFill>
                <a:latin typeface="Arial"/>
              </a:rPr>
              <a:t>ب- رتيبة السلاحف جانبية الرأس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عائلة سلاحف جانبية الرأس: مثال / سلحفاة جانبية الرأس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6858000" cy="4667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المياه العذ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ذات الحـزو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bc2d00"/>
                </a:solidFill>
                <a:latin typeface="Arial"/>
              </a:rPr>
              <a:t>الشكل الخارج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1984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المـطرق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سلحفاة صقرية المنقا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سلحفاة الخضرا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276720" y="6021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سلحفاة الجلد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43000" y="1095480"/>
            <a:ext cx="6858000" cy="46670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276720" y="6021360"/>
            <a:ext cx="28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Arial"/>
              </a:rPr>
              <a:t>السلحفاة جانبية الرقب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333440"/>
            <a:ext cx="857088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تسمية تروس الدرع الظهري والبط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8153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662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5203800" cy="6381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360" y="259920"/>
            <a:ext cx="338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cc3300"/>
                </a:solidFill>
                <a:latin typeface="Arial"/>
              </a:rPr>
              <a:t>ترميز الدرع الظه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74640" y="428760"/>
            <a:ext cx="5229360" cy="6095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8360" y="475920"/>
            <a:ext cx="296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3300"/>
                </a:solidFill>
                <a:latin typeface="Arial"/>
              </a:rPr>
              <a:t>الهيكل العـظ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487440"/>
            <a:ext cx="8496000" cy="57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3T11:32:43Z</dcterms:created>
  <dc:creator>خالد</dc:creator>
  <dc:description/>
  <dc:language>en-US</dc:language>
  <cp:lastModifiedBy>خالد</cp:lastModifiedBy>
  <dcterms:modified xsi:type="dcterms:W3CDTF">2014-03-10T06:57:35Z</dcterms:modified>
  <cp:revision>18</cp:revision>
  <dc:subject/>
  <dc:title>Slide 1</dc:title>
</cp:coreProperties>
</file>