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555-B9F1-4D5F-9E2E-79F9E47D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EF2-7B09-4921-9E52-2DDF3DDE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DF5-138B-4278-8A45-98FD8879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C94-9915-4423-839B-6BA7398E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2E9E-8979-4A42-8651-0973E976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89CD-A990-451D-B1C5-13F196DE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46C5-2B73-4218-A6E3-F3664974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ED61-BBC0-4A20-8B92-92CF3F46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B4A1-74EB-41A2-8233-C07E56D1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EE47-9192-4BD6-ADED-57F8F55F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744C-BD33-48DB-9197-6E10A3F7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E6B-5371-48D2-AAC2-0D0D241A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2B09-86D6-41EA-A31C-FE92F784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385E-8447-44D4-BCF8-9ADC3178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EFBC-0430-4550-BF4C-4D93E62A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0B19-E4AC-4694-9049-F35BA751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2DAD-DE2E-4014-A702-924497D9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C22AB-1E7B-411C-9264-E3F14AA6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5271-8DB0-4E60-A77E-7DE13A9C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5E861-2812-42FB-9BEC-4C97798E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17B2-4605-4A06-89DF-1C76D2D2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2A12-69E1-4F6A-A610-20AB196D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650-E815-47A9-9C8A-1E648CCB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7BCAC-CDE5-472A-958C-78A35E26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0143-1A63-478B-90E1-7EBF1B73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9DF8-8651-446A-AE91-6EEFD7C0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FBF3-A9B3-4AEE-9CF6-42DE00A7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3C307-69A9-49CE-9B3E-DFF8E762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E87A-E0A0-4103-9DED-685C1E74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5CE4-600E-4CE5-AD01-BB43468D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BE71-6AA5-44F9-B758-11DB7ADE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6B078-00B8-457E-929A-6EB13EE8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5561E-0750-4AC0-9AA3-DCCE693A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1D5-29DD-4117-A841-EC63D618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1A41-8D5B-4552-9CD7-C01D44F3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D19F5-1071-4243-86AE-CE29A3AE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50A71-F61B-4ADE-BC6E-B0617471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D7DC-7EC2-4156-A4E8-C3F251D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792F8-7D19-4F2D-AA28-1A46C7CF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4BFB4-90A2-4604-A50D-989207E6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66E1A-8C3F-4B63-B420-6778BF83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2A52B-9DDF-4009-B70B-97D142F4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B5333-432D-4248-BF9A-09ECC1E6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900-4B9F-42A0-B514-878C5CA6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16E-3E84-402D-9AA0-71C04C8D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3EE-3339-474E-93DA-E9911F8F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506-8C49-43CA-9D80-65B760DC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7D6-E8EB-401B-AF41-27890E31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0C81-F53A-40CA-8100-19279B6383C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C0B3-0B60-433A-B96A-0360A7ED1EA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BBC2-C3DA-4C92-9546-4E4AE210F4C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1422-A321-4930-B68A-E65A71D378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5960" y="2143080"/>
            <a:ext cx="58579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Highway Engineering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E 431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1714680" y="2928960"/>
            <a:ext cx="5857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Tutorial No.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1500120" y="4572000"/>
            <a:ext cx="58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imes New Roman"/>
              </a:rPr>
              <a:t>Eng. Ali Mohammed Babalgha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25280" y="2143080"/>
            <a:ext cx="8875800" cy="39290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1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34" name="Rounded Rectangular Callout 6"/>
          <p:cNvSpPr/>
          <p:nvPr/>
        </p:nvSpPr>
        <p:spPr>
          <a:xfrm>
            <a:off x="2571840" y="1714680"/>
            <a:ext cx="107136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2071800" y="2500200"/>
            <a:ext cx="85716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6715080" y="1214280"/>
            <a:ext cx="1071720" cy="21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0840" y="785880"/>
            <a:ext cx="8773920" cy="5972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3071880" y="1071720"/>
            <a:ext cx="4643280" cy="1593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2571840" y="300024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1480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857268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2928960" y="85716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33"/>
          <p:cNvCxnSpPr/>
          <p:nvPr/>
        </p:nvCxnSpPr>
        <p:spPr>
          <a:xfrm flipV="1">
            <a:off x="2170800" y="4493880"/>
            <a:ext cx="5400" cy="172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Rectangle 36"/>
          <p:cNvSpPr/>
          <p:nvPr/>
        </p:nvSpPr>
        <p:spPr>
          <a:xfrm>
            <a:off x="2071800" y="635796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71680" y="45720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7"/>
          <p:cNvCxnSpPr/>
          <p:nvPr/>
        </p:nvCxnSpPr>
        <p:spPr>
          <a:xfrm flipH="1">
            <a:off x="523080" y="4500720"/>
            <a:ext cx="165348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7" name="Rectangle 48"/>
          <p:cNvSpPr/>
          <p:nvPr/>
        </p:nvSpPr>
        <p:spPr>
          <a:xfrm>
            <a:off x="4552560" y="14288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 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25280" y="2143080"/>
            <a:ext cx="8875800" cy="39290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1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50" name="Rounded Rectangular Callout 6"/>
          <p:cNvSpPr/>
          <p:nvPr/>
        </p:nvSpPr>
        <p:spPr>
          <a:xfrm>
            <a:off x="2571840" y="1714680"/>
            <a:ext cx="107136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9"/>
          <p:cNvSpPr/>
          <p:nvPr/>
        </p:nvSpPr>
        <p:spPr>
          <a:xfrm>
            <a:off x="2071800" y="2500200"/>
            <a:ext cx="85716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357120" y="2928960"/>
            <a:ext cx="6858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6715080" y="1214280"/>
            <a:ext cx="1071720" cy="21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50840" y="785880"/>
            <a:ext cx="8773920" cy="5972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3071880" y="1071720"/>
            <a:ext cx="4643280" cy="1593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2571840" y="300024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21480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857268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2928960" y="85716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Straight Arrow Connector 11"/>
          <p:cNvCxnSpPr/>
          <p:nvPr/>
        </p:nvCxnSpPr>
        <p:spPr>
          <a:xfrm flipH="1">
            <a:off x="4500360" y="4514400"/>
            <a:ext cx="24480" cy="1701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Straight Arrow Connector 16"/>
          <p:cNvCxnSpPr/>
          <p:nvPr/>
        </p:nvCxnSpPr>
        <p:spPr>
          <a:xfrm>
            <a:off x="3214440" y="4500360"/>
            <a:ext cx="1324440" cy="14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2" name="Straight Arrow Connector 33"/>
          <p:cNvCxnSpPr/>
          <p:nvPr/>
        </p:nvCxnSpPr>
        <p:spPr>
          <a:xfrm flipV="1">
            <a:off x="2170800" y="4493880"/>
            <a:ext cx="5400" cy="172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3" name="Rectangle 36"/>
          <p:cNvSpPr/>
          <p:nvPr/>
        </p:nvSpPr>
        <p:spPr>
          <a:xfrm>
            <a:off x="2071800" y="635796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571680" y="45720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3286080" y="414324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3929040" y="59292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47"/>
          <p:cNvCxnSpPr/>
          <p:nvPr/>
        </p:nvCxnSpPr>
        <p:spPr>
          <a:xfrm flipH="1">
            <a:off x="523080" y="4500720"/>
            <a:ext cx="165348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8" name="Rectangle 48"/>
          <p:cNvSpPr/>
          <p:nvPr/>
        </p:nvSpPr>
        <p:spPr>
          <a:xfrm>
            <a:off x="4552560" y="14288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 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25280" y="2143080"/>
            <a:ext cx="8875800" cy="39290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1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71" name="Rounded Rectangular Callout 6"/>
          <p:cNvSpPr/>
          <p:nvPr/>
        </p:nvSpPr>
        <p:spPr>
          <a:xfrm>
            <a:off x="2571840" y="1714680"/>
            <a:ext cx="107136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2071800" y="2500200"/>
            <a:ext cx="85716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7"/>
          <p:cNvSpPr/>
          <p:nvPr/>
        </p:nvSpPr>
        <p:spPr>
          <a:xfrm>
            <a:off x="285840" y="3429000"/>
            <a:ext cx="6858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6715080" y="1214280"/>
            <a:ext cx="1071720" cy="21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50840" y="785880"/>
            <a:ext cx="8773920" cy="5972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3071880" y="1071720"/>
            <a:ext cx="4643280" cy="15937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2571840" y="300024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21480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857268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2928960" y="85716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11"/>
          <p:cNvCxnSpPr/>
          <p:nvPr/>
        </p:nvCxnSpPr>
        <p:spPr>
          <a:xfrm flipH="1">
            <a:off x="4500360" y="4514400"/>
            <a:ext cx="24480" cy="1701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2" name="Straight Arrow Connector 13"/>
          <p:cNvCxnSpPr/>
          <p:nvPr/>
        </p:nvCxnSpPr>
        <p:spPr>
          <a:xfrm flipH="1">
            <a:off x="552240" y="2386080"/>
            <a:ext cx="165312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3" name="Straight Arrow Connector 16"/>
          <p:cNvCxnSpPr/>
          <p:nvPr/>
        </p:nvCxnSpPr>
        <p:spPr>
          <a:xfrm>
            <a:off x="3214440" y="4500360"/>
            <a:ext cx="1324440" cy="14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4" name="Straight Arrow Connector 21"/>
          <p:cNvCxnSpPr/>
          <p:nvPr/>
        </p:nvCxnSpPr>
        <p:spPr>
          <a:xfrm flipV="1">
            <a:off x="4529160" y="4500360"/>
            <a:ext cx="2186640" cy="10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5" name="Straight Arrow Connector 32"/>
          <p:cNvCxnSpPr/>
          <p:nvPr/>
        </p:nvCxnSpPr>
        <p:spPr>
          <a:xfrm flipH="1">
            <a:off x="6690960" y="4500720"/>
            <a:ext cx="24480" cy="17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6" name="Straight Arrow Connector 33"/>
          <p:cNvCxnSpPr/>
          <p:nvPr/>
        </p:nvCxnSpPr>
        <p:spPr>
          <a:xfrm flipV="1">
            <a:off x="2170800" y="4493880"/>
            <a:ext cx="5400" cy="172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7" name="Rectangle 36"/>
          <p:cNvSpPr/>
          <p:nvPr/>
        </p:nvSpPr>
        <p:spPr>
          <a:xfrm>
            <a:off x="2071800" y="635796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571680" y="45720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3286080" y="414324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3929040" y="59292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7000920" y="578628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41"/>
          <p:cNvCxnSpPr/>
          <p:nvPr/>
        </p:nvCxnSpPr>
        <p:spPr>
          <a:xfrm flipV="1">
            <a:off x="2189520" y="2356920"/>
            <a:ext cx="24840" cy="2206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Rectangle 46"/>
          <p:cNvSpPr/>
          <p:nvPr/>
        </p:nvSpPr>
        <p:spPr>
          <a:xfrm>
            <a:off x="714240" y="2071800"/>
            <a:ext cx="500040" cy="2854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47"/>
          <p:cNvCxnSpPr/>
          <p:nvPr/>
        </p:nvCxnSpPr>
        <p:spPr>
          <a:xfrm flipH="1">
            <a:off x="523080" y="4500720"/>
            <a:ext cx="165348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5" name="Rectangle 48"/>
          <p:cNvSpPr/>
          <p:nvPr/>
        </p:nvSpPr>
        <p:spPr>
          <a:xfrm>
            <a:off x="4552560" y="14288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 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000760" y="2000160"/>
            <a:ext cx="3800520" cy="88596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25"/>
          <p:cNvCxnSpPr/>
          <p:nvPr/>
        </p:nvCxnSpPr>
        <p:spPr>
          <a:xfrm flipH="1">
            <a:off x="7429320" y="2714760"/>
            <a:ext cx="1072080" cy="643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125280" y="2143080"/>
            <a:ext cx="8875800" cy="39290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1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00" name="Rounded Rectangular Callout 6"/>
          <p:cNvSpPr/>
          <p:nvPr/>
        </p:nvSpPr>
        <p:spPr>
          <a:xfrm>
            <a:off x="2571840" y="1714680"/>
            <a:ext cx="107136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9"/>
          <p:cNvSpPr/>
          <p:nvPr/>
        </p:nvSpPr>
        <p:spPr>
          <a:xfrm>
            <a:off x="2071800" y="2500200"/>
            <a:ext cx="85716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285840" y="5143680"/>
            <a:ext cx="6858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6715080" y="1214280"/>
            <a:ext cx="1071720" cy="21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50840" y="785880"/>
            <a:ext cx="8773920" cy="5972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3071880" y="1071720"/>
            <a:ext cx="4643280" cy="15937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5"/>
          <p:cNvSpPr/>
          <p:nvPr/>
        </p:nvSpPr>
        <p:spPr>
          <a:xfrm>
            <a:off x="2571840" y="300024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21480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857268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2928960" y="85716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11"/>
          <p:cNvCxnSpPr/>
          <p:nvPr/>
        </p:nvCxnSpPr>
        <p:spPr>
          <a:xfrm flipH="1">
            <a:off x="4500360" y="4514400"/>
            <a:ext cx="24480" cy="1701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1" name="Straight Arrow Connector 13"/>
          <p:cNvCxnSpPr/>
          <p:nvPr/>
        </p:nvCxnSpPr>
        <p:spPr>
          <a:xfrm flipH="1">
            <a:off x="552240" y="2386080"/>
            <a:ext cx="165312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2" name="Straight Arrow Connector 16"/>
          <p:cNvCxnSpPr/>
          <p:nvPr/>
        </p:nvCxnSpPr>
        <p:spPr>
          <a:xfrm>
            <a:off x="3214440" y="4500360"/>
            <a:ext cx="1324440" cy="14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3" name="Straight Arrow Connector 21"/>
          <p:cNvCxnSpPr/>
          <p:nvPr/>
        </p:nvCxnSpPr>
        <p:spPr>
          <a:xfrm flipV="1">
            <a:off x="4529160" y="4500360"/>
            <a:ext cx="2186640" cy="10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4" name="Straight Arrow Connector 32"/>
          <p:cNvCxnSpPr/>
          <p:nvPr/>
        </p:nvCxnSpPr>
        <p:spPr>
          <a:xfrm flipH="1">
            <a:off x="6690960" y="4500720"/>
            <a:ext cx="24480" cy="17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5" name="Straight Arrow Connector 33"/>
          <p:cNvCxnSpPr/>
          <p:nvPr/>
        </p:nvCxnSpPr>
        <p:spPr>
          <a:xfrm flipV="1">
            <a:off x="2170800" y="4493880"/>
            <a:ext cx="5400" cy="172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16" name="Rectangle 36"/>
          <p:cNvSpPr/>
          <p:nvPr/>
        </p:nvSpPr>
        <p:spPr>
          <a:xfrm>
            <a:off x="2071800" y="635796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7"/>
          <p:cNvSpPr/>
          <p:nvPr/>
        </p:nvSpPr>
        <p:spPr>
          <a:xfrm>
            <a:off x="571680" y="45720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8"/>
          <p:cNvSpPr/>
          <p:nvPr/>
        </p:nvSpPr>
        <p:spPr>
          <a:xfrm>
            <a:off x="3286080" y="414324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9"/>
          <p:cNvSpPr/>
          <p:nvPr/>
        </p:nvSpPr>
        <p:spPr>
          <a:xfrm>
            <a:off x="3929040" y="59292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0"/>
          <p:cNvSpPr/>
          <p:nvPr/>
        </p:nvSpPr>
        <p:spPr>
          <a:xfrm>
            <a:off x="7000920" y="578628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41"/>
          <p:cNvCxnSpPr/>
          <p:nvPr/>
        </p:nvCxnSpPr>
        <p:spPr>
          <a:xfrm flipV="1">
            <a:off x="2171880" y="2356920"/>
            <a:ext cx="24480" cy="2206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2" name="Rectangle 46"/>
          <p:cNvSpPr/>
          <p:nvPr/>
        </p:nvSpPr>
        <p:spPr>
          <a:xfrm>
            <a:off x="714240" y="2071800"/>
            <a:ext cx="500040" cy="2854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Straight Arrow Connector 47"/>
          <p:cNvCxnSpPr/>
          <p:nvPr/>
        </p:nvCxnSpPr>
        <p:spPr>
          <a:xfrm flipH="1">
            <a:off x="523080" y="4500720"/>
            <a:ext cx="165348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4" name="Rectangle 48"/>
          <p:cNvSpPr/>
          <p:nvPr/>
        </p:nvSpPr>
        <p:spPr>
          <a:xfrm>
            <a:off x="4552560" y="14288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 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125280" y="2143080"/>
            <a:ext cx="8875800" cy="39290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1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7" name="Rounded Rectangular Callout 6"/>
          <p:cNvSpPr/>
          <p:nvPr/>
        </p:nvSpPr>
        <p:spPr>
          <a:xfrm>
            <a:off x="2571840" y="1714680"/>
            <a:ext cx="107136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9"/>
          <p:cNvSpPr/>
          <p:nvPr/>
        </p:nvSpPr>
        <p:spPr>
          <a:xfrm>
            <a:off x="2071800" y="2500200"/>
            <a:ext cx="85716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7"/>
          <p:cNvSpPr/>
          <p:nvPr/>
        </p:nvSpPr>
        <p:spPr>
          <a:xfrm>
            <a:off x="285840" y="5500800"/>
            <a:ext cx="6858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Problem 4-2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28760" y="2643120"/>
            <a:ext cx="81439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timate the one-way section transition cost for the highway described in problem 4.1 given that the average running speed on next section is 25 m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B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ould be the adjustment factor to account for the presence of 10 % single unit trucks and 5 % 3-S2 combination truck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http://www.fhwa.dot.gov/environment/publications/flexibility/images/chapwm23.jpg"/>
          <p:cNvPicPr/>
          <p:nvPr/>
        </p:nvPicPr>
        <p:blipFill>
          <a:blip r:embed="rId2"/>
          <a:stretch/>
        </p:blipFill>
        <p:spPr>
          <a:xfrm>
            <a:off x="6072120" y="1895400"/>
            <a:ext cx="2381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8675640" cy="21430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2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34" name="Rounded Rectangular Callout 6"/>
          <p:cNvSpPr/>
          <p:nvPr/>
        </p:nvSpPr>
        <p:spPr>
          <a:xfrm>
            <a:off x="1357200" y="2143080"/>
            <a:ext cx="107172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928800" y="2928960"/>
            <a:ext cx="857160" cy="144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5786280" y="2786040"/>
            <a:ext cx="1071720" cy="214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06200" y="1000080"/>
            <a:ext cx="8894880" cy="5500800"/>
          </a:xfrm>
          <a:prstGeom prst="rect">
            <a:avLst/>
          </a:prstGeom>
          <a:ln w="0">
            <a:noFill/>
          </a:ln>
        </p:spPr>
      </p:pic>
      <p:cxnSp>
        <p:nvCxnSpPr>
          <p:cNvPr id="339" name="Straight Arrow Connector 6"/>
          <p:cNvCxnSpPr/>
          <p:nvPr/>
        </p:nvCxnSpPr>
        <p:spPr>
          <a:xfrm flipV="1">
            <a:off x="1833480" y="5643000"/>
            <a:ext cx="24480" cy="572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0" name="Straight Arrow Connector 10"/>
          <p:cNvCxnSpPr/>
          <p:nvPr/>
        </p:nvCxnSpPr>
        <p:spPr>
          <a:xfrm flipH="1" flipV="1">
            <a:off x="356400" y="5643360"/>
            <a:ext cx="150084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1" name="Rectangle 12"/>
          <p:cNvSpPr/>
          <p:nvPr/>
        </p:nvSpPr>
        <p:spPr>
          <a:xfrm>
            <a:off x="1000080" y="642924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428760" y="528624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4572000" y="3286080"/>
            <a:ext cx="4019400" cy="1379520"/>
          </a:xfrm>
          <a:prstGeom prst="rect">
            <a:avLst/>
          </a:prstGeom>
          <a:ln w="0">
            <a:noFill/>
          </a:ln>
        </p:spPr>
      </p:pic>
      <p:sp>
        <p:nvSpPr>
          <p:cNvPr id="344" name="Straight Connector 16"/>
          <p:cNvSpPr/>
          <p:nvPr/>
        </p:nvSpPr>
        <p:spPr>
          <a:xfrm>
            <a:off x="5143680" y="2571840"/>
            <a:ext cx="171432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6858000" y="2462040"/>
            <a:ext cx="428760" cy="21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19"/>
          <p:cNvCxnSpPr/>
          <p:nvPr/>
        </p:nvCxnSpPr>
        <p:spPr>
          <a:xfrm flipH="1">
            <a:off x="7000560" y="1642680"/>
            <a:ext cx="2160" cy="7866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7" name="Rectangle 23"/>
          <p:cNvSpPr/>
          <p:nvPr/>
        </p:nvSpPr>
        <p:spPr>
          <a:xfrm>
            <a:off x="4449960" y="4071960"/>
            <a:ext cx="437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cost  2.4 $/1000 passenger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ment factor for truck = 1.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cos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68 x 2.4 = 4.03 $ /1000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Problem 4-3</a:t>
            </a:r>
            <a:endParaRPr b="0" lang="en-US" sz="28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28760" y="2286000"/>
            <a:ext cx="83581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olume of traffic along a certain intersection approach is 600 passenger cars per hour. Determine the cost due to stopping at the intersection under the following condi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ation flow, s = 1750 v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cycle time = 6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green time = 3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ach speed = 35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% single unit tru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 3-S2 combination tru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-71280" y="647640"/>
            <a:ext cx="9144000" cy="6210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-71280" y="785880"/>
            <a:ext cx="2304720" cy="3000240"/>
          </a:xfrm>
          <a:prstGeom prst="rect">
            <a:avLst/>
          </a:prstGeom>
          <a:ln w="0">
            <a:noFill/>
          </a:ln>
        </p:spPr>
      </p:pic>
      <p:cxnSp>
        <p:nvCxnSpPr>
          <p:cNvPr id="356" name="Straight Arrow Connector 6"/>
          <p:cNvCxnSpPr/>
          <p:nvPr/>
        </p:nvCxnSpPr>
        <p:spPr>
          <a:xfrm flipV="1">
            <a:off x="2394360" y="4543200"/>
            <a:ext cx="10440" cy="174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57" name="Rectangle 8"/>
          <p:cNvSpPr/>
          <p:nvPr/>
        </p:nvSpPr>
        <p:spPr>
          <a:xfrm>
            <a:off x="2428920" y="585792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355320" y="3071880"/>
            <a:ext cx="1648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λ = 30/60 = 0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25"/>
          <p:cNvCxnSpPr/>
          <p:nvPr/>
        </p:nvCxnSpPr>
        <p:spPr>
          <a:xfrm>
            <a:off x="1499040" y="3500280"/>
            <a:ext cx="500760" cy="1215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60" name="Straight Connector 26"/>
          <p:cNvSpPr/>
          <p:nvPr/>
        </p:nvSpPr>
        <p:spPr>
          <a:xfrm>
            <a:off x="2405160" y="4552920"/>
            <a:ext cx="1952640" cy="19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Straight Arrow Connector 27"/>
          <p:cNvCxnSpPr/>
          <p:nvPr/>
        </p:nvCxnSpPr>
        <p:spPr>
          <a:xfrm flipH="1">
            <a:off x="4357440" y="4571640"/>
            <a:ext cx="216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62" name="Rectangle 28"/>
          <p:cNvSpPr/>
          <p:nvPr/>
        </p:nvSpPr>
        <p:spPr>
          <a:xfrm>
            <a:off x="4429080" y="585792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  <p:sp>
        <p:nvSpPr>
          <p:cNvPr id="366" name="Straight Connector 6"/>
          <p:cNvSpPr/>
          <p:nvPr/>
        </p:nvSpPr>
        <p:spPr>
          <a:xfrm>
            <a:off x="1214280" y="4071960"/>
            <a:ext cx="57866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8"/>
          <p:cNvSpPr/>
          <p:nvPr/>
        </p:nvSpPr>
        <p:spPr>
          <a:xfrm>
            <a:off x="1143000" y="442908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-71280" y="647640"/>
            <a:ext cx="9144000" cy="6210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-71280" y="785880"/>
            <a:ext cx="2304720" cy="3000240"/>
          </a:xfrm>
          <a:prstGeom prst="rect">
            <a:avLst/>
          </a:prstGeom>
          <a:ln w="0">
            <a:noFill/>
          </a:ln>
        </p:spPr>
      </p:pic>
      <p:cxnSp>
        <p:nvCxnSpPr>
          <p:cNvPr id="371" name="Straight Arrow Connector 6"/>
          <p:cNvCxnSpPr/>
          <p:nvPr/>
        </p:nvCxnSpPr>
        <p:spPr>
          <a:xfrm flipV="1">
            <a:off x="2394360" y="4543200"/>
            <a:ext cx="10440" cy="174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2" name="Rectangle 8"/>
          <p:cNvSpPr/>
          <p:nvPr/>
        </p:nvSpPr>
        <p:spPr>
          <a:xfrm>
            <a:off x="2428920" y="585792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355320" y="3071880"/>
            <a:ext cx="1648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λ = 30/60 = 0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25"/>
          <p:cNvCxnSpPr/>
          <p:nvPr/>
        </p:nvCxnSpPr>
        <p:spPr>
          <a:xfrm>
            <a:off x="1500120" y="3499920"/>
            <a:ext cx="215280" cy="1072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5" name="Straight Connector 26"/>
          <p:cNvSpPr/>
          <p:nvPr/>
        </p:nvSpPr>
        <p:spPr>
          <a:xfrm>
            <a:off x="2405160" y="4552920"/>
            <a:ext cx="1952640" cy="19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27"/>
          <p:cNvCxnSpPr/>
          <p:nvPr/>
        </p:nvCxnSpPr>
        <p:spPr>
          <a:xfrm flipH="1">
            <a:off x="4357440" y="4571640"/>
            <a:ext cx="216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7" name="Rectangle 28"/>
          <p:cNvSpPr/>
          <p:nvPr/>
        </p:nvSpPr>
        <p:spPr>
          <a:xfrm>
            <a:off x="4429080" y="585792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2571840" y="257184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12"/>
          <p:cNvSpPr/>
          <p:nvPr/>
        </p:nvSpPr>
        <p:spPr>
          <a:xfrm>
            <a:off x="4714920" y="264312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  <p:sp>
        <p:nvSpPr>
          <p:cNvPr id="383" name="Straight Connector 6"/>
          <p:cNvSpPr/>
          <p:nvPr/>
        </p:nvSpPr>
        <p:spPr>
          <a:xfrm>
            <a:off x="1214280" y="4071960"/>
            <a:ext cx="57866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1143000" y="442908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7"/>
          <p:cNvSpPr/>
          <p:nvPr/>
        </p:nvSpPr>
        <p:spPr>
          <a:xfrm>
            <a:off x="1143000" y="478620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9"/>
          <p:cNvSpPr/>
          <p:nvPr/>
        </p:nvSpPr>
        <p:spPr>
          <a:xfrm>
            <a:off x="1143000" y="5143680"/>
            <a:ext cx="578628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-71280" y="647640"/>
            <a:ext cx="9144000" cy="6210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-71280" y="785880"/>
            <a:ext cx="2304720" cy="3000240"/>
          </a:xfrm>
          <a:prstGeom prst="rect">
            <a:avLst/>
          </a:prstGeom>
          <a:ln w="0">
            <a:noFill/>
          </a:ln>
        </p:spPr>
      </p:pic>
      <p:cxnSp>
        <p:nvCxnSpPr>
          <p:cNvPr id="390" name="Straight Arrow Connector 6"/>
          <p:cNvCxnSpPr/>
          <p:nvPr/>
        </p:nvCxnSpPr>
        <p:spPr>
          <a:xfrm flipV="1">
            <a:off x="2394360" y="4543200"/>
            <a:ext cx="10440" cy="174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1" name="Rectangle 8"/>
          <p:cNvSpPr/>
          <p:nvPr/>
        </p:nvSpPr>
        <p:spPr>
          <a:xfrm>
            <a:off x="2428920" y="585792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3"/>
          <p:cNvSpPr/>
          <p:nvPr/>
        </p:nvSpPr>
        <p:spPr>
          <a:xfrm>
            <a:off x="355320" y="3071880"/>
            <a:ext cx="1648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λ = 30/60 = 0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Straight Arrow Connector 25"/>
          <p:cNvCxnSpPr/>
          <p:nvPr/>
        </p:nvCxnSpPr>
        <p:spPr>
          <a:xfrm>
            <a:off x="1500120" y="3499920"/>
            <a:ext cx="215280" cy="1072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4" name="Straight Connector 26"/>
          <p:cNvSpPr/>
          <p:nvPr/>
        </p:nvSpPr>
        <p:spPr>
          <a:xfrm>
            <a:off x="2405160" y="4552920"/>
            <a:ext cx="1952640" cy="19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27"/>
          <p:cNvCxnSpPr/>
          <p:nvPr/>
        </p:nvCxnSpPr>
        <p:spPr>
          <a:xfrm flipH="1">
            <a:off x="4357440" y="4571640"/>
            <a:ext cx="216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6" name="Rectangle 28"/>
          <p:cNvSpPr/>
          <p:nvPr/>
        </p:nvSpPr>
        <p:spPr>
          <a:xfrm>
            <a:off x="4429080" y="585792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2571840" y="257184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12"/>
          <p:cNvSpPr/>
          <p:nvPr/>
        </p:nvSpPr>
        <p:spPr>
          <a:xfrm>
            <a:off x="4714920" y="264312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3"/>
          <p:cNvSpPr/>
          <p:nvPr/>
        </p:nvSpPr>
        <p:spPr>
          <a:xfrm>
            <a:off x="4357800" y="4572000"/>
            <a:ext cx="250020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Straight Arrow Connector 14"/>
          <p:cNvCxnSpPr/>
          <p:nvPr/>
        </p:nvCxnSpPr>
        <p:spPr>
          <a:xfrm flipH="1">
            <a:off x="6850800" y="4571640"/>
            <a:ext cx="252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1" name="Rectangle 15"/>
          <p:cNvSpPr/>
          <p:nvPr/>
        </p:nvSpPr>
        <p:spPr>
          <a:xfrm>
            <a:off x="6929280" y="578628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  <p:sp>
        <p:nvSpPr>
          <p:cNvPr id="405" name="Straight Connector 6"/>
          <p:cNvSpPr/>
          <p:nvPr/>
        </p:nvSpPr>
        <p:spPr>
          <a:xfrm>
            <a:off x="1071720" y="542916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243120" y="28447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Dammam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ular Callout 10"/>
          <p:cNvSpPr/>
          <p:nvPr/>
        </p:nvSpPr>
        <p:spPr>
          <a:xfrm>
            <a:off x="6143760" y="2571840"/>
            <a:ext cx="2786040" cy="2571840"/>
          </a:xfrm>
          <a:prstGeom prst="wedgeRectCallout">
            <a:avLst>
              <a:gd name="adj1" fmla="val -68240"/>
              <a:gd name="adj2" fmla="val 42472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6230520" y="35002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Qassim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6301800" y="400068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Mecca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295320" y="4643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-71280" y="647640"/>
            <a:ext cx="9144000" cy="6210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-71280" y="785880"/>
            <a:ext cx="2304720" cy="3000240"/>
          </a:xfrm>
          <a:prstGeom prst="rect">
            <a:avLst/>
          </a:prstGeom>
          <a:ln w="0">
            <a:noFill/>
          </a:ln>
        </p:spPr>
      </p:pic>
      <p:cxnSp>
        <p:nvCxnSpPr>
          <p:cNvPr id="409" name="Straight Arrow Connector 6"/>
          <p:cNvCxnSpPr/>
          <p:nvPr/>
        </p:nvCxnSpPr>
        <p:spPr>
          <a:xfrm flipV="1">
            <a:off x="2394360" y="4543200"/>
            <a:ext cx="10440" cy="174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0" name="Rectangle 8"/>
          <p:cNvSpPr/>
          <p:nvPr/>
        </p:nvSpPr>
        <p:spPr>
          <a:xfrm>
            <a:off x="2428920" y="585792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3"/>
          <p:cNvSpPr/>
          <p:nvPr/>
        </p:nvSpPr>
        <p:spPr>
          <a:xfrm>
            <a:off x="355320" y="3071880"/>
            <a:ext cx="1648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λ = 30/60 = 0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Straight Arrow Connector 25"/>
          <p:cNvCxnSpPr/>
          <p:nvPr/>
        </p:nvCxnSpPr>
        <p:spPr>
          <a:xfrm>
            <a:off x="1500120" y="3499920"/>
            <a:ext cx="215280" cy="1072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3" name="Straight Connector 26"/>
          <p:cNvSpPr/>
          <p:nvPr/>
        </p:nvSpPr>
        <p:spPr>
          <a:xfrm>
            <a:off x="2405160" y="4552920"/>
            <a:ext cx="1952640" cy="19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Straight Arrow Connector 27"/>
          <p:cNvCxnSpPr/>
          <p:nvPr/>
        </p:nvCxnSpPr>
        <p:spPr>
          <a:xfrm flipH="1">
            <a:off x="4357440" y="4571640"/>
            <a:ext cx="216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5" name="Rectangle 28"/>
          <p:cNvSpPr/>
          <p:nvPr/>
        </p:nvSpPr>
        <p:spPr>
          <a:xfrm>
            <a:off x="4429080" y="585792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2571840" y="257184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2"/>
          <p:cNvSpPr/>
          <p:nvPr/>
        </p:nvSpPr>
        <p:spPr>
          <a:xfrm>
            <a:off x="4714920" y="264312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3"/>
          <p:cNvSpPr/>
          <p:nvPr/>
        </p:nvSpPr>
        <p:spPr>
          <a:xfrm>
            <a:off x="4357800" y="4572000"/>
            <a:ext cx="250020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Straight Arrow Connector 14"/>
          <p:cNvCxnSpPr/>
          <p:nvPr/>
        </p:nvCxnSpPr>
        <p:spPr>
          <a:xfrm flipH="1">
            <a:off x="6850800" y="4571640"/>
            <a:ext cx="252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0" name="Rectangle 15"/>
          <p:cNvSpPr/>
          <p:nvPr/>
        </p:nvSpPr>
        <p:spPr>
          <a:xfrm>
            <a:off x="6929280" y="578628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5929200" y="257184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7"/>
          <p:cNvSpPr/>
          <p:nvPr/>
        </p:nvSpPr>
        <p:spPr>
          <a:xfrm>
            <a:off x="8072280" y="2643120"/>
            <a:ext cx="3574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  <p:sp>
        <p:nvSpPr>
          <p:cNvPr id="426" name="Straight Connector 6"/>
          <p:cNvSpPr/>
          <p:nvPr/>
        </p:nvSpPr>
        <p:spPr>
          <a:xfrm>
            <a:off x="1071720" y="542916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1071720" y="578628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11"/>
          <p:cNvSpPr/>
          <p:nvPr/>
        </p:nvSpPr>
        <p:spPr>
          <a:xfrm>
            <a:off x="1000080" y="6143760"/>
            <a:ext cx="57866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  <p:sp>
        <p:nvSpPr>
          <p:cNvPr id="432" name="Straight Connector 7"/>
          <p:cNvSpPr/>
          <p:nvPr/>
        </p:nvSpPr>
        <p:spPr>
          <a:xfrm>
            <a:off x="1000080" y="6786720"/>
            <a:ext cx="57866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ular Callout 4"/>
          <p:cNvSpPr/>
          <p:nvPr/>
        </p:nvSpPr>
        <p:spPr>
          <a:xfrm>
            <a:off x="6143760" y="2571840"/>
            <a:ext cx="2786040" cy="2143080"/>
          </a:xfrm>
          <a:prstGeom prst="wedgeRectCallout">
            <a:avLst>
              <a:gd name="adj1" fmla="val -72800"/>
              <a:gd name="adj2" fmla="val 39212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441120" y="31431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Fahd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6337440" y="37861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Abdullah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ular Callout 4"/>
          <p:cNvSpPr/>
          <p:nvPr/>
        </p:nvSpPr>
        <p:spPr>
          <a:xfrm>
            <a:off x="6143760" y="2571840"/>
            <a:ext cx="2786040" cy="2143080"/>
          </a:xfrm>
          <a:prstGeom prst="wedgeRectCallout">
            <a:avLst>
              <a:gd name="adj1" fmla="val -74620"/>
              <a:gd name="adj2" fmla="val -878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6441120" y="31431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Fahd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6337440" y="37861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Abdullah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ular Callout 4"/>
          <p:cNvSpPr/>
          <p:nvPr/>
        </p:nvSpPr>
        <p:spPr>
          <a:xfrm>
            <a:off x="6143760" y="2571840"/>
            <a:ext cx="2786040" cy="2571840"/>
          </a:xfrm>
          <a:prstGeom prst="wedgeRectCallout">
            <a:avLst>
              <a:gd name="adj1" fmla="val -113824"/>
              <a:gd name="adj2" fmla="val -55305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6346800" y="264312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of 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6356880" y="3500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hasusi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509520" y="42861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aya Str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692964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04617b"/>
                </a:solidFill>
                <a:latin typeface="Aharoni"/>
                <a:ea typeface="Aharoni"/>
              </a:rPr>
              <a:t> Highway Evalua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428760" y="2071800"/>
            <a:ext cx="77151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ighway User Cost (HU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U = (B + A) L +T+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ubtitle 2"/>
          <p:cNvSpPr/>
          <p:nvPr/>
        </p:nvSpPr>
        <p:spPr>
          <a:xfrm>
            <a:off x="214200" y="3214800"/>
            <a:ext cx="86439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= Basic Section     (from figure 4-1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 Accident Costs   ( gi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= Section Length    ( Mil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= Transition Cost   ( from figure 4-2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elay at intersection (from figure 4-3 &amp; 4-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3840" y="2143080"/>
            <a:ext cx="692964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04617b"/>
                </a:solidFill>
                <a:latin typeface="Aharoni"/>
                <a:ea typeface="Aharoni"/>
              </a:rPr>
              <a:t> Highway Evaluation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Aharoni"/>
                <a:ea typeface="Aharoni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Problems page 102 in text book</a:t>
            </a:r>
            <a:endParaRPr b="0" lang="en-US" sz="36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1500120" y="3214800"/>
            <a:ext cx="100008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4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4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4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http://www3.alibris-static.com/highway-engineering/isbn/9780471264613_l.jpg"/>
          <p:cNvPicPr/>
          <p:nvPr/>
        </p:nvPicPr>
        <p:blipFill>
          <a:blip r:embed="rId1"/>
          <a:stretch/>
        </p:blipFill>
        <p:spPr>
          <a:xfrm>
            <a:off x="5143680" y="3000240"/>
            <a:ext cx="242856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Problem 4-1  ( page 102)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00040" y="228600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the basic section cost for passenger cars using a multilane highway under the following condi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speed = 60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running speed = 37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= +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 / Capacity ratio(v/c) = 0.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service = 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ture, R = 1432 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TOSHIBA</cp:lastModifiedBy>
  <dcterms:modified xsi:type="dcterms:W3CDTF">2016-10-04T22:38:35Z</dcterms:modified>
  <cp:revision>101</cp:revision>
  <dc:subject/>
  <dc:title>CHAPTER 16</dc:title>
</cp:coreProperties>
</file>