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945-E9B4-4611-884F-40050D48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C5F-7262-485D-9689-4CB2E80D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ED3-F0C1-4662-B54E-865C197A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593-BE85-4DDE-A61A-F6E1B5DA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B975-0774-447E-8A69-0404C095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0DFA-4E08-4A6E-90CA-18C51135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14DD-61C7-4219-A6BC-D55B19A9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7ABA-C9B7-41DD-B55A-05D8B18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D7B6-55ED-4AA8-831F-E4178F35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BC9-EC6E-4AE2-A68B-4905646C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D251-590C-44BE-98EB-FA247E08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4E3-77DB-45B5-BEDF-6F0157FF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6B4A-0495-4394-8166-98E1BC6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C5D8-EBA7-46A6-AAEB-3ABF53EA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6A54-7E67-41EA-B506-DCBDC036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DB06-2D6C-471C-BB8B-7AF19486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52B1-0D26-4040-8767-F4F76E51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6249-DE3F-47C4-8CCB-6EC60144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915D-8C8D-47E7-98E4-F1476A2F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D827-E05C-43EB-8466-A76F6976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BA0E-63A1-4D0A-A100-B85BBE5B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D95D-1595-445F-BDF3-257DD741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8F9-D37A-4368-B8DA-91C4BEE7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E685-3264-471A-B73F-344998F4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8C6C0-2BCA-4C94-84FB-F331F9B8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58DC-C0BB-4139-BA5B-51BF66B7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C66C-CD2B-42BA-B585-8D84EC3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A4D7-73F9-4AF3-800B-8D8E752A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1169-ECC4-4E40-BEB7-95CA01BB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E614-460E-486D-AFCE-A498F19D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F2D8-8C8A-44CB-94A2-48D5A80A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3A3FE-271B-41BF-B2A0-65AE0831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B2D5-A6F2-4C69-85F0-FF622E24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79F-1553-44F2-9BD9-52F41324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69ED-59DB-4E41-A17B-14B0178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ACC5-3B6B-4AAA-B0A7-526F83C5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6B96-14F1-4D0D-8D2F-AFFD8B2E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8A8D-599D-46CD-9440-ABA3A13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2372D-EAEE-4409-BC6D-38243EB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31A9-3F2D-49FF-9C6E-1781EADE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76403-EF71-4579-B02A-2836E1AC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1FE3-4FAA-438C-B267-BB6C05AF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28FE-D6B1-48DB-9396-EEFE361E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1C9-7916-4465-8192-E504F10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9D8-415C-42E4-9C36-79A48D7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B84-C76E-4ECA-915B-684BF230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C70-B21E-41B2-903B-0D4AE14D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4E3-44C1-469C-8D18-2E0361D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739F-B899-451B-BADB-49E9E0180C8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F573-25D8-4F29-BB46-00F958ACC1A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F1CB-105A-4012-B855-680F7DC8C6D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BF2-92F3-4F5D-8D8C-5F188CE012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Highway Engineering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E 431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1714680" y="2928960"/>
            <a:ext cx="5857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Mass Diagra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857240" y="4572000"/>
            <a:ext cx="58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</a:rPr>
              <a:t>Eng. Ali Mohammed Babalgha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9"/>
          <p:cNvSpPr/>
          <p:nvPr/>
        </p:nvSpPr>
        <p:spPr>
          <a:xfrm flipH="1">
            <a:off x="2641680" y="3929040"/>
            <a:ext cx="1440" cy="157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2189160" y="5572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+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page3"/>
          <p:cNvPicPr/>
          <p:nvPr/>
        </p:nvPicPr>
        <p:blipFill>
          <a:blip r:embed="rId2"/>
          <a:srcRect l="16453" t="70957" r="18035" b="7901"/>
          <a:stretch/>
        </p:blipFill>
        <p:spPr>
          <a:xfrm>
            <a:off x="214200" y="2214720"/>
            <a:ext cx="4257720" cy="1428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67" name="Rectangle 23"/>
          <p:cNvSpPr/>
          <p:nvPr/>
        </p:nvSpPr>
        <p:spPr>
          <a:xfrm>
            <a:off x="36000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1077840" y="30718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3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3006360" y="27860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4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9"/>
          <p:cNvSpPr/>
          <p:nvPr/>
        </p:nvSpPr>
        <p:spPr>
          <a:xfrm flipH="1">
            <a:off x="3355560" y="4059360"/>
            <a:ext cx="180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2903760" y="56307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+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page3"/>
          <p:cNvPicPr/>
          <p:nvPr/>
        </p:nvPicPr>
        <p:blipFill>
          <a:blip r:embed="rId2"/>
          <a:srcRect l="16453" t="43454" r="18035" b="33283"/>
          <a:stretch/>
        </p:blipFill>
        <p:spPr>
          <a:xfrm>
            <a:off x="214200" y="2201760"/>
            <a:ext cx="4257720" cy="1571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79" name="Rectangle 23"/>
          <p:cNvSpPr/>
          <p:nvPr/>
        </p:nvSpPr>
        <p:spPr>
          <a:xfrm>
            <a:off x="36000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2318760" y="2590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8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785880" y="12142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85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9"/>
          <p:cNvSpPr/>
          <p:nvPr/>
        </p:nvSpPr>
        <p:spPr>
          <a:xfrm flipH="1">
            <a:off x="4141800" y="4059360"/>
            <a:ext cx="144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3689640" y="56307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+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page3"/>
          <p:cNvPicPr/>
          <p:nvPr/>
        </p:nvPicPr>
        <p:blipFill>
          <a:blip r:embed="rId2"/>
          <a:srcRect l="16453" t="43454" r="18035" b="33283"/>
          <a:stretch/>
        </p:blipFill>
        <p:spPr>
          <a:xfrm>
            <a:off x="214200" y="2201760"/>
            <a:ext cx="4257720" cy="1571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90" name="Rectangle 23"/>
          <p:cNvSpPr/>
          <p:nvPr/>
        </p:nvSpPr>
        <p:spPr>
          <a:xfrm>
            <a:off x="36000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31984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.34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1857240" y="5716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214960" y="857160"/>
            <a:ext cx="2975040" cy="2428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214200" y="3929040"/>
            <a:ext cx="4286520" cy="2440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214200" y="928800"/>
            <a:ext cx="4418280" cy="3214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"/>
          <p:cNvPicPr/>
          <p:nvPr/>
        </p:nvPicPr>
        <p:blipFill>
          <a:blip r:embed="rId4"/>
          <a:stretch/>
        </p:blipFill>
        <p:spPr>
          <a:xfrm>
            <a:off x="5072040" y="3500280"/>
            <a:ext cx="3000240" cy="3165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"/>
          <p:cNvPicPr/>
          <p:nvPr/>
        </p:nvPicPr>
        <p:blipFill>
          <a:blip r:embed="rId5"/>
          <a:stretch/>
        </p:blipFill>
        <p:spPr>
          <a:xfrm>
            <a:off x="5000760" y="3228840"/>
            <a:ext cx="314316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571680" y="1214280"/>
            <a:ext cx="8072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ss Diagra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-Haul diagram is a graphical representation of the amount of earthworks involved in a highway. It shows accumulated volume at any point along the center 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) cut (excavatio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- ) fill (embankm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http://www.globalsecurity.org/military/library/policy/army/fm/5-430-00-1/fig3-17.gif"/>
          <p:cNvPicPr/>
          <p:nvPr/>
        </p:nvPicPr>
        <p:blipFill>
          <a:blip r:embed="rId1"/>
          <a:srcRect l="0" t="0" r="0" b="6504"/>
          <a:stretch/>
        </p:blipFill>
        <p:spPr>
          <a:xfrm>
            <a:off x="3548160" y="3286080"/>
            <a:ext cx="5238720" cy="3286080"/>
          </a:xfrm>
          <a:prstGeom prst="rect">
            <a:avLst/>
          </a:prstGeom>
          <a:ln w="0">
            <a:noFill/>
          </a:ln>
        </p:spPr>
      </p:pic>
      <p:sp>
        <p:nvSpPr>
          <p:cNvPr id="200" name="Right Arrow 8"/>
          <p:cNvSpPr/>
          <p:nvPr/>
        </p:nvSpPr>
        <p:spPr>
          <a:xfrm>
            <a:off x="1857240" y="3857760"/>
            <a:ext cx="1571760" cy="5713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Arrow 9"/>
          <p:cNvSpPr/>
          <p:nvPr/>
        </p:nvSpPr>
        <p:spPr>
          <a:xfrm>
            <a:off x="1857240" y="528624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ass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1"/>
          <p:cNvSpPr/>
          <p:nvPr/>
        </p:nvSpPr>
        <p:spPr>
          <a:xfrm>
            <a:off x="3929040" y="3867120"/>
            <a:ext cx="4735440" cy="5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page3"/>
          <p:cNvPicPr/>
          <p:nvPr/>
        </p:nvPicPr>
        <p:blipFill>
          <a:blip r:embed="rId1"/>
          <a:srcRect l="0" t="11174" r="0" b="6704"/>
          <a:stretch/>
        </p:blipFill>
        <p:spPr>
          <a:xfrm>
            <a:off x="762120" y="433440"/>
            <a:ext cx="7524720" cy="642456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14"/>
          <p:cNvCxnSpPr/>
          <p:nvPr/>
        </p:nvCxnSpPr>
        <p:spPr>
          <a:xfrm flipH="1">
            <a:off x="5714640" y="784800"/>
            <a:ext cx="714960" cy="316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5" name="Straight Arrow Connector 15"/>
          <p:cNvCxnSpPr/>
          <p:nvPr/>
        </p:nvCxnSpPr>
        <p:spPr>
          <a:xfrm flipH="1" flipV="1">
            <a:off x="5714280" y="1571400"/>
            <a:ext cx="786600" cy="35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6" name="Rectangle 17"/>
          <p:cNvSpPr/>
          <p:nvPr/>
        </p:nvSpPr>
        <p:spPr>
          <a:xfrm>
            <a:off x="6505920" y="19288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6580800" y="6429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ad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1146600" y="1071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1146240" y="3214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578880" y="571500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l and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285840" y="1000080"/>
            <a:ext cx="8501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-Haul Distance (FHD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earth is moved without additional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-Haul Distance (OH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olume of material (Y) moved  X Stations beyond Freeh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 of Economical Haul Distance (LEHD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3460680" y="3772080"/>
            <a:ext cx="5540400" cy="3014640"/>
          </a:xfrm>
          <a:prstGeom prst="rect">
            <a:avLst/>
          </a:prstGeom>
          <a:ln w="0">
            <a:noFill/>
          </a:ln>
        </p:spPr>
      </p:pic>
      <p:sp>
        <p:nvSpPr>
          <p:cNvPr id="213" name="Straight Connector 11"/>
          <p:cNvSpPr/>
          <p:nvPr/>
        </p:nvSpPr>
        <p:spPr>
          <a:xfrm flipV="1">
            <a:off x="3492360" y="5046840"/>
            <a:ext cx="5222880" cy="117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57120" y="378612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terial take  from outside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xcavated material not used i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4286160" y="45720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7429680" y="5143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2"/>
          <p:cNvSpPr/>
          <p:nvPr/>
        </p:nvSpPr>
        <p:spPr>
          <a:xfrm>
            <a:off x="500040" y="1214280"/>
            <a:ext cx="57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 of Economical Haul Distance (LEHD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286000" y="3143160"/>
            <a:ext cx="4611600" cy="27622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375480" y="21430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Haul Limit (LEHD) = FHD +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656960" y="1643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Haul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9"/>
          <p:cNvCxnSpPr>
            <a:stCxn id="220" idx="1"/>
          </p:cNvCxnSpPr>
          <p:nvPr/>
        </p:nvCxnSpPr>
        <p:spPr>
          <a:xfrm flipH="1">
            <a:off x="3928680" y="1826280"/>
            <a:ext cx="714960" cy="316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2" name="Straight Arrow Connector 14"/>
          <p:cNvCxnSpPr/>
          <p:nvPr/>
        </p:nvCxnSpPr>
        <p:spPr>
          <a:xfrm flipH="1">
            <a:off x="3571200" y="2500200"/>
            <a:ext cx="786600" cy="388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2"/>
          <p:cNvSpPr/>
          <p:nvPr/>
        </p:nvSpPr>
        <p:spPr>
          <a:xfrm>
            <a:off x="500040" y="1214280"/>
            <a:ext cx="57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inkage and Sw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071720" y="1857240"/>
            <a:ext cx="6553080" cy="409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rcRect l="0" t="0" r="0" b="59374"/>
          <a:stretch/>
        </p:blipFill>
        <p:spPr>
          <a:xfrm>
            <a:off x="1062000" y="5929200"/>
            <a:ext cx="3867120" cy="785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3"/>
          <a:srcRect l="0" t="55427" r="0" b="0"/>
          <a:stretch/>
        </p:blipFill>
        <p:spPr>
          <a:xfrm>
            <a:off x="3786120" y="5857920"/>
            <a:ext cx="38671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4"/>
          <p:cNvSpPr/>
          <p:nvPr/>
        </p:nvSpPr>
        <p:spPr>
          <a:xfrm flipH="1">
            <a:off x="642960" y="4500720"/>
            <a:ext cx="144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112680" y="3987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1+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page3"/>
          <p:cNvPicPr/>
          <p:nvPr/>
        </p:nvPicPr>
        <p:blipFill>
          <a:blip r:embed="rId2"/>
          <a:srcRect l="16453" t="13848" r="18035" b="66074"/>
          <a:stretch/>
        </p:blipFill>
        <p:spPr>
          <a:xfrm>
            <a:off x="357120" y="2286000"/>
            <a:ext cx="425772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4" name="Rectangle 23"/>
          <p:cNvSpPr/>
          <p:nvPr/>
        </p:nvSpPr>
        <p:spPr>
          <a:xfrm>
            <a:off x="363600" y="3214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2063520" y="25718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.93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40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0"/>
          <p:cNvSpPr/>
          <p:nvPr/>
        </p:nvSpPr>
        <p:spPr>
          <a:xfrm flipH="1">
            <a:off x="1356840" y="4357800"/>
            <a:ext cx="180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863640" y="40006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1+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page3"/>
          <p:cNvPicPr/>
          <p:nvPr/>
        </p:nvPicPr>
        <p:blipFill>
          <a:blip r:embed="rId2"/>
          <a:srcRect l="16453" t="13848" r="18035" b="66074"/>
          <a:stretch/>
        </p:blipFill>
        <p:spPr>
          <a:xfrm>
            <a:off x="357120" y="2286000"/>
            <a:ext cx="425772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45" name="Rectangle 23"/>
          <p:cNvSpPr/>
          <p:nvPr/>
        </p:nvSpPr>
        <p:spPr>
          <a:xfrm>
            <a:off x="36000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2063520" y="257184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.28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5"/>
          <p:cNvSpPr/>
          <p:nvPr/>
        </p:nvSpPr>
        <p:spPr>
          <a:xfrm>
            <a:off x="785880" y="12142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- Given the end areas below, calculate the volumes of cut and fill between stations 351+00 and 352+50., how much excess cut or fill is the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4071960" cy="309096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7"/>
          <p:cNvSpPr/>
          <p:nvPr/>
        </p:nvSpPr>
        <p:spPr>
          <a:xfrm>
            <a:off x="642960" y="4071960"/>
            <a:ext cx="3718080" cy="14857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9"/>
          <p:cNvSpPr/>
          <p:nvPr/>
        </p:nvSpPr>
        <p:spPr>
          <a:xfrm flipV="1">
            <a:off x="642960" y="4714920"/>
            <a:ext cx="37861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19"/>
          <p:cNvSpPr/>
          <p:nvPr/>
        </p:nvSpPr>
        <p:spPr>
          <a:xfrm flipH="1">
            <a:off x="1999800" y="4214880"/>
            <a:ext cx="180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1578240" y="38577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1+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page3"/>
          <p:cNvPicPr/>
          <p:nvPr/>
        </p:nvPicPr>
        <p:blipFill>
          <a:blip r:embed="rId2"/>
          <a:srcRect l="16453" t="13848" r="18035" b="66074"/>
          <a:stretch/>
        </p:blipFill>
        <p:spPr>
          <a:xfrm>
            <a:off x="357120" y="2286000"/>
            <a:ext cx="425772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56" name="Rectangle 23"/>
          <p:cNvSpPr/>
          <p:nvPr/>
        </p:nvSpPr>
        <p:spPr>
          <a:xfrm>
            <a:off x="36000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717840" y="5000760"/>
            <a:ext cx="5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3075840" y="428616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2063520" y="25718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.58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Ali</cp:lastModifiedBy>
  <dcterms:modified xsi:type="dcterms:W3CDTF">2016-02-10T12:08:03Z</dcterms:modified>
  <cp:revision>140</cp:revision>
  <dc:subject/>
  <dc:title>CHAPTER 16</dc:title>
</cp:coreProperties>
</file>