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BD0-9416-4DD1-A1F4-B8830631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31B-73D7-4EED-98A1-CF1E3509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308-9B2F-43A6-A205-3DA7FB79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087-0B84-494A-98C0-5C5A12C2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B80A-22B0-4663-A2E5-D20A812E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8EFE-F322-4366-918B-FC74CFCE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1B83-F836-4B7A-99FE-C3B383A4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1ACB-4A9B-4AEB-BBA8-15306E68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4B33-8CF6-446E-BC46-EB75BC96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A963-0F01-487A-92E4-A5698AB8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A666-A044-4D09-A75C-D22E0449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BFF-D575-4612-81F4-5077D14A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3ECA-943E-4B39-AA36-F904416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2180-54A5-4E91-B9AF-2E7539E3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248B-7693-44F9-A84E-E2B0D5AA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FCD8-0730-41A1-9F25-471B9DD7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9B41-A437-4A0E-A43B-71906669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31EE-1A29-4693-9B7A-8E834755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11DE-9D5B-4833-8A19-125CAA9A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9F05-A9E3-45DF-984F-68CF4275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9479-CA87-4E3D-B51E-30434DD5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871A-9157-4313-BE07-05CC93F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C9A-4ED4-4909-A5E3-7B9F135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6A26-2B84-4AF6-BD89-468AE8E9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D8CD-4C19-4B5A-8C85-F4E2A9C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0748-9F3F-4A9A-B5BC-605E8B7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3DD6-9479-485C-9A52-5C68E719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7FC5-2B5E-4FE5-A281-571B51EB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A981-F9CA-40A6-A602-4463CA9D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7893-D11F-4783-A3FA-08C35CF9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16D9-B3B8-4F6B-BB98-3257D239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4CE9-781A-4C5F-9E68-DC91175C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59DAC-9237-4790-926B-0F0EB991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E15-13EC-490E-A9BC-C966D514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9C03-B922-48E2-B966-E513B37F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FF93C-F93E-4E21-9FCD-EE9F92AE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B430-2507-4D40-8690-DC68662B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ABDC-1D0C-470A-B28B-41D173A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3A8E-4053-4A07-B955-4861131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C2BB-40DC-4EF5-AD5A-F411DAA2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752F-4EA0-4709-8CF1-C5D8045A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6D5D-5A0D-469E-BC06-DCD64D00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20EC1-497D-4BF4-BBEE-44F66112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C89-94E9-4FB9-9C5B-1358D4FE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497-ECAB-409C-8D8C-8ADD71A2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A21-2C8E-4A8F-B45C-355DB88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742-F587-43F5-BCDF-826C849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26D-BF7A-4DA9-AD95-A8469EE8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1CFE-ED9D-4A00-9E93-F8EAC93C0A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5C5A-37D5-4937-AFFE-8F00B744B7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54C-283B-4605-8AEE-1E7B57E627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5B23-53C8-4EC8-B17C-955733710C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Highway Engineering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E 431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1714680" y="2928960"/>
            <a:ext cx="5857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Mass Diagra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857240" y="4572000"/>
            <a:ext cx="58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</a:rPr>
              <a:t>Eng. Ali Mohammed Babalgha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9"/>
          <p:cNvSpPr/>
          <p:nvPr/>
        </p:nvSpPr>
        <p:spPr>
          <a:xfrm flipH="1">
            <a:off x="2641680" y="3929040"/>
            <a:ext cx="1440" cy="157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2189160" y="5572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+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page3"/>
          <p:cNvPicPr/>
          <p:nvPr/>
        </p:nvPicPr>
        <p:blipFill>
          <a:blip r:embed="rId2"/>
          <a:srcRect l="16453" t="70957" r="18035" b="7901"/>
          <a:stretch/>
        </p:blipFill>
        <p:spPr>
          <a:xfrm>
            <a:off x="214200" y="2214720"/>
            <a:ext cx="4257720" cy="1428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67" name="Rectangle 23"/>
          <p:cNvSpPr/>
          <p:nvPr/>
        </p:nvSpPr>
        <p:spPr>
          <a:xfrm>
            <a:off x="36000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1077840" y="30718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3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3006360" y="27860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4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9"/>
          <p:cNvSpPr/>
          <p:nvPr/>
        </p:nvSpPr>
        <p:spPr>
          <a:xfrm flipH="1">
            <a:off x="3355560" y="4059360"/>
            <a:ext cx="180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2903760" y="56307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page3"/>
          <p:cNvPicPr/>
          <p:nvPr/>
        </p:nvPicPr>
        <p:blipFill>
          <a:blip r:embed="rId2"/>
          <a:srcRect l="16453" t="43454" r="18035" b="33283"/>
          <a:stretch/>
        </p:blipFill>
        <p:spPr>
          <a:xfrm>
            <a:off x="214200" y="2201760"/>
            <a:ext cx="4257720" cy="1571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79" name="Rectangle 23"/>
          <p:cNvSpPr/>
          <p:nvPr/>
        </p:nvSpPr>
        <p:spPr>
          <a:xfrm>
            <a:off x="36000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2318760" y="2590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8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785880" y="12142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85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9"/>
          <p:cNvSpPr/>
          <p:nvPr/>
        </p:nvSpPr>
        <p:spPr>
          <a:xfrm flipH="1">
            <a:off x="4141800" y="4059360"/>
            <a:ext cx="144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3689640" y="56307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+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page3"/>
          <p:cNvPicPr/>
          <p:nvPr/>
        </p:nvPicPr>
        <p:blipFill>
          <a:blip r:embed="rId2"/>
          <a:srcRect l="16453" t="43454" r="18035" b="33283"/>
          <a:stretch/>
        </p:blipFill>
        <p:spPr>
          <a:xfrm>
            <a:off x="214200" y="2201760"/>
            <a:ext cx="4257720" cy="1571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90" name="Rectangle 23"/>
          <p:cNvSpPr/>
          <p:nvPr/>
        </p:nvSpPr>
        <p:spPr>
          <a:xfrm>
            <a:off x="36000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31984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.34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1857240" y="5716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214960" y="857160"/>
            <a:ext cx="2975040" cy="2428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214200" y="3929040"/>
            <a:ext cx="4286520" cy="2440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214200" y="928800"/>
            <a:ext cx="4418280" cy="3214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"/>
          <p:cNvPicPr/>
          <p:nvPr/>
        </p:nvPicPr>
        <p:blipFill>
          <a:blip r:embed="rId4"/>
          <a:stretch/>
        </p:blipFill>
        <p:spPr>
          <a:xfrm>
            <a:off x="5072040" y="3500280"/>
            <a:ext cx="3000240" cy="3165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"/>
          <p:cNvPicPr/>
          <p:nvPr/>
        </p:nvPicPr>
        <p:blipFill>
          <a:blip r:embed="rId5"/>
          <a:stretch/>
        </p:blipFill>
        <p:spPr>
          <a:xfrm>
            <a:off x="5000760" y="3228840"/>
            <a:ext cx="314316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571680" y="1214280"/>
            <a:ext cx="8072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ss Diagra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-Haul diagram is a graphical representation of the amount of earthworks involved in a highway. It shows accumulated volume at any point along the center 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) cut (excava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- ) fill (embankm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http://www.globalsecurity.org/military/library/policy/army/fm/5-430-00-1/fig3-17.gif"/>
          <p:cNvPicPr/>
          <p:nvPr/>
        </p:nvPicPr>
        <p:blipFill>
          <a:blip r:embed="rId1"/>
          <a:srcRect l="0" t="0" r="0" b="6504"/>
          <a:stretch/>
        </p:blipFill>
        <p:spPr>
          <a:xfrm>
            <a:off x="3548160" y="3286080"/>
            <a:ext cx="5238720" cy="3286080"/>
          </a:xfrm>
          <a:prstGeom prst="rect">
            <a:avLst/>
          </a:prstGeom>
          <a:ln w="0">
            <a:noFill/>
          </a:ln>
        </p:spPr>
      </p:pic>
      <p:sp>
        <p:nvSpPr>
          <p:cNvPr id="200" name="Right Arrow 8"/>
          <p:cNvSpPr/>
          <p:nvPr/>
        </p:nvSpPr>
        <p:spPr>
          <a:xfrm>
            <a:off x="1857240" y="3857760"/>
            <a:ext cx="1571760" cy="5713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Arrow 9"/>
          <p:cNvSpPr/>
          <p:nvPr/>
        </p:nvSpPr>
        <p:spPr>
          <a:xfrm>
            <a:off x="1857240" y="528624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ass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1"/>
          <p:cNvSpPr/>
          <p:nvPr/>
        </p:nvSpPr>
        <p:spPr>
          <a:xfrm>
            <a:off x="3929040" y="3867120"/>
            <a:ext cx="4735440" cy="5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page3"/>
          <p:cNvPicPr/>
          <p:nvPr/>
        </p:nvPicPr>
        <p:blipFill>
          <a:blip r:embed="rId1"/>
          <a:srcRect l="0" t="11174" r="0" b="6704"/>
          <a:stretch/>
        </p:blipFill>
        <p:spPr>
          <a:xfrm>
            <a:off x="762120" y="433440"/>
            <a:ext cx="7524720" cy="642456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14"/>
          <p:cNvCxnSpPr/>
          <p:nvPr/>
        </p:nvCxnSpPr>
        <p:spPr>
          <a:xfrm flipH="1">
            <a:off x="5714640" y="784800"/>
            <a:ext cx="714960" cy="316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5" name="Straight Arrow Connector 15"/>
          <p:cNvCxnSpPr/>
          <p:nvPr/>
        </p:nvCxnSpPr>
        <p:spPr>
          <a:xfrm flipH="1" flipV="1">
            <a:off x="5714280" y="1571400"/>
            <a:ext cx="786600" cy="35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6" name="Rectangle 17"/>
          <p:cNvSpPr/>
          <p:nvPr/>
        </p:nvSpPr>
        <p:spPr>
          <a:xfrm>
            <a:off x="6505920" y="19288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6580800" y="6429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ad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1146600" y="1071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1146240" y="3214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578880" y="571500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l and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285840" y="1000080"/>
            <a:ext cx="8501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-Haul Distance (FHD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earth is moved without additional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-Haul Distance (OH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olume of material (Y) moved  X Stations beyond Freeh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 of Economical Haul Distance (LEHD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3460680" y="3772080"/>
            <a:ext cx="5540400" cy="3014640"/>
          </a:xfrm>
          <a:prstGeom prst="rect">
            <a:avLst/>
          </a:prstGeom>
          <a:ln w="0">
            <a:noFill/>
          </a:ln>
        </p:spPr>
      </p:pic>
      <p:sp>
        <p:nvSpPr>
          <p:cNvPr id="213" name="Straight Connector 11"/>
          <p:cNvSpPr/>
          <p:nvPr/>
        </p:nvSpPr>
        <p:spPr>
          <a:xfrm flipV="1">
            <a:off x="3492360" y="5046840"/>
            <a:ext cx="5222880" cy="117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57120" y="378612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terial take  from outside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xcavated material not used i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4286160" y="45720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7429680" y="5143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2"/>
          <p:cNvSpPr/>
          <p:nvPr/>
        </p:nvSpPr>
        <p:spPr>
          <a:xfrm>
            <a:off x="500040" y="1214280"/>
            <a:ext cx="57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 of Economical Haul Distance (LEHD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286000" y="3143160"/>
            <a:ext cx="4611600" cy="27622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375480" y="21430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Haul Limit (LEHD) = FHD +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656960" y="1643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Haul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9"/>
          <p:cNvCxnSpPr>
            <a:stCxn id="220" idx="1"/>
          </p:cNvCxnSpPr>
          <p:nvPr/>
        </p:nvCxnSpPr>
        <p:spPr>
          <a:xfrm flipH="1">
            <a:off x="3928680" y="1826280"/>
            <a:ext cx="714960" cy="316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2" name="Straight Arrow Connector 14"/>
          <p:cNvCxnSpPr/>
          <p:nvPr/>
        </p:nvCxnSpPr>
        <p:spPr>
          <a:xfrm flipH="1">
            <a:off x="3571200" y="2500200"/>
            <a:ext cx="786600" cy="388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2"/>
          <p:cNvSpPr/>
          <p:nvPr/>
        </p:nvSpPr>
        <p:spPr>
          <a:xfrm>
            <a:off x="500040" y="1214280"/>
            <a:ext cx="57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inkage and Sw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071720" y="1857240"/>
            <a:ext cx="6553080" cy="409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rcRect l="0" t="0" r="0" b="59374"/>
          <a:stretch/>
        </p:blipFill>
        <p:spPr>
          <a:xfrm>
            <a:off x="1062000" y="5929200"/>
            <a:ext cx="3867120" cy="785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3"/>
          <a:srcRect l="0" t="55427" r="0" b="0"/>
          <a:stretch/>
        </p:blipFill>
        <p:spPr>
          <a:xfrm>
            <a:off x="3786120" y="5857920"/>
            <a:ext cx="38671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4"/>
          <p:cNvSpPr/>
          <p:nvPr/>
        </p:nvSpPr>
        <p:spPr>
          <a:xfrm flipH="1">
            <a:off x="642960" y="4500720"/>
            <a:ext cx="144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112680" y="3987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1+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page3"/>
          <p:cNvPicPr/>
          <p:nvPr/>
        </p:nvPicPr>
        <p:blipFill>
          <a:blip r:embed="rId2"/>
          <a:srcRect l="16453" t="13848" r="18035" b="66074"/>
          <a:stretch/>
        </p:blipFill>
        <p:spPr>
          <a:xfrm>
            <a:off x="357120" y="2286000"/>
            <a:ext cx="425772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4" name="Rectangle 23"/>
          <p:cNvSpPr/>
          <p:nvPr/>
        </p:nvSpPr>
        <p:spPr>
          <a:xfrm>
            <a:off x="363600" y="3214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2063520" y="25718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.93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40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0"/>
          <p:cNvSpPr/>
          <p:nvPr/>
        </p:nvSpPr>
        <p:spPr>
          <a:xfrm flipH="1">
            <a:off x="1356840" y="4357800"/>
            <a:ext cx="180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863640" y="40006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1+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page3"/>
          <p:cNvPicPr/>
          <p:nvPr/>
        </p:nvPicPr>
        <p:blipFill>
          <a:blip r:embed="rId2"/>
          <a:srcRect l="16453" t="13848" r="18035" b="66074"/>
          <a:stretch/>
        </p:blipFill>
        <p:spPr>
          <a:xfrm>
            <a:off x="357120" y="2286000"/>
            <a:ext cx="425772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45" name="Rectangle 23"/>
          <p:cNvSpPr/>
          <p:nvPr/>
        </p:nvSpPr>
        <p:spPr>
          <a:xfrm>
            <a:off x="36000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2063520" y="257184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.28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9"/>
          <p:cNvSpPr/>
          <p:nvPr/>
        </p:nvSpPr>
        <p:spPr>
          <a:xfrm flipH="1">
            <a:off x="1999800" y="4214880"/>
            <a:ext cx="180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1578240" y="38577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1+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page3"/>
          <p:cNvPicPr/>
          <p:nvPr/>
        </p:nvPicPr>
        <p:blipFill>
          <a:blip r:embed="rId2"/>
          <a:srcRect l="16453" t="13848" r="18035" b="66074"/>
          <a:stretch/>
        </p:blipFill>
        <p:spPr>
          <a:xfrm>
            <a:off x="357120" y="2286000"/>
            <a:ext cx="425772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56" name="Rectangle 23"/>
          <p:cNvSpPr/>
          <p:nvPr/>
        </p:nvSpPr>
        <p:spPr>
          <a:xfrm>
            <a:off x="36000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2063520" y="25718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.58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Ali</cp:lastModifiedBy>
  <dcterms:modified xsi:type="dcterms:W3CDTF">2016-02-10T12:08:03Z</dcterms:modified>
  <cp:revision>140</cp:revision>
  <dc:subject/>
  <dc:title>CHAPTER 16</dc:title>
</cp:coreProperties>
</file>