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3E2-DACC-4375-8A31-253850EE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845-D407-4BDC-AC2A-98B94F02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34A-AC2C-4E7D-9EA0-57E251F3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206-C9A7-4432-BBF6-67753DC6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0B16-8118-40D3-A07A-A60A544A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E1CF-3B70-412A-AC57-051DFD8C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5198-CFD1-48F5-BE0C-A5015A93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8F4C-1EB4-48CC-A9C1-535FDF59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0B51-7095-45D7-95CA-35B7712D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E61D-C4B7-4A81-BDA5-6C748C78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1E30-07C5-4364-B2EC-3AEB3A57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B1E-0D07-458A-BF5B-0A38C4C7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9B7E-A529-46B4-A464-B09C13EC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8180-D888-4BA9-8669-0F6F7C38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307F-E45B-4AC1-B6A5-82A2E4ED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2883-025D-45FD-A481-C847530E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91A3-2D4B-4444-889D-84847143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3FA2F-2BA9-4190-8E36-5F1F55A7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443D-8F13-4A37-902E-A676B6F1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63F7D-C72B-4B8D-96AA-1376B534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4C7DE-59AA-4444-A2C5-5584C153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279D-1B00-4ADD-B57B-32637571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FC4-E176-4AFA-95BE-E3EE531D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D47A6-40FB-470B-936B-EC824EB2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5D4E-5C0F-4833-AC57-A7B309DE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26E1C-3B87-49D0-8BFB-397A0663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E564-941E-4DF5-BC35-99677848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23EF-5E4D-4EE9-98C7-C4605351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1DB4-E495-45F5-B4DA-028DF1F0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1064E-16AA-4AA7-AB01-AEE478EA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660C5-ABC0-4A9C-8138-32940C3D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2D651-B4D8-4180-9211-FE970BFD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5C5B-E4C9-4C70-91F0-AA6227F5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CA5-45BA-4692-9AEB-B888C5E9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ED175-3635-415C-8E6C-F867A344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245AE-4BA8-4D70-BFED-44FBBDDB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B5475-3B41-4689-BF6E-81D6958F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B30C6-9237-4E31-9E28-45A037E4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1D4E1-ECDD-4769-AB69-53539380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D2AA-05FF-46B8-B1EB-CA39A03C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D232-6F9B-4581-A3CE-FDBF8747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D354-A8AC-474C-9A1F-2304EA9A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D1A8F-C92D-418A-BCFE-97359BC8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845-00E1-4CFC-84DD-722C9FB2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F2B-38A5-4297-9613-83E85F8D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710-3F19-4724-8511-0322756F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482-6A64-445C-918A-3682152D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CAB-0FDE-4FC8-A8AB-F1C927D4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28A6-7007-48BB-914E-F454CEC941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C837-79BC-42C0-AAA4-5E54280462A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73EC-29BF-4B17-9853-14DE0E8BD09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8953-0332-4FB8-A9DA-7C622FAB40D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http://www.fhwa.dot.gov/environment/publications/flexibility/images/chapwm23.jpg"/>
          <p:cNvPicPr/>
          <p:nvPr/>
        </p:nvPicPr>
        <p:blipFill>
          <a:blip r:embed="rId2"/>
          <a:stretch/>
        </p:blipFill>
        <p:spPr>
          <a:xfrm>
            <a:off x="6072120" y="1895400"/>
            <a:ext cx="2381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6243120" y="28447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yadh – Dammam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ular Callout 10"/>
          <p:cNvSpPr/>
          <p:nvPr/>
        </p:nvSpPr>
        <p:spPr>
          <a:xfrm>
            <a:off x="6143760" y="2571840"/>
            <a:ext cx="2786040" cy="2571840"/>
          </a:xfrm>
          <a:prstGeom prst="wedgeRectCallout">
            <a:avLst>
              <a:gd name="adj1" fmla="val -68240"/>
              <a:gd name="adj2" fmla="val 42472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6230520" y="35002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yadh – Qassim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301800" y="400068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yadh – Mecca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295320" y="4643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ular Callout 4"/>
          <p:cNvSpPr/>
          <p:nvPr/>
        </p:nvSpPr>
        <p:spPr>
          <a:xfrm>
            <a:off x="6143760" y="2571840"/>
            <a:ext cx="2786040" cy="2143080"/>
          </a:xfrm>
          <a:prstGeom prst="wedgeRectCallout">
            <a:avLst>
              <a:gd name="adj1" fmla="val -72800"/>
              <a:gd name="adj2" fmla="val 39212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441120" y="31431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Fahd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6337440" y="378612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Abdullah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ular Callout 4"/>
          <p:cNvSpPr/>
          <p:nvPr/>
        </p:nvSpPr>
        <p:spPr>
          <a:xfrm>
            <a:off x="6143760" y="2571840"/>
            <a:ext cx="2786040" cy="2143080"/>
          </a:xfrm>
          <a:prstGeom prst="wedgeRectCallout">
            <a:avLst>
              <a:gd name="adj1" fmla="val -74620"/>
              <a:gd name="adj2" fmla="val -878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6441120" y="31431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Fahd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6337440" y="378612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Abdullah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ular Callout 4"/>
          <p:cNvSpPr/>
          <p:nvPr/>
        </p:nvSpPr>
        <p:spPr>
          <a:xfrm>
            <a:off x="6143760" y="2571840"/>
            <a:ext cx="2786040" cy="2571840"/>
          </a:xfrm>
          <a:prstGeom prst="wedgeRectCallout">
            <a:avLst>
              <a:gd name="adj1" fmla="val -113824"/>
              <a:gd name="adj2" fmla="val -55305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346800" y="264312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of 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6356880" y="35002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hasusi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6509520" y="42861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aya Str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6:17Z</dcterms:created>
  <dc:creator>Abdulrahman</dc:creator>
  <dc:description/>
  <dc:language>en-US</dc:language>
  <cp:lastModifiedBy>TOSHIBA</cp:lastModifiedBy>
  <dcterms:modified xsi:type="dcterms:W3CDTF">2016-02-23T20:41:29Z</dcterms:modified>
  <cp:revision>93</cp:revision>
  <dc:subject/>
  <dc:title>CHAPTER 16</dc:title>
</cp:coreProperties>
</file>