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2B0-B383-4EFA-97B6-06A0CC0F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F36-639B-4450-8F4E-FE0165E3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EC2-CCE0-4271-9556-89A4EE88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7FD-155F-4E2C-B3B6-FDE80E2E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1E02-36AF-4FF1-88A9-934EB4DC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73E3-4F10-47E5-96CF-86C76158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708B-C078-4351-B4F3-D2793EEE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D37E-632F-4C06-9297-73E039F4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DBA9-A64E-4C5B-B063-AC4F62E7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75B0-3F2D-4AE4-AF36-72913967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F2F4-2192-4C7F-9130-9A635D56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4AA-05C0-48F9-952F-83A054AB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D33F-7085-40B2-A13D-445194E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B5A5-DADE-40FA-984D-01E02B0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8893-61EE-42A7-B868-C992985D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F941-BE16-4E9C-B464-811387FC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E7C2-C95D-42B3-8DE9-551D31FA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0D91-3C8F-44AE-B8B4-3AEBE5B5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DDBD1-AF6A-4C32-BE2D-594B4347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B2AD-5CFC-4831-9FCD-FD2D0D13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7274-2645-4F30-BB4D-BB0B5E4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0206-74C2-4F0F-885F-41FD689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2E2-5A0F-4831-B8F5-A11FF3B4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FC78-3B14-4F7F-90DF-7E290771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0E25-5ABB-4189-AC60-FB016F2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CAA7-8EFC-4B02-B5E6-57F69994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AE4B-2198-426D-9DDF-7E826E7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B5DA-E981-45CC-A56D-69C00640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C7F8-7FFE-4228-A7CA-29BE8F3D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692C-9B36-45D4-A563-64DF9FDA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ABEE2-727A-4C7D-B1F7-44C9BDF9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82137-8510-4F13-AFB9-18FE204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9441B-C59A-4706-8A12-5221BFA6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B46-E786-40C2-88C6-002B8EC3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2EF49-0882-4106-BE53-77258CE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4E33C-4692-41DE-B2C6-1E727DD5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39EC-11F4-4553-A939-85E0A2D2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C98E-4B46-49B0-ABD3-45D527D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55ACC-CDBA-4ECD-BFB3-A095F36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CC5CA-A31E-4ADA-8CE6-9A824335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C552-643F-4543-9BBC-EF30AE94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F7D5-0CA6-4C6C-9D3A-E7919FED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E7BDF-7707-4140-A81F-222EAA95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FFE-6818-4857-B71A-7E63C0E2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9D3-9BCC-4E08-8A40-61E62F07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553-7A1A-41FD-80BD-7321895F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7E6-F5A8-466B-A548-16962647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6C8-EDC6-416D-B0FD-AF39FF9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9623-A6CD-4838-8E62-4C9A1DFDED5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3E99-34B8-4E59-986A-FA29090A4AC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4442-D2CB-4666-ADBE-D00FF8687B6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59D7-D71A-4E4B-B742-0D5338E77B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fhwa.dot.gov/environment/publications/flexibility/images/chapwm23.jpg"/>
          <p:cNvPicPr/>
          <p:nvPr/>
        </p:nvPicPr>
        <p:blipFill>
          <a:blip r:embed="rId2"/>
          <a:stretch/>
        </p:blipFill>
        <p:spPr>
          <a:xfrm>
            <a:off x="6072120" y="1895400"/>
            <a:ext cx="2381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243120" y="28447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Dammam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ular Callout 10"/>
          <p:cNvSpPr/>
          <p:nvPr/>
        </p:nvSpPr>
        <p:spPr>
          <a:xfrm>
            <a:off x="6143760" y="2571840"/>
            <a:ext cx="2786040" cy="2571840"/>
          </a:xfrm>
          <a:prstGeom prst="wedgeRectCallout">
            <a:avLst>
              <a:gd name="adj1" fmla="val -68240"/>
              <a:gd name="adj2" fmla="val 42472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6230520" y="35002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Qassim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01800" y="400068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Mecca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295320" y="4643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ular Callout 4"/>
          <p:cNvSpPr/>
          <p:nvPr/>
        </p:nvSpPr>
        <p:spPr>
          <a:xfrm>
            <a:off x="6143760" y="2571840"/>
            <a:ext cx="2786040" cy="2143080"/>
          </a:xfrm>
          <a:prstGeom prst="wedgeRectCallout">
            <a:avLst>
              <a:gd name="adj1" fmla="val -72800"/>
              <a:gd name="adj2" fmla="val 39212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441120" y="31431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Fahd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6337440" y="37861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Abdullah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ular Callout 4"/>
          <p:cNvSpPr/>
          <p:nvPr/>
        </p:nvSpPr>
        <p:spPr>
          <a:xfrm>
            <a:off x="6143760" y="2571840"/>
            <a:ext cx="2786040" cy="2143080"/>
          </a:xfrm>
          <a:prstGeom prst="wedgeRectCallout">
            <a:avLst>
              <a:gd name="adj1" fmla="val -74620"/>
              <a:gd name="adj2" fmla="val -878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6441120" y="31431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Fahd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6337440" y="37861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Abdullah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ular Callout 4"/>
          <p:cNvSpPr/>
          <p:nvPr/>
        </p:nvSpPr>
        <p:spPr>
          <a:xfrm>
            <a:off x="6143760" y="2571840"/>
            <a:ext cx="2786040" cy="2571840"/>
          </a:xfrm>
          <a:prstGeom prst="wedgeRectCallout">
            <a:avLst>
              <a:gd name="adj1" fmla="val -113824"/>
              <a:gd name="adj2" fmla="val -55305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346800" y="264312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of 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356880" y="3500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hasusi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6509520" y="42861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aya Str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TOSHIBA</cp:lastModifiedBy>
  <dcterms:modified xsi:type="dcterms:W3CDTF">2016-02-23T20:41:29Z</dcterms:modified>
  <cp:revision>93</cp:revision>
  <dc:subject/>
  <dc:title>CHAPTER 16</dc:title>
</cp:coreProperties>
</file>