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wmf" ContentType="image/x-wm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6515-E591-4BED-82AB-5DC0A56A51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4BD3-42E0-43EC-9DF2-B5C8AB139D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E9F2-4919-4EB7-9A3C-BD18506DF9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457-5941-419E-8644-F13F6384F9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2DE-E94B-4C24-A7ED-E23E0BFE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76D-6CF2-4C39-9D0D-A9B5C642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449-0086-4574-AEFB-53864DAB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B20-81F9-48C6-97BD-5E7BFDFE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B92-D32A-41FA-ACF2-A8C13AA9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10A-C8C9-47D9-BED4-5391DF0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CC8-1924-4359-8143-B842CBB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904-C53A-47FD-8677-5B9D5C8C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9D3-F331-4070-8247-C9B01BF1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DDD-1A0F-4AF7-90BB-F5540A4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803-E2F2-412C-AC1C-497888A9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0CC-4848-4E74-8C85-BC4145A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3DC3-D1A4-42E2-966D-FA5B976775A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9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78920" y="1052280"/>
            <a:ext cx="8713800" cy="5398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سليم الواجبات يكون في الموعد المحدد وداخل المحاضرة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خبرة الميدانية : عبارة  زيارة ميدانية لإحدى المدار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( الأولى للمشاهدة , والثانية للمشاركة في شرح إحدى مفردات المقرر ,وإعداد تقرير حول الزيارة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1738-4C4E-4A48-8520-F4005F8298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E2C4-4A04-40FF-8D9E-1134BD06B6C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79160" y="1983960"/>
            <a:ext cx="7294680" cy="34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سيرة الذاتية للطال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قرير الزيارة الميدان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خطة درس لفرع من فروع العلوم الشرع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سخة الواجبات المطلو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رض التقديمي الخاص بالدروس المصغ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لف الانجاز : يتضم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C:\Users\hp\Pictures\gi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1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8"/>
          <p:cNvSpPr/>
          <p:nvPr/>
        </p:nvSpPr>
        <p:spPr>
          <a:xfrm>
            <a:off x="1476360" y="2398680"/>
            <a:ext cx="676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وصيف 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نهج ) طرق تدريس العلوم الشر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71640" y="1628640"/>
          <a:ext cx="6769080" cy="3967200"/>
        </p:xfrm>
        <a:graphic>
          <a:graphicData uri="http://schemas.openxmlformats.org/drawingml/2006/table">
            <a:tbl>
              <a:tblPr/>
              <a:tblGrid>
                <a:gridCol w="1805040"/>
                <a:gridCol w="1806480"/>
                <a:gridCol w="1805040"/>
                <a:gridCol w="135252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م المقر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588680" y="30744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364680" y="810720"/>
            <a:ext cx="103212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971640" y="2421000"/>
          <a:ext cx="7632720" cy="3160800"/>
        </p:xfrm>
        <a:graphic>
          <a:graphicData uri="http://schemas.openxmlformats.org/drawingml/2006/table">
            <a:tbl>
              <a:tblPr/>
              <a:tblGrid>
                <a:gridCol w="4851360"/>
                <a:gridCol w="2781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نهج 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رقم ورمز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طرق تدريس العلوم الشرع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اسم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وحدتا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عدد وحدات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619280" cy="134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68360" y="1916280"/>
          <a:ext cx="8136000" cy="4464000"/>
        </p:xfrm>
        <a:graphic>
          <a:graphicData uri="http://schemas.openxmlformats.org/drawingml/2006/table">
            <a:tbl>
              <a:tblPr/>
              <a:tblGrid>
                <a:gridCol w="5514840"/>
                <a:gridCol w="2621160"/>
              </a:tblGrid>
              <a:tr h="634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أمل العصيم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ستاذ المقر 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osimi.c@ksu.edu.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                     الايم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بنى رقم (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,, الدور الثاني ,,   مكتب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رقم المك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حد 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ربعاء 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-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ساعات المكتب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981000"/>
          <a:ext cx="8353440" cy="6330960"/>
        </p:xfrm>
        <a:graphic>
          <a:graphicData uri="http://schemas.openxmlformats.org/drawingml/2006/table">
            <a:tbl>
              <a:tblPr/>
              <a:tblGrid>
                <a:gridCol w="4944960"/>
                <a:gridCol w="3408480"/>
              </a:tblGrid>
              <a:tr h="73119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ناول المقرر توضيح ما يلي : أنواع المناهج وتطور مفاهيمها , أهم عناصرها , العوامل المؤثرة فيها , خصائص النمو عند المتعلمين وعلاقتها بعناصر المنهج الحديث, الأهدا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مصادرها- أهميتها -أهم تعاريفها - مستوياتها -شروط صياغتها 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ما يتناول المقرر التقويم ( أنواعه - وظائفه - خطواته - خصائصه 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تعريف ووصف المقرر (محتويات مختصرة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5" descr="avatar47093_8"/>
          <p:cNvPicPr/>
          <p:nvPr/>
        </p:nvPicPr>
        <p:blipFill>
          <a:blip r:embed="rId1"/>
          <a:stretch/>
        </p:blipFill>
        <p:spPr>
          <a:xfrm>
            <a:off x="6156360" y="458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26920" y="692280"/>
          <a:ext cx="7848720" cy="5653080"/>
        </p:xfrm>
        <a:graphic>
          <a:graphicData uri="http://schemas.openxmlformats.org/drawingml/2006/table">
            <a:tbl>
              <a:tblPr/>
              <a:tblGrid>
                <a:gridCol w="4646880"/>
                <a:gridCol w="3201840"/>
              </a:tblGrid>
              <a:tr h="6307560">
                <a:tc>
                  <a:txBody>
                    <a:bodyPr lIns="67680" rIns="67680" tIns="0" bIns="0" anchor="t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عرف على الجانب التربوي المشرق للدين الإسلامي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درب على توظيف استراتيجيات التدريس الحديثة في تدريس مقررات العلوم الشرعية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تخطيط مناهج العلوم الشرعية وفقاُ لنموذج الانكيت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صياغة الأهداف السلوكية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تدريس مقررات العلوم الشرعية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مهارات التقويم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أهداف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المرجع المعتم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في التدريس " التربية الإسلامية " لمرحلة التعليم الأساسي , د. ماجد زكي الجلا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006640" y="1368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توزيع الدرجات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293400" y="5635440"/>
            <a:ext cx="1031760" cy="928440"/>
          </a:xfrm>
          <a:prstGeom prst="rect">
            <a:avLst/>
          </a:prstGeom>
          <a:ln w="0">
            <a:noFill/>
          </a:ln>
        </p:spPr>
      </p:pic>
      <p:pic>
        <p:nvPicPr>
          <p:cNvPr id="74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157040" y="5882760"/>
            <a:ext cx="103176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466560" y="836640"/>
          <a:ext cx="8209080" cy="4576680"/>
        </p:xfrm>
        <a:graphic>
          <a:graphicData uri="http://schemas.openxmlformats.org/drawingml/2006/table">
            <a:tbl>
              <a:tblPr/>
              <a:tblGrid>
                <a:gridCol w="1895760"/>
                <a:gridCol w="1888920"/>
                <a:gridCol w="3710160"/>
                <a:gridCol w="714240"/>
              </a:tblGrid>
              <a:tr h="87660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درجة المستحق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أسبوع المستح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طبيعة مهمة 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رقم 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حضور والمشا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23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واجبات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رقة عمل عن توظيف استراتيجيات التدريس الحديثة في تدريس العلوم الشرع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خطيط وحدة وتخطيط درس وفق نموذج الانكي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ختبار منتصف الفص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خبرة الميدان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تدريس المصغ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ملف الانجا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لم يحدد بع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اختبار النها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52"/>
          <p:cNvSpPr/>
          <p:nvPr/>
        </p:nvSpPr>
        <p:spPr>
          <a:xfrm>
            <a:off x="0" y="-633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920" y="1052280"/>
            <a:ext cx="8642160" cy="5398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تأخر المتكرر عن المحاضرة , يحتسب غياب للطالب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جميع أوراق الواجبات والمتطلبات الخاصة بالمقرر يجب أن تقدم مطبوعة على ورق أبيض , ويكون حجم الخط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فحة الغلاف يجب أن تشتمل على البيانات التالية : اسم الطالبة - اسم المقرر ورمزه ورقم الشعبة - يوم ووقت المحاضرة – عنوان المتطلب , اسم أستاذة المقر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D2EC-7E98-4186-B3BE-1ECF969AB5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09-15T14:31:38Z</dcterms:modified>
  <cp:revision>62</cp:revision>
  <dc:subject/>
  <dc:title>الانكيت </dc:title>
</cp:coreProperties>
</file>