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7.gif" ContentType="image/gif"/>
  <Override PartName="/ppt/media/image8.wmf" ContentType="image/x-wmf"/>
  <Override PartName="/ppt/media/image10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514D-92DA-4246-BADA-49538AF7D3A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9651-DE16-43D6-B69A-F039D1F189C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8A54-04DF-4200-8EE2-239E98F424B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FDAD-6F63-4D75-91C5-9B73BD40515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59FE-0439-446D-950B-5C594BE18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BC67-E7ED-4392-BB95-F36EC589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BEBA-CC7E-467B-88A6-153FC6ED9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B191-D937-4892-9141-A75C6EE0B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D9CA-2DD2-4C75-ADAC-54A3CF65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554F-7E06-4866-86DF-25E6E45E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12F5-F780-4B42-A208-27E63505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E18D-8012-4BDD-8955-87080543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8DDB-A51D-4D0C-8D63-0D3E002C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85EC-33F2-458B-B6C4-8B10A73B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AE2B-DAF5-4331-A367-84F1A7E7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2CD1-EDA2-4D64-96BF-3FCA879C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C283-7F46-4875-93C8-CF5AAFCAC052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VSXBB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9" name="الفاتحة.wav" descr=""/>
          <p:cNvPicPr/>
          <p:nvPr/>
        </p:nvPicPr>
        <p:blipFill>
          <a:blip r:embed="rId2"/>
          <a:stretch/>
        </p:blipFill>
        <p:spPr>
          <a:xfrm>
            <a:off x="152280" y="670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208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78920" y="1052280"/>
            <a:ext cx="8713800" cy="539892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تسليم الواجبات يكون في الموعد المحدد وداخل المحاضرة فقط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خبرة الميدانية : عبارة  زيارة ميدانية لإحدى المدارس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( الأولى للمشاهدة , والثانية للمشاركة في شرح إحدى مفردات المقرر ,وإعداد تقرير حول الزيارة 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B037-D6F2-4ED8-8154-B01F4AD2335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755640" y="260280"/>
            <a:ext cx="7704000" cy="642600"/>
          </a:xfrm>
          <a:prstGeom prst="rect">
            <a:avLst/>
          </a:prstGeom>
          <a:solidFill>
            <a:srgbClr val="ccff33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0000"/>
                </a:solidFill>
                <a:uFillTx/>
                <a:latin typeface="Arial"/>
              </a:rPr>
              <a:t>ملاحظات هامة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CF0A-2DDE-43F4-B86C-3AD350F2A2E3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379160" y="1983960"/>
            <a:ext cx="7294680" cy="340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9c7e9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ff330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سيرة الذاتية للطالب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تقرير الزيارة الميدان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خطة درس لفرع من فروع العلوم الشرعي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نسخة الواجبات المطلوب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عرض التقديمي الخاص بالدروس المصغر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ملف الانجاز : يتضمن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9" descr="C:\Users\hp\Pictures\gif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مستطيل 4"/>
          <p:cNvGrpSpPr/>
          <p:nvPr/>
        </p:nvGrpSpPr>
        <p:grpSpPr>
          <a:xfrm>
            <a:off x="49320" y="274680"/>
            <a:ext cx="2481120" cy="3479760"/>
            <a:chOff x="49320" y="274680"/>
            <a:chExt cx="2481120" cy="3479760"/>
          </a:xfrm>
        </p:grpSpPr>
        <p:pic>
          <p:nvPicPr>
            <p:cNvPr id="51" name="مستطيل 4" descr=""/>
            <p:cNvPicPr/>
            <p:nvPr/>
          </p:nvPicPr>
          <p:blipFill>
            <a:blip r:embed="rId1"/>
            <a:stretch/>
          </p:blipFill>
          <p:spPr>
            <a:xfrm>
              <a:off x="49320" y="274680"/>
              <a:ext cx="2481120" cy="34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79280" y="404640"/>
              <a:ext cx="2214720" cy="32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صورة 3" descr="ش.jpg"/>
          <p:cNvPicPr/>
          <p:nvPr/>
        </p:nvPicPr>
        <p:blipFill>
          <a:blip r:embed="rId2"/>
          <a:stretch/>
        </p:blipFill>
        <p:spPr>
          <a:xfrm>
            <a:off x="1278000" y="774720"/>
            <a:ext cx="3511440" cy="319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4" name="صورة 2" descr="ش.jpg"/>
          <p:cNvPicPr/>
          <p:nvPr/>
        </p:nvPicPr>
        <p:blipFill>
          <a:blip r:embed="rId3"/>
          <a:stretch/>
        </p:blipFill>
        <p:spPr>
          <a:xfrm>
            <a:off x="2556000" y="3527280"/>
            <a:ext cx="5616360" cy="319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5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4"/>
          <a:stretch/>
        </p:blipFill>
        <p:spPr>
          <a:xfrm>
            <a:off x="7000920" y="285840"/>
            <a:ext cx="1619280" cy="1557360"/>
          </a:xfrm>
          <a:prstGeom prst="rect">
            <a:avLst/>
          </a:prstGeom>
          <a:ln w="0">
            <a:noFill/>
          </a:ln>
        </p:spPr>
      </p:pic>
      <p:sp>
        <p:nvSpPr>
          <p:cNvPr id="57" name="مستطيل 8"/>
          <p:cNvSpPr/>
          <p:nvPr/>
        </p:nvSpPr>
        <p:spPr>
          <a:xfrm>
            <a:off x="1476360" y="2398680"/>
            <a:ext cx="6767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توصيف مقرر</a:t>
            </a:r>
            <a:r>
              <a:rPr b="1" lang="en-US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: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 ( 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340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 نهج ) طرق تدريس العلوم الشرع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الفصل الدراسي الأول   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5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\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6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ه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971640" y="1628640"/>
          <a:ext cx="6769080" cy="3967200"/>
        </p:xfrm>
        <a:graphic>
          <a:graphicData uri="http://schemas.openxmlformats.org/drawingml/2006/table">
            <a:tbl>
              <a:tblPr/>
              <a:tblGrid>
                <a:gridCol w="1805040"/>
                <a:gridCol w="1806480"/>
                <a:gridCol w="1805040"/>
                <a:gridCol w="1352520"/>
              </a:tblGrid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7980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سم المقر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صورة 735" descr="get-5-2007-pouh4z2v.gif"/>
          <p:cNvPicPr/>
          <p:nvPr/>
        </p:nvPicPr>
        <p:blipFill>
          <a:blip r:embed="rId1"/>
          <a:stretch/>
        </p:blipFill>
        <p:spPr>
          <a:xfrm rot="325200">
            <a:off x="1588680" y="307440"/>
            <a:ext cx="1031760" cy="928800"/>
          </a:xfrm>
          <a:prstGeom prst="rect">
            <a:avLst/>
          </a:prstGeom>
          <a:ln w="0">
            <a:noFill/>
          </a:ln>
        </p:spPr>
      </p:pic>
      <p:pic>
        <p:nvPicPr>
          <p:cNvPr id="60" name="صورة 735" descr="get-5-2007-pouh4z2v.gif"/>
          <p:cNvPicPr/>
          <p:nvPr/>
        </p:nvPicPr>
        <p:blipFill>
          <a:blip r:embed="rId2"/>
          <a:stretch/>
        </p:blipFill>
        <p:spPr>
          <a:xfrm rot="325200">
            <a:off x="364680" y="810720"/>
            <a:ext cx="1032120" cy="92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971640" y="2421000"/>
          <a:ext cx="7632720" cy="3160800"/>
        </p:xfrm>
        <a:graphic>
          <a:graphicData uri="http://schemas.openxmlformats.org/drawingml/2006/table">
            <a:tbl>
              <a:tblPr/>
              <a:tblGrid>
                <a:gridCol w="4851360"/>
                <a:gridCol w="27813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نهج </a:t>
                      </a:r>
                      <a:r>
                        <a:rPr b="1" lang="ar-SA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3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رقم ورمز المقرر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طرق تدريس العلوم الشرعي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اسم المقرر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وحدتان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عدد وحدات المقر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7000920" y="285840"/>
            <a:ext cx="1619280" cy="134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68360" y="1916280"/>
          <a:ext cx="8136000" cy="4464000"/>
        </p:xfrm>
        <a:graphic>
          <a:graphicData uri="http://schemas.openxmlformats.org/drawingml/2006/table">
            <a:tbl>
              <a:tblPr/>
              <a:tblGrid>
                <a:gridCol w="5514840"/>
                <a:gridCol w="2621160"/>
              </a:tblGrid>
              <a:tr h="63468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cs typeface="Times New Roman"/>
                        </a:rPr>
                        <a:t>أمل العصيم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cs typeface="Times New Roman"/>
                        </a:rPr>
                        <a:t>استاذ المقر ر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781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osimi.c@ksu.edu.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                       الايميل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256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Times New Roman"/>
                          <a:cs typeface="Times New Roman"/>
                        </a:rPr>
                        <a:t>مبنى رقم (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) ,, الدور الثاني ,,   مكتب 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cs typeface="Times New Roman"/>
                        </a:rPr>
                        <a:t>رقم المكتب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256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cs typeface="Times New Roman"/>
                        </a:rPr>
                        <a:t>الاحد  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 – 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cs typeface="Times New Roman"/>
                        </a:rPr>
                        <a:t>الاربعاء  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  -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cs typeface="Times New Roman"/>
                        </a:rPr>
                        <a:t>الساعات المكتبي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250920" y="981000"/>
          <a:ext cx="8353440" cy="6330960"/>
        </p:xfrm>
        <a:graphic>
          <a:graphicData uri="http://schemas.openxmlformats.org/drawingml/2006/table">
            <a:tbl>
              <a:tblPr/>
              <a:tblGrid>
                <a:gridCol w="4944960"/>
                <a:gridCol w="3408480"/>
              </a:tblGrid>
              <a:tr h="731196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ناول المقرر توضيح ما يلي : أنواع المناهج وتطور مفاهيمها , أهم عناصرها , العوامل المؤثرة فيها , خصائص النمو عند المتعلمين وعلاقتها بعناصر المنهج الحديث, الأهدا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مصادرها- أهميتها -أهم تعاريفها - مستوياتها -شروط صياغتها )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كما يتناول المقرر التقويم ( أنواعه - وظائفه - خطواته - خصائصه )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Times New Roman"/>
                        </a:rPr>
                        <a:t>تعريف ووصف المقرر (محتويات مختصرة 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5" name="Picture 5" descr="avatar47093_8"/>
          <p:cNvPicPr/>
          <p:nvPr/>
        </p:nvPicPr>
        <p:blipFill>
          <a:blip r:embed="rId1"/>
          <a:stretch/>
        </p:blipFill>
        <p:spPr>
          <a:xfrm>
            <a:off x="6156360" y="4581360"/>
            <a:ext cx="2736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826920" y="692280"/>
          <a:ext cx="7848720" cy="5653080"/>
        </p:xfrm>
        <a:graphic>
          <a:graphicData uri="http://schemas.openxmlformats.org/drawingml/2006/table">
            <a:tbl>
              <a:tblPr/>
              <a:tblGrid>
                <a:gridCol w="4646880"/>
                <a:gridCol w="3201840"/>
              </a:tblGrid>
              <a:tr h="6307560">
                <a:tc>
                  <a:txBody>
                    <a:bodyPr lIns="67680" rIns="67680" tIns="0" bIns="0" anchor="t">
                      <a:noAutofit/>
                    </a:bodyPr>
                    <a:p>
                      <a:pPr marL="343080" indent="-343080" algn="ctr" rtl="1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تعرف على الجانب التربوي المشرق للدين الإسلامي 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 rtl="1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التدرب على توظيف استراتيجيات التدريس الحديثة في تدريس مقررات العلوم الشرعية 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 rtl="1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تدريب الطالبات على تخطيط مناهج العلوم الشرعية وفقاُ لنموذج الانكيت 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 rtl="1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تدريب الطالبات على صياغة الأهداف السلوكية 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 rtl="1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تدريب الطالبات على تدريس مقررات العلوم الشرعية 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تدريب الطالبات على مهارات التقويم 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Times New Roman"/>
                        </a:rPr>
                        <a:t>أهداف المقر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Object 1028"/>
          <p:cNvGraphicFramePr/>
          <p:nvPr/>
        </p:nvGraphicFramePr>
        <p:xfrm>
          <a:off x="5791320" y="5035680"/>
          <a:ext cx="2830320" cy="15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5035680"/>
                    <a:ext cx="2830320" cy="15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المرجع المعتم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المرجع في التدريس " التربية الإسلامية " لمرحلة التعليم الأساسي , د. ماجد زكي الجلا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G:\2UDNCA131I5ACAANPNRDCA92NRXXCAA4UK7GCA855N2PCA27TRP1CANH925SCAOUQX7KCA8OLLABCAJ1WCNXCARXM0YICAVJM7LCCA7U8829CA250F38CAN3G74NCARSTEGLCAZPM8IUCABDH9SKCA0HL8IU.jpg"/>
          <p:cNvPicPr/>
          <p:nvPr/>
        </p:nvPicPr>
        <p:blipFill>
          <a:blip r:embed="rId1"/>
          <a:stretch/>
        </p:blipFill>
        <p:spPr>
          <a:xfrm>
            <a:off x="357120" y="4005360"/>
            <a:ext cx="421488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2006640" y="13680"/>
            <a:ext cx="513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توزيع الدرجات 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صورة 735" descr="get-5-2007-pouh4z2v.gif"/>
          <p:cNvPicPr/>
          <p:nvPr/>
        </p:nvPicPr>
        <p:blipFill>
          <a:blip r:embed="rId1"/>
          <a:stretch/>
        </p:blipFill>
        <p:spPr>
          <a:xfrm rot="325200">
            <a:off x="293400" y="5635440"/>
            <a:ext cx="1031760" cy="928440"/>
          </a:xfrm>
          <a:prstGeom prst="rect">
            <a:avLst/>
          </a:prstGeom>
          <a:ln w="0">
            <a:noFill/>
          </a:ln>
        </p:spPr>
      </p:pic>
      <p:pic>
        <p:nvPicPr>
          <p:cNvPr id="74" name="صورة 735" descr="get-5-2007-pouh4z2v.gif"/>
          <p:cNvPicPr/>
          <p:nvPr/>
        </p:nvPicPr>
        <p:blipFill>
          <a:blip r:embed="rId2"/>
          <a:stretch/>
        </p:blipFill>
        <p:spPr>
          <a:xfrm rot="325200">
            <a:off x="1157040" y="5882760"/>
            <a:ext cx="1031760" cy="92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" name=""/>
          <p:cNvGraphicFramePr/>
          <p:nvPr/>
        </p:nvGraphicFramePr>
        <p:xfrm>
          <a:off x="466560" y="836640"/>
          <a:ext cx="8209080" cy="4576680"/>
        </p:xfrm>
        <a:graphic>
          <a:graphicData uri="http://schemas.openxmlformats.org/drawingml/2006/table">
            <a:tbl>
              <a:tblPr/>
              <a:tblGrid>
                <a:gridCol w="1895760"/>
                <a:gridCol w="1888920"/>
                <a:gridCol w="3710160"/>
                <a:gridCol w="714240"/>
              </a:tblGrid>
              <a:tr h="876600"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Calibri"/>
                        </a:rPr>
                        <a:t>الدرجة المستحق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Calibri"/>
                        </a:rPr>
                        <a:t>الأسبوع المستح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Calibri"/>
                        </a:rPr>
                        <a:t>طبيعة مهمة التقيي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Calibri"/>
                        </a:rPr>
                        <a:t>رقم التقيي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marL="343080" indent="-343080" algn="ctr" rtl="1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Calibri"/>
                        </a:rPr>
                        <a:t>الحضور والمشارك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42320"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Calibri"/>
                        </a:rPr>
                        <a:t>الواجبات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ورقة عمل عن توظيف استراتيجيات التدريس الحديثة في تدريس العلوم الشرعي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تخطيط وحدة وتخطيط درس وفق نموذج الانكي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Calibri"/>
                        </a:rPr>
                        <a:t>اختبار منتصف الفص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Calibri"/>
                        </a:rPr>
                        <a:t>الخبرة الميداني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- 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Calibri"/>
                        </a:rPr>
                        <a:t>التدريس المصغ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Calibri"/>
                        </a:rPr>
                        <a:t>ملف الانجا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Calibri"/>
                        </a:rPr>
                        <a:t>لم يحدد بع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Calibri"/>
                        </a:rPr>
                        <a:t>الاختبار النهائ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Rectangle 52"/>
          <p:cNvSpPr/>
          <p:nvPr/>
        </p:nvSpPr>
        <p:spPr>
          <a:xfrm>
            <a:off x="0" y="-63360"/>
            <a:ext cx="18432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50920" y="1052280"/>
            <a:ext cx="8642160" cy="539892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تأخر المتكرر عن المحاضرة , يحتسب غياب للطالب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جميع أوراق الواجبات والمتطلبات الخاصة بالمقرر يجب أن تقدم مطبوعة على ورق أبيض , ويكون حجم الخط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صفحة الغلاف يجب أن تشتمل على البيانات التالية : اسم الطالبة - اسم المقرر ورمزه ورقم الشعبة - يوم ووقت المحاضرة – عنوان المتطلب , اسم أستاذة المقرر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3234-20C3-4D74-9CA0-E311117CEAA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755640" y="260280"/>
            <a:ext cx="7704000" cy="642600"/>
          </a:xfrm>
          <a:prstGeom prst="rect">
            <a:avLst/>
          </a:prstGeom>
          <a:solidFill>
            <a:srgbClr val="ccff33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0000"/>
                </a:solidFill>
                <a:uFillTx/>
                <a:latin typeface="Arial"/>
              </a:rPr>
              <a:t>ملاحظات هامة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0T15:06:08Z</dcterms:created>
  <dc:creator>t com mahmd</dc:creator>
  <dc:description/>
  <dc:language>en-US</dc:language>
  <cp:lastModifiedBy>dell</cp:lastModifiedBy>
  <dcterms:modified xsi:type="dcterms:W3CDTF">2014-09-15T14:31:38Z</dcterms:modified>
  <cp:revision>62</cp:revision>
  <dc:subject/>
  <dc:title>الانكيت </dc:title>
</cp:coreProperties>
</file>