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gif" ContentType="image/gif"/>
  <Override PartName="/ppt/media/image7.wmf" ContentType="image/x-wmf"/>
  <Override PartName="/ppt/media/image5.jpeg" ContentType="image/jpeg"/>
  <Override PartName="/ppt/media/image6.gif" ContentType="image/gif"/>
  <Override PartName="/ppt/media/image8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4F0C3-892E-4262-8142-5C9A1B645D5F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AC460-A2DA-4AD4-B940-6FB8C4B9B4F3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02B06-6683-4F63-8CFE-48FEDFAF8D9C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B0B80-0E05-44D0-92EC-EB8AABCCE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03165-5A86-4DAC-A1EE-CB3D74E96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C9DA0-BE86-44B7-9F5D-2C7F02275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A3227-A59D-4079-B127-BE961A95B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5CD8C-1365-4CCB-8B85-E449DB0DB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59516-03EA-4F8F-AFE9-085BB7443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789FB-DF1A-4E6D-97B8-99F29953F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09DC1-B69E-48CE-9A3E-2F5056DAB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E536A-7E6A-4E64-83D5-6E6B467D9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0F9B9-1A66-48B9-8980-C1743B461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47383-4A8A-4ABB-AC83-BB28A7216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0626D-A015-4893-96C9-EA2D522B6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rtl="1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50270-5F3F-4936-A031-B19A9DB0C2CF}" type="slidenum">
              <a:rPr b="0" lang="ar-SA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مستطيل 4"/>
          <p:cNvGrpSpPr/>
          <p:nvPr/>
        </p:nvGrpSpPr>
        <p:grpSpPr>
          <a:xfrm>
            <a:off x="49320" y="274680"/>
            <a:ext cx="2481120" cy="3479760"/>
            <a:chOff x="49320" y="274680"/>
            <a:chExt cx="2481120" cy="3479760"/>
          </a:xfrm>
        </p:grpSpPr>
        <p:pic>
          <p:nvPicPr>
            <p:cNvPr id="49" name="مستطيل 4" descr=""/>
            <p:cNvPicPr/>
            <p:nvPr/>
          </p:nvPicPr>
          <p:blipFill>
            <a:blip r:embed="rId1"/>
            <a:stretch/>
          </p:blipFill>
          <p:spPr>
            <a:xfrm>
              <a:off x="49320" y="274680"/>
              <a:ext cx="2481120" cy="347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179280" y="404640"/>
              <a:ext cx="2214720" cy="321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1" name="صورة 3" descr="ش.jpg"/>
          <p:cNvPicPr/>
          <p:nvPr/>
        </p:nvPicPr>
        <p:blipFill>
          <a:blip r:embed="rId2"/>
          <a:stretch/>
        </p:blipFill>
        <p:spPr>
          <a:xfrm>
            <a:off x="1278000" y="774720"/>
            <a:ext cx="3511440" cy="31906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2" name="صورة 2" descr="ش.jpg"/>
          <p:cNvPicPr/>
          <p:nvPr/>
        </p:nvPicPr>
        <p:blipFill>
          <a:blip r:embed="rId3"/>
          <a:stretch/>
        </p:blipFill>
        <p:spPr>
          <a:xfrm>
            <a:off x="2556000" y="3527280"/>
            <a:ext cx="5616360" cy="31910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53" name="عنوان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مستطيل 8"/>
          <p:cNvSpPr/>
          <p:nvPr/>
        </p:nvSpPr>
        <p:spPr>
          <a:xfrm>
            <a:off x="1476360" y="2398680"/>
            <a:ext cx="676764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 u="sng">
                <a:solidFill>
                  <a:srgbClr val="7030a0"/>
                </a:solidFill>
                <a:uFillTx/>
                <a:latin typeface="Agency FB"/>
                <a:cs typeface="Times New Roman"/>
              </a:rPr>
              <a:t>توصيف مقرر</a:t>
            </a:r>
            <a:r>
              <a:rPr b="1" lang="en-US" sz="4400" spc="-1" strike="noStrike" u="sng">
                <a:solidFill>
                  <a:srgbClr val="7030a0"/>
                </a:solidFill>
                <a:uFillTx/>
                <a:latin typeface="Agency FB"/>
                <a:ea typeface="Times New Roman"/>
              </a:rPr>
              <a:t>:</a:t>
            </a:r>
            <a:r>
              <a:rPr b="1" lang="ar-SA" sz="4400" spc="-1" strike="noStrike" u="sng">
                <a:solidFill>
                  <a:srgbClr val="7030a0"/>
                </a:solidFill>
                <a:uFillTx/>
                <a:latin typeface="Agency FB"/>
                <a:ea typeface="Times New Roman"/>
              </a:rPr>
              <a:t> (</a:t>
            </a:r>
            <a:r>
              <a:rPr b="1" lang="ar-SA" sz="4400" spc="-1" strike="noStrike" u="sng">
                <a:solidFill>
                  <a:srgbClr val="7030a0"/>
                </a:solidFill>
                <a:uFillTx/>
                <a:latin typeface="Agency FB"/>
                <a:ea typeface="Times New Roman"/>
              </a:rPr>
              <a:t>356</a:t>
            </a:r>
            <a:r>
              <a:rPr b="1" lang="ar-SA" sz="4400" spc="-1" strike="noStrike" u="sng">
                <a:solidFill>
                  <a:srgbClr val="7030a0"/>
                </a:solidFill>
                <a:uFillTx/>
                <a:latin typeface="Agency FB"/>
                <a:cs typeface="Times New Roman"/>
              </a:rPr>
              <a:t>نهج 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 u="sng">
                <a:solidFill>
                  <a:srgbClr val="7030a0"/>
                </a:solidFill>
                <a:uFillTx/>
                <a:latin typeface="Agency FB"/>
                <a:cs typeface="Times New Roman"/>
              </a:rPr>
              <a:t>تعلم وتعليم العلوم الشرعية (</a:t>
            </a:r>
            <a:r>
              <a:rPr b="1" lang="ar-SA" sz="4400" spc="-1" strike="noStrike" u="sng">
                <a:solidFill>
                  <a:srgbClr val="7030a0"/>
                </a:solidFill>
                <a:uFillTx/>
                <a:latin typeface="Agency FB"/>
                <a:ea typeface="Times New Roman"/>
              </a:rPr>
              <a:t>1</a:t>
            </a:r>
            <a:r>
              <a:rPr b="1" lang="ar-SA" sz="4400" spc="-1" strike="noStrike" u="sng">
                <a:solidFill>
                  <a:srgbClr val="7030a0"/>
                </a:solidFill>
                <a:uFillTx/>
                <a:latin typeface="Agency FB"/>
                <a:ea typeface="Times New Roman"/>
              </a:rPr>
              <a:t>)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 u="sng">
                <a:solidFill>
                  <a:srgbClr val="7030a0"/>
                </a:solidFill>
                <a:uFillTx/>
                <a:latin typeface="Agency FB"/>
                <a:cs typeface="Times New Roman"/>
              </a:rPr>
              <a:t>الفصل الدراسي الأول </a:t>
            </a:r>
            <a:r>
              <a:rPr b="1" lang="ar-SA" sz="4400" spc="-1" strike="noStrike" u="sng">
                <a:solidFill>
                  <a:srgbClr val="7030a0"/>
                </a:solidFill>
                <a:uFillTx/>
                <a:latin typeface="Agency FB"/>
                <a:ea typeface="Times New Roman"/>
              </a:rPr>
              <a:t>1438</a:t>
            </a:r>
            <a:r>
              <a:rPr b="1" lang="ar-SA" sz="4400" spc="-1" strike="noStrike" u="sng">
                <a:solidFill>
                  <a:srgbClr val="7030a0"/>
                </a:solidFill>
                <a:uFillTx/>
                <a:latin typeface="Agency FB"/>
                <a:ea typeface="Times New Roman"/>
              </a:rPr>
              <a:t>\</a:t>
            </a:r>
            <a:r>
              <a:rPr b="1" lang="ar-SA" sz="4400" spc="-1" strike="noStrike" u="sng">
                <a:solidFill>
                  <a:srgbClr val="7030a0"/>
                </a:solidFill>
                <a:uFillTx/>
                <a:latin typeface="Agency FB"/>
                <a:ea typeface="Times New Roman"/>
              </a:rPr>
              <a:t>1439</a:t>
            </a:r>
            <a:r>
              <a:rPr b="1" lang="ar-SA" sz="4400" spc="-1" strike="noStrike" u="sng">
                <a:solidFill>
                  <a:srgbClr val="7030a0"/>
                </a:solidFill>
                <a:uFillTx/>
                <a:latin typeface="Agency FB"/>
                <a:cs typeface="Times New Roman"/>
              </a:rPr>
              <a:t>ه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0" descr="C:\Users\dell\Pictures\ksulogo.png"/>
          <p:cNvPicPr/>
          <p:nvPr/>
        </p:nvPicPr>
        <p:blipFill>
          <a:blip r:embed="rId4"/>
          <a:stretch/>
        </p:blipFill>
        <p:spPr>
          <a:xfrm>
            <a:off x="5867280" y="260280"/>
            <a:ext cx="309744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250920" y="1052280"/>
            <a:ext cx="8642160" cy="5398920"/>
          </a:xfrm>
          <a:prstGeom prst="rect">
            <a:avLst/>
          </a:prstGeom>
          <a:solidFill>
            <a:srgbClr val="95b3d7"/>
          </a:solidFill>
          <a:ln w="57240">
            <a:solidFill>
              <a:srgbClr val="000000"/>
            </a:solidFill>
            <a:miter/>
          </a:ln>
        </p:spPr>
        <p:txBody>
          <a:bodyPr anchor="t">
            <a:normAutofit fontScale="92000"/>
          </a:bodyPr>
          <a:p>
            <a:pPr marL="315360" indent="-31536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</a:rPr>
              <a:t>التأخر المتكرر عن المحاضرة , يحتسب غياب للطالبة 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</a:rPr>
              <a:t>جميع أوراق الواجبات والمتطلبات الخاصة بالمقرر يجب أن تقدم مطبوعة على ورق أبيض , ويكون حجم الخط 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</a:rPr>
              <a:t>14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</a:rPr>
              <a:t>صفحة الغلاف يجب أن تشتمل على البيانات التالية : اسم الطالبة - اسم المقرر ورمزه ورقم الشعبة - يوم ووقت المحاضرة – عنوان المتطلب , اسم أستاذة المقرر 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</a:rPr>
              <a:t>تسليم الواجبات يكون في الموعد المحدد وداخل المحاضرة فقط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عنصر نائب للتذييل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عنصر نائب لرقم الشريحة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D7275-3B99-4D79-9B1E-23D9BF3E5AE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755640" y="260280"/>
            <a:ext cx="7704000" cy="642600"/>
          </a:xfrm>
          <a:prstGeom prst="rect">
            <a:avLst/>
          </a:prstGeom>
          <a:solidFill>
            <a:srgbClr val="95b3d7"/>
          </a:solidFill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ff0000"/>
                </a:solidFill>
                <a:uFillTx/>
                <a:latin typeface="Arial"/>
              </a:rPr>
              <a:t>ملاحظات هامة 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عنصر نائب لرقم الشريحة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AA766-A805-4024-8557-13A13CF48F07}" type="slidenum">
              <a:rPr b="0" lang="ar-SA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610920" y="1983960"/>
            <a:ext cx="8062920" cy="3403800"/>
          </a:xfrm>
          <a:prstGeom prst="rect">
            <a:avLst/>
          </a:prstGeom>
          <a:solidFill>
            <a:srgbClr val="95b3d7"/>
          </a:solidFill>
          <a:ln w="76320">
            <a:solidFill>
              <a:srgbClr val="ff3300"/>
            </a:solidFill>
            <a:miter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السيرة الذاتية للطالبة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نسخة الواجبات المطلوبة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العرض التقديمي الخاص بالتفكير الابداعي وبالدروس المصغرة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 rtl="1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611280" y="333000"/>
            <a:ext cx="8229600" cy="114300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000000"/>
                </a:solidFill>
                <a:uFillTx/>
                <a:latin typeface="Calibri"/>
              </a:rPr>
              <a:t>ملف الانجاز : يتضمن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 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971640" y="1628640"/>
          <a:ext cx="6769080" cy="3967200"/>
        </p:xfrm>
        <a:graphic>
          <a:graphicData uri="http://schemas.openxmlformats.org/drawingml/2006/table">
            <a:tbl>
              <a:tblPr/>
              <a:tblGrid>
                <a:gridCol w="1805040"/>
                <a:gridCol w="1806480"/>
                <a:gridCol w="1805040"/>
                <a:gridCol w="1352520"/>
              </a:tblGrid>
              <a:tr h="569880"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79800"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8760"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سم المقر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8760"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7" name="صورة 735" descr="get-5-2007-pouh4z2v.gif"/>
          <p:cNvPicPr/>
          <p:nvPr/>
        </p:nvPicPr>
        <p:blipFill>
          <a:blip r:embed="rId1"/>
          <a:stretch/>
        </p:blipFill>
        <p:spPr>
          <a:xfrm rot="325200">
            <a:off x="1588680" y="307440"/>
            <a:ext cx="1031760" cy="928800"/>
          </a:xfrm>
          <a:prstGeom prst="rect">
            <a:avLst/>
          </a:prstGeom>
          <a:ln w="0">
            <a:noFill/>
          </a:ln>
        </p:spPr>
      </p:pic>
      <p:pic>
        <p:nvPicPr>
          <p:cNvPr id="58" name="صورة 735" descr="get-5-2007-pouh4z2v.gif"/>
          <p:cNvPicPr/>
          <p:nvPr/>
        </p:nvPicPr>
        <p:blipFill>
          <a:blip r:embed="rId2"/>
          <a:stretch/>
        </p:blipFill>
        <p:spPr>
          <a:xfrm rot="325200">
            <a:off x="364680" y="810720"/>
            <a:ext cx="1032120" cy="928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9" name=""/>
          <p:cNvGraphicFramePr/>
          <p:nvPr/>
        </p:nvGraphicFramePr>
        <p:xfrm>
          <a:off x="971640" y="2421000"/>
          <a:ext cx="7632720" cy="3160800"/>
        </p:xfrm>
        <a:graphic>
          <a:graphicData uri="http://schemas.openxmlformats.org/drawingml/2006/table">
            <a:tbl>
              <a:tblPr/>
              <a:tblGrid>
                <a:gridCol w="4851360"/>
                <a:gridCol w="2781360"/>
              </a:tblGrid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32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نهج </a:t>
                      </a:r>
                      <a:r>
                        <a:rPr b="1" lang="ar-SA" sz="32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35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32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رقم ورمز المقرر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32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تعلم وتعليم العلوم الشرعية  (</a:t>
                      </a:r>
                      <a:r>
                        <a:rPr b="1" lang="ar-SA" sz="32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1</a:t>
                      </a:r>
                      <a:r>
                        <a:rPr b="1" lang="ar-SA" sz="32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32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اسم المقرر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32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وحدتان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32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عدد وحدات المقرر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5" descr=""/>
          <p:cNvPicPr/>
          <p:nvPr/>
        </p:nvPicPr>
        <p:blipFill>
          <a:blip r:embed="rId1"/>
          <a:stretch/>
        </p:blipFill>
        <p:spPr>
          <a:xfrm>
            <a:off x="7000920" y="285840"/>
            <a:ext cx="1619280" cy="1342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1" name=""/>
          <p:cNvGraphicFramePr/>
          <p:nvPr/>
        </p:nvGraphicFramePr>
        <p:xfrm>
          <a:off x="468360" y="1916280"/>
          <a:ext cx="8136000" cy="4464000"/>
        </p:xfrm>
        <a:graphic>
          <a:graphicData uri="http://schemas.openxmlformats.org/drawingml/2006/table">
            <a:tbl>
              <a:tblPr/>
              <a:tblGrid>
                <a:gridCol w="5514840"/>
                <a:gridCol w="2621160"/>
              </a:tblGrid>
              <a:tr h="634680"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ff0000"/>
                          </a:solidFill>
                          <a:latin typeface="Calibri"/>
                          <a:cs typeface="Times New Roman"/>
                        </a:rPr>
                        <a:t>أمل العصيمي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ff0000"/>
                          </a:solidFill>
                          <a:latin typeface="Calibri"/>
                          <a:cs typeface="Times New Roman"/>
                        </a:rPr>
                        <a:t>استاذ المقر ر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78120"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Aosimi.c@ksu.edu.s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                       الايميل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425600"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ff0000"/>
                          </a:solidFill>
                          <a:latin typeface="Times New Roman"/>
                          <a:cs typeface="Times New Roman"/>
                        </a:rPr>
                        <a:t>مبنى رقم (</a:t>
                      </a:r>
                      <a:r>
                        <a:rPr b="1" lang="ar-SA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ar-SA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) ,, الدور الثاني ,,   مكتب </a:t>
                      </a:r>
                      <a:r>
                        <a:rPr b="1" lang="ar-SA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6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ff0000"/>
                          </a:solidFill>
                          <a:latin typeface="Calibri"/>
                          <a:cs typeface="Times New Roman"/>
                        </a:rPr>
                        <a:t>رقم المكتب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425600"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ff0000"/>
                          </a:solidFill>
                          <a:latin typeface="Calibri"/>
                          <a:cs typeface="Times New Roman"/>
                        </a:rPr>
                        <a:t>الاثنين </a:t>
                      </a:r>
                      <a:r>
                        <a:rPr b="1" lang="ar-SA" sz="28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8</a:t>
                      </a:r>
                      <a:r>
                        <a:rPr b="1" lang="ar-SA" sz="28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- </a:t>
                      </a:r>
                      <a:r>
                        <a:rPr b="1" lang="ar-SA" sz="28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ff0000"/>
                          </a:solidFill>
                          <a:latin typeface="Calibri"/>
                          <a:cs typeface="Times New Roman"/>
                        </a:rPr>
                        <a:t>الاربعاء </a:t>
                      </a:r>
                      <a:r>
                        <a:rPr b="1" lang="ar-SA" sz="28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8</a:t>
                      </a:r>
                      <a:r>
                        <a:rPr b="1" lang="ar-SA" sz="28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-</a:t>
                      </a:r>
                      <a:r>
                        <a:rPr b="1" lang="ar-SA" sz="28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ff0000"/>
                          </a:solidFill>
                          <a:latin typeface="Calibri"/>
                          <a:cs typeface="Times New Roman"/>
                        </a:rPr>
                        <a:t>الساعات المكتبية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"/>
          <p:cNvGraphicFramePr/>
          <p:nvPr/>
        </p:nvGraphicFramePr>
        <p:xfrm>
          <a:off x="250920" y="981000"/>
          <a:ext cx="8353440" cy="5840640"/>
        </p:xfrm>
        <a:graphic>
          <a:graphicData uri="http://schemas.openxmlformats.org/drawingml/2006/table">
            <a:tbl>
              <a:tblPr/>
              <a:tblGrid>
                <a:gridCol w="4944960"/>
                <a:gridCol w="3408480"/>
              </a:tblGrid>
              <a:tr h="1462680"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3200" spc="-1" strike="noStrike">
                          <a:solidFill>
                            <a:srgbClr val="ff0000"/>
                          </a:solidFill>
                          <a:latin typeface="Times New Roman"/>
                          <a:cs typeface="Times New Roman"/>
                        </a:rPr>
                        <a:t>تعريف ووصف المقرر (محتويات مختصرة 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2200"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يتناول المقرر توضيح ما يلي : مهارات التدريس وخطوات اعداد وكتابة وتنفيذ الدروس وأساليب التقويم , استخدام الحاسب والانترنت في تحضير الدروس , ممارسة عمليات التدريس المصغر داخل القاعة الدراسية 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67680" rIns="67680" tIns="0" bIns="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3" name="Picture 5" descr="avatar47093_8"/>
          <p:cNvPicPr/>
          <p:nvPr/>
        </p:nvPicPr>
        <p:blipFill>
          <a:blip r:embed="rId1"/>
          <a:stretch/>
        </p:blipFill>
        <p:spPr>
          <a:xfrm>
            <a:off x="6156360" y="4581360"/>
            <a:ext cx="273672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395280" y="549360"/>
          <a:ext cx="8352000" cy="5940360"/>
        </p:xfrm>
        <a:graphic>
          <a:graphicData uri="http://schemas.openxmlformats.org/drawingml/2006/table">
            <a:tbl>
              <a:tblPr/>
              <a:tblGrid>
                <a:gridCol w="4944960"/>
                <a:gridCol w="3407040"/>
              </a:tblGrid>
              <a:tr h="8774280">
                <a:tc>
                  <a:txBody>
                    <a:bodyPr lIns="67680" rIns="67680" tIns="0" bIns="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3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</a:t>
                      </a:r>
                      <a:r>
                        <a:rPr b="1" lang="ar-SA" sz="3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.إدراك وظيفة الدين الإسلامي بالنسبة للفرد والمجتمع 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3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</a:t>
                      </a:r>
                      <a:r>
                        <a:rPr b="1" lang="ar-SA" sz="3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. تنمية قدرة الطلاب على تخطيط منهج العلوم الشرعية والتحضير له 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3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</a:t>
                      </a:r>
                      <a:r>
                        <a:rPr b="1" lang="ar-SA" sz="3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. تدريب الطلاب على تدريس فروع المواد الشرعية في المراحل الدراسية المختلفة في التعليم العام والخاص 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3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4</a:t>
                      </a:r>
                      <a:r>
                        <a:rPr b="1" lang="ar-SA" sz="3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. تدريب الطلاب على تخطيط الدروس بصورة جيدة 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3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5</a:t>
                      </a:r>
                      <a:r>
                        <a:rPr b="1" lang="ar-SA" sz="3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. تدريب الطلاب على كيفية صياغة الأهداف السلوكية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3600" spc="-1" strike="noStrike">
                          <a:solidFill>
                            <a:srgbClr val="ff0000"/>
                          </a:solidFill>
                          <a:latin typeface="Times New Roman"/>
                          <a:cs typeface="Times New Roman"/>
                        </a:rPr>
                        <a:t>أهداف المقرر :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5" name="Object 1028"/>
          <p:cNvGraphicFramePr/>
          <p:nvPr/>
        </p:nvGraphicFramePr>
        <p:xfrm>
          <a:off x="5791320" y="5035680"/>
          <a:ext cx="2830320" cy="159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Object 102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91320" y="5035680"/>
                    <a:ext cx="2830320" cy="159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24000" y="1599840"/>
            <a:ext cx="83628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 rtl="1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Calibri"/>
              </a:rPr>
              <a:t>المرجع المعتمد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Calibri"/>
              </a:rPr>
              <a:t>مدخل إلى المناهج وطرق التدريس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Calibri"/>
              </a:rPr>
              <a:t>د . حسن جعفر الخليفة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 rtl="1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2" descr="G:\2UDNCA131I5ACAANPNRDCA92NRXXCAA4UK7GCA855N2PCA27TRP1CANH925SCAOUQX7KCA8OLLABCAJ1WCNXCARXM0YICAVJM7LCCA7U8829CA250F38CAN3G74NCARSTEGLCAZPM8IUCABDH9SKCA0HL8IU.jpg"/>
          <p:cNvPicPr/>
          <p:nvPr/>
        </p:nvPicPr>
        <p:blipFill>
          <a:blip r:embed="rId1"/>
          <a:stretch/>
        </p:blipFill>
        <p:spPr>
          <a:xfrm>
            <a:off x="357120" y="4005360"/>
            <a:ext cx="4214880" cy="24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7000"/>
          </a:bodyPr>
          <a:p>
            <a:pPr marL="126720" indent="-126720" algn="r" rtl="1">
              <a:spcBef>
                <a:spcPts val="7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76092"/>
                </a:solidFill>
                <a:latin typeface="Calibri"/>
              </a:rPr>
              <a:t>التربية الإسلامية و أهميتها و بيان وظيفة الدين الإسلامي للفرد و المجتم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26720" indent="-126720" algn="r" rtl="1">
              <a:spcBef>
                <a:spcPts val="7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76092"/>
                </a:solidFill>
                <a:latin typeface="Calibri"/>
              </a:rPr>
              <a:t>الأهداف العامة و الخاصة في تدريس العلوم الشرعية بشكل عام و فروعها بشكل خا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26720" indent="-126720" algn="r" rtl="1">
              <a:spcBef>
                <a:spcPts val="7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76092"/>
                </a:solidFill>
                <a:latin typeface="Calibri"/>
              </a:rPr>
              <a:t>خصائص المتعلم في المرحلتين المتوسطة و الثانوية و التطرق لبعض نظريات التعلم و التعليم و صفات و خصائص المعلم الناجح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26720" indent="-126720" algn="r" rtl="1">
              <a:spcBef>
                <a:spcPts val="7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76092"/>
                </a:solidFill>
                <a:latin typeface="Calibri"/>
              </a:rPr>
              <a:t>التخطيط للدروس اليومية مع التركيز على أهمية الأهداف السلوكية و صياغتها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26720" indent="-126720" algn="r" rtl="1">
              <a:spcBef>
                <a:spcPts val="7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76092"/>
                </a:solidFill>
                <a:latin typeface="Calibri"/>
              </a:rPr>
              <a:t>عرض لأبرز طرق التدريس بشكل عام و العلوم الشرعية بشكل خاص مع التركيز على الإلقاء المحسن و المناقشة و أساليب الاستكشاف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26720" indent="-12672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26720" indent="-12672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26720" indent="-12672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مهارات الاتصال و التعامل و إدارة الصف و المعمل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26720" indent="-12672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26720" indent="-12672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26720" indent="-12672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دور الوسائل التعليمية و التقنية الحديثة في تعليم العلوم الشرعي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26720" indent="-12672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26720" indent="-12672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26720" indent="-12672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دور الأنشطة غير الصفية و الزيارات الميدانية في تعليم العلوم الشرعية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26720" indent="-12672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26720" indent="-12672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26720" indent="-12672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التقويم في تدريس العلوم الشرعية أهدافه و أساليبه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26720" indent="-12672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26720" indent="-12672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26720" indent="-12672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التدريس المصغر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26720" indent="-12672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26720" indent="-12672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26720" indent="-12672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التدريس المصغر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26720" indent="-12672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26720" indent="-12672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 algn="r" rtl="1">
              <a:lnSpc>
                <a:spcPct val="100000"/>
              </a:lnSpc>
              <a:spcBef>
                <a:spcPts val="799"/>
              </a:spcBef>
              <a:buClr>
                <a:srgbClr val="365f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65f91"/>
                </a:solidFill>
                <a:latin typeface="Times New Roman"/>
                <a:cs typeface="Times New Roman"/>
              </a:rPr>
              <a:t>كيفية مراعاة الفروق الفردية و تنمية مهارات التفكير الإبداعي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r" rtl="1">
              <a:lnSpc>
                <a:spcPct val="100000"/>
              </a:lnSpc>
              <a:spcBef>
                <a:spcPts val="799"/>
              </a:spcBef>
              <a:buClr>
                <a:srgbClr val="365f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65f91"/>
                </a:solidFill>
                <a:latin typeface="Times New Roman"/>
                <a:cs typeface="Times New Roman"/>
              </a:rPr>
              <a:t>مهارات الاتصال و التعامل و إدارة الصف و المعمل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r" rtl="1">
              <a:lnSpc>
                <a:spcPct val="100000"/>
              </a:lnSpc>
              <a:spcBef>
                <a:spcPts val="799"/>
              </a:spcBef>
              <a:buClr>
                <a:srgbClr val="365f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65f91"/>
                </a:solidFill>
                <a:latin typeface="Times New Roman"/>
                <a:cs typeface="Times New Roman"/>
              </a:rPr>
              <a:t>دور الوسائل التعليمية و التقنية الحديثة في تعليم العلوم الشرعي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r" rtl="1">
              <a:lnSpc>
                <a:spcPct val="100000"/>
              </a:lnSpc>
              <a:spcBef>
                <a:spcPts val="799"/>
              </a:spcBef>
              <a:buClr>
                <a:srgbClr val="365f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65f91"/>
                </a:solidFill>
                <a:latin typeface="Times New Roman"/>
                <a:cs typeface="Times New Roman"/>
              </a:rPr>
              <a:t>دور الأنشطة غير الصفية و الزيارات الميدانية في تعليم العلوم الشرعية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r" rtl="1">
              <a:lnSpc>
                <a:spcPct val="100000"/>
              </a:lnSpc>
              <a:spcBef>
                <a:spcPts val="799"/>
              </a:spcBef>
              <a:buClr>
                <a:srgbClr val="365f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65f91"/>
                </a:solidFill>
                <a:latin typeface="Times New Roman"/>
                <a:cs typeface="Times New Roman"/>
              </a:rPr>
              <a:t>دور الأنشطة غير الصفية و الزيارات الميدانية في تعليم العلوم الشرعية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r" rtl="1">
              <a:lnSpc>
                <a:spcPct val="100000"/>
              </a:lnSpc>
              <a:spcBef>
                <a:spcPts val="799"/>
              </a:spcBef>
              <a:buClr>
                <a:srgbClr val="365f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65f91"/>
                </a:solidFill>
                <a:latin typeface="Times New Roman"/>
                <a:cs typeface="Times New Roman"/>
              </a:rPr>
              <a:t>التقويم في تدريس العلوم الشرعية أهدافه و أساليبه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r" rtl="1">
              <a:lnSpc>
                <a:spcPct val="100000"/>
              </a:lnSpc>
              <a:spcBef>
                <a:spcPts val="799"/>
              </a:spcBef>
              <a:buClr>
                <a:srgbClr val="365f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65f91"/>
                </a:solidFill>
                <a:latin typeface="Times New Roman"/>
                <a:cs typeface="Times New Roman"/>
              </a:rPr>
              <a:t>التدريس المصغر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r" rtl="1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r" rtl="1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r" rtl="1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r" rtl="1">
              <a:lnSpc>
                <a:spcPct val="100000"/>
              </a:lnSpc>
              <a:spcBef>
                <a:spcPts val="22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r" rtl="1">
              <a:lnSpc>
                <a:spcPct val="10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r" rtl="1">
              <a:lnSpc>
                <a:spcPct val="10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1"/>
          <p:cNvSpPr/>
          <p:nvPr/>
        </p:nvSpPr>
        <p:spPr>
          <a:xfrm>
            <a:off x="2006640" y="13680"/>
            <a:ext cx="513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ff0000"/>
                </a:solidFill>
                <a:uFillTx/>
                <a:latin typeface="Arial"/>
                <a:cs typeface="Times New Roman"/>
              </a:rPr>
              <a:t>توزيع الدرجات </a:t>
            </a:r>
            <a:r>
              <a:rPr b="1" lang="ar-SA" sz="28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صورة 735" descr="get-5-2007-pouh4z2v.gif"/>
          <p:cNvPicPr/>
          <p:nvPr/>
        </p:nvPicPr>
        <p:blipFill>
          <a:blip r:embed="rId1"/>
          <a:stretch/>
        </p:blipFill>
        <p:spPr>
          <a:xfrm rot="325200">
            <a:off x="293400" y="5635440"/>
            <a:ext cx="1031760" cy="928440"/>
          </a:xfrm>
          <a:prstGeom prst="rect">
            <a:avLst/>
          </a:prstGeom>
          <a:ln w="0">
            <a:noFill/>
          </a:ln>
        </p:spPr>
      </p:pic>
      <p:pic>
        <p:nvPicPr>
          <p:cNvPr id="76" name="صورة 735" descr="get-5-2007-pouh4z2v.gif"/>
          <p:cNvPicPr/>
          <p:nvPr/>
        </p:nvPicPr>
        <p:blipFill>
          <a:blip r:embed="rId2"/>
          <a:stretch/>
        </p:blipFill>
        <p:spPr>
          <a:xfrm rot="325200">
            <a:off x="1157040" y="5882760"/>
            <a:ext cx="1031760" cy="92880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52"/>
          <p:cNvSpPr/>
          <p:nvPr/>
        </p:nvSpPr>
        <p:spPr>
          <a:xfrm>
            <a:off x="0" y="-63360"/>
            <a:ext cx="18432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684360" y="907920"/>
          <a:ext cx="7991280" cy="4408560"/>
        </p:xfrm>
        <a:graphic>
          <a:graphicData uri="http://schemas.openxmlformats.org/drawingml/2006/table">
            <a:tbl>
              <a:tblPr/>
              <a:tblGrid>
                <a:gridCol w="1231920"/>
                <a:gridCol w="1734840"/>
                <a:gridCol w="4284720"/>
                <a:gridCol w="739800"/>
              </a:tblGrid>
              <a:tr h="823320"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Times New Roman"/>
                          <a:cs typeface="Calibri"/>
                        </a:rPr>
                        <a:t>الدرجة المستحق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Times New Roman"/>
                          <a:cs typeface="Calibri"/>
                        </a:rPr>
                        <a:t>الأسبوع المستح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Times New Roman"/>
                          <a:cs typeface="Calibri"/>
                        </a:rPr>
                        <a:t>طبيعة مهمة التقيي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Times New Roman"/>
                          <a:cs typeface="Calibri"/>
                        </a:rPr>
                        <a:t>رقم التقيي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80080"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</a:t>
                      </a:r>
                      <a:r>
                        <a:rPr b="0" lang="ar-SA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- </a:t>
                      </a:r>
                      <a:r>
                        <a:rPr b="0" lang="ar-SA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Times New Roman"/>
                          <a:cs typeface="Calibri"/>
                        </a:rPr>
                        <a:t>الحضور والمشارك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12920"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Times New Roman"/>
                          <a:cs typeface="Calibri"/>
                        </a:rPr>
                        <a:t>الواجبات 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Times New Roman"/>
                        </a:rPr>
                        <a:t>صياغة أهداف إجرائية سلوكية لدرس من دروس العلوم الشرعية . ( ورقي 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Times New Roman"/>
                        </a:rPr>
                        <a:t>طرح مشكلة قد تواجهها المعلمة من الطالبات أثناء التدريس , واقتراح الحل المناسب لها وفق ما تمت دراسته في موضوع خصائص المتعلمين .( ورقي 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Times New Roman"/>
                        </a:rPr>
                        <a:t>أقتراح استراتيجيات تستخدمها المعلمة لتنمية التفكير الإبداعي لدى الطالبات . ( عرض تقديمي 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Times New Roman"/>
                          <a:cs typeface="Calibri"/>
                        </a:rPr>
                        <a:t>اختبار منتصف الفص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Times New Roman"/>
                          <a:cs typeface="Calibri"/>
                        </a:rPr>
                        <a:t>التدريس المصغ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Times New Roman"/>
                          <a:cs typeface="Calibri"/>
                        </a:rPr>
                        <a:t>ملف الانجا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Times New Roman"/>
                          <a:cs typeface="Calibri"/>
                        </a:rPr>
                        <a:t>لم يحدد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Times New Roman"/>
                          <a:cs typeface="Calibri"/>
                        </a:rPr>
                        <a:t>الاختبار النهائي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9" name="Rectangle 48"/>
          <p:cNvSpPr/>
          <p:nvPr/>
        </p:nvSpPr>
        <p:spPr>
          <a:xfrm>
            <a:off x="324000" y="125280"/>
            <a:ext cx="18396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30T15:06:08Z</dcterms:created>
  <dc:creator>t com mahmd</dc:creator>
  <dc:description/>
  <dc:language>en-US</dc:language>
  <cp:lastModifiedBy>dell</cp:lastModifiedBy>
  <dcterms:modified xsi:type="dcterms:W3CDTF">2017-09-12T08:20:03Z</dcterms:modified>
  <cp:revision>68</cp:revision>
  <dc:subject/>
  <dc:title>الانكيت </dc:title>
</cp:coreProperties>
</file>