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7.wmf" ContentType="image/x-wmf"/>
  <Override PartName="/ppt/media/image5.jpeg" ContentType="image/jpeg"/>
  <Override PartName="/ppt/media/image6.gif" ContentType="image/gif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3490-CA49-4AFB-ACA6-5844B006FBE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FC68-66D3-42E0-B7A4-B124ED6DD81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1E52-C334-4DAD-8BE5-789330FF814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2AE7-353D-4A29-BED5-4C9102651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44E3-062D-4869-B3AA-094A8714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BEF5-E474-4E61-90EB-094A4106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094E-F9FD-409F-9286-6AAD527C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1EA9-643B-4436-8BA7-0F5FE68F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EA24-114C-4C78-9DFB-67E12B47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0880-8DD8-492E-B3C6-1837D9A6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871A-A13A-4B9C-A23E-B5BE2E07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8209-3433-4AE1-9F6B-203D24D1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75B9-39CF-4F6E-9576-9FC45C75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22E7-1011-4E02-A6A4-AC211213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77FA-32A8-45BF-A9BF-47CCFCB8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12C2-B2F8-49B7-BCB9-03ECE31B4201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مستطيل 4"/>
          <p:cNvGrpSpPr/>
          <p:nvPr/>
        </p:nvGrpSpPr>
        <p:grpSpPr>
          <a:xfrm>
            <a:off x="49320" y="274680"/>
            <a:ext cx="2481120" cy="3479760"/>
            <a:chOff x="49320" y="274680"/>
            <a:chExt cx="2481120" cy="3479760"/>
          </a:xfrm>
        </p:grpSpPr>
        <p:pic>
          <p:nvPicPr>
            <p:cNvPr id="49" name="مستطيل 4" descr=""/>
            <p:cNvPicPr/>
            <p:nvPr/>
          </p:nvPicPr>
          <p:blipFill>
            <a:blip r:embed="rId1"/>
            <a:stretch/>
          </p:blipFill>
          <p:spPr>
            <a:xfrm>
              <a:off x="49320" y="274680"/>
              <a:ext cx="2481120" cy="34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79280" y="404640"/>
              <a:ext cx="2214720" cy="32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صورة 3" descr="ش.jpg"/>
          <p:cNvPicPr/>
          <p:nvPr/>
        </p:nvPicPr>
        <p:blipFill>
          <a:blip r:embed="rId2"/>
          <a:stretch/>
        </p:blipFill>
        <p:spPr>
          <a:xfrm>
            <a:off x="1278000" y="774720"/>
            <a:ext cx="351144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" name="صورة 2" descr="ش.jpg"/>
          <p:cNvPicPr/>
          <p:nvPr/>
        </p:nvPicPr>
        <p:blipFill>
          <a:blip r:embed="rId3"/>
          <a:stretch/>
        </p:blipFill>
        <p:spPr>
          <a:xfrm>
            <a:off x="2556000" y="3527280"/>
            <a:ext cx="5616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ستطيل 8"/>
          <p:cNvSpPr/>
          <p:nvPr/>
        </p:nvSpPr>
        <p:spPr>
          <a:xfrm>
            <a:off x="1476360" y="2398680"/>
            <a:ext cx="6767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توصيف مقرر</a:t>
            </a:r>
            <a:r>
              <a:rPr b="1" lang="en-US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: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356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نهج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تعلم وتعليم العلوم الشرعية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الفصل الدراسي الأول 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8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\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9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ه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C:\Users\dell\Pictures\ksulogo.png"/>
          <p:cNvPicPr/>
          <p:nvPr/>
        </p:nvPicPr>
        <p:blipFill>
          <a:blip r:embed="rId4"/>
          <a:stretch/>
        </p:blipFill>
        <p:spPr>
          <a:xfrm>
            <a:off x="5867280" y="260280"/>
            <a:ext cx="3097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250920" y="1052280"/>
            <a:ext cx="8642160" cy="5398920"/>
          </a:xfrm>
          <a:prstGeom prst="rect">
            <a:avLst/>
          </a:prstGeom>
          <a:solidFill>
            <a:srgbClr val="95b3d7"/>
          </a:solidFill>
          <a:ln w="57240">
            <a:solidFill>
              <a:srgbClr val="000000"/>
            </a:solidFill>
            <a:miter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تأخر المتكرر عن المحاضرة , يحتسب غياب للطالب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جميع أوراق الواجبات والمتطلبات الخاصة بالمقرر يجب أن تقدم مطبوعة على ورق أبيض , ويكون حجم الخط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صفحة الغلاف يجب أن تشتمل على البيانات التالية : اسم الطالبة - اسم المقرر ورمزه ورقم الشعبة - يوم ووقت المحاضرة – عنوان المتطلب , اسم أستاذة المقرر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تسليم الواجبات يكون في الموعد المحدد وداخل المحاضرة فق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6B1C-011C-4007-8CDB-ED608D1E29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55640" y="260280"/>
            <a:ext cx="7704000" cy="642600"/>
          </a:xfrm>
          <a:prstGeom prst="rect">
            <a:avLst/>
          </a:prstGeom>
          <a:solidFill>
            <a:srgbClr val="95b3d7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0000"/>
                </a:solidFill>
                <a:uFillTx/>
                <a:latin typeface="Arial"/>
              </a:rPr>
              <a:t>ملاحظات هامة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9A80-9423-4A36-A78F-626E3B38B360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10920" y="1983960"/>
            <a:ext cx="8062920" cy="3403800"/>
          </a:xfrm>
          <a:prstGeom prst="rect">
            <a:avLst/>
          </a:prstGeom>
          <a:solidFill>
            <a:srgbClr val="95b3d7"/>
          </a:solidFill>
          <a:ln w="7632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سيرة الذاتية للطالب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نسخة الواجبات المطلوب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عرض التقديمي الخاص بالتفكير الابداعي وبالدروس المصغر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ملف الانجاز : يتضمن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971640" y="1628640"/>
          <a:ext cx="6769080" cy="3967200"/>
        </p:xfrm>
        <a:graphic>
          <a:graphicData uri="http://schemas.openxmlformats.org/drawingml/2006/table">
            <a:tbl>
              <a:tblPr/>
              <a:tblGrid>
                <a:gridCol w="1805040"/>
                <a:gridCol w="1806480"/>
                <a:gridCol w="1805040"/>
                <a:gridCol w="1352520"/>
              </a:tblGrid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سم المقر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7" name="صورة 735" descr="get-5-2007-pouh4z2v.gif"/>
          <p:cNvPicPr/>
          <p:nvPr/>
        </p:nvPicPr>
        <p:blipFill>
          <a:blip r:embed="rId1"/>
          <a:stretch/>
        </p:blipFill>
        <p:spPr>
          <a:xfrm rot="325200">
            <a:off x="1588680" y="307440"/>
            <a:ext cx="1031760" cy="928800"/>
          </a:xfrm>
          <a:prstGeom prst="rect">
            <a:avLst/>
          </a:prstGeom>
          <a:ln w="0">
            <a:noFill/>
          </a:ln>
        </p:spPr>
      </p:pic>
      <p:pic>
        <p:nvPicPr>
          <p:cNvPr id="58" name="صورة 735" descr="get-5-2007-pouh4z2v.gif"/>
          <p:cNvPicPr/>
          <p:nvPr/>
        </p:nvPicPr>
        <p:blipFill>
          <a:blip r:embed="rId2"/>
          <a:stretch/>
        </p:blipFill>
        <p:spPr>
          <a:xfrm rot="325200">
            <a:off x="364680" y="810720"/>
            <a:ext cx="1032120" cy="92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971640" y="2421000"/>
          <a:ext cx="7632720" cy="3160800"/>
        </p:xfrm>
        <a:graphic>
          <a:graphicData uri="http://schemas.openxmlformats.org/drawingml/2006/table">
            <a:tbl>
              <a:tblPr/>
              <a:tblGrid>
                <a:gridCol w="4851360"/>
                <a:gridCol w="27813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نهج </a:t>
                      </a: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35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رقم ورمز المقرر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تعلم وتعليم العلوم الشرعية  (</a:t>
                      </a: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</a:t>
                      </a: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اسم المقرر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وحدتان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عدد وحدات المقر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7000920" y="285840"/>
            <a:ext cx="1619280" cy="134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468360" y="1916280"/>
          <a:ext cx="8136000" cy="4464000"/>
        </p:xfrm>
        <a:graphic>
          <a:graphicData uri="http://schemas.openxmlformats.org/drawingml/2006/table">
            <a:tbl>
              <a:tblPr/>
              <a:tblGrid>
                <a:gridCol w="5514840"/>
                <a:gridCol w="2621160"/>
              </a:tblGrid>
              <a:tr h="6346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cs typeface="Times New Roman"/>
                        </a:rPr>
                        <a:t>أمل العصيم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cs typeface="Times New Roman"/>
                        </a:rPr>
                        <a:t>استاذ المقر ر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781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osimi.c@ksu.edu.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                      الايميل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256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مبنى رقم (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) ,, الدور الثاني ,,   مكتب 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cs typeface="Times New Roman"/>
                        </a:rPr>
                        <a:t>رقم المكتب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256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cs typeface="Times New Roman"/>
                        </a:rPr>
                        <a:t>الاثنين 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cs typeface="Times New Roman"/>
                        </a:rPr>
                        <a:t>الاربعاء 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cs typeface="Times New Roman"/>
                        </a:rPr>
                        <a:t>الساعات المكتبي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50920" y="981000"/>
          <a:ext cx="8353440" cy="5840640"/>
        </p:xfrm>
        <a:graphic>
          <a:graphicData uri="http://schemas.openxmlformats.org/drawingml/2006/table">
            <a:tbl>
              <a:tblPr/>
              <a:tblGrid>
                <a:gridCol w="4944960"/>
                <a:gridCol w="3408480"/>
              </a:tblGrid>
              <a:tr h="146268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تعريف ووصف المقرر (محتويات مختصرة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220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يتناول المقرر توضيح ما يلي : مهارات التدريس وخطوات اعداد وكتابة وتنفيذ الدروس وأساليب التقويم , استخدام الحاسب والانترنت في تحضير الدروس , ممارسة عمليات التدريس المصغر داخل القاعة الدراسية 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Picture 5" descr="avatar47093_8"/>
          <p:cNvPicPr/>
          <p:nvPr/>
        </p:nvPicPr>
        <p:blipFill>
          <a:blip r:embed="rId1"/>
          <a:stretch/>
        </p:blipFill>
        <p:spPr>
          <a:xfrm>
            <a:off x="6156360" y="4581360"/>
            <a:ext cx="2736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95280" y="549360"/>
          <a:ext cx="8352000" cy="5940360"/>
        </p:xfrm>
        <a:graphic>
          <a:graphicData uri="http://schemas.openxmlformats.org/drawingml/2006/table">
            <a:tbl>
              <a:tblPr/>
              <a:tblGrid>
                <a:gridCol w="4944960"/>
                <a:gridCol w="3407040"/>
              </a:tblGrid>
              <a:tr h="8774280"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.إدراك وظيفة الدين الإسلامي بالنسبة للفرد والمجتمع 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. تنمية قدرة الطلاب على تخطيط منهج العلوم الشرعية والتحضير له 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. تدريب الطلاب على تدريس فروع المواد الشرعية في المراحل الدراسية المختلفة في التعليم العام والخاص 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. تدريب الطلاب على تخطيط الدروس بصورة جيدة 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. تدريب الطلاب على كيفية صياغة الأهداف السلوكية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أهداف المقرر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Object 1028"/>
          <p:cNvGraphicFramePr/>
          <p:nvPr/>
        </p:nvGraphicFramePr>
        <p:xfrm>
          <a:off x="5791320" y="5035680"/>
          <a:ext cx="2830320" cy="15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5035680"/>
                    <a:ext cx="2830320" cy="15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المرجع المعتم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مدخل إلى المناهج وطرق التدريس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د . حسن جعفر الخليفة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G:\2UDNCA131I5ACAANPNRDCA92NRXXCAA4UK7GCA855N2PCA27TRP1CANH925SCAOUQX7KCA8OLLABCAJ1WCNXCARXM0YICAVJM7LCCA7U8829CA250F38CAN3G74NCARSTEGLCAZPM8IUCABDH9SKCA0HL8IU.jpg"/>
          <p:cNvPicPr/>
          <p:nvPr/>
        </p:nvPicPr>
        <p:blipFill>
          <a:blip r:embed="rId1"/>
          <a:stretch/>
        </p:blipFill>
        <p:spPr>
          <a:xfrm>
            <a:off x="357120" y="4005360"/>
            <a:ext cx="42148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-12672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76092"/>
                </a:solidFill>
                <a:latin typeface="Calibri"/>
              </a:rPr>
              <a:t>التربية الإسلامية و أهميتها و بيان وظيفة الدين الإسلامي للفرد و المجتم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76092"/>
                </a:solidFill>
                <a:latin typeface="Calibri"/>
              </a:rPr>
              <a:t>الأهداف العامة و الخاصة في تدريس العلوم الشرعية بشكل عام و فروعها بشكل خا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76092"/>
                </a:solidFill>
                <a:latin typeface="Calibri"/>
              </a:rPr>
              <a:t>خصائص المتعلم في المرحلتين المتوسطة و الثانوية و التطرق لبعض نظريات التعلم و التعليم و صفات و خصائص المعلم الناج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76092"/>
                </a:solidFill>
                <a:latin typeface="Calibri"/>
              </a:rPr>
              <a:t>التخطيط للدروس اليومية مع التركيز على أهمية الأهداف السلوكية و صياغته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76092"/>
                </a:solidFill>
                <a:latin typeface="Calibri"/>
              </a:rPr>
              <a:t>عرض لأبرز طرق التدريس بشكل عام و العلوم الشرعية بشكل خاص مع التركيز على الإلقاء المحسن و المناقشة و أساليب الاستكشا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مهارات الاتصال و التعامل و إدارة الصف و المعم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دور الوسائل التعليمية و التقنية الحديثة في تعليم العلوم الشرع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دور الأنشطة غير الصفية و الزيارات الميدانية في تعليم العلوم الشرع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تقويم في تدريس العلوم الشرعية أهدافه و أساليب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تدريس المصغ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تدريس المصغ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lnSpc>
                <a:spcPct val="100000"/>
              </a:lnSpc>
              <a:spcBef>
                <a:spcPts val="799"/>
              </a:spcBef>
              <a:buClr>
                <a:srgbClr val="365f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65f91"/>
                </a:solidFill>
                <a:latin typeface="Times New Roman"/>
                <a:cs typeface="Times New Roman"/>
              </a:rPr>
              <a:t>كيفية مراعاة الفروق الفردية و تنمية مهارات التفكير الإبداعي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799"/>
              </a:spcBef>
              <a:buClr>
                <a:srgbClr val="365f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65f91"/>
                </a:solidFill>
                <a:latin typeface="Times New Roman"/>
                <a:cs typeface="Times New Roman"/>
              </a:rPr>
              <a:t>مهارات الاتصال و التعامل و إدارة الصف و المعم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799"/>
              </a:spcBef>
              <a:buClr>
                <a:srgbClr val="365f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65f91"/>
                </a:solidFill>
                <a:latin typeface="Times New Roman"/>
                <a:cs typeface="Times New Roman"/>
              </a:rPr>
              <a:t>دور الوسائل التعليمية و التقنية الحديثة في تعليم العلوم الشرع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799"/>
              </a:spcBef>
              <a:buClr>
                <a:srgbClr val="365f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65f91"/>
                </a:solidFill>
                <a:latin typeface="Times New Roman"/>
                <a:cs typeface="Times New Roman"/>
              </a:rPr>
              <a:t>دور الأنشطة غير الصفية و الزيارات الميدانية في تعليم العلوم الشرع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799"/>
              </a:spcBef>
              <a:buClr>
                <a:srgbClr val="365f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65f91"/>
                </a:solidFill>
                <a:latin typeface="Times New Roman"/>
                <a:cs typeface="Times New Roman"/>
              </a:rPr>
              <a:t>دور الأنشطة غير الصفية و الزيارات الميدانية في تعليم العلوم الشرع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799"/>
              </a:spcBef>
              <a:buClr>
                <a:srgbClr val="365f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65f91"/>
                </a:solidFill>
                <a:latin typeface="Times New Roman"/>
                <a:cs typeface="Times New Roman"/>
              </a:rPr>
              <a:t>التقويم في تدريس العلوم الشرعية أهدافه و أساليب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799"/>
              </a:spcBef>
              <a:buClr>
                <a:srgbClr val="365f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65f91"/>
                </a:solidFill>
                <a:latin typeface="Times New Roman"/>
                <a:cs typeface="Times New Roman"/>
              </a:rPr>
              <a:t>التدريس المصغ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2006640" y="13680"/>
            <a:ext cx="513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توزيع الدرجات 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صورة 735" descr="get-5-2007-pouh4z2v.gif"/>
          <p:cNvPicPr/>
          <p:nvPr/>
        </p:nvPicPr>
        <p:blipFill>
          <a:blip r:embed="rId1"/>
          <a:stretch/>
        </p:blipFill>
        <p:spPr>
          <a:xfrm rot="325200">
            <a:off x="293400" y="5635440"/>
            <a:ext cx="1031760" cy="928440"/>
          </a:xfrm>
          <a:prstGeom prst="rect">
            <a:avLst/>
          </a:prstGeom>
          <a:ln w="0">
            <a:noFill/>
          </a:ln>
        </p:spPr>
      </p:pic>
      <p:pic>
        <p:nvPicPr>
          <p:cNvPr id="76" name="صورة 735" descr="get-5-2007-pouh4z2v.gif"/>
          <p:cNvPicPr/>
          <p:nvPr/>
        </p:nvPicPr>
        <p:blipFill>
          <a:blip r:embed="rId2"/>
          <a:stretch/>
        </p:blipFill>
        <p:spPr>
          <a:xfrm rot="325200">
            <a:off x="1157040" y="5882760"/>
            <a:ext cx="1031760" cy="9288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2"/>
          <p:cNvSpPr/>
          <p:nvPr/>
        </p:nvSpPr>
        <p:spPr>
          <a:xfrm>
            <a:off x="0" y="-63360"/>
            <a:ext cx="18432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4360" y="907920"/>
          <a:ext cx="7991280" cy="4408560"/>
        </p:xfrm>
        <a:graphic>
          <a:graphicData uri="http://schemas.openxmlformats.org/drawingml/2006/table">
            <a:tbl>
              <a:tblPr/>
              <a:tblGrid>
                <a:gridCol w="1231920"/>
                <a:gridCol w="1734840"/>
                <a:gridCol w="4284720"/>
                <a:gridCol w="739800"/>
              </a:tblGrid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الدرجة المستحق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الأسبوع المستح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طبيعة مهمة التقيي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رقم التقيي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الحضور والمشارك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292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الواجبات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صياغة أهداف إجرائية سلوكية لدرس من دروس العلوم الشرعية . ( ورقي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طرح مشكلة قد تواجهها المعلمة من الطالبات أثناء التدريس , واقتراح الحل المناسب لها وفق ما تمت دراسته في موضوع خصائص المتعلمين .( ورقي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أقتراح استراتيجيات تستخدمها المعلمة لتنمية التفكير الإبداعي لدى الطالبات . ( عرض تقديمي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اختبار منتصف الفص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التدريس المصغ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ملف الانجا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لم يحد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الاختبار النهائ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Rectangle 48"/>
          <p:cNvSpPr/>
          <p:nvPr/>
        </p:nvSpPr>
        <p:spPr>
          <a:xfrm>
            <a:off x="324000" y="125280"/>
            <a:ext cx="183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15:06:08Z</dcterms:created>
  <dc:creator>t com mahmd</dc:creator>
  <dc:description/>
  <dc:language>en-US</dc:language>
  <cp:lastModifiedBy>dell</cp:lastModifiedBy>
  <dcterms:modified xsi:type="dcterms:W3CDTF">2017-09-12T08:20:03Z</dcterms:modified>
  <cp:revision>68</cp:revision>
  <dc:subject/>
  <dc:title>الانكيت </dc:title>
</cp:coreProperties>
</file>