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gif" ContentType="image/gif"/>
  <Override PartName="/ppt/media/image7.gif" ContentType="image/gi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9541-4216-468F-B87F-1BA83B8747D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9046-156D-427D-904D-15E09C1F6E1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BADF-7DF2-41DB-BA9B-62E46C7069C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A5B6-FF87-443E-A133-0629A08ED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AF2B-EBAD-44E5-83E4-82433C50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4C24-8E4F-4432-ABA7-FFF228637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F4F1-7FAE-4C2E-8427-FDEC70665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C616-FFFA-49FA-9B67-C59B34EB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8DA9-0F21-438E-8344-27980027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AEAC-1EE5-4F1B-8EE9-D5661902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4F65-8851-4CB7-89F9-B57C3E7C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B29F-0624-4F54-A197-B149093A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AE9E-06EE-4D52-BB2F-9F1EB05D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AEB8-98BA-4F9E-BBBC-69870980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C616-7F03-4943-AC88-B18152F6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DC26-160C-44EE-AF44-04E97E986531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VSXBB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49" name="الفاتحة.wav" descr=""/>
          <p:cNvPicPr/>
          <p:nvPr/>
        </p:nvPicPr>
        <p:blipFill>
          <a:blip r:embed="rId2"/>
          <a:stretch/>
        </p:blipFill>
        <p:spPr>
          <a:xfrm>
            <a:off x="152280" y="6705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208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2006640" y="13680"/>
            <a:ext cx="513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Arial"/>
                <a:cs typeface="Times New Roman"/>
              </a:rPr>
              <a:t>توزيع الدرجات 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735" descr="get-5-2007-pouh4z2v.gif"/>
          <p:cNvPicPr/>
          <p:nvPr/>
        </p:nvPicPr>
        <p:blipFill>
          <a:blip r:embed="rId1"/>
          <a:stretch/>
        </p:blipFill>
        <p:spPr>
          <a:xfrm rot="325200">
            <a:off x="293400" y="5635440"/>
            <a:ext cx="1031760" cy="928440"/>
          </a:xfrm>
          <a:prstGeom prst="rect">
            <a:avLst/>
          </a:prstGeom>
          <a:ln w="0">
            <a:noFill/>
          </a:ln>
        </p:spPr>
      </p:pic>
      <p:pic>
        <p:nvPicPr>
          <p:cNvPr id="79" name="صورة 735" descr="get-5-2007-pouh4z2v.gif"/>
          <p:cNvPicPr/>
          <p:nvPr/>
        </p:nvPicPr>
        <p:blipFill>
          <a:blip r:embed="rId2"/>
          <a:stretch/>
        </p:blipFill>
        <p:spPr>
          <a:xfrm rot="325200">
            <a:off x="1157040" y="5882760"/>
            <a:ext cx="1031760" cy="9288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2"/>
          <p:cNvSpPr/>
          <p:nvPr/>
        </p:nvSpPr>
        <p:spPr>
          <a:xfrm>
            <a:off x="0" y="-63360"/>
            <a:ext cx="18432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68360" y="274680"/>
          <a:ext cx="8675640" cy="6175440"/>
        </p:xfrm>
        <a:graphic>
          <a:graphicData uri="http://schemas.openxmlformats.org/drawingml/2006/table">
            <a:tbl>
              <a:tblPr/>
              <a:tblGrid>
                <a:gridCol w="869760"/>
                <a:gridCol w="1225800"/>
                <a:gridCol w="3028680"/>
                <a:gridCol w="3029040"/>
                <a:gridCol w="522360"/>
              </a:tblGrid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نوع التكلي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طبيعة مهمة التقيي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درجة المستحق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وضوع التقيي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548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فرد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انتظام في حضور المحاضرات والتفاعل الايجابي أثناءها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حضور والمشارك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فرد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عداد تخطيط وحدة دراس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خطيط الانكي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548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جماع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طرح إحدى مشكلات تدريس العلوم الشرعية واقتراح الحلول لها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شكلات تدريس العلوم الشرع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7800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فرد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طرح إحدى المشكلات الصفية التي تواجهه المعلمة واقتراح الحلول لها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إدارة الصف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548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جماع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قديم مقترح لتقنية حديثة يتم تفعليها في تدريس العلوم الشرع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وظيف استخدام التقنية الحديثة في تدريس العلوم الشرع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فرد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طبيق عملي لما تم دراسته في المحاضر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تفاعل الايجابي في ساعة المقرر العمل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فرد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زيارة لإحدى المدارس الثانوية أو المتوسطة لمشاهدة العملية التعليمية والمشاركة الجزئية فيها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خبرة الميدانية المبكر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فرد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قديم الدروس داخل قاعة المحاضر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تدريس المصغ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1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اختبار النصفي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Rectangle 48"/>
          <p:cNvSpPr/>
          <p:nvPr/>
        </p:nvSpPr>
        <p:spPr>
          <a:xfrm>
            <a:off x="324000" y="125280"/>
            <a:ext cx="1839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50920" y="1052280"/>
            <a:ext cx="8642160" cy="5398920"/>
          </a:xfrm>
          <a:prstGeom prst="rect">
            <a:avLst/>
          </a:prstGeom>
          <a:solidFill>
            <a:srgbClr val="ffff66"/>
          </a:solidFill>
          <a:ln w="57240">
            <a:solidFill>
              <a:srgbClr val="000000"/>
            </a:solidFill>
            <a:miter/>
          </a:ln>
        </p:spPr>
        <p:txBody>
          <a:bodyPr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تأخر المتكرر عن المحاضرة , يحتسب غياب للطالبة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جميع أوراق الواجبات والمتطلبات الخاصة بالمقرر يجب أن تقدم مطبوعة على ورق أبيض , ويكون حجم الخط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صفحة الغلاف يجب أن تشتمل على البيانات التالية : اسم الطالبة - اسم المقرر ورمزه ورقم الشعبة - يوم ووقت المحاضرة – عنوان المتطلب , اسم أستاذة المقرر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تسليم الواجبات يكون في الموعد المحدد وداخل المحاضرة فقط والتأخر عن تسليمها في الموعد المحدد يتم عليه خصم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% من الدرج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صر نائب للتذييل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716A-CEFF-4467-B2A9-187C7FD8AF0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755640" y="260280"/>
            <a:ext cx="7704000" cy="642600"/>
          </a:xfrm>
          <a:prstGeom prst="rect">
            <a:avLst/>
          </a:prstGeom>
          <a:solidFill>
            <a:srgbClr val="ccff33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0000"/>
                </a:solidFill>
                <a:uFillTx/>
                <a:latin typeface="Arial"/>
              </a:rPr>
              <a:t>ملاحظات هامة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7D80-D493-4100-8321-2FB514618F27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79160" y="1983960"/>
            <a:ext cx="7294680" cy="3403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9c7e9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ff330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سيرة الذاتية للطالبة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نسخة الواجبات المطلوبة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عروض التقديمية الخاصة بالتدريس المصغر والخبرة الميداني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ملف الانجاز : يتضمن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مستطيل 4"/>
          <p:cNvGrpSpPr/>
          <p:nvPr/>
        </p:nvGrpSpPr>
        <p:grpSpPr>
          <a:xfrm>
            <a:off x="49320" y="274680"/>
            <a:ext cx="2481120" cy="3479760"/>
            <a:chOff x="49320" y="274680"/>
            <a:chExt cx="2481120" cy="3479760"/>
          </a:xfrm>
        </p:grpSpPr>
        <p:pic>
          <p:nvPicPr>
            <p:cNvPr id="51" name="مستطيل 4" descr=""/>
            <p:cNvPicPr/>
            <p:nvPr/>
          </p:nvPicPr>
          <p:blipFill>
            <a:blip r:embed="rId1"/>
            <a:stretch/>
          </p:blipFill>
          <p:spPr>
            <a:xfrm>
              <a:off x="49320" y="274680"/>
              <a:ext cx="2481120" cy="34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179280" y="404640"/>
              <a:ext cx="2214720" cy="32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صورة 3" descr="ش.jpg"/>
          <p:cNvPicPr/>
          <p:nvPr/>
        </p:nvPicPr>
        <p:blipFill>
          <a:blip r:embed="rId2"/>
          <a:stretch/>
        </p:blipFill>
        <p:spPr>
          <a:xfrm>
            <a:off x="1278000" y="774720"/>
            <a:ext cx="3511440" cy="319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4" name="صورة 2" descr="ش.jpg"/>
          <p:cNvPicPr/>
          <p:nvPr/>
        </p:nvPicPr>
        <p:blipFill>
          <a:blip r:embed="rId3"/>
          <a:stretch/>
        </p:blipFill>
        <p:spPr>
          <a:xfrm>
            <a:off x="2556000" y="3527280"/>
            <a:ext cx="5616360" cy="319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5" name="عنوان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4"/>
          <a:stretch/>
        </p:blipFill>
        <p:spPr>
          <a:xfrm>
            <a:off x="7000920" y="285840"/>
            <a:ext cx="1619280" cy="1557360"/>
          </a:xfrm>
          <a:prstGeom prst="rect">
            <a:avLst/>
          </a:prstGeom>
          <a:ln w="0">
            <a:noFill/>
          </a:ln>
        </p:spPr>
      </p:pic>
      <p:sp>
        <p:nvSpPr>
          <p:cNvPr id="57" name="مستطيل 8"/>
          <p:cNvSpPr/>
          <p:nvPr/>
        </p:nvSpPr>
        <p:spPr>
          <a:xfrm>
            <a:off x="1476360" y="2398680"/>
            <a:ext cx="6767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توصيف مقرر</a:t>
            </a:r>
            <a:r>
              <a:rPr b="1" lang="en-US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: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 (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357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نهج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تعلم وتعليم العلوم الشرعية (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2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الفصل الدراسي الثاني   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436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\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437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ه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971640" y="1628640"/>
          <a:ext cx="6769080" cy="3967200"/>
        </p:xfrm>
        <a:graphic>
          <a:graphicData uri="http://schemas.openxmlformats.org/drawingml/2006/table">
            <a:tbl>
              <a:tblPr/>
              <a:tblGrid>
                <a:gridCol w="1805040"/>
                <a:gridCol w="1806480"/>
                <a:gridCol w="1805040"/>
                <a:gridCol w="1352520"/>
              </a:tblGrid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7980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سم المقر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صورة 735" descr="get-5-2007-pouh4z2v.gif"/>
          <p:cNvPicPr/>
          <p:nvPr/>
        </p:nvPicPr>
        <p:blipFill>
          <a:blip r:embed="rId1"/>
          <a:stretch/>
        </p:blipFill>
        <p:spPr>
          <a:xfrm rot="325200">
            <a:off x="1588680" y="307440"/>
            <a:ext cx="1031760" cy="928800"/>
          </a:xfrm>
          <a:prstGeom prst="rect">
            <a:avLst/>
          </a:prstGeom>
          <a:ln w="0">
            <a:noFill/>
          </a:ln>
        </p:spPr>
      </p:pic>
      <p:pic>
        <p:nvPicPr>
          <p:cNvPr id="60" name="صورة 735" descr="get-5-2007-pouh4z2v.gif"/>
          <p:cNvPicPr/>
          <p:nvPr/>
        </p:nvPicPr>
        <p:blipFill>
          <a:blip r:embed="rId2"/>
          <a:stretch/>
        </p:blipFill>
        <p:spPr>
          <a:xfrm rot="325200">
            <a:off x="364680" y="810720"/>
            <a:ext cx="1032120" cy="928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971640" y="2421000"/>
          <a:ext cx="7632720" cy="3160800"/>
        </p:xfrm>
        <a:graphic>
          <a:graphicData uri="http://schemas.openxmlformats.org/drawingml/2006/table">
            <a:tbl>
              <a:tblPr/>
              <a:tblGrid>
                <a:gridCol w="4851360"/>
                <a:gridCol w="2781360"/>
              </a:tblGrid>
              <a:tr h="1066680"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نهج</a:t>
                      </a:r>
                      <a:r>
                        <a:rPr b="1" lang="ar-SA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35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رقم ورمز المقرر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تعلم وتعليم العلوم الشرعية  (</a:t>
                      </a:r>
                      <a:r>
                        <a:rPr b="1" lang="ar-SA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2</a:t>
                      </a:r>
                      <a:r>
                        <a:rPr b="1" lang="ar-SA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اسم المقرر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وحدتان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عدد وحدات المقر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7000920" y="285840"/>
            <a:ext cx="1619280" cy="134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68360" y="1916280"/>
          <a:ext cx="8136000" cy="4464000"/>
        </p:xfrm>
        <a:graphic>
          <a:graphicData uri="http://schemas.openxmlformats.org/drawingml/2006/table">
            <a:tbl>
              <a:tblPr/>
              <a:tblGrid>
                <a:gridCol w="5514840"/>
                <a:gridCol w="2621160"/>
              </a:tblGrid>
              <a:tr h="63468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cs typeface="Times New Roman"/>
                        </a:rPr>
                        <a:t>أمل العصيم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cs typeface="Times New Roman"/>
                        </a:rPr>
                        <a:t>استاذ المقر ر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7812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osimi.c@ksu.edu.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                       الايميل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256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Times New Roman"/>
                          <a:cs typeface="Times New Roman"/>
                        </a:rPr>
                        <a:t>مبنى رقم (</a:t>
                      </a: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) ,, الدور الثاني ,,   مكتب </a:t>
                      </a: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cs typeface="Times New Roman"/>
                        </a:rPr>
                        <a:t>رقم المكتب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256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Times New Roman"/>
                          <a:cs typeface="Times New Roman"/>
                        </a:rPr>
                        <a:t>الثلاثاء</a:t>
                      </a: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cs typeface="Times New Roman"/>
                        </a:rPr>
                        <a:t>الخميس </a:t>
                      </a: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 - </a:t>
                      </a: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0000"/>
                          </a:solidFill>
                          <a:latin typeface="Calibri"/>
                          <a:cs typeface="Times New Roman"/>
                        </a:rPr>
                        <a:t>الساعات المكتبي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250920" y="981000"/>
          <a:ext cx="8353440" cy="5840640"/>
        </p:xfrm>
        <a:graphic>
          <a:graphicData uri="http://schemas.openxmlformats.org/drawingml/2006/table">
            <a:tbl>
              <a:tblPr/>
              <a:tblGrid>
                <a:gridCol w="4944960"/>
                <a:gridCol w="3408480"/>
              </a:tblGrid>
              <a:tr h="146268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Times New Roman"/>
                        </a:rPr>
                        <a:t>تعريف ووصف المقرر (محتويات مختصرة 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2200"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يتناول المقرر توضيح ما يلي : مهارات التدريس وخطوات اعداد وكتابة وتنفيذ الدروس وأساليب التقويم , استخدام الحاسب والانترنت في تحضير الدروس , ممارسة عمليات التدريس المصغر داخل القاعة الدراسية 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5" name="Picture 5" descr="avatar47093_8"/>
          <p:cNvPicPr/>
          <p:nvPr/>
        </p:nvPicPr>
        <p:blipFill>
          <a:blip r:embed="rId1"/>
          <a:stretch/>
        </p:blipFill>
        <p:spPr>
          <a:xfrm>
            <a:off x="6156360" y="4581360"/>
            <a:ext cx="2736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95280" y="549360"/>
          <a:ext cx="8352000" cy="5940360"/>
        </p:xfrm>
        <a:graphic>
          <a:graphicData uri="http://schemas.openxmlformats.org/drawingml/2006/table">
            <a:tbl>
              <a:tblPr/>
              <a:tblGrid>
                <a:gridCol w="6904080"/>
                <a:gridCol w="1447920"/>
              </a:tblGrid>
              <a:tr h="7977600">
                <a:tc>
                  <a:txBody>
                    <a:bodyPr lIns="114120" rIns="114120" tIns="0" bIns="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 rtl="1">
                        <a:lnSpc>
                          <a:spcPct val="100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تعرف على مهارات التدريس وكتابة وإعداد الدرو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قدرة على ممارسة التدريس المصغر داخل الجامعة أو المدرسة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معرفة كيفية تقويم الدرو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تمكن من استخدام التقنيات في تحضير الدرو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معرفة مهارات تنفيذ الدرو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كتساب الخبرات الميدانية وملاحظة عمليات التعلم والتعليم داخل الصفوف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 rtl="1">
                        <a:lnSpc>
                          <a:spcPct val="100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تنمية قدرة الطالبة على تخطيط منهج العلوم الشرعية والتحضير له من خلال معرفتها بعناصر المنهج واستراتيجيات التدري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 rtl="1">
                        <a:lnSpc>
                          <a:spcPct val="100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Calibri"/>
                        </a:rPr>
                        <a:t>القدرة على إيجاد الحلول للمشاكل التي قد تواجهها في تدريس مقررات تدريس العلوم الشرعية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120" marR="1141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600" spc="-1" strike="noStrike">
                          <a:solidFill>
                            <a:srgbClr val="ff0000"/>
                          </a:solidFill>
                          <a:latin typeface="Times New Roman"/>
                          <a:cs typeface="Times New Roman"/>
                        </a:rPr>
                        <a:t>أهداف المقرر 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" name="Object 1028"/>
          <p:cNvGraphicFramePr/>
          <p:nvPr/>
        </p:nvGraphicFramePr>
        <p:xfrm>
          <a:off x="7308720" y="5035680"/>
          <a:ext cx="1312920" cy="15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5035680"/>
                    <a:ext cx="1312920" cy="15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4000" y="475920"/>
            <a:ext cx="8362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المرجع المعتم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مدخل إلى المناهج وطرق التدريس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د . حسن جعفر الخليفة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المرجع في التدريس " التربية الإسلامية " لمرحلة التعليم الأساسي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د. ماجد زكي الجلا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 rtl="1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G:\2UDNCA131I5ACAANPNRDCA92NRXXCAA4UK7GCA855N2PCA27TRP1CANH925SCAOUQX7KCA8OLLABCAJ1WCNXCARXM0YICAVJM7LCCA7U8829CA250F38CAN3G74NCARSTEGLCAZPM8IUCABDH9SKCA0HL8IU.jpg"/>
          <p:cNvPicPr/>
          <p:nvPr/>
        </p:nvPicPr>
        <p:blipFill>
          <a:blip r:embed="rId1"/>
          <a:stretch/>
        </p:blipFill>
        <p:spPr>
          <a:xfrm>
            <a:off x="0" y="4221000"/>
            <a:ext cx="2340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المواضيع المطلوب بحثها وشموله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لتهيئة والتسجي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توصيف المقر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عرض الأهداف العامة والخاصة بناءً على وثيقة التعليم في المملكة العربية السعودية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تطوير المناه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تخطيط الإنكي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طريقة تدريس مقرر القرآن والتفسي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طريقة تدريس مقرر الفقه والحديث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>
            <a:off x="324000" y="333360"/>
            <a:ext cx="8064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طريقة تدريس مقرر العقي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شكلات تدريس العلوم الشرع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ستراتيجيات حديثة لتدريس العلوم الشرع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إدارة الصف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تربية الميدان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توظيف استخدام التقنية الحديثة في تدريس العلوم الشرعية (تعلم ذاتي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خبرة ميدانية مبك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تدريس مصغ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30T15:06:08Z</dcterms:created>
  <dc:creator>t com mahmd</dc:creator>
  <dc:description/>
  <dc:language>en-US</dc:language>
  <cp:lastModifiedBy>dell</cp:lastModifiedBy>
  <dcterms:modified xsi:type="dcterms:W3CDTF">2016-03-08T04:44:43Z</dcterms:modified>
  <cp:revision>70</cp:revision>
  <dc:subject/>
  <dc:title>الانكيت </dc:title>
</cp:coreProperties>
</file>