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D75-6A06-48CB-B6B0-3C9E99E961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572-AD94-45E0-8605-2A1A2F4B3A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FC05-31F6-4B34-BE1F-2FFF39E5DD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B57-3EE3-452E-93D2-6D19A875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718-9DF8-4027-9205-9D25BED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058-0732-4F59-88BC-1BCF8594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8F6-5727-42C8-8279-7C9CBBE8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62B-5963-4062-9D75-33B67E0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3B1-A0E4-4390-B6F4-F7F40E9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290-F2E4-4067-81A5-68B272D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842-2E7F-4A19-874A-05F6F1D2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F28-A4F9-4157-90A2-E5E19CFB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A50-CB3B-48CA-BA85-98B650E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914-33A6-4B23-8B64-2EB7F7C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2B5-C8C6-467E-A595-5B9FD06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131C-A46C-4F9C-AB37-F266FDB68E4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74680"/>
          <a:ext cx="8675640" cy="6175440"/>
        </p:xfrm>
        <a:graphic>
          <a:graphicData uri="http://schemas.openxmlformats.org/drawingml/2006/table">
            <a:tbl>
              <a:tblPr/>
              <a:tblGrid>
                <a:gridCol w="869760"/>
                <a:gridCol w="1225800"/>
                <a:gridCol w="3028680"/>
                <a:gridCol w="3029040"/>
                <a:gridCol w="5223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وع التكل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بيعة مهمة التقي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رجة المستحق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ضوع التقي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نتظام في حضور المحاضرات والتفاعل الايجابي أثناء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ضور والمشارك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عداد تخطيط وحدة دراس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خطيط الانكي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م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ح إحدى مشكلات تدريس العلوم الشرعية واقتراح الحلول ل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كلات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ح إحدى المشكلات الصفية التي تواجهه المعلمة واقتراح الحلول ل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إدارة الصف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م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قديم مقترح لتقنية حديثة يتم تفعليها في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وظيف استخدام التقنية الحديثة في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طبيق عملي لما تم دراسته في المحاض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فاعل الايجابي في ساعة المقرر العم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يارة لإحدى المدارس الثانوية أو المتوسطة لمشاهدة العملية التعليمية والمشاركة الجزئية في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برة الميدانية المبك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قديم الدروس داخل قاعة المحاض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ريس المصغ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ختبار النصف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48"/>
          <p:cNvSpPr/>
          <p:nvPr/>
        </p:nvSpPr>
        <p:spPr>
          <a:xfrm>
            <a:off x="324000" y="1252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 والتأخر عن تسليمها في الموعد المحدد يتم عليه خص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% من الدر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0B0-17A8-42CA-84A5-1AA89C622F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3804-04EB-4F4F-A62E-B50C13FA24E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9160" y="1983960"/>
            <a:ext cx="7294680" cy="34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وض التقديمية الخاصة بالتدريس المصغر والخبرة الميدان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1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تعلم وتعليم العلوم الشرعية  (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الثلاثاء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خميس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981000"/>
          <a:ext cx="8353440" cy="584064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22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تناول المقرر توضيح ما يلي : مهارات التدريس وخطوات اعداد وكتابة وتنفيذ الدروس وأساليب التقويم , استخدام الحاسب والانترنت في تحضير الدروس , ممارسة عمليات التدريس المصغر داخل القاعة الدراسي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5280" y="549360"/>
          <a:ext cx="8352000" cy="5940360"/>
        </p:xfrm>
        <a:graphic>
          <a:graphicData uri="http://schemas.openxmlformats.org/drawingml/2006/table">
            <a:tbl>
              <a:tblPr/>
              <a:tblGrid>
                <a:gridCol w="6904080"/>
                <a:gridCol w="1447920"/>
              </a:tblGrid>
              <a:tr h="7977600">
                <a:tc>
                  <a:txBody>
                    <a:bodyPr lIns="114120" rIns="114120" tIns="0" bIns="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عرف على مهارات التدريس وكتابة وإعداد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قدرة على ممارسة التدريس المصغر داخل الجامعة أو المدرس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عرفة كيفية تقويم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مكن من استخدام التقنيات في تحضير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عرفة مهارات تنفيذ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كتساب الخبرات الميدانية وملاحظة عمليات التعلم والتعليم داخل الصفو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نمية قدرة الطالبة على تخطيط منهج العلوم الشرعية والتحضير له من خلال معرفتها بعناصر المنهج واستراتيجيات التدري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قدرة على إيجاد الحلول للمشاكل التي قد تواجهها في تدريس مقررات تدريس العلوم الشرع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Object 1028"/>
          <p:cNvGraphicFramePr/>
          <p:nvPr/>
        </p:nvGraphicFramePr>
        <p:xfrm>
          <a:off x="7308720" y="5035680"/>
          <a:ext cx="13129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5035680"/>
                    <a:ext cx="13129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 . حسن جعفر الخليف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في التدريس " التربية الإسلامية " لمرحلة التعليم الأساس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. ماجد زكي الجلا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واضيع المطلوب بحثها وشمول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هيئة والتسجي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صيف المقر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رض الأهداف العامة والخاصة بناءً على وثيقة التعليم في المملكة العربية السعودي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طوير المناه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خطيط الإنكي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طريقة تدريس مقرر القرآن والتفسي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طريقة تدريس مقرر الفقه والحدي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24000" y="33336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طريقة تدريس مقرر العق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شكلات تدريس العلوم الش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راتيجيات حديثة لتدريس العلوم الش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إدارة الص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ربية الميد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وظيف استخدام التقنية الحديثة في تدريس العلوم الشرعية (تعلم ذات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برة ميدانية مب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دريس مصغ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3-08T04:44:43Z</dcterms:modified>
  <cp:revision>70</cp:revision>
  <dc:subject/>
  <dc:title>الانكيت </dc:title>
</cp:coreProperties>
</file>