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c8b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5A1B-CA23-490A-B6DD-BD157F383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CEF4-E8D1-40A5-8C53-28B8628B0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E468-74CC-49CE-B7E0-37B184FA9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685B-B49D-4531-9A66-F6EF7FF1D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C77-9A7B-4ED0-8109-A844F296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342-9A4C-40C1-8464-6D40638A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F7B-CE1F-4A5C-9D56-8D75303D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1D8-6705-4C49-A1F6-E0A62867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8098-76EB-4C29-94EC-B510BA53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A46D-4198-4D28-968D-6E1D760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E231-49FF-4148-BE24-F9C5BAE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EEF2-F38B-4A54-815C-8592B0D8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140B-8CA6-47E9-A0C8-32C32AF0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8794-0EE4-4E2D-9DC9-E9DE4762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726F-47D4-4C26-B6E7-812A4A32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F99-1BF8-4E84-A2FF-6CB6EB42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618C-3302-44F1-A333-423E5071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944E-C2F2-43DF-B4A4-2DD0152C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80EE-9447-4A5C-BB44-BA92BA41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2E95-FF47-46A8-A024-79FB9A4C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9147-8166-4745-A27E-52EAA4CA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C48-D88C-43F4-9C46-83DB6AC4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982-A7EF-4BEB-89D5-A78CBAAC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D51-E248-4341-84B4-BC46EE29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5DF-6F66-495E-8954-43CC46C8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7DE-5A3A-4F47-A066-406FFD2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0E5-5080-4F1F-A651-57EB4E1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408-478B-4A8B-ABF2-73F6547E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79440"/>
          </a:xfrm>
          <a:prstGeom prst="rect">
            <a:avLst/>
          </a:prstGeom>
          <a:solidFill>
            <a:srgbClr val="98a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a4f38">
                  <a:alpha val="48235"/>
                </a:srgbClr>
              </a:gs>
              <a:gs pos="100000">
                <a:srgbClr val="a0aa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9A88-8273-49AC-BF8A-606BDE217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gradient globe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7459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c8b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a4f38">
                  <a:alpha val="48235"/>
                </a:srgbClr>
              </a:gs>
              <a:gs pos="100000">
                <a:srgbClr val="a0aa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gradient globe"/>
          <p:cNvPicPr/>
          <p:nvPr/>
        </p:nvPicPr>
        <p:blipFill>
          <a:blip r:embed="rId2"/>
          <a:stretch/>
        </p:blipFill>
        <p:spPr>
          <a:xfrm>
            <a:off x="4267080" y="3048120"/>
            <a:ext cx="4267440" cy="3479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609480" y="990720"/>
            <a:ext cx="6782040" cy="1295280"/>
          </a:xfrm>
          <a:prstGeom prst="rect">
            <a:avLst/>
          </a:prstGeom>
          <a:solidFill>
            <a:srgbClr val="76835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c8b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2267-C833-4D50-9BD4-3B53FD516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3760" y="1218960"/>
            <a:ext cx="6737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436"/>
                </a:solidFill>
                <a:latin typeface="Times New Roman"/>
              </a:rPr>
              <a:t>Type of Test Required</a:t>
            </a:r>
            <a:endParaRPr b="0" lang="en-US" sz="3600" spc="-1" strike="noStrike">
              <a:solidFill>
                <a:srgbClr val="bbc8b0"/>
              </a:solidFill>
              <a:latin typeface="Times New Roman"/>
            </a:endParaRPr>
          </a:p>
        </p:txBody>
      </p:sp>
      <p:pic>
        <p:nvPicPr>
          <p:cNvPr id="96" name="Picture 2" descr="http://dsd.ksu.edu.sa/sites/dsd.ksu.edu.sa/themes/rainbow_ar/images/logo.png"/>
          <p:cNvPicPr/>
          <p:nvPr/>
        </p:nvPicPr>
        <p:blipFill>
          <a:blip r:embed="rId1"/>
          <a:stretch/>
        </p:blipFill>
        <p:spPr>
          <a:xfrm>
            <a:off x="6488280" y="61920"/>
            <a:ext cx="2628720" cy="1028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654120" y="2514600"/>
            <a:ext cx="5715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ama A Samarkandi, PhD, 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Sc, GMD, BSN, MSN, NIA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anship of Skil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.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436"/>
                </a:solidFill>
                <a:latin typeface="Times New Roman"/>
              </a:rPr>
              <a:t>Questions</a:t>
            </a:r>
            <a:endParaRPr b="0" lang="en-US" sz="3600" spc="-1" strike="noStrike">
              <a:solidFill>
                <a:srgbClr val="bbc8b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181480" y="152280"/>
            <a:ext cx="3429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4b5436"/>
                </a:solidFill>
                <a:latin typeface="Times New Roman"/>
              </a:rPr>
              <a:t>?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3760" y="1218960"/>
            <a:ext cx="6737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436"/>
                </a:solidFill>
                <a:latin typeface="Times New Roman"/>
              </a:rPr>
              <a:t>Thank you !</a:t>
            </a:r>
            <a:endParaRPr b="0" lang="en-US" sz="3600" spc="-1" strike="noStrike">
              <a:solidFill>
                <a:srgbClr val="bbc8b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22:10:14Z</dcterms:created>
  <dc:creator/>
  <dc:description/>
  <dc:language>en-US</dc:language>
  <cp:lastModifiedBy/>
  <cp:lastPrinted>2005-06-08T13:02:13Z</cp:lastPrinted>
  <dcterms:modified xsi:type="dcterms:W3CDTF">2014-02-04T09:42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0CA6E2E-DF06-472F-8BEA-EA92C17BFD13</vt:lpwstr>
  </property>
  <property fmtid="{D5CDD505-2E9C-101B-9397-08002B2CF9AE}" pid="3" name="ArticulatePath">
    <vt:lpwstr>Introduction to SAS</vt:lpwstr>
  </property>
  <property fmtid="{D5CDD505-2E9C-101B-9397-08002B2CF9AE}" pid="4" name="SE Context">
    <vt:lpwstr>Presentation</vt:lpwstr>
  </property>
  <property fmtid="{D5CDD505-2E9C-101B-9397-08002B2CF9AE}" pid="5" name="SE DAP">
    <vt:lpwstr>[ContentDir]\Student\MS\Templates\Groups and Movements\Groups and Movements.xml</vt:lpwstr>
  </property>
  <property fmtid="{D5CDD505-2E9C-101B-9397-08002B2CF9AE}" pid="6" name="SE DAP Check Values">
    <vt:lpwstr>0</vt:lpwstr>
  </property>
  <property fmtid="{D5CDD505-2E9C-101B-9397-08002B2CF9AE}" pid="7" name="SE DAP Default">
    <vt:lpwstr>[ContentDir]\Student\MS\Templates\Groups and Movements\Groups and Movements.xml</vt:lpwstr>
  </property>
  <property fmtid="{D5CDD505-2E9C-101B-9397-08002B2CF9AE}" pid="8" name="SE Mode">
    <vt:lpwstr>student</vt:lpwstr>
  </property>
</Properties>
</file>