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6C7-6F50-4772-8976-36FA5C75C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7F9F-20D3-4371-9C09-8EBD9F137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49DD-213F-40AC-88E8-0F9DFCA2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FCC1-2217-4FF4-B783-6F3FE0054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48E-D80C-44D5-9B0F-03071083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629-550C-47DD-8BBC-652CAD4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085-31AA-41B3-9FD0-6D1C573C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5C5-1C06-4676-867F-BFE44D80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3BF-8E7F-4738-BF38-6EA07013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8C8-01C0-402E-B371-ABCF53C0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AFCF-306E-4E09-8860-CAFCED5B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4913-746A-4418-A749-724A63C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30E0-1F7F-4EA7-8BF9-77C0C76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A50F-5AB8-4F45-8A73-B201AD6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8ED-64FE-4247-A23E-64EA28E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AAE-8785-4939-A3A8-576F0144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E7CB-B924-40FD-A3E9-8432849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DC72-A1B4-4693-8D37-7C7F326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BB2-6F97-4618-A7E7-EF3F3F58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B626-213B-467C-BB3A-045496C5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7AEC-B620-4E46-BDF9-E24F1D27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88F-283D-4476-AD79-8D904FBD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03D-F276-4E7E-A75B-A7A9A102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69C-DFFC-4C70-BD58-35111F9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0A5-CC5D-48FD-9F6B-1EADABD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A3F-7946-426A-B18C-83E9C0A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930-8CA1-4491-B24A-08081C8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83C-0E9D-4B4E-BD7B-53681B7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98a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a4f38">
                  <a:alpha val="48235"/>
                </a:srgbClr>
              </a:gs>
              <a:gs pos="100000">
                <a:srgbClr val="a0aa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414-B39E-4550-B7DD-BCA944920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gradient globe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745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a4f38">
                  <a:alpha val="48235"/>
                </a:srgbClr>
              </a:gs>
              <a:gs pos="100000">
                <a:srgbClr val="a0aa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radient globe"/>
          <p:cNvPicPr/>
          <p:nvPr/>
        </p:nvPicPr>
        <p:blipFill>
          <a:blip r:embed="rId2"/>
          <a:stretch/>
        </p:blipFill>
        <p:spPr>
          <a:xfrm>
            <a:off x="4267080" y="3048120"/>
            <a:ext cx="4267440" cy="3479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609480" y="990720"/>
            <a:ext cx="6782040" cy="1295280"/>
          </a:xfrm>
          <a:prstGeom prst="rect">
            <a:avLst/>
          </a:prstGeom>
          <a:solidFill>
            <a:srgbClr val="76835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997-C91A-4A03-B8A0-8F2C87A7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3760" y="1218960"/>
            <a:ext cx="6737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Type of Test Required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  <p:pic>
        <p:nvPicPr>
          <p:cNvPr id="96" name="Picture 2" descr="http://dsd.ksu.edu.sa/sites/dsd.ksu.edu.sa/themes/rainbow_ar/images/logo.png"/>
          <p:cNvPicPr/>
          <p:nvPr/>
        </p:nvPicPr>
        <p:blipFill>
          <a:blip r:embed="rId1"/>
          <a:stretch/>
        </p:blipFill>
        <p:spPr>
          <a:xfrm>
            <a:off x="6488280" y="61920"/>
            <a:ext cx="262872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54120" y="2514600"/>
            <a:ext cx="5715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ama A Samarkandi, PhD,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Sc, GMD, BSN, MSN, NIA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nship of Skil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.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181480" y="152280"/>
            <a:ext cx="3429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4b5436"/>
                </a:solidFill>
                <a:latin typeface="Times New Roman"/>
              </a:rPr>
              <a:t>?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3760" y="1218960"/>
            <a:ext cx="6737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Thank you !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2:10:14Z</dcterms:created>
  <dc:creator/>
  <dc:description/>
  <dc:language>en-US</dc:language>
  <cp:lastModifiedBy/>
  <cp:lastPrinted>2005-06-08T13:02:13Z</cp:lastPrinted>
  <dcterms:modified xsi:type="dcterms:W3CDTF">2014-02-04T09:42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0CA6E2E-DF06-472F-8BEA-EA92C17BFD13</vt:lpwstr>
  </property>
  <property fmtid="{D5CDD505-2E9C-101B-9397-08002B2CF9AE}" pid="3" name="ArticulatePath">
    <vt:lpwstr>Introduction to SAS</vt:lpwstr>
  </property>
  <property fmtid="{D5CDD505-2E9C-101B-9397-08002B2CF9AE}" pid="4" name="SE Context">
    <vt:lpwstr>Presentation</vt:lpwstr>
  </property>
  <property fmtid="{D5CDD505-2E9C-101B-9397-08002B2CF9AE}" pid="5" name="SE DAP">
    <vt:lpwstr>[ContentDir]\Student\MS\Templates\Groups and Movements\Groups and Movements.xml</vt:lpwstr>
  </property>
  <property fmtid="{D5CDD505-2E9C-101B-9397-08002B2CF9AE}" pid="6" name="SE DAP Check Values">
    <vt:lpwstr>0</vt:lpwstr>
  </property>
  <property fmtid="{D5CDD505-2E9C-101B-9397-08002B2CF9AE}" pid="7" name="SE DAP Default">
    <vt:lpwstr>[ContentDir]\Student\MS\Templates\Groups and Movements\Groups and Movements.xml</vt:lpwstr>
  </property>
  <property fmtid="{D5CDD505-2E9C-101B-9397-08002B2CF9AE}" pid="8" name="SE Mode">
    <vt:lpwstr>student</vt:lpwstr>
  </property>
</Properties>
</file>