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FCCC-1BF2-423C-8580-73E3A4D8B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6039-065F-4B5D-B47E-113CD91A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A828-DC7C-4FC7-9262-EA23A86E3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AA41-7158-4850-ACF1-C0E87DE43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A413-6241-4299-B560-B2A2261A5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532A-A3E7-4C8A-B9C3-AD466A74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AD61-51FA-4867-B950-8C022554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642B-DAD7-4489-AB75-3F00650D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C388-B2C3-4472-9B9B-40F4454D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CE9E-110D-410B-A43B-9DC49C9A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C660-5E32-4AB4-9302-2FB3B1DA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13A9-C385-45B9-9CA0-F9736E16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0188C-B3C4-4460-AF3A-295F8355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FF20-6540-4D89-B801-7E238EDB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5C26-4546-4232-A87F-1E5CF577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83D2-06A9-4D0E-8549-56F0353DE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93DC-4E7C-46C6-B1AE-4EF04DFA7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642D-9783-48C7-B200-AB2468CF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DD82-61C2-4611-AEA6-398E0172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9597-2ED3-46BA-A5E5-870FD0B1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2533-1887-4B9E-91E1-4FBAD1B4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C26A-8F55-4212-98F2-6848FBB5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3914-3B4C-4303-BC7B-26FF71B1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E570-F45B-41DD-A0FF-121FE04D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F679-AC47-4356-8EBA-A8854900593E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>
                    <a:gd name="textAreaLeft" fmla="*/ 0 w 243360"/>
                    <a:gd name="textAreaRight" fmla="*/ 243360 w 2433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>
                    <a:gd name="textAreaLeft" fmla="*/ 0 w 427680"/>
                    <a:gd name="textAreaRight" fmla="*/ 428040 w 42768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>
                    <a:gd name="textAreaLeft" fmla="*/ 0 w 803160"/>
                    <a:gd name="textAreaRight" fmla="*/ 803520 w 8031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>
                    <a:gd name="textAreaLeft" fmla="*/ 0 w 1205640"/>
                    <a:gd name="textAreaRight" fmla="*/ 1206000 w 120564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8820-11C6-4568-879D-05836C7BF288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0000"/>
                </a:solidFill>
                <a:latin typeface="Comic Sans MS"/>
              </a:rPr>
              <a:t>Present simple and continu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44"/>
          <p:cNvGrpSpPr/>
          <p:nvPr/>
        </p:nvGrpSpPr>
        <p:grpSpPr>
          <a:xfrm>
            <a:off x="0" y="1197000"/>
            <a:ext cx="7921440" cy="5184000"/>
            <a:chOff x="0" y="1197000"/>
            <a:chExt cx="7921440" cy="5184000"/>
          </a:xfrm>
        </p:grpSpPr>
        <p:sp>
          <p:nvSpPr>
            <p:cNvPr id="155" name="Rectangle 5"/>
            <p:cNvSpPr/>
            <p:nvPr/>
          </p:nvSpPr>
          <p:spPr>
            <a:xfrm>
              <a:off x="1207440" y="1197000"/>
              <a:ext cx="2215440" cy="8971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omic Sans MS"/>
                </a:rPr>
                <a:t>Affirmativ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Rectangle 7"/>
            <p:cNvSpPr/>
            <p:nvPr/>
          </p:nvSpPr>
          <p:spPr>
            <a:xfrm>
              <a:off x="1207440" y="2094120"/>
              <a:ext cx="2215440" cy="2141640"/>
            </a:xfrm>
            <a:prstGeom prst="rect">
              <a:avLst/>
            </a:prstGeom>
            <a:noFill/>
            <a:ln w="284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mic Sans MS"/>
                </a:rPr>
                <a:t>I read a book everyday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mic Sans MS"/>
                </a:rPr>
                <a:t>He  reads a book .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Rectangle 11"/>
            <p:cNvSpPr/>
            <p:nvPr/>
          </p:nvSpPr>
          <p:spPr>
            <a:xfrm>
              <a:off x="0" y="2094120"/>
              <a:ext cx="1208880" cy="2141640"/>
            </a:xfrm>
            <a:prstGeom prst="rect">
              <a:avLst/>
            </a:prstGeom>
            <a:noFill/>
            <a:ln w="284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66cc"/>
                  </a:solidFill>
                  <a:latin typeface="Comic Sans MS"/>
                </a:rPr>
                <a:t>Present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66cc"/>
                  </a:solidFill>
                  <a:latin typeface="Comic Sans MS"/>
                </a:rPr>
                <a:t>simpl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Rectangle 16"/>
            <p:cNvSpPr/>
            <p:nvPr/>
          </p:nvSpPr>
          <p:spPr>
            <a:xfrm>
              <a:off x="3423240" y="2094120"/>
              <a:ext cx="2414160" cy="2145240"/>
            </a:xfrm>
            <a:prstGeom prst="rect">
              <a:avLst/>
            </a:prstGeom>
            <a:noFill/>
            <a:ln w="284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mic Sans MS"/>
                </a:rPr>
                <a:t>I don’t play football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mic Sans MS"/>
                </a:rPr>
                <a:t>He doesn’t play football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Rectangle 17"/>
            <p:cNvSpPr/>
            <p:nvPr/>
          </p:nvSpPr>
          <p:spPr>
            <a:xfrm>
              <a:off x="5840640" y="2094120"/>
              <a:ext cx="2080800" cy="2145240"/>
            </a:xfrm>
            <a:prstGeom prst="rect">
              <a:avLst/>
            </a:prstGeom>
            <a:noFill/>
            <a:ln w="284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mic Sans MS"/>
                </a:rPr>
                <a:t>Do you play football?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mic Sans MS"/>
                </a:rPr>
                <a:t>Does he play football?</a:t>
              </a:r>
              <a:r>
                <a:rPr b="0" lang="es-ES" sz="1400" spc="-1" strike="noStrike">
                  <a:solidFill>
                    <a:srgbClr val="ffffff"/>
                  </a:solidFill>
                  <a:latin typeface="Comic Sans MS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Rectangle 18"/>
            <p:cNvSpPr/>
            <p:nvPr/>
          </p:nvSpPr>
          <p:spPr>
            <a:xfrm>
              <a:off x="3423240" y="1197000"/>
              <a:ext cx="2414160" cy="900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omic Sans MS"/>
                </a:rPr>
                <a:t>Negativ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Rectangle 19"/>
            <p:cNvSpPr/>
            <p:nvPr/>
          </p:nvSpPr>
          <p:spPr>
            <a:xfrm>
              <a:off x="5840640" y="1197000"/>
              <a:ext cx="2080800" cy="900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omic Sans MS"/>
                </a:rPr>
                <a:t>Yes/No-Q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Rectangle 21"/>
            <p:cNvSpPr/>
            <p:nvPr/>
          </p:nvSpPr>
          <p:spPr>
            <a:xfrm>
              <a:off x="1207440" y="4235760"/>
              <a:ext cx="2215440" cy="2141640"/>
            </a:xfrm>
            <a:prstGeom prst="rect">
              <a:avLst/>
            </a:prstGeom>
            <a:noFill/>
            <a:ln w="284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mic Sans MS"/>
                </a:rPr>
                <a:t>I am playing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mic Sans MS"/>
                </a:rPr>
                <a:t>You are playing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mic Sans MS"/>
                </a:rPr>
                <a:t>He is playing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Rectangle 22"/>
            <p:cNvSpPr/>
            <p:nvPr/>
          </p:nvSpPr>
          <p:spPr>
            <a:xfrm>
              <a:off x="0" y="4235760"/>
              <a:ext cx="1208880" cy="2141640"/>
            </a:xfrm>
            <a:prstGeom prst="rect">
              <a:avLst/>
            </a:prstGeom>
            <a:noFill/>
            <a:ln w="284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66cc"/>
                  </a:solidFill>
                  <a:latin typeface="Comic Sans MS"/>
                </a:rPr>
                <a:t>Present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66cc"/>
                  </a:solidFill>
                  <a:latin typeface="Comic Sans MS"/>
                </a:rPr>
                <a:t>continuou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Rectangle 23"/>
            <p:cNvSpPr/>
            <p:nvPr/>
          </p:nvSpPr>
          <p:spPr>
            <a:xfrm>
              <a:off x="3423240" y="4235760"/>
              <a:ext cx="2414160" cy="2145240"/>
            </a:xfrm>
            <a:prstGeom prst="rect">
              <a:avLst/>
            </a:prstGeom>
            <a:noFill/>
            <a:ln w="284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mic Sans MS"/>
                </a:rPr>
                <a:t>I’m not playing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mic Sans MS"/>
                </a:rPr>
                <a:t>You aren’t playing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mic Sans MS"/>
                </a:rPr>
                <a:t>He isn’t playing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Rectangle 24"/>
            <p:cNvSpPr/>
            <p:nvPr/>
          </p:nvSpPr>
          <p:spPr>
            <a:xfrm>
              <a:off x="5840640" y="4235760"/>
              <a:ext cx="2080800" cy="2145240"/>
            </a:xfrm>
            <a:prstGeom prst="rect">
              <a:avLst/>
            </a:prstGeom>
            <a:noFill/>
            <a:ln w="284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mic Sans MS"/>
                </a:rPr>
                <a:t>Are you playing?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mic Sans MS"/>
                </a:rPr>
                <a:t>Is he playing?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6" name="Rectangle 16"/>
          <p:cNvSpPr/>
          <p:nvPr/>
        </p:nvSpPr>
        <p:spPr>
          <a:xfrm>
            <a:off x="7956720" y="1197000"/>
            <a:ext cx="1187280" cy="936720"/>
          </a:xfrm>
          <a:prstGeom prst="rect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-Q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7956720" y="2133720"/>
            <a:ext cx="1187280" cy="20872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at do you play  everyday?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18"/>
          <p:cNvSpPr/>
          <p:nvPr/>
        </p:nvSpPr>
        <p:spPr>
          <a:xfrm>
            <a:off x="7956720" y="4221000"/>
            <a:ext cx="1187280" cy="2160720"/>
          </a:xfrm>
          <a:prstGeom prst="rect">
            <a:avLst/>
          </a:prstGeom>
          <a:noFill/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at are you playing now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© Rafael Moreno Esteban 200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heck your understanding with this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Have and Have Got - Quiz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eter ______________ a beautiful new house in the countrysid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as OR has go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__________________________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(she) any children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Does she have OR Has she go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  __________ a fantastic apartment in New York when I lived ther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h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m  __________ a shower at the moment.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Can you call back later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is hav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'm afraid we  _____________________ enough space in the garag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aven’t got OR don’t hav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12:33:19Z</dcterms:created>
  <dc:creator>User</dc:creator>
  <dc:description/>
  <dc:language>en-US</dc:language>
  <cp:lastModifiedBy>win8</cp:lastModifiedBy>
  <dcterms:modified xsi:type="dcterms:W3CDTF">2014-10-17T10:11:15Z</dcterms:modified>
  <cp:revision>6</cp:revision>
  <dc:subject/>
  <dc:title>Present simple and continuous</dc:title>
</cp:coreProperties>
</file>