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474-C971-4B56-92EB-36297614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475-3AAD-439D-90E9-DC68D9C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9B0-4184-4FDC-80F8-615AFA01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1A5-F931-4FFD-BC0B-D405DD58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8FAA-9FA7-4B0B-9398-1BEA1DFD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9C79-B32E-4112-ABB6-EA8E6F1E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CDB-E8C9-4748-828E-7480E1A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F90A-64CA-4767-BBDE-93C076A4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D1A4-894A-435E-A56B-389460F6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F6C-001F-48F2-B7D8-55B41C0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FAC-D4FE-4BCC-998D-5EE9F5C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751-EEB3-411F-83A4-22CA4B7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94D0-83BF-4785-923A-45F9022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FDB-4046-46EB-B2FE-42D7DF3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AA3-B0F7-489C-A92B-B4979F9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968-6DE4-49EC-BD4D-4F47759A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A518-FCF2-4A53-9650-E61558B8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DD8-8761-4A7B-8A30-7F4E842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A85-8AA0-48D3-B07C-C46DF8D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4F3-50B4-4FF3-A24D-02465F1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892-9566-4F50-82D0-B6D9491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860-DAD2-4A81-8500-571883B0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BB5-FC16-447B-AE72-5EF3333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1B5-682C-48C2-86B5-2B6506A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034C-3A5A-44D7-AD1D-712E007AE044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1F8-85D1-4F53-917B-0B7E57FC341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Present simple and continu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44"/>
          <p:cNvGrpSpPr/>
          <p:nvPr/>
        </p:nvGrpSpPr>
        <p:grpSpPr>
          <a:xfrm>
            <a:off x="0" y="1197000"/>
            <a:ext cx="7921440" cy="5184000"/>
            <a:chOff x="0" y="1197000"/>
            <a:chExt cx="7921440" cy="5184000"/>
          </a:xfrm>
        </p:grpSpPr>
        <p:sp>
          <p:nvSpPr>
            <p:cNvPr id="155" name="Rectangle 5"/>
            <p:cNvSpPr/>
            <p:nvPr/>
          </p:nvSpPr>
          <p:spPr>
            <a:xfrm>
              <a:off x="1207440" y="1197000"/>
              <a:ext cx="2215440" cy="89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Affirmativ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>
              <a:off x="1207440" y="209412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read a book everyday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 reads a book 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0" y="209412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Presen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Comic Sans MS"/>
                </a:rPr>
                <a:t>simpl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3423240" y="2094120"/>
              <a:ext cx="241416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don’t play footb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doesn’t play footb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17"/>
            <p:cNvSpPr/>
            <p:nvPr/>
          </p:nvSpPr>
          <p:spPr>
            <a:xfrm>
              <a:off x="5840640" y="209412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Do you play football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Does he play football?</a:t>
              </a:r>
              <a:r>
                <a:rPr b="0" lang="es-ES" sz="14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18"/>
            <p:cNvSpPr/>
            <p:nvPr/>
          </p:nvSpPr>
          <p:spPr>
            <a:xfrm>
              <a:off x="3423240" y="1197000"/>
              <a:ext cx="2414160" cy="9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5840640" y="1197000"/>
              <a:ext cx="2080800" cy="90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Yes/No-Q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1207440" y="423576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am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You are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is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0" y="423576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Present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3423240" y="4235760"/>
              <a:ext cx="241416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’m no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You aren’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isn’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5840640" y="423576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Are you playing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s he playing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Rectangle 16"/>
          <p:cNvSpPr/>
          <p:nvPr/>
        </p:nvSpPr>
        <p:spPr>
          <a:xfrm>
            <a:off x="7956720" y="1197000"/>
            <a:ext cx="1187280" cy="936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-Q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956720" y="2133720"/>
            <a:ext cx="1187280" cy="2087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you play  everyda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956720" y="4221000"/>
            <a:ext cx="1187280" cy="2160720"/>
          </a:xfrm>
          <a:prstGeom prst="rect">
            <a:avLst/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are you playing no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ck your understanding with thi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ve and Have Got - Qui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ter ______________ a beautiful new house in the country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s OR has g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______________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(she) any childr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es she have OR Has she g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 __________ a fantastic apartment in New York when I lived the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m  __________ a shower at the moment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n you call back la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s ha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'm afraid we  _____________________ enough space in the gar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n’t got OR don’t ha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3:19Z</dcterms:created>
  <dc:creator>User</dc:creator>
  <dc:description/>
  <dc:language>en-US</dc:language>
  <cp:lastModifiedBy>win8</cp:lastModifiedBy>
  <dcterms:modified xsi:type="dcterms:W3CDTF">2014-10-17T10:11:15Z</dcterms:modified>
  <cp:revision>6</cp:revision>
  <dc:subject/>
  <dc:title>Present simple and continuous</dc:title>
</cp:coreProperties>
</file>