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4EF9-E8B8-4FA4-AF4D-45D3E583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9B2-A0BB-4409-91CF-CA59BAF9E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0E8E-F4C3-42BC-BC8F-F068F3ECD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4AF-75D4-443F-8612-E03E142DC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C0DD-4CF6-41EE-AE1B-52CC8A2C2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1D29-3530-4FA0-B6CD-30E31F47CD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FE2-E5AE-464B-8DEF-B93E05DB9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8F5D-1075-4D30-B277-9B3BFBD8F6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AEA-4131-40FB-9D87-250F2DE7E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C79-3E10-4AC0-9A37-A4652913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2B6-1788-4863-B721-98F9E7D3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C69-A1C5-4B5B-AFEF-4F37848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882-45F4-42CF-99F5-9FAD85D9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882E-1386-4270-8C57-7FA823AC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5A5-4FA5-4369-AD93-EA20D9E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59E-F355-4B3B-BD97-E654800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D7D4-6104-4399-A5D1-852C781B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EEA-2AF3-4501-9D21-6C08CCB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AF19-8443-4AF7-9D9B-B47A2B8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A2C2-727D-4491-A595-D666550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DC0-92B9-4C44-952E-249687E0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3E55-5740-4DD2-9FA1-E5747BA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0D2-D691-4A7A-ADF0-B337ACE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268-A011-4ED0-B55B-56B719D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BA42-7D99-4414-816C-7FF63EB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0D4-DD4D-4241-971D-B9BE6D7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B4F-FD98-4C05-814A-E436F89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679-936C-4E34-A51E-1C9A9C0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217-2AC2-4F9A-B0B7-8E6A46D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1E0-53D6-4334-A534-4546C213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194-E0EC-4F87-9E3A-92CAB9F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C9A-8C3B-4E22-BFB0-C98D9D2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DFB-5F1A-40F1-A07B-8BC5316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046-45C3-475A-9B54-1D719DFBA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B6E-66B2-43B2-9DE3-0B2EBC8E9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nglishexercises.org/makeagame/viewgame.asp?id=3565#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286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COMPARATIVE AND SUPERLATIVE ADJECTIV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OME RULES ABOUT FORMING COMPARATIVES AND SUPERL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0545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syllable adjectives generally form the comparative by adding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the superlative by adding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e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.g.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92360" y="3213000"/>
          <a:ext cx="6983280" cy="3240360"/>
        </p:xfrm>
        <a:graphic>
          <a:graphicData uri="http://schemas.openxmlformats.org/drawingml/2006/table">
            <a:tbl>
              <a:tblPr/>
              <a:tblGrid>
                <a:gridCol w="1871640"/>
                <a:gridCol w="2376360"/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f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f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sof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ea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eap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cheap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wee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wee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swee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nn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thinn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WO SYLLABLE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3342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wo syllable adjectives which end in </a:t>
            </a: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-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usually form the comparative by adding -er and the superlative by adding -est, (note the change of -y to -i in the comparative/superlative) e.g.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35280" y="3645000"/>
          <a:ext cx="6697440" cy="2646360"/>
        </p:xfrm>
        <a:graphic>
          <a:graphicData uri="http://schemas.openxmlformats.org/drawingml/2006/table">
            <a:tbl>
              <a:tblPr/>
              <a:tblGrid>
                <a:gridCol w="2027160"/>
                <a:gridCol w="2436840"/>
                <a:gridCol w="223344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ck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ck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lucki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t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tti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prettiest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d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di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tidi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WO SYLLABLE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syllable adjectives ending in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-ed, -ing, -ful, or -le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lways form the comparative with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o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the superlative with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the 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e.g.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0920" y="3860640"/>
          <a:ext cx="6330960" cy="2330640"/>
        </p:xfrm>
        <a:graphic>
          <a:graphicData uri="http://schemas.openxmlformats.org/drawingml/2006/table">
            <a:tbl>
              <a:tblPr/>
              <a:tblGrid>
                <a:gridCol w="2109960"/>
                <a:gridCol w="2111400"/>
                <a:gridCol w="2109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orri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worri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worr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or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b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b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efu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eles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use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use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HREE SYLLABLE ADJEC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025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jectives which have three or more syllables always form the comparative and superlative with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MOR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THE MO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e.g.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1700280"/>
          <a:ext cx="7554960" cy="1584360"/>
        </p:xfrm>
        <a:graphic>
          <a:graphicData uri="http://schemas.openxmlformats.org/drawingml/2006/table">
            <a:tbl>
              <a:tblPr/>
              <a:tblGrid>
                <a:gridCol w="2517840"/>
                <a:gridCol w="2519640"/>
                <a:gridCol w="2517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ngerou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dangerou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danger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fficul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re diffic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most diffic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IRREGULAR ADJEC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828800"/>
          <a:ext cx="7770600" cy="3076560"/>
        </p:xfrm>
        <a:graphic>
          <a:graphicData uri="http://schemas.openxmlformats.org/drawingml/2006/table">
            <a:tbl>
              <a:tblPr/>
              <a:tblGrid>
                <a:gridCol w="2232000"/>
                <a:gridCol w="2973240"/>
                <a:gridCol w="256536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Adjec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Compar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uperlativ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o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t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ors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wo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arther/furt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 farthest/furth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SE OF COMPARA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aratives are very commonly followed by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th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a pronoun or noun group, in order to describe who the other person or thing involved in the comparison is, e.g.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is taller than 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think that she’s more intelligent than her siste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SE OF SUPERLA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most delicious chocolate cake I’ve ever eate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s restaurant is the bes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 chi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nabel was the youngest of the childre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is restaurant is the best in town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ercis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Comic Sans MS"/>
                <a:hlinkClick r:id="rId1"/>
              </a:rPr>
              <a:t>http://www.englishexercises.org/makeagame/viewgame.asp?id=3565#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21:34:06Z</dcterms:created>
  <dc:creator> </dc:creator>
  <dc:description/>
  <dc:language>en-US</dc:language>
  <cp:lastModifiedBy>win8</cp:lastModifiedBy>
  <dcterms:modified xsi:type="dcterms:W3CDTF">2014-11-25T20:00:43Z</dcterms:modified>
  <cp:revision>7</cp:revision>
  <dc:subject/>
  <dc:title>COMPARATIVE AND SUPERLATIVE ADJECTIVES</dc:title>
</cp:coreProperties>
</file>