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570B-7172-4413-9374-DACF3EED5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05A2-8DC2-4ED2-A048-6D6801698F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DA48-3A64-4EF2-B54C-9E7CCA4B23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2EE6-3F2F-453C-9BE3-5CD4A39287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A1EE-4D60-49EA-BDF5-484B4C3CD5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9A3C-1CF8-428C-AC4C-E00E14A6E5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C3C2-0A9E-48CC-942E-E8ADFBF60E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3FC5-C74C-4EC6-8238-37B052CA4D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8D87-24DD-4401-A899-9ACD3A5222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45C-AC18-4645-B3C6-A765BDD1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5A8-0BE3-4C76-A5CA-B3B5AFA1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F7B-AD7D-403D-BF0A-BDDA3D0D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B96-B9C6-4A2E-ACFF-5ACF1930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BC3D-3562-4368-B1FC-70EC50A9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8D07-658A-4620-8571-3A2DD12C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30EB-E05C-4318-8DB7-283D3C52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3F8C-A0E5-4E64-85A5-16C42771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FB7A-EDA6-46DF-B90C-EE8E38FC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051C-0A60-4938-A919-8E1E4092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DD93-AB2C-4BA4-9EA0-BC60294B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6587-CBA1-48B9-A82B-A244546A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E900-2146-4FA3-B84B-5D4168DF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270F-E516-4163-BAA4-92A9CF18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8F62-6A6A-494F-9AFB-BB5E6394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6DB3-EFDD-4E04-AE10-D18F6788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E5EA-06B8-4073-89D6-67378A71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52E-4166-472B-90FF-B0181D63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3E18-8E68-41AF-955B-7326088B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13A-537B-4D87-A000-E3A9052C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578-D0C4-4462-865E-331D65D1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1BF-118A-4630-A12C-49549D5F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6F9-869F-4B6E-AEF0-114F9D45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35D-2136-494B-BB69-6353878B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8CE9-EFB4-4D28-AB4A-02FA328B7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FBF9-862F-44BB-BC9D-4C530F745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nglishexercises.org/makeagame/viewgame.asp?id=3565#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3286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COMPARATIVE AND SUPERLATIVE ADJECTIV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OME RULES ABOUT FORMING COMPARATIVES AND SUPERLATI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054560" cy="14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e syllable adjectives generally form the comparative by adding 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-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the superlative by adding 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-e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e.g.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692360" y="3213000"/>
          <a:ext cx="6983280" cy="3240360"/>
        </p:xfrm>
        <a:graphic>
          <a:graphicData uri="http://schemas.openxmlformats.org/drawingml/2006/table">
            <a:tbl>
              <a:tblPr/>
              <a:tblGrid>
                <a:gridCol w="1871640"/>
                <a:gridCol w="2376360"/>
                <a:gridCol w="2735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Adje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Compa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Superl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f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ft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sof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eap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eap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cheap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wee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weet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swee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nn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thinn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TWO SYLLABLE ADJECTI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33420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wo syllable adjectives which end in </a:t>
            </a: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-y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usually form the comparative by adding -er and the superlative by adding -est, (note the change of -y to -i in the comparative/superlative) e.g.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835280" y="3645000"/>
          <a:ext cx="6697440" cy="2646360"/>
        </p:xfrm>
        <a:graphic>
          <a:graphicData uri="http://schemas.openxmlformats.org/drawingml/2006/table">
            <a:tbl>
              <a:tblPr/>
              <a:tblGrid>
                <a:gridCol w="2027160"/>
                <a:gridCol w="2436840"/>
                <a:gridCol w="223344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Adjectiv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Comparativ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superl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ucky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ucki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lucki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t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tti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prettiest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d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di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tidi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TWO SYLLABLE ADJECTI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5492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o syllable adjectives ending in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-ed, -ing, -ful, or -les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lways form the comparative with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mor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nd the superlative with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the mos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e.g.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050920" y="3860640"/>
          <a:ext cx="6330960" cy="2330640"/>
        </p:xfrm>
        <a:graphic>
          <a:graphicData uri="http://schemas.openxmlformats.org/drawingml/2006/table">
            <a:tbl>
              <a:tblPr/>
              <a:tblGrid>
                <a:gridCol w="2109960"/>
                <a:gridCol w="2111400"/>
                <a:gridCol w="2109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Adjecti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Comparati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superl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orri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re worri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most worr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oring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re bo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most bo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efu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re caref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most caref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seles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re usel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most usel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THREE SYLLABLE ADJECTI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025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djectives which have three or more syllables always form the comparative and superlative with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MOR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THE MOS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e.g.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1700280"/>
          <a:ext cx="7554960" cy="1584360"/>
        </p:xfrm>
        <a:graphic>
          <a:graphicData uri="http://schemas.openxmlformats.org/drawingml/2006/table">
            <a:tbl>
              <a:tblPr/>
              <a:tblGrid>
                <a:gridCol w="2517840"/>
                <a:gridCol w="2519640"/>
                <a:gridCol w="25174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Adjectiv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Comparativ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Superlativ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angerou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re dangerou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most danger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fficul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re difficul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most difficul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IRREGULAR ADJECTI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11280" y="1828800"/>
          <a:ext cx="7770600" cy="3076560"/>
        </p:xfrm>
        <a:graphic>
          <a:graphicData uri="http://schemas.openxmlformats.org/drawingml/2006/table">
            <a:tbl>
              <a:tblPr/>
              <a:tblGrid>
                <a:gridCol w="2232000"/>
                <a:gridCol w="2973240"/>
                <a:gridCol w="2565360"/>
              </a:tblGrid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Adjectiv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Comparativ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Superlativ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ood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ett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b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d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ors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wor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a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arther/fur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farthest/furth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USE OF COMPARATI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aratives are very commonly followed by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th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nd a pronoun or noun group, in order to describe who the other person or thing involved in the comparison is, e.g.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ohn is taller than 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think that she’s more intelligent than her siste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USE OF SUPERLATI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he most delicious chocolate cake I’ve ever eate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nnabel was the younges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his restaurant is the bes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nnabel was the youngest chil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nnabel was the youngest of the childre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his restaurant is the best in town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xerci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Comic Sans MS"/>
                <a:hlinkClick r:id="rId1"/>
              </a:rPr>
              <a:t>http://www.englishexercises.org/makeagame/viewgame.asp?id=3565#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21:34:06Z</dcterms:created>
  <dc:creator> </dc:creator>
  <dc:description/>
  <dc:language>en-US</dc:language>
  <cp:lastModifiedBy>win8</cp:lastModifiedBy>
  <dcterms:modified xsi:type="dcterms:W3CDTF">2014-11-25T20:00:43Z</dcterms:modified>
  <cp:revision>7</cp:revision>
  <dc:subject/>
  <dc:title>COMPARATIVE AND SUPERLATIVE ADJECTIVES</dc:title>
</cp:coreProperties>
</file>