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2487-21B1-42FE-BD53-0C3196404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6BA8-B850-4DD2-BD52-1339455E1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055-B656-446D-9D8B-0743F150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3DA2-0B2D-4CD4-BEA2-56601536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851-59EB-432D-90FE-A70577AB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27F2-FEDC-40E7-A601-EC917393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C6F8-B20D-487D-9328-AF27E22E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6668-7D9B-457C-90E2-D5A00001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1EFD-4DA2-4849-AF6F-E21794F7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CD89-5AD2-4E3C-A8CC-D6F4F69D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A073-7E8F-443F-8BD3-EDD96264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9E7E-5680-47A5-BE2D-2E74478D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B423-1D8E-41C4-814E-54C3406B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3F39-3D97-4A1D-8596-796E7192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5C94-4191-405A-8DD0-15B39F4F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8E23-3D99-42FD-B8E3-349B1A25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CC99-6679-4419-A196-FAEC2B9A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5A4E-0E13-4AC4-8C60-19DA43FF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E694-6E20-4293-9AF0-4CE261F0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E932B-5F1C-4ABC-932D-BE8830A3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2E17F-0DE3-495B-80A0-C2779B98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61A9D-DFBE-40C0-BE98-BA4913B0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9E860-E5E6-4B23-9330-F9D595F6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20735-C14F-427E-9C23-8DE83B11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C0F-62A5-4333-A3A8-074BFEEC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CF814-C158-40FB-BE09-5A4BDA28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F470F-E2E4-4073-BD0F-3BBEF818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25AC0-4102-496B-A4F1-9A8241E4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79640-8B3E-4D81-AF53-1444FA6C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EDE1F-4892-4ABA-8991-F2E44183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A0793-1CF4-4083-B9AF-8E142C04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99C58-8DB0-4DF5-B985-F8438635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F91E6-EC40-4C7B-8FCA-60BA8F87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B8D35-1C5B-4EBD-9AD0-0F9B9C5B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D61F3-A11A-441B-9B31-24AB9A01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DB5-8A2E-48AC-9FA4-BBE851E7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26DFE-ACF4-48B4-A881-709CEFFF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009C8-3717-415C-9DB4-62FCF236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08AEA-95A0-4DCE-BEDD-DBCCA069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DBCE9-FDDA-49A1-A960-3D0751A2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67F15-4FD9-48F1-B86B-9EC0751D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A2C39-184D-4079-81EA-402F1CEE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54410-BA68-4CFD-959B-5325414F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9AFAB-C6A1-4A72-9A37-6C777324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DE0A0-E08D-4CC7-AD8E-149C717B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0FAB4-5A79-4C6D-8EBD-30177897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159-9881-46F6-BBAE-701CF758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9CDBC-30FB-4CB9-A823-A8A44974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3160F-7152-4208-8336-9742534B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36289-755D-4C75-80F4-A1C1A74B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6615A-E8AE-49B8-85A9-9408D48A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E196E-BD7C-4053-958F-BDB0A9AA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9EEF6-E2ED-4134-9DC3-D4BC02B8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3F358-8419-4958-BFC1-B3136B53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2B67D-A0C7-43D2-941F-D47D002F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D4193-46BC-4CF3-8F60-DF3B2D78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3C88F-B766-42CD-8C24-F98C1524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2DB-E0D6-4169-AC49-034070A2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6C204-F737-447A-946B-423A7535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B8FB-D324-48E4-94FE-532391F6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7B6C-F54A-409E-A80B-6BFF1709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0E5-9891-43EB-81F3-079F7D1E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1A2F-E71E-4D44-8A14-E90B6CE717C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7DBF-CDAF-48B5-AE0F-2B33E7121BB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83E9-4244-4CC4-832D-15C3B222A33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2BE2-E978-4AC9-AA93-EC6F0746A2C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F381-984D-4A7D-B59C-0CFD3347757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www.google.com.sa/url?sa=i&amp;rct=j&amp;q=&amp;esrc=s&amp;source=images&amp;cd=&amp;cad=rja&amp;uact=8&amp;ved=0ahUKEwiT4taalJzPAhWKfhoKHRxtDtEQjRwIBw&amp;url=https%3A%2F%2Fen.wikipedia.org%2Fwiki%2FDNA_sequencing&amp;psig=AFQjCNHNpqCaKYPntYre6eT-oregmWiatg&amp;ust=1474399464345085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Basic Components of Human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3. Developmental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Perpetua"/>
              </a:rPr>
              <a:t>The branch of science of development which attempts to understand the role of genes in developm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Perpetua"/>
              </a:rPr>
              <a:t>the process that gives rise to tissues, organs and anatom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Perpetua"/>
              </a:rPr>
              <a:t>It is a process which brings about various changes in fertilized egg to make it into a complete adul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4.  Physiological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This branch of genetics involves the use of knowledge of physiology to elucidate the effects produced by genetic factors on an individu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 relationship of hereditary diseases and genetic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575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5. Immunogenetics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144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2626"/>
                </a:solidFill>
                <a:latin typeface="Perpetua"/>
              </a:rPr>
              <a:t>	</a:t>
            </a:r>
            <a:r>
              <a:rPr b="1" lang="en-US" sz="2600" spc="-1" strike="noStrike">
                <a:solidFill>
                  <a:srgbClr val="262626"/>
                </a:solidFill>
                <a:latin typeface="Perpetua"/>
              </a:rPr>
              <a:t>- </a:t>
            </a:r>
            <a:r>
              <a:rPr b="0" lang="en-US" sz="2600" spc="-1" strike="noStrike">
                <a:solidFill>
                  <a:srgbClr val="262626"/>
                </a:solidFill>
                <a:latin typeface="Perpetua"/>
              </a:rPr>
              <a:t>It is a branch of science which is concerned with the genetic aspects of immunity mechanism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6. Clinical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It is a branch of genetics which helps to establish the causative factors responsible for certain disease like Diabetes Mellitus, Haemophilia etc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7. Radiation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This branch of genetics involves the study of effects of various radiation on gen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Franklin Gothic Book"/>
              </a:rPr>
              <a:t>8. Eugenics- “eu” means “good/well”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Franklin Gothic Book"/>
              </a:rPr>
              <a:t>genes means born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14400" y="26668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It is a branch of science which deals with the application of principles of heredity to the improvement of mankin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Francis Galton defined eugenics as the study of all agencies under human control which can improve or impair the racial quality of future generation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 Categories of Eugen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1. Positive Eugenic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imed at encouraging reproduction among the genetically advantag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: the reproduction of the intelligent, the healthy and the successfu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pproaches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nancial and political stimul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argeted demographic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vitrofertiliz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gg transpl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n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76480" y="531720"/>
            <a:ext cx="679896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176480" y="1371600"/>
            <a:ext cx="67989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Negative Eugenic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imed to eliminate through sterilization or segreg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hysically, mentally or morally undesirab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pproache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bortion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teriliz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r other methods of family plann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" descr=""/>
          <p:cNvPicPr/>
          <p:nvPr/>
        </p:nvPicPr>
        <p:blipFill>
          <a:blip r:embed="rId1"/>
          <a:srcRect l="0" t="0" r="13990" b="15026"/>
          <a:stretch/>
        </p:blipFill>
        <p:spPr>
          <a:xfrm>
            <a:off x="3124080" y="4038480"/>
            <a:ext cx="2819520" cy="25909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The Human Genome Project formally began in 1990 and was completed in 2003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Human Genome Projec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Franklin Gothic Book"/>
              </a:rPr>
              <a:t>What is Human Genome Projec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38080" y="2514600"/>
            <a:ext cx="74678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an international scientific research proje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Project was coordinated by the National Institutes of Health and the U.S. Department of Energy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dditional contributors included universities across the United States and international partners in the United Kingdom, France, Germany, Japan, and China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Franklin Gothic Book"/>
              </a:rPr>
              <a:t>What is Genetics?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Genetics –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is the branch of biological sciences which deals with the transmission of characters from parents to offspring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term genetics was coined by Bateson in 1906. It has been derived from the Greek word ‘gene’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gene= ‘to become’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Genes –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t of characteristics inherited from your par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ound on chromosomes and contain DN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144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is a collaborative venture to identify and mark all the locations of every genome of the human spec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US, the HGP was started at 1990 and was expected to be a fifteen year effort to map the human geno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2003 the project accelerated its prog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pes to discover 50,000- 100,000 human genes and make them available for further biologic study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Goals of Human Genome Projec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62120" y="16765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termine the entire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equence of human DNA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(3,000,000,000 bases in the haploid human genome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dentify all the genes in human DNA approximately 35,000 gen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ore this information in databas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mprove tools for data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fer related technologies to the private sect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ddress the ethical, legal, and social issues (ELSI) that may arise from the projec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DNA sequencing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4479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quencing means determining the exact order of the base pairs in a segment of DN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p-based 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(gene mapping)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r BAC- based 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(bacterial-artificial chromosome)-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a method used by the HGP to produce the finished version of the human genetic cod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2" name="Picture 2" descr="Image result for dna sequencing mach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1447920"/>
            <a:ext cx="2248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enefits of HGP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1.  In the field of molecular medici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etter diagnosis of disease,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arly detection of certain diseas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ene therapy and control systems of drug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the future there should be new treatments in molecular medicine that don’t treat the symptoms but look at the causes of the problem at han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enefits of HGP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2. In the field of microbial genomic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y may be able to find new energy sources, through the sequencing of a bacterial geno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could lead to discoveries that are useful in energy production, toxic waste reduction, and industrial process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enefits of HGP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an be very useful  for the understanding of human evolution and human migra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it may help lead scientists to find out how humans evolved and how humans are evolving toda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4. It will help to understand the common biology that we share with life on earth.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aring our genome with others may help to lead to associations of diseases with certain trait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enefits of HGP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144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5. In the field of agriculture and livestock breed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this technology could help to develop disease, insect, and drought resistant crops thus being able to produce more for the worl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it also help to produce healthier, more productive, and possibly disease resistant animals to be sent to marke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1782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isadvantages of Human Genome Projec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14400" y="2362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esearch cost is high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eople are afraid of discrimination of gen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eople don’t support gene therapy because it’s “against nature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Ethical, Legal, and Social Issu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05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Fairness in the use of genetic information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y insurers, employers, courts, schools, adoption agencies, and the military, among other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sychological impact, stigmatization, and discrimination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ased on genetic differences/ disorder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rivacy and confidentialit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of genetic in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eproductive issues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cluding adequate and informed consent and use of genetic information in reproductive decision mak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linical issues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cluding the education of doctors and other health-service providers, people identified with genetic conditions, and the general public about capabilities, limitations, and social risks; and implementation of standards and quality-control measur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Franklin Gothic Book"/>
              </a:rPr>
              <a:t>PREDICTIONS FOR THE </a:t>
            </a:r>
            <a:br>
              <a:rPr sz="3600"/>
            </a:br>
            <a:r>
              <a:rPr b="1" lang="en-US" sz="3600" spc="-1" strike="noStrike">
                <a:solidFill>
                  <a:srgbClr val="262626"/>
                </a:solidFill>
                <a:latin typeface="Franklin Gothic Book"/>
              </a:rPr>
              <a:t>NEXT TEN YEAR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144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cience Will Pinpoint What Makes Us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Homo Sapie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9996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the near future, scientists will be able to compare our genome against those of our evolutionary cousins, such as chimpanzees and Neanderthals, to get a clearer sense of which genes are involved in making us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Homo sapie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Heredit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ransfer of character or traits from the parents to offspr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3" descr="http://4.bp.blogspot.com/-wxE0HqQ8ln4/UMitjXOIttI/AAAAAAAABcM/-lS7hOjwflE/s1600/heredity.jpg"/>
          <p:cNvPicPr/>
          <p:nvPr/>
        </p:nvPicPr>
        <p:blipFill>
          <a:blip r:embed="rId1"/>
          <a:stretch/>
        </p:blipFill>
        <p:spPr>
          <a:xfrm>
            <a:off x="4065480" y="3432240"/>
            <a:ext cx="4761000" cy="2730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https://i.ytimg.com/vi/kLpr6t4-eLI/hqdefault.jpg"/>
          <p:cNvPicPr/>
          <p:nvPr/>
        </p:nvPicPr>
        <p:blipFill>
          <a:blip r:embed="rId2"/>
          <a:stretch/>
        </p:blipFill>
        <p:spPr>
          <a:xfrm>
            <a:off x="609480" y="3432240"/>
            <a:ext cx="31705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2. Gene Therapy will cure diseas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ene therapy—curing ailments by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placing faulty copies of genes with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rmal ones—will finally become a reality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kely within the next decad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2626"/>
                </a:solidFill>
                <a:latin typeface="Perpetua"/>
              </a:rPr>
              <a:t>3. Personal Genomes Will Spawn Made-to-Measure Drug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Perpetua"/>
              </a:rPr>
              <a:t>Thanks to improving technology, within the next five years a person should be able to have his or her entire genome sequenced for about a thousand U.S. dollars, many experts sa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Franklin Gothic Book"/>
              </a:rPr>
              <a:t>4. Personality Will Move From Art to Scienc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scientists learn to better understand the information contained in our genomes, they will get better at predicting how genes influence the development of physical and mental traits and even behavior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922400" y="4651200"/>
            <a:ext cx="530856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922400" y="1811160"/>
            <a:ext cx="5308560" cy="24559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Role of the Nurse in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ake detailed family history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nstruct Pedigre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76480" y="836280"/>
            <a:ext cx="679896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76480" y="2286000"/>
            <a:ext cx="679896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ssess hereditary and non hereditary risk factors related to genetic diseases, or diseases with a genetic compon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ovide genetic information to individuals and famili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terpret genetic tests and laboratory dat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anage and care for patients and families at risk for or affected by genetic diseases or diseases with a genetic component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ovide genetic counseling, genetic consultation, and case management for persons with complex genetic health care need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ANK YOU!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Vari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763280" y="1341000"/>
            <a:ext cx="6923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imilarities and differences between the character or traits among the individuals of the same spec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5" name="Picture 3" descr="http://www.buzzle.com/img/articleImages/610092-3977-31.jpg"/>
          <p:cNvPicPr/>
          <p:nvPr/>
        </p:nvPicPr>
        <p:blipFill>
          <a:blip r:embed="rId1"/>
          <a:stretch/>
        </p:blipFill>
        <p:spPr>
          <a:xfrm>
            <a:off x="0" y="2803680"/>
            <a:ext cx="4065480" cy="3908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http://lh3.ggpht.com/-x3BkzTmPzIQ/U53AF_hGYmI/AAAAAAAAB1A/-43vFGzBwOg/lb_thumb%25255B1%25255D.jpg?imgmax=800"/>
          <p:cNvPicPr/>
          <p:nvPr/>
        </p:nvPicPr>
        <p:blipFill>
          <a:blip r:embed="rId2"/>
          <a:stretch/>
        </p:blipFill>
        <p:spPr>
          <a:xfrm>
            <a:off x="2554200" y="3121200"/>
            <a:ext cx="3816360" cy="3511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https://www.anbg.gov.au/cpbr/cd-keys/orchidkey/html/images/essay/thumbnails/P016026.jpg"/>
          <p:cNvPicPr/>
          <p:nvPr/>
        </p:nvPicPr>
        <p:blipFill>
          <a:blip r:embed="rId3"/>
          <a:stretch/>
        </p:blipFill>
        <p:spPr>
          <a:xfrm>
            <a:off x="4932360" y="3017880"/>
            <a:ext cx="40528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IMPLICATIONS OF GENETICS TO HUMAN WELL-BEING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Knowledge of genetics is helpful in understanding the causation of diseas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also helps us to understand how normal variation between individuals are brought abou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Knowledge of genetics has also led to possible means of prevention of genetic disorders through genetic counseling and antenatal diagnosi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enetics serves to solve even legal problems. Legal cases involving disputed parentage may be sorted out by an analysis of blood groups or other inherited characteristic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922400" y="4114800"/>
            <a:ext cx="53085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RELATIONSHIP TO OTHER SCIENC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Franklin Gothic Book"/>
              </a:rPr>
              <a:t>Genetics in relation to other scien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3" name="Content Placeholder 3" descr=""/>
          <p:cNvPicPr/>
          <p:nvPr/>
        </p:nvPicPr>
        <p:blipFill>
          <a:blip r:embed="rId1"/>
          <a:stretch/>
        </p:blipFill>
        <p:spPr>
          <a:xfrm>
            <a:off x="-1828800" y="841320"/>
            <a:ext cx="13106520" cy="5711760"/>
          </a:xfrm>
          <a:prstGeom prst="rect">
            <a:avLst/>
          </a:prstGeom>
          <a:ln w="0">
            <a:noFill/>
          </a:ln>
        </p:spPr>
      </p:pic>
      <p:sp>
        <p:nvSpPr>
          <p:cNvPr id="254" name="Oval 2"/>
          <p:cNvSpPr/>
          <p:nvPr/>
        </p:nvSpPr>
        <p:spPr>
          <a:xfrm>
            <a:off x="5472000" y="1504800"/>
            <a:ext cx="2071800" cy="1170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Biochem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5327640" y="4332240"/>
            <a:ext cx="2119320" cy="109368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Phys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"/>
          <p:cNvSpPr/>
          <p:nvPr/>
        </p:nvSpPr>
        <p:spPr>
          <a:xfrm>
            <a:off x="3051000" y="5124600"/>
            <a:ext cx="2432160" cy="103968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Immunogen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3344760" y="979560"/>
            <a:ext cx="2119320" cy="1123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Browallia New"/>
              </a:rPr>
              <a:t>Cytogen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5867280" y="2960640"/>
            <a:ext cx="2210040" cy="1069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Develop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1476360" y="4273560"/>
            <a:ext cx="1892160" cy="1096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9"/>
          <p:cNvSpPr/>
          <p:nvPr/>
        </p:nvSpPr>
        <p:spPr>
          <a:xfrm>
            <a:off x="1339920" y="1596960"/>
            <a:ext cx="1996920" cy="1143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  <a:ea typeface="Browallia New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0"/>
          <p:cNvSpPr/>
          <p:nvPr/>
        </p:nvSpPr>
        <p:spPr>
          <a:xfrm>
            <a:off x="838080" y="2860560"/>
            <a:ext cx="1938600" cy="1170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Eugen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1"/>
          <p:cNvSpPr/>
          <p:nvPr/>
        </p:nvSpPr>
        <p:spPr>
          <a:xfrm>
            <a:off x="3559320" y="2800440"/>
            <a:ext cx="1523880" cy="14745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Gen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13"/>
          <p:cNvSpPr/>
          <p:nvPr/>
        </p:nvSpPr>
        <p:spPr>
          <a:xfrm>
            <a:off x="4343400" y="2103480"/>
            <a:ext cx="0" cy="6969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15"/>
          <p:cNvSpPr/>
          <p:nvPr/>
        </p:nvSpPr>
        <p:spPr>
          <a:xfrm>
            <a:off x="3179880" y="2495520"/>
            <a:ext cx="603000" cy="5205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8"/>
          <p:cNvSpPr/>
          <p:nvPr/>
        </p:nvSpPr>
        <p:spPr>
          <a:xfrm flipH="1">
            <a:off x="4861080" y="2451240"/>
            <a:ext cx="777600" cy="5648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21"/>
          <p:cNvSpPr/>
          <p:nvPr/>
        </p:nvSpPr>
        <p:spPr>
          <a:xfrm>
            <a:off x="2776680" y="3446640"/>
            <a:ext cx="78264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23"/>
          <p:cNvSpPr/>
          <p:nvPr/>
        </p:nvSpPr>
        <p:spPr>
          <a:xfrm>
            <a:off x="5083200" y="3495600"/>
            <a:ext cx="78408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25"/>
          <p:cNvSpPr/>
          <p:nvPr/>
        </p:nvSpPr>
        <p:spPr>
          <a:xfrm flipH="1">
            <a:off x="3211200" y="4059360"/>
            <a:ext cx="571320" cy="458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28"/>
          <p:cNvSpPr/>
          <p:nvPr/>
        </p:nvSpPr>
        <p:spPr>
          <a:xfrm>
            <a:off x="4861080" y="4059360"/>
            <a:ext cx="776160" cy="4334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31"/>
          <p:cNvSpPr/>
          <p:nvPr/>
        </p:nvSpPr>
        <p:spPr>
          <a:xfrm flipH="1">
            <a:off x="4267080" y="4275000"/>
            <a:ext cx="54000" cy="8496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1. Cyto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38080" y="2514600"/>
            <a:ext cx="73152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536400" indent="-22392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 branch of genetics that is concerned with the study of the structure and function of the cell, especially the chromosom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discipline is concerned with the cytologic and molecular bases of genetic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Example: Down syndrome (trisomy 21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Patau Syndrome (trisomy 13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Edward Syndrome (trisomy 18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Chronic Myelogenous Leukemia (has a small chromosomes in WBC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2. Biochemical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udy of fundamental relationships between genes, protein, and metabolism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involves the study of the cause of many heritable diseas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CKLE CELL ANEMIA and THALASSEM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HENYLKETONURIA and GALACTOSEM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21:14:55Z</dcterms:created>
  <dc:creator>LIZA</dc:creator>
  <dc:description/>
  <dc:language>en-US</dc:language>
  <cp:lastModifiedBy>Abdualrahman Alshehry</cp:lastModifiedBy>
  <dcterms:modified xsi:type="dcterms:W3CDTF">2016-09-24T09:21:36Z</dcterms:modified>
  <cp:revision>123</cp:revision>
  <dc:subject/>
  <dc:title>UNIT I: INTRODUCTION</dc:title>
</cp:coreProperties>
</file>