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C51B-26BE-4FD9-829A-1C8EB41DC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078A-C7DA-4701-9F84-6A03077FA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0461-BB0B-4CB7-998E-9E00197F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4918-973F-49A6-8965-1D1ED219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0B0-79D9-47EB-94B8-9742C55D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033E-59BF-4CA1-AB5A-D79810FC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812E-5BAD-4813-86EB-FF3F075C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88EE-77F0-4A87-AE9B-9B9FB1EB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B795-C26F-4779-9BD0-E9DEE4A2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B2C8-E362-477C-9631-A9785961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7A9E-C2C2-4908-81DC-D82439B2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7F0A-968C-409A-A1DD-5B79A054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E8AF-3E70-4A0E-88BA-FAF98BAE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3988-BD17-4A0B-828D-FA96EE56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0D9D-C3E5-4C03-B56C-00F06EA0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0D6F-C297-4A08-95C0-8E8C1D8E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05FD-1B0C-4C98-B229-A263E57A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004F-8BC8-401B-8ABB-6D3BC8EB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4993-B54B-43A4-8F65-3D7D8419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F7294-C1C5-42C9-B47A-15F2250C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02985-6D90-42E4-BB80-89E439ED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F76F6-DD11-453C-9B29-AF5DC9D6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BC738-B81B-4504-BCA7-87EDA216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21E33-11FC-431F-A55E-14CA2C8B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C23D-9334-470A-8298-3FC0F3E5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75319-3A60-4A15-AB6E-2845DE70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86357-B372-43EA-9BF7-ADB30495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B90E3-D9CC-4B1A-9387-6581268D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C2304-4A4F-4027-A5EE-B02E2A30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8E85A-FD17-4A5B-A4F2-1413F0A8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0AA69-58FE-4F58-B327-1033661D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C1473-D359-42EA-8367-76518255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19B70-B069-4632-ADF8-7B1ABCCC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D9AF7-00EA-4F4D-935C-6DDCD75C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1A52F-3D64-44C4-906E-65ADF479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DD83-84FE-4114-8064-549C862A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5B176-3C72-45F0-97DC-63C11F17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00DCE-7717-4C3D-AEF9-66318F23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78682-B44C-4848-9E3B-53D6D965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9A0E2-C66F-481D-8AC8-F11DCFBA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80982-5DCF-47DF-87BF-C9692B27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09F13-6D10-4F74-9402-F8D42690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49416-854C-49F4-987E-A7450506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FE765-1B9D-4020-A964-3430B749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6A6C8-98D1-44AC-9097-C58A646C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FE4A5-29FE-4725-959C-6DAD2FFF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D9C5-8AAF-4213-9C77-A20F2719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CFB9E-F858-47B4-8097-2D923710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CFF93-DE35-4AC2-83CE-ACE86631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C9090-73DC-457E-A65D-A1867A20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BDCA5-3F35-41B8-A96F-5FFBD683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08644-5F76-410F-B27F-ED6B268F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8C4D5-5C94-4D62-9C70-FAAAAA58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8A800-CFB6-4138-A5AB-435FE269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890AF-6E31-44E3-A3AC-A40CAD3F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2B27D-79FB-4FD1-8984-A6895592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0C8DD-A595-4C71-8616-CEA929E4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3978-755E-452E-B8AD-08642EAB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80162-0C50-4113-89FB-46D1E417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ADD7-D563-4072-8621-FA1CA4A8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DA5C-27B2-49A7-A616-CE734E4B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98FC-A279-4D8E-AFB1-BC449231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1CFB-02BE-4548-99B0-70EF08EB039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4179-DF3F-4FEE-AAE5-FBBCC9BEFDC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4B6B-696D-4D52-93F8-5CE8FA26507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852F-4CAE-4C30-A49F-8DFF47ABA97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214F-BFF8-4435-B096-C6940D4292F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www.google.com.sa/url?sa=i&amp;rct=j&amp;q=&amp;esrc=s&amp;source=images&amp;cd=&amp;cad=rja&amp;uact=8&amp;ved=0ahUKEwiT4taalJzPAhWKfhoKHRxtDtEQjRwIBw&amp;url=https%3A%2F%2Fen.wikipedia.org%2Fwiki%2FDNA_sequencing&amp;psig=AFQjCNHNpqCaKYPntYre6eT-oregmWiatg&amp;ust=1474399464345085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Basic Components of Human Gene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3. Developmental Gene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Perpetua"/>
              </a:rPr>
              <a:t>The branch of science of development which attempts to understand the role of genes in developm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Perpetua"/>
              </a:rPr>
              <a:t>the process that gives rise to tissues, organs and anatom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Perpetua"/>
              </a:rPr>
              <a:t>It is a process which brings about various changes in fertilized egg to make it into a complete adul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4.  Physiological Gene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This branch of genetics involves the use of knowledge of physiology to elucidate the effects produced by genetic factors on an individua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 relationship of hereditary diseases and genetic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575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5. Immunogenetics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9144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2626"/>
                </a:solidFill>
                <a:latin typeface="Perpetua"/>
              </a:rPr>
              <a:t>	</a:t>
            </a:r>
            <a:r>
              <a:rPr b="1" lang="en-US" sz="2600" spc="-1" strike="noStrike">
                <a:solidFill>
                  <a:srgbClr val="262626"/>
                </a:solidFill>
                <a:latin typeface="Perpetua"/>
              </a:rPr>
              <a:t>- </a:t>
            </a:r>
            <a:r>
              <a:rPr b="0" lang="en-US" sz="2600" spc="-1" strike="noStrike">
                <a:solidFill>
                  <a:srgbClr val="262626"/>
                </a:solidFill>
                <a:latin typeface="Perpetua"/>
              </a:rPr>
              <a:t>It is a branch of science which is concerned with the genetic aspects of immunity mechanism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6. Clinical Gene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It is a branch of genetics which helps to establish the causative factors responsible for certain disease like Diabetes Mellitus, Haemophilia etc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7. Radiation Gene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This branch of genetics involves the study of effects of various radiation on gen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Franklin Gothic Book"/>
              </a:rPr>
              <a:t>8. Eugenics- “eu” means “good/well”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Franklin Gothic Book"/>
              </a:rPr>
              <a:t>genes means born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914400" y="26668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It is a branch of science which deals with the application of principles of heredity to the improvement of mankin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Francis Galton defined eugenics as the study of all agencies under human control which can improve or impair the racial quality of future generation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 Categories of Eugen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1. Positive Eugenic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imed at encouraging reproduction among the genetically advantag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: the reproduction of the intelligent, the healthy and the successfu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pproaches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nancial and political stimul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argeted demographic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vitrofertiliz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gg transpl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on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76480" y="531720"/>
            <a:ext cx="679896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176480" y="1371600"/>
            <a:ext cx="679896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. Negative Eugenic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imed to eliminate through sterilization or segreg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hysically, mentally or morally undesirabl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pproache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72560" indent="-2145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bortion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72560" indent="-2145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teriliz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72560" indent="-2145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Or other methods of family planni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72560" indent="-2145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" descr=""/>
          <p:cNvPicPr/>
          <p:nvPr/>
        </p:nvPicPr>
        <p:blipFill>
          <a:blip r:embed="rId1"/>
          <a:srcRect l="0" t="0" r="13990" b="15026"/>
          <a:stretch/>
        </p:blipFill>
        <p:spPr>
          <a:xfrm>
            <a:off x="3124080" y="4038480"/>
            <a:ext cx="2819520" cy="25909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The Human Genome Project formally began in 1990 and was completed in 2003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Human Genome Projec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Franklin Gothic Book"/>
              </a:rPr>
              <a:t>What is Human Genome Projec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838080" y="2514600"/>
            <a:ext cx="74678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s an international scientific research projec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Project was coordinated by the National Institutes of Health and the U.S. Department of Energy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dditional contributors included universities across the United States and international partners in the United Kingdom, France, Germany, Japan, and China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Franklin Gothic Book"/>
              </a:rPr>
              <a:t>What is Genetics?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Genetics –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t is the branch of biological sciences which deals with the transmission of characters from parents to offspring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term genetics was coined by Bateson in 1906. It has been derived from the Greek word ‘gene’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gene= ‘to become’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Genes –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t of characteristics inherited from your par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Found on chromosomes and contain DN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9144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 is a collaborative venture to identify and mark all the locations of every genome of the human speci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US, the HGP was started at 1990 and was expected to be a fifteen year effort to map the human genom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2003 the project accelerated its prog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opes to discover 50,000- 100,000 human genes and make them available for further biologic study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Goals of Human Genome Projec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762120" y="1676520"/>
            <a:ext cx="7696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termine the entire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sequence of human DNA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(3,000,000,000 bases in the haploid human genome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dentify all the genes in human DNA approximately 35,000 gen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ore this information in databas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mprove tools for data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fer related technologies to the private secto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ddress the ethical, legal, and social issues (ELSI) that may arise from the projec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DNA sequencing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4479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quencing means determining the exact order of the base pairs in a segment of DN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p-based 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(gene mapping)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r BAC- based 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(bacterial-artificial chromosome)-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s a method used by the HGP to produce the finished version of the human genetic cod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2" name="Picture 2" descr="Image result for dna sequencing machi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1447920"/>
            <a:ext cx="2248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enefits of HGP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1.  In the field of molecular medicin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etter diagnosis of disease,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arly detection of certain diseas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ene therapy and control systems of drug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the future there should be new treatments in molecular medicine that don’t treat the symptoms but look at the causes of the problem at han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enefits of HGP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2. In the field of microbial genomic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y may be able to find new energy sources, through the sequencing of a bacterial genom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s could lead to discoveries that are useful in energy production, toxic waste reduction, and industrial processin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enefits of HGP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Can be very useful  for the understanding of human evolution and human migrat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it may help lead scientists to find out how humans evolved and how humans are evolving toda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4. It will help to understand the common biology that we share with life on earth.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paring our genome with others may help to lead to associations of diseases with certain trait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enefits of HGP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144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5. In the field of agriculture and livestock breed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this technology could help to develop disease, insect, and drought resistant crops thus being able to produce more for the worl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it also help to produce healthier, more productive, and possibly disease resistant animals to be sent to marke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1782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isadvantages of Human Genome Projec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14400" y="23623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Research cost is high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eople are afraid of discrimination of gen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eople don’t support gene therapy because it’s “against nature”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Franklin Gothic Book"/>
              </a:rPr>
              <a:t>Ethical, Legal, and Social Issue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05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Fairness in the use of genetic information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y insurers, employers, courts, schools, adoption agencies, and the military, among other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Psychological impact, stigmatization, and discrimination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ased on genetic differences/ disorder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Privacy and confidentialit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of genetic in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Reproductive issues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cluding adequate and informed consent and use of genetic information in reproductive decision mak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Clinical issues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cluding the education of doctors and other health-service providers, people identified with genetic conditions, and the general public about capabilities, limitations, and social risks; and implementation of standards and quality-control measur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Franklin Gothic Book"/>
              </a:rPr>
              <a:t>PREDICTIONS FOR THE </a:t>
            </a:r>
            <a:br>
              <a:rPr sz="3600"/>
            </a:br>
            <a:r>
              <a:rPr b="1" lang="en-US" sz="3600" spc="-1" strike="noStrike">
                <a:solidFill>
                  <a:srgbClr val="262626"/>
                </a:solidFill>
                <a:latin typeface="Franklin Gothic Book"/>
              </a:rPr>
              <a:t>NEXT TEN YEAR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144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cience Will Pinpoint What Makes Us 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Homo Sapie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9996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 the near future, scientists will be able to compare our genome against those of our evolutionary cousins, such as chimpanzees and Neanderthals, to get a clearer sense of which genes are involved in making us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Homo sapie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Franklin Gothic Book"/>
              </a:rPr>
              <a:t>Heredit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transfer of character or traits from the parents to offsprin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Picture 3" descr="http://4.bp.blogspot.com/-wxE0HqQ8ln4/UMitjXOIttI/AAAAAAAABcM/-lS7hOjwflE/s1600/heredity.jpg"/>
          <p:cNvPicPr/>
          <p:nvPr/>
        </p:nvPicPr>
        <p:blipFill>
          <a:blip r:embed="rId1"/>
          <a:stretch/>
        </p:blipFill>
        <p:spPr>
          <a:xfrm>
            <a:off x="4065480" y="3432240"/>
            <a:ext cx="4761000" cy="2730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https://i.ytimg.com/vi/kLpr6t4-eLI/hqdefault.jpg"/>
          <p:cNvPicPr/>
          <p:nvPr/>
        </p:nvPicPr>
        <p:blipFill>
          <a:blip r:embed="rId2"/>
          <a:stretch/>
        </p:blipFill>
        <p:spPr>
          <a:xfrm>
            <a:off x="609480" y="3432240"/>
            <a:ext cx="317052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2. Gene Therapy will cure diseas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ene therapy—curing ailments by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placing faulty copies of genes with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rmal ones—will finally become a reality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kely within the next decad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2626"/>
                </a:solidFill>
                <a:latin typeface="Perpetua"/>
              </a:rPr>
              <a:t>3. Personal Genomes Will Spawn Made-to-Measure Drug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Perpetua"/>
              </a:rPr>
              <a:t>Thanks to improving technology, within the next five years a person should be able to have his or her entire genome sequenced for about a thousand U.S. dollars, many experts sa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Franklin Gothic Book"/>
              </a:rPr>
              <a:t>4. Personality Will Move From Art to Scienc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144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 scientists learn to better understand the information contained in our genomes, they will get better at predicting how genes influence the development of physical and mental traits and even behavior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922400" y="4651200"/>
            <a:ext cx="530856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1922400" y="1811160"/>
            <a:ext cx="5308560" cy="24559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Role of the Nurse in Gene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ake detailed family history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onstruct Pedigree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76480" y="836280"/>
            <a:ext cx="679896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76480" y="2286000"/>
            <a:ext cx="679896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ssess hereditary and non hereditary risk factors related to genetic diseases, or diseases with a genetic componen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rovide genetic information to individuals and famili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terpret genetic tests and laboratory dat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anage and care for patients and families at risk for or affected by genetic diseases or diseases with a genetic component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rovide genetic counseling, genetic consultation, and case management for persons with complex genetic health care need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ANK YOU!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Franklin Gothic Book"/>
              </a:rPr>
              <a:t>Vari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763280" y="1341000"/>
            <a:ext cx="6923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similarities and differences between the character or traits among the individuals of the same speci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5" name="Picture 3" descr="http://www.buzzle.com/img/articleImages/610092-3977-31.jpg"/>
          <p:cNvPicPr/>
          <p:nvPr/>
        </p:nvPicPr>
        <p:blipFill>
          <a:blip r:embed="rId1"/>
          <a:stretch/>
        </p:blipFill>
        <p:spPr>
          <a:xfrm>
            <a:off x="0" y="2803680"/>
            <a:ext cx="4065480" cy="3908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http://lh3.ggpht.com/-x3BkzTmPzIQ/U53AF_hGYmI/AAAAAAAAB1A/-43vFGzBwOg/lb_thumb%25255B1%25255D.jpg?imgmax=800"/>
          <p:cNvPicPr/>
          <p:nvPr/>
        </p:nvPicPr>
        <p:blipFill>
          <a:blip r:embed="rId2"/>
          <a:stretch/>
        </p:blipFill>
        <p:spPr>
          <a:xfrm>
            <a:off x="2554200" y="3121200"/>
            <a:ext cx="3816360" cy="3511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https://www.anbg.gov.au/cpbr/cd-keys/orchidkey/html/images/essay/thumbnails/P016026.jpg"/>
          <p:cNvPicPr/>
          <p:nvPr/>
        </p:nvPicPr>
        <p:blipFill>
          <a:blip r:embed="rId3"/>
          <a:stretch/>
        </p:blipFill>
        <p:spPr>
          <a:xfrm>
            <a:off x="4932360" y="3017880"/>
            <a:ext cx="40528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Franklin Gothic Book"/>
              </a:rPr>
              <a:t>IMPLICATIONS OF GENETICS TO HUMAN WELL-BEING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Knowledge of genetics is helpful in understanding the causation of diseas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 also helps us to understand how normal variation between individuals are brought abou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Knowledge of genetics has also led to possible means of prevention of genetic disorders through genetic counseling and antenatal diagnosi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enetics serves to solve even legal problems. Legal cases involving disputed parentage may be sorted out by an analysis of blood groups or other inherited characteristic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922400" y="4114800"/>
            <a:ext cx="530856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RELATIONSHIP TO OTHER SCIENCE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Franklin Gothic Book"/>
              </a:rPr>
              <a:t>Genetics in relation to other scienc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53" name="Content Placeholder 3" descr=""/>
          <p:cNvPicPr/>
          <p:nvPr/>
        </p:nvPicPr>
        <p:blipFill>
          <a:blip r:embed="rId1"/>
          <a:stretch/>
        </p:blipFill>
        <p:spPr>
          <a:xfrm>
            <a:off x="-1828800" y="841320"/>
            <a:ext cx="13106520" cy="5711760"/>
          </a:xfrm>
          <a:prstGeom prst="rect">
            <a:avLst/>
          </a:prstGeom>
          <a:ln w="0">
            <a:noFill/>
          </a:ln>
        </p:spPr>
      </p:pic>
      <p:sp>
        <p:nvSpPr>
          <p:cNvPr id="254" name="Oval 2"/>
          <p:cNvSpPr/>
          <p:nvPr/>
        </p:nvSpPr>
        <p:spPr>
          <a:xfrm>
            <a:off x="5472000" y="1504800"/>
            <a:ext cx="2071800" cy="117000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Biochem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4"/>
          <p:cNvSpPr/>
          <p:nvPr/>
        </p:nvSpPr>
        <p:spPr>
          <a:xfrm>
            <a:off x="5327640" y="4332240"/>
            <a:ext cx="2119320" cy="109368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Physio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5"/>
          <p:cNvSpPr/>
          <p:nvPr/>
        </p:nvSpPr>
        <p:spPr>
          <a:xfrm>
            <a:off x="3051000" y="5124600"/>
            <a:ext cx="2432160" cy="103968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Immunogen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3344760" y="979560"/>
            <a:ext cx="2119320" cy="1123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  <a:ea typeface="Browallia New"/>
              </a:rPr>
              <a:t>Cytogen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5867280" y="2960640"/>
            <a:ext cx="2210040" cy="1069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Develop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1476360" y="4273560"/>
            <a:ext cx="1892160" cy="1096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Cli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9"/>
          <p:cNvSpPr/>
          <p:nvPr/>
        </p:nvSpPr>
        <p:spPr>
          <a:xfrm>
            <a:off x="1339920" y="1596960"/>
            <a:ext cx="1996920" cy="114300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  <a:ea typeface="Browallia New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0"/>
          <p:cNvSpPr/>
          <p:nvPr/>
        </p:nvSpPr>
        <p:spPr>
          <a:xfrm>
            <a:off x="838080" y="2860560"/>
            <a:ext cx="1938600" cy="117000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Eugen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1"/>
          <p:cNvSpPr/>
          <p:nvPr/>
        </p:nvSpPr>
        <p:spPr>
          <a:xfrm>
            <a:off x="3559320" y="2800440"/>
            <a:ext cx="1523880" cy="14745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Gen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13"/>
          <p:cNvSpPr/>
          <p:nvPr/>
        </p:nvSpPr>
        <p:spPr>
          <a:xfrm>
            <a:off x="4343400" y="2103480"/>
            <a:ext cx="0" cy="6969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15"/>
          <p:cNvSpPr/>
          <p:nvPr/>
        </p:nvSpPr>
        <p:spPr>
          <a:xfrm>
            <a:off x="3179880" y="2495520"/>
            <a:ext cx="603000" cy="5205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18"/>
          <p:cNvSpPr/>
          <p:nvPr/>
        </p:nvSpPr>
        <p:spPr>
          <a:xfrm flipH="1">
            <a:off x="4861080" y="2451240"/>
            <a:ext cx="777600" cy="5648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21"/>
          <p:cNvSpPr/>
          <p:nvPr/>
        </p:nvSpPr>
        <p:spPr>
          <a:xfrm>
            <a:off x="2776680" y="3446640"/>
            <a:ext cx="78264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23"/>
          <p:cNvSpPr/>
          <p:nvPr/>
        </p:nvSpPr>
        <p:spPr>
          <a:xfrm>
            <a:off x="5083200" y="3495600"/>
            <a:ext cx="78408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25"/>
          <p:cNvSpPr/>
          <p:nvPr/>
        </p:nvSpPr>
        <p:spPr>
          <a:xfrm flipH="1">
            <a:off x="3211200" y="4059360"/>
            <a:ext cx="571320" cy="458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28"/>
          <p:cNvSpPr/>
          <p:nvPr/>
        </p:nvSpPr>
        <p:spPr>
          <a:xfrm>
            <a:off x="4861080" y="4059360"/>
            <a:ext cx="776160" cy="4334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31"/>
          <p:cNvSpPr/>
          <p:nvPr/>
        </p:nvSpPr>
        <p:spPr>
          <a:xfrm flipH="1">
            <a:off x="4267080" y="4275000"/>
            <a:ext cx="54000" cy="8496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1. Cytogene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38080" y="2514600"/>
            <a:ext cx="73152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536400" indent="-223920" algn="just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 branch of genetics that is concerned with the study of the structure and function of the cell, especially the chromosom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 algn="just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is discipline is concerned with the cytologic and molecular bases of genetic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 algn="just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Example: Down syndrome (trisomy 21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 algn="just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Patau Syndrome (trisomy 13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 algn="just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Edward Syndrome (trisomy 18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 algn="just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Chronic Myelogenous Leukemia (has a small chromosomes in WBC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2. Biochemical Gene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study of fundamental relationships between genes, protein, and metabolism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s involves the study of the cause of many heritable diseas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CKLE CELL ANEMIA and THALASSEM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HENYLKETONURIA and GALACTOSEM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21:14:55Z</dcterms:created>
  <dc:creator>LIZA</dc:creator>
  <dc:description/>
  <dc:language>en-US</dc:language>
  <cp:lastModifiedBy>Abdualrahman Alshehry</cp:lastModifiedBy>
  <dcterms:modified xsi:type="dcterms:W3CDTF">2016-09-24T09:21:36Z</dcterms:modified>
  <cp:revision>123</cp:revision>
  <dc:subject/>
  <dc:title>UNIT I: INTRODUCTION</dc:title>
</cp:coreProperties>
</file>