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523188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523188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297-ECAB-4053-85DF-076EAA683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5232240" y="665784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7B36-F197-4716-A84F-92DCA43BA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FB0-FDC9-41F9-BAE3-20D4C1D9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189-4291-401D-906F-68E1C70A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A48-12F1-4E2A-93ED-B189BB2A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67F-0124-488D-BA72-866D653D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078A-D9EE-4D19-A7BD-5E402419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FCC5-97EF-48D7-A58C-AF6156CC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1171-CC60-4D44-A70F-D9478E36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1BC1-A3D2-49DE-910B-EA33A4FA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916D-1A58-4165-9D86-506A7F6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CEA7-B8EA-4A15-A5BC-EB94AE52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CB28-531D-47EC-BB8F-04C62C5A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DA1-31BC-40E7-AE2F-82565DB8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73A0-10BD-40C3-8131-63CA6A2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3709-F886-4286-AD7B-6F0E1A40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609D-3543-43CC-BCA0-C6C98FF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AF22-B992-4977-9EFB-5B91FA6D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F29F-7745-437A-A165-BF7FFAAE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A71C1-9ADD-4481-B4BB-4B3E532A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72A0-E813-42CE-BE14-C63BE5D8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BC1D-25FA-4C89-9F46-5808D61A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5E63-C843-43E7-9B35-E0A65449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94FF0-2923-4F4A-84E0-0DC6A68F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C79-35D0-4C04-AC86-6C2BE61F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1A31-AD13-4D1B-83B9-4E5BCD61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8E94-2A91-445A-9154-881C1887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CAD0-D72C-4EA7-AC21-3C77707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2766-B86F-45CC-8F9E-A5A6652F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033A-6EFC-4E4F-B06F-8489E584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8ABD-BEAF-448C-AF3A-13EE3BDD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08EC-CAC3-4113-8F21-CD8AB637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3341-574B-43C6-872B-87266570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4C50-8113-451B-BFBD-9BF7C4A0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6A34-D688-4910-8214-8182B04F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59B-3EA1-4FF2-9CF4-65F8E3D0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254B9-D070-4C72-8BC9-0093A8B3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B5FA-161A-44B6-995B-25D1B041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074AE-CD5F-41D4-A380-E017FC7C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4C72-A53B-4438-A1C1-2ED0523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E6741-D8E1-4B1D-B64A-BB1342E3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0CDAB-8ADE-4413-8979-AA40E19E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50D4-0487-4EEB-A563-03847293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DF79F-486F-4E00-979A-A85696F2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F21B5-38AD-4B93-8B3D-294FD128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D043-F974-43C2-95CA-35C70936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C3A-60B2-4AC2-8B59-2DEE2D2A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D527A-51E0-40D4-BB1F-7FD8A376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A3841-A528-4361-A56C-48C4D0EB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4F74-6127-4006-8C6B-50AC4D0A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AA525-8BC0-4847-9DF5-73F9EF19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AE63-4CB1-44AE-8DCB-1F17F5C4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2B86B-7A89-445F-B0FE-A45B940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C03E3-BAE0-455B-8D31-4820A42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137B3-D1F0-4C6D-80DD-7B1DAEDA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84389-FFDE-47E1-BAB6-6E9E8C4F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8C191-98A1-412D-A5FB-0176777F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C45-60C4-4D46-A2B8-491678C6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A618D-8F2A-42F5-8D42-ED0E42AE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599-9564-4587-B5DC-6385FF99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300-92C4-4937-9B6A-590C6A8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54B-7E06-44C9-AE12-718EED9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F571-2222-4941-8758-A5B7BA0194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96AE-EB31-41FF-B80F-03A6C9D60D3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1D6D-8B78-4E60-834B-5B2F75B16B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9936-1640-493B-ABF9-B6B8C774FAA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35FC-00F3-4755-86E1-18A3D732D3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iT4taalJzPAhWKfhoKHRxtDtEQjRwIBw&amp;url=https%3A%2F%2Fen.wikipedia.org%2Fwiki%2FDNA_sequencing&amp;psig=AFQjCNHNpqCaKYPntYre6eT-oregmWiatg&amp;ust=1474399464345085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nit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Components of Huma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3. Development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e branch of science of development which attempts to understand the role of genes in develop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e process that gives rise to tissues, organs and anatom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It is a process which brings about various changes in fertilized egg to make it into a complete adul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4.  Physiolog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2189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is branch of genetics involves the use of knowledge of physiology to elucidate the effects produced by genetic factors on an individ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 relationship of hereditary diseases and genet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685800" y="3890880"/>
            <a:ext cx="67993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5. Immunogenetic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ontent Placeholder 2"/>
          <p:cNvSpPr/>
          <p:nvPr/>
        </p:nvSpPr>
        <p:spPr>
          <a:xfrm>
            <a:off x="274680" y="4838760"/>
            <a:ext cx="848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	</a:t>
            </a:r>
            <a:r>
              <a:rPr b="1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- </a:t>
            </a:r>
            <a:r>
              <a:rPr b="0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It is a branch of science which is concerned with the genetic aspects of immunity mech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6. Clin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is a branch of genetics which helps to establish the causative factors responsible for certain disease like Diabetes Mellitus, Haemophilia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90180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  <a:ea typeface="Arial"/>
              </a:rPr>
              <a:t>7. Radiation Gen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533520" y="4114800"/>
            <a:ext cx="8305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This branch of genetics involves the study of effects of various radiation on ge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8. Eugenics- “eu” means “good/well”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genes means bor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26668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is a branch of science which deals with the application of principles of heredity to the improvement of mankin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Francis Galton defined eugenics as the study of all agencies under human control which can improve or impair the racial quality of future generatio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 Categories of Eugen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1. Positive Eugen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ed at encouraging reproduction among the genetically advantag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 the reproduction of the intelligent, the healthy and the successfu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roach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ancial and political stimu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vitrofertiliz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gg transpl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76480" y="609480"/>
            <a:ext cx="6798960" cy="609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2 Categories of Eugenic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76480" y="1371600"/>
            <a:ext cx="6798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Negative Eugenic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imed to eliminate through sterilization or segreg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ysically, mentally or morally undesirab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bor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r other methods of family plann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1"/>
          <a:srcRect l="0" t="0" r="13990" b="15026"/>
          <a:stretch/>
        </p:blipFill>
        <p:spPr>
          <a:xfrm>
            <a:off x="3124080" y="403848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he Human Genome Project formally began in 1990 and was completed in 200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What is Human Genome Projec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13372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n international scientific research proj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Project was coordinated by the National Institutes of Health and the U.S. Department of Energy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itional contributors included universities across the United States and international partners in the United Kingdom, France, Germany, Japan, and Chin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8288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is a collaborative venture to identify and mark all the locations of every genome of the human spec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US, the HGP was started at 1990 and was expected to be a fifteen year effort to map the human gen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003 the project accelerated its prog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pes to discover 50,000- 100,000 human genes and make them available for further biologic study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Goals of 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termine the entir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equence of human DN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3,000,000,000 bases in the haploid human genom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all the genes in human DNA approximately 35,000 gen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ore this information in datab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rove tools for data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fer related technologies to the private sec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ress the ethical, legal, and social issues (ELSI) that may arise from the projec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What is Genetics?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tics 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the branch of biological sciences which deals with the transmission of characters from parents to offspr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erm genetics was coined by Bateson in 1906. It has been derived from the Greek word ‘gene’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gene= ‘to become’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s 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t of characteristics inherited from your par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ound on chromosomes and contain DN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DNA sequ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28600" y="190512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quencing means determining the exact order of the base pairs in a segment of DN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p-based 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(gene mapping)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BAC- based 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(bacterial-artificial chromosome)-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 method used by the HGP to produce the finished version of the human genetic cod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1" name="Picture 2" descr="Image result for dna sequencing mach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447920"/>
            <a:ext cx="2248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Benefits of HGP (Human Genome Project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1.  In the field of molecular medic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tter diagnosis of disease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arly detection of certain disea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 therapy and control systems of drug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future there should be new treatments in molecular medicine that don’t treat the symptoms but look at the causes of the problem at han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Benefits of HGP (Human Genome Project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2. In the field of microbial genom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y may be able to find new energy sources, through the sequencing of a bacterial gen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could lead to discoveries that are useful in energy production, toxic waste reduction, and industrial process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an be very useful  for the understanding of human evolution and human migr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may help lead scientists to find out how humans evolved and how humans are evolving tod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4. It will help to understand the common biology that we share with life on earth.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ing our genome with others may help to lead to associations of diseases with certain trai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0880" y="18288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5. In the field of agriculture and livestock bree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is technology could help to develop disease, insect, and drought resistant crops thus being able to produce more for the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also help to produce healthier, more productive, and possibly disease resistant animals to be sent to marke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96464"/>
                </a:solidFill>
                <a:latin typeface="Franklin Gothic Book"/>
              </a:rPr>
              <a:t>Disadvantages of Human Genome Project</a:t>
            </a:r>
            <a:endParaRPr b="0" lang="en-US" sz="37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21337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search cost is hig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eople are afraid of discrimination of gen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eople don’t support gene therapy because it’s “against nature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Ethical, Legal, and Social Issu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2280" y="12193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Fairness in the use of genetic informat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sychological impact and discrimin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ased on genetic differences/ disorde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rivacy and confidentialit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f genetic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eproductive issue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cluding adequate and informed consent and use of genetic information in reproductive decision ma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linical issue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cluding the education of doctors and other health-service providers, people identified with genetic conditions, and the general public about capabilities, limitations, and social risks; and implementation of standards and quality-control measu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53416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PREDICTIONS FOR THE NEXT TEN YEAR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9240" y="18698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cience Will Pinpoint What Makes Us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Homo Sapie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999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near future, scientists will be able to compare our genome against those of our evolutionary cousins, such as chimpanzees and Neanderthals, to get a clearer sense of which genes are involved in making us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Homo sapie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308400" cy="1857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357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33160" y="685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2. Gene Therapy will cure dise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 therapy—curing ailments b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placing faulty copies of genes with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rmal ones—will finally become a reality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kely within the next decad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Content Placeholder 2"/>
          <p:cNvSpPr/>
          <p:nvPr/>
        </p:nvSpPr>
        <p:spPr>
          <a:xfrm>
            <a:off x="533520" y="3581280"/>
            <a:ext cx="8305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3. Personal Genomes Will Spawn Made-to-Measure Dru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  <a:ea typeface="Arial"/>
              </a:rPr>
              <a:t>Thanks to improving technology, within the next five years a person should be able to have his or her entire genome sequenced for about a thousand U.S. dollars, many experts s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64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4. Personality Will Move From Art to Scienc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56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scientists learn to better understand the information contained in our genomes, they will get better at predicting how genes influence the development of physical and mental traits and even behavio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Heredit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ransfer of character or traits from the parents to offsp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3" descr="http://4.bp.blogspot.com/-wxE0HqQ8ln4/UMitjXOIttI/AAAAAAAABcM/-lS7hOjwflE/s1600/heredity.jpg"/>
          <p:cNvPicPr/>
          <p:nvPr/>
        </p:nvPicPr>
        <p:blipFill>
          <a:blip r:embed="rId1"/>
          <a:stretch/>
        </p:blipFill>
        <p:spPr>
          <a:xfrm>
            <a:off x="4065480" y="3432240"/>
            <a:ext cx="4761000" cy="273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s://i.ytimg.com/vi/kLpr6t4-eLI/hqdefault.jpg"/>
          <p:cNvPicPr/>
          <p:nvPr/>
        </p:nvPicPr>
        <p:blipFill>
          <a:blip r:embed="rId2"/>
          <a:stretch/>
        </p:blipFill>
        <p:spPr>
          <a:xfrm>
            <a:off x="609480" y="3432240"/>
            <a:ext cx="31705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308560" cy="2455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Role of the Nurse i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0948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ake detailed family histor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nstruct Pedigre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315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28600" y="380520"/>
            <a:ext cx="868680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ssess hereditary and non hereditary risk factors related to genetic diseases, or diseases with a genetic compon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genetic information to individuals and famil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pret genetic tests and laboratory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anage and care for patients and families at risk for or affected by genetic diseases or diseases with a genetic componen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genetic counseling, genetic consultation, and case management for persons with complex genetic health care need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Vari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63280" y="1341000"/>
            <a:ext cx="692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imilarities and differences between the character or traits among the individuals of the same spec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3" descr="http://www.buzzle.com/img/articleImages/610092-3977-31.jpg"/>
          <p:cNvPicPr/>
          <p:nvPr/>
        </p:nvPicPr>
        <p:blipFill>
          <a:blip r:embed="rId1"/>
          <a:stretch/>
        </p:blipFill>
        <p:spPr>
          <a:xfrm>
            <a:off x="0" y="2803680"/>
            <a:ext cx="4065480" cy="3908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://lh3.ggpht.com/-x3BkzTmPzIQ/U53AF_hGYmI/AAAAAAAAB1A/-43vFGzBwOg/lb_thumb%25255B1%25255D.jpg?imgmax=800"/>
          <p:cNvPicPr/>
          <p:nvPr/>
        </p:nvPicPr>
        <p:blipFill>
          <a:blip r:embed="rId2"/>
          <a:stretch/>
        </p:blipFill>
        <p:spPr>
          <a:xfrm>
            <a:off x="2554200" y="3121200"/>
            <a:ext cx="3816360" cy="3511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https://www.anbg.gov.au/cpbr/cd-keys/orchidkey/html/images/essay/thumbnails/P016026.jpg"/>
          <p:cNvPicPr/>
          <p:nvPr/>
        </p:nvPicPr>
        <p:blipFill>
          <a:blip r:embed="rId3"/>
          <a:stretch/>
        </p:blipFill>
        <p:spPr>
          <a:xfrm>
            <a:off x="4932360" y="3017880"/>
            <a:ext cx="4052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IMPLICATIONS OF GENETICS TO HUMAN WELL-BEING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1442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nowledge of genetics is helpful in understanding the causation of dis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helps us to understand how normal variation between individuals are brought abou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nowledge of genetics has also led to possible means of prevention of genetic disorders through genetic counseling and antenatal diagnosi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tics serves to solve even legal problems. Legal cases involving disputed parentage may be sorted out by an analysis of blood groups or other inherited characteristic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90480" y="1752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RELATIONSHIP TO OTHER SCIENC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Genetics in relation to other sci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2" name="Content Placeholder 3" descr=""/>
          <p:cNvPicPr/>
          <p:nvPr/>
        </p:nvPicPr>
        <p:blipFill>
          <a:blip r:embed="rId1"/>
          <a:stretch/>
        </p:blipFill>
        <p:spPr>
          <a:xfrm>
            <a:off x="-1828800" y="841320"/>
            <a:ext cx="13106520" cy="6473880"/>
          </a:xfrm>
          <a:prstGeom prst="rect">
            <a:avLst/>
          </a:prstGeom>
          <a:ln w="0">
            <a:noFill/>
          </a:ln>
        </p:spPr>
      </p:pic>
      <p:sp>
        <p:nvSpPr>
          <p:cNvPr id="253" name="Oval 2"/>
          <p:cNvSpPr/>
          <p:nvPr/>
        </p:nvSpPr>
        <p:spPr>
          <a:xfrm>
            <a:off x="5472000" y="1504800"/>
            <a:ext cx="2071800" cy="1170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Biochem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5327640" y="4332240"/>
            <a:ext cx="2119320" cy="10936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Phys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3051000" y="5124600"/>
            <a:ext cx="2432160" cy="11379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Immuno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6"/>
          <p:cNvSpPr/>
          <p:nvPr/>
        </p:nvSpPr>
        <p:spPr>
          <a:xfrm>
            <a:off x="3344760" y="979560"/>
            <a:ext cx="2119320" cy="1123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Browallia New"/>
              </a:rPr>
              <a:t>Cyto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5867280" y="2960640"/>
            <a:ext cx="2210040" cy="1069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Develop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1476360" y="4273560"/>
            <a:ext cx="1892160" cy="1096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339920" y="1596960"/>
            <a:ext cx="1996920" cy="1143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Browallia New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838080" y="2860560"/>
            <a:ext cx="1938600" cy="1170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Eu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559320" y="2800440"/>
            <a:ext cx="1523880" cy="14745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13"/>
          <p:cNvSpPr/>
          <p:nvPr/>
        </p:nvSpPr>
        <p:spPr>
          <a:xfrm>
            <a:off x="4343400" y="2103480"/>
            <a:ext cx="0" cy="6969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5"/>
          <p:cNvSpPr/>
          <p:nvPr/>
        </p:nvSpPr>
        <p:spPr>
          <a:xfrm>
            <a:off x="3179880" y="2495520"/>
            <a:ext cx="603000" cy="5205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8"/>
          <p:cNvSpPr/>
          <p:nvPr/>
        </p:nvSpPr>
        <p:spPr>
          <a:xfrm flipH="1">
            <a:off x="4861080" y="2451240"/>
            <a:ext cx="777600" cy="5648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1"/>
          <p:cNvSpPr/>
          <p:nvPr/>
        </p:nvSpPr>
        <p:spPr>
          <a:xfrm>
            <a:off x="2776680" y="3446640"/>
            <a:ext cx="782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3"/>
          <p:cNvSpPr/>
          <p:nvPr/>
        </p:nvSpPr>
        <p:spPr>
          <a:xfrm>
            <a:off x="5083200" y="3495600"/>
            <a:ext cx="7840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5"/>
          <p:cNvSpPr/>
          <p:nvPr/>
        </p:nvSpPr>
        <p:spPr>
          <a:xfrm flipH="1">
            <a:off x="3211200" y="4059360"/>
            <a:ext cx="571320" cy="458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28"/>
          <p:cNvSpPr/>
          <p:nvPr/>
        </p:nvSpPr>
        <p:spPr>
          <a:xfrm>
            <a:off x="4861080" y="4059360"/>
            <a:ext cx="776160" cy="433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31"/>
          <p:cNvSpPr/>
          <p:nvPr/>
        </p:nvSpPr>
        <p:spPr>
          <a:xfrm flipH="1">
            <a:off x="4267080" y="4275000"/>
            <a:ext cx="54000" cy="849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1. Cyto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251460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ranch of genetics that is concerned with the study of the structure and function of the cell, especially the chromosom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discipline is concerned with the cytologic and molecular bases of genetic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ple: Patau Syndrome (trisomy 13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wn syndrome (trisomy 21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dward Syndrome (trisomy 18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2. Biochem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udy of fundamental relationships between genes, protein, and metabolism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involves the study of the cause of many heritable dis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CKLE CELL ANEMIA and THALASSEM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14:55Z</dcterms:created>
  <dc:creator>LIZA</dc:creator>
  <dc:description/>
  <dc:language>en-US</dc:language>
  <cp:lastModifiedBy>Othman Jawdat Taani</cp:lastModifiedBy>
  <cp:lastPrinted>2017-09-20T08:37:41Z</cp:lastPrinted>
  <dcterms:modified xsi:type="dcterms:W3CDTF">2017-09-26T06:56:36Z</dcterms:modified>
  <cp:revision>137</cp:revision>
  <dc:subject/>
  <dc:title>UNIT I: INTRODUCTION</dc:title>
</cp:coreProperties>
</file>