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52318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523188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38B1-6FB9-4ACC-8804-92DFEFBB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5232240" y="665784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468-10DF-411F-9591-612B78F1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371-6560-410C-B050-F094C73E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FF8-F2AF-4046-882E-A9B010E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84A-B0D0-4A59-A915-34FA7C62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1B8-5F87-4039-B7AE-3BF2B3B6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BBEF-5883-4DAA-A2AF-779E5BCD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819-45E7-4685-9578-DCE26013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B8F-2714-437E-9E0B-D2A73F9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8A4-178E-4057-A293-5CA5EC2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9D89-E8B8-473C-A682-FE7DE66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6E5B-01B6-48E5-8D58-8815EEF4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3F2-071D-4595-9D95-220A2EA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A71-50E3-4D93-82BD-767E14B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72E-8B86-4D42-95B8-07022C4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382-BE47-4B20-A064-78EF39C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1388-EEF4-4730-A70F-E91E1A6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5D8-DA22-453B-BCF9-136D7D1E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5ADA-6949-466D-8D19-FBB658A6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6934-6FA0-4587-8D39-1A5CB0AA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C01D-7167-4E49-9F99-ED992C0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6C4E-A149-4464-8339-E124D015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2FC7-44E9-4B7C-B847-402C36B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33C2-F573-449F-9EEA-0DED5B40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BC4-D9A3-4C25-AC1D-721EF79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3D1E-079B-4A5B-BE69-7A34B56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87B5-F5E8-4929-833F-1261A24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6F6E-84EB-446C-BEB5-3B8A8B4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FA12-7753-40B2-80DE-1299ED8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A598-9387-4874-A271-3258EE1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7163-4AC3-4B99-B29B-1C483BB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17DC-6E3F-453B-B969-43DB4254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F502-44D1-4EA0-A1C8-EB88F357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76BA-5732-4EA5-8E15-160FCC02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C7C1-1EBC-4B4D-B793-0B349AB2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7DA-D560-4BC8-85CE-AA6B7FFD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CD3F-D28D-4BE9-AC63-A28BF9E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AF48-742C-4505-BB3B-391FB4D9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0E0E-874B-47F5-B1CA-A580336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DB7C-2A53-461D-9B21-59F60C0B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83E5-1880-4F47-9F8E-C99D405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0891-92C9-4386-A35E-C64DF18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9C7A-7C8F-42C7-9B38-1F060BA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70DD-0E59-4DBA-8802-7F290AD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ADBB-FC11-42CA-8FD5-3507915C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F659-12BA-448A-9773-A8CA8EB7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B39-F2CF-4840-BDDC-711D0B9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9574-14E1-43BF-89F4-A35A51E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0E993-6E26-439D-9F89-6ACFC30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166D-883A-4A92-9E6E-552CDE1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56FB-0B79-47AF-98B0-2C560485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7F39-36A9-4ACB-8ABC-4E69AE71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9ABC-908B-4F20-90B5-202681F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D255-6E26-49AB-897F-0403572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6063-516A-4F36-A19C-2394C56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1329-F1A7-4488-90AE-970C555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6435-BE39-48A2-812B-DFCCB02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D74-E024-4835-9DE6-426C5858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9BD0-9383-46DC-A8EA-40D861CC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1AF-0BCB-4F62-B829-AAFE357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467-1637-4121-8D58-2EFC7E3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B42-5A2A-4BCF-B739-BBE31990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470-A229-4862-AC03-25608C9AC0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F355-4003-47F2-AD82-BCAC5366DD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6D4-1659-4051-8D9F-4522D65C81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6E3-2E88-490E-8A61-8473212D0B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471-E47E-41CB-9A16-2146EE7635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4taalJzPAhWKfhoKHRxtDtEQjRwIBw&amp;url=https%3A%2F%2Fen.wikipedia.org%2Fwiki%2FDNA_sequencing&amp;psig=AFQjCNHNpqCaKYPntYre6eT-oregmWiatg&amp;ust=147439946434508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t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Components of Huma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3. Development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branch of science of development which attempts to understand the role of genes in develop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process that gives rise to tissues, organs and anatom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process which brings about various changes in fertilized egg to make it into a complete adul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4.  Physiolog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189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branch of genetics involves the use of knowledge of physiology to elucidate the effects produced by genetic factors on an individ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 relationship of hereditary diseases and gene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685800" y="3890880"/>
            <a:ext cx="6799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5. Immunogeneti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274680" y="4838760"/>
            <a:ext cx="848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	</a:t>
            </a: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- </a:t>
            </a:r>
            <a:r>
              <a:rPr b="0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It is a branch of science which is concerned with the genetic aspects of immunity mech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6. Clin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genetics which helps to establish the causative factors responsible for certain disease like Diabetes Mellitus, Haemophilia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901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7. Radiation 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533520" y="4114800"/>
            <a:ext cx="830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This branch of genetics involves the study of effects of various radiation on ge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8. Eugenics- “eu” means “good/well”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genes means bor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2666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science which deals with the application of principles of heredity to the improvement of manki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Francis Galton defined eugenics as the study of all agencies under human control which can improve or impair the racial quality of future genera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Positive Eugen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ed at encouraging reproduction among the genetically advantag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the reproduction of the intelligent, the healthy and the success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roach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ncial and political stimu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vitrofertiliz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g transpl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6480" y="609480"/>
            <a:ext cx="679896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76480" y="1371600"/>
            <a:ext cx="6798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Negative Eugenic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imed to eliminate through sterilization or segreg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ly, mentally or morally undesirab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bor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r other methods of family plan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1"/>
          <a:srcRect l="0" t="0" r="13990" b="15026"/>
          <a:stretch/>
        </p:blipFill>
        <p:spPr>
          <a:xfrm>
            <a:off x="3124080" y="40384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Human Genome Project formally began in 1990 and was completed in 200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Human Genome Projec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3372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 international scientific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ject was coordinated by the National Institutes of Health and the U.S. Department of Energ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al contributors included universities across the United States and international partners in the United Kingdom, France, Germany, Japan, and Chi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8288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a collaborative venture to identify and mark all the locations of every genome of the human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US, the HGP was started at 1990 and was expected to be a fifteen year effort to map the human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3 the project accelerated its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pes to discover 50,000- 100,000 human genes and make them available for further biologic stud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oal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termine the entir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equence of human DN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3,000,000,000 bases in the haploid human genom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all the genes in human DNA approximately 35,000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ore this information in datab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rove tools for dat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fer related technologies to the private sec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ress the ethical, legal, and social issues (ELSI) that may arise from the projec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Genetics?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the branch of biological sciences which deals with the transmission of characters from parents to offspr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rm genetics was coined by Bateson in 1906. It has been derived from the Greek word ‘gene’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gene= ‘to become’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t of characteristics inherited from your par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ound on chromosomes and conta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DNA sequ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190512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quencing means determining the exact order of the base pairs in a segment of DN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p-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gene mapping)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BAC- 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bacterial-artificial chromosome)-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method used by the HGP to produce the finished version of the human genetic 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1" name="Picture 2" descr="Image result for dna sequencing mach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447920"/>
            <a:ext cx="224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Benefits of HGP (Human Genome Projec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 In the field of molecular medic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tter diagnosis of disease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detection of certain disea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 therapy and control systems of dru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future there should be new treatments in molecular medicine that don’t treat the symptoms but look at the causes of the problem at ha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Benefits of HGP (Human Genome Projec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In the field of microbial genom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may be able to find new energy sources, through the sequencing of a bacterial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lead to discoveries that are useful in energy production, toxic waste reduction, and industrial process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an be very useful  for the understanding of human evolution and human migr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may help lead scientists to find out how humans evolved and how humans are evolving to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4. It will help to understand the common biology that we share with life on earth.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our genome with others may help to lead to associations of diseases with certain trai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880" y="18288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5. In the field of agriculture and livestock bree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technology could help to develop disease, insect, and drought resistant crops thus being able to produce more for the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also help to produce healthier, more productive, and possibly disease resistant animals to be sent to mark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96464"/>
                </a:solidFill>
                <a:latin typeface="Franklin Gothic Book"/>
              </a:rPr>
              <a:t>Disadvantages of Human Genome Project</a:t>
            </a:r>
            <a:endParaRPr b="0" lang="en-US" sz="37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cost is hig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are afraid of discrimination of gen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don’t support gene therapy because it’s “against nature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Ethical, Legal, and Social Issu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2280" y="12193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Fairness in the use of genetic inform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sychological impact and discrimin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sed on genetic differences/ disorde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ivacy and confidentiali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genetic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eproductive issue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luding adequate and informed consent and use of genetic information in reproductive decision ma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linical issue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luding the education of doctors and other health-service providers, people identified with genetic conditions, and the general public about capabilities, limitations, and social risks; and implementation of standards and quality-control measu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53416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PREDICTIONS FOR THE NEXT TEN YEAR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9240" y="186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cience Will Pinpoint What Makes Us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999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near future, scientists will be able to compare our genome against those of our evolutionary cousins, such as chimpanzees and Neanderthals, to get a clearer sense of which genes are involved in making u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308400" cy="1857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357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33160" y="685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Gene Therapy will cure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 therapy—curing ailments b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lacing faulty copies of genes with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rmal ones—will finally become a reality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kely within the next dec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533520" y="3581280"/>
            <a:ext cx="8305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3. Personal Genomes Will Spawn Made-to-Measure Dru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Thanks to improving technology, within the next five years a person should be able to have his or her entire genome sequenced for about a thousand U.S. dollars, many experts s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4. Personality Will Move From Art to Scien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scientists learn to better understand the information contained in our genomes, they will get better at predicting how genes influence the development of physical and mental traits and even behavio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red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ransfer of character or traits from the parents to offsp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http://4.bp.blogspot.com/-wxE0HqQ8ln4/UMitjXOIttI/AAAAAAAABcM/-lS7hOjwflE/s1600/heredity.jpg"/>
          <p:cNvPicPr/>
          <p:nvPr/>
        </p:nvPicPr>
        <p:blipFill>
          <a:blip r:embed="rId1"/>
          <a:stretch/>
        </p:blipFill>
        <p:spPr>
          <a:xfrm>
            <a:off x="4065480" y="3432240"/>
            <a:ext cx="4761000" cy="273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i.ytimg.com/vi/kLpr6t4-eLI/hqdefault.jpg"/>
          <p:cNvPicPr/>
          <p:nvPr/>
        </p:nvPicPr>
        <p:blipFill>
          <a:blip r:embed="rId2"/>
          <a:stretch/>
        </p:blipFill>
        <p:spPr>
          <a:xfrm>
            <a:off x="609480" y="3432240"/>
            <a:ext cx="3170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308560" cy="2455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ole of the Nurse i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0948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ke detailed family histor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truct Pedigre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15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28600" y="380520"/>
            <a:ext cx="86868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 hereditary and non hereditary risk factors related to genetic diseases, or diseases with a genetic compon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information to individuals and famil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 genetic tests and laboratory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nage and care for patients and families at risk for or affected by genetic diseases or diseases with a genetic compon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counseling, genetic consultation, and case management for persons with complex genetic health care need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Vari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63280" y="1341000"/>
            <a:ext cx="692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imilarities and differences between the character or traits among the individuals of the same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http://www.buzzle.com/img/articleImages/610092-3977-31.jpg"/>
          <p:cNvPicPr/>
          <p:nvPr/>
        </p:nvPicPr>
        <p:blipFill>
          <a:blip r:embed="rId1"/>
          <a:stretch/>
        </p:blipFill>
        <p:spPr>
          <a:xfrm>
            <a:off x="0" y="2803680"/>
            <a:ext cx="4065480" cy="3908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lh3.ggpht.com/-x3BkzTmPzIQ/U53AF_hGYmI/AAAAAAAAB1A/-43vFGzBwOg/lb_thumb%25255B1%25255D.jpg?imgmax=800"/>
          <p:cNvPicPr/>
          <p:nvPr/>
        </p:nvPicPr>
        <p:blipFill>
          <a:blip r:embed="rId2"/>
          <a:stretch/>
        </p:blipFill>
        <p:spPr>
          <a:xfrm>
            <a:off x="2554200" y="3121200"/>
            <a:ext cx="3816360" cy="3511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ttps://www.anbg.gov.au/cpbr/cd-keys/orchidkey/html/images/essay/thumbnails/P016026.jpg"/>
          <p:cNvPicPr/>
          <p:nvPr/>
        </p:nvPicPr>
        <p:blipFill>
          <a:blip r:embed="rId3"/>
          <a:stretch/>
        </p:blipFill>
        <p:spPr>
          <a:xfrm>
            <a:off x="4932360" y="3017880"/>
            <a:ext cx="4052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IMPLICATIONS OF GENETICS TO HUMAN WELL-BE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1442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is helpful in understanding the causation of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helps us to understand how normal variation between individuals are brought abou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has also led to possible means of prevention of genetic disorders through genetic counseling and antenatal diagnosi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s serves to solve even legal problems. Legal cases involving disputed parentage may be sorted out by an analysis of blood groups or other inherited characterist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90480" y="1752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RELATIONSHIP TO OTHER SCIENC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Genetics in relation to other sci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-1828800" y="841320"/>
            <a:ext cx="13106520" cy="6473880"/>
          </a:xfrm>
          <a:prstGeom prst="rect">
            <a:avLst/>
          </a:prstGeom>
          <a:ln w="0">
            <a:noFill/>
          </a:ln>
        </p:spPr>
      </p:pic>
      <p:sp>
        <p:nvSpPr>
          <p:cNvPr id="253" name="Oval 2"/>
          <p:cNvSpPr/>
          <p:nvPr/>
        </p:nvSpPr>
        <p:spPr>
          <a:xfrm>
            <a:off x="5472000" y="1504800"/>
            <a:ext cx="20718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Biochem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327640" y="4332240"/>
            <a:ext cx="2119320" cy="1093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3051000" y="5124600"/>
            <a:ext cx="2432160" cy="11379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Immun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"/>
          <p:cNvSpPr/>
          <p:nvPr/>
        </p:nvSpPr>
        <p:spPr>
          <a:xfrm>
            <a:off x="3344760" y="979560"/>
            <a:ext cx="2119320" cy="1123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Browallia New"/>
              </a:rPr>
              <a:t>Cyt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867280" y="2960640"/>
            <a:ext cx="2210040" cy="1069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1476360" y="4273560"/>
            <a:ext cx="1892160" cy="1096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339920" y="1596960"/>
            <a:ext cx="199692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rowallia New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838080" y="2860560"/>
            <a:ext cx="19386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u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559320" y="2800440"/>
            <a:ext cx="1523880" cy="14745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3"/>
          <p:cNvSpPr/>
          <p:nvPr/>
        </p:nvSpPr>
        <p:spPr>
          <a:xfrm>
            <a:off x="4343400" y="2103480"/>
            <a:ext cx="0" cy="696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5"/>
          <p:cNvSpPr/>
          <p:nvPr/>
        </p:nvSpPr>
        <p:spPr>
          <a:xfrm>
            <a:off x="3179880" y="2495520"/>
            <a:ext cx="603000" cy="52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8"/>
          <p:cNvSpPr/>
          <p:nvPr/>
        </p:nvSpPr>
        <p:spPr>
          <a:xfrm flipH="1">
            <a:off x="4861080" y="2451240"/>
            <a:ext cx="777600" cy="56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1"/>
          <p:cNvSpPr/>
          <p:nvPr/>
        </p:nvSpPr>
        <p:spPr>
          <a:xfrm>
            <a:off x="2776680" y="3446640"/>
            <a:ext cx="782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5083200" y="3495600"/>
            <a:ext cx="784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5"/>
          <p:cNvSpPr/>
          <p:nvPr/>
        </p:nvSpPr>
        <p:spPr>
          <a:xfrm flipH="1">
            <a:off x="3211200" y="4059360"/>
            <a:ext cx="571320" cy="45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8"/>
          <p:cNvSpPr/>
          <p:nvPr/>
        </p:nvSpPr>
        <p:spPr>
          <a:xfrm>
            <a:off x="4861080" y="4059360"/>
            <a:ext cx="776160" cy="4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31"/>
          <p:cNvSpPr/>
          <p:nvPr/>
        </p:nvSpPr>
        <p:spPr>
          <a:xfrm flipH="1">
            <a:off x="4267080" y="4275000"/>
            <a:ext cx="54000" cy="84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1. Cyto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25146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ranch of genetics that is concerned with the study of the structure and function of the cell, especially the chromosom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discipline is concerned with the cytologic and molecular bases of genetic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: Patau Syndrome (trisomy 13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wn syndrome (trisomy 21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ward Syndrome (trisomy 18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2. Biochem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udy of fundamental relationships between genes, protein, and metabolis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nvolves the study of the cause of many heritable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CKLE CELL ANEMIA and THALAS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14:55Z</dcterms:created>
  <dc:creator>LIZA</dc:creator>
  <dc:description/>
  <dc:language>en-US</dc:language>
  <cp:lastModifiedBy>Othman Jawdat Taani</cp:lastModifiedBy>
  <cp:lastPrinted>2017-09-20T08:37:41Z</cp:lastPrinted>
  <dcterms:modified xsi:type="dcterms:W3CDTF">2017-09-26T06:56:36Z</dcterms:modified>
  <cp:revision>137</cp:revision>
  <dc:subject/>
  <dc:title>UNIT I: INTRODUCTION</dc:title>
</cp:coreProperties>
</file>