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F267-2569-47C8-BE92-7DD2B6E3A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4D89-DDB7-4182-885A-D3BCB9B24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B05934-97CC-4839-B1AD-6AE2CE3C9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98D3A9-50C1-4D69-B0D8-6968AD258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639665-75A5-47DE-B8A0-223C81820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8CDE9A-45C4-4A1D-A79C-8D9C6589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452EBC-82D0-47A5-AF21-44E2FDE59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36C7BD-7B0F-4F19-B58E-43A0F8426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BB977F-6496-4A89-BD47-C8D082155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F28180-8C8E-49B7-917F-7B14CAB4A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81B6BA-B42E-467E-9E62-D8B36C2F7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4051B7-5D31-4D60-A50E-3EB085E53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61FC-C6F0-4BFB-ACCD-AEDB92152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748B01-21FA-4A16-90EB-74D36DC59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F04A70-CCDF-43F2-B156-58D5A806A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B095A1-C5A5-4B6D-8CA2-F89F314C0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85FA89-BE26-48C9-BDB0-C68B058DD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AF792F-2D93-43DB-A4D3-960C73255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21DF22-0847-4A50-A87A-4B6E945B7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E82F8E-8987-4015-86F6-1CD7E8287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A7DEE2-6D54-4BF9-85DA-9E0F600D8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EFECBD-3A57-4A92-B733-9BD4867C3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8B7521-7A5E-4004-A9BF-0A7D06119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A2E2-F88B-4266-BD59-30392655C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ACAAF7-96D0-40C0-9727-5EF2DAA1B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D75409-5ED8-406C-B9FB-24B94D790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696309-BC0D-40E0-BEF4-4213546A6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2DB38B-5A24-4577-BF6D-388699FF0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8DEC85-68E7-46A6-A518-9E4B94D98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D6787F-3A86-4AAB-8E45-BE5CBF24B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D677DB-3E3D-437E-B0A2-6DFE190B8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A1ADC2-D8C2-4869-BEAC-29A3F1003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0B6353-B044-4392-ACFB-7A294C3F0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9DC95D-4754-452D-B076-F045F9873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9B9F9-1FBC-4682-AFDC-AAFBA7E28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A9C1B0-91FD-4319-AF9A-ABA40EBA7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5855FD-C8EC-4FA2-BABA-7412A4386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4AB4E8-94AC-401B-A8E2-8A6499274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26CC5D-C3A6-4CCF-B7CF-EE9E516CD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1596C3-DADA-4D45-A830-987D4137F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890FB9-8A50-4264-A337-6D9275F26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32463B-0E32-4EC7-AE13-5068B2B5E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B0C0CD-37D3-4D84-8A9F-3937EEF2D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35B038-3CAF-489B-920C-56CDA3D54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4A4F4E-AE28-4F07-BE0E-ED46ACBC4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D94AF-9F5F-4E9A-82D4-7B5FDA75C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6DF6EC-3940-4B93-A4AE-3852F5DDF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96C3DB-FB67-42B0-921A-779230C1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5F1F71-9E99-48C0-B6AF-238A90A2D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A343F7-39EA-4332-AA60-EF5D2BD20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4F3351-73D7-4264-AC80-71838E9FF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88DC6-CBD0-4B94-BFFF-FEF644814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C019B-065A-42C3-9076-DE9A0A9C4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420BD-85F6-4DC6-9CB1-39C098D08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55101-A36B-4CE1-B9E9-BBE1BC2FB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72960-6B7B-418D-A0D7-149031207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F9A9-37F2-4781-A1E6-84EA24094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D69A9-E257-4912-83CA-243E33CC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5B132-352F-40C6-90EC-FD449EA0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668D0-7992-4CD7-A8DA-3336E2C9F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10058-D938-4A86-8807-4B49AE00A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886DC-4005-400A-A54E-E7728CCB4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8AA9C-BC6E-4FE8-8415-877074DA6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940BB-19BF-4C15-8D05-BC6DD5580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2E9E8-EB1A-4903-AE67-BEADE1A10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1DCEE-38D9-45BE-BA84-DED1B6426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01193-F078-4E3A-9E6A-76CC0F58D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9AA1-3464-4544-B9EC-DA6D85238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1C898-0517-4EBD-B1E0-E8C9B1848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3D0D0-E66F-484A-B812-F0B85A77B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3F40A-4CAF-48D4-9A0F-5820C8E03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732CA-6C51-4891-B860-4AEC9969E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2FBDF-7836-4AB1-9235-1309892CD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E046B-67A8-41E8-A416-49CF4D7DA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C3F4B-6AD0-4F42-8E03-B92FBD799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ED58B-719A-4271-A3AC-776B4BCC2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4B1CC-2A99-467A-9288-0548E25D3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7C8CB-1869-4280-9683-8B94B8FD3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A02E-D3AD-467C-97C9-D9FA469D8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A24D6-BDDD-42A3-AADF-5370D4D08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B24F9-9C6A-4645-A892-FF6A3D401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7D020-B41A-48ED-8BC5-1296E13E8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C757F-FCBD-48B2-A7AB-91DA7198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9FD18-8853-42EA-ADF0-A0548943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662F2-2BA2-4CB5-8D9A-5147347A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ABD7B-FC12-49DC-9E02-1A8E3AC90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E8F6A-3EE7-4001-8427-0F812953D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A8EA2-2A4A-4808-8E6C-F2DC6A8B4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FD4F9-EDE0-49AD-93C4-9E8EB06FC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3948-2C0A-487E-9FE6-188171C12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3A8E0-68F2-41CD-B097-C028D0ABA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B07B0C-CE96-46BE-9E5E-11065ADFE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AE83D-6755-46A8-A6AC-4CE577C9C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9CDCCE-1C8F-447F-9873-9C17D4DB0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86FA1B-B1A3-4094-81F5-CF84DDB5A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284A6-A389-467F-ACED-28471223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BA4677-423C-48A7-845D-660D5BD4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848CB9-C80E-41B9-9CA6-962FB9B2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0E307-D860-45DD-B7D8-ADEFA343D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9E8065-033D-4491-80F3-414FF277A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B37E-4527-4954-B730-26B7E5C6C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FDFB1C-DA7B-4E17-B085-0919CB239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3557C4-7949-46E5-B3B3-F23DA259E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029B0C-EEAF-4BF5-ACD0-85B01899F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406FCA-9DB8-45E3-807B-C9D3D2F4F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FE8512-6ED0-415A-BC3D-2C72141F8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E03D1D-1E19-413A-ACDA-960958372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F18C5B-A563-4C7B-AB1B-6A0ACC8FC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E44032-2FE0-438E-AD56-64A7ED049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53F019-068E-4152-8665-3D2F5FC58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975BB2-987F-486B-A1B3-F8241786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D3F9-1349-44E8-A796-19D89E903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24DF5C-31E4-4A73-AF6F-13A4801F6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6D03BF-C7FC-4E26-B32C-EDF1C5B59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8EDD9C-1A2B-4DA7-AC41-0C370DAE1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1A82F4-557E-45B9-BE3A-B47C65BA4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987005-57BE-439E-AEF0-6CAEF984A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1BEE7D-0CC1-4437-8D37-AED37639C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B952A6-DCFA-4EF0-904F-FE3F56146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D74E14-9981-499C-A28B-C67A9BA98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FECBBA-9BD6-4C08-8FC7-BB1512BAC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1EE0F7-6F07-4075-B928-4AF068DC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5A44-5C93-4FFA-AB39-B6B6266E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FF2139-FA7E-462C-A8AE-254A81A18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9F5C41-9182-4662-8124-3682A95CD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2545B1-CF2C-46E4-BFD9-AEF699840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BB1C13-2409-41CE-8DC5-26D9E3029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1E8DD1-61B7-424C-9081-DA339690D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623219-6DFE-4DBE-B868-3C59B26CD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6E2240-A380-477F-9753-BCA9E86B8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28B8FA-8184-49AA-9817-B335D5141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FA78D5-DC84-42F7-A7A9-995800129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BD345B-20D0-43BE-A495-D8FEFF412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8641-7ACB-497F-912C-904E80D2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4CBB6F-DD69-4DC3-B123-56FFA8EDC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9B2CD3-C295-40BE-9B1D-CF1AF2D0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4A23A9-B64B-4F0D-ADE6-19F2DEDE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E4DAF3-ABAB-4BA9-B2A3-A4A9C52E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CBF010-EA6B-4806-97DD-E4F465654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CCAEC4-C467-47BE-80DD-4D2D72847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7B56C2-463D-40AB-8E3D-3AB00112D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AF9F6F-5431-453E-A829-FBF32949D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801E1E-D311-4D98-99F6-A137E2EFC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7518AC-D584-43A4-A684-28B5F5D6C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F7E79-4297-4514-B330-8ECC915D3840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9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30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77920-AA71-44BE-8F41-50F1170E4106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3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3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3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1A4A6-A2B6-4D70-B92E-16A9A6DEB38E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3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3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3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06E50-79F5-460A-B854-E820C2368352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EFF68-E866-4BC6-B85C-6636CADE38F6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10CCF-B6AC-4399-B7A7-EE022014E8B3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Rounded Rectangle 10"/>
          <p:cNvGrpSpPr/>
          <p:nvPr/>
        </p:nvGrpSpPr>
        <p:grpSpPr>
          <a:xfrm>
            <a:off x="60480" y="60480"/>
            <a:ext cx="9023040" cy="6705360"/>
            <a:chOff x="60480" y="60480"/>
            <a:chExt cx="9023040" cy="6705360"/>
          </a:xfrm>
        </p:grpSpPr>
        <p:pic>
          <p:nvPicPr>
            <p:cNvPr id="132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3040" cy="670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EB2B0-BFD7-421C-908D-BCD86063CFE4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2CD6D-5372-4582-BA73-20492932B3B2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344E0-6C1E-4277-AE94-FD1EECE1D5A7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B9611-54D1-4C26-BA1C-6A76C862157D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B668C-A1DD-4198-ADAF-AB1CA2C94DA8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5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6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7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CE84D-D10F-4463-BDDA-14E03D58DCE1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mbria"/>
              </a:rPr>
              <a:t>Uronic Acid Pathway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2" name="Rectangle 5"/>
          <p:cNvSpPr/>
          <p:nvPr/>
        </p:nvSpPr>
        <p:spPr>
          <a:xfrm>
            <a:off x="2133720" y="3962520"/>
            <a:ext cx="4572000" cy="7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ambria"/>
                <a:ea typeface="Arial"/>
              </a:rPr>
              <a:t>Dr. Sooad Al-Daih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ambria"/>
                <a:ea typeface="Arial"/>
              </a:rPr>
              <a:t>Biochemistry depart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2" descr="BioLogo2small"/>
          <p:cNvPicPr/>
          <p:nvPr/>
        </p:nvPicPr>
        <p:blipFill>
          <a:blip r:embed="rId1"/>
          <a:stretch/>
        </p:blipFill>
        <p:spPr>
          <a:xfrm>
            <a:off x="6934320" y="17640"/>
            <a:ext cx="194472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mbria"/>
              </a:rPr>
              <a:t>Overview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304920" y="18284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It is an alternative oxidative pathway for glucose that doesn’t lead to ATP generation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It includes oxidation of glucose to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776160" indent="-457200" algn="just"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Glucuronic acid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776160" indent="-457200" algn="just"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Ascorbic acid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It occurs mainly in the liver cytoplasm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1" descr="Screen Shot 2012-03-18 at 7.39.19 PM.png"/>
          <p:cNvPicPr/>
          <p:nvPr/>
        </p:nvPicPr>
        <p:blipFill>
          <a:blip r:embed="rId1"/>
          <a:stretch/>
        </p:blipFill>
        <p:spPr>
          <a:xfrm>
            <a:off x="304920" y="4038480"/>
            <a:ext cx="8534160" cy="1911600"/>
          </a:xfrm>
          <a:prstGeom prst="rect">
            <a:avLst/>
          </a:prstGeom>
          <a:ln w="28440">
            <a:solidFill>
              <a:srgbClr val="d34817"/>
            </a:solidFill>
            <a:miter/>
          </a:ln>
        </p:spPr>
      </p:pic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Cambria"/>
              </a:rPr>
              <a:t>Metabolic reactions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304920" y="1066680"/>
            <a:ext cx="807696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 rtl="1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Glucose 6-phosphate is isomerized to glucose 1-phosphat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35880" indent="-335880" algn="just" rtl="1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Glucose 1-phosphate reacts with uridine triphosphate (UTP) to form uridine diphosphate glucose (UDPGlc) in a reaction catalyzed by UDPGlc pyrophosphorylase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35880" indent="-335880" algn="just" rtl="1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UDPGlc is oxidized at carbon 6 by NAD-dependent UDPGlc dehydrogenase in a two-step reaction to yield UDP-glucuronate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35880" indent="-335880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9" name="TextBox 3"/>
          <p:cNvSpPr/>
          <p:nvPr/>
        </p:nvSpPr>
        <p:spPr>
          <a:xfrm>
            <a:off x="2819520" y="4114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6"/>
          <p:cNvSpPr/>
          <p:nvPr/>
        </p:nvSpPr>
        <p:spPr>
          <a:xfrm>
            <a:off x="5029200" y="4114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Box 7"/>
          <p:cNvSpPr/>
          <p:nvPr/>
        </p:nvSpPr>
        <p:spPr>
          <a:xfrm>
            <a:off x="6019920" y="5029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Perpetua"/>
              </a:rPr>
              <a:t>UDP Glucuronic acid (active form) is needed in</a:t>
            </a:r>
            <a:r>
              <a:rPr b="1" lang="en-US" sz="3200" spc="-1" strike="noStrike">
                <a:solidFill>
                  <a:srgbClr val="0000ff"/>
                </a:solidFill>
                <a:latin typeface="Perpetua"/>
              </a:rPr>
              <a:t>: </a:t>
            </a:r>
            <a:br>
              <a:rPr sz="4400"/>
            </a:b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8088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 rtl="1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99"/>
                </a:solidFill>
                <a:latin typeface="Perpetua"/>
              </a:rPr>
              <a:t>Conjugation to less polar compounds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s bilirubin, steroids and some drugs making them more water soluble (detoxicated)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 algn="just" rtl="1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99"/>
                </a:solidFill>
                <a:latin typeface="Perpetua"/>
              </a:rPr>
              <a:t>Synthesis of glycosaminoglycans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(mucopolysaccharide) as heparin, hyaluronic acid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 algn="just" rtl="1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 plants and some animals (not Human) glucuronic acid serves as a </a:t>
            </a:r>
            <a:r>
              <a:rPr b="1" lang="en-US" sz="2600" spc="-1" strike="noStrike">
                <a:solidFill>
                  <a:srgbClr val="cc0099"/>
                </a:solidFill>
                <a:latin typeface="Perpetua"/>
              </a:rPr>
              <a:t>precursor of L-ascorbic acid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 algn="just" rtl="1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uronic acid pathway also provides a mechanism by which dietary </a:t>
            </a:r>
            <a:r>
              <a:rPr b="1" lang="en-US" sz="2600" spc="-1" strike="noStrike">
                <a:solidFill>
                  <a:srgbClr val="cc0099"/>
                </a:solidFill>
                <a:latin typeface="Perpetua"/>
              </a:rPr>
              <a:t>D-xylulose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nter the central pathway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8T06:44:31Z</dcterms:created>
  <dc:creator>aalghanouchi</dc:creator>
  <dc:description/>
  <dc:language>en-US</dc:language>
  <cp:lastModifiedBy>i Mac </cp:lastModifiedBy>
  <dcterms:modified xsi:type="dcterms:W3CDTF">2012-03-18T16:49:16Z</dcterms:modified>
  <cp:revision>111</cp:revision>
  <dc:subject/>
  <dc:title>Slide 1</dc:title>
</cp:coreProperties>
</file>