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BDF-8953-45FB-9596-06227470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5EA-05C1-43B6-A551-0D202451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6A22A-11BC-4D6D-8E7C-0A654D9C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1709A-34FB-4358-95CF-32A94B3D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FE41A-BD24-41DE-BD98-A4067C87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AC355-3778-4944-B0F4-66AC8F3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ED4DE-7284-4674-9CB0-5D1FD2B9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A623D-0C87-47D6-900C-163A4B6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C2B15-C1CC-4BAB-A9FE-0273CF9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E7C8B-9256-4E0F-9912-8AC5EF58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A3FC4-6674-4F69-AA9D-FFE827E5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CC062-B828-43DE-A861-D6E18E0E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6C4-A32C-4163-A0B9-384D2CC5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43006-5C0C-4155-A9DB-A2CBEFC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6B489-39EA-485D-812B-77559BF1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4A1A9-9745-430E-AA35-304E8341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AB381-7CB0-474A-B7B1-D3211706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9E199-EBD8-4A35-A7BB-6C2B8BA5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7DA3D-258A-4560-A256-1FFD49A3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4045E-6173-49DA-B6F2-CD0A517D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E9E77-4F98-439F-B22C-D2B4434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D4B57-72EA-4B21-94BC-368EDCEF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7C867-28BC-4F07-9B4A-15B476C0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FB2-A19F-4FB9-841A-BB55F0DC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A7FD3-4CF6-476C-893C-14ECCA9C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A2EF0-4290-4854-8E5E-0142A091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78D6B-6E2C-443B-BFE3-41D3980C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6C27B-42A4-4715-BEFF-FD88FC6B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66D87-052E-41A9-A4CC-7D8F3583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850EB-9EE1-4533-B848-B079525C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645D0-3A46-459C-A003-46BAAF08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0786F-015D-4EB4-AFAB-BF3FEB2C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13B43-44E1-4C3D-83CE-690D0F2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ED87D-714D-4EEB-8796-8EAA57ED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6A1C-C16B-4247-9CF7-5377C2D7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14C04-7859-4AAA-93BF-969A270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CD7EE-3D58-4AF6-806A-E5C90CFA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886B8-1C09-4F8D-BBD1-0E001E2A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8DCA0-E324-4114-90DB-A8CF5832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CBD8C-54FD-4282-920B-D65A695A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B084C-5971-4DC5-81ED-477E5089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B766B-C37C-4958-BD2B-E01A2B18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C816A-7A3E-4504-A6E0-408FD059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F7452-161E-473B-A23D-A44A38ED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45791-0BA4-4CA7-96D6-4BB6C6E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5D3E-925E-4A5B-9D73-4609452D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AD15D-9688-4E2D-84F9-57891E5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53CF6-0BF0-4BEF-8F1E-457A68F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091AA-A994-4E4E-8F62-24C218DD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080F8-0770-45E4-98E7-9FEC1931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89093-8248-4942-BBAF-0EA34DF8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8F96-46EE-46F6-A8CC-68F3E2FB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2C4F-3CD4-4CD8-A29D-00343354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0946-9254-478C-9167-9B914DC2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61EF-DDDE-4BDF-98BF-F1A2E853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FDDD-76A8-4FBB-BDBC-D06C5BF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197-E007-48C0-B5BD-6F739B76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2D64-3BC9-46ED-B2C1-5034ED72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0B3D-3C3E-4E9F-83CA-862815A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E3C7-A606-42D9-BDA5-51FB0FF4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8474-512D-48FF-877F-521536E9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A086-B8C2-4EFB-9FA8-B4A782D9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12FE-A66C-4A29-94B8-CCF0387F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0E6E-BC15-4405-8A77-B58359B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656E-A282-459A-8E72-6899F2DF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5C36-67E3-441A-A7F5-EB6C710D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4E62-1EA4-43CB-B0BC-8ABAA1DE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C47-785F-4AE1-AF92-C2876574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9770-333C-4A01-8EDE-E8CF3EBA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5EB1D-1DD5-463D-9897-3620C16F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0CE6-3468-4919-9ECE-44C659D7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8BE3-87C8-42B8-A969-7EC24B8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F0F0-C1B1-4BEB-9611-299E8064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E919-3287-4EA4-8159-87F3CB19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EF1B-285C-4C66-94CF-4F9B7D9A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D789C-2340-4255-B8F7-F51E660C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E6E01-F208-4950-AA2D-CC449216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11AE-6C2F-47E6-851E-1444AAB2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E68-A184-47C0-AFBA-0F3E9A17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69CD-12D5-4305-8B40-E5ED7194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FAC35-DFAF-49E9-B706-243826B6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D1AE6-9E18-403B-A997-ABBB3AB9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3AD4-FE71-4781-A600-0E21694D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D8B1-4FCE-4F04-99BB-CE265707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A63E-0725-4216-8532-FD7CF11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D1B3-B17F-41D1-89C3-6150B7D0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CFB3-C9B0-4F45-8981-749F7BBC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A4530-2BEC-40B4-B08A-A6BC0829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D75CC-BE08-4E42-93A8-92604CB7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907-140A-4BCC-B53A-8DAE2889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26238-2DB2-438C-9F79-52B4DF60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7D58-0E82-44CB-AC49-B52D3471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E5F25-6546-4400-9031-C2E20BE8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B934F-591E-4F7E-846D-31D2988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0FE28-E894-4E3B-8D07-38E2FCA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F9621-547F-40FC-AB7C-8E2428C5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A6097-26EA-432F-900E-78A5A189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39C2-726F-4D54-AAD5-08BF4EEC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5B8FD-D669-42E7-A50B-5B7DDF45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F7F2F-1F6B-44C1-8F20-24203D6F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378-1259-416F-9C82-E59CE8DC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154E-7979-4739-BAD6-57E94E02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9472C-462F-480F-946C-8BBA763A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5F563-C24D-4894-8A46-381C04BA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A48A-309C-4EA1-86D5-C3303722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2D3CF-9060-4CA6-B0AE-419AFC1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540B-1607-4D79-A337-239CD2FA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811AF-8EE5-49FD-ACE1-B24A341A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4C25-E146-46DB-9DDB-B7341F4A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5682C-4E0E-4FDC-A6D2-F402F535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4692C-9E4E-40DA-9634-F29C48F1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44A-145B-4C31-ABA6-AD3B5426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71382-008A-4996-9B58-603AD011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368DF-15F5-4FB8-B55C-B8C7BE8F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27FC2-1717-4B02-A378-C47B5C7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1479-7A0C-40CA-A631-2A6FA3E7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5DD1-4974-465B-B015-8EA84432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59C0A-2AC5-4C8E-9ADB-B5D041C1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CBCA5-8E1D-4B57-9ECA-B2A4013D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2E7C5-4F75-430E-8E64-E4F1B423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7FDCF-E86E-49C5-9BF3-A57C355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9D20-4183-4171-B293-AC3EC89E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CC8-B2D9-4701-8A82-C5193790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647F8-BC63-40A9-80E7-8745E2AA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2262-7EA6-4949-9043-6B87AAB0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D17AD-6A8F-483C-B771-B215AA61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3B945-3E2A-49F0-BFC6-BC3049C4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7DA04-F04D-42B3-8F3D-0959C6E9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356B-69D4-4F1F-A860-0DC152AA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5F0BF-32D1-450E-898A-7552349D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58067-B6C8-49DA-BED2-A512434E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39999-0D48-4F4A-8802-348A42B9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155C4-3B2F-44C3-B357-8471FB23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675-80BD-4C98-A50E-C53C69B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4F92-AE1D-441F-86E5-49BAF846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2BA5A-9974-4DBC-96D9-239D8CA1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EACC4-8F33-4FE4-990E-03CEADEF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6A7D-CB17-4CF7-A13D-12410079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C2596-CDA8-417B-AF5C-477FFFA4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E00E5-B5CB-459A-B80E-7B388928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B60C0-5E0B-43E8-AE49-FF9A4115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5A7B4-F3AA-4485-B909-24E68BCC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83E5B-E33D-45AC-9AAD-6D3D4ACB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168BE-CECD-442A-B46F-F79EAA93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BF13-5CA9-4B47-B93F-3158FCB1DD9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AF4D-34C8-4E4D-9C8A-29D8DA65FF9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F494-4356-471C-B85B-51DE07291BA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E7AF-46BD-4687-9825-16E4B82F4F6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D30F-D6D8-4507-8077-6430D05CD05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946D-BCA0-478E-903B-66432388036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DB00-8737-4B3A-B0F0-7DAC0538626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D604-3A27-41B5-B45F-9B299544E18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E547-CC74-4542-B242-893ACC68CA9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8E2C-C679-4B2E-88DC-BA7EF255D69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C283-E927-44F2-963B-1E0E48AC655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1F7C-280F-454E-A8E2-68B3BBC7C55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Uronic Acid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18284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is an alternative oxidative pathway for glucose that doesn’t lead to ATP generati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includes oxidation of glucose to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 algn="just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ucuronic aci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 algn="just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scorbic aci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occurs mainly in the liver cytoplasm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" descr="Screen Shot 2012-03-18 at 7.39.19 PM.png"/>
          <p:cNvPicPr/>
          <p:nvPr/>
        </p:nvPicPr>
        <p:blipFill>
          <a:blip r:embed="rId1"/>
          <a:stretch/>
        </p:blipFill>
        <p:spPr>
          <a:xfrm>
            <a:off x="304920" y="4038480"/>
            <a:ext cx="8534160" cy="1911600"/>
          </a:xfrm>
          <a:prstGeom prst="rect">
            <a:avLst/>
          </a:prstGeom>
          <a:ln w="28440">
            <a:solidFill>
              <a:srgbClr val="d34817"/>
            </a:solidFill>
            <a:miter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ambria"/>
              </a:rPr>
              <a:t>Metabolic reactio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106668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ucose 6-phosphate is isomerized to glucose 1-phosph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ucose 1-phosphate reacts with uridine triphosphate (UTP) to form uridine diphosphate glucose (UDPGlc) in a reaction catalyzed by UDPGlc pyrophosphoryl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DPGlc is oxidized at carbon 6 by NAD-dependent UDPGlc dehydrogenase in a two-step reaction to yield UDP-glucuronat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28195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502920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601992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Perpetua"/>
              </a:rPr>
              <a:t>UDP Glucuronic acid (active form) is needed in</a:t>
            </a:r>
            <a:r>
              <a:rPr b="1" lang="en-US" sz="3200" spc="-1" strike="noStrike">
                <a:solidFill>
                  <a:srgbClr val="0000ff"/>
                </a:solidFill>
                <a:latin typeface="Perpetua"/>
              </a:rPr>
              <a:t>: </a:t>
            </a:r>
            <a:br>
              <a:rPr sz="44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Conjugation to less polar compound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bilirubin, steroids and some drugs making them more water soluble (detoxicated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Synthesis of glycosaminoglycan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mucopolysaccharide) as heparin, hyaluronic aci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plants and some animals (not Human) glucuronic acid serves as a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precursor of L-ascorbic acid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uronic acid pathway also provides a mechanism by which dietary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D-xylulo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ter the central pathwa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18T16:49:16Z</dcterms:modified>
  <cp:revision>111</cp:revision>
  <dc:subject/>
  <dc:title>Slide 1</dc:title>
</cp:coreProperties>
</file>