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4C22-3724-435A-93E9-E386375AD6B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A0C4-6396-49A2-953E-793C74D30F2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3C7D-9319-4A8A-A91C-178F85F6D4B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785A-FCCE-4DC0-9E7F-58BAA5D4A06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6D8-DB74-4986-B9E4-54BB5C16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4E0-7F6A-4AEB-BDA6-31E7B512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A98-9030-40EF-B37B-393FDFBE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E04-3CA0-4D11-8487-9108BC40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0B59-A461-4089-A724-D2D21808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6F86-6D4E-4D16-A6C3-EBBE9A77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31CC-37AB-4B82-9915-1810A7AB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AD64-08B6-42E8-8A61-AF6A7E34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AD02-6827-4FCA-8D46-7346F2E3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AD0E-16D7-44B7-B95F-1DABADC5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0F01-826A-418D-8845-DE99C4EE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D52-8A98-4EEC-A263-10BC7DFF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4241-6172-40A5-83F0-98AE4611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9E9A-2369-49EE-AE94-42C9347E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2658-C87C-4922-9CBC-C7617959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37E1-5734-4AE1-B879-C9A53E69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6691-81C0-4A23-9A91-07E15E9D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02B-8B61-4C69-BEEA-F895967C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0D1-EB00-49F0-A7FB-85D745E6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FED-2506-4AB2-B8A0-D79DB5C5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8A0-0746-4ACD-A207-66AE4805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A0B-FBDD-4307-8B35-97B3E6DA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FE8-79CF-4762-813C-04AC3855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8EF-EE70-43B0-8EEE-0B377E49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7BA2-233F-4E5C-A9A6-5FF36BDE3AD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183E-42FC-4F20-92FF-60260876836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C:\Program Files\Netscape\Navigator\Program\netscape.exe" TargetMode="External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C:\Program Files\Netscape\Navigator\Program\netscape.exe" TargetMode="External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C:\Program Files\Netscape\Navigator\Program\netscape.exe" TargetMode="External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nteraction of radiation &amp; matt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76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lectromagnetic radiation in different regions of spectrum can be used for qualitative and quantitative informa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fferent types of chemical informatio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velength Dispers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62520" y="2057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isms (nonlinear, range depends on refractive index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gratings (linear, Bragg’s Law, depends on spacing of scratches, overlapping orders interfere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nterference filters (inexpensive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2819520"/>
          <a:ext cx="434340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19520"/>
                    <a:ext cx="43434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onochromato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Entrance slit - provides narrow optical imag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88000" indent="-2880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Collimator - makes light hit dispersive element at same angl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88000" indent="-2880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Dispersing element - directiona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88000" indent="-2880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Focusing element - image on sli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88000" indent="-2880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Exit slit - isolates desired color to exi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Resolu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320" y="2057400"/>
            <a:ext cx="8991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The ability to distinguish different wavelengths of light  - R=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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Linear dispersion - range of wavelengths spread over unit distance at exit slit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pectral bandwidth - range of wavelengths included in output of exit slit (FWHM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Resolution depends on how widely light is dispersed &amp; how narrow a slice chose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Filters - inexpensive alternati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Adsorption type - glass with dyes to adsorb chosen color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Interference filters - multiple reflections between 2 parallel reflective surfaces - only certain wavelengths have positive interferences - temperature effects spacing between surface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velength dependence in spectromet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Source 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onochromator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Detector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Sample - We hope so!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843680" y="1600200"/>
          <a:ext cx="127656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3680" y="1600200"/>
                    <a:ext cx="12765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Photodetectors - photoelectric effect   E(e)=h</a:t>
            </a:r>
            <a:r>
              <a:rPr b="0" lang="en-US" sz="4400" spc="-1" strike="noStrike">
                <a:solidFill>
                  <a:srgbClr val="00cccc"/>
                </a:solidFill>
                <a:latin typeface="Symbol"/>
                <a:ea typeface="Symbol"/>
              </a:rPr>
              <a:t>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For sensitive detector we need a small work function - alkali metals are best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Phototube - electrons attracted to anode giving a current flow proportional to light intensity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Photomultiplier - amplification to improve sensitivity (10 millio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pectral sensitivity is a function of photocathode materia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g-O-Cs mixture gives broader range but less efficienc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2KSb(trace of Cs)has better response over narrow rang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ax. response is 10% of one per photon (quantum efficiency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87920" y="2319480"/>
            <a:ext cx="4448160" cy="355284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36920" y="6102360"/>
            <a:ext cx="477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300nm     500          700          9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1440" y="2857680"/>
            <a:ext cx="3294000" cy="3022560"/>
          </a:xfrm>
          <a:custGeom>
            <a:avLst/>
            <a:gdLst/>
            <a:ahLst/>
            <a:rect l="l" t="t" r="r" b="b"/>
            <a:pathLst>
              <a:path w="2075" h="1904">
                <a:moveTo>
                  <a:pt x="0" y="1886"/>
                </a:moveTo>
                <a:lnTo>
                  <a:pt x="51" y="1817"/>
                </a:lnTo>
                <a:lnTo>
                  <a:pt x="51" y="1766"/>
                </a:lnTo>
                <a:lnTo>
                  <a:pt x="68" y="1731"/>
                </a:lnTo>
                <a:lnTo>
                  <a:pt x="85" y="1680"/>
                </a:lnTo>
                <a:lnTo>
                  <a:pt x="102" y="1629"/>
                </a:lnTo>
                <a:lnTo>
                  <a:pt x="120" y="1594"/>
                </a:lnTo>
                <a:lnTo>
                  <a:pt x="137" y="1526"/>
                </a:lnTo>
                <a:lnTo>
                  <a:pt x="137" y="1491"/>
                </a:lnTo>
                <a:lnTo>
                  <a:pt x="154" y="1440"/>
                </a:lnTo>
                <a:lnTo>
                  <a:pt x="188" y="1389"/>
                </a:lnTo>
                <a:lnTo>
                  <a:pt x="205" y="1354"/>
                </a:lnTo>
                <a:lnTo>
                  <a:pt x="240" y="1303"/>
                </a:lnTo>
                <a:lnTo>
                  <a:pt x="257" y="1251"/>
                </a:lnTo>
                <a:lnTo>
                  <a:pt x="291" y="1183"/>
                </a:lnTo>
                <a:lnTo>
                  <a:pt x="325" y="1131"/>
                </a:lnTo>
                <a:lnTo>
                  <a:pt x="360" y="1097"/>
                </a:lnTo>
                <a:lnTo>
                  <a:pt x="377" y="1046"/>
                </a:lnTo>
                <a:lnTo>
                  <a:pt x="394" y="1011"/>
                </a:lnTo>
                <a:lnTo>
                  <a:pt x="411" y="960"/>
                </a:lnTo>
                <a:lnTo>
                  <a:pt x="411" y="909"/>
                </a:lnTo>
                <a:lnTo>
                  <a:pt x="428" y="874"/>
                </a:lnTo>
                <a:lnTo>
                  <a:pt x="445" y="823"/>
                </a:lnTo>
                <a:lnTo>
                  <a:pt x="462" y="771"/>
                </a:lnTo>
                <a:lnTo>
                  <a:pt x="462" y="720"/>
                </a:lnTo>
                <a:lnTo>
                  <a:pt x="480" y="669"/>
                </a:lnTo>
                <a:lnTo>
                  <a:pt x="480" y="634"/>
                </a:lnTo>
                <a:lnTo>
                  <a:pt x="497" y="583"/>
                </a:lnTo>
                <a:lnTo>
                  <a:pt x="514" y="531"/>
                </a:lnTo>
                <a:lnTo>
                  <a:pt x="531" y="480"/>
                </a:lnTo>
                <a:lnTo>
                  <a:pt x="548" y="429"/>
                </a:lnTo>
                <a:lnTo>
                  <a:pt x="582" y="377"/>
                </a:lnTo>
                <a:lnTo>
                  <a:pt x="617" y="343"/>
                </a:lnTo>
                <a:lnTo>
                  <a:pt x="634" y="291"/>
                </a:lnTo>
                <a:lnTo>
                  <a:pt x="685" y="240"/>
                </a:lnTo>
                <a:lnTo>
                  <a:pt x="720" y="206"/>
                </a:lnTo>
                <a:lnTo>
                  <a:pt x="754" y="171"/>
                </a:lnTo>
                <a:lnTo>
                  <a:pt x="805" y="137"/>
                </a:lnTo>
                <a:lnTo>
                  <a:pt x="840" y="103"/>
                </a:lnTo>
                <a:lnTo>
                  <a:pt x="891" y="69"/>
                </a:lnTo>
                <a:lnTo>
                  <a:pt x="942" y="34"/>
                </a:lnTo>
                <a:lnTo>
                  <a:pt x="977" y="17"/>
                </a:lnTo>
                <a:lnTo>
                  <a:pt x="1028" y="0"/>
                </a:lnTo>
                <a:lnTo>
                  <a:pt x="1080" y="0"/>
                </a:lnTo>
                <a:lnTo>
                  <a:pt x="1148" y="0"/>
                </a:lnTo>
                <a:lnTo>
                  <a:pt x="1200" y="0"/>
                </a:lnTo>
                <a:lnTo>
                  <a:pt x="1251" y="51"/>
                </a:lnTo>
                <a:lnTo>
                  <a:pt x="1302" y="69"/>
                </a:lnTo>
                <a:lnTo>
                  <a:pt x="1320" y="120"/>
                </a:lnTo>
                <a:lnTo>
                  <a:pt x="1371" y="171"/>
                </a:lnTo>
                <a:lnTo>
                  <a:pt x="1405" y="206"/>
                </a:lnTo>
                <a:lnTo>
                  <a:pt x="1440" y="240"/>
                </a:lnTo>
                <a:lnTo>
                  <a:pt x="1474" y="291"/>
                </a:lnTo>
                <a:lnTo>
                  <a:pt x="1491" y="326"/>
                </a:lnTo>
                <a:lnTo>
                  <a:pt x="1508" y="377"/>
                </a:lnTo>
                <a:lnTo>
                  <a:pt x="1560" y="429"/>
                </a:lnTo>
                <a:lnTo>
                  <a:pt x="1577" y="480"/>
                </a:lnTo>
                <a:lnTo>
                  <a:pt x="1594" y="531"/>
                </a:lnTo>
                <a:lnTo>
                  <a:pt x="1611" y="566"/>
                </a:lnTo>
                <a:lnTo>
                  <a:pt x="1628" y="617"/>
                </a:lnTo>
                <a:lnTo>
                  <a:pt x="1645" y="669"/>
                </a:lnTo>
                <a:lnTo>
                  <a:pt x="1662" y="720"/>
                </a:lnTo>
                <a:lnTo>
                  <a:pt x="1662" y="771"/>
                </a:lnTo>
                <a:lnTo>
                  <a:pt x="1680" y="806"/>
                </a:lnTo>
                <a:lnTo>
                  <a:pt x="1697" y="857"/>
                </a:lnTo>
                <a:lnTo>
                  <a:pt x="1714" y="909"/>
                </a:lnTo>
                <a:lnTo>
                  <a:pt x="1731" y="960"/>
                </a:lnTo>
                <a:lnTo>
                  <a:pt x="1765" y="1011"/>
                </a:lnTo>
                <a:lnTo>
                  <a:pt x="1765" y="1046"/>
                </a:lnTo>
                <a:lnTo>
                  <a:pt x="1782" y="1097"/>
                </a:lnTo>
                <a:lnTo>
                  <a:pt x="1800" y="1149"/>
                </a:lnTo>
                <a:lnTo>
                  <a:pt x="1817" y="1200"/>
                </a:lnTo>
                <a:lnTo>
                  <a:pt x="1834" y="1269"/>
                </a:lnTo>
                <a:lnTo>
                  <a:pt x="1851" y="1337"/>
                </a:lnTo>
                <a:lnTo>
                  <a:pt x="1885" y="1389"/>
                </a:lnTo>
                <a:lnTo>
                  <a:pt x="1902" y="1440"/>
                </a:lnTo>
                <a:lnTo>
                  <a:pt x="1920" y="1491"/>
                </a:lnTo>
                <a:lnTo>
                  <a:pt x="1920" y="1526"/>
                </a:lnTo>
                <a:lnTo>
                  <a:pt x="1954" y="1577"/>
                </a:lnTo>
                <a:lnTo>
                  <a:pt x="1971" y="1629"/>
                </a:lnTo>
                <a:lnTo>
                  <a:pt x="1971" y="1680"/>
                </a:lnTo>
                <a:lnTo>
                  <a:pt x="1988" y="1731"/>
                </a:lnTo>
                <a:lnTo>
                  <a:pt x="2022" y="1800"/>
                </a:lnTo>
                <a:lnTo>
                  <a:pt x="2040" y="1851"/>
                </a:lnTo>
                <a:lnTo>
                  <a:pt x="2057" y="1886"/>
                </a:lnTo>
                <a:lnTo>
                  <a:pt x="2074" y="1886"/>
                </a:lnTo>
                <a:lnTo>
                  <a:pt x="2074" y="1903"/>
                </a:lnTo>
              </a:path>
            </a:pathLst>
          </a:custGeom>
          <a:noFill/>
          <a:ln cap="rnd" w="1260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57120" y="2617920"/>
            <a:ext cx="1317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Na2KSb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81440" y="5116680"/>
            <a:ext cx="4462560" cy="736560"/>
          </a:xfrm>
          <a:custGeom>
            <a:avLst/>
            <a:gdLst/>
            <a:ahLst/>
            <a:rect l="l" t="t" r="r" b="b"/>
            <a:pathLst>
              <a:path w="2811" h="464">
                <a:moveTo>
                  <a:pt x="0" y="463"/>
                </a:moveTo>
                <a:lnTo>
                  <a:pt x="34" y="394"/>
                </a:lnTo>
                <a:lnTo>
                  <a:pt x="68" y="343"/>
                </a:lnTo>
                <a:lnTo>
                  <a:pt x="102" y="308"/>
                </a:lnTo>
                <a:lnTo>
                  <a:pt x="137" y="274"/>
                </a:lnTo>
                <a:lnTo>
                  <a:pt x="171" y="223"/>
                </a:lnTo>
                <a:lnTo>
                  <a:pt x="222" y="206"/>
                </a:lnTo>
                <a:lnTo>
                  <a:pt x="240" y="171"/>
                </a:lnTo>
                <a:lnTo>
                  <a:pt x="291" y="137"/>
                </a:lnTo>
                <a:lnTo>
                  <a:pt x="342" y="120"/>
                </a:lnTo>
                <a:lnTo>
                  <a:pt x="377" y="103"/>
                </a:lnTo>
                <a:lnTo>
                  <a:pt x="428" y="86"/>
                </a:lnTo>
                <a:lnTo>
                  <a:pt x="480" y="103"/>
                </a:lnTo>
                <a:lnTo>
                  <a:pt x="531" y="137"/>
                </a:lnTo>
                <a:lnTo>
                  <a:pt x="548" y="188"/>
                </a:lnTo>
                <a:lnTo>
                  <a:pt x="582" y="223"/>
                </a:lnTo>
                <a:lnTo>
                  <a:pt x="617" y="274"/>
                </a:lnTo>
                <a:lnTo>
                  <a:pt x="668" y="274"/>
                </a:lnTo>
                <a:lnTo>
                  <a:pt x="720" y="308"/>
                </a:lnTo>
                <a:lnTo>
                  <a:pt x="754" y="343"/>
                </a:lnTo>
                <a:lnTo>
                  <a:pt x="805" y="360"/>
                </a:lnTo>
                <a:lnTo>
                  <a:pt x="840" y="377"/>
                </a:lnTo>
                <a:lnTo>
                  <a:pt x="891" y="394"/>
                </a:lnTo>
                <a:lnTo>
                  <a:pt x="942" y="394"/>
                </a:lnTo>
                <a:lnTo>
                  <a:pt x="977" y="394"/>
                </a:lnTo>
                <a:lnTo>
                  <a:pt x="1028" y="394"/>
                </a:lnTo>
                <a:lnTo>
                  <a:pt x="1080" y="394"/>
                </a:lnTo>
                <a:lnTo>
                  <a:pt x="1131" y="394"/>
                </a:lnTo>
                <a:lnTo>
                  <a:pt x="1182" y="394"/>
                </a:lnTo>
                <a:lnTo>
                  <a:pt x="1217" y="394"/>
                </a:lnTo>
                <a:lnTo>
                  <a:pt x="1268" y="394"/>
                </a:lnTo>
                <a:lnTo>
                  <a:pt x="1320" y="394"/>
                </a:lnTo>
                <a:lnTo>
                  <a:pt x="1388" y="377"/>
                </a:lnTo>
                <a:lnTo>
                  <a:pt x="1440" y="360"/>
                </a:lnTo>
                <a:lnTo>
                  <a:pt x="1491" y="308"/>
                </a:lnTo>
                <a:lnTo>
                  <a:pt x="1542" y="257"/>
                </a:lnTo>
                <a:lnTo>
                  <a:pt x="1577" y="223"/>
                </a:lnTo>
                <a:lnTo>
                  <a:pt x="1611" y="188"/>
                </a:lnTo>
                <a:lnTo>
                  <a:pt x="1662" y="154"/>
                </a:lnTo>
                <a:lnTo>
                  <a:pt x="1697" y="103"/>
                </a:lnTo>
                <a:lnTo>
                  <a:pt x="1731" y="68"/>
                </a:lnTo>
                <a:lnTo>
                  <a:pt x="1782" y="51"/>
                </a:lnTo>
                <a:lnTo>
                  <a:pt x="1817" y="34"/>
                </a:lnTo>
                <a:lnTo>
                  <a:pt x="1868" y="17"/>
                </a:lnTo>
                <a:lnTo>
                  <a:pt x="1920" y="0"/>
                </a:lnTo>
                <a:lnTo>
                  <a:pt x="1971" y="0"/>
                </a:lnTo>
                <a:lnTo>
                  <a:pt x="2022" y="0"/>
                </a:lnTo>
                <a:lnTo>
                  <a:pt x="2057" y="0"/>
                </a:lnTo>
                <a:lnTo>
                  <a:pt x="2108" y="0"/>
                </a:lnTo>
                <a:lnTo>
                  <a:pt x="2160" y="34"/>
                </a:lnTo>
                <a:lnTo>
                  <a:pt x="2211" y="86"/>
                </a:lnTo>
                <a:lnTo>
                  <a:pt x="2228" y="137"/>
                </a:lnTo>
                <a:lnTo>
                  <a:pt x="2280" y="188"/>
                </a:lnTo>
                <a:lnTo>
                  <a:pt x="2314" y="223"/>
                </a:lnTo>
                <a:lnTo>
                  <a:pt x="2365" y="257"/>
                </a:lnTo>
                <a:lnTo>
                  <a:pt x="2400" y="257"/>
                </a:lnTo>
                <a:lnTo>
                  <a:pt x="2451" y="274"/>
                </a:lnTo>
                <a:lnTo>
                  <a:pt x="2502" y="274"/>
                </a:lnTo>
                <a:lnTo>
                  <a:pt x="2537" y="291"/>
                </a:lnTo>
                <a:lnTo>
                  <a:pt x="2588" y="308"/>
                </a:lnTo>
                <a:lnTo>
                  <a:pt x="2640" y="326"/>
                </a:lnTo>
                <a:lnTo>
                  <a:pt x="2691" y="343"/>
                </a:lnTo>
                <a:lnTo>
                  <a:pt x="2742" y="377"/>
                </a:lnTo>
                <a:lnTo>
                  <a:pt x="2777" y="377"/>
                </a:lnTo>
                <a:lnTo>
                  <a:pt x="2810" y="394"/>
                </a:lnTo>
                <a:lnTo>
                  <a:pt x="2810" y="411"/>
                </a:lnTo>
                <a:lnTo>
                  <a:pt x="2810" y="394"/>
                </a:lnTo>
              </a:path>
            </a:pathLst>
          </a:custGeom>
          <a:noFill/>
          <a:ln cap="rnd"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5313240"/>
            <a:ext cx="116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AgOC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Photomultiplier - dynodes of CuO.BeO.Cs or GaP.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55880" y="1770120"/>
            <a:ext cx="4694040" cy="4994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26000" y="4816440"/>
            <a:ext cx="1116000" cy="106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5300000">
            <a:off x="2743920" y="2347560"/>
            <a:ext cx="1472400" cy="17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7" y="0"/>
                </a:moveTo>
                <a:arcTo wR="10800" hR="10800" stAng="-5407410" swAng="5401325"/>
                <a:lnTo>
                  <a:pt x="10800" y="10800"/>
                </a:lnTo>
                <a:close/>
              </a:path>
              <a:path fill="none" w="21600" h="21600">
                <a:moveTo>
                  <a:pt x="10777" y="0"/>
                </a:moveTo>
                <a:arcTo wR="10800" hR="10800" stAng="-5407410" swAng="540132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3400" y="3230640"/>
            <a:ext cx="1469520" cy="17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7" y="0"/>
                </a:moveTo>
                <a:arcTo wR="10800" hR="10800" stAng="-5407425" swAng="5407425"/>
                <a:lnTo>
                  <a:pt x="10800" y="10800"/>
                </a:lnTo>
                <a:close/>
              </a:path>
              <a:path fill="none" w="21600" h="21600">
                <a:moveTo>
                  <a:pt x="10777" y="0"/>
                </a:moveTo>
                <a:arcTo wR="10800" hR="10800" stAng="-5407425" swAng="540742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2060000">
            <a:off x="2514600" y="3719160"/>
            <a:ext cx="1469520" cy="17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7" y="0"/>
                </a:moveTo>
                <a:arcTo wR="10800" hR="10800" stAng="-5407425" swAng="5407425"/>
                <a:lnTo>
                  <a:pt x="10800" y="10800"/>
                </a:lnTo>
                <a:close/>
              </a:path>
              <a:path fill="none" w="21600" h="21600">
                <a:moveTo>
                  <a:pt x="10777" y="0"/>
                </a:moveTo>
                <a:arcTo wR="10800" hR="10800" stAng="-5407425" swAng="540742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7920000">
            <a:off x="2983320" y="4492800"/>
            <a:ext cx="1469520" cy="179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7" y="0"/>
                </a:moveTo>
                <a:arcTo wR="10800" hR="10800" stAng="-5407425" swAng="5407425"/>
                <a:lnTo>
                  <a:pt x="10800" y="10800"/>
                </a:lnTo>
                <a:close/>
              </a:path>
              <a:path fill="none" w="21600" h="21600">
                <a:moveTo>
                  <a:pt x="10777" y="0"/>
                </a:moveTo>
                <a:arcTo wR="10800" hR="10800" stAng="-5407425" swAng="540742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9020000">
            <a:off x="4100040" y="2026440"/>
            <a:ext cx="1584000" cy="199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8" y="0"/>
                </a:moveTo>
                <a:arcTo wR="10800" hR="10800" stAng="-5406884" swAng="5401396"/>
                <a:lnTo>
                  <a:pt x="10800" y="10800"/>
                </a:lnTo>
                <a:close/>
              </a:path>
              <a:path fill="none" w="21600" h="21600">
                <a:moveTo>
                  <a:pt x="10778" y="0"/>
                </a:moveTo>
                <a:arcTo wR="10800" hR="10800" stAng="-5406884" swAng="5401396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7560" y="4873680"/>
            <a:ext cx="979200" cy="380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14960" y="3637080"/>
            <a:ext cx="1073160" cy="4172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524400" y="3238200"/>
            <a:ext cx="938160" cy="5619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673440" y="3936960"/>
            <a:ext cx="123840" cy="8524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0000" y="5253120"/>
            <a:ext cx="212256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562640" y="1768320"/>
            <a:ext cx="363240" cy="186696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87800" y="3678120"/>
            <a:ext cx="212256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111640" y="3619440"/>
            <a:ext cx="984240" cy="151920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37280" y="5264280"/>
            <a:ext cx="212220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85880" y="2776680"/>
            <a:ext cx="1486080" cy="64116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673440" y="2182320"/>
            <a:ext cx="1177920" cy="179100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59120" y="4762440"/>
            <a:ext cx="1895400" cy="28728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68320" y="4359240"/>
            <a:ext cx="1913040" cy="70344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4640" y="2852640"/>
            <a:ext cx="984240" cy="152892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18080" y="5078520"/>
            <a:ext cx="282600" cy="131760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14560" y="4518000"/>
            <a:ext cx="490680" cy="654120"/>
          </a:xfrm>
          <a:custGeom>
            <a:avLst/>
            <a:gdLst/>
            <a:ahLst/>
            <a:rect l="l" t="t" r="r" b="b"/>
            <a:pathLst>
              <a:path w="309" h="412">
                <a:moveTo>
                  <a:pt x="0" y="17"/>
                </a:moveTo>
                <a:lnTo>
                  <a:pt x="0" y="103"/>
                </a:lnTo>
                <a:lnTo>
                  <a:pt x="17" y="154"/>
                </a:lnTo>
                <a:lnTo>
                  <a:pt x="34" y="205"/>
                </a:lnTo>
                <a:lnTo>
                  <a:pt x="34" y="240"/>
                </a:lnTo>
                <a:lnTo>
                  <a:pt x="51" y="291"/>
                </a:lnTo>
                <a:lnTo>
                  <a:pt x="68" y="343"/>
                </a:lnTo>
                <a:lnTo>
                  <a:pt x="120" y="394"/>
                </a:lnTo>
                <a:lnTo>
                  <a:pt x="171" y="411"/>
                </a:lnTo>
                <a:lnTo>
                  <a:pt x="222" y="411"/>
                </a:lnTo>
                <a:lnTo>
                  <a:pt x="257" y="411"/>
                </a:lnTo>
                <a:lnTo>
                  <a:pt x="291" y="360"/>
                </a:lnTo>
                <a:lnTo>
                  <a:pt x="308" y="325"/>
                </a:lnTo>
                <a:lnTo>
                  <a:pt x="308" y="274"/>
                </a:lnTo>
                <a:lnTo>
                  <a:pt x="274" y="223"/>
                </a:lnTo>
                <a:lnTo>
                  <a:pt x="274" y="188"/>
                </a:lnTo>
                <a:lnTo>
                  <a:pt x="274" y="137"/>
                </a:lnTo>
                <a:lnTo>
                  <a:pt x="257" y="85"/>
                </a:lnTo>
                <a:lnTo>
                  <a:pt x="222" y="34"/>
                </a:lnTo>
                <a:lnTo>
                  <a:pt x="171" y="17"/>
                </a:lnTo>
                <a:lnTo>
                  <a:pt x="120" y="0"/>
                </a:lnTo>
                <a:lnTo>
                  <a:pt x="85" y="0"/>
                </a:lnTo>
                <a:lnTo>
                  <a:pt x="0" y="17"/>
                </a:lnTo>
                <a:lnTo>
                  <a:pt x="0" y="17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60680" y="4843440"/>
            <a:ext cx="326880" cy="411120"/>
          </a:xfrm>
          <a:custGeom>
            <a:avLst/>
            <a:gdLst/>
            <a:ahLst/>
            <a:rect l="l" t="t" r="r" b="b"/>
            <a:pathLst>
              <a:path w="206" h="259">
                <a:moveTo>
                  <a:pt x="137" y="0"/>
                </a:moveTo>
                <a:lnTo>
                  <a:pt x="171" y="69"/>
                </a:lnTo>
                <a:lnTo>
                  <a:pt x="188" y="120"/>
                </a:lnTo>
                <a:lnTo>
                  <a:pt x="188" y="155"/>
                </a:lnTo>
                <a:lnTo>
                  <a:pt x="205" y="206"/>
                </a:lnTo>
                <a:lnTo>
                  <a:pt x="171" y="258"/>
                </a:lnTo>
                <a:lnTo>
                  <a:pt x="103" y="258"/>
                </a:lnTo>
                <a:lnTo>
                  <a:pt x="34" y="258"/>
                </a:lnTo>
                <a:lnTo>
                  <a:pt x="0" y="223"/>
                </a:lnTo>
                <a:lnTo>
                  <a:pt x="0" y="172"/>
                </a:lnTo>
                <a:lnTo>
                  <a:pt x="17" y="120"/>
                </a:lnTo>
                <a:lnTo>
                  <a:pt x="68" y="86"/>
                </a:lnTo>
                <a:lnTo>
                  <a:pt x="137" y="0"/>
                </a:lnTo>
                <a:lnTo>
                  <a:pt x="137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36880" y="6232680"/>
            <a:ext cx="355680" cy="245880"/>
          </a:xfrm>
          <a:custGeom>
            <a:avLst/>
            <a:gdLst/>
            <a:ahLst/>
            <a:rect l="l" t="t" r="r" b="b"/>
            <a:pathLst>
              <a:path w="224" h="155">
                <a:moveTo>
                  <a:pt x="0" y="0"/>
                </a:moveTo>
                <a:lnTo>
                  <a:pt x="86" y="0"/>
                </a:lnTo>
                <a:lnTo>
                  <a:pt x="154" y="0"/>
                </a:lnTo>
                <a:lnTo>
                  <a:pt x="189" y="17"/>
                </a:lnTo>
                <a:lnTo>
                  <a:pt x="223" y="68"/>
                </a:lnTo>
                <a:lnTo>
                  <a:pt x="223" y="103"/>
                </a:lnTo>
                <a:lnTo>
                  <a:pt x="172" y="137"/>
                </a:lnTo>
                <a:lnTo>
                  <a:pt x="137" y="154"/>
                </a:lnTo>
                <a:lnTo>
                  <a:pt x="86" y="154"/>
                </a:lnTo>
                <a:lnTo>
                  <a:pt x="34" y="154"/>
                </a:lnTo>
                <a:lnTo>
                  <a:pt x="0" y="10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76440" y="2693880"/>
            <a:ext cx="355680" cy="274680"/>
          </a:xfrm>
          <a:custGeom>
            <a:avLst/>
            <a:gdLst/>
            <a:ahLst/>
            <a:rect l="l" t="t" r="r" b="b"/>
            <a:pathLst>
              <a:path w="224" h="173">
                <a:moveTo>
                  <a:pt x="223" y="17"/>
                </a:moveTo>
                <a:lnTo>
                  <a:pt x="154" y="69"/>
                </a:lnTo>
                <a:lnTo>
                  <a:pt x="120" y="120"/>
                </a:lnTo>
                <a:lnTo>
                  <a:pt x="69" y="154"/>
                </a:lnTo>
                <a:lnTo>
                  <a:pt x="34" y="172"/>
                </a:lnTo>
                <a:lnTo>
                  <a:pt x="0" y="137"/>
                </a:lnTo>
                <a:lnTo>
                  <a:pt x="0" y="86"/>
                </a:lnTo>
                <a:lnTo>
                  <a:pt x="17" y="34"/>
                </a:lnTo>
                <a:lnTo>
                  <a:pt x="69" y="17"/>
                </a:lnTo>
                <a:lnTo>
                  <a:pt x="120" y="0"/>
                </a:lnTo>
                <a:lnTo>
                  <a:pt x="223" y="17"/>
                </a:lnTo>
                <a:lnTo>
                  <a:pt x="223" y="17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49840" y="1841400"/>
            <a:ext cx="217440" cy="268560"/>
          </a:xfrm>
          <a:custGeom>
            <a:avLst/>
            <a:gdLst/>
            <a:ahLst/>
            <a:rect l="l" t="t" r="r" b="b"/>
            <a:pathLst>
              <a:path w="137" h="169">
                <a:moveTo>
                  <a:pt x="24" y="152"/>
                </a:moveTo>
                <a:lnTo>
                  <a:pt x="56" y="152"/>
                </a:lnTo>
                <a:lnTo>
                  <a:pt x="80" y="152"/>
                </a:lnTo>
                <a:lnTo>
                  <a:pt x="104" y="168"/>
                </a:lnTo>
                <a:lnTo>
                  <a:pt x="128" y="152"/>
                </a:lnTo>
                <a:lnTo>
                  <a:pt x="128" y="128"/>
                </a:lnTo>
                <a:lnTo>
                  <a:pt x="136" y="96"/>
                </a:lnTo>
                <a:lnTo>
                  <a:pt x="136" y="72"/>
                </a:lnTo>
                <a:lnTo>
                  <a:pt x="136" y="48"/>
                </a:lnTo>
                <a:lnTo>
                  <a:pt x="136" y="24"/>
                </a:lnTo>
                <a:lnTo>
                  <a:pt x="112" y="24"/>
                </a:lnTo>
                <a:lnTo>
                  <a:pt x="88" y="16"/>
                </a:lnTo>
                <a:lnTo>
                  <a:pt x="64" y="8"/>
                </a:lnTo>
                <a:lnTo>
                  <a:pt x="32" y="8"/>
                </a:lnTo>
                <a:lnTo>
                  <a:pt x="8" y="0"/>
                </a:lnTo>
                <a:lnTo>
                  <a:pt x="8" y="24"/>
                </a:lnTo>
                <a:lnTo>
                  <a:pt x="0" y="48"/>
                </a:lnTo>
                <a:lnTo>
                  <a:pt x="0" y="72"/>
                </a:lnTo>
                <a:lnTo>
                  <a:pt x="0" y="96"/>
                </a:lnTo>
                <a:lnTo>
                  <a:pt x="0" y="120"/>
                </a:lnTo>
                <a:lnTo>
                  <a:pt x="24" y="152"/>
                </a:lnTo>
                <a:lnTo>
                  <a:pt x="24" y="152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46160" y="4656240"/>
            <a:ext cx="174600" cy="217440"/>
          </a:xfrm>
          <a:custGeom>
            <a:avLst/>
            <a:gdLst/>
            <a:ahLst/>
            <a:rect l="l" t="t" r="r" b="b"/>
            <a:pathLst>
              <a:path w="110" h="137">
                <a:moveTo>
                  <a:pt x="0" y="0"/>
                </a:moveTo>
                <a:lnTo>
                  <a:pt x="9" y="36"/>
                </a:lnTo>
                <a:lnTo>
                  <a:pt x="27" y="63"/>
                </a:lnTo>
                <a:lnTo>
                  <a:pt x="27" y="90"/>
                </a:lnTo>
                <a:lnTo>
                  <a:pt x="27" y="109"/>
                </a:lnTo>
                <a:lnTo>
                  <a:pt x="45" y="136"/>
                </a:lnTo>
                <a:lnTo>
                  <a:pt x="72" y="136"/>
                </a:lnTo>
                <a:lnTo>
                  <a:pt x="91" y="118"/>
                </a:lnTo>
                <a:lnTo>
                  <a:pt x="91" y="99"/>
                </a:lnTo>
                <a:lnTo>
                  <a:pt x="91" y="72"/>
                </a:lnTo>
                <a:lnTo>
                  <a:pt x="91" y="45"/>
                </a:lnTo>
                <a:lnTo>
                  <a:pt x="72" y="27"/>
                </a:lnTo>
                <a:lnTo>
                  <a:pt x="45" y="9"/>
                </a:lnTo>
                <a:lnTo>
                  <a:pt x="0" y="0"/>
                </a:lnTo>
                <a:lnTo>
                  <a:pt x="9" y="36"/>
                </a:lnTo>
                <a:lnTo>
                  <a:pt x="0" y="63"/>
                </a:lnTo>
                <a:lnTo>
                  <a:pt x="0" y="90"/>
                </a:lnTo>
                <a:lnTo>
                  <a:pt x="0" y="109"/>
                </a:lnTo>
                <a:lnTo>
                  <a:pt x="0" y="136"/>
                </a:lnTo>
                <a:lnTo>
                  <a:pt x="27" y="136"/>
                </a:lnTo>
                <a:lnTo>
                  <a:pt x="54" y="136"/>
                </a:lnTo>
                <a:lnTo>
                  <a:pt x="109" y="109"/>
                </a:lnTo>
                <a:lnTo>
                  <a:pt x="81" y="45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60560" y="4640400"/>
            <a:ext cx="115920" cy="318960"/>
          </a:xfrm>
          <a:custGeom>
            <a:avLst/>
            <a:gdLst/>
            <a:ahLst/>
            <a:rect l="l" t="t" r="r" b="b"/>
            <a:pathLst>
              <a:path w="73" h="201">
                <a:moveTo>
                  <a:pt x="27" y="0"/>
                </a:moveTo>
                <a:lnTo>
                  <a:pt x="27" y="37"/>
                </a:lnTo>
                <a:lnTo>
                  <a:pt x="27" y="64"/>
                </a:lnTo>
                <a:lnTo>
                  <a:pt x="0" y="55"/>
                </a:lnTo>
                <a:lnTo>
                  <a:pt x="0" y="82"/>
                </a:lnTo>
                <a:lnTo>
                  <a:pt x="0" y="109"/>
                </a:lnTo>
                <a:lnTo>
                  <a:pt x="0" y="128"/>
                </a:lnTo>
                <a:lnTo>
                  <a:pt x="0" y="155"/>
                </a:lnTo>
                <a:lnTo>
                  <a:pt x="27" y="182"/>
                </a:lnTo>
                <a:lnTo>
                  <a:pt x="54" y="200"/>
                </a:lnTo>
                <a:lnTo>
                  <a:pt x="72" y="173"/>
                </a:lnTo>
                <a:lnTo>
                  <a:pt x="72" y="146"/>
                </a:lnTo>
                <a:lnTo>
                  <a:pt x="72" y="119"/>
                </a:lnTo>
                <a:lnTo>
                  <a:pt x="72" y="100"/>
                </a:lnTo>
                <a:lnTo>
                  <a:pt x="72" y="73"/>
                </a:lnTo>
                <a:lnTo>
                  <a:pt x="72" y="46"/>
                </a:lnTo>
                <a:lnTo>
                  <a:pt x="72" y="19"/>
                </a:lnTo>
                <a:lnTo>
                  <a:pt x="27" y="0"/>
                </a:lnTo>
                <a:lnTo>
                  <a:pt x="27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74960" y="4871880"/>
            <a:ext cx="145800" cy="189000"/>
          </a:xfrm>
          <a:custGeom>
            <a:avLst/>
            <a:gdLst/>
            <a:ahLst/>
            <a:rect l="l" t="t" r="r" b="b"/>
            <a:pathLst>
              <a:path w="92" h="119">
                <a:moveTo>
                  <a:pt x="73" y="118"/>
                </a:moveTo>
                <a:lnTo>
                  <a:pt x="45" y="82"/>
                </a:lnTo>
                <a:lnTo>
                  <a:pt x="36" y="109"/>
                </a:lnTo>
                <a:lnTo>
                  <a:pt x="27" y="82"/>
                </a:lnTo>
                <a:lnTo>
                  <a:pt x="18" y="63"/>
                </a:lnTo>
                <a:lnTo>
                  <a:pt x="18" y="36"/>
                </a:lnTo>
                <a:lnTo>
                  <a:pt x="0" y="9"/>
                </a:lnTo>
                <a:lnTo>
                  <a:pt x="36" y="0"/>
                </a:lnTo>
                <a:lnTo>
                  <a:pt x="63" y="9"/>
                </a:lnTo>
                <a:lnTo>
                  <a:pt x="82" y="9"/>
                </a:lnTo>
                <a:lnTo>
                  <a:pt x="91" y="36"/>
                </a:lnTo>
                <a:lnTo>
                  <a:pt x="91" y="63"/>
                </a:lnTo>
                <a:lnTo>
                  <a:pt x="82" y="82"/>
                </a:lnTo>
                <a:lnTo>
                  <a:pt x="73" y="118"/>
                </a:lnTo>
                <a:lnTo>
                  <a:pt x="73" y="118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16280" y="4684680"/>
            <a:ext cx="102960" cy="274680"/>
          </a:xfrm>
          <a:custGeom>
            <a:avLst/>
            <a:gdLst/>
            <a:ahLst/>
            <a:rect l="l" t="t" r="r" b="b"/>
            <a:pathLst>
              <a:path w="65" h="173">
                <a:moveTo>
                  <a:pt x="0" y="0"/>
                </a:moveTo>
                <a:lnTo>
                  <a:pt x="28" y="36"/>
                </a:lnTo>
                <a:lnTo>
                  <a:pt x="28" y="63"/>
                </a:lnTo>
                <a:lnTo>
                  <a:pt x="28" y="91"/>
                </a:lnTo>
                <a:lnTo>
                  <a:pt x="28" y="118"/>
                </a:lnTo>
                <a:lnTo>
                  <a:pt x="28" y="145"/>
                </a:lnTo>
                <a:lnTo>
                  <a:pt x="37" y="172"/>
                </a:lnTo>
                <a:lnTo>
                  <a:pt x="64" y="145"/>
                </a:lnTo>
                <a:lnTo>
                  <a:pt x="55" y="100"/>
                </a:lnTo>
              </a:path>
            </a:pathLst>
          </a:custGeom>
          <a:noFill/>
          <a:ln cap="rnd" w="126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19440" y="3587760"/>
            <a:ext cx="766800" cy="434880"/>
          </a:xfrm>
          <a:custGeom>
            <a:avLst/>
            <a:gdLst/>
            <a:ahLst/>
            <a:rect l="l" t="t" r="r" b="b"/>
            <a:pathLst>
              <a:path w="483" h="274">
                <a:moveTo>
                  <a:pt x="0" y="200"/>
                </a:moveTo>
                <a:lnTo>
                  <a:pt x="36" y="173"/>
                </a:lnTo>
                <a:lnTo>
                  <a:pt x="46" y="154"/>
                </a:lnTo>
                <a:lnTo>
                  <a:pt x="73" y="136"/>
                </a:lnTo>
                <a:lnTo>
                  <a:pt x="73" y="109"/>
                </a:lnTo>
                <a:lnTo>
                  <a:pt x="100" y="100"/>
                </a:lnTo>
                <a:lnTo>
                  <a:pt x="127" y="82"/>
                </a:lnTo>
                <a:lnTo>
                  <a:pt x="146" y="64"/>
                </a:lnTo>
                <a:lnTo>
                  <a:pt x="173" y="55"/>
                </a:lnTo>
                <a:lnTo>
                  <a:pt x="200" y="45"/>
                </a:lnTo>
                <a:lnTo>
                  <a:pt x="209" y="18"/>
                </a:lnTo>
                <a:lnTo>
                  <a:pt x="236" y="0"/>
                </a:lnTo>
                <a:lnTo>
                  <a:pt x="255" y="0"/>
                </a:lnTo>
                <a:lnTo>
                  <a:pt x="255" y="27"/>
                </a:lnTo>
                <a:lnTo>
                  <a:pt x="282" y="36"/>
                </a:lnTo>
                <a:lnTo>
                  <a:pt x="309" y="36"/>
                </a:lnTo>
                <a:lnTo>
                  <a:pt x="336" y="18"/>
                </a:lnTo>
                <a:lnTo>
                  <a:pt x="355" y="18"/>
                </a:lnTo>
                <a:lnTo>
                  <a:pt x="382" y="18"/>
                </a:lnTo>
                <a:lnTo>
                  <a:pt x="409" y="27"/>
                </a:lnTo>
                <a:lnTo>
                  <a:pt x="427" y="55"/>
                </a:lnTo>
                <a:lnTo>
                  <a:pt x="455" y="73"/>
                </a:lnTo>
                <a:lnTo>
                  <a:pt x="482" y="73"/>
                </a:lnTo>
                <a:lnTo>
                  <a:pt x="482" y="100"/>
                </a:lnTo>
                <a:lnTo>
                  <a:pt x="482" y="127"/>
                </a:lnTo>
                <a:lnTo>
                  <a:pt x="473" y="154"/>
                </a:lnTo>
                <a:lnTo>
                  <a:pt x="445" y="154"/>
                </a:lnTo>
                <a:lnTo>
                  <a:pt x="418" y="154"/>
                </a:lnTo>
                <a:lnTo>
                  <a:pt x="382" y="145"/>
                </a:lnTo>
                <a:lnTo>
                  <a:pt x="355" y="136"/>
                </a:lnTo>
                <a:lnTo>
                  <a:pt x="327" y="136"/>
                </a:lnTo>
                <a:lnTo>
                  <a:pt x="300" y="136"/>
                </a:lnTo>
                <a:lnTo>
                  <a:pt x="273" y="136"/>
                </a:lnTo>
                <a:lnTo>
                  <a:pt x="245" y="145"/>
                </a:lnTo>
                <a:lnTo>
                  <a:pt x="218" y="154"/>
                </a:lnTo>
                <a:lnTo>
                  <a:pt x="191" y="154"/>
                </a:lnTo>
                <a:lnTo>
                  <a:pt x="182" y="173"/>
                </a:lnTo>
                <a:lnTo>
                  <a:pt x="155" y="173"/>
                </a:lnTo>
                <a:lnTo>
                  <a:pt x="136" y="173"/>
                </a:lnTo>
                <a:lnTo>
                  <a:pt x="118" y="200"/>
                </a:lnTo>
                <a:lnTo>
                  <a:pt x="109" y="227"/>
                </a:lnTo>
                <a:lnTo>
                  <a:pt x="82" y="236"/>
                </a:lnTo>
                <a:lnTo>
                  <a:pt x="55" y="254"/>
                </a:lnTo>
                <a:lnTo>
                  <a:pt x="36" y="254"/>
                </a:lnTo>
                <a:lnTo>
                  <a:pt x="27" y="273"/>
                </a:lnTo>
                <a:lnTo>
                  <a:pt x="9" y="254"/>
                </a:lnTo>
                <a:lnTo>
                  <a:pt x="0" y="200"/>
                </a:lnTo>
                <a:lnTo>
                  <a:pt x="0" y="20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78200" y="3400560"/>
            <a:ext cx="362160" cy="318960"/>
          </a:xfrm>
          <a:custGeom>
            <a:avLst/>
            <a:gdLst/>
            <a:ahLst/>
            <a:rect l="l" t="t" r="r" b="b"/>
            <a:pathLst>
              <a:path w="228" h="201">
                <a:moveTo>
                  <a:pt x="227" y="0"/>
                </a:moveTo>
                <a:lnTo>
                  <a:pt x="191" y="18"/>
                </a:lnTo>
                <a:lnTo>
                  <a:pt x="164" y="45"/>
                </a:lnTo>
                <a:lnTo>
                  <a:pt x="145" y="54"/>
                </a:lnTo>
                <a:lnTo>
                  <a:pt x="118" y="63"/>
                </a:lnTo>
                <a:lnTo>
                  <a:pt x="91" y="63"/>
                </a:lnTo>
                <a:lnTo>
                  <a:pt x="82" y="82"/>
                </a:lnTo>
                <a:lnTo>
                  <a:pt x="55" y="100"/>
                </a:lnTo>
                <a:lnTo>
                  <a:pt x="36" y="109"/>
                </a:lnTo>
                <a:lnTo>
                  <a:pt x="27" y="136"/>
                </a:lnTo>
                <a:lnTo>
                  <a:pt x="9" y="163"/>
                </a:lnTo>
                <a:lnTo>
                  <a:pt x="0" y="182"/>
                </a:lnTo>
                <a:lnTo>
                  <a:pt x="27" y="200"/>
                </a:lnTo>
                <a:lnTo>
                  <a:pt x="46" y="182"/>
                </a:lnTo>
                <a:lnTo>
                  <a:pt x="73" y="173"/>
                </a:lnTo>
                <a:lnTo>
                  <a:pt x="100" y="154"/>
                </a:lnTo>
                <a:lnTo>
                  <a:pt x="127" y="136"/>
                </a:lnTo>
                <a:lnTo>
                  <a:pt x="145" y="109"/>
                </a:lnTo>
                <a:lnTo>
                  <a:pt x="164" y="91"/>
                </a:lnTo>
                <a:lnTo>
                  <a:pt x="173" y="63"/>
                </a:lnTo>
                <a:lnTo>
                  <a:pt x="182" y="36"/>
                </a:lnTo>
                <a:lnTo>
                  <a:pt x="164" y="73"/>
                </a:lnTo>
                <a:lnTo>
                  <a:pt x="182" y="1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54480" y="3559320"/>
            <a:ext cx="420840" cy="203040"/>
          </a:xfrm>
          <a:custGeom>
            <a:avLst/>
            <a:gdLst/>
            <a:ahLst/>
            <a:rect l="l" t="t" r="r" b="b"/>
            <a:pathLst>
              <a:path w="265" h="128">
                <a:moveTo>
                  <a:pt x="91" y="36"/>
                </a:moveTo>
                <a:lnTo>
                  <a:pt x="127" y="36"/>
                </a:lnTo>
                <a:lnTo>
                  <a:pt x="155" y="45"/>
                </a:lnTo>
                <a:lnTo>
                  <a:pt x="182" y="45"/>
                </a:lnTo>
                <a:lnTo>
                  <a:pt x="209" y="54"/>
                </a:lnTo>
                <a:lnTo>
                  <a:pt x="218" y="73"/>
                </a:lnTo>
                <a:lnTo>
                  <a:pt x="245" y="82"/>
                </a:lnTo>
                <a:lnTo>
                  <a:pt x="264" y="100"/>
                </a:lnTo>
                <a:lnTo>
                  <a:pt x="245" y="127"/>
                </a:lnTo>
                <a:lnTo>
                  <a:pt x="218" y="127"/>
                </a:lnTo>
                <a:lnTo>
                  <a:pt x="191" y="127"/>
                </a:lnTo>
                <a:lnTo>
                  <a:pt x="164" y="118"/>
                </a:lnTo>
                <a:lnTo>
                  <a:pt x="145" y="109"/>
                </a:lnTo>
                <a:lnTo>
                  <a:pt x="118" y="100"/>
                </a:lnTo>
                <a:lnTo>
                  <a:pt x="91" y="91"/>
                </a:lnTo>
                <a:lnTo>
                  <a:pt x="64" y="82"/>
                </a:lnTo>
                <a:lnTo>
                  <a:pt x="45" y="82"/>
                </a:lnTo>
                <a:lnTo>
                  <a:pt x="27" y="63"/>
                </a:lnTo>
                <a:lnTo>
                  <a:pt x="0" y="63"/>
                </a:lnTo>
                <a:lnTo>
                  <a:pt x="0" y="36"/>
                </a:lnTo>
                <a:lnTo>
                  <a:pt x="27" y="18"/>
                </a:lnTo>
                <a:lnTo>
                  <a:pt x="55" y="0"/>
                </a:lnTo>
                <a:lnTo>
                  <a:pt x="91" y="36"/>
                </a:lnTo>
                <a:lnTo>
                  <a:pt x="127" y="54"/>
                </a:lnTo>
                <a:lnTo>
                  <a:pt x="127" y="45"/>
                </a:lnTo>
                <a:lnTo>
                  <a:pt x="155" y="3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22539" t="25198" r="18" b="24"/>
          <a:stretch/>
        </p:blipFill>
        <p:spPr>
          <a:xfrm>
            <a:off x="0" y="236520"/>
            <a:ext cx="9140760" cy="6615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63520" y="1262160"/>
            <a:ext cx="3817800" cy="82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ooled Photomultipli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Tub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927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873960" y="684360"/>
            <a:ext cx="2013840" cy="4582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Dynode arra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nergy transfer from photon to molecule or atom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16640" y="6629040"/>
            <a:ext cx="2556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7720" y="2057400"/>
            <a:ext cx="81327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At room temperature most molecules are at lowest electronic &amp; vibrational stat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800600"/>
            <a:ext cx="86090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IR radiation can excite vibrational levels that then lose energy quickly in collisions with surrounding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723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Photodiodes - semiconductor that conducts in one direction only when light is presen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Rugged and smal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Photodiode arrays - allows observation of a number of different locations (wavelengths) simultaneousl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Somewhat less sensitive than PM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44440" y="1905120"/>
            <a:ext cx="874728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wcurve" descr=""/>
          <p:cNvPicPr/>
          <p:nvPr/>
        </p:nvPicPr>
        <p:blipFill>
          <a:blip r:embed="rId1"/>
          <a:stretch/>
        </p:blipFill>
        <p:spPr>
          <a:xfrm>
            <a:off x="380880" y="2952720"/>
            <a:ext cx="8305920" cy="3659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30400" y="8758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=I/Io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= - log T = -log (I/Io)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alibration cur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0" y="0"/>
          <a:ext cx="9144000" cy="6821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1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3237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eviations from Beer’s Law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High concentrations (0.01M) distort each molecules electronic structure &amp; spectr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1600" indent="-2916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Chemical equilibrium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1600" indent="-2916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Stray ligh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1600" indent="-2916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Polychromatic ligh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1600" indent="-29160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Interference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nterpretation - quantitati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Broad adsorption bands - considerable overla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Specral dependence upon solvent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Resolving mixtures as linear combinations - need to measure as many wavelengths as component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Beer’s Law .html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287880" y="3205080"/>
          <a:ext cx="254952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7880" y="3205080"/>
                    <a:ext cx="254952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Resolving mixtur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Measure at different wavelengths and solve mathematically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se standard additions (measure A and then add known amounts of standard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Chemical methods to separate or shift spectrum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se time resolution (fluorescence and phosphorescence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mproving resolution in mixtur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Instrumental (resolution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Mathematical (derivatives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se second parameter (fluorescence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se third parameter (time for phosphorescence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Chemical separations (chromatography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Fluorescence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Emission at lower energy than absorptio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Greater selectivity but fluorescent yields vary for different molecule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etection at right angles to excitatio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/N is improved so sensitivity is better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Fluorescent tag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1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900760" y="165240"/>
            <a:ext cx="3076560" cy="45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pectrofluoromet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9720" y="973080"/>
            <a:ext cx="1844640" cy="45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Light sour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81720" y="1579680"/>
            <a:ext cx="4912560" cy="45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nochromator to select excitatio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7520" y="3944880"/>
            <a:ext cx="3082320" cy="45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ample compartmen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4120" y="4695840"/>
            <a:ext cx="2792520" cy="82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nochromator t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elect fluorescen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V Visible Spectromet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87280" y="1353960"/>
          <a:ext cx="8626680" cy="550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353960"/>
                    <a:ext cx="8626680" cy="550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Times New Roman"/>
              </a:rPr>
              <a:t>absorption - specific energy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Times New Roman"/>
              </a:rPr>
              <a:t>emission - excited molecule emits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Times New Roman"/>
              </a:rPr>
              <a:t>fluorescence 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spcBef>
                <a:spcPts val="11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Times New Roman"/>
              </a:rPr>
              <a:t>phosphorescenc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Photoacoustic spectroscop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Edison’s observations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If light is pulsed then as gas is excited it can expand (sound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309760" y="3475080"/>
          <a:ext cx="3651480" cy="33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9760" y="3475080"/>
                    <a:ext cx="3651480" cy="33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3287880" y="3041640"/>
          <a:ext cx="254952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7880" y="3041640"/>
                    <a:ext cx="254952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Principles of I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bsorption of energy at various frequencies is detected by I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lots the amount of radiation transmitted through the sample as a function of frequenc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ompounds have “fingerprint” region of identity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nfrared Spectromet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s especially useful for qualitative analysi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unctional group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ther structural featur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stablishing purity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onitoring rat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easuring concentration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oretical studi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does it work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ontinuous beam of radia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requencies display different absorbanc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eam comes to focus at entrance sl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olecule absorbs radiation of the energy to excite it to the vibrational stat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Does It Work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onochromator disperses radiation into spectru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ne frequency appears at exit sl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adiation passed to detecto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tector converts energy to signa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gnal amplified and recorde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nstrumentation II</a:t>
            </a:r>
            <a:br>
              <a:rPr sz="4400"/>
            </a:b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ptical-null double-beam instrument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adiation is directed through both cells by mirro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ample beam and reference bea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hopp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ffraction grating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ir%20instrument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33112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ouble beam/ null dete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nstrumentation II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xit sl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tecto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rvo moto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esulting spectrum is a plot of the intensity of the transmitted radiation  versus the wavelengt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etection of IR radi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Insufficient energy to excite     electrons &amp; hence photodetectors won’t work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nse heat - not very sensitive and must be protected from sources of heat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Thermocouple -  dissimilar metals characterized by voltage across gap proportional to temperatur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248520" y="0"/>
          <a:ext cx="2894040" cy="27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0"/>
                    <a:ext cx="2894040" cy="27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happens to molecule after excit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ollisions deactivate  vibrational levels (heat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emission of photon (fluorescence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intersystem crossover (phosphorescence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R detector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Golay detector - gas expanded by heat causes flexible mirror to move - measure photocurrent of visible light sour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76600" y="4062240"/>
            <a:ext cx="1014480" cy="91440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85160" y="4035600"/>
            <a:ext cx="1116000" cy="1090440"/>
          </a:xfrm>
          <a:custGeom>
            <a:avLst/>
            <a:gdLst>
              <a:gd name="textAreaLeft" fmla="*/ 254520 w 1116000"/>
              <a:gd name="textAreaRight" fmla="*/ 861480 w 1116000"/>
              <a:gd name="textAreaTop" fmla="*/ 248760 h 1090440"/>
              <a:gd name="textAreaBottom" fmla="*/ 841680 h 1090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54600" y="4313160"/>
            <a:ext cx="2117880" cy="438120"/>
          </a:xfrm>
          <a:prstGeom prst="leftArrow">
            <a:avLst>
              <a:gd name="adj1" fmla="val 50000"/>
              <a:gd name="adj2" fmla="val 241678"/>
            </a:avLst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93880" y="4038480"/>
            <a:ext cx="1517760" cy="963720"/>
          </a:xfrm>
          <a:prstGeom prst="rightArrow">
            <a:avLst>
              <a:gd name="adj1" fmla="val 75009"/>
              <a:gd name="adj2" fmla="val 78752"/>
            </a:avLst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1820000">
            <a:off x="6177960" y="4988880"/>
            <a:ext cx="890280" cy="888840"/>
          </a:xfrm>
          <a:prstGeom prst="rtTriangle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8480" y="6191280"/>
            <a:ext cx="1641240" cy="563400"/>
          </a:xfrm>
          <a:custGeom>
            <a:avLst/>
            <a:gdLst>
              <a:gd name="textAreaLeft" fmla="*/ 60480 w 1641240"/>
              <a:gd name="textAreaRight" fmla="*/ 1580760 w 1641240"/>
              <a:gd name="textAreaTop" fmla="*/ 20520 h 563400"/>
              <a:gd name="textAreaBottom" fmla="*/ 450000 h 563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6240" y="6191280"/>
            <a:ext cx="133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Detecto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97120" y="4211640"/>
            <a:ext cx="133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IR beam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288560" y="4235400"/>
            <a:ext cx="60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Vi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62560" y="461160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2560" y="4335480"/>
            <a:ext cx="82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200000">
            <a:off x="4581000" y="4854240"/>
            <a:ext cx="2143440" cy="209520"/>
          </a:xfrm>
          <a:prstGeom prst="rightArrow">
            <a:avLst>
              <a:gd name="adj1" fmla="val 50000"/>
              <a:gd name="adj2" fmla="val 511559"/>
            </a:avLst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9740000">
            <a:off x="5256360" y="5616360"/>
            <a:ext cx="1441440" cy="261720"/>
          </a:xfrm>
          <a:prstGeom prst="leftArrow">
            <a:avLst>
              <a:gd name="adj1" fmla="val 50000"/>
              <a:gd name="adj2" fmla="val 275353"/>
            </a:avLst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78160" y="3510000"/>
            <a:ext cx="2114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Flexible mirro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arbon analyzer - simple I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Sample flushed of carbon dioxide (inorganic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Organic carbon oxidized by persulfate &amp; UV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arbon dioxide measured in gas cell (water interferences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989000" y="1627200"/>
            <a:ext cx="5158080" cy="35956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 rot="16140000">
            <a:off x="5293440" y="4817160"/>
            <a:ext cx="334800" cy="1616040"/>
          </a:xfrm>
          <a:prstGeom prst="triangle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280000">
            <a:off x="3637440" y="4845600"/>
            <a:ext cx="334800" cy="1616040"/>
          </a:xfrm>
          <a:prstGeom prst="triangle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2320" y="5438880"/>
            <a:ext cx="135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hopp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00240" y="315900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AM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7320" y="3822840"/>
            <a:ext cx="793080" cy="458280"/>
          </a:xfrm>
          <a:prstGeom prst="rect">
            <a:avLst/>
          </a:prstGeom>
          <a:noFill/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017880" y="5859000"/>
            <a:ext cx="3259080" cy="2556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73320" y="6091200"/>
            <a:ext cx="3046320" cy="48888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6110280"/>
            <a:ext cx="25560" cy="42552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2240" y="6140520"/>
            <a:ext cx="187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Detector cel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95360" y="57643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0400" y="6165720"/>
            <a:ext cx="81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O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81520" y="6215040"/>
            <a:ext cx="81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O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095720" y="5985000"/>
            <a:ext cx="977760" cy="2520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33920" y="5864400"/>
            <a:ext cx="210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Beam trimm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84320" y="6265800"/>
            <a:ext cx="245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Press. sens. det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NDIR detector - no monochromato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ir%20instrument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3311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7000" y="3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Limita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20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echanical coupling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low scanning / detectors slow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Limitations of Dispersive I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648320" y="2111400"/>
          <a:ext cx="4494240" cy="47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11400"/>
                    <a:ext cx="449424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59840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Mechanically complex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nsitivity limited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Requires external calibratio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Tracking errors limit resolution (scanning fast broadens peak, decreases absorbance, shifts peak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Problems with I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 no quantitativ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H  limited resolu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  not reproducibl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 limited dynamic rang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 limited  sensitivit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  long analysis tim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  functional group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Limita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ost equipment can measure one wavelength at a ti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tentially time-consuming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 solution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648320" y="2211480"/>
            <a:ext cx="38098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Fourier-Transform Infrared Spectroscopy (FTI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8399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Solution!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FTI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nalyze all wavelengths simultaneousl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gnal decoded to generate complete spectru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an be done quickl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etter resolu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ore resolu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However, . . 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FTIR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648320" y="2824200"/>
            <a:ext cx="3809880" cy="24271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 solution, yet an expensive one!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TIR uses sophisticated machinery more complex than generic GCI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eneral optical spectromet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04880" y="4359240"/>
            <a:ext cx="3937320" cy="24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Wavelength separation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Photodetectors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6600" y="1666800"/>
            <a:ext cx="9075960" cy="2568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6680" y="4483080"/>
            <a:ext cx="492912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Light source - hot objects produce “black body radiation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Fourier Transform I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rcRect l="2691" t="14568" r="9962" b="10425"/>
          <a:stretch/>
        </p:blipFill>
        <p:spPr>
          <a:xfrm>
            <a:off x="3124080" y="2679840"/>
            <a:ext cx="6018480" cy="3948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Mechanically simpl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Fast, sensitive, accurat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Internal calibratio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No tracking errors or stray light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R Spectroscopy - qualitati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5480" y="1809720"/>
            <a:ext cx="6818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Double beam required to correct for blank at each wavelength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4400" y="3967200"/>
            <a:ext cx="9128160" cy="21970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93360" y="3357720"/>
            <a:ext cx="5340600" cy="26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67480" indent="-2674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Scan time  (sensitivity) Vs resolution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67480" indent="-2674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Michelson interferometer &amp; FTIR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2560" cy="65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dvantages of FTI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Multiplex--speed, sensitivity (Felget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Throughput--greater energy, S/N (Jacquino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Laser reference--accurate wavelength, reproducible (Connes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No stray light--quantitative accuracy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No tracking errors--wavelength and photometric accuracy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New FTIR Applica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Quality control--speed, accurac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Micro, trace analysis--nanogram levels, small sample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Kinetic studies--millisecond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Internal reflection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Telescopic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ttenuated Internal Refle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urface analysi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Limited by 75% energy los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New FTIR Applica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Quality control--speed, accurac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Micro, trace analysis--nanogram levels, small sample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Kinetic studies--milliseconds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Internal reflection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Telescopic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152360" y="1981080"/>
          <a:ext cx="286704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1981080"/>
                    <a:ext cx="28670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Black body radi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ungsten lamp, Globar, Nernst glow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ntensity and peak emission wavelength are a function of Temperatur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s T increases the total intensity increases and there is shift to higher energies (toward visible and UV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49560" y="3052800"/>
          <a:ext cx="6238800" cy="38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9560" y="3052800"/>
                    <a:ext cx="623880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3880" y="1393920"/>
          <a:ext cx="6077160" cy="405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393920"/>
                    <a:ext cx="607716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905120" y="2827440"/>
          <a:ext cx="6076800" cy="402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827440"/>
                    <a:ext cx="607680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V sourc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rc discharge lamps with electrical discharge maintained in appropriate gas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ow pressure hydrogen and deuterium lamp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asers - narrow spectral widths, very high intensity, spatial beam, time resolution, problem with range of wavelength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screte spectroscopic- metal vapor &amp; hollow cathode lamp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0"/>
          <a:ext cx="1523880" cy="27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52388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separate wavelength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Each compound absorbs different colors (energies) with different probabilities (absorbtivity)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Selectivit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Quantitative adherence to Beer’s Law        A = abc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Improves sensitivit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are UV-Vis bands broad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Electronic energy states give band with no vibrational structur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05280" indent="-3052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Solvent interactions (microenvironments) averaged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marL="305280" indent="-305280">
              <a:spcBef>
                <a:spcPts val="10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Low temperature gas phase molecules give structure if instrumental resolution is adequat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9:18Z</dcterms:created>
  <dc:creator>ralph allen</dc:creator>
  <dc:description/>
  <dc:language>en-US</dc:language>
  <cp:lastModifiedBy>Vaughn C. Kowahl</cp:lastModifiedBy>
  <dcterms:modified xsi:type="dcterms:W3CDTF">1999-01-12T17:59:01Z</dcterms:modified>
  <cp:revision>30</cp:revision>
  <dc:subject/>
  <dc:title>Instrumental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ContentType">
    <vt:lpwstr>Document</vt:lpwstr>
  </property>
  <property fmtid="{D5CDD505-2E9C-101B-9397-08002B2CF9AE}" pid="6" name="DownloadIEButton">
    <vt:bool>0</vt:bool>
  </property>
  <property fmtid="{D5CDD505-2E9C-101B-9397-08002B2CF9AE}" pid="7" name="DownloadOriginal">
    <vt:bool>1</vt:bool>
  </property>
  <property fmtid="{D5CDD505-2E9C-101B-9397-08002B2CF9AE}" pid="8" name="GraphicType">
    <vt:r8>1</vt:r8>
  </property>
  <property fmtid="{D5CDD505-2E9C-101B-9397-08002B2CF9AE}" pid="9" name="HomePage">
    <vt:lpwstr>http://www.people.virginia.edu/~roa2s/chem_551/</vt:lpwstr>
  </property>
  <property fmtid="{D5CDD505-2E9C-101B-9397-08002B2CF9AE}" pid="10" name="LinkColor">
    <vt:r8>16711782</vt:r8>
  </property>
  <property fmtid="{D5CDD505-2E9C-101B-9397-08002B2CF9AE}" pid="11" name="MailAddress">
    <vt:lpwstr>ralph@virginia.edu</vt:lpwstr>
  </property>
  <property fmtid="{D5CDD505-2E9C-101B-9397-08002B2CF9AE}" pid="12" name="NavBtnPos">
    <vt:r8>3</vt:r8>
  </property>
  <property fmtid="{D5CDD505-2E9C-101B-9397-08002B2CF9AE}" pid="13" name="Other">
    <vt:lpwstr/>
  </property>
  <property fmtid="{D5CDD505-2E9C-101B-9397-08002B2CF9AE}" pid="14" name="OutputDir">
    <vt:lpwstr>C:\www\ralphs_chem_courses\current_files\chem_551</vt:lpwstr>
  </property>
  <property fmtid="{D5CDD505-2E9C-101B-9397-08002B2CF9AE}" pid="15" name="ScreenSize">
    <vt:r8>1</vt:r8>
  </property>
  <property fmtid="{D5CDD505-2E9C-101B-9397-08002B2CF9AE}" pid="16" name="ScreenUsage">
    <vt:r8>2</vt:r8>
  </property>
  <property fmtid="{D5CDD505-2E9C-101B-9397-08002B2CF9AE}" pid="17" name="ShowNotes">
    <vt:bool>0</vt:bool>
  </property>
  <property fmtid="{D5CDD505-2E9C-101B-9397-08002B2CF9AE}" pid="18" name="TemplateType">
    <vt:r8>1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