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8.wmf" ContentType="image/x-wmf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4.wmf" ContentType="image/x-wmf"/>
  <Override PartName="/ppt/media/image3.png" ContentType="image/png"/>
  <Override PartName="/ppt/media/image26.png" ContentType="image/png"/>
  <Override PartName="/ppt/media/image2.wmf" ContentType="image/x-wmf"/>
  <Override PartName="/ppt/media/image25.png" ContentType="image/png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media/image15.png" ContentType="image/png"/>
  <Override PartName="/ppt/media/image14.wmf" ContentType="image/x-wmf"/>
  <Override PartName="/ppt/media/image1.png" ContentType="image/png"/>
  <Override PartName="/ppt/media/image2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8AAE1-3E2A-487D-95B9-41CB0BF5E6CB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A9518-54C4-4C2D-8215-7AE92848721C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032DC-74C1-46B9-837C-F3FD9531D2AB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76A70-DD29-4194-8D88-ECAA2381DFA9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36D7-5FA3-416F-A93D-11B11A125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7A2A-8865-4932-BE64-FD8CB0C4E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FC5D-7DF5-4BA2-BBEF-E0879657F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F852-84FC-423D-A719-43B4E5989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69B87-B060-4802-82AA-9AD149D7E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A3F7B-6354-4043-AC25-A52AA7B23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75BD8-8618-49FD-9F20-7CFF8477F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F09BA-7A40-4993-AA5D-87F0F0AE5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60762-292A-4DDE-A32E-8448E222F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DF274-25C8-4BEA-9CFB-3F52A9168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C80EA-6FD1-49CC-ACDE-58855A02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6571-5149-446D-B40E-29791335C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03240-9130-45B2-8206-3E57B05B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17D70-8847-43D2-9348-EE070E0B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78ABC-3691-4427-B2F1-B5B31A44C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A9930-FC17-472F-A467-705EEA2A3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860DE-36F7-4461-BFD3-4CEC17756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664D-C6D3-444C-B2CF-006092961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12D2-E35E-4C39-80AB-32C7911C9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B54B-7A40-4954-B4A7-11BF4D6FB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9E05-EB52-4D26-88AF-4AE9F4FCD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087A-A937-4DE3-957B-1BD03D66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3DA4-6546-4652-B6A4-0BE65247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41C7-D734-4935-9868-E405C556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2600" y="93600"/>
            <a:ext cx="9144000" cy="1677960"/>
            <a:chOff x="-12600" y="93600"/>
            <a:chExt cx="9144000" cy="1677960"/>
          </a:xfrm>
        </p:grpSpPr>
        <p:sp>
          <p:nvSpPr>
            <p:cNvPr id="1" name=""/>
            <p:cNvSpPr/>
            <p:nvPr/>
          </p:nvSpPr>
          <p:spPr>
            <a:xfrm>
              <a:off x="0" y="1523880"/>
              <a:ext cx="9131400" cy="114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733400"/>
              <a:ext cx="913140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9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-12600" y="93600"/>
              <a:ext cx="1322280" cy="1571760"/>
              <a:chOff x="-12600" y="93600"/>
              <a:chExt cx="1322280" cy="1571760"/>
            </a:xfrm>
          </p:grpSpPr>
          <p:sp>
            <p:nvSpPr>
              <p:cNvPr id="4" name=""/>
              <p:cNvSpPr/>
              <p:nvPr/>
            </p:nvSpPr>
            <p:spPr>
              <a:xfrm>
                <a:off x="-12600" y="93600"/>
                <a:ext cx="1322280" cy="1571760"/>
              </a:xfrm>
              <a:custGeom>
                <a:avLst/>
                <a:gdLst/>
                <a:ahLst/>
                <a:rect l="l" t="t" r="r" b="b"/>
                <a:pathLst>
                  <a:path w="833" h="990">
                    <a:moveTo>
                      <a:pt x="284" y="448"/>
                    </a:moveTo>
                    <a:lnTo>
                      <a:pt x="115" y="0"/>
                    </a:lnTo>
                    <a:lnTo>
                      <a:pt x="353" y="398"/>
                    </a:lnTo>
                    <a:lnTo>
                      <a:pt x="591" y="0"/>
                    </a:lnTo>
                    <a:lnTo>
                      <a:pt x="419" y="448"/>
                    </a:lnTo>
                    <a:lnTo>
                      <a:pt x="832" y="495"/>
                    </a:lnTo>
                    <a:lnTo>
                      <a:pt x="417" y="540"/>
                    </a:lnTo>
                    <a:lnTo>
                      <a:pt x="591" y="989"/>
                    </a:lnTo>
                    <a:lnTo>
                      <a:pt x="353" y="590"/>
                    </a:lnTo>
                    <a:lnTo>
                      <a:pt x="115" y="989"/>
                    </a:lnTo>
                    <a:lnTo>
                      <a:pt x="282" y="543"/>
                    </a:lnTo>
                    <a:lnTo>
                      <a:pt x="0" y="509"/>
                    </a:lnTo>
                    <a:lnTo>
                      <a:pt x="0" y="479"/>
                    </a:lnTo>
                    <a:lnTo>
                      <a:pt x="284" y="448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-6480" y="307800"/>
                <a:ext cx="1108080" cy="1143000"/>
              </a:xfrm>
              <a:custGeom>
                <a:avLst/>
                <a:gdLst/>
                <a:ahLst/>
                <a:rect l="l" t="t" r="r" b="b"/>
                <a:pathLst>
                  <a:path w="698" h="720">
                    <a:moveTo>
                      <a:pt x="279" y="315"/>
                    </a:moveTo>
                    <a:lnTo>
                      <a:pt x="173" y="0"/>
                    </a:lnTo>
                    <a:lnTo>
                      <a:pt x="349" y="263"/>
                    </a:lnTo>
                    <a:lnTo>
                      <a:pt x="519" y="0"/>
                    </a:lnTo>
                    <a:lnTo>
                      <a:pt x="415" y="315"/>
                    </a:lnTo>
                    <a:lnTo>
                      <a:pt x="697" y="360"/>
                    </a:lnTo>
                    <a:lnTo>
                      <a:pt x="413" y="403"/>
                    </a:lnTo>
                    <a:lnTo>
                      <a:pt x="519" y="719"/>
                    </a:lnTo>
                    <a:lnTo>
                      <a:pt x="349" y="455"/>
                    </a:lnTo>
                    <a:lnTo>
                      <a:pt x="173" y="719"/>
                    </a:lnTo>
                    <a:lnTo>
                      <a:pt x="278" y="407"/>
                    </a:lnTo>
                    <a:lnTo>
                      <a:pt x="0" y="360"/>
                    </a:lnTo>
                    <a:lnTo>
                      <a:pt x="279" y="315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57320" y="336600"/>
                <a:ext cx="782640" cy="1087560"/>
              </a:xfrm>
              <a:custGeom>
                <a:avLst/>
                <a:gdLst/>
                <a:ahLst/>
                <a:rect l="l" t="t" r="r" b="b"/>
                <a:pathLst>
                  <a:path w="493" h="685">
                    <a:moveTo>
                      <a:pt x="0" y="173"/>
                    </a:moveTo>
                    <a:lnTo>
                      <a:pt x="223" y="295"/>
                    </a:lnTo>
                    <a:lnTo>
                      <a:pt x="246" y="0"/>
                    </a:lnTo>
                    <a:lnTo>
                      <a:pt x="268" y="295"/>
                    </a:lnTo>
                    <a:lnTo>
                      <a:pt x="490" y="169"/>
                    </a:lnTo>
                    <a:lnTo>
                      <a:pt x="290" y="343"/>
                    </a:lnTo>
                    <a:lnTo>
                      <a:pt x="492" y="514"/>
                    </a:lnTo>
                    <a:lnTo>
                      <a:pt x="268" y="390"/>
                    </a:lnTo>
                    <a:lnTo>
                      <a:pt x="246" y="684"/>
                    </a:lnTo>
                    <a:lnTo>
                      <a:pt x="223" y="390"/>
                    </a:lnTo>
                    <a:lnTo>
                      <a:pt x="0" y="514"/>
                    </a:lnTo>
                    <a:lnTo>
                      <a:pt x="201" y="343"/>
                    </a:lnTo>
                    <a:lnTo>
                      <a:pt x="0" y="17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49280" y="741240"/>
                <a:ext cx="196920" cy="274680"/>
              </a:xfrm>
              <a:custGeom>
                <a:avLst/>
                <a:gdLst/>
                <a:ahLst/>
                <a:rect l="l" t="t" r="r" b="b"/>
                <a:pathLst>
                  <a:path w="124" h="173">
                    <a:moveTo>
                      <a:pt x="0" y="42"/>
                    </a:moveTo>
                    <a:lnTo>
                      <a:pt x="51" y="63"/>
                    </a:lnTo>
                    <a:lnTo>
                      <a:pt x="61" y="0"/>
                    </a:lnTo>
                    <a:lnTo>
                      <a:pt x="71" y="63"/>
                    </a:lnTo>
                    <a:lnTo>
                      <a:pt x="123" y="42"/>
                    </a:lnTo>
                    <a:lnTo>
                      <a:pt x="83" y="86"/>
                    </a:lnTo>
                    <a:lnTo>
                      <a:pt x="123" y="128"/>
                    </a:lnTo>
                    <a:lnTo>
                      <a:pt x="71" y="108"/>
                    </a:lnTo>
                    <a:lnTo>
                      <a:pt x="61" y="172"/>
                    </a:lnTo>
                    <a:lnTo>
                      <a:pt x="51" y="108"/>
                    </a:lnTo>
                    <a:lnTo>
                      <a:pt x="0" y="128"/>
                    </a:lnTo>
                    <a:lnTo>
                      <a:pt x="39" y="86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CA58A-DF74-4F1A-959A-600100DFD13A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-12600" y="1681200"/>
            <a:ext cx="9144000" cy="1766880"/>
            <a:chOff x="-12600" y="1681200"/>
            <a:chExt cx="9144000" cy="1766880"/>
          </a:xfrm>
        </p:grpSpPr>
        <p:sp>
          <p:nvSpPr>
            <p:cNvPr id="50" name=""/>
            <p:cNvSpPr/>
            <p:nvPr/>
          </p:nvSpPr>
          <p:spPr>
            <a:xfrm>
              <a:off x="0" y="3200400"/>
              <a:ext cx="9131400" cy="114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409920"/>
              <a:ext cx="913140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9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-12600" y="1681200"/>
              <a:ext cx="1322280" cy="1571760"/>
              <a:chOff x="-12600" y="1681200"/>
              <a:chExt cx="1322280" cy="1571760"/>
            </a:xfrm>
          </p:grpSpPr>
          <p:sp>
            <p:nvSpPr>
              <p:cNvPr id="53" name=""/>
              <p:cNvSpPr/>
              <p:nvPr/>
            </p:nvSpPr>
            <p:spPr>
              <a:xfrm>
                <a:off x="-12600" y="1681200"/>
                <a:ext cx="1322280" cy="1571760"/>
              </a:xfrm>
              <a:custGeom>
                <a:avLst/>
                <a:gdLst/>
                <a:ahLst/>
                <a:rect l="l" t="t" r="r" b="b"/>
                <a:pathLst>
                  <a:path w="833" h="990">
                    <a:moveTo>
                      <a:pt x="284" y="448"/>
                    </a:moveTo>
                    <a:lnTo>
                      <a:pt x="115" y="0"/>
                    </a:lnTo>
                    <a:lnTo>
                      <a:pt x="353" y="398"/>
                    </a:lnTo>
                    <a:lnTo>
                      <a:pt x="591" y="0"/>
                    </a:lnTo>
                    <a:lnTo>
                      <a:pt x="419" y="448"/>
                    </a:lnTo>
                    <a:lnTo>
                      <a:pt x="832" y="495"/>
                    </a:lnTo>
                    <a:lnTo>
                      <a:pt x="417" y="540"/>
                    </a:lnTo>
                    <a:lnTo>
                      <a:pt x="591" y="989"/>
                    </a:lnTo>
                    <a:lnTo>
                      <a:pt x="353" y="590"/>
                    </a:lnTo>
                    <a:lnTo>
                      <a:pt x="115" y="989"/>
                    </a:lnTo>
                    <a:lnTo>
                      <a:pt x="282" y="543"/>
                    </a:lnTo>
                    <a:lnTo>
                      <a:pt x="0" y="509"/>
                    </a:lnTo>
                    <a:lnTo>
                      <a:pt x="0" y="479"/>
                    </a:lnTo>
                    <a:lnTo>
                      <a:pt x="284" y="448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-6480" y="1895400"/>
                <a:ext cx="1108080" cy="1143000"/>
              </a:xfrm>
              <a:custGeom>
                <a:avLst/>
                <a:gdLst/>
                <a:ahLst/>
                <a:rect l="l" t="t" r="r" b="b"/>
                <a:pathLst>
                  <a:path w="698" h="720">
                    <a:moveTo>
                      <a:pt x="279" y="315"/>
                    </a:moveTo>
                    <a:lnTo>
                      <a:pt x="173" y="0"/>
                    </a:lnTo>
                    <a:lnTo>
                      <a:pt x="349" y="263"/>
                    </a:lnTo>
                    <a:lnTo>
                      <a:pt x="519" y="0"/>
                    </a:lnTo>
                    <a:lnTo>
                      <a:pt x="415" y="315"/>
                    </a:lnTo>
                    <a:lnTo>
                      <a:pt x="697" y="360"/>
                    </a:lnTo>
                    <a:lnTo>
                      <a:pt x="413" y="403"/>
                    </a:lnTo>
                    <a:lnTo>
                      <a:pt x="519" y="719"/>
                    </a:lnTo>
                    <a:lnTo>
                      <a:pt x="349" y="455"/>
                    </a:lnTo>
                    <a:lnTo>
                      <a:pt x="173" y="719"/>
                    </a:lnTo>
                    <a:lnTo>
                      <a:pt x="278" y="407"/>
                    </a:lnTo>
                    <a:lnTo>
                      <a:pt x="0" y="360"/>
                    </a:lnTo>
                    <a:lnTo>
                      <a:pt x="279" y="315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57320" y="1924200"/>
                <a:ext cx="782640" cy="1087200"/>
              </a:xfrm>
              <a:custGeom>
                <a:avLst/>
                <a:gdLst/>
                <a:ahLst/>
                <a:rect l="l" t="t" r="r" b="b"/>
                <a:pathLst>
                  <a:path w="493" h="685">
                    <a:moveTo>
                      <a:pt x="0" y="173"/>
                    </a:moveTo>
                    <a:lnTo>
                      <a:pt x="223" y="295"/>
                    </a:lnTo>
                    <a:lnTo>
                      <a:pt x="246" y="0"/>
                    </a:lnTo>
                    <a:lnTo>
                      <a:pt x="268" y="295"/>
                    </a:lnTo>
                    <a:lnTo>
                      <a:pt x="490" y="169"/>
                    </a:lnTo>
                    <a:lnTo>
                      <a:pt x="290" y="343"/>
                    </a:lnTo>
                    <a:lnTo>
                      <a:pt x="492" y="514"/>
                    </a:lnTo>
                    <a:lnTo>
                      <a:pt x="268" y="390"/>
                    </a:lnTo>
                    <a:lnTo>
                      <a:pt x="246" y="684"/>
                    </a:lnTo>
                    <a:lnTo>
                      <a:pt x="223" y="390"/>
                    </a:lnTo>
                    <a:lnTo>
                      <a:pt x="0" y="514"/>
                    </a:lnTo>
                    <a:lnTo>
                      <a:pt x="201" y="343"/>
                    </a:lnTo>
                    <a:lnTo>
                      <a:pt x="0" y="17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49280" y="2328840"/>
                <a:ext cx="196920" cy="274680"/>
              </a:xfrm>
              <a:custGeom>
                <a:avLst/>
                <a:gdLst/>
                <a:ahLst/>
                <a:rect l="l" t="t" r="r" b="b"/>
                <a:pathLst>
                  <a:path w="124" h="173">
                    <a:moveTo>
                      <a:pt x="0" y="42"/>
                    </a:moveTo>
                    <a:lnTo>
                      <a:pt x="51" y="63"/>
                    </a:lnTo>
                    <a:lnTo>
                      <a:pt x="61" y="0"/>
                    </a:lnTo>
                    <a:lnTo>
                      <a:pt x="71" y="63"/>
                    </a:lnTo>
                    <a:lnTo>
                      <a:pt x="123" y="42"/>
                    </a:lnTo>
                    <a:lnTo>
                      <a:pt x="83" y="86"/>
                    </a:lnTo>
                    <a:lnTo>
                      <a:pt x="123" y="128"/>
                    </a:lnTo>
                    <a:lnTo>
                      <a:pt x="71" y="108"/>
                    </a:lnTo>
                    <a:lnTo>
                      <a:pt x="61" y="172"/>
                    </a:lnTo>
                    <a:lnTo>
                      <a:pt x="51" y="108"/>
                    </a:lnTo>
                    <a:lnTo>
                      <a:pt x="0" y="128"/>
                    </a:lnTo>
                    <a:lnTo>
                      <a:pt x="39" y="86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1904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121284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651120" y="62326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708012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7A67C-343C-49D1-83C9-89DF6E417304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C:\Program Files\Netscape\Navigator\Program\netscape.exe" TargetMode="External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C:\Program Files\Netscape\Navigator\Program\netscape.exe" TargetMode="External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C:\Program Files\Netscape\Navigator\Program\netscape.exe" TargetMode="External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Interaction of radiation &amp; matt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8765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Electromagnetic radiation in different regions of spectrum can be used for qualitative and quantitative informatio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Different types of chemical information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avelength Dispers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62520" y="2057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risms (nonlinear, range depends on refractive index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gratings (linear, Bragg’s Law, depends on spacing of scratches, overlapping orders interfere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interference filters (inexpensive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0" y="2819520"/>
          <a:ext cx="4343400" cy="350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819520"/>
                    <a:ext cx="434340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onochromato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10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Entrance slit - provides narrow optical image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288000" indent="-288000">
              <a:spcBef>
                <a:spcPts val="10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Collimator - makes light hit dispersive element at same angle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288000" indent="-288000">
              <a:spcBef>
                <a:spcPts val="10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Dispersing element - directional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288000" indent="-288000">
              <a:spcBef>
                <a:spcPts val="10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Focusing element - image on slit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288000" indent="-288000">
              <a:spcBef>
                <a:spcPts val="10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Exit slit - isolates desired color to exit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Resolu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320" y="2057400"/>
            <a:ext cx="89913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The ability to distinguish different wavelengths of light  - R=</a:t>
            </a:r>
            <a:r>
              <a:rPr b="0" lang="en-US" sz="3600" spc="-1" strike="noStrike">
                <a:solidFill>
                  <a:srgbClr val="dddddd"/>
                </a:solidFill>
                <a:latin typeface="Symbol"/>
                <a:ea typeface="Symbol"/>
              </a:rPr>
              <a:t>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18960" indent="-31896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Linear dispersion - range of wavelengths spread over unit distance at exit slit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18960" indent="-31896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Spectral bandwidth - range of wavelengths included in output of exit slit (FWHM)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18960" indent="-31896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Resolution depends on how widely light is dispersed &amp; how narrow a slice chosen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Filters - inexpensive alternativ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Adsorption type - glass with dyes to adsorb chosen colors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Interference filters - multiple reflections between 2 parallel reflective surfaces - only certain wavelengths have positive interferences - temperature effects spacing between surfaces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avelength dependence in spectromet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Source 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Monochromator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Detector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Sample - We hope so!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7843680" y="1600200"/>
          <a:ext cx="1276560" cy="525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3680" y="1600200"/>
                    <a:ext cx="127656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Photodetectors - photoelectric effect   E(e)=h</a:t>
            </a:r>
            <a:r>
              <a:rPr b="0" lang="en-US" sz="4400" spc="-1" strike="noStrike">
                <a:solidFill>
                  <a:srgbClr val="00cccc"/>
                </a:solidFill>
                <a:latin typeface="Symbol"/>
                <a:ea typeface="Symbol"/>
              </a:rPr>
              <a:t>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For sensitive detector we need a small work function - alkali metals are best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Phototube - electrons attracted to anode giving a current flow proportional to light intensity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Photomultiplier - amplification to improve sensitivity (10 million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pectral sensitivity is a function of photocathode materia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g-O-Cs mixture gives broader range but less efficienc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a2KSb(trace of Cs)has better response over narrow rang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Max. response is 10% of one per photon (quantum efficiency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87920" y="2319480"/>
            <a:ext cx="4448160" cy="3552840"/>
          </a:xfrm>
          <a:prstGeom prst="rect">
            <a:avLst/>
          </a:prstGeom>
          <a:solidFill>
            <a:srgbClr val="0000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336920" y="6102360"/>
            <a:ext cx="4772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300nm     500          700          90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681440" y="2857680"/>
            <a:ext cx="3294000" cy="3022560"/>
          </a:xfrm>
          <a:custGeom>
            <a:avLst/>
            <a:gdLst/>
            <a:ahLst/>
            <a:rect l="l" t="t" r="r" b="b"/>
            <a:pathLst>
              <a:path w="2075" h="1904">
                <a:moveTo>
                  <a:pt x="0" y="1886"/>
                </a:moveTo>
                <a:lnTo>
                  <a:pt x="51" y="1817"/>
                </a:lnTo>
                <a:lnTo>
                  <a:pt x="51" y="1766"/>
                </a:lnTo>
                <a:lnTo>
                  <a:pt x="68" y="1731"/>
                </a:lnTo>
                <a:lnTo>
                  <a:pt x="85" y="1680"/>
                </a:lnTo>
                <a:lnTo>
                  <a:pt x="102" y="1629"/>
                </a:lnTo>
                <a:lnTo>
                  <a:pt x="120" y="1594"/>
                </a:lnTo>
                <a:lnTo>
                  <a:pt x="137" y="1526"/>
                </a:lnTo>
                <a:lnTo>
                  <a:pt x="137" y="1491"/>
                </a:lnTo>
                <a:lnTo>
                  <a:pt x="154" y="1440"/>
                </a:lnTo>
                <a:lnTo>
                  <a:pt x="188" y="1389"/>
                </a:lnTo>
                <a:lnTo>
                  <a:pt x="205" y="1354"/>
                </a:lnTo>
                <a:lnTo>
                  <a:pt x="240" y="1303"/>
                </a:lnTo>
                <a:lnTo>
                  <a:pt x="257" y="1251"/>
                </a:lnTo>
                <a:lnTo>
                  <a:pt x="291" y="1183"/>
                </a:lnTo>
                <a:lnTo>
                  <a:pt x="325" y="1131"/>
                </a:lnTo>
                <a:lnTo>
                  <a:pt x="360" y="1097"/>
                </a:lnTo>
                <a:lnTo>
                  <a:pt x="377" y="1046"/>
                </a:lnTo>
                <a:lnTo>
                  <a:pt x="394" y="1011"/>
                </a:lnTo>
                <a:lnTo>
                  <a:pt x="411" y="960"/>
                </a:lnTo>
                <a:lnTo>
                  <a:pt x="411" y="909"/>
                </a:lnTo>
                <a:lnTo>
                  <a:pt x="428" y="874"/>
                </a:lnTo>
                <a:lnTo>
                  <a:pt x="445" y="823"/>
                </a:lnTo>
                <a:lnTo>
                  <a:pt x="462" y="771"/>
                </a:lnTo>
                <a:lnTo>
                  <a:pt x="462" y="720"/>
                </a:lnTo>
                <a:lnTo>
                  <a:pt x="480" y="669"/>
                </a:lnTo>
                <a:lnTo>
                  <a:pt x="480" y="634"/>
                </a:lnTo>
                <a:lnTo>
                  <a:pt x="497" y="583"/>
                </a:lnTo>
                <a:lnTo>
                  <a:pt x="514" y="531"/>
                </a:lnTo>
                <a:lnTo>
                  <a:pt x="531" y="480"/>
                </a:lnTo>
                <a:lnTo>
                  <a:pt x="548" y="429"/>
                </a:lnTo>
                <a:lnTo>
                  <a:pt x="582" y="377"/>
                </a:lnTo>
                <a:lnTo>
                  <a:pt x="617" y="343"/>
                </a:lnTo>
                <a:lnTo>
                  <a:pt x="634" y="291"/>
                </a:lnTo>
                <a:lnTo>
                  <a:pt x="685" y="240"/>
                </a:lnTo>
                <a:lnTo>
                  <a:pt x="720" y="206"/>
                </a:lnTo>
                <a:lnTo>
                  <a:pt x="754" y="171"/>
                </a:lnTo>
                <a:lnTo>
                  <a:pt x="805" y="137"/>
                </a:lnTo>
                <a:lnTo>
                  <a:pt x="840" y="103"/>
                </a:lnTo>
                <a:lnTo>
                  <a:pt x="891" y="69"/>
                </a:lnTo>
                <a:lnTo>
                  <a:pt x="942" y="34"/>
                </a:lnTo>
                <a:lnTo>
                  <a:pt x="977" y="17"/>
                </a:lnTo>
                <a:lnTo>
                  <a:pt x="1028" y="0"/>
                </a:lnTo>
                <a:lnTo>
                  <a:pt x="1080" y="0"/>
                </a:lnTo>
                <a:lnTo>
                  <a:pt x="1148" y="0"/>
                </a:lnTo>
                <a:lnTo>
                  <a:pt x="1200" y="0"/>
                </a:lnTo>
                <a:lnTo>
                  <a:pt x="1251" y="51"/>
                </a:lnTo>
                <a:lnTo>
                  <a:pt x="1302" y="69"/>
                </a:lnTo>
                <a:lnTo>
                  <a:pt x="1320" y="120"/>
                </a:lnTo>
                <a:lnTo>
                  <a:pt x="1371" y="171"/>
                </a:lnTo>
                <a:lnTo>
                  <a:pt x="1405" y="206"/>
                </a:lnTo>
                <a:lnTo>
                  <a:pt x="1440" y="240"/>
                </a:lnTo>
                <a:lnTo>
                  <a:pt x="1474" y="291"/>
                </a:lnTo>
                <a:lnTo>
                  <a:pt x="1491" y="326"/>
                </a:lnTo>
                <a:lnTo>
                  <a:pt x="1508" y="377"/>
                </a:lnTo>
                <a:lnTo>
                  <a:pt x="1560" y="429"/>
                </a:lnTo>
                <a:lnTo>
                  <a:pt x="1577" y="480"/>
                </a:lnTo>
                <a:lnTo>
                  <a:pt x="1594" y="531"/>
                </a:lnTo>
                <a:lnTo>
                  <a:pt x="1611" y="566"/>
                </a:lnTo>
                <a:lnTo>
                  <a:pt x="1628" y="617"/>
                </a:lnTo>
                <a:lnTo>
                  <a:pt x="1645" y="669"/>
                </a:lnTo>
                <a:lnTo>
                  <a:pt x="1662" y="720"/>
                </a:lnTo>
                <a:lnTo>
                  <a:pt x="1662" y="771"/>
                </a:lnTo>
                <a:lnTo>
                  <a:pt x="1680" y="806"/>
                </a:lnTo>
                <a:lnTo>
                  <a:pt x="1697" y="857"/>
                </a:lnTo>
                <a:lnTo>
                  <a:pt x="1714" y="909"/>
                </a:lnTo>
                <a:lnTo>
                  <a:pt x="1731" y="960"/>
                </a:lnTo>
                <a:lnTo>
                  <a:pt x="1765" y="1011"/>
                </a:lnTo>
                <a:lnTo>
                  <a:pt x="1765" y="1046"/>
                </a:lnTo>
                <a:lnTo>
                  <a:pt x="1782" y="1097"/>
                </a:lnTo>
                <a:lnTo>
                  <a:pt x="1800" y="1149"/>
                </a:lnTo>
                <a:lnTo>
                  <a:pt x="1817" y="1200"/>
                </a:lnTo>
                <a:lnTo>
                  <a:pt x="1834" y="1269"/>
                </a:lnTo>
                <a:lnTo>
                  <a:pt x="1851" y="1337"/>
                </a:lnTo>
                <a:lnTo>
                  <a:pt x="1885" y="1389"/>
                </a:lnTo>
                <a:lnTo>
                  <a:pt x="1902" y="1440"/>
                </a:lnTo>
                <a:lnTo>
                  <a:pt x="1920" y="1491"/>
                </a:lnTo>
                <a:lnTo>
                  <a:pt x="1920" y="1526"/>
                </a:lnTo>
                <a:lnTo>
                  <a:pt x="1954" y="1577"/>
                </a:lnTo>
                <a:lnTo>
                  <a:pt x="1971" y="1629"/>
                </a:lnTo>
                <a:lnTo>
                  <a:pt x="1971" y="1680"/>
                </a:lnTo>
                <a:lnTo>
                  <a:pt x="1988" y="1731"/>
                </a:lnTo>
                <a:lnTo>
                  <a:pt x="2022" y="1800"/>
                </a:lnTo>
                <a:lnTo>
                  <a:pt x="2040" y="1851"/>
                </a:lnTo>
                <a:lnTo>
                  <a:pt x="2057" y="1886"/>
                </a:lnTo>
                <a:lnTo>
                  <a:pt x="2074" y="1886"/>
                </a:lnTo>
                <a:lnTo>
                  <a:pt x="2074" y="1903"/>
                </a:lnTo>
              </a:path>
            </a:pathLst>
          </a:custGeom>
          <a:noFill/>
          <a:ln cap="rnd" w="1260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57120" y="2617920"/>
            <a:ext cx="1317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Na2KSb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81440" y="5116680"/>
            <a:ext cx="4462560" cy="736560"/>
          </a:xfrm>
          <a:custGeom>
            <a:avLst/>
            <a:gdLst/>
            <a:ahLst/>
            <a:rect l="l" t="t" r="r" b="b"/>
            <a:pathLst>
              <a:path w="2811" h="464">
                <a:moveTo>
                  <a:pt x="0" y="463"/>
                </a:moveTo>
                <a:lnTo>
                  <a:pt x="34" y="394"/>
                </a:lnTo>
                <a:lnTo>
                  <a:pt x="68" y="343"/>
                </a:lnTo>
                <a:lnTo>
                  <a:pt x="102" y="308"/>
                </a:lnTo>
                <a:lnTo>
                  <a:pt x="137" y="274"/>
                </a:lnTo>
                <a:lnTo>
                  <a:pt x="171" y="223"/>
                </a:lnTo>
                <a:lnTo>
                  <a:pt x="222" y="206"/>
                </a:lnTo>
                <a:lnTo>
                  <a:pt x="240" y="171"/>
                </a:lnTo>
                <a:lnTo>
                  <a:pt x="291" y="137"/>
                </a:lnTo>
                <a:lnTo>
                  <a:pt x="342" y="120"/>
                </a:lnTo>
                <a:lnTo>
                  <a:pt x="377" y="103"/>
                </a:lnTo>
                <a:lnTo>
                  <a:pt x="428" y="86"/>
                </a:lnTo>
                <a:lnTo>
                  <a:pt x="480" y="103"/>
                </a:lnTo>
                <a:lnTo>
                  <a:pt x="531" y="137"/>
                </a:lnTo>
                <a:lnTo>
                  <a:pt x="548" y="188"/>
                </a:lnTo>
                <a:lnTo>
                  <a:pt x="582" y="223"/>
                </a:lnTo>
                <a:lnTo>
                  <a:pt x="617" y="274"/>
                </a:lnTo>
                <a:lnTo>
                  <a:pt x="668" y="274"/>
                </a:lnTo>
                <a:lnTo>
                  <a:pt x="720" y="308"/>
                </a:lnTo>
                <a:lnTo>
                  <a:pt x="754" y="343"/>
                </a:lnTo>
                <a:lnTo>
                  <a:pt x="805" y="360"/>
                </a:lnTo>
                <a:lnTo>
                  <a:pt x="840" y="377"/>
                </a:lnTo>
                <a:lnTo>
                  <a:pt x="891" y="394"/>
                </a:lnTo>
                <a:lnTo>
                  <a:pt x="942" y="394"/>
                </a:lnTo>
                <a:lnTo>
                  <a:pt x="977" y="394"/>
                </a:lnTo>
                <a:lnTo>
                  <a:pt x="1028" y="394"/>
                </a:lnTo>
                <a:lnTo>
                  <a:pt x="1080" y="394"/>
                </a:lnTo>
                <a:lnTo>
                  <a:pt x="1131" y="394"/>
                </a:lnTo>
                <a:lnTo>
                  <a:pt x="1182" y="394"/>
                </a:lnTo>
                <a:lnTo>
                  <a:pt x="1217" y="394"/>
                </a:lnTo>
                <a:lnTo>
                  <a:pt x="1268" y="394"/>
                </a:lnTo>
                <a:lnTo>
                  <a:pt x="1320" y="394"/>
                </a:lnTo>
                <a:lnTo>
                  <a:pt x="1388" y="377"/>
                </a:lnTo>
                <a:lnTo>
                  <a:pt x="1440" y="360"/>
                </a:lnTo>
                <a:lnTo>
                  <a:pt x="1491" y="308"/>
                </a:lnTo>
                <a:lnTo>
                  <a:pt x="1542" y="257"/>
                </a:lnTo>
                <a:lnTo>
                  <a:pt x="1577" y="223"/>
                </a:lnTo>
                <a:lnTo>
                  <a:pt x="1611" y="188"/>
                </a:lnTo>
                <a:lnTo>
                  <a:pt x="1662" y="154"/>
                </a:lnTo>
                <a:lnTo>
                  <a:pt x="1697" y="103"/>
                </a:lnTo>
                <a:lnTo>
                  <a:pt x="1731" y="68"/>
                </a:lnTo>
                <a:lnTo>
                  <a:pt x="1782" y="51"/>
                </a:lnTo>
                <a:lnTo>
                  <a:pt x="1817" y="34"/>
                </a:lnTo>
                <a:lnTo>
                  <a:pt x="1868" y="17"/>
                </a:lnTo>
                <a:lnTo>
                  <a:pt x="1920" y="0"/>
                </a:lnTo>
                <a:lnTo>
                  <a:pt x="1971" y="0"/>
                </a:lnTo>
                <a:lnTo>
                  <a:pt x="2022" y="0"/>
                </a:lnTo>
                <a:lnTo>
                  <a:pt x="2057" y="0"/>
                </a:lnTo>
                <a:lnTo>
                  <a:pt x="2108" y="0"/>
                </a:lnTo>
                <a:lnTo>
                  <a:pt x="2160" y="34"/>
                </a:lnTo>
                <a:lnTo>
                  <a:pt x="2211" y="86"/>
                </a:lnTo>
                <a:lnTo>
                  <a:pt x="2228" y="137"/>
                </a:lnTo>
                <a:lnTo>
                  <a:pt x="2280" y="188"/>
                </a:lnTo>
                <a:lnTo>
                  <a:pt x="2314" y="223"/>
                </a:lnTo>
                <a:lnTo>
                  <a:pt x="2365" y="257"/>
                </a:lnTo>
                <a:lnTo>
                  <a:pt x="2400" y="257"/>
                </a:lnTo>
                <a:lnTo>
                  <a:pt x="2451" y="274"/>
                </a:lnTo>
                <a:lnTo>
                  <a:pt x="2502" y="274"/>
                </a:lnTo>
                <a:lnTo>
                  <a:pt x="2537" y="291"/>
                </a:lnTo>
                <a:lnTo>
                  <a:pt x="2588" y="308"/>
                </a:lnTo>
                <a:lnTo>
                  <a:pt x="2640" y="326"/>
                </a:lnTo>
                <a:lnTo>
                  <a:pt x="2691" y="343"/>
                </a:lnTo>
                <a:lnTo>
                  <a:pt x="2742" y="377"/>
                </a:lnTo>
                <a:lnTo>
                  <a:pt x="2777" y="377"/>
                </a:lnTo>
                <a:lnTo>
                  <a:pt x="2810" y="394"/>
                </a:lnTo>
                <a:lnTo>
                  <a:pt x="2810" y="411"/>
                </a:lnTo>
                <a:lnTo>
                  <a:pt x="2810" y="394"/>
                </a:lnTo>
              </a:path>
            </a:pathLst>
          </a:custGeom>
          <a:noFill/>
          <a:ln cap="rnd" w="1260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867280" y="5313240"/>
            <a:ext cx="1166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AgOCs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Photomultiplier - dynodes of CuO.BeO.Cs or GaP.C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55880" y="1770120"/>
            <a:ext cx="4694040" cy="49942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26000" y="4816440"/>
            <a:ext cx="1116000" cy="10620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15300000">
            <a:off x="2743920" y="2347560"/>
            <a:ext cx="1472400" cy="17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7" y="0"/>
                </a:moveTo>
                <a:arcTo wR="10800" hR="10800" stAng="-5407410" swAng="5401325"/>
                <a:lnTo>
                  <a:pt x="10800" y="10800"/>
                </a:lnTo>
                <a:close/>
              </a:path>
              <a:path fill="none" w="21600" h="21600">
                <a:moveTo>
                  <a:pt x="10777" y="0"/>
                </a:moveTo>
                <a:arcTo wR="10800" hR="10800" stAng="-5407410" swAng="5401325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83400" y="3230640"/>
            <a:ext cx="1469520" cy="17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7" y="0"/>
                </a:moveTo>
                <a:arcTo wR="10800" hR="10800" stAng="-5407425" swAng="5407425"/>
                <a:lnTo>
                  <a:pt x="10800" y="10800"/>
                </a:lnTo>
                <a:close/>
              </a:path>
              <a:path fill="none" w="21600" h="21600">
                <a:moveTo>
                  <a:pt x="10777" y="0"/>
                </a:moveTo>
                <a:arcTo wR="10800" hR="10800" stAng="-5407425" swAng="5407425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12060000">
            <a:off x="2514600" y="3719160"/>
            <a:ext cx="1469520" cy="17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7" y="0"/>
                </a:moveTo>
                <a:arcTo wR="10800" hR="10800" stAng="-5407425" swAng="5407425"/>
                <a:lnTo>
                  <a:pt x="10800" y="10800"/>
                </a:lnTo>
                <a:close/>
              </a:path>
              <a:path fill="none" w="21600" h="21600">
                <a:moveTo>
                  <a:pt x="10777" y="0"/>
                </a:moveTo>
                <a:arcTo wR="10800" hR="10800" stAng="-5407425" swAng="5407425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rot="7920000">
            <a:off x="2983320" y="4492800"/>
            <a:ext cx="1469520" cy="179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7" y="0"/>
                </a:moveTo>
                <a:arcTo wR="10800" hR="10800" stAng="-5407425" swAng="5407425"/>
                <a:lnTo>
                  <a:pt x="10800" y="10800"/>
                </a:lnTo>
                <a:close/>
              </a:path>
              <a:path fill="none" w="21600" h="21600">
                <a:moveTo>
                  <a:pt x="10777" y="0"/>
                </a:moveTo>
                <a:arcTo wR="10800" hR="10800" stAng="-5407425" swAng="5407425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19020000">
            <a:off x="4100040" y="2026440"/>
            <a:ext cx="1584000" cy="199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8" y="0"/>
                </a:moveTo>
                <a:arcTo wR="10800" hR="10800" stAng="-5406884" swAng="5401396"/>
                <a:lnTo>
                  <a:pt x="10800" y="10800"/>
                </a:lnTo>
                <a:close/>
              </a:path>
              <a:path fill="none" w="21600" h="21600">
                <a:moveTo>
                  <a:pt x="10778" y="0"/>
                </a:moveTo>
                <a:arcTo wR="10800" hR="10800" stAng="-5406884" swAng="5401396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27560" y="4873680"/>
            <a:ext cx="979200" cy="3808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314960" y="3637080"/>
            <a:ext cx="1073160" cy="41724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3524400" y="3238200"/>
            <a:ext cx="938160" cy="56196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3673440" y="3936960"/>
            <a:ext cx="123840" cy="8524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020000" y="5253120"/>
            <a:ext cx="2122560" cy="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562640" y="1768320"/>
            <a:ext cx="363240" cy="186696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087800" y="3678120"/>
            <a:ext cx="2122560" cy="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5111640" y="3619440"/>
            <a:ext cx="984240" cy="151920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237280" y="5264280"/>
            <a:ext cx="2122200" cy="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85880" y="2776680"/>
            <a:ext cx="1486080" cy="64116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673440" y="2182320"/>
            <a:ext cx="1177920" cy="179100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59120" y="4762440"/>
            <a:ext cx="1895400" cy="28728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1768320" y="4359240"/>
            <a:ext cx="1913040" cy="70344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4640" y="2852640"/>
            <a:ext cx="984240" cy="152892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18080" y="5078520"/>
            <a:ext cx="282600" cy="131760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014560" y="4518000"/>
            <a:ext cx="490680" cy="654120"/>
          </a:xfrm>
          <a:custGeom>
            <a:avLst/>
            <a:gdLst/>
            <a:ahLst/>
            <a:rect l="l" t="t" r="r" b="b"/>
            <a:pathLst>
              <a:path w="309" h="412">
                <a:moveTo>
                  <a:pt x="0" y="17"/>
                </a:moveTo>
                <a:lnTo>
                  <a:pt x="0" y="103"/>
                </a:lnTo>
                <a:lnTo>
                  <a:pt x="17" y="154"/>
                </a:lnTo>
                <a:lnTo>
                  <a:pt x="34" y="205"/>
                </a:lnTo>
                <a:lnTo>
                  <a:pt x="34" y="240"/>
                </a:lnTo>
                <a:lnTo>
                  <a:pt x="51" y="291"/>
                </a:lnTo>
                <a:lnTo>
                  <a:pt x="68" y="343"/>
                </a:lnTo>
                <a:lnTo>
                  <a:pt x="120" y="394"/>
                </a:lnTo>
                <a:lnTo>
                  <a:pt x="171" y="411"/>
                </a:lnTo>
                <a:lnTo>
                  <a:pt x="222" y="411"/>
                </a:lnTo>
                <a:lnTo>
                  <a:pt x="257" y="411"/>
                </a:lnTo>
                <a:lnTo>
                  <a:pt x="291" y="360"/>
                </a:lnTo>
                <a:lnTo>
                  <a:pt x="308" y="325"/>
                </a:lnTo>
                <a:lnTo>
                  <a:pt x="308" y="274"/>
                </a:lnTo>
                <a:lnTo>
                  <a:pt x="274" y="223"/>
                </a:lnTo>
                <a:lnTo>
                  <a:pt x="274" y="188"/>
                </a:lnTo>
                <a:lnTo>
                  <a:pt x="274" y="137"/>
                </a:lnTo>
                <a:lnTo>
                  <a:pt x="257" y="85"/>
                </a:lnTo>
                <a:lnTo>
                  <a:pt x="222" y="34"/>
                </a:lnTo>
                <a:lnTo>
                  <a:pt x="171" y="17"/>
                </a:lnTo>
                <a:lnTo>
                  <a:pt x="120" y="0"/>
                </a:lnTo>
                <a:lnTo>
                  <a:pt x="85" y="0"/>
                </a:lnTo>
                <a:lnTo>
                  <a:pt x="0" y="17"/>
                </a:lnTo>
                <a:lnTo>
                  <a:pt x="0" y="17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60680" y="4843440"/>
            <a:ext cx="326880" cy="411120"/>
          </a:xfrm>
          <a:custGeom>
            <a:avLst/>
            <a:gdLst/>
            <a:ahLst/>
            <a:rect l="l" t="t" r="r" b="b"/>
            <a:pathLst>
              <a:path w="206" h="259">
                <a:moveTo>
                  <a:pt x="137" y="0"/>
                </a:moveTo>
                <a:lnTo>
                  <a:pt x="171" y="69"/>
                </a:lnTo>
                <a:lnTo>
                  <a:pt x="188" y="120"/>
                </a:lnTo>
                <a:lnTo>
                  <a:pt x="188" y="155"/>
                </a:lnTo>
                <a:lnTo>
                  <a:pt x="205" y="206"/>
                </a:lnTo>
                <a:lnTo>
                  <a:pt x="171" y="258"/>
                </a:lnTo>
                <a:lnTo>
                  <a:pt x="103" y="258"/>
                </a:lnTo>
                <a:lnTo>
                  <a:pt x="34" y="258"/>
                </a:lnTo>
                <a:lnTo>
                  <a:pt x="0" y="223"/>
                </a:lnTo>
                <a:lnTo>
                  <a:pt x="0" y="172"/>
                </a:lnTo>
                <a:lnTo>
                  <a:pt x="17" y="120"/>
                </a:lnTo>
                <a:lnTo>
                  <a:pt x="68" y="86"/>
                </a:lnTo>
                <a:lnTo>
                  <a:pt x="137" y="0"/>
                </a:lnTo>
                <a:lnTo>
                  <a:pt x="137" y="0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36880" y="6232680"/>
            <a:ext cx="355680" cy="245880"/>
          </a:xfrm>
          <a:custGeom>
            <a:avLst/>
            <a:gdLst/>
            <a:ahLst/>
            <a:rect l="l" t="t" r="r" b="b"/>
            <a:pathLst>
              <a:path w="224" h="155">
                <a:moveTo>
                  <a:pt x="0" y="0"/>
                </a:moveTo>
                <a:lnTo>
                  <a:pt x="86" y="0"/>
                </a:lnTo>
                <a:lnTo>
                  <a:pt x="154" y="0"/>
                </a:lnTo>
                <a:lnTo>
                  <a:pt x="189" y="17"/>
                </a:lnTo>
                <a:lnTo>
                  <a:pt x="223" y="68"/>
                </a:lnTo>
                <a:lnTo>
                  <a:pt x="223" y="103"/>
                </a:lnTo>
                <a:lnTo>
                  <a:pt x="172" y="137"/>
                </a:lnTo>
                <a:lnTo>
                  <a:pt x="137" y="154"/>
                </a:lnTo>
                <a:lnTo>
                  <a:pt x="86" y="154"/>
                </a:lnTo>
                <a:lnTo>
                  <a:pt x="34" y="154"/>
                </a:lnTo>
                <a:lnTo>
                  <a:pt x="0" y="103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476440" y="2693880"/>
            <a:ext cx="355680" cy="274680"/>
          </a:xfrm>
          <a:custGeom>
            <a:avLst/>
            <a:gdLst/>
            <a:ahLst/>
            <a:rect l="l" t="t" r="r" b="b"/>
            <a:pathLst>
              <a:path w="224" h="173">
                <a:moveTo>
                  <a:pt x="223" y="17"/>
                </a:moveTo>
                <a:lnTo>
                  <a:pt x="154" y="69"/>
                </a:lnTo>
                <a:lnTo>
                  <a:pt x="120" y="120"/>
                </a:lnTo>
                <a:lnTo>
                  <a:pt x="69" y="154"/>
                </a:lnTo>
                <a:lnTo>
                  <a:pt x="34" y="172"/>
                </a:lnTo>
                <a:lnTo>
                  <a:pt x="0" y="137"/>
                </a:lnTo>
                <a:lnTo>
                  <a:pt x="0" y="86"/>
                </a:lnTo>
                <a:lnTo>
                  <a:pt x="17" y="34"/>
                </a:lnTo>
                <a:lnTo>
                  <a:pt x="69" y="17"/>
                </a:lnTo>
                <a:lnTo>
                  <a:pt x="120" y="0"/>
                </a:lnTo>
                <a:lnTo>
                  <a:pt x="223" y="17"/>
                </a:lnTo>
                <a:lnTo>
                  <a:pt x="223" y="17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49840" y="1841400"/>
            <a:ext cx="217440" cy="268560"/>
          </a:xfrm>
          <a:custGeom>
            <a:avLst/>
            <a:gdLst/>
            <a:ahLst/>
            <a:rect l="l" t="t" r="r" b="b"/>
            <a:pathLst>
              <a:path w="137" h="169">
                <a:moveTo>
                  <a:pt x="24" y="152"/>
                </a:moveTo>
                <a:lnTo>
                  <a:pt x="56" y="152"/>
                </a:lnTo>
                <a:lnTo>
                  <a:pt x="80" y="152"/>
                </a:lnTo>
                <a:lnTo>
                  <a:pt x="104" y="168"/>
                </a:lnTo>
                <a:lnTo>
                  <a:pt x="128" y="152"/>
                </a:lnTo>
                <a:lnTo>
                  <a:pt x="128" y="128"/>
                </a:lnTo>
                <a:lnTo>
                  <a:pt x="136" y="96"/>
                </a:lnTo>
                <a:lnTo>
                  <a:pt x="136" y="72"/>
                </a:lnTo>
                <a:lnTo>
                  <a:pt x="136" y="48"/>
                </a:lnTo>
                <a:lnTo>
                  <a:pt x="136" y="24"/>
                </a:lnTo>
                <a:lnTo>
                  <a:pt x="112" y="24"/>
                </a:lnTo>
                <a:lnTo>
                  <a:pt x="88" y="16"/>
                </a:lnTo>
                <a:lnTo>
                  <a:pt x="64" y="8"/>
                </a:lnTo>
                <a:lnTo>
                  <a:pt x="32" y="8"/>
                </a:lnTo>
                <a:lnTo>
                  <a:pt x="8" y="0"/>
                </a:lnTo>
                <a:lnTo>
                  <a:pt x="8" y="24"/>
                </a:lnTo>
                <a:lnTo>
                  <a:pt x="0" y="48"/>
                </a:lnTo>
                <a:lnTo>
                  <a:pt x="0" y="72"/>
                </a:lnTo>
                <a:lnTo>
                  <a:pt x="0" y="96"/>
                </a:lnTo>
                <a:lnTo>
                  <a:pt x="0" y="120"/>
                </a:lnTo>
                <a:lnTo>
                  <a:pt x="24" y="152"/>
                </a:lnTo>
                <a:lnTo>
                  <a:pt x="24" y="152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46160" y="4656240"/>
            <a:ext cx="174600" cy="217440"/>
          </a:xfrm>
          <a:custGeom>
            <a:avLst/>
            <a:gdLst/>
            <a:ahLst/>
            <a:rect l="l" t="t" r="r" b="b"/>
            <a:pathLst>
              <a:path w="110" h="137">
                <a:moveTo>
                  <a:pt x="0" y="0"/>
                </a:moveTo>
                <a:lnTo>
                  <a:pt x="9" y="36"/>
                </a:lnTo>
                <a:lnTo>
                  <a:pt x="27" y="63"/>
                </a:lnTo>
                <a:lnTo>
                  <a:pt x="27" y="90"/>
                </a:lnTo>
                <a:lnTo>
                  <a:pt x="27" y="109"/>
                </a:lnTo>
                <a:lnTo>
                  <a:pt x="45" y="136"/>
                </a:lnTo>
                <a:lnTo>
                  <a:pt x="72" y="136"/>
                </a:lnTo>
                <a:lnTo>
                  <a:pt x="91" y="118"/>
                </a:lnTo>
                <a:lnTo>
                  <a:pt x="91" y="99"/>
                </a:lnTo>
                <a:lnTo>
                  <a:pt x="91" y="72"/>
                </a:lnTo>
                <a:lnTo>
                  <a:pt x="91" y="45"/>
                </a:lnTo>
                <a:lnTo>
                  <a:pt x="72" y="27"/>
                </a:lnTo>
                <a:lnTo>
                  <a:pt x="45" y="9"/>
                </a:lnTo>
                <a:lnTo>
                  <a:pt x="0" y="0"/>
                </a:lnTo>
                <a:lnTo>
                  <a:pt x="9" y="36"/>
                </a:lnTo>
                <a:lnTo>
                  <a:pt x="0" y="63"/>
                </a:lnTo>
                <a:lnTo>
                  <a:pt x="0" y="90"/>
                </a:lnTo>
                <a:lnTo>
                  <a:pt x="0" y="109"/>
                </a:lnTo>
                <a:lnTo>
                  <a:pt x="0" y="136"/>
                </a:lnTo>
                <a:lnTo>
                  <a:pt x="27" y="136"/>
                </a:lnTo>
                <a:lnTo>
                  <a:pt x="54" y="136"/>
                </a:lnTo>
                <a:lnTo>
                  <a:pt x="109" y="109"/>
                </a:lnTo>
                <a:lnTo>
                  <a:pt x="81" y="45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960560" y="4640400"/>
            <a:ext cx="115920" cy="318960"/>
          </a:xfrm>
          <a:custGeom>
            <a:avLst/>
            <a:gdLst/>
            <a:ahLst/>
            <a:rect l="l" t="t" r="r" b="b"/>
            <a:pathLst>
              <a:path w="73" h="201">
                <a:moveTo>
                  <a:pt x="27" y="0"/>
                </a:moveTo>
                <a:lnTo>
                  <a:pt x="27" y="37"/>
                </a:lnTo>
                <a:lnTo>
                  <a:pt x="27" y="64"/>
                </a:lnTo>
                <a:lnTo>
                  <a:pt x="0" y="55"/>
                </a:lnTo>
                <a:lnTo>
                  <a:pt x="0" y="82"/>
                </a:lnTo>
                <a:lnTo>
                  <a:pt x="0" y="109"/>
                </a:lnTo>
                <a:lnTo>
                  <a:pt x="0" y="128"/>
                </a:lnTo>
                <a:lnTo>
                  <a:pt x="0" y="155"/>
                </a:lnTo>
                <a:lnTo>
                  <a:pt x="27" y="182"/>
                </a:lnTo>
                <a:lnTo>
                  <a:pt x="54" y="200"/>
                </a:lnTo>
                <a:lnTo>
                  <a:pt x="72" y="173"/>
                </a:lnTo>
                <a:lnTo>
                  <a:pt x="72" y="146"/>
                </a:lnTo>
                <a:lnTo>
                  <a:pt x="72" y="119"/>
                </a:lnTo>
                <a:lnTo>
                  <a:pt x="72" y="100"/>
                </a:lnTo>
                <a:lnTo>
                  <a:pt x="72" y="73"/>
                </a:lnTo>
                <a:lnTo>
                  <a:pt x="72" y="46"/>
                </a:lnTo>
                <a:lnTo>
                  <a:pt x="72" y="19"/>
                </a:lnTo>
                <a:lnTo>
                  <a:pt x="27" y="0"/>
                </a:lnTo>
                <a:lnTo>
                  <a:pt x="27" y="0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974960" y="4871880"/>
            <a:ext cx="145800" cy="189000"/>
          </a:xfrm>
          <a:custGeom>
            <a:avLst/>
            <a:gdLst/>
            <a:ahLst/>
            <a:rect l="l" t="t" r="r" b="b"/>
            <a:pathLst>
              <a:path w="92" h="119">
                <a:moveTo>
                  <a:pt x="73" y="118"/>
                </a:moveTo>
                <a:lnTo>
                  <a:pt x="45" y="82"/>
                </a:lnTo>
                <a:lnTo>
                  <a:pt x="36" y="109"/>
                </a:lnTo>
                <a:lnTo>
                  <a:pt x="27" y="82"/>
                </a:lnTo>
                <a:lnTo>
                  <a:pt x="18" y="63"/>
                </a:lnTo>
                <a:lnTo>
                  <a:pt x="18" y="36"/>
                </a:lnTo>
                <a:lnTo>
                  <a:pt x="0" y="9"/>
                </a:lnTo>
                <a:lnTo>
                  <a:pt x="36" y="0"/>
                </a:lnTo>
                <a:lnTo>
                  <a:pt x="63" y="9"/>
                </a:lnTo>
                <a:lnTo>
                  <a:pt x="82" y="9"/>
                </a:lnTo>
                <a:lnTo>
                  <a:pt x="91" y="36"/>
                </a:lnTo>
                <a:lnTo>
                  <a:pt x="91" y="63"/>
                </a:lnTo>
                <a:lnTo>
                  <a:pt x="82" y="82"/>
                </a:lnTo>
                <a:lnTo>
                  <a:pt x="73" y="118"/>
                </a:lnTo>
                <a:lnTo>
                  <a:pt x="73" y="118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16280" y="4684680"/>
            <a:ext cx="102960" cy="274680"/>
          </a:xfrm>
          <a:custGeom>
            <a:avLst/>
            <a:gdLst/>
            <a:ahLst/>
            <a:rect l="l" t="t" r="r" b="b"/>
            <a:pathLst>
              <a:path w="65" h="173">
                <a:moveTo>
                  <a:pt x="0" y="0"/>
                </a:moveTo>
                <a:lnTo>
                  <a:pt x="28" y="36"/>
                </a:lnTo>
                <a:lnTo>
                  <a:pt x="28" y="63"/>
                </a:lnTo>
                <a:lnTo>
                  <a:pt x="28" y="91"/>
                </a:lnTo>
                <a:lnTo>
                  <a:pt x="28" y="118"/>
                </a:lnTo>
                <a:lnTo>
                  <a:pt x="28" y="145"/>
                </a:lnTo>
                <a:lnTo>
                  <a:pt x="37" y="172"/>
                </a:lnTo>
                <a:lnTo>
                  <a:pt x="64" y="145"/>
                </a:lnTo>
                <a:lnTo>
                  <a:pt x="55" y="100"/>
                </a:lnTo>
              </a:path>
            </a:pathLst>
          </a:custGeom>
          <a:noFill/>
          <a:ln cap="rnd" w="1260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619440" y="3587760"/>
            <a:ext cx="766800" cy="434880"/>
          </a:xfrm>
          <a:custGeom>
            <a:avLst/>
            <a:gdLst/>
            <a:ahLst/>
            <a:rect l="l" t="t" r="r" b="b"/>
            <a:pathLst>
              <a:path w="483" h="274">
                <a:moveTo>
                  <a:pt x="0" y="200"/>
                </a:moveTo>
                <a:lnTo>
                  <a:pt x="36" y="173"/>
                </a:lnTo>
                <a:lnTo>
                  <a:pt x="46" y="154"/>
                </a:lnTo>
                <a:lnTo>
                  <a:pt x="73" y="136"/>
                </a:lnTo>
                <a:lnTo>
                  <a:pt x="73" y="109"/>
                </a:lnTo>
                <a:lnTo>
                  <a:pt x="100" y="100"/>
                </a:lnTo>
                <a:lnTo>
                  <a:pt x="127" y="82"/>
                </a:lnTo>
                <a:lnTo>
                  <a:pt x="146" y="64"/>
                </a:lnTo>
                <a:lnTo>
                  <a:pt x="173" y="55"/>
                </a:lnTo>
                <a:lnTo>
                  <a:pt x="200" y="45"/>
                </a:lnTo>
                <a:lnTo>
                  <a:pt x="209" y="18"/>
                </a:lnTo>
                <a:lnTo>
                  <a:pt x="236" y="0"/>
                </a:lnTo>
                <a:lnTo>
                  <a:pt x="255" y="0"/>
                </a:lnTo>
                <a:lnTo>
                  <a:pt x="255" y="27"/>
                </a:lnTo>
                <a:lnTo>
                  <a:pt x="282" y="36"/>
                </a:lnTo>
                <a:lnTo>
                  <a:pt x="309" y="36"/>
                </a:lnTo>
                <a:lnTo>
                  <a:pt x="336" y="18"/>
                </a:lnTo>
                <a:lnTo>
                  <a:pt x="355" y="18"/>
                </a:lnTo>
                <a:lnTo>
                  <a:pt x="382" y="18"/>
                </a:lnTo>
                <a:lnTo>
                  <a:pt x="409" y="27"/>
                </a:lnTo>
                <a:lnTo>
                  <a:pt x="427" y="55"/>
                </a:lnTo>
                <a:lnTo>
                  <a:pt x="455" y="73"/>
                </a:lnTo>
                <a:lnTo>
                  <a:pt x="482" y="73"/>
                </a:lnTo>
                <a:lnTo>
                  <a:pt x="482" y="100"/>
                </a:lnTo>
                <a:lnTo>
                  <a:pt x="482" y="127"/>
                </a:lnTo>
                <a:lnTo>
                  <a:pt x="473" y="154"/>
                </a:lnTo>
                <a:lnTo>
                  <a:pt x="445" y="154"/>
                </a:lnTo>
                <a:lnTo>
                  <a:pt x="418" y="154"/>
                </a:lnTo>
                <a:lnTo>
                  <a:pt x="382" y="145"/>
                </a:lnTo>
                <a:lnTo>
                  <a:pt x="355" y="136"/>
                </a:lnTo>
                <a:lnTo>
                  <a:pt x="327" y="136"/>
                </a:lnTo>
                <a:lnTo>
                  <a:pt x="300" y="136"/>
                </a:lnTo>
                <a:lnTo>
                  <a:pt x="273" y="136"/>
                </a:lnTo>
                <a:lnTo>
                  <a:pt x="245" y="145"/>
                </a:lnTo>
                <a:lnTo>
                  <a:pt x="218" y="154"/>
                </a:lnTo>
                <a:lnTo>
                  <a:pt x="191" y="154"/>
                </a:lnTo>
                <a:lnTo>
                  <a:pt x="182" y="173"/>
                </a:lnTo>
                <a:lnTo>
                  <a:pt x="155" y="173"/>
                </a:lnTo>
                <a:lnTo>
                  <a:pt x="136" y="173"/>
                </a:lnTo>
                <a:lnTo>
                  <a:pt x="118" y="200"/>
                </a:lnTo>
                <a:lnTo>
                  <a:pt x="109" y="227"/>
                </a:lnTo>
                <a:lnTo>
                  <a:pt x="82" y="236"/>
                </a:lnTo>
                <a:lnTo>
                  <a:pt x="55" y="254"/>
                </a:lnTo>
                <a:lnTo>
                  <a:pt x="36" y="254"/>
                </a:lnTo>
                <a:lnTo>
                  <a:pt x="27" y="273"/>
                </a:lnTo>
                <a:lnTo>
                  <a:pt x="9" y="254"/>
                </a:lnTo>
                <a:lnTo>
                  <a:pt x="0" y="200"/>
                </a:lnTo>
                <a:lnTo>
                  <a:pt x="0" y="200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778200" y="3400560"/>
            <a:ext cx="362160" cy="318960"/>
          </a:xfrm>
          <a:custGeom>
            <a:avLst/>
            <a:gdLst/>
            <a:ahLst/>
            <a:rect l="l" t="t" r="r" b="b"/>
            <a:pathLst>
              <a:path w="228" h="201">
                <a:moveTo>
                  <a:pt x="227" y="0"/>
                </a:moveTo>
                <a:lnTo>
                  <a:pt x="191" y="18"/>
                </a:lnTo>
                <a:lnTo>
                  <a:pt x="164" y="45"/>
                </a:lnTo>
                <a:lnTo>
                  <a:pt x="145" y="54"/>
                </a:lnTo>
                <a:lnTo>
                  <a:pt x="118" y="63"/>
                </a:lnTo>
                <a:lnTo>
                  <a:pt x="91" y="63"/>
                </a:lnTo>
                <a:lnTo>
                  <a:pt x="82" y="82"/>
                </a:lnTo>
                <a:lnTo>
                  <a:pt x="55" y="100"/>
                </a:lnTo>
                <a:lnTo>
                  <a:pt x="36" y="109"/>
                </a:lnTo>
                <a:lnTo>
                  <a:pt x="27" y="136"/>
                </a:lnTo>
                <a:lnTo>
                  <a:pt x="9" y="163"/>
                </a:lnTo>
                <a:lnTo>
                  <a:pt x="0" y="182"/>
                </a:lnTo>
                <a:lnTo>
                  <a:pt x="27" y="200"/>
                </a:lnTo>
                <a:lnTo>
                  <a:pt x="46" y="182"/>
                </a:lnTo>
                <a:lnTo>
                  <a:pt x="73" y="173"/>
                </a:lnTo>
                <a:lnTo>
                  <a:pt x="100" y="154"/>
                </a:lnTo>
                <a:lnTo>
                  <a:pt x="127" y="136"/>
                </a:lnTo>
                <a:lnTo>
                  <a:pt x="145" y="109"/>
                </a:lnTo>
                <a:lnTo>
                  <a:pt x="164" y="91"/>
                </a:lnTo>
                <a:lnTo>
                  <a:pt x="173" y="63"/>
                </a:lnTo>
                <a:lnTo>
                  <a:pt x="182" y="36"/>
                </a:lnTo>
                <a:lnTo>
                  <a:pt x="164" y="73"/>
                </a:lnTo>
                <a:lnTo>
                  <a:pt x="182" y="1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254480" y="3559320"/>
            <a:ext cx="420840" cy="203040"/>
          </a:xfrm>
          <a:custGeom>
            <a:avLst/>
            <a:gdLst/>
            <a:ahLst/>
            <a:rect l="l" t="t" r="r" b="b"/>
            <a:pathLst>
              <a:path w="265" h="128">
                <a:moveTo>
                  <a:pt x="91" y="36"/>
                </a:moveTo>
                <a:lnTo>
                  <a:pt x="127" y="36"/>
                </a:lnTo>
                <a:lnTo>
                  <a:pt x="155" y="45"/>
                </a:lnTo>
                <a:lnTo>
                  <a:pt x="182" y="45"/>
                </a:lnTo>
                <a:lnTo>
                  <a:pt x="209" y="54"/>
                </a:lnTo>
                <a:lnTo>
                  <a:pt x="218" y="73"/>
                </a:lnTo>
                <a:lnTo>
                  <a:pt x="245" y="82"/>
                </a:lnTo>
                <a:lnTo>
                  <a:pt x="264" y="100"/>
                </a:lnTo>
                <a:lnTo>
                  <a:pt x="245" y="127"/>
                </a:lnTo>
                <a:lnTo>
                  <a:pt x="218" y="127"/>
                </a:lnTo>
                <a:lnTo>
                  <a:pt x="191" y="127"/>
                </a:lnTo>
                <a:lnTo>
                  <a:pt x="164" y="118"/>
                </a:lnTo>
                <a:lnTo>
                  <a:pt x="145" y="109"/>
                </a:lnTo>
                <a:lnTo>
                  <a:pt x="118" y="100"/>
                </a:lnTo>
                <a:lnTo>
                  <a:pt x="91" y="91"/>
                </a:lnTo>
                <a:lnTo>
                  <a:pt x="64" y="82"/>
                </a:lnTo>
                <a:lnTo>
                  <a:pt x="45" y="82"/>
                </a:lnTo>
                <a:lnTo>
                  <a:pt x="27" y="63"/>
                </a:lnTo>
                <a:lnTo>
                  <a:pt x="0" y="63"/>
                </a:lnTo>
                <a:lnTo>
                  <a:pt x="0" y="36"/>
                </a:lnTo>
                <a:lnTo>
                  <a:pt x="27" y="18"/>
                </a:lnTo>
                <a:lnTo>
                  <a:pt x="55" y="0"/>
                </a:lnTo>
                <a:lnTo>
                  <a:pt x="91" y="36"/>
                </a:lnTo>
                <a:lnTo>
                  <a:pt x="127" y="54"/>
                </a:lnTo>
                <a:lnTo>
                  <a:pt x="127" y="45"/>
                </a:lnTo>
                <a:lnTo>
                  <a:pt x="155" y="3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rcRect l="22539" t="25198" r="18" b="24"/>
          <a:stretch/>
        </p:blipFill>
        <p:spPr>
          <a:xfrm>
            <a:off x="0" y="236520"/>
            <a:ext cx="9140760" cy="6615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63520" y="1262160"/>
            <a:ext cx="3817800" cy="824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Cooled Photomultiplier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Tub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2560" cy="69278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873960" y="684360"/>
            <a:ext cx="2013840" cy="458280"/>
          </a:xfrm>
          <a:prstGeom prst="rect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Dynode arra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Energy transfer from photon to molecule or atom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16640" y="6629040"/>
            <a:ext cx="25560" cy="22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7720" y="2057400"/>
            <a:ext cx="81327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At room temperature most molecules are at lowest electronic &amp; vibrational state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4800600"/>
            <a:ext cx="860904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IR radiation can excite vibrational levels that then lose energy quickly in collisions with surroundings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3000" y="7236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Photodiodes - semiconductor that conducts in one direction only when light is presen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2120" y="259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Rugged and small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Photodiode arrays - allows observation of a number of different locations (wavelengths) simultaneously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Somewhat less sensitive than PMT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44440" y="1905120"/>
            <a:ext cx="8747280" cy="30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wcurve" descr=""/>
          <p:cNvPicPr/>
          <p:nvPr/>
        </p:nvPicPr>
        <p:blipFill>
          <a:blip r:embed="rId1"/>
          <a:stretch/>
        </p:blipFill>
        <p:spPr>
          <a:xfrm>
            <a:off x="380880" y="2952720"/>
            <a:ext cx="8305920" cy="3659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30400" y="8758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=I/Io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= - log T = -log (I/Io)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alibration curv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0" y="0"/>
          <a:ext cx="9144000" cy="68216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216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3237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eviations from Beer’s Law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10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High concentrations (0.01M) distort each molecules electronic structure &amp; spectra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291600" indent="-291600">
              <a:spcBef>
                <a:spcPts val="10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Chemical equilibrium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291600" indent="-291600">
              <a:spcBef>
                <a:spcPts val="10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Stray light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291600" indent="-291600">
              <a:spcBef>
                <a:spcPts val="10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Polychromatic light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291600" indent="-291600">
              <a:spcBef>
                <a:spcPts val="10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Interferences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Interpretation - quantitativ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10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Broad adsorption bands - considerable overlap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294840" indent="-294840">
              <a:spcBef>
                <a:spcPts val="10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Specral dependence upon solvents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294840" indent="-294840">
              <a:spcBef>
                <a:spcPts val="10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Resolving mixtures as linear combinations - need to measure as many wavelengths as components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294840" indent="-294840">
              <a:spcBef>
                <a:spcPts val="10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Beer’s Law .html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3287880" y="3205080"/>
          <a:ext cx="2549520" cy="365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87880" y="3205080"/>
                    <a:ext cx="2549520" cy="36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Resolving mixtur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Measure at different wavelengths and solve mathematically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291600" indent="-29160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Use standard additions (measure A and then add known amounts of standard)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291600" indent="-29160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Chemical methods to separate or shift spectrum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291600" indent="-29160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Use time resolution (fluorescence and phosphorescence)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Improving resolution in mixtur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Instrumental (resolution)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29040" indent="-32904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Mathematical (derivatives)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29040" indent="-32904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Use second parameter (fluorescence)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29040" indent="-32904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Use third parameter (time for phosphorescence)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29040" indent="-32904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Chemical separations (chromatography)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Fluorescence 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Emission at lower energy than absorption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Greater selectivity but fluorescent yields vary for different molecules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Detection at right angles to excitation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S/N is improved so sensitivity is better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Fluorescent tags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2560" cy="68518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5900760" y="165240"/>
            <a:ext cx="3076560" cy="45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Spectrofluorometer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39720" y="973080"/>
            <a:ext cx="1844640" cy="4582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Light sourc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881720" y="1579680"/>
            <a:ext cx="4912560" cy="45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Monochromator to select excitatio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47520" y="3944880"/>
            <a:ext cx="3082320" cy="4582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Sample compartmen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694120" y="4695840"/>
            <a:ext cx="2792520" cy="824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Monochromator t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select fluorescenc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V Visible Spectrometr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87280" y="1353960"/>
          <a:ext cx="8626680" cy="550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1353960"/>
                    <a:ext cx="8626680" cy="550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Times New Roman"/>
              </a:rPr>
              <a:t>absorption - specific energy</a:t>
            </a:r>
            <a:endParaRPr b="0" lang="en-US" sz="4800" spc="-1" strike="noStrike">
              <a:solidFill>
                <a:srgbClr val="dddddd"/>
              </a:solidFill>
              <a:latin typeface="Times New Roman"/>
            </a:endParaRPr>
          </a:p>
          <a:p>
            <a:pPr marL="332640" indent="-33264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Times New Roman"/>
              </a:rPr>
              <a:t>emission - excited molecule emits</a:t>
            </a:r>
            <a:endParaRPr b="0" lang="en-US" sz="4800" spc="-1" strike="noStrike">
              <a:solidFill>
                <a:srgbClr val="dddddd"/>
              </a:solidFill>
              <a:latin typeface="Times New Roman"/>
            </a:endParaRPr>
          </a:p>
          <a:p>
            <a:pPr marL="332640" indent="-33264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Times New Roman"/>
              </a:rPr>
              <a:t>fluorescence </a:t>
            </a:r>
            <a:endParaRPr b="0" lang="en-US" sz="4800" spc="-1" strike="noStrike">
              <a:solidFill>
                <a:srgbClr val="dddddd"/>
              </a:solidFill>
              <a:latin typeface="Times New Roman"/>
            </a:endParaRPr>
          </a:p>
          <a:p>
            <a:pPr marL="332640" indent="-33264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Times New Roman"/>
              </a:rPr>
              <a:t>phosphorescence</a:t>
            </a:r>
            <a:endParaRPr b="0" lang="en-US" sz="4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Photoacoustic spectroscop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Edison’s observations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If light is pulsed then as gas is excited it can expand (sound)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2309760" y="3475080"/>
          <a:ext cx="3651480" cy="33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9760" y="3475080"/>
                    <a:ext cx="3651480" cy="33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"/>
          <p:cNvGraphicFramePr/>
          <p:nvPr/>
        </p:nvGraphicFramePr>
        <p:xfrm>
          <a:off x="3287880" y="3041640"/>
          <a:ext cx="2549520" cy="36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87880" y="3041640"/>
                    <a:ext cx="2549520" cy="36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Principles of I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Absorption of energy at various frequencies is detected by IR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lots the amount of radiation transmitted through the sample as a function of frequenc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ompounds have “fingerprint” region of identity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Infrared Spectrometr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Is especially useful for qualitative analysi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unctional group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other structural feature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establishing purity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monitoring rate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measuring concentration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eoretical studie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How does it work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ontinuous beam of radiatio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requencies display different absorbance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Beam comes to focus at entrance sli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molecule absorbs radiation of the energy to excite it to the vibrational stat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How Does It Work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Monochromator disperses radiation into spectrum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one frequency appears at exit sli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radiation passed to detector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detector converts energy to signa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ignal amplified and recorded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Instrumentation II</a:t>
            </a:r>
            <a:br>
              <a:rPr sz="4400"/>
            </a:b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Optical-null double-beam instrument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Radiation is directed through both cells by mirror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ample beam and reference beam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hopper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diffraction grating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ir%20instrument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331128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ouble beam/ null detec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Instrumentation II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Exit sli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detector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rvo motor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Resulting spectrum is a plot of the intensity of the transmitted radiation  versus the wavelength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etection of IR radi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Insufficient energy to excite     electrons &amp; hence photodetectors won’t work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Sense heat - not very sensitive and must be protected from sources of heat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Thermocouple -  dissimilar metals characterized by voltage across gap proportional to temperature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248520" y="0"/>
          <a:ext cx="2894040" cy="27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0"/>
                    <a:ext cx="2894040" cy="27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happens to molecule after excit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collisions deactivate  vibrational levels (heat)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  <a:p>
            <a:pPr marL="322200" indent="-322200">
              <a:spcBef>
                <a:spcPts val="11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emission of photon (fluorescence)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  <a:p>
            <a:pPr marL="322200" indent="-322200">
              <a:spcBef>
                <a:spcPts val="11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intersystem crossover (phosphorescence)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IR detector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Golay detector - gas expanded by heat causes flexible mirror to move - measure photocurrent of visible light sourc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576600" y="4062240"/>
            <a:ext cx="1014480" cy="914400"/>
          </a:xfrm>
          <a:prstGeom prst="rect">
            <a:avLst/>
          </a:prstGeom>
          <a:solidFill>
            <a:srgbClr val="0000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085160" y="4035600"/>
            <a:ext cx="1116000" cy="1090440"/>
          </a:xfrm>
          <a:custGeom>
            <a:avLst/>
            <a:gdLst>
              <a:gd name="textAreaLeft" fmla="*/ 254520 w 1116000"/>
              <a:gd name="textAreaRight" fmla="*/ 861480 w 1116000"/>
              <a:gd name="textAreaTop" fmla="*/ 248760 h 1090440"/>
              <a:gd name="textAreaBottom" fmla="*/ 841680 h 1090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54600" y="4313160"/>
            <a:ext cx="2117880" cy="438120"/>
          </a:xfrm>
          <a:prstGeom prst="leftArrow">
            <a:avLst>
              <a:gd name="adj1" fmla="val 50000"/>
              <a:gd name="adj2" fmla="val 241678"/>
            </a:avLst>
          </a:prstGeom>
          <a:solidFill>
            <a:srgbClr val="0000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793880" y="4038480"/>
            <a:ext cx="1517760" cy="963720"/>
          </a:xfrm>
          <a:prstGeom prst="rightArrow">
            <a:avLst>
              <a:gd name="adj1" fmla="val 75009"/>
              <a:gd name="adj2" fmla="val 78752"/>
            </a:avLst>
          </a:prstGeom>
          <a:solidFill>
            <a:srgbClr val="0000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11820000">
            <a:off x="6177960" y="4988880"/>
            <a:ext cx="890280" cy="888840"/>
          </a:xfrm>
          <a:prstGeom prst="rtTriangle">
            <a:avLst/>
          </a:prstGeom>
          <a:solidFill>
            <a:srgbClr val="0000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8480" y="6191280"/>
            <a:ext cx="1641240" cy="563400"/>
          </a:xfrm>
          <a:custGeom>
            <a:avLst/>
            <a:gdLst>
              <a:gd name="textAreaLeft" fmla="*/ 60480 w 1641240"/>
              <a:gd name="textAreaRight" fmla="*/ 1580760 w 1641240"/>
              <a:gd name="textAreaTop" fmla="*/ 20520 h 563400"/>
              <a:gd name="textAreaBottom" fmla="*/ 450000 h 5634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00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656240" y="6191280"/>
            <a:ext cx="1337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Detector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97120" y="4211640"/>
            <a:ext cx="1337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IR beam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288560" y="4235400"/>
            <a:ext cx="60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Vis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162560" y="4611600"/>
            <a:ext cx="109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sourc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652560" y="4335480"/>
            <a:ext cx="82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rot="1200000">
            <a:off x="4581000" y="4854240"/>
            <a:ext cx="2143440" cy="209520"/>
          </a:xfrm>
          <a:prstGeom prst="rightArrow">
            <a:avLst>
              <a:gd name="adj1" fmla="val 50000"/>
              <a:gd name="adj2" fmla="val 511559"/>
            </a:avLst>
          </a:prstGeom>
          <a:solidFill>
            <a:srgbClr val="0000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19740000">
            <a:off x="5256360" y="5616360"/>
            <a:ext cx="1441440" cy="261720"/>
          </a:xfrm>
          <a:prstGeom prst="leftArrow">
            <a:avLst>
              <a:gd name="adj1" fmla="val 50000"/>
              <a:gd name="adj2" fmla="val 275353"/>
            </a:avLst>
          </a:prstGeom>
          <a:solidFill>
            <a:srgbClr val="0000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178160" y="3510000"/>
            <a:ext cx="2114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Flexible mirror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arbon analyzer - simple I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11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Sample flushed of carbon dioxide (inorganic)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  <a:p>
            <a:pPr marL="318960" indent="-318960">
              <a:spcBef>
                <a:spcPts val="11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Organic carbon oxidized by persulfate &amp; UV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  <a:p>
            <a:pPr marL="318960" indent="-318960">
              <a:spcBef>
                <a:spcPts val="11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Carbon dioxide measured in gas cell (water interferences)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989000" y="1627200"/>
            <a:ext cx="5158080" cy="35956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 rot="16140000">
            <a:off x="5293440" y="4817160"/>
            <a:ext cx="334800" cy="1616040"/>
          </a:xfrm>
          <a:prstGeom prst="triangle">
            <a:avLst>
              <a:gd name="adj" fmla="val 49995"/>
            </a:avLst>
          </a:prstGeom>
          <a:solidFill>
            <a:srgbClr val="0000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rot="5280000">
            <a:off x="3637440" y="4845600"/>
            <a:ext cx="334800" cy="1616040"/>
          </a:xfrm>
          <a:prstGeom prst="triangle">
            <a:avLst>
              <a:gd name="adj" fmla="val 49995"/>
            </a:avLst>
          </a:prstGeom>
          <a:solidFill>
            <a:srgbClr val="0000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372320" y="5438880"/>
            <a:ext cx="1352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Chopper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00240" y="3159000"/>
            <a:ext cx="1047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SAM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107320" y="3822840"/>
            <a:ext cx="793080" cy="458280"/>
          </a:xfrm>
          <a:prstGeom prst="rect">
            <a:avLst/>
          </a:prstGeom>
          <a:noFill/>
          <a:ln w="763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RE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3017880" y="5859000"/>
            <a:ext cx="3259080" cy="25560"/>
          </a:xfrm>
          <a:prstGeom prst="line">
            <a:avLst/>
          </a:prstGeom>
          <a:ln w="763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73320" y="6091200"/>
            <a:ext cx="3046320" cy="488880"/>
          </a:xfrm>
          <a:prstGeom prst="rect">
            <a:avLst/>
          </a:prstGeom>
          <a:solidFill>
            <a:srgbClr val="0000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572000" y="6110280"/>
            <a:ext cx="25560" cy="425520"/>
          </a:xfrm>
          <a:prstGeom prst="line">
            <a:avLst/>
          </a:prstGeom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2240" y="6140520"/>
            <a:ext cx="1878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Detector cell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395360" y="576432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Filter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00400" y="6165720"/>
            <a:ext cx="811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CO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781520" y="6215040"/>
            <a:ext cx="811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CO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4095720" y="5985000"/>
            <a:ext cx="977760" cy="25200"/>
          </a:xfrm>
          <a:prstGeom prst="line">
            <a:avLst/>
          </a:prstGeom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433920" y="5864400"/>
            <a:ext cx="2100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Beam trimmer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484320" y="6265800"/>
            <a:ext cx="2457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Press. sens. det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NDIR detector - no monochromato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ir%20instrument" descr=""/>
          <p:cNvPicPr/>
          <p:nvPr/>
        </p:nvPicPr>
        <p:blipFill>
          <a:blip r:embed="rId1"/>
          <a:stretch/>
        </p:blipFill>
        <p:spPr>
          <a:xfrm>
            <a:off x="0" y="1847880"/>
            <a:ext cx="9144000" cy="331164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27000" y="36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Limita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142092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Mechanical coupling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low scanning / detectors slow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Limitations of Dispersive I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4648320" y="2111400"/>
          <a:ext cx="4494240" cy="474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111400"/>
                    <a:ext cx="449424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0" y="1598400"/>
            <a:ext cx="5029200" cy="442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Mechanically complex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08520" indent="-30852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Sensitivity limited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08520" indent="-30852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Requires external calibration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08520" indent="-30852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Tracking errors limit resolution (scanning fast broadens peak, decreases absorbance, shifts peak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Problems with I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 no quantitativ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H  limited resolutio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D  not reproducibl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A  limited dynamic rang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I limited  sensitivit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E  long analysis tim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B  functional group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Limita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Most equipment can measure one wavelength at a tim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otentially time-consuming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 solution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4648320" y="2211480"/>
            <a:ext cx="380988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19320" y="1904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Fourier-Transform Infrared Spectroscopy (FTIR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8399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A Solution!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FTI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Analyze all wavelengths simultaneousl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ignal decoded to generate complete spectrum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an be done quickl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better resolutio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more resolutio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However, . . 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FTIR 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4648320" y="2824200"/>
            <a:ext cx="3809880" cy="24271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 solution, yet an expensive one!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FTIR uses sophisticated machinery more complex than generic GCIR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eneral optical spectromet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204880" y="4359240"/>
            <a:ext cx="3937320" cy="247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Wavelength separation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Photodetectors 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6600" y="1666800"/>
            <a:ext cx="9075960" cy="25686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66680" y="4483080"/>
            <a:ext cx="492912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Light source - hot objects produce “black body radiation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Fourier Transform I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rcRect l="2691" t="14568" r="9962" b="10425"/>
          <a:stretch/>
        </p:blipFill>
        <p:spPr>
          <a:xfrm>
            <a:off x="3124080" y="2679840"/>
            <a:ext cx="6018480" cy="394812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Mechanically simple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Fast, sensitive, accurate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Internal calibration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No tracking errors or stray light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IR Spectroscopy - qualitativ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25480" y="1809720"/>
            <a:ext cx="68184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Double beam required to correct for blank at each wavelength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14400" y="3967200"/>
            <a:ext cx="9128160" cy="219708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593360" y="3357720"/>
            <a:ext cx="5340600" cy="269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267480" indent="-267480">
              <a:spcBef>
                <a:spcPts val="10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Scan time  (sensitivity) Vs resolution 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267480" indent="-267480">
              <a:spcBef>
                <a:spcPts val="10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Michelson interferometer &amp; FTIR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9142560" cy="655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dvantages of FTI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Multiplex--speed, sensitivity (Felgett)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294840" indent="-29484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Throughput--greater energy, S/N (Jacquinot)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294840" indent="-29484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Laser reference--accurate wavelength, reproducible (Connes)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294840" indent="-29484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No stray light--quantitative accuracy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294840" indent="-29484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No tracking errors--wavelength and photometric accuracy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New FTIR Applica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Quality control--speed, accuracy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329040" indent="-329040">
              <a:spcBef>
                <a:spcPts val="10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Micro, trace analysis--nanogram levels, small samples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329040" indent="-329040">
              <a:spcBef>
                <a:spcPts val="10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Kinetic studies--milliseconds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329040" indent="-329040">
              <a:spcBef>
                <a:spcPts val="10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Internal reflection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329040" indent="-329040">
              <a:spcBef>
                <a:spcPts val="10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Telescopic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ttenuated Internal Reflec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urface analysis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Limited by 75% energy loss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New FTIR Applica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Quality control--speed, accuracy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329040" indent="-329040">
              <a:spcBef>
                <a:spcPts val="10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Micro, trace analysis--nanogram levels, small samples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329040" indent="-329040">
              <a:spcBef>
                <a:spcPts val="10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Kinetic studies--milliseconds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329040" indent="-329040">
              <a:spcBef>
                <a:spcPts val="10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Internal reflection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329040" indent="-329040">
              <a:spcBef>
                <a:spcPts val="10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Telescopic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1" name=""/>
          <p:cNvGraphicFramePr/>
          <p:nvPr/>
        </p:nvGraphicFramePr>
        <p:xfrm>
          <a:off x="1152360" y="1981080"/>
          <a:ext cx="2867040" cy="41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52360" y="1981080"/>
                    <a:ext cx="286704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Black body radi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ungsten lamp, Globar, Nernst glower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Intensity and peak emission wavelength are a function of Temperatur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As T increases the total intensity increases and there is shift to higher energies (toward visible and UV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149560" y="3052800"/>
          <a:ext cx="6238800" cy="387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9560" y="3052800"/>
                    <a:ext cx="6238800" cy="38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523880" y="1393920"/>
          <a:ext cx="6077160" cy="405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1393920"/>
                    <a:ext cx="6077160" cy="40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905120" y="2827440"/>
          <a:ext cx="6076800" cy="4029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5120" y="2827440"/>
                    <a:ext cx="6076800" cy="40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V sourc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Arc discharge lamps with electrical discharge maintained in appropriate gase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Low pressure hydrogen and deuterium lamp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Lasers - narrow spectral widths, very high intensity, spatial beam, time resolution, problem with range of wavelength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Discrete spectroscopic- metal vapor &amp; hollow cathode lamp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0" y="0"/>
          <a:ext cx="1523880" cy="274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523880" cy="27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separate wavelength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10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Each compound absorbs different colors (energies) with different probabilities (absorbtivity)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294840" indent="-294840">
              <a:spcBef>
                <a:spcPts val="10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Selectivity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294840" indent="-294840">
              <a:spcBef>
                <a:spcPts val="10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Quantitative adherence to Beer’s Law        A = abc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294840" indent="-294840">
              <a:spcBef>
                <a:spcPts val="10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Improves sensitivity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are UV-Vis bands broad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10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Electronic energy states give band with no vibrational structure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305280" indent="-305280">
              <a:spcBef>
                <a:spcPts val="10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Solvent interactions (microenvironments) averaged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305280" indent="-305280">
              <a:spcBef>
                <a:spcPts val="10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Low temperature gas phase molecules give structure if instrumental resolution is adequate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29:18Z</dcterms:created>
  <dc:creator>ralph allen</dc:creator>
  <dc:description/>
  <dc:language>en-US</dc:language>
  <cp:lastModifiedBy>Vaughn C. Kowahl</cp:lastModifiedBy>
  <dcterms:modified xsi:type="dcterms:W3CDTF">1999-01-12T17:59:01Z</dcterms:modified>
  <cp:revision>30</cp:revision>
  <dc:subject/>
  <dc:title>Instrumental Analysi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ContentType">
    <vt:lpwstr>Document</vt:lpwstr>
  </property>
  <property fmtid="{D5CDD505-2E9C-101B-9397-08002B2CF9AE}" pid="6" name="DownloadIEButton">
    <vt:bool>0</vt:bool>
  </property>
  <property fmtid="{D5CDD505-2E9C-101B-9397-08002B2CF9AE}" pid="7" name="DownloadOriginal">
    <vt:bool>1</vt:bool>
  </property>
  <property fmtid="{D5CDD505-2E9C-101B-9397-08002B2CF9AE}" pid="8" name="GraphicType">
    <vt:r8>1</vt:r8>
  </property>
  <property fmtid="{D5CDD505-2E9C-101B-9397-08002B2CF9AE}" pid="9" name="HomePage">
    <vt:lpwstr>http://www.people.virginia.edu/~roa2s/chem_551/</vt:lpwstr>
  </property>
  <property fmtid="{D5CDD505-2E9C-101B-9397-08002B2CF9AE}" pid="10" name="LinkColor">
    <vt:r8>16711782</vt:r8>
  </property>
  <property fmtid="{D5CDD505-2E9C-101B-9397-08002B2CF9AE}" pid="11" name="MailAddress">
    <vt:lpwstr>ralph@virginia.edu</vt:lpwstr>
  </property>
  <property fmtid="{D5CDD505-2E9C-101B-9397-08002B2CF9AE}" pid="12" name="NavBtnPos">
    <vt:r8>3</vt:r8>
  </property>
  <property fmtid="{D5CDD505-2E9C-101B-9397-08002B2CF9AE}" pid="13" name="Other">
    <vt:lpwstr/>
  </property>
  <property fmtid="{D5CDD505-2E9C-101B-9397-08002B2CF9AE}" pid="14" name="OutputDir">
    <vt:lpwstr>C:\www\ralphs_chem_courses\current_files\chem_551</vt:lpwstr>
  </property>
  <property fmtid="{D5CDD505-2E9C-101B-9397-08002B2CF9AE}" pid="15" name="ScreenSize">
    <vt:r8>1</vt:r8>
  </property>
  <property fmtid="{D5CDD505-2E9C-101B-9397-08002B2CF9AE}" pid="16" name="ScreenUsage">
    <vt:r8>2</vt:r8>
  </property>
  <property fmtid="{D5CDD505-2E9C-101B-9397-08002B2CF9AE}" pid="17" name="ShowNotes">
    <vt:bool>0</vt:bool>
  </property>
  <property fmtid="{D5CDD505-2E9C-101B-9397-08002B2CF9AE}" pid="18" name="TemplateType">
    <vt:r8>1</vt:r8>
  </property>
  <property fmtid="{D5CDD505-2E9C-101B-9397-08002B2CF9AE}" pid="19" name="TextColor">
    <vt:r8>0</vt:r8>
  </property>
  <property fmtid="{D5CDD505-2E9C-101B-9397-08002B2CF9AE}" pid="20" name="TransparentButton">
    <vt:r8>0</vt:r8>
  </property>
  <property fmtid="{D5CDD505-2E9C-101B-9397-08002B2CF9AE}" pid="21" name="UseBrowserColor">
    <vt:bool>1</vt:bool>
  </property>
  <property fmtid="{D5CDD505-2E9C-101B-9397-08002B2CF9AE}" pid="22" name="VisitedColor">
    <vt:r8>10040268</vt:r8>
  </property>
</Properties>
</file>