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2.gif" ContentType="image/gi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B92-3F30-43F2-B40F-94CAE421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BA9-3887-4B49-9884-CA280188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D1C-FF34-4B3E-91FE-AE52A27F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575-DC48-42E5-BC16-87A40CA7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388D-3304-4E42-ABE9-93E99BBA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A866-BF68-4847-91EA-2532870E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35CA-371C-4136-92AD-57323B5D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EA4F-43CB-48D0-819B-6FBD4B08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2C8B-107D-4FD7-B44D-A975280B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9FB9-52AA-4A53-AB16-9220E3ED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E6C5-803D-4CD7-B497-B5497C4B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2626-77BF-4421-83C4-08C22544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843A-C21A-4EA4-B843-27EB4BC6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9A3D-2309-4496-BE59-03EE99A4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A149-43D2-401A-B175-389EF9BD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ACCE-BA39-485E-85FA-8F96DF3C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2D49-66B9-42CD-96B2-09D3FAC5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FFF-5E77-4642-AA41-993D11A2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67C-46D9-430E-B09B-5BFFAC16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D522-B1A8-47AF-B830-CA75EC53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62FF-C651-4DBD-AECC-2A3BC45A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28C-CCBD-4FAC-BD8D-01B9120E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167-D216-4DD8-8C97-347E0167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373-5A2F-4EAC-AAF0-D1DDD4F1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S Outl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S Outl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42D9-3124-43FE-9F62-F969553F5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MS Outl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4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S Outl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S Outlook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C87C-0C52-4A74-907B-E4843CB73A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MS Outl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Vascular Anomalies -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98d43"/>
                </a:solidFill>
                <a:latin typeface="Times New Roman"/>
              </a:rPr>
              <a:t>A Review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268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nvestigations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omputed tomograph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C. T .Scan)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and Magnetic resonance imaging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 M. R. I)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imaging techniques are used as diagnostic aids to document the extent of the deep hemangio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Lymphangioma-7 Months-Nov1994-1"/>
          <p:cNvPicPr/>
          <p:nvPr/>
        </p:nvPicPr>
        <p:blipFill>
          <a:blip r:embed="rId2"/>
          <a:stretch/>
        </p:blipFill>
        <p:spPr>
          <a:xfrm>
            <a:off x="2627280" y="3141720"/>
            <a:ext cx="37450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8604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nvestigations :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Times New Roman"/>
              </a:rPr>
              <a:t>Arteriography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rarely indicated for the diagnosis of a hemangio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1912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Observation and parental supp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the initial approaches in the management of maxillofacial hemangio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f functional compromise such as visual change, airway or masticatory compromise, bleeding, ulceration, or infection occurs intervention is necessa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This may initially involve cortico-steroids for rapidly proliferating lesions or therapy with interferon alfa-2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urgery is generally reserved for small lesions and as a secondary procedure after initial therapy and involution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atment modalities include routine excision, injection of sclerosing agents, cryotherapy, and ablation using an argon las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Vascular Malforma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ascular malformations are present at birth and unlike hemangiomas,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do not go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through a a 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“rapid proliferative phase”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and they do not 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“involute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grow commensurately with the pati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38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Vascular Malformations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- Typ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ascular malformations may be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capillary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venous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arterial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, or combinations of the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oximately 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31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these malformations are found in the head and neck reg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968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Vascular Malforma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ascular Malformations are divided into two categories: 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Low-flow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and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High-flow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le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Capillary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venous,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ymphatic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malformations exhibit 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“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low flow lesions”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terial and arterio-venous malformations exhibit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high flow”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are capable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evere hemorrha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 significant morbid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Develop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Malformation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Vascular malformations are thought to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“result when there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is interruption at a particular stage of development of a vessel”.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he type of vascular malformation that results depends on the stage at which normal morphogenesis is interrup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890280"/>
            <a:ext cx="84978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Development :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Malformation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, vascular malformations are sub-classified by tissue type into 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capillary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veno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arterial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lymphatic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combinations thereof, with the type of malformation that develops depending on the type of tissue affected during abnormal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13456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Develop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Malformation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Trauma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infection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and </a:t>
            </a:r>
            <a:r>
              <a:rPr b="0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hormonal fluctuation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pregnancy or puberty)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may stimulate increased growth of the vascular malform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echanism of growth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is 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creased endothelial proliferation - which is within a normal range in these lesions, as is the number of mast cells – “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but alteration in the flow dynamics within and around the lesion”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604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Introduction :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98d43"/>
                </a:solidFill>
                <a:latin typeface="Times New Roman"/>
              </a:rPr>
              <a:t>Vascular anomal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scular lesions in the head and neck region can result in significant cosmetic problems for the patient, and some may lead to even serious life threatening hemorrh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755640"/>
            <a:ext cx="8134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Develop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Malformation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his results in recruitment of “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ollateral vessel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” and dilatation of involved vesse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like the hemangioma, the vascular malformation exhibits a steady increase in growth,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igns of involu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3640" y="890280"/>
            <a:ext cx="85690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nical presentation :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Malformation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 many cases, the diagnosis of a vascular malformation can be made from the patient’s history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present at birth, these lesions are often not identified immediately, but only later on when the lesion enlarges enough to be clinically identifiable. This is particularly true for 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intra-bony les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213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Venous Malformations -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Low-flow lesions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4608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Venous malformations are bluish, soft and easily compressible, and auscultation reveals no bru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se malformations can vary from superficial, localized, mucosal spongy ectasis to complex invasive lesions that permeate tissue planes and alter the regional anatom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bigtounge"/>
          <p:cNvPicPr/>
          <p:nvPr/>
        </p:nvPicPr>
        <p:blipFill>
          <a:blip r:embed="rId3"/>
          <a:srcRect l="0" t="8504" r="7498" b="0"/>
          <a:stretch/>
        </p:blipFill>
        <p:spPr>
          <a:xfrm>
            <a:off x="5219640" y="1989000"/>
            <a:ext cx="360036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Venous Malforma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ny maneuver that increases venous pressure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(e.g.Valsalva maneuver or supine positioning)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can temporarily enlarge a venous mal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The clinical absence of “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pulsations or a thrill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” generally indicates a low flow Venous  vascular mal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hlebolith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t may be noted on radiographic examination are found only in low flow les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17612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Venous Malformations -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Phlebolith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2" name="Picture 4" descr="acces parotid"/>
          <p:cNvPicPr/>
          <p:nvPr/>
        </p:nvPicPr>
        <p:blipFill>
          <a:blip r:embed="rId1"/>
          <a:stretch/>
        </p:blipFill>
        <p:spPr>
          <a:xfrm>
            <a:off x="414360" y="3068640"/>
            <a:ext cx="2717640" cy="2808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6Surg"/>
          <p:cNvPicPr/>
          <p:nvPr/>
        </p:nvPicPr>
        <p:blipFill>
          <a:blip r:embed="rId2"/>
          <a:stretch/>
        </p:blipFill>
        <p:spPr>
          <a:xfrm>
            <a:off x="3635280" y="3068640"/>
            <a:ext cx="2646360" cy="2736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7Surg"/>
          <p:cNvPicPr/>
          <p:nvPr/>
        </p:nvPicPr>
        <p:blipFill>
          <a:blip r:embed="rId3"/>
          <a:stretch/>
        </p:blipFill>
        <p:spPr>
          <a:xfrm>
            <a:off x="6572160" y="3068640"/>
            <a:ext cx="22478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890280"/>
            <a:ext cx="81342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apillary Malformations -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Low-flow les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illary malformations may be smooth initially but become more 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“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pebble – like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patient gr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tra-orally, these lesions are often comprised of lymphatic tissues and therefore take on an irregular, pebbly surface; sometimes called as 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“salmon egg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7440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apillary Malformations -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Low-flow les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511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rt-wine stains, telangiectasias and capillary malformations may appear pink in infancy and darken to a deep purple in childh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strawberrynevus"/>
          <p:cNvPicPr/>
          <p:nvPr/>
        </p:nvPicPr>
        <p:blipFill>
          <a:blip r:embed="rId2"/>
          <a:srcRect l="24457" t="0" r="28293" b="16530"/>
          <a:stretch/>
        </p:blipFill>
        <p:spPr>
          <a:xfrm>
            <a:off x="5651640" y="1916280"/>
            <a:ext cx="3024000" cy="37447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324000" y="1989000"/>
            <a:ext cx="5111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e157"/>
                </a:solidFill>
                <a:uFillTx/>
                <a:latin typeface="Arial Black"/>
              </a:rPr>
              <a:t>Port-wine stains</a:t>
            </a:r>
            <a:r>
              <a:rPr b="0" lang="en-US" sz="2800" spc="-1" strike="noStrike">
                <a:solidFill>
                  <a:srgbClr val="9ce157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telangiectasias</a:t>
            </a:r>
            <a:r>
              <a:rPr b="0" lang="en-US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d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 Black"/>
              </a:rPr>
              <a:t>capillary malformation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may appear pink in infancy and darken to a deep purple in childhood.</a:t>
            </a:r>
            <a:endParaRPr b="1" i="1" lang="en-US" sz="2800" spc="-1" strike="noStrike">
              <a:solidFill>
                <a:srgbClr val="ffffff"/>
              </a:solidFill>
              <a:latin typeface="MS Outl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MS Outl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apillary Malformations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Familial Telengectiasi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2" name="Picture 4" descr="telengectasia"/>
          <p:cNvPicPr/>
          <p:nvPr/>
        </p:nvPicPr>
        <p:blipFill>
          <a:blip r:embed="rId1"/>
          <a:stretch/>
        </p:blipFill>
        <p:spPr>
          <a:xfrm>
            <a:off x="684360" y="2205000"/>
            <a:ext cx="3456000" cy="3351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telengectasia2"/>
          <p:cNvPicPr/>
          <p:nvPr/>
        </p:nvPicPr>
        <p:blipFill>
          <a:blip r:embed="rId2"/>
          <a:stretch/>
        </p:blipFill>
        <p:spPr>
          <a:xfrm>
            <a:off x="4788000" y="2212920"/>
            <a:ext cx="3456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Lymphatic Malformation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-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Low- flow les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Lymphatic malformations are </a:t>
            </a:r>
            <a:r>
              <a:rPr b="0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normally colorless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however, combined lesions take on the hue of the additional vessel ty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“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ymphatic-venous malformations”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may appear deep purple whil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“capillary-lymphatic malformations”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can be pink to purp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malformations can become invasive by dissecting along tissue planes and can cause bony hypertrophy, distortion or both. As these are lymphatic tissues,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infec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y result in rapid enlargement of these le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lymphangioma"/>
          <p:cNvPicPr/>
          <p:nvPr/>
        </p:nvPicPr>
        <p:blipFill>
          <a:blip r:embed="rId1"/>
          <a:stretch/>
        </p:blipFill>
        <p:spPr>
          <a:xfrm>
            <a:off x="1908000" y="2205000"/>
            <a:ext cx="5616720" cy="3381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Lymphatic Malformations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“Low- flow lesions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Vascular anomali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past, there has been confusion regarding the proper nomenclature for vascular le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 1982, Mulliken and Glowacki “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biologically classified”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the vascular anomalies of the maxillofacial region based on their clinical behavior and endothelial cell characteristics into two groups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hemangiomas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98d43"/>
                </a:solidFill>
                <a:uFillTx/>
                <a:latin typeface="Times New Roman"/>
              </a:rPr>
              <a:t>vascular malform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rterial / Arteriovenous Malformations -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“High-flow lesions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rterial or AV Malformations are high flow lesions, which consist of a large high-flow vessel leading into a multitude of smaller lower-flow le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It is the lower-flow vessels which induce the development of the feeder vess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 the resulting collateral circulation makes these malformations very difficult to man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9980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rterial / Arteriovenous Malforma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353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inically these lesions appear stained, warm and tender to palpation. There may be swelling or asymmetry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A bruit may be det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7" descr="3yo"/>
          <p:cNvPicPr/>
          <p:nvPr/>
        </p:nvPicPr>
        <p:blipFill>
          <a:blip r:embed="rId3"/>
          <a:stretch/>
        </p:blipFill>
        <p:spPr>
          <a:xfrm>
            <a:off x="3276720" y="3068640"/>
            <a:ext cx="29509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9024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rterial / Arteriovenous Malforma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ten  a patient presents with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evere bleed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first sign that a high flow-lesion is present. They may also complain of recurrent gingival bleeding and loose or depressible tee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Emberyonic Rhabdomyosarcoma-2 year baby-bleeding"/>
          <p:cNvPicPr/>
          <p:nvPr/>
        </p:nvPicPr>
        <p:blipFill>
          <a:blip r:embed="rId2"/>
          <a:stretch/>
        </p:blipFill>
        <p:spPr>
          <a:xfrm>
            <a:off x="2556000" y="3357720"/>
            <a:ext cx="3887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nvestigations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Malformation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y vascular malformations demonstrate few radiographic signs until well into adolescence and a significant percentage will never show any bony change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lesion involves bone, then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soap bubble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a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honeycomb appearance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usual radiographic fin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44100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nvestigations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Malformation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Magnetic resonance image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(MRI)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may differentiate low-flow from high flow lesions. The presence of fatty deposits, venous lakes, phleboliths in the MRI are all indicative of low- flow les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T scans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document a lesion’s extension into the surrounding soft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oppler imag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an also distinguish high flow lesion from low flow  lesions.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4582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nvestigations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Malformation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Arteriography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cannot only delineate the size of the lesion, but can also assess the rate of flow through the lesion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oreover,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super-selective embolization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f the selective feeding vessels to the high flow vascular lesion can be achieved simultaneously while performing the arteriography proced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cedure is usually done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before surge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in order to prevent the risk of serious hemorrhage during surgery.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96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Capillary Malform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 the head and neck area, the “</a:t>
            </a:r>
            <a:r>
              <a:rPr b="0" lang="en-US" sz="2800" spc="-1" strike="noStrike">
                <a:solidFill>
                  <a:srgbClr val="9ce157"/>
                </a:solidFill>
                <a:latin typeface="Times New Roman"/>
              </a:rPr>
              <a:t>argon laser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” has proven to be very effective in altering unsightly superficial blemishes that are caused by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capillary malformation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port-wine stain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and other </a:t>
            </a:r>
            <a:r>
              <a:rPr b="0" lang="en-US" sz="2800" spc="-1" strike="noStrike" u="sng">
                <a:solidFill>
                  <a:srgbClr val="f98d43"/>
                </a:solidFill>
                <a:uFillTx/>
                <a:latin typeface="Times New Roman"/>
              </a:rPr>
              <a:t>telangiectasias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2244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Capillary Malform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important to remember that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rt-wine stains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may occur in association with lymphatic, venous or arterial malform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Therefore, it is important that management of these cases be based upon the characteristics of any deeper mal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547560"/>
            <a:ext cx="86756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Lymphatic Malformation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ymphatic malformations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can prove to be more difficult to treat because of the poor demarcation and the infiltrative nature of the lymphatic vess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herefore for the lymphatic malformations several non-surgical modalities lik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steroid therapy,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radiation therapy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  and 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sclerotheraphy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are avail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Bleomycin sclero-therapy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O.K 432 sclerotheraph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found to have promising results in the treatment of lymphatic malformations prior to and possibly precluding surgical interven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7892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enous Malform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ome of the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 Low-flow Venous malformation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lesions may cause  bleeding during surgery, and therefore it is important to determine the lesions size and flow dynamics with the help of 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arteriography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before surg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reatment of a true low flow venous malformation is based on the size and location of the les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8604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Hemangiomas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angiomas, are the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most comm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umors of the head and neck in infancy and childhood, comprising approximately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7%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ll benign soft tissue tumor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502920"/>
            <a:ext cx="8278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enous Malform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e157"/>
                </a:solidFill>
                <a:latin typeface="Times New Roman"/>
              </a:rPr>
              <a:t>Sclerosant theraphy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lone has been shown successful for smaller malformations. Direct injections of sodium morrhuate, boiling water, alcohol, and Ethibloc have proven to be effective in fibrosing these smaller lesion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r, invasive malformations have been treated with a combination of sclerosant and surgical therap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490320"/>
            <a:ext cx="84582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enous Malform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ane et al. have recently demonstrated significant patient satisfaction with sclero-therapy with tetradecyl sulfate (Sotrdecol) combined with conservative abl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important to know that in most cases sclerosant therapy is purely an adjunct to proper surgical ab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474480"/>
            <a:ext cx="8820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Arterial or A-V Malform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High flow lesion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can have turbulent blood flow, introducing the risk of 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consumption coagulopathie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. Therefore proper pre-operative hematological studies have to be carried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Pre-ablation selective arterial embol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improved the  surgical success rates for arterial and A-V Malformations, especially the intra-osseous 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296640"/>
            <a:ext cx="849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Arterial or AV Malform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The goal of embolization is to </a:t>
            </a:r>
            <a:r>
              <a:rPr b="0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decrease flow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in the malformation while avoiding disruption of flow through proximal fee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ny surgical intervention should follow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in 24 to 48 hour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f embolization, a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ver later than 10 day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. It is believed that collateral flow  to the malformation develops soon after embolization and that delaying surgery increases the possibility of intra-operative bleeding and postoperative recurr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oal of surgery should be total excision of the mal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032" descr="graph"/>
          <p:cNvPicPr/>
          <p:nvPr/>
        </p:nvPicPr>
        <p:blipFill>
          <a:blip r:embed="rId1"/>
          <a:stretch/>
        </p:blipFill>
        <p:spPr>
          <a:xfrm>
            <a:off x="826920" y="1197000"/>
            <a:ext cx="7601040" cy="5472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033"/>
          <p:cNvSpPr/>
          <p:nvPr/>
        </p:nvSpPr>
        <p:spPr>
          <a:xfrm>
            <a:off x="611280" y="2620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Flow Chart –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lesions</a:t>
            </a:r>
            <a:endParaRPr b="1" i="1" lang="en-US" sz="2800" spc="-1" strike="noStrike">
              <a:solidFill>
                <a:srgbClr val="ffffff"/>
              </a:solidFill>
              <a:latin typeface="MS Outl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55640" y="981000"/>
            <a:ext cx="763272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ANK 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2524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Develop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</a:t>
            </a:r>
            <a:r>
              <a:rPr b="0" lang="en-US" sz="3200" spc="-1" strike="noStrike">
                <a:solidFill>
                  <a:srgbClr val="f98d4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The hemangioma is a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true vascular tumor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that results from a overgrowth of normal vascular tissue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t exhibits relatively rapid early growth until approximately 6 to 8 months of age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(proliferative phase)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followed by regression by 5 to 9 years of age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(involutory phas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grows by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“endothelial proliferation”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uring the rapid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wth phase, an increased number of 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mast cel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seen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in the endothelial w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5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Develop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The majority of the hemangiomas in infants are noted by the parent within the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first month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of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emangiomas are initially noticed as an erythematous, macular patch, which progresses through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a rapid proliferative phase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whereby it changes its color and grows faster than the commensurate growth of the child.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the time the patient is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12 month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age most hemangiomas have shown signs of involution. The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process of involu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normally slow and will not be completed until the age of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5 to 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21240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nical presentation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29272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mangiomas are found in the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superficial tissu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the deep tiss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or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bo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may affect organ systems such as the liver, lung, spleen, and gastrointestinal tra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ost superficial hemangiomas can be diagnosed by clinical examination and a detailed and accurate his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nical presentation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Deep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hemangioma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involve muscle or visceral organs and, are more difficult to diagnose. Therefore, further diagnostic studies are requi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Intra-osseous hemangiomas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are extremely rare. However the soft tissue lesion may deform the underlying skelet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edilection for females is approximately a 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3 :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at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40140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nical presentation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489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e157"/>
                </a:solidFill>
                <a:latin typeface="Times New Roman"/>
              </a:rPr>
              <a:t>On examination, th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</a:rPr>
              <a:t>superficial hemangioma</a:t>
            </a:r>
            <a:r>
              <a:rPr b="0" lang="en-US" sz="2000" spc="-1" strike="noStrike">
                <a:solidFill>
                  <a:srgbClr val="9ce157"/>
                </a:solidFill>
                <a:latin typeface="Times New Roman"/>
              </a:rPr>
              <a:t> usually consists of a raised, reddish to purple tumor with a distinct marg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In contrast,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</a:rPr>
              <a:t>deep subcutaneous hemangiomas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often have a deep bluish hue with normal overlying skin, making diagnosis more difficul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th the lesions are firm to palpation and do not pulsate or exhibit any thrills or bru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Hemangioma"/>
          <p:cNvPicPr/>
          <p:nvPr/>
        </p:nvPicPr>
        <p:blipFill>
          <a:blip r:embed="rId4"/>
          <a:stretch/>
        </p:blipFill>
        <p:spPr>
          <a:xfrm>
            <a:off x="5435640" y="1617840"/>
            <a:ext cx="3384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06:47:27Z</dcterms:created>
  <dc:creator>DR.Narayanan</dc:creator>
  <dc:description/>
  <dc:language>en-US</dc:language>
  <cp:lastModifiedBy>Hesham Almoallim</cp:lastModifiedBy>
  <dcterms:modified xsi:type="dcterms:W3CDTF">2015-10-02T14:05:25Z</dcterms:modified>
  <cp:revision>117</cp:revision>
  <dc:subject/>
  <dc:title>An Interesting Case of Vascular Malformation </dc:title>
</cp:coreProperties>
</file>