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CAMERA.WAV" ContentType="audio/x-wav"/>
  <Override PartName="/ppt/media/WHOOSH.WAV" ContentType="audio/x-wav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D979-20FA-43C8-9C6C-3026993D5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C867-2B64-4099-B3B0-48692B7D9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B83D86-60D1-49BB-A55F-EC44B7143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65A91B-76C0-4216-919E-A861861D3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CCE4A2-19EA-42C7-B7A9-8FC25DB5E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D54EE6-F0A5-4DA3-9059-B7E2EB3B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428C1B-D701-46C0-93C5-AADC521A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81CD63-5114-4947-B1E9-E49F4756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93EF6B-6AA4-4F58-B2FD-F4F1FC625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14AEB3-26A6-411E-8996-8E72E13D8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C44F1E-02F8-44FB-B1F9-6A4BB6137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8AC317-A010-4F77-87A0-8E4D46471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294A-952D-4A6E-9C20-5AA8BDF03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CCA004-88D7-4CCB-8F06-0A037FAD6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9DEA11-8371-4263-A9DF-36F007042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3CBDB0-41DA-4F28-AF52-2F5021E4E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03FEE2-9D2F-4FA9-AEEE-B85629F54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32020C-05D1-4515-8110-31C7306A5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CC990F-5A2A-48B1-AC69-AFC56DF4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3C402C-A4BA-4040-87E8-F593DD3E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8C6F8D-DAA3-4766-9A98-F609FAA1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F1D202-A9BE-4B31-978B-C94B54FE1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A99D68-3FCD-4BAC-A8D5-A2C334B32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B880-CE6B-4BB9-919F-29A016D0B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F5AD1C-439B-41D6-B7A6-CE01AAA90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7AD3B9-E5DD-429A-B0F4-3CB56BA9C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A08256-8816-4252-AA51-F2EF63A36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87ABB9-070E-4EA8-A9DC-15952605F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1E254B-6543-4D43-960F-15A36FCE5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D191FF-6BA5-4E9D-9080-6B93C59D9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5FD0B1-0A57-4181-9857-FB7E27049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9BF051-D658-4890-A165-AD65418C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2EEF54-BE89-477D-B902-FCD0BCCD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6C00A9-A991-4C80-8D1A-3FF875AD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98F6F-4722-4EAF-890E-311F0311C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0DB131-3D47-4A7A-8355-E2E01702A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36AAC3-A61F-4FF9-917C-53D938187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925432-9741-4AFC-9FF4-58F0B6E2F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CDB71A-321D-41DE-930D-4B897F28C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68039B-11B3-4B0E-BBBB-E82591082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2F2BC5-1E53-454D-BED3-D7A00A598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C36C02-133E-49B5-A9FA-59DD70A46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536CF6-F553-49E3-9E1D-8B3A92A5C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B1327B-42A8-4379-8B15-526286DB0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57DFFE-2618-4E0E-87C1-2E45EF56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3AA87-2767-427E-B3AD-9ACBEE093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1D38A0-47E5-4B6D-A11C-52AFDA3E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988293-876A-4099-A2FD-3E7DE6158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6274AF-2D4E-49FC-8F17-A138EA9C9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2D976E-B940-461E-B02A-DA4887AD5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16DC84-81CB-4028-86F4-8DCD534E0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A94EEF-ED03-4CE7-921D-335AC3C12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4BAB31-1036-4AAF-872D-3A15A9A3A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80A274-8869-45AC-A459-DF9B8EE71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400F65-DD39-41B3-8373-BC621CEC2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421702-0D93-4065-8327-4438D3102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71789-9747-458A-8EC7-90B701FA0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1A36C6-29B4-4A27-918D-2DBD38896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E77E77-3062-471F-A7F4-728C0E26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A14182-0258-4F5F-B527-FB69E518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FC0A4B-45EB-47F5-A48B-71C620B7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271179-1AF1-43DE-8D39-963682B5C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5D7AF8-F247-4A07-9DA1-6A28A6844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DD446B-E073-4150-B7EA-E3EC2CE94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437F25-BBA2-4330-B804-847560742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10FCBE-D29A-476D-89F5-4ABCDD80D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48FD18-A9A9-4111-A34C-FF54FD0B4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07B05-FD72-44E2-BAE3-20FF318DF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70480F-33A0-4E16-9AE1-DA727529C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0E7F2D-5878-415D-AB66-BD05CBFDC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DB57AA-F1D8-46DD-8A4C-5C7E638D5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2CA982-6CD7-4940-9648-2C2779AA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36423E-1FD1-4938-9D55-6ACAE32A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61B6A1-A51B-44A5-A6D3-EBC76E2B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84A18A-834B-40E7-859B-025DBEF02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C38FEF-7D7F-48E9-8BFC-96998895A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DA62FF-1A3F-4040-A9E8-07F1CF787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822B8-AB4B-428B-89AD-B292F7EA0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378CD-0E7F-4CDC-BB6A-906E879F6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E9036-2A17-4B4A-9F7F-9BD26983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CE64-8604-46CD-9CF6-31D2775A1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B90B3-8AE2-4DE9-B354-5DBCDC9D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4F9F7-D2B4-4512-87C0-43C1B570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DF13E-5281-4753-ABEC-F68F1F3F1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ABA79-6D34-443F-8EBA-184F1C015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2B188-6081-4256-88A4-392576247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831C5-93EE-42DB-8E41-CDC693B44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F8A18-0B00-40CE-92F5-035341131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F21C5-387E-4036-8E42-7D67A5A62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C2307-F7AE-492A-AC77-9CFF23EBF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7BB22-DCBA-4ADD-81AB-E32E778C2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C693-E108-4453-9CBF-20B50821B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81E99-35B5-49F4-BD90-EBE06C240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F846A-823B-467F-A293-2BB88964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C95C7-7258-4B5B-BB85-597EC3C5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4A2B3-6916-46CD-8249-604361BE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A5EA5-F547-49A5-9A79-BDCDEDBD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6AD05-1058-4980-98E3-AFD10B6AE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BAE7E-5278-4434-97CF-8156E1D4E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3FFC6-D36C-4D76-BD2A-D845F0FC6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5CCB2-CE6C-4B68-AF88-A22B17A4E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AE26F-4A10-4A58-9581-409DEE9E4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C6D7-9AF2-42A6-9EAA-E14B1BFD2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F60B2-C33C-4F42-8DA2-E80AEF558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3F93C-3062-485E-8650-FF10E721E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75007-F2DD-4532-B53D-B41043AC0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A4C96-5E4A-4E50-87A7-55FCF32E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EE149-4E32-4993-95F2-5121215E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4BF30-459C-4967-B290-5A72A758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9C824-3393-4D42-93F5-7A960B3F2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44D84-5CF0-4A6F-8392-4F5324560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704F1-58B8-4AA2-81AE-22C34BB1D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DB074-0395-4870-BAE0-D31130BA5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966F-C11B-4155-8D56-AFF711E8D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78F93-EC28-4EC4-94FC-2DC035366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B4D45-9C84-4DCA-990A-56B5B8931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FA9DA-53CA-4C0A-BAB2-EC3974CAF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25E06-7B82-4CDA-A730-55E89174D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D856E-D2DF-42DC-83BB-3930DF4C6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F10E7-2D7E-40EA-BAFC-48150EF7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2D984-60F0-4BC4-8878-26278EC0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66238-E45E-42AB-949A-E97B4EFD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6C7EA-3529-4FBC-A94D-18BEB891D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F56B6-5C06-4561-ABEF-69E955C00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75C1-1830-45D1-9498-278495350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3CCDF5-EFA9-4333-B51D-E73AD32CA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EC5C7-9CA9-46EB-887A-206276BB1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4199FC-D805-4027-B067-696895E02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65EC8-C7FD-4188-B502-DDA204109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D67C1B-F541-41EB-9452-5DFCB58CA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182C3-6ABD-4905-A586-98ED7AF98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BE7D9-70FB-4B3C-8105-909C0C972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37420-F88C-4A88-B182-0E2A92D0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036D4D-1E6D-4986-BED4-3BAC9732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19797-50E4-426F-A5C8-6A8EEC5C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2C9F-F816-4543-916B-40A7DE9E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1E1CAC-91BF-4FBA-9B7C-460D7F022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76B71-22D1-43F1-9E67-79B35130C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C1221B-5A8B-469B-8DE7-499F18884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0D0469-FDE0-444B-B21D-773DF7EA2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7F9B24-3A36-4BFC-9B5D-7D83F10E5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BF7A44-24B1-41EC-BFF2-44B492FBF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6E4DD-B80B-4D0E-9BE1-030C48CE3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9A6634-2B08-45C5-8A32-AAF2D1810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FACDA-E23D-4160-9E45-C55E3E985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3DF5D4-9141-4A6F-BC19-8B6165556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69E4-DDAC-439C-990F-BEE508F0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68F481-2D62-4DAD-903E-4437A082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E79689-98CF-41F9-AED0-CB3B5D57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76795-215D-46CD-BACF-DF92E9CB1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F1B76D-0003-460E-B2C4-3BE93253E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A423C-45C6-44B6-A50A-0AE236F4C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90AC36-C5DA-4EF6-B871-209E926E4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2E6F84-AEB3-49A0-8550-E954E5FC2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81B5A1-BE7B-43A6-8052-B9331349B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9569F4-121E-452A-8908-B0EDA8E86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DA6415-B560-4BAF-8941-73616109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6275-17B0-4BBC-A8FA-FA17007D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005D7D-92B1-4938-BFE3-817DD24A7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762912-76C6-4CA1-A39C-12AD53A7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2EF36D-053D-48D5-BC0D-D34453A2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BF9887-2625-4981-9C53-108ACA08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198CAD-3CEA-41E3-A769-1589E8D3F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29DD40-B437-4FF1-9103-FA2CF4454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FD2E7B-8CAE-4B72-9F4F-9EE15B126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7E01FE-7689-49CE-9A1C-A282B0E65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377AEC-4608-4CEB-B13F-7CF63C532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D2FF59-F059-4594-A101-B96F80C1F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B7524-857F-4258-99DA-CE46508DE78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9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30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5C655-408E-4DF4-BCA1-11C9BA8A6C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B8FC7-D260-4C35-8AE4-9367E4F53D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34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35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36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0889A-62E3-4BF4-9940-A580354FA1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dt" idx="37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ftr" idx="38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sldNum" idx="39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AA07B-467D-4774-A1AA-2E3879478A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dt" idx="40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ftr" idx="41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sldNum" idx="42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E6C09-4C11-4DEC-8CA9-9BDBC98EA6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D59CE-773C-4132-BC43-863755B00F78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F4042-A4B0-40F1-8929-BF8ECDE3DA7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07C47-64BF-4206-BC80-148617A4F0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98EAC-306E-4AC5-92B5-4FA2431618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A9782-BC9A-4D77-968C-0780FECF1F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20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21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CB322-3594-4A02-9EFA-1338DFE0E4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DDB1E-20F4-4B61-ADF7-4C3A9D8996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D71A8-F2A4-4CD8-8609-0F05BB050A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Vectors and Scalars </a:t>
            </a: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(Tutorial)</a:t>
            </a: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_x0016_</a:t>
            </a:r>
            <a:br>
              <a:rPr sz="5000"/>
            </a:br>
            <a:br>
              <a:rPr sz="5000"/>
            </a:b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. Ah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. Abdulsl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Non-Collinear Vector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Problem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5" name="Picture 4" descr="‏لقطة الشاشة ٢٠١٥-٠٢-١١ في ١‎.١٠‎.١٩ ص.png"/>
          <p:cNvPicPr/>
          <p:nvPr/>
        </p:nvPicPr>
        <p:blipFill>
          <a:blip r:embed="rId1"/>
          <a:stretch/>
        </p:blipFill>
        <p:spPr>
          <a:xfrm>
            <a:off x="380880" y="2438280"/>
            <a:ext cx="8229600" cy="1384560"/>
          </a:xfrm>
          <a:prstGeom prst="rect">
            <a:avLst/>
          </a:prstGeom>
          <a:ln w="0">
            <a:noFill/>
          </a:ln>
        </p:spPr>
      </p:pic>
      <p:sp>
        <p:nvSpPr>
          <p:cNvPr id="686" name="TextBox 5"/>
          <p:cNvSpPr/>
          <p:nvPr/>
        </p:nvSpPr>
        <p:spPr>
          <a:xfrm>
            <a:off x="3124080" y="464832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 = 14.3 K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ngle : 65° N of 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Vectors and Polar Coordinat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688" name="Picture 1" descr="Untitled.png"/>
          <p:cNvPicPr/>
          <p:nvPr/>
        </p:nvPicPr>
        <p:blipFill>
          <a:blip r:embed="rId1"/>
          <a:stretch/>
        </p:blipFill>
        <p:spPr>
          <a:xfrm>
            <a:off x="2057400" y="1752480"/>
            <a:ext cx="551016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Four Quadrant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grpSp>
        <p:nvGrpSpPr>
          <p:cNvPr id="690" name="Group 178"/>
          <p:cNvGrpSpPr/>
          <p:nvPr/>
        </p:nvGrpSpPr>
        <p:grpSpPr>
          <a:xfrm>
            <a:off x="4859280" y="3581280"/>
            <a:ext cx="4056120" cy="2286000"/>
            <a:chOff x="4859280" y="3581280"/>
            <a:chExt cx="4056120" cy="2286000"/>
          </a:xfrm>
        </p:grpSpPr>
        <p:grpSp>
          <p:nvGrpSpPr>
            <p:cNvPr id="691" name="Group 15"/>
            <p:cNvGrpSpPr/>
            <p:nvPr/>
          </p:nvGrpSpPr>
          <p:grpSpPr>
            <a:xfrm>
              <a:off x="4859280" y="3733920"/>
              <a:ext cx="3341880" cy="2057400"/>
              <a:chOff x="4859280" y="3733920"/>
              <a:chExt cx="3341880" cy="2057400"/>
            </a:xfrm>
          </p:grpSpPr>
          <p:sp>
            <p:nvSpPr>
              <p:cNvPr id="692" name="Line 16"/>
              <p:cNvSpPr/>
              <p:nvPr/>
            </p:nvSpPr>
            <p:spPr>
              <a:xfrm>
                <a:off x="5521320" y="3733920"/>
                <a:ext cx="0" cy="20574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Line 17"/>
              <p:cNvSpPr/>
              <p:nvPr/>
            </p:nvSpPr>
            <p:spPr>
              <a:xfrm>
                <a:off x="4859280" y="4243320"/>
                <a:ext cx="334188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Line 18"/>
              <p:cNvSpPr/>
              <p:nvPr/>
            </p:nvSpPr>
            <p:spPr>
              <a:xfrm>
                <a:off x="5624640" y="4243320"/>
                <a:ext cx="236844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Line 19"/>
              <p:cNvSpPr/>
              <p:nvPr/>
            </p:nvSpPr>
            <p:spPr>
              <a:xfrm>
                <a:off x="7883640" y="4343400"/>
                <a:ext cx="0" cy="138924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Line 20"/>
              <p:cNvSpPr/>
              <p:nvPr/>
            </p:nvSpPr>
            <p:spPr>
              <a:xfrm>
                <a:off x="6111720" y="4110120"/>
                <a:ext cx="0" cy="19980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Line 21"/>
              <p:cNvSpPr/>
              <p:nvPr/>
            </p:nvSpPr>
            <p:spPr>
              <a:xfrm>
                <a:off x="6738840" y="4110120"/>
                <a:ext cx="0" cy="19980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Line 22"/>
              <p:cNvSpPr/>
              <p:nvPr/>
            </p:nvSpPr>
            <p:spPr>
              <a:xfrm>
                <a:off x="7365960" y="4110120"/>
                <a:ext cx="0" cy="19980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Line 23"/>
              <p:cNvSpPr/>
              <p:nvPr/>
            </p:nvSpPr>
            <p:spPr>
              <a:xfrm>
                <a:off x="7731000" y="4724280"/>
                <a:ext cx="277920" cy="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Line 24"/>
              <p:cNvSpPr/>
              <p:nvPr/>
            </p:nvSpPr>
            <p:spPr>
              <a:xfrm>
                <a:off x="7731000" y="5181480"/>
                <a:ext cx="277920" cy="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1" name="Group 28"/>
            <p:cNvGrpSpPr/>
            <p:nvPr/>
          </p:nvGrpSpPr>
          <p:grpSpPr>
            <a:xfrm>
              <a:off x="5562720" y="4191120"/>
              <a:ext cx="2361960" cy="1676160"/>
              <a:chOff x="5562720" y="4191120"/>
              <a:chExt cx="2361960" cy="1676160"/>
            </a:xfrm>
          </p:grpSpPr>
          <p:sp>
            <p:nvSpPr>
              <p:cNvPr id="702" name="Line 29"/>
              <p:cNvSpPr/>
              <p:nvPr/>
            </p:nvSpPr>
            <p:spPr>
              <a:xfrm>
                <a:off x="5562720" y="4191120"/>
                <a:ext cx="2361960" cy="167616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Text Box 30"/>
              <p:cNvSpPr/>
              <p:nvPr/>
            </p:nvSpPr>
            <p:spPr>
              <a:xfrm>
                <a:off x="6553080" y="5257800"/>
                <a:ext cx="6091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ffffff"/>
                    </a:solidFill>
                    <a:latin typeface="Tahoma"/>
                  </a:rPr>
                  <a:t>R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4" name="Group 31"/>
            <p:cNvGrpSpPr/>
            <p:nvPr/>
          </p:nvGrpSpPr>
          <p:grpSpPr>
            <a:xfrm>
              <a:off x="4876920" y="3657600"/>
              <a:ext cx="1675800" cy="1083960"/>
              <a:chOff x="4876920" y="3657600"/>
              <a:chExt cx="1675800" cy="1083960"/>
            </a:xfrm>
          </p:grpSpPr>
          <p:grpSp>
            <p:nvGrpSpPr>
              <p:cNvPr id="705" name="Group 32"/>
              <p:cNvGrpSpPr/>
              <p:nvPr/>
            </p:nvGrpSpPr>
            <p:grpSpPr>
              <a:xfrm>
                <a:off x="5257080" y="3962160"/>
                <a:ext cx="609840" cy="608760"/>
                <a:chOff x="5257080" y="3962160"/>
                <a:chExt cx="609840" cy="608760"/>
              </a:xfrm>
            </p:grpSpPr>
            <p:sp>
              <p:nvSpPr>
                <p:cNvPr id="706" name="Arc 33"/>
                <p:cNvSpPr/>
                <p:nvPr/>
              </p:nvSpPr>
              <p:spPr>
                <a:xfrm>
                  <a:off x="5562360" y="3962160"/>
                  <a:ext cx="304560" cy="304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66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Arc 34"/>
                <p:cNvSpPr/>
                <p:nvPr/>
              </p:nvSpPr>
              <p:spPr>
                <a:xfrm flipH="1">
                  <a:off x="5256720" y="3962160"/>
                  <a:ext cx="304920" cy="304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66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Arc 35"/>
                <p:cNvSpPr/>
                <p:nvPr/>
              </p:nvSpPr>
              <p:spPr>
                <a:xfrm flipH="1" flipV="1">
                  <a:off x="5256720" y="4266000"/>
                  <a:ext cx="304920" cy="304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66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Arc 36"/>
                <p:cNvSpPr/>
                <p:nvPr/>
              </p:nvSpPr>
              <p:spPr>
                <a:xfrm flipV="1">
                  <a:off x="5562360" y="4419000"/>
                  <a:ext cx="228600" cy="151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66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0" name="Text Box 37"/>
              <p:cNvSpPr/>
              <p:nvPr/>
            </p:nvSpPr>
            <p:spPr>
              <a:xfrm>
                <a:off x="6095880" y="4190760"/>
                <a:ext cx="4568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66ffcc"/>
                    </a:solidFill>
                    <a:latin typeface="Symbol"/>
                    <a:ea typeface="Symbol"/>
                  </a:rPr>
                  <a:t>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Text Box 38"/>
              <p:cNvSpPr/>
              <p:nvPr/>
            </p:nvSpPr>
            <p:spPr>
              <a:xfrm>
                <a:off x="4876920" y="3657600"/>
                <a:ext cx="4568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66ffcc"/>
                    </a:solidFill>
                    <a:latin typeface="Symbol"/>
                    <a:ea typeface="Symbol"/>
                  </a:rPr>
                  <a:t>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Text Box 39"/>
            <p:cNvSpPr/>
            <p:nvPr/>
          </p:nvSpPr>
          <p:spPr>
            <a:xfrm>
              <a:off x="8001000" y="4648320"/>
              <a:ext cx="9144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66ffcc"/>
                  </a:solidFill>
                  <a:latin typeface="Tahoma"/>
                </a:rPr>
                <a:t>R</a:t>
              </a:r>
              <a:r>
                <a:rPr b="0" i="1" lang="en-US" sz="3000" spc="-1" strike="noStrike" baseline="-25000">
                  <a:solidFill>
                    <a:srgbClr val="66ffcc"/>
                  </a:solidFill>
                  <a:latin typeface="Tahoma"/>
                </a:rPr>
                <a:t>y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Text Box 40"/>
            <p:cNvSpPr/>
            <p:nvPr/>
          </p:nvSpPr>
          <p:spPr>
            <a:xfrm>
              <a:off x="6248520" y="3581280"/>
              <a:ext cx="83808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66ffcc"/>
                  </a:solidFill>
                  <a:latin typeface="Tahoma"/>
                </a:rPr>
                <a:t>R</a:t>
              </a:r>
              <a:r>
                <a:rPr b="0" i="1" lang="en-US" sz="3000" spc="-1" strike="noStrike" baseline="-25000">
                  <a:solidFill>
                    <a:srgbClr val="66ffcc"/>
                  </a:solidFill>
                  <a:latin typeface="Tahoma"/>
                </a:rPr>
                <a:t>x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175"/>
          <p:cNvGrpSpPr/>
          <p:nvPr/>
        </p:nvGrpSpPr>
        <p:grpSpPr>
          <a:xfrm>
            <a:off x="644400" y="3581280"/>
            <a:ext cx="3751200" cy="2355840"/>
            <a:chOff x="644400" y="3581280"/>
            <a:chExt cx="3751200" cy="2355840"/>
          </a:xfrm>
        </p:grpSpPr>
        <p:sp>
          <p:nvSpPr>
            <p:cNvPr id="715" name="Line 61"/>
            <p:cNvSpPr/>
            <p:nvPr/>
          </p:nvSpPr>
          <p:spPr>
            <a:xfrm>
              <a:off x="3733920" y="3809880"/>
              <a:ext cx="0" cy="20574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Line 62"/>
            <p:cNvSpPr/>
            <p:nvPr/>
          </p:nvSpPr>
          <p:spPr>
            <a:xfrm flipH="1">
              <a:off x="1053720" y="4319640"/>
              <a:ext cx="33418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Line 63"/>
            <p:cNvSpPr/>
            <p:nvPr/>
          </p:nvSpPr>
          <p:spPr>
            <a:xfrm flipH="1">
              <a:off x="1261800" y="4319640"/>
              <a:ext cx="23684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Line 64"/>
            <p:cNvSpPr/>
            <p:nvPr/>
          </p:nvSpPr>
          <p:spPr>
            <a:xfrm>
              <a:off x="1371600" y="4419720"/>
              <a:ext cx="0" cy="13888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Line 65"/>
            <p:cNvSpPr/>
            <p:nvPr/>
          </p:nvSpPr>
          <p:spPr>
            <a:xfrm>
              <a:off x="3143160" y="4186080"/>
              <a:ext cx="0" cy="2001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Line 66"/>
            <p:cNvSpPr/>
            <p:nvPr/>
          </p:nvSpPr>
          <p:spPr>
            <a:xfrm>
              <a:off x="2516040" y="4186080"/>
              <a:ext cx="0" cy="2001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Line 67"/>
            <p:cNvSpPr/>
            <p:nvPr/>
          </p:nvSpPr>
          <p:spPr>
            <a:xfrm>
              <a:off x="1889280" y="4186080"/>
              <a:ext cx="0" cy="2001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Line 68"/>
            <p:cNvSpPr/>
            <p:nvPr/>
          </p:nvSpPr>
          <p:spPr>
            <a:xfrm flipH="1">
              <a:off x="1245960" y="4803840"/>
              <a:ext cx="27756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Line 69"/>
            <p:cNvSpPr/>
            <p:nvPr/>
          </p:nvSpPr>
          <p:spPr>
            <a:xfrm flipH="1">
              <a:off x="1245960" y="5257800"/>
              <a:ext cx="27756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Line 73"/>
            <p:cNvSpPr/>
            <p:nvPr/>
          </p:nvSpPr>
          <p:spPr>
            <a:xfrm flipH="1">
              <a:off x="1371240" y="4319640"/>
              <a:ext cx="2397240" cy="15476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Text Box 74"/>
            <p:cNvSpPr/>
            <p:nvPr/>
          </p:nvSpPr>
          <p:spPr>
            <a:xfrm flipH="1">
              <a:off x="2320200" y="538632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ahoma"/>
                </a:rPr>
                <a:t>R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Text Box 81"/>
            <p:cNvSpPr/>
            <p:nvPr/>
          </p:nvSpPr>
          <p:spPr>
            <a:xfrm flipH="1">
              <a:off x="2778120" y="424332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66ffcc"/>
                  </a:solidFill>
                  <a:latin typeface="Symbol"/>
                  <a:ea typeface="Symbol"/>
                </a:rPr>
                <a:t>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Text Box 82"/>
            <p:cNvSpPr/>
            <p:nvPr/>
          </p:nvSpPr>
          <p:spPr>
            <a:xfrm flipH="1">
              <a:off x="2930400" y="363384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66ffcc"/>
                  </a:solidFill>
                  <a:latin typeface="Symbol"/>
                  <a:ea typeface="Symbol"/>
                </a:rPr>
                <a:t>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Text Box 83"/>
            <p:cNvSpPr/>
            <p:nvPr/>
          </p:nvSpPr>
          <p:spPr>
            <a:xfrm flipH="1">
              <a:off x="644400" y="4624560"/>
              <a:ext cx="9144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66ffcc"/>
                  </a:solidFill>
                  <a:latin typeface="Tahoma"/>
                </a:rPr>
                <a:t>R</a:t>
              </a:r>
              <a:r>
                <a:rPr b="0" lang="en-US" sz="3000" spc="-1" strike="noStrike" baseline="-25000">
                  <a:solidFill>
                    <a:srgbClr val="66ffcc"/>
                  </a:solidFill>
                  <a:latin typeface="Tahoma"/>
                </a:rPr>
                <a:t>y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Text Box 84"/>
            <p:cNvSpPr/>
            <p:nvPr/>
          </p:nvSpPr>
          <p:spPr>
            <a:xfrm flipH="1">
              <a:off x="2092320" y="3581280"/>
              <a:ext cx="83808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66ffcc"/>
                  </a:solidFill>
                  <a:latin typeface="Tahoma"/>
                </a:rPr>
                <a:t>R</a:t>
              </a:r>
              <a:r>
                <a:rPr b="0" i="1" lang="en-US" sz="3000" spc="-1" strike="noStrike" baseline="-25000">
                  <a:solidFill>
                    <a:srgbClr val="66ffcc"/>
                  </a:solidFill>
                  <a:latin typeface="Tahoma"/>
                </a:rPr>
                <a:t>x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Arc 85"/>
            <p:cNvSpPr/>
            <p:nvPr/>
          </p:nvSpPr>
          <p:spPr>
            <a:xfrm>
              <a:off x="3616200" y="3938760"/>
              <a:ext cx="304920" cy="3045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Arc 86"/>
            <p:cNvSpPr/>
            <p:nvPr/>
          </p:nvSpPr>
          <p:spPr>
            <a:xfrm flipH="1">
              <a:off x="3311640" y="3938760"/>
              <a:ext cx="304560" cy="3045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Arc 87"/>
            <p:cNvSpPr/>
            <p:nvPr/>
          </p:nvSpPr>
          <p:spPr>
            <a:xfrm flipH="1" flipV="1">
              <a:off x="3311640" y="4241880"/>
              <a:ext cx="304560" cy="255600"/>
            </a:xfrm>
            <a:custGeom>
              <a:avLst/>
              <a:gdLst/>
              <a:ahLst/>
              <a:rect l="l" t="t" r="r" b="b"/>
              <a:pathLst>
                <a:path fill="none" w="21600" h="18068">
                  <a:moveTo>
                    <a:pt x="11836" y="0"/>
                  </a:moveTo>
                  <a:cubicBezTo>
                    <a:pt x="17929" y="3991"/>
                    <a:pt x="21600" y="10784"/>
                    <a:pt x="21600" y="18068"/>
                  </a:cubicBezTo>
                </a:path>
                <a:path stroke="0" w="21600" h="18068">
                  <a:moveTo>
                    <a:pt x="11836" y="0"/>
                  </a:moveTo>
                  <a:cubicBezTo>
                    <a:pt x="17929" y="3991"/>
                    <a:pt x="21600" y="10784"/>
                    <a:pt x="21600" y="18068"/>
                  </a:cubicBezTo>
                  <a:lnTo>
                    <a:pt x="0" y="18068"/>
                  </a:lnTo>
                  <a:lnTo>
                    <a:pt x="11836" y="0"/>
                  </a:lnTo>
                  <a:close/>
                </a:path>
              </a:pathLst>
            </a:custGeom>
            <a:noFill/>
            <a:ln w="38160">
              <a:solidFill>
                <a:srgbClr val="66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3" name="Group 167"/>
          <p:cNvGrpSpPr/>
          <p:nvPr/>
        </p:nvGrpSpPr>
        <p:grpSpPr>
          <a:xfrm>
            <a:off x="4859280" y="1142640"/>
            <a:ext cx="4132440" cy="2214360"/>
            <a:chOff x="4859280" y="1142640"/>
            <a:chExt cx="4132440" cy="2214360"/>
          </a:xfrm>
        </p:grpSpPr>
        <p:sp>
          <p:nvSpPr>
            <p:cNvPr id="734" name="Line 102"/>
            <p:cNvSpPr/>
            <p:nvPr/>
          </p:nvSpPr>
          <p:spPr>
            <a:xfrm flipV="1">
              <a:off x="5521320" y="1234800"/>
              <a:ext cx="0" cy="20574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Line 103"/>
            <p:cNvSpPr/>
            <p:nvPr/>
          </p:nvSpPr>
          <p:spPr>
            <a:xfrm>
              <a:off x="4859280" y="2782800"/>
              <a:ext cx="33418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Line 104"/>
            <p:cNvSpPr/>
            <p:nvPr/>
          </p:nvSpPr>
          <p:spPr>
            <a:xfrm>
              <a:off x="5624640" y="2782800"/>
              <a:ext cx="23684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Line 105"/>
            <p:cNvSpPr/>
            <p:nvPr/>
          </p:nvSpPr>
          <p:spPr>
            <a:xfrm flipV="1">
              <a:off x="7883640" y="1293840"/>
              <a:ext cx="0" cy="13888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Line 106"/>
            <p:cNvSpPr/>
            <p:nvPr/>
          </p:nvSpPr>
          <p:spPr>
            <a:xfrm flipV="1">
              <a:off x="6111720" y="2716200"/>
              <a:ext cx="0" cy="2001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Line 107"/>
            <p:cNvSpPr/>
            <p:nvPr/>
          </p:nvSpPr>
          <p:spPr>
            <a:xfrm flipV="1">
              <a:off x="6738840" y="2716200"/>
              <a:ext cx="0" cy="2001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Line 108"/>
            <p:cNvSpPr/>
            <p:nvPr/>
          </p:nvSpPr>
          <p:spPr>
            <a:xfrm flipV="1">
              <a:off x="7365960" y="2716200"/>
              <a:ext cx="0" cy="2001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Line 109"/>
            <p:cNvSpPr/>
            <p:nvPr/>
          </p:nvSpPr>
          <p:spPr>
            <a:xfrm>
              <a:off x="7731000" y="2301840"/>
              <a:ext cx="27792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Line 110"/>
            <p:cNvSpPr/>
            <p:nvPr/>
          </p:nvSpPr>
          <p:spPr>
            <a:xfrm>
              <a:off x="7731000" y="1844640"/>
              <a:ext cx="27792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Line 114"/>
            <p:cNvSpPr/>
            <p:nvPr/>
          </p:nvSpPr>
          <p:spPr>
            <a:xfrm flipV="1">
              <a:off x="5486400" y="1142640"/>
              <a:ext cx="2362320" cy="16765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Text Box 115"/>
            <p:cNvSpPr/>
            <p:nvPr/>
          </p:nvSpPr>
          <p:spPr>
            <a:xfrm>
              <a:off x="6248520" y="137160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ahoma"/>
                </a:rPr>
                <a:t>R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Text Box 123"/>
            <p:cNvSpPr/>
            <p:nvPr/>
          </p:nvSpPr>
          <p:spPr>
            <a:xfrm flipV="1">
              <a:off x="6019920" y="2284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66ffcc"/>
                  </a:solidFill>
                  <a:latin typeface="Symbol"/>
                  <a:ea typeface="Symbol"/>
                </a:rPr>
                <a:t>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Text Box 124"/>
            <p:cNvSpPr/>
            <p:nvPr/>
          </p:nvSpPr>
          <p:spPr>
            <a:xfrm>
              <a:off x="8077320" y="1828800"/>
              <a:ext cx="9144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66ffcc"/>
                  </a:solidFill>
                  <a:latin typeface="Tahoma"/>
                </a:rPr>
                <a:t>R</a:t>
              </a:r>
              <a:r>
                <a:rPr b="0" i="1" lang="en-US" sz="3000" spc="-1" strike="noStrike" baseline="-25000">
                  <a:solidFill>
                    <a:srgbClr val="66ffcc"/>
                  </a:solidFill>
                  <a:latin typeface="Tahoma"/>
                </a:rPr>
                <a:t>y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Text Box 125"/>
            <p:cNvSpPr/>
            <p:nvPr/>
          </p:nvSpPr>
          <p:spPr>
            <a:xfrm>
              <a:off x="6400800" y="2743200"/>
              <a:ext cx="83808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66ffcc"/>
                  </a:solidFill>
                  <a:latin typeface="Tahoma"/>
                </a:rPr>
                <a:t>R</a:t>
              </a:r>
              <a:r>
                <a:rPr b="0" i="1" lang="en-US" sz="3000" spc="-1" strike="noStrike" baseline="-25000">
                  <a:solidFill>
                    <a:srgbClr val="66ffcc"/>
                  </a:solidFill>
                  <a:latin typeface="Tahoma"/>
                </a:rPr>
                <a:t>x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Arc 128"/>
            <p:cNvSpPr/>
            <p:nvPr/>
          </p:nvSpPr>
          <p:spPr>
            <a:xfrm>
              <a:off x="6400800" y="2209680"/>
              <a:ext cx="304920" cy="457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66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9" name="Group 168"/>
          <p:cNvGrpSpPr/>
          <p:nvPr/>
        </p:nvGrpSpPr>
        <p:grpSpPr>
          <a:xfrm>
            <a:off x="762120" y="1218960"/>
            <a:ext cx="3798720" cy="2138040"/>
            <a:chOff x="762120" y="1218960"/>
            <a:chExt cx="3798720" cy="2138040"/>
          </a:xfrm>
        </p:grpSpPr>
        <p:sp>
          <p:nvSpPr>
            <p:cNvPr id="750" name="Arc 77"/>
            <p:cNvSpPr/>
            <p:nvPr/>
          </p:nvSpPr>
          <p:spPr>
            <a:xfrm>
              <a:off x="3429000" y="2362320"/>
              <a:ext cx="304920" cy="3045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Arc 78"/>
            <p:cNvSpPr/>
            <p:nvPr/>
          </p:nvSpPr>
          <p:spPr>
            <a:xfrm flipH="1">
              <a:off x="3199680" y="2362320"/>
              <a:ext cx="228600" cy="997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66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Text Box 122"/>
            <p:cNvSpPr/>
            <p:nvPr/>
          </p:nvSpPr>
          <p:spPr>
            <a:xfrm flipV="1">
              <a:off x="1981080" y="2284560"/>
              <a:ext cx="685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66ffcc"/>
                  </a:solidFill>
                  <a:latin typeface="Symbol"/>
                  <a:ea typeface="Symbol"/>
                </a:rPr>
                <a:t>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Line 146"/>
            <p:cNvSpPr/>
            <p:nvPr/>
          </p:nvSpPr>
          <p:spPr>
            <a:xfrm flipV="1">
              <a:off x="3505320" y="1218960"/>
              <a:ext cx="0" cy="20574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Line 147"/>
            <p:cNvSpPr/>
            <p:nvPr/>
          </p:nvSpPr>
          <p:spPr>
            <a:xfrm flipH="1">
              <a:off x="1219320" y="2819520"/>
              <a:ext cx="33415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Line 148"/>
            <p:cNvSpPr/>
            <p:nvPr/>
          </p:nvSpPr>
          <p:spPr>
            <a:xfrm flipH="1">
              <a:off x="1204560" y="2782800"/>
              <a:ext cx="23684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Line 150"/>
            <p:cNvSpPr/>
            <p:nvPr/>
          </p:nvSpPr>
          <p:spPr>
            <a:xfrm flipV="1">
              <a:off x="1692360" y="2716200"/>
              <a:ext cx="0" cy="2001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Line 151"/>
            <p:cNvSpPr/>
            <p:nvPr/>
          </p:nvSpPr>
          <p:spPr>
            <a:xfrm flipV="1">
              <a:off x="2319480" y="2716200"/>
              <a:ext cx="0" cy="2001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Line 152"/>
            <p:cNvSpPr/>
            <p:nvPr/>
          </p:nvSpPr>
          <p:spPr>
            <a:xfrm flipV="1">
              <a:off x="2946240" y="2716200"/>
              <a:ext cx="0" cy="2001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Line 157"/>
            <p:cNvSpPr/>
            <p:nvPr/>
          </p:nvSpPr>
          <p:spPr>
            <a:xfrm flipH="1" flipV="1">
              <a:off x="1294920" y="1295280"/>
              <a:ext cx="2210040" cy="15242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Text Box 158"/>
            <p:cNvSpPr/>
            <p:nvPr/>
          </p:nvSpPr>
          <p:spPr>
            <a:xfrm flipH="1">
              <a:off x="2056680" y="137160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ahoma"/>
                </a:rPr>
                <a:t>R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Text Box 159"/>
            <p:cNvSpPr/>
            <p:nvPr/>
          </p:nvSpPr>
          <p:spPr>
            <a:xfrm flipH="1" flipV="1">
              <a:off x="3048120" y="18273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66ffcc"/>
                  </a:solidFill>
                  <a:latin typeface="Symbol"/>
                  <a:ea typeface="Symbol"/>
                </a:rPr>
                <a:t>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Text Box 160"/>
            <p:cNvSpPr/>
            <p:nvPr/>
          </p:nvSpPr>
          <p:spPr>
            <a:xfrm flipH="1">
              <a:off x="762120" y="1828800"/>
              <a:ext cx="9144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66ffcc"/>
                  </a:solidFill>
                  <a:latin typeface="Tahoma"/>
                </a:rPr>
                <a:t>R</a:t>
              </a:r>
              <a:r>
                <a:rPr b="0" lang="en-US" sz="3000" spc="-1" strike="noStrike" baseline="-25000">
                  <a:solidFill>
                    <a:srgbClr val="66ffcc"/>
                  </a:solidFill>
                  <a:latin typeface="Tahoma"/>
                </a:rPr>
                <a:t>y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Text Box 161"/>
            <p:cNvSpPr/>
            <p:nvPr/>
          </p:nvSpPr>
          <p:spPr>
            <a:xfrm flipH="1">
              <a:off x="2208960" y="2743200"/>
              <a:ext cx="83844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66ffcc"/>
                  </a:solidFill>
                  <a:latin typeface="Tahoma"/>
                </a:rPr>
                <a:t>R</a:t>
              </a:r>
              <a:r>
                <a:rPr b="0" i="1" lang="en-US" sz="3000" spc="-1" strike="noStrike" baseline="-25000">
                  <a:solidFill>
                    <a:srgbClr val="66ffcc"/>
                  </a:solidFill>
                  <a:latin typeface="Tahoma"/>
                </a:rPr>
                <a:t>x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Line 163"/>
            <p:cNvSpPr/>
            <p:nvPr/>
          </p:nvSpPr>
          <p:spPr>
            <a:xfrm flipV="1">
              <a:off x="1295280" y="1294920"/>
              <a:ext cx="0" cy="13892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Line 165"/>
            <p:cNvSpPr/>
            <p:nvPr/>
          </p:nvSpPr>
          <p:spPr>
            <a:xfrm>
              <a:off x="1143000" y="2303640"/>
              <a:ext cx="27792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Line 166"/>
            <p:cNvSpPr/>
            <p:nvPr/>
          </p:nvSpPr>
          <p:spPr>
            <a:xfrm>
              <a:off x="1143000" y="1846440"/>
              <a:ext cx="27792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Text Box 173"/>
          <p:cNvSpPr/>
          <p:nvPr/>
        </p:nvSpPr>
        <p:spPr>
          <a:xfrm>
            <a:off x="609480" y="6172200"/>
            <a:ext cx="8153640" cy="55080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4d4d4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r>
              <a:rPr b="1" i="1" lang="en-US" sz="2000" spc="-1" strike="noStrike">
                <a:solidFill>
                  <a:srgbClr val="ff0000"/>
                </a:solidFill>
                <a:latin typeface="Arial Black"/>
                <a:ea typeface="Arial Black"/>
              </a:rPr>
              <a:t>Problem :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ppose :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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40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o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3333"/>
                </a:solidFill>
                <a:latin typeface="Symbol"/>
                <a:ea typeface="Symbol"/>
              </a:rPr>
              <a:t>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Box 1"/>
          <p:cNvSpPr/>
          <p:nvPr/>
        </p:nvSpPr>
        <p:spPr>
          <a:xfrm>
            <a:off x="5715000" y="838080"/>
            <a:ext cx="1219320" cy="1069200"/>
          </a:xfrm>
          <a:prstGeom prst="rect">
            <a:avLst/>
          </a:prstGeom>
          <a:solidFill>
            <a:srgbClr val="dadada"/>
          </a:solidFill>
          <a:ln w="25560">
            <a:solidFill>
              <a:srgbClr val="a0a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33"/>
                </a:solidFill>
                <a:latin typeface="Symbol"/>
                <a:ea typeface="Symbol"/>
              </a:rPr>
              <a:t></a:t>
            </a:r>
            <a:r>
              <a:rPr b="1" lang="en-US" sz="3600" spc="-1" strike="noStrike">
                <a:solidFill>
                  <a:srgbClr val="003333"/>
                </a:solidFill>
                <a:latin typeface="Symbol"/>
                <a:ea typeface="Symbol"/>
              </a:rPr>
              <a:t></a:t>
            </a:r>
            <a:r>
              <a:rPr b="1" lang="en-US" sz="2800" spc="-1" strike="noStrike">
                <a:solidFill>
                  <a:srgbClr val="003333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3333"/>
                </a:solidFill>
                <a:latin typeface="Symbol"/>
                <a:ea typeface="Symbol"/>
              </a:rPr>
              <a:t>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Box 92"/>
          <p:cNvSpPr/>
          <p:nvPr/>
        </p:nvSpPr>
        <p:spPr>
          <a:xfrm>
            <a:off x="1447920" y="838080"/>
            <a:ext cx="2133360" cy="1069200"/>
          </a:xfrm>
          <a:prstGeom prst="rect">
            <a:avLst/>
          </a:prstGeom>
          <a:solidFill>
            <a:srgbClr val="dadada"/>
          </a:solidFill>
          <a:ln w="25560">
            <a:solidFill>
              <a:srgbClr val="a0a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33"/>
                </a:solidFill>
                <a:latin typeface="Symbol"/>
                <a:ea typeface="Symbol"/>
              </a:rPr>
              <a:t></a:t>
            </a:r>
            <a:r>
              <a:rPr b="1" lang="en-US" sz="3600" spc="-1" strike="noStrike">
                <a:solidFill>
                  <a:srgbClr val="003333"/>
                </a:solidFill>
                <a:latin typeface="Symbol"/>
                <a:ea typeface="Symbol"/>
              </a:rPr>
              <a:t></a:t>
            </a:r>
            <a:r>
              <a:rPr b="1" lang="en-US" sz="2800" spc="-1" strike="noStrike">
                <a:solidFill>
                  <a:srgbClr val="003333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3333"/>
                </a:solidFill>
                <a:latin typeface="Symbol"/>
                <a:ea typeface="Symbol"/>
              </a:rPr>
              <a:t>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Box 93"/>
          <p:cNvSpPr/>
          <p:nvPr/>
        </p:nvSpPr>
        <p:spPr>
          <a:xfrm>
            <a:off x="380880" y="3352680"/>
            <a:ext cx="2133720" cy="1069200"/>
          </a:xfrm>
          <a:prstGeom prst="rect">
            <a:avLst/>
          </a:prstGeom>
          <a:solidFill>
            <a:srgbClr val="dadada"/>
          </a:solidFill>
          <a:ln w="25560">
            <a:solidFill>
              <a:srgbClr val="a0a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33"/>
                </a:solidFill>
                <a:latin typeface="Symbol"/>
                <a:ea typeface="Symbol"/>
              </a:rPr>
              <a:t></a:t>
            </a:r>
            <a:r>
              <a:rPr b="1" lang="en-US" sz="3600" spc="-1" strike="noStrike">
                <a:solidFill>
                  <a:srgbClr val="003333"/>
                </a:solidFill>
                <a:latin typeface="Symbol"/>
                <a:ea typeface="Symbol"/>
              </a:rPr>
              <a:t></a:t>
            </a:r>
            <a:r>
              <a:rPr b="1" lang="en-US" sz="2800" spc="-1" strike="noStrike">
                <a:solidFill>
                  <a:srgbClr val="003333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3333"/>
                </a:solidFill>
                <a:latin typeface="Symbol"/>
                <a:ea typeface="Symbol"/>
              </a:rPr>
              <a:t>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Box 94"/>
          <p:cNvSpPr/>
          <p:nvPr/>
        </p:nvSpPr>
        <p:spPr>
          <a:xfrm>
            <a:off x="6705720" y="3352680"/>
            <a:ext cx="2133360" cy="1069200"/>
          </a:xfrm>
          <a:prstGeom prst="rect">
            <a:avLst/>
          </a:prstGeom>
          <a:solidFill>
            <a:srgbClr val="dadada"/>
          </a:solidFill>
          <a:ln w="25560">
            <a:solidFill>
              <a:srgbClr val="a0a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33"/>
                </a:solidFill>
                <a:latin typeface="Symbol"/>
                <a:ea typeface="Symbol"/>
              </a:rPr>
              <a:t></a:t>
            </a:r>
            <a:r>
              <a:rPr b="1" lang="en-US" sz="3600" spc="-1" strike="noStrike">
                <a:solidFill>
                  <a:srgbClr val="003333"/>
                </a:solidFill>
                <a:latin typeface="Symbol"/>
                <a:ea typeface="Symbol"/>
              </a:rPr>
              <a:t></a:t>
            </a:r>
            <a:r>
              <a:rPr b="1" lang="en-US" sz="2800" spc="-1" strike="noStrike">
                <a:solidFill>
                  <a:srgbClr val="003333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3333"/>
                </a:solidFill>
                <a:latin typeface="Symbol"/>
                <a:ea typeface="Symbol"/>
              </a:rPr>
              <a:t>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9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3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08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3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 txBox="1"/>
          <p:nvPr/>
        </p:nvSpPr>
        <p:spPr>
          <a:xfrm>
            <a:off x="380880" y="228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roblem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Picture 3" descr="‏لقطة الشاشة ٢٠١٥-٠٢-١١ في ١‎.٣٥‎.٣٧ ص.png"/>
          <p:cNvPicPr/>
          <p:nvPr/>
        </p:nvPicPr>
        <p:blipFill>
          <a:blip r:embed="rId1"/>
          <a:stretch/>
        </p:blipFill>
        <p:spPr>
          <a:xfrm>
            <a:off x="609480" y="914400"/>
            <a:ext cx="7925040" cy="4572000"/>
          </a:xfrm>
          <a:prstGeom prst="rect">
            <a:avLst/>
          </a:prstGeom>
          <a:ln w="0">
            <a:noFill/>
          </a:ln>
        </p:spPr>
      </p:pic>
      <p:sp>
        <p:nvSpPr>
          <p:cNvPr id="774" name="TextBox 6"/>
          <p:cNvSpPr/>
          <p:nvPr/>
        </p:nvSpPr>
        <p:spPr>
          <a:xfrm>
            <a:off x="2895480" y="54100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X = 86.6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Y= - 5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33520" y="2362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6633"/>
                </a:solidFill>
                <a:latin typeface="Garamond"/>
              </a:rPr>
              <a:t>Thank You </a:t>
            </a:r>
            <a:endParaRPr b="0" lang="en-US" sz="8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calar and Vector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CAL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y quantity in physics that ha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AGNITU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ut NOT a direction associated with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h as { speed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y quantity in physics that has BOTH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AGNITU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IR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h as {_x0016_Acceleration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pplications of Vector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VECTOR ADDITIO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– If 2 similar vectors point in the SAME direction, </a:t>
            </a:r>
            <a:r>
              <a:rPr b="1" lang="en-US" sz="2100" spc="-1" strike="noStrike">
                <a:solidFill>
                  <a:srgbClr val="0d0d0d"/>
                </a:solidFill>
                <a:latin typeface="Arial"/>
              </a:rPr>
              <a:t>add them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VECTOR SUBTRA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If 2 vectors are going in opposite directions, </a:t>
            </a:r>
            <a:r>
              <a:rPr b="1" lang="en-US" sz="2000" spc="-1" strike="noStrike">
                <a:solidFill>
                  <a:srgbClr val="0d0d0d"/>
                </a:solidFill>
                <a:latin typeface="Arial"/>
              </a:rPr>
              <a:t>subtract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pplications of Vector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ample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man walks 54.5 meters east, then 30 meters west. Calculate his displacement relative to where he star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4"/>
          <p:cNvSpPr/>
          <p:nvPr/>
        </p:nvSpPr>
        <p:spPr>
          <a:xfrm>
            <a:off x="1066680" y="4495680"/>
            <a:ext cx="243864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5"/>
          <p:cNvSpPr/>
          <p:nvPr/>
        </p:nvSpPr>
        <p:spPr>
          <a:xfrm>
            <a:off x="1677960" y="403848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.5 m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6"/>
          <p:cNvSpPr/>
          <p:nvPr/>
        </p:nvSpPr>
        <p:spPr>
          <a:xfrm flipH="1">
            <a:off x="1981080" y="4572000"/>
            <a:ext cx="14479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7"/>
          <p:cNvSpPr/>
          <p:nvPr/>
        </p:nvSpPr>
        <p:spPr>
          <a:xfrm>
            <a:off x="2423520" y="453240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m,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8"/>
          <p:cNvSpPr/>
          <p:nvPr/>
        </p:nvSpPr>
        <p:spPr>
          <a:xfrm>
            <a:off x="3566880" y="42274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9"/>
          <p:cNvSpPr/>
          <p:nvPr/>
        </p:nvSpPr>
        <p:spPr>
          <a:xfrm>
            <a:off x="1066680" y="5105520"/>
            <a:ext cx="914400" cy="0"/>
          </a:xfrm>
          <a:prstGeom prst="line">
            <a:avLst/>
          </a:prstGeom>
          <a:ln w="255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0"/>
          <p:cNvSpPr/>
          <p:nvPr/>
        </p:nvSpPr>
        <p:spPr>
          <a:xfrm>
            <a:off x="1068120" y="510552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.5 m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pplications of Vector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Problem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 moves 80 Km east, then 30 Km west. After that it moves again 50 Km east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culate its displacement relative to where it star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00 Km , E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Non-Collinear Vector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987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2 vectors are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perpendicula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you must use the </a:t>
            </a:r>
            <a:r>
              <a:rPr b="1" lang="en-US" sz="2600" spc="-1" strike="noStrike">
                <a:solidFill>
                  <a:srgbClr val="0d0d0d"/>
                </a:solidFill>
                <a:latin typeface="Arial"/>
              </a:rPr>
              <a:t>Pythagorean theore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Picture 2" descr="Untitled.png"/>
          <p:cNvPicPr/>
          <p:nvPr/>
        </p:nvPicPr>
        <p:blipFill>
          <a:blip r:embed="rId1"/>
          <a:stretch/>
        </p:blipFill>
        <p:spPr>
          <a:xfrm>
            <a:off x="1981080" y="2971800"/>
            <a:ext cx="4876920" cy="2730600"/>
          </a:xfrm>
          <a:prstGeom prst="rect">
            <a:avLst/>
          </a:prstGeom>
          <a:ln w="0">
            <a:noFill/>
          </a:ln>
        </p:spPr>
      </p:pic>
      <p:sp>
        <p:nvSpPr>
          <p:cNvPr id="635" name="TextBox 3"/>
          <p:cNvSpPr/>
          <p:nvPr/>
        </p:nvSpPr>
        <p:spPr>
          <a:xfrm>
            <a:off x="3581280" y="57150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badi MT Condensed Extra Bold"/>
                <a:ea typeface="Abadi MT Condensed Extra Bold"/>
              </a:rPr>
              <a:t>Key of ch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e directio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follow these graph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7"/>
          <p:cNvSpPr/>
          <p:nvPr/>
        </p:nvSpPr>
        <p:spPr>
          <a:xfrm>
            <a:off x="1371600" y="3352680"/>
            <a:ext cx="1752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enir Heavy"/>
                <a:ea typeface="Avenir Heavy"/>
              </a:rPr>
              <a:t># No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enir Heavy"/>
                <a:ea typeface="Avenir Heavy"/>
              </a:rPr>
              <a:t># So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enir Heavy"/>
                <a:ea typeface="Avenir Heavy"/>
              </a:rPr>
              <a:t># 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enir Heavy"/>
                <a:ea typeface="Avenir Heavy"/>
              </a:rPr>
              <a:t># 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10"/>
          <p:cNvSpPr/>
          <p:nvPr/>
        </p:nvSpPr>
        <p:spPr>
          <a:xfrm>
            <a:off x="6629400" y="3124080"/>
            <a:ext cx="0" cy="2590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11"/>
          <p:cNvSpPr/>
          <p:nvPr/>
        </p:nvSpPr>
        <p:spPr>
          <a:xfrm>
            <a:off x="5181480" y="4419720"/>
            <a:ext cx="29718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12"/>
          <p:cNvSpPr/>
          <p:nvPr/>
        </p:nvSpPr>
        <p:spPr>
          <a:xfrm>
            <a:off x="6463080" y="2703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13"/>
          <p:cNvSpPr/>
          <p:nvPr/>
        </p:nvSpPr>
        <p:spPr>
          <a:xfrm>
            <a:off x="6478920" y="5715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14"/>
          <p:cNvSpPr/>
          <p:nvPr/>
        </p:nvSpPr>
        <p:spPr>
          <a:xfrm>
            <a:off x="8139240" y="4227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15"/>
          <p:cNvSpPr/>
          <p:nvPr/>
        </p:nvSpPr>
        <p:spPr>
          <a:xfrm>
            <a:off x="4649760" y="42670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Line 16"/>
          <p:cNvSpPr/>
          <p:nvPr/>
        </p:nvSpPr>
        <p:spPr>
          <a:xfrm flipV="1">
            <a:off x="6705720" y="3276360"/>
            <a:ext cx="121896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Arc 17"/>
          <p:cNvSpPr/>
          <p:nvPr/>
        </p:nvSpPr>
        <p:spPr>
          <a:xfrm>
            <a:off x="7162920" y="3962520"/>
            <a:ext cx="75960" cy="380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18"/>
          <p:cNvSpPr/>
          <p:nvPr/>
        </p:nvSpPr>
        <p:spPr>
          <a:xfrm>
            <a:off x="7377120" y="36939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of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19"/>
          <p:cNvSpPr/>
          <p:nvPr/>
        </p:nvSpPr>
        <p:spPr>
          <a:xfrm>
            <a:off x="6615000" y="331308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of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Line 20"/>
          <p:cNvSpPr/>
          <p:nvPr/>
        </p:nvSpPr>
        <p:spPr>
          <a:xfrm flipH="1">
            <a:off x="5409720" y="4495680"/>
            <a:ext cx="1143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21"/>
          <p:cNvSpPr/>
          <p:nvPr/>
        </p:nvSpPr>
        <p:spPr>
          <a:xfrm>
            <a:off x="5395320" y="453240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of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22"/>
          <p:cNvSpPr/>
          <p:nvPr/>
        </p:nvSpPr>
        <p:spPr>
          <a:xfrm>
            <a:off x="5699880" y="529416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 of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23"/>
          <p:cNvSpPr/>
          <p:nvPr/>
        </p:nvSpPr>
        <p:spPr>
          <a:xfrm flipH="1" flipV="1">
            <a:off x="5105160" y="3352680"/>
            <a:ext cx="1447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24"/>
          <p:cNvSpPr/>
          <p:nvPr/>
        </p:nvSpPr>
        <p:spPr>
          <a:xfrm>
            <a:off x="5243040" y="392256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of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25"/>
          <p:cNvSpPr/>
          <p:nvPr/>
        </p:nvSpPr>
        <p:spPr>
          <a:xfrm>
            <a:off x="5547960" y="323676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 of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Line 26"/>
          <p:cNvSpPr/>
          <p:nvPr/>
        </p:nvSpPr>
        <p:spPr>
          <a:xfrm>
            <a:off x="6705720" y="4495680"/>
            <a:ext cx="121896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27"/>
          <p:cNvSpPr/>
          <p:nvPr/>
        </p:nvSpPr>
        <p:spPr>
          <a:xfrm>
            <a:off x="7300440" y="453240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of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28"/>
          <p:cNvSpPr/>
          <p:nvPr/>
        </p:nvSpPr>
        <p:spPr>
          <a:xfrm>
            <a:off x="6690960" y="529416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of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Non-Collinear Vector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xample: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boat moves with a velocity of 15 m/s, N in a  river which flows with a velocity of 8.0 m/s, west. Calculate the boat's resultant velocity with respect to due nort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4"/>
          <p:cNvSpPr/>
          <p:nvPr/>
        </p:nvSpPr>
        <p:spPr>
          <a:xfrm>
            <a:off x="1844640" y="3036960"/>
            <a:ext cx="0" cy="2133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Line 5"/>
          <p:cNvSpPr/>
          <p:nvPr/>
        </p:nvSpPr>
        <p:spPr>
          <a:xfrm>
            <a:off x="853920" y="4179960"/>
            <a:ext cx="19051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Line 6"/>
          <p:cNvSpPr/>
          <p:nvPr/>
        </p:nvSpPr>
        <p:spPr>
          <a:xfrm flipV="1">
            <a:off x="1844640" y="3036600"/>
            <a:ext cx="0" cy="106668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7"/>
          <p:cNvSpPr/>
          <p:nvPr/>
        </p:nvSpPr>
        <p:spPr>
          <a:xfrm>
            <a:off x="1904040" y="304812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m/s,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8"/>
          <p:cNvSpPr/>
          <p:nvPr/>
        </p:nvSpPr>
        <p:spPr>
          <a:xfrm flipH="1">
            <a:off x="1234800" y="3036960"/>
            <a:ext cx="60948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9"/>
          <p:cNvSpPr/>
          <p:nvPr/>
        </p:nvSpPr>
        <p:spPr>
          <a:xfrm>
            <a:off x="1217880" y="2666880"/>
            <a:ext cx="105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0 m/s, 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10"/>
          <p:cNvSpPr/>
          <p:nvPr/>
        </p:nvSpPr>
        <p:spPr>
          <a:xfrm flipH="1" flipV="1">
            <a:off x="1158480" y="3036600"/>
            <a:ext cx="685800" cy="1066680"/>
          </a:xfrm>
          <a:prstGeom prst="line">
            <a:avLst/>
          </a:prstGeom>
          <a:ln w="25560">
            <a:solidFill>
              <a:srgbClr val="800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11"/>
          <p:cNvSpPr/>
          <p:nvPr/>
        </p:nvSpPr>
        <p:spPr>
          <a:xfrm>
            <a:off x="1073160" y="345456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12"/>
          <p:cNvSpPr/>
          <p:nvPr/>
        </p:nvSpPr>
        <p:spPr>
          <a:xfrm>
            <a:off x="1617120" y="3570120"/>
            <a:ext cx="27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9" name="Object 13"/>
              <p:cNvSpPr txBox="1"/>
              <p:nvPr/>
            </p:nvSpPr>
            <p:spPr>
              <a:xfrm>
                <a:off x="3809880" y="2438280"/>
                <a:ext cx="4038840" cy="23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8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333</m:t>
                        </m:r>
                      </m:e>
                      <m:e>
                        <m:r>
                          <m:t xml:space="preserve">θ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333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0" name="Text Box 14"/>
          <p:cNvSpPr/>
          <p:nvPr/>
        </p:nvSpPr>
        <p:spPr>
          <a:xfrm>
            <a:off x="2424240" y="4989600"/>
            <a:ext cx="628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nal Answer :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7 m/s, @ 28.1 degrees West of No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Non-Collinear Vector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792468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xample 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plane moves with a velocity of 63.5 m/s at 32 degrees South of East. Calculate the plane's horizontal and vertical velocity compon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4"/>
          <p:cNvSpPr/>
          <p:nvPr/>
        </p:nvSpPr>
        <p:spPr>
          <a:xfrm>
            <a:off x="4191120" y="2590920"/>
            <a:ext cx="0" cy="25146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5"/>
          <p:cNvSpPr/>
          <p:nvPr/>
        </p:nvSpPr>
        <p:spPr>
          <a:xfrm>
            <a:off x="2590920" y="3809880"/>
            <a:ext cx="33526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6"/>
          <p:cNvSpPr/>
          <p:nvPr/>
        </p:nvSpPr>
        <p:spPr>
          <a:xfrm>
            <a:off x="4191120" y="3809880"/>
            <a:ext cx="144756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7"/>
          <p:cNvSpPr/>
          <p:nvPr/>
        </p:nvSpPr>
        <p:spPr>
          <a:xfrm>
            <a:off x="4342320" y="42670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3.5 m/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8"/>
          <p:cNvSpPr/>
          <p:nvPr/>
        </p:nvSpPr>
        <p:spPr>
          <a:xfrm>
            <a:off x="4649400" y="38098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Line 9"/>
          <p:cNvSpPr/>
          <p:nvPr/>
        </p:nvSpPr>
        <p:spPr>
          <a:xfrm>
            <a:off x="4191120" y="3809880"/>
            <a:ext cx="144756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10"/>
          <p:cNvSpPr/>
          <p:nvPr/>
        </p:nvSpPr>
        <p:spPr>
          <a:xfrm>
            <a:off x="4803840" y="3429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11"/>
          <p:cNvSpPr/>
          <p:nvPr/>
        </p:nvSpPr>
        <p:spPr>
          <a:xfrm>
            <a:off x="5638680" y="3809880"/>
            <a:ext cx="0" cy="76212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12"/>
          <p:cNvSpPr/>
          <p:nvPr/>
        </p:nvSpPr>
        <p:spPr>
          <a:xfrm>
            <a:off x="5715000" y="400536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Box 2"/>
          <p:cNvSpPr/>
          <p:nvPr/>
        </p:nvSpPr>
        <p:spPr>
          <a:xfrm>
            <a:off x="2895480" y="54100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X = 53.85 m/s , east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Y= 33.64 m/s , south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31T15:56:29Z</dcterms:created>
  <dc:creator>Kenneth Bowles</dc:creator>
  <dc:description/>
  <dc:language>en-US</dc:language>
  <cp:lastModifiedBy>السلام عبد</cp:lastModifiedBy>
  <dcterms:modified xsi:type="dcterms:W3CDTF">2015-02-10T22:52:00Z</dcterms:modified>
  <cp:revision>25</cp:revision>
  <dc:subject/>
  <dc:title>Vectors and Scalars</dc:title>
</cp:coreProperties>
</file>