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WHOOSH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5F6-6725-41E5-90E4-83F5D702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9D9-AF7A-4C03-857E-E2FFDAA6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8110F-8CF6-46EA-B3D8-D5D5A44C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A7EE0-818B-475A-BFEE-633847EA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5DB2D-5422-42E4-9C2C-C99573FA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27368-8F63-4DA2-902D-C991158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F4617-AECC-4B06-8B79-6D84118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418F3-041C-4CD1-985A-01B87E2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AFC5B-BD24-4B10-B003-6A05FA81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82A93-1427-4E52-B252-3C2B70C8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0E226-7F6F-4774-A106-9D75E14E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04C73-5D13-4A5B-AFA8-53D2B519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DDF-4418-420B-ADB1-FBB9AB00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BA69A-C078-4326-A535-D7B23B8E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5022D-899A-45C3-93DE-930F7641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D6611-EDEE-49EA-8FF8-C6BEA5DF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ABCFA-97AF-4AC2-8E38-96153337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D091F-1735-4439-ADC4-6EA010A2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4816C-DEFA-46CF-B355-C886AEE9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4DB60-D877-4C85-8016-E6B30A12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BCE0F-481A-4802-BE1E-B731F53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6871C-43FB-4544-9973-700283E5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6CCA1-ECCD-482F-B1DF-B18EAE77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106-50D7-44BF-8324-11D3FE59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21E7C-DC6D-4F1A-8109-64362B75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B84D1-99D5-4F5B-8814-C2822F95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671AE-3776-45A2-9431-81E3D72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A12C2-3950-4BBA-93F4-0EC6C16F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BDA70-8F6B-4363-8567-0974949B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AC486-C735-4EBD-959B-4E719FBF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1CE25-E047-470A-81E1-76035CA3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4D1DF-74B8-49F6-A19B-1283AED5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F2ADE-3E07-41D5-8381-F9502AD2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BED76-3B18-4DE0-893B-273662A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9F34-8CEF-4928-8CC5-32B41232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D9673-04EB-4F6E-9C30-F6BC61D1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A44C6-1B47-4C9E-AAF2-92F46BA9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EC6EB-FF4E-4128-AF0C-88D03F99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D25A3-203F-4C0A-BAFE-E369BCA7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7ED9A-ADE2-4042-8373-8BBE694F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2CF75-2589-4DDC-B6B3-B9D232A4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4D73F-57AB-434A-A354-3597B1A9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975C7-106C-490A-975A-175D4DD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50025-2504-4935-BBE8-82DB9828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1ABFB-BC8B-4F92-A74E-2580479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34A8-0CBC-476C-B03E-0CE840D1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CA8B2-BDDD-4475-9A53-968416A8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170B2-A764-4DD7-B834-B1099CA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BF6D8-F6D6-4EE7-AEF0-8EB027D1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000BC-9911-4CC4-A08A-F8FDC149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B295A-2388-4544-B778-6C1D6E86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2352A-9CEB-413B-91A1-97824D94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A0B14-9CE3-4464-8C3E-2925EED1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DA828-C6FE-40F4-B519-41027F6A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4BE58-38E2-4D3C-B060-451FE408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5CF21-D32C-4C92-A20C-A36D892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529F-8FDF-463D-9C5E-19ACDFFD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4E975-2182-4081-A916-A219D7B2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05FF8-AC4B-42C7-8326-4FD2BF1B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2D1F2-D310-437B-B888-F5B86619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D09AE-23AF-404F-8FE2-0FF8278C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B5E4A-B1BC-4865-9653-184FD7AA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AC8DA-8834-4A9E-99D3-A579F30E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96495-9A02-40F3-935F-D6A3B60F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929EF-D8AC-49B0-80FC-5725A4AD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4D937-CF3D-4420-B8EE-6BAC9A4A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6AFDA-DF5D-4D64-8869-633B66B8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0BCD-917B-49AA-A0A5-B1277D3B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58EC1-539A-433E-8F03-47BF44BF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100D7-9831-45D2-A6F9-3EE3F503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56753-7C39-42A6-979D-A1E738F7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D1A35-5411-454E-881E-6548EABE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00532-EB82-4ECD-B5C7-AD199ADF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BBA54-6469-4DB4-99BA-4B329580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1DFFD-1C1F-441F-AFA6-103E498D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7CCB8-62E0-4BFC-A6EF-175A5CE1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5DA44-3F6D-4B01-8E20-B8F1E48B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5D08-95C8-47C8-9A10-3C024484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36ED-90FC-4BBB-9FC4-E6A8999B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CE3E-A7D3-4B96-A4EC-BBA3160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1F1-C0BB-4FAA-AF96-B162A20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9CB3-4C7B-4D46-9F0A-160E22C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8621-E68F-4537-9712-C23F30C2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8658-7A08-44B1-94E1-73855AAF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4CD5-60B1-463B-9AC6-A04C12EB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C402-BCDA-42E9-B510-8FB53182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7E0A-0669-4FE5-BC17-8A8D59AA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514F-53B5-46F2-9B07-6BAF828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CC88-B67F-4D66-A811-30D8CE17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A1EC-6A9F-4B3B-B052-C53979CA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3F98-83D5-4A08-93F1-BF450321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BB6-135D-4F2A-97F5-6A863BF9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8D08-14B5-4DC1-9AB3-80EAB56D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E8B1-7085-443E-B5A0-C323247F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E03B-3049-4C2B-913F-6669F254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1F34-1589-4CDA-B24D-73CA234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8A81-F91C-4B24-B393-6A4B4AA7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D421-36C5-4D53-B68B-DFA5F7B2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6277-38CF-441B-B987-CB229423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B859-FB85-453B-B430-0A24E625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7F73-1557-482C-BD34-2EE3538E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926E6-5F3B-49FB-B1B5-9E0DBA5F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D40-DB30-4E77-9F3B-FCB6CFA6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ADBF-937E-45A4-B6C2-D45DD357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3A55-2D8C-4C8E-818C-4614DDCA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A72D-4AEA-4F51-8F6A-02A6D221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E869-757B-4909-AA21-A70056A4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ECAE-53A9-44C8-ADC1-30D0837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5AFE6-27F9-49E9-B5B6-D7D5FA65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3457-61B3-4932-AE9A-C34FCF10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852F-DFAB-458E-BD63-5121629C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FC352-720D-4BB3-BFE8-A20CEE01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D01D-DFB0-4F20-B5CF-9AF4274C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56D-4DF4-4EAB-BE7B-02D9209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0F580-A54C-48D5-90A5-9C92EDE1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67426-42DD-44AB-A4C6-E67B5CC9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95B1D-DBB8-4136-8B25-3DE26BA4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99592-24FA-4B7D-960D-F0302D03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B696E-8976-4BAC-9525-A469D8B5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6D74-D188-4E9B-ACE5-1CFF62AF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42077-9DC4-47D2-A53B-5A7E53C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4FC6E-7F6A-44FC-A468-60118E4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9A193-1D76-4C76-BD35-37FE96CD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59922-32B0-4402-AA0B-FC7252DA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4B7-8CA1-4CA9-9C5D-8A9AAE8F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A55D-7CD9-44E1-BD60-21602E08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FD3AE-F9DA-48BF-80B3-8D24EE0E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F5291-6BFD-4115-93CA-DEE7AC4E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8548-BA13-43AA-8C44-2888A78E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9EAB-BE2D-4753-8E43-701A03B0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EE3A3-50B7-43D2-A312-3A581779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B214A-427D-4D0A-9FA2-C8A0452B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C619-BB98-4C08-83CE-3A6C0183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88849-4383-4CBE-AC06-41CFB28F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375F0-FD57-41A6-9A71-3ADB4F4D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737-E4A3-4B57-9736-2F5F8F43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748E1-52FF-41D3-B4ED-43959357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C885C-97BF-4A56-9693-8018949F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85DA-1E73-4D64-B5D1-8AF34CE7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E276E-B07E-4209-9612-027B8E35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1ABFD-235F-4161-8AC6-A42EA89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424E-A197-445C-A8C1-B0C54D7C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5D1C-6CF6-4879-AF1A-02122309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A9388-F0AE-4CD1-A675-109A62E8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7CC7F-F5B4-47F0-9FC2-B3CD9128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03984-317B-4367-956A-423B466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B8D-5546-470A-888C-BBAF603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B4151-5930-43FF-9576-E183D1D3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AB34B-74B3-490F-A9F3-44DF7C31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B43BF-1751-4535-A680-0ECBC59F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80A0-0E72-4B74-8084-4E8A9E91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3DD3A-0911-4087-9048-173297FC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9561-104C-4466-93A6-94622C62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C4E0-9051-489B-BE68-4B901E33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3559B-CAEE-4008-9FF8-5D92713F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2BB2-E994-482D-9D0E-3849A7CC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73AA-2443-44F4-A53C-39FD2709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FE2-4F75-40EC-8E61-738D88B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19FA0-2943-4B0D-A4C5-49050DAA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0908-963A-4103-A07C-73F627E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A59CA-B5A2-4B7E-A18B-FF4947A9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9B5B-C650-4D80-86AC-2DC46778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BC80-F383-4FEB-B438-AAE557C7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6E898-2E4F-4A84-8FAD-0E5EDA9E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BA098-D9C3-462C-9359-756A4789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A0F63-FF0B-46CB-99D6-37475C8F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41754-4FA9-4F6F-8604-3D5E6F3D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090A6-D8C7-42C2-972C-71EE5DBC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04E9-8F7E-43C5-8C75-BF00791DF6C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4FD6-B97C-4942-B9BE-61167BCCA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37A6-CB8F-4257-A256-4836CDFE5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DE00-8478-42E8-97EA-89F3C10AA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7013-C276-418D-A691-C27367E98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9E2F-7400-4043-B873-B4672CC54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CBF9-BC9B-4EA7-9930-CDF6DCE41CB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1848-C49E-43C2-82AE-7F7F31CF4BD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3AC2-D547-493B-BA04-314AF34BD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4DB7-3853-4129-9EE6-E77BA6AA4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79FA-2666-4BC1-B22F-E5EBD7E54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B203-AB9E-4E84-A4A2-7B38FE40A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8E0B-5A6E-4C92-8F10-C9918401B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21B1-20A3-41F6-8740-E6FE9E614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Vectors and Scalars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Tutorial)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_x0016_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. Ah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. Abdul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roblem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‏لقطة الشاشة ٢٠١٥-٠٢-١١ في ١‎.١٠‎.١٩ ص.png"/>
          <p:cNvPicPr/>
          <p:nvPr/>
        </p:nvPicPr>
        <p:blipFill>
          <a:blip r:embed="rId1"/>
          <a:stretch/>
        </p:blipFill>
        <p:spPr>
          <a:xfrm>
            <a:off x="380880" y="2438280"/>
            <a:ext cx="8229600" cy="1384560"/>
          </a:xfrm>
          <a:prstGeom prst="rect">
            <a:avLst/>
          </a:prstGeom>
          <a:ln w="0">
            <a:noFill/>
          </a:ln>
        </p:spPr>
      </p:pic>
      <p:sp>
        <p:nvSpPr>
          <p:cNvPr id="686" name="TextBox 5"/>
          <p:cNvSpPr/>
          <p:nvPr/>
        </p:nvSpPr>
        <p:spPr>
          <a:xfrm>
            <a:off x="3124080" y="46483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 = 14.3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gle : 65° N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ctors and Polar Coordina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88" name="Picture 1" descr="Untitled.png"/>
          <p:cNvPicPr/>
          <p:nvPr/>
        </p:nvPicPr>
        <p:blipFill>
          <a:blip r:embed="rId1"/>
          <a:stretch/>
        </p:blipFill>
        <p:spPr>
          <a:xfrm>
            <a:off x="2057400" y="1752480"/>
            <a:ext cx="55101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our Quadran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690" name="Group 178"/>
          <p:cNvGrpSpPr/>
          <p:nvPr/>
        </p:nvGrpSpPr>
        <p:grpSpPr>
          <a:xfrm>
            <a:off x="4859280" y="3581280"/>
            <a:ext cx="4056120" cy="2286000"/>
            <a:chOff x="4859280" y="3581280"/>
            <a:chExt cx="4056120" cy="2286000"/>
          </a:xfrm>
        </p:grpSpPr>
        <p:grpSp>
          <p:nvGrpSpPr>
            <p:cNvPr id="691" name="Group 15"/>
            <p:cNvGrpSpPr/>
            <p:nvPr/>
          </p:nvGrpSpPr>
          <p:grpSpPr>
            <a:xfrm>
              <a:off x="4859280" y="3733920"/>
              <a:ext cx="3341880" cy="2057400"/>
              <a:chOff x="4859280" y="3733920"/>
              <a:chExt cx="3341880" cy="2057400"/>
            </a:xfrm>
          </p:grpSpPr>
          <p:sp>
            <p:nvSpPr>
              <p:cNvPr id="692" name="Line 16"/>
              <p:cNvSpPr/>
              <p:nvPr/>
            </p:nvSpPr>
            <p:spPr>
              <a:xfrm>
                <a:off x="5521320" y="3733920"/>
                <a:ext cx="0" cy="20574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4859280" y="4243320"/>
                <a:ext cx="33418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18"/>
              <p:cNvSpPr/>
              <p:nvPr/>
            </p:nvSpPr>
            <p:spPr>
              <a:xfrm>
                <a:off x="5624640" y="4243320"/>
                <a:ext cx="2368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9"/>
              <p:cNvSpPr/>
              <p:nvPr/>
            </p:nvSpPr>
            <p:spPr>
              <a:xfrm>
                <a:off x="7883640" y="4343400"/>
                <a:ext cx="0" cy="13892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0"/>
              <p:cNvSpPr/>
              <p:nvPr/>
            </p:nvSpPr>
            <p:spPr>
              <a:xfrm>
                <a:off x="611172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1"/>
              <p:cNvSpPr/>
              <p:nvPr/>
            </p:nvSpPr>
            <p:spPr>
              <a:xfrm>
                <a:off x="673884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2"/>
              <p:cNvSpPr/>
              <p:nvPr/>
            </p:nvSpPr>
            <p:spPr>
              <a:xfrm>
                <a:off x="736596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23"/>
              <p:cNvSpPr/>
              <p:nvPr/>
            </p:nvSpPr>
            <p:spPr>
              <a:xfrm>
                <a:off x="7731000" y="4724280"/>
                <a:ext cx="2779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24"/>
              <p:cNvSpPr/>
              <p:nvPr/>
            </p:nvSpPr>
            <p:spPr>
              <a:xfrm>
                <a:off x="7731000" y="5181480"/>
                <a:ext cx="2779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28"/>
            <p:cNvGrpSpPr/>
            <p:nvPr/>
          </p:nvGrpSpPr>
          <p:grpSpPr>
            <a:xfrm>
              <a:off x="5562720" y="4191120"/>
              <a:ext cx="2361960" cy="1676160"/>
              <a:chOff x="5562720" y="4191120"/>
              <a:chExt cx="2361960" cy="1676160"/>
            </a:xfrm>
          </p:grpSpPr>
          <p:sp>
            <p:nvSpPr>
              <p:cNvPr id="702" name="Line 29"/>
              <p:cNvSpPr/>
              <p:nvPr/>
            </p:nvSpPr>
            <p:spPr>
              <a:xfrm>
                <a:off x="5562720" y="4191120"/>
                <a:ext cx="2361960" cy="1676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30"/>
              <p:cNvSpPr/>
              <p:nvPr/>
            </p:nvSpPr>
            <p:spPr>
              <a:xfrm>
                <a:off x="6553080" y="5257800"/>
                <a:ext cx="609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31"/>
            <p:cNvGrpSpPr/>
            <p:nvPr/>
          </p:nvGrpSpPr>
          <p:grpSpPr>
            <a:xfrm>
              <a:off x="4876920" y="3657600"/>
              <a:ext cx="1675800" cy="1083960"/>
              <a:chOff x="4876920" y="3657600"/>
              <a:chExt cx="1675800" cy="1083960"/>
            </a:xfrm>
          </p:grpSpPr>
          <p:grpSp>
            <p:nvGrpSpPr>
              <p:cNvPr id="705" name="Group 32"/>
              <p:cNvGrpSpPr/>
              <p:nvPr/>
            </p:nvGrpSpPr>
            <p:grpSpPr>
              <a:xfrm>
                <a:off x="5257080" y="3962160"/>
                <a:ext cx="609840" cy="608760"/>
                <a:chOff x="5257080" y="3962160"/>
                <a:chExt cx="609840" cy="608760"/>
              </a:xfrm>
            </p:grpSpPr>
            <p:sp>
              <p:nvSpPr>
                <p:cNvPr id="706" name="Arc 33"/>
                <p:cNvSpPr/>
                <p:nvPr/>
              </p:nvSpPr>
              <p:spPr>
                <a:xfrm>
                  <a:off x="5562360" y="3962160"/>
                  <a:ext cx="304560" cy="304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rc 34"/>
                <p:cNvSpPr/>
                <p:nvPr/>
              </p:nvSpPr>
              <p:spPr>
                <a:xfrm flipH="1">
                  <a:off x="5256720" y="3962160"/>
                  <a:ext cx="304920" cy="304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Arc 35"/>
                <p:cNvSpPr/>
                <p:nvPr/>
              </p:nvSpPr>
              <p:spPr>
                <a:xfrm flipH="1" flipV="1">
                  <a:off x="5256720" y="4266000"/>
                  <a:ext cx="304920" cy="30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rc 36"/>
                <p:cNvSpPr/>
                <p:nvPr/>
              </p:nvSpPr>
              <p:spPr>
                <a:xfrm flipV="1">
                  <a:off x="5562360" y="4419000"/>
                  <a:ext cx="228600" cy="151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Text Box 37"/>
              <p:cNvSpPr/>
              <p:nvPr/>
            </p:nvSpPr>
            <p:spPr>
              <a:xfrm>
                <a:off x="6095880" y="4190760"/>
                <a:ext cx="456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66ffcc"/>
                    </a:solidFill>
                    <a:latin typeface="Symbol"/>
                    <a:ea typeface="Symbol"/>
                  </a:rPr>
                  <a:t>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38"/>
              <p:cNvSpPr/>
              <p:nvPr/>
            </p:nvSpPr>
            <p:spPr>
              <a:xfrm>
                <a:off x="4876920" y="3657600"/>
                <a:ext cx="456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66ffcc"/>
                    </a:solidFill>
                    <a:latin typeface="Symbol"/>
                    <a:ea typeface="Symbol"/>
                  </a:rPr>
                  <a:t>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Text Box 39"/>
            <p:cNvSpPr/>
            <p:nvPr/>
          </p:nvSpPr>
          <p:spPr>
            <a:xfrm>
              <a:off x="8001000" y="464832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40"/>
            <p:cNvSpPr/>
            <p:nvPr/>
          </p:nvSpPr>
          <p:spPr>
            <a:xfrm>
              <a:off x="6248520" y="358128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75"/>
          <p:cNvGrpSpPr/>
          <p:nvPr/>
        </p:nvGrpSpPr>
        <p:grpSpPr>
          <a:xfrm>
            <a:off x="644400" y="3581280"/>
            <a:ext cx="3751200" cy="2355840"/>
            <a:chOff x="644400" y="3581280"/>
            <a:chExt cx="3751200" cy="2355840"/>
          </a:xfrm>
        </p:grpSpPr>
        <p:sp>
          <p:nvSpPr>
            <p:cNvPr id="715" name="Line 61"/>
            <p:cNvSpPr/>
            <p:nvPr/>
          </p:nvSpPr>
          <p:spPr>
            <a:xfrm>
              <a:off x="3733920" y="380988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62"/>
            <p:cNvSpPr/>
            <p:nvPr/>
          </p:nvSpPr>
          <p:spPr>
            <a:xfrm flipH="1">
              <a:off x="1053720" y="431964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3"/>
            <p:cNvSpPr/>
            <p:nvPr/>
          </p:nvSpPr>
          <p:spPr>
            <a:xfrm flipH="1">
              <a:off x="1261800" y="431964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64"/>
            <p:cNvSpPr/>
            <p:nvPr/>
          </p:nvSpPr>
          <p:spPr>
            <a:xfrm>
              <a:off x="1371600" y="4419720"/>
              <a:ext cx="0" cy="1388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5"/>
            <p:cNvSpPr/>
            <p:nvPr/>
          </p:nvSpPr>
          <p:spPr>
            <a:xfrm>
              <a:off x="314316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6"/>
            <p:cNvSpPr/>
            <p:nvPr/>
          </p:nvSpPr>
          <p:spPr>
            <a:xfrm>
              <a:off x="251604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67"/>
            <p:cNvSpPr/>
            <p:nvPr/>
          </p:nvSpPr>
          <p:spPr>
            <a:xfrm>
              <a:off x="188928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8"/>
            <p:cNvSpPr/>
            <p:nvPr/>
          </p:nvSpPr>
          <p:spPr>
            <a:xfrm flipH="1">
              <a:off x="1245960" y="4803840"/>
              <a:ext cx="2775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9"/>
            <p:cNvSpPr/>
            <p:nvPr/>
          </p:nvSpPr>
          <p:spPr>
            <a:xfrm flipH="1">
              <a:off x="1245960" y="5257800"/>
              <a:ext cx="2775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73"/>
            <p:cNvSpPr/>
            <p:nvPr/>
          </p:nvSpPr>
          <p:spPr>
            <a:xfrm flipH="1">
              <a:off x="1371240" y="4319640"/>
              <a:ext cx="2397240" cy="1547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74"/>
            <p:cNvSpPr/>
            <p:nvPr/>
          </p:nvSpPr>
          <p:spPr>
            <a:xfrm flipH="1">
              <a:off x="2320200" y="53863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81"/>
            <p:cNvSpPr/>
            <p:nvPr/>
          </p:nvSpPr>
          <p:spPr>
            <a:xfrm flipH="1">
              <a:off x="2778120" y="42433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82"/>
            <p:cNvSpPr/>
            <p:nvPr/>
          </p:nvSpPr>
          <p:spPr>
            <a:xfrm flipH="1">
              <a:off x="2930400" y="363384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83"/>
            <p:cNvSpPr/>
            <p:nvPr/>
          </p:nvSpPr>
          <p:spPr>
            <a:xfrm flipH="1">
              <a:off x="644400" y="462456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84"/>
            <p:cNvSpPr/>
            <p:nvPr/>
          </p:nvSpPr>
          <p:spPr>
            <a:xfrm flipH="1">
              <a:off x="2092320" y="358128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rc 85"/>
            <p:cNvSpPr/>
            <p:nvPr/>
          </p:nvSpPr>
          <p:spPr>
            <a:xfrm>
              <a:off x="3616200" y="393876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rc 86"/>
            <p:cNvSpPr/>
            <p:nvPr/>
          </p:nvSpPr>
          <p:spPr>
            <a:xfrm flipH="1">
              <a:off x="3311640" y="3938760"/>
              <a:ext cx="30456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rc 87"/>
            <p:cNvSpPr/>
            <p:nvPr/>
          </p:nvSpPr>
          <p:spPr>
            <a:xfrm flipH="1" flipV="1">
              <a:off x="3311640" y="4241880"/>
              <a:ext cx="304560" cy="255600"/>
            </a:xfrm>
            <a:custGeom>
              <a:avLst/>
              <a:gdLst/>
              <a:ahLst/>
              <a:rect l="l" t="t" r="r" b="b"/>
              <a:pathLst>
                <a:path fill="none" w="21600" h="18068">
                  <a:moveTo>
                    <a:pt x="11836" y="0"/>
                  </a:moveTo>
                  <a:cubicBezTo>
                    <a:pt x="17929" y="3991"/>
                    <a:pt x="21600" y="10784"/>
                    <a:pt x="21600" y="18068"/>
                  </a:cubicBezTo>
                </a:path>
                <a:path stroke="0" w="21600" h="18068">
                  <a:moveTo>
                    <a:pt x="11836" y="0"/>
                  </a:moveTo>
                  <a:cubicBezTo>
                    <a:pt x="17929" y="3991"/>
                    <a:pt x="21600" y="10784"/>
                    <a:pt x="21600" y="18068"/>
                  </a:cubicBezTo>
                  <a:lnTo>
                    <a:pt x="0" y="18068"/>
                  </a:lnTo>
                  <a:lnTo>
                    <a:pt x="11836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167"/>
          <p:cNvGrpSpPr/>
          <p:nvPr/>
        </p:nvGrpSpPr>
        <p:grpSpPr>
          <a:xfrm>
            <a:off x="4859280" y="1142640"/>
            <a:ext cx="4132440" cy="2214360"/>
            <a:chOff x="4859280" y="1142640"/>
            <a:chExt cx="4132440" cy="2214360"/>
          </a:xfrm>
        </p:grpSpPr>
        <p:sp>
          <p:nvSpPr>
            <p:cNvPr id="734" name="Line 102"/>
            <p:cNvSpPr/>
            <p:nvPr/>
          </p:nvSpPr>
          <p:spPr>
            <a:xfrm flipV="1">
              <a:off x="5521320" y="123480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03"/>
            <p:cNvSpPr/>
            <p:nvPr/>
          </p:nvSpPr>
          <p:spPr>
            <a:xfrm>
              <a:off x="4859280" y="278280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04"/>
            <p:cNvSpPr/>
            <p:nvPr/>
          </p:nvSpPr>
          <p:spPr>
            <a:xfrm>
              <a:off x="5624640" y="278280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05"/>
            <p:cNvSpPr/>
            <p:nvPr/>
          </p:nvSpPr>
          <p:spPr>
            <a:xfrm flipV="1">
              <a:off x="7883640" y="1293840"/>
              <a:ext cx="0" cy="1388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106"/>
            <p:cNvSpPr/>
            <p:nvPr/>
          </p:nvSpPr>
          <p:spPr>
            <a:xfrm flipV="1">
              <a:off x="611172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07"/>
            <p:cNvSpPr/>
            <p:nvPr/>
          </p:nvSpPr>
          <p:spPr>
            <a:xfrm flipV="1">
              <a:off x="673884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08"/>
            <p:cNvSpPr/>
            <p:nvPr/>
          </p:nvSpPr>
          <p:spPr>
            <a:xfrm flipV="1">
              <a:off x="736596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09"/>
            <p:cNvSpPr/>
            <p:nvPr/>
          </p:nvSpPr>
          <p:spPr>
            <a:xfrm>
              <a:off x="7731000" y="23018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10"/>
            <p:cNvSpPr/>
            <p:nvPr/>
          </p:nvSpPr>
          <p:spPr>
            <a:xfrm>
              <a:off x="7731000" y="18446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14"/>
            <p:cNvSpPr/>
            <p:nvPr/>
          </p:nvSpPr>
          <p:spPr>
            <a:xfrm flipV="1">
              <a:off x="5486400" y="1142640"/>
              <a:ext cx="2362320" cy="1676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15"/>
            <p:cNvSpPr/>
            <p:nvPr/>
          </p:nvSpPr>
          <p:spPr>
            <a:xfrm>
              <a:off x="6248520" y="13716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123"/>
            <p:cNvSpPr/>
            <p:nvPr/>
          </p:nvSpPr>
          <p:spPr>
            <a:xfrm flipV="1">
              <a:off x="6019920" y="2284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124"/>
            <p:cNvSpPr/>
            <p:nvPr/>
          </p:nvSpPr>
          <p:spPr>
            <a:xfrm>
              <a:off x="8077320" y="182880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25"/>
            <p:cNvSpPr/>
            <p:nvPr/>
          </p:nvSpPr>
          <p:spPr>
            <a:xfrm>
              <a:off x="6400800" y="274320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rc 128"/>
            <p:cNvSpPr/>
            <p:nvPr/>
          </p:nvSpPr>
          <p:spPr>
            <a:xfrm>
              <a:off x="6400800" y="2209680"/>
              <a:ext cx="30492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68"/>
          <p:cNvGrpSpPr/>
          <p:nvPr/>
        </p:nvGrpSpPr>
        <p:grpSpPr>
          <a:xfrm>
            <a:off x="762120" y="1218960"/>
            <a:ext cx="3798720" cy="2138040"/>
            <a:chOff x="762120" y="1218960"/>
            <a:chExt cx="3798720" cy="2138040"/>
          </a:xfrm>
        </p:grpSpPr>
        <p:sp>
          <p:nvSpPr>
            <p:cNvPr id="750" name="Arc 77"/>
            <p:cNvSpPr/>
            <p:nvPr/>
          </p:nvSpPr>
          <p:spPr>
            <a:xfrm>
              <a:off x="3429000" y="236232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rc 78"/>
            <p:cNvSpPr/>
            <p:nvPr/>
          </p:nvSpPr>
          <p:spPr>
            <a:xfrm flipH="1">
              <a:off x="3199680" y="2362320"/>
              <a:ext cx="228600" cy="99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22"/>
            <p:cNvSpPr/>
            <p:nvPr/>
          </p:nvSpPr>
          <p:spPr>
            <a:xfrm flipV="1">
              <a:off x="1981080" y="228456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46"/>
            <p:cNvSpPr/>
            <p:nvPr/>
          </p:nvSpPr>
          <p:spPr>
            <a:xfrm flipV="1">
              <a:off x="3505320" y="121896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47"/>
            <p:cNvSpPr/>
            <p:nvPr/>
          </p:nvSpPr>
          <p:spPr>
            <a:xfrm flipH="1">
              <a:off x="1219320" y="2819520"/>
              <a:ext cx="3341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48"/>
            <p:cNvSpPr/>
            <p:nvPr/>
          </p:nvSpPr>
          <p:spPr>
            <a:xfrm flipH="1">
              <a:off x="1204560" y="278280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50"/>
            <p:cNvSpPr/>
            <p:nvPr/>
          </p:nvSpPr>
          <p:spPr>
            <a:xfrm flipV="1">
              <a:off x="169236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51"/>
            <p:cNvSpPr/>
            <p:nvPr/>
          </p:nvSpPr>
          <p:spPr>
            <a:xfrm flipV="1">
              <a:off x="231948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52"/>
            <p:cNvSpPr/>
            <p:nvPr/>
          </p:nvSpPr>
          <p:spPr>
            <a:xfrm flipV="1">
              <a:off x="294624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7"/>
            <p:cNvSpPr/>
            <p:nvPr/>
          </p:nvSpPr>
          <p:spPr>
            <a:xfrm flipH="1" flipV="1">
              <a:off x="1294920" y="1295280"/>
              <a:ext cx="2210040" cy="1524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158"/>
            <p:cNvSpPr/>
            <p:nvPr/>
          </p:nvSpPr>
          <p:spPr>
            <a:xfrm flipH="1">
              <a:off x="2056680" y="13716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59"/>
            <p:cNvSpPr/>
            <p:nvPr/>
          </p:nvSpPr>
          <p:spPr>
            <a:xfrm flipH="1" flipV="1">
              <a:off x="3048120" y="182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60"/>
            <p:cNvSpPr/>
            <p:nvPr/>
          </p:nvSpPr>
          <p:spPr>
            <a:xfrm flipH="1">
              <a:off x="762120" y="182880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61"/>
            <p:cNvSpPr/>
            <p:nvPr/>
          </p:nvSpPr>
          <p:spPr>
            <a:xfrm flipH="1">
              <a:off x="2208960" y="2743200"/>
              <a:ext cx="8384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63"/>
            <p:cNvSpPr/>
            <p:nvPr/>
          </p:nvSpPr>
          <p:spPr>
            <a:xfrm flipV="1">
              <a:off x="1295280" y="1294920"/>
              <a:ext cx="0" cy="1389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65"/>
            <p:cNvSpPr/>
            <p:nvPr/>
          </p:nvSpPr>
          <p:spPr>
            <a:xfrm>
              <a:off x="1143000" y="23036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66"/>
            <p:cNvSpPr/>
            <p:nvPr/>
          </p:nvSpPr>
          <p:spPr>
            <a:xfrm>
              <a:off x="1143000" y="18464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173"/>
          <p:cNvSpPr/>
          <p:nvPr/>
        </p:nvSpPr>
        <p:spPr>
          <a:xfrm>
            <a:off x="609480" y="6172200"/>
            <a:ext cx="8153640" cy="5508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>
                <a:solidFill>
                  <a:srgbClr val="ff0000"/>
                </a:solidFill>
                <a:latin typeface="Arial Black"/>
                <a:ea typeface="Arial Black"/>
              </a:rPr>
              <a:t>Problem 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ppose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4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3333"/>
                </a:solidFill>
                <a:latin typeface="Symbol"/>
                <a:ea typeface="Symbol"/>
              </a:rPr>
              <a:t>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"/>
          <p:cNvSpPr/>
          <p:nvPr/>
        </p:nvSpPr>
        <p:spPr>
          <a:xfrm>
            <a:off x="5715000" y="838080"/>
            <a:ext cx="1219320" cy="1069200"/>
          </a:xfrm>
          <a:prstGeom prst="rect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</a:t>
            </a:r>
            <a:r>
              <a:rPr b="1" lang="en-US" sz="3600" spc="-1" strike="noStrike">
                <a:solidFill>
                  <a:srgbClr val="003333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92"/>
          <p:cNvSpPr/>
          <p:nvPr/>
        </p:nvSpPr>
        <p:spPr>
          <a:xfrm>
            <a:off x="1447920" y="838080"/>
            <a:ext cx="2133360" cy="1069200"/>
          </a:xfrm>
          <a:prstGeom prst="rect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</a:t>
            </a:r>
            <a:r>
              <a:rPr b="1" lang="en-US" sz="3600" spc="-1" strike="noStrike">
                <a:solidFill>
                  <a:srgbClr val="003333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93"/>
          <p:cNvSpPr/>
          <p:nvPr/>
        </p:nvSpPr>
        <p:spPr>
          <a:xfrm>
            <a:off x="380880" y="3352680"/>
            <a:ext cx="2133720" cy="1069200"/>
          </a:xfrm>
          <a:prstGeom prst="rect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</a:t>
            </a:r>
            <a:r>
              <a:rPr b="1" lang="en-US" sz="3600" spc="-1" strike="noStrike">
                <a:solidFill>
                  <a:srgbClr val="003333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94"/>
          <p:cNvSpPr/>
          <p:nvPr/>
        </p:nvSpPr>
        <p:spPr>
          <a:xfrm>
            <a:off x="6705720" y="3352680"/>
            <a:ext cx="2133360" cy="1069200"/>
          </a:xfrm>
          <a:prstGeom prst="rect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</a:t>
            </a:r>
            <a:r>
              <a:rPr b="1" lang="en-US" sz="3600" spc="-1" strike="noStrike">
                <a:solidFill>
                  <a:srgbClr val="003333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33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088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blem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‏لقطة الشاشة ٢٠١٥-٠٢-١١ في ١‎.٣٥‎.٣٧ ص.png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4572000"/>
          </a:xfrm>
          <a:prstGeom prst="rect">
            <a:avLst/>
          </a:prstGeom>
          <a:ln w="0">
            <a:noFill/>
          </a:ln>
        </p:spPr>
      </p:pic>
      <p:sp>
        <p:nvSpPr>
          <p:cNvPr id="774" name="TextBox 6"/>
          <p:cNvSpPr/>
          <p:nvPr/>
        </p:nvSpPr>
        <p:spPr>
          <a:xfrm>
            <a:off x="2895480" y="5410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= 86.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= - 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33"/>
                </a:solidFill>
                <a:latin typeface="Garamond"/>
              </a:rPr>
              <a:t>Thank You 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alar and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A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quantity in physics that h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NOT a direction associated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{ speed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quantity in physics that has BO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{_x0016_Acceleration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VECTOR ADDI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If 2 similar vectors point in the SAME direction, </a:t>
            </a:r>
            <a:r>
              <a:rPr b="1" lang="en-US" sz="2100" spc="-1" strike="noStrike">
                <a:solidFill>
                  <a:srgbClr val="0d0d0d"/>
                </a:solidFill>
                <a:latin typeface="Arial"/>
              </a:rPr>
              <a:t>add th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ECTOR SUBTR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f 2 vectors are going in opposite directions,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subtrac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n walks 54.5 meters east, then 30 meters west. Calculate his displacement relative to where he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"/>
          <p:cNvSpPr/>
          <p:nvPr/>
        </p:nvSpPr>
        <p:spPr>
          <a:xfrm>
            <a:off x="1066680" y="4495680"/>
            <a:ext cx="2438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677960" y="40384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6"/>
          <p:cNvSpPr/>
          <p:nvPr/>
        </p:nvSpPr>
        <p:spPr>
          <a:xfrm flipH="1">
            <a:off x="1981080" y="4572000"/>
            <a:ext cx="1447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2423520" y="45324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m,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3566880" y="4227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1066680" y="5105520"/>
            <a:ext cx="91440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1068120" y="51055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roblem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moves 80 Km east, then 30 Km west. After that it moves again 50 Km eas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its displacement relative to where it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 Km , 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2 vectors ar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pendicul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you must use the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Pythagorean theor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Untitled.png"/>
          <p:cNvPicPr/>
          <p:nvPr/>
        </p:nvPicPr>
        <p:blipFill>
          <a:blip r:embed="rId1"/>
          <a:stretch/>
        </p:blipFill>
        <p:spPr>
          <a:xfrm>
            <a:off x="1981080" y="2971800"/>
            <a:ext cx="4876920" cy="2730600"/>
          </a:xfrm>
          <a:prstGeom prst="rect">
            <a:avLst/>
          </a:prstGeom>
          <a:ln w="0">
            <a:noFill/>
          </a:ln>
        </p:spPr>
      </p:pic>
      <p:sp>
        <p:nvSpPr>
          <p:cNvPr id="635" name="TextBox 3"/>
          <p:cNvSpPr/>
          <p:nvPr/>
        </p:nvSpPr>
        <p:spPr>
          <a:xfrm>
            <a:off x="35812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badi MT Condensed Extra Bold"/>
                <a:ea typeface="Abadi MT Condensed Extra Bold"/>
              </a:rPr>
              <a:t>Key of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dire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ollow these graph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1371600" y="3352680"/>
            <a:ext cx="175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enir Heavy"/>
                <a:ea typeface="Avenir Heavy"/>
              </a:rPr>
              <a:t>#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enir Heavy"/>
                <a:ea typeface="Avenir Heavy"/>
              </a:rPr>
              <a:t>#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enir Heavy"/>
                <a:ea typeface="Avenir Heavy"/>
              </a:rPr>
              <a:t>#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enir Heavy"/>
                <a:ea typeface="Avenir Heavy"/>
              </a:rPr>
              <a:t>#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6629400" y="3124080"/>
            <a:ext cx="0" cy="259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1"/>
          <p:cNvSpPr/>
          <p:nvPr/>
        </p:nvSpPr>
        <p:spPr>
          <a:xfrm>
            <a:off x="5181480" y="4419720"/>
            <a:ext cx="2971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2"/>
          <p:cNvSpPr/>
          <p:nvPr/>
        </p:nvSpPr>
        <p:spPr>
          <a:xfrm>
            <a:off x="6463080" y="2703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64789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8139240" y="4227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4649760" y="4267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6"/>
          <p:cNvSpPr/>
          <p:nvPr/>
        </p:nvSpPr>
        <p:spPr>
          <a:xfrm flipV="1">
            <a:off x="6705720" y="3276360"/>
            <a:ext cx="1218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rc 17"/>
          <p:cNvSpPr/>
          <p:nvPr/>
        </p:nvSpPr>
        <p:spPr>
          <a:xfrm>
            <a:off x="7162920" y="3962520"/>
            <a:ext cx="7596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7377120" y="36939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6615000" y="3313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0"/>
          <p:cNvSpPr/>
          <p:nvPr/>
        </p:nvSpPr>
        <p:spPr>
          <a:xfrm flipH="1">
            <a:off x="5409720" y="4495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5395320" y="4532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f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5699880" y="52941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3"/>
          <p:cNvSpPr/>
          <p:nvPr/>
        </p:nvSpPr>
        <p:spPr>
          <a:xfrm flipH="1" flipV="1">
            <a:off x="5105160" y="3352680"/>
            <a:ext cx="1447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5243040" y="39225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5547960" y="32367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26"/>
          <p:cNvSpPr/>
          <p:nvPr/>
        </p:nvSpPr>
        <p:spPr>
          <a:xfrm>
            <a:off x="6705720" y="4495680"/>
            <a:ext cx="12189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7"/>
          <p:cNvSpPr/>
          <p:nvPr/>
        </p:nvSpPr>
        <p:spPr>
          <a:xfrm>
            <a:off x="7300440" y="4532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6690960" y="5294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oat moves with a velocity of 15 m/s, N in a  river which flows with a velocity of 8.0 m/s, west. Calculate the boat's resultant velocity with respect to due no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4"/>
          <p:cNvSpPr/>
          <p:nvPr/>
        </p:nvSpPr>
        <p:spPr>
          <a:xfrm>
            <a:off x="1844640" y="3036960"/>
            <a:ext cx="0" cy="213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5"/>
          <p:cNvSpPr/>
          <p:nvPr/>
        </p:nvSpPr>
        <p:spPr>
          <a:xfrm>
            <a:off x="853920" y="417996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6"/>
          <p:cNvSpPr/>
          <p:nvPr/>
        </p:nvSpPr>
        <p:spPr>
          <a:xfrm flipV="1">
            <a:off x="1844640" y="3036600"/>
            <a:ext cx="0" cy="1066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1904040" y="304812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m/s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 flipH="1">
            <a:off x="1234800" y="303696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1217880" y="26668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0 m/s,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0"/>
          <p:cNvSpPr/>
          <p:nvPr/>
        </p:nvSpPr>
        <p:spPr>
          <a:xfrm flipH="1" flipV="1">
            <a:off x="1158480" y="3036600"/>
            <a:ext cx="685800" cy="1066680"/>
          </a:xfrm>
          <a:prstGeom prst="line">
            <a:avLst/>
          </a:prstGeom>
          <a:ln w="25560">
            <a:solidFill>
              <a:srgbClr val="8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1073160" y="345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2"/>
          <p:cNvSpPr/>
          <p:nvPr/>
        </p:nvSpPr>
        <p:spPr>
          <a:xfrm>
            <a:off x="1617120" y="35701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3"/>
              <p:cNvSpPr txBox="1"/>
              <p:nvPr/>
            </p:nvSpPr>
            <p:spPr>
              <a:xfrm>
                <a:off x="3809880" y="2438280"/>
                <a:ext cx="403884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3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Text Box 14"/>
          <p:cNvSpPr/>
          <p:nvPr/>
        </p:nvSpPr>
        <p:spPr>
          <a:xfrm>
            <a:off x="2424240" y="498960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Answer 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 m/s, @ 28.1 degrees West of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lane moves with a velocity of 63.5 m/s at 32 degrees South of East. Calculate the plane's horizontal and vertical velocity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"/>
          <p:cNvSpPr/>
          <p:nvPr/>
        </p:nvSpPr>
        <p:spPr>
          <a:xfrm>
            <a:off x="4191120" y="2590920"/>
            <a:ext cx="0" cy="2514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5"/>
          <p:cNvSpPr/>
          <p:nvPr/>
        </p:nvSpPr>
        <p:spPr>
          <a:xfrm>
            <a:off x="2590920" y="3809880"/>
            <a:ext cx="3352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6"/>
          <p:cNvSpPr/>
          <p:nvPr/>
        </p:nvSpPr>
        <p:spPr>
          <a:xfrm>
            <a:off x="4191120" y="3809880"/>
            <a:ext cx="14475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4342320" y="4267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5 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4649400" y="3809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9"/>
          <p:cNvSpPr/>
          <p:nvPr/>
        </p:nvSpPr>
        <p:spPr>
          <a:xfrm>
            <a:off x="4191120" y="3809880"/>
            <a:ext cx="1447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4803840" y="342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5638680" y="3809880"/>
            <a:ext cx="0" cy="7621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5715000" y="40053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2"/>
          <p:cNvSpPr/>
          <p:nvPr/>
        </p:nvSpPr>
        <p:spPr>
          <a:xfrm>
            <a:off x="2895480" y="5410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= 53.85 m/s , eas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= 33.64 m/s , south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5:56:29Z</dcterms:created>
  <dc:creator>Kenneth Bowles</dc:creator>
  <dc:description/>
  <dc:language>en-US</dc:language>
  <cp:lastModifiedBy>السلام عبد</cp:lastModifiedBy>
  <dcterms:modified xsi:type="dcterms:W3CDTF">2015-02-10T22:52:00Z</dcterms:modified>
  <cp:revision>25</cp:revision>
  <dc:subject/>
  <dc:title>Vectors and Scalars</dc:title>
</cp:coreProperties>
</file>