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wmf" ContentType="image/x-wmf"/>
  <Override PartName="/ppt/media/image20.wmf" ContentType="image/x-wmf"/>
  <Override PartName="/ppt/media/image17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87B6-58FB-4111-8191-5D223CB19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40B4-DBBA-48DC-A018-3EDF6FA7EBFA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3B02-DA2C-4A5C-B30C-E7ACDEC7E3D8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45E0-6826-4EF2-A838-4780243674A5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EB22-65B4-4782-B221-3EA396A4F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4216-3343-4BE6-8EFC-3821AE1A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163F-6828-4694-B993-CBA8FED38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4113-D20E-42AE-8E71-8300F7EE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3E53-D9F6-433E-B007-117F961A6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E3AD-E43E-4115-91C9-2544AC0B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8815-6B05-475C-B186-6E1A5FEC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92B0-E62E-4961-BA49-53F9A1A4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C94B-39BF-49DD-B83B-032D05CB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EED6-5C61-4824-BDC0-35F4F643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2E3B-A114-435C-B776-A87B28BE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CE97-19E3-4C00-BE3F-BD7B8B70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1BCD-8069-4B00-BB60-128DA76A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DAB0-826C-478E-AE60-9E7E7224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3D65-BA91-4957-8086-A1CEB2AF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36F8-346F-4C14-81C6-6F64DA230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5891-BA81-43C4-ABE4-2C5E40DD1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396BF-6591-4926-AC93-B45BD212D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5D427-3014-4138-A779-EF54A809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D30AA-763A-4E4C-B759-D151EE44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D7F40-5A87-412E-8353-16FA17CF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47562-3B2B-46FD-A664-AE7B6A17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17BB-B082-4403-856B-1A2316BE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AF3F0-E4DA-47EF-963F-18B7A815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433C0-D16C-4EC6-9FFF-FA0053F0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E5B5B-35C5-4DEF-85AD-7E70141D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D4F67-9AB0-44F8-A3F4-23211AC1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09BE2-F47E-41BE-91AA-75135BFA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2E7C7-C33E-4C61-A490-F575F6C6F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57B0E-32CB-4F8A-89CE-14BEF8AE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9506F-7730-4F1F-99FC-59B119567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06890-8083-46A8-9796-6A18BA69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436B8-7809-4E22-A8C6-832E08C3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27C9-6B66-4364-A612-2740EF5C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50C14-C11C-4AF0-AABE-D11304D1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25D2C-C554-4F40-A890-28F64C57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017CA-7482-4061-AE25-EBEC3928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01DBE-03DE-41B2-A5B3-F4FC8E3B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438DD-0966-4B56-9048-A1B075F0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6D30A-0890-4B7C-BE36-5299757A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9AE6A-F609-4E13-80FE-01528A5B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7CC6E-ECD9-4170-87A9-9239A1A62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88372-880C-4084-9A4D-D2FB98C48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19784-F4DE-4B72-871F-E90F277E1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CE6C-E4FC-471E-AC96-4B2D2D78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AD100-4860-469C-873C-D54AFFFA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F5C8D-91F9-4347-9BB7-B99A23A7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89D07-B3E1-4494-BBC9-89D3D5D2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DA54F-4FC7-4807-88E0-F719EF9C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87534-7E73-4E21-A41B-F4526893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6064E-2527-4F24-818F-5A51E966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A3F04-0773-4468-8E66-AB8E737C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066EE-1D70-40A3-8E03-2C904C4B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02F55-0A01-4531-8867-E6B83C33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F4F7B-1305-478D-A3C4-B68B585F2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52E5-1F2E-4D0D-A440-AE06445B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C3BFA-79AC-4832-A144-F1EFD429E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49FA-82E0-4DFA-99B4-15E28643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E832-1296-4A21-B27F-AF09BC64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62AD-84E9-4FDA-AEBB-986DF8D2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1B38-9D54-453F-BC8B-89F24D70160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04E6-1CBB-4578-BAAB-AFC48C2F3E4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B87B-19C8-4000-B585-830CAAF16C6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91C7-457D-4163-86C6-46A4C70FF08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C5DF-94E2-43C6-A269-D29B1E66556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"/>
          <p:cNvSpPr/>
          <p:nvPr/>
        </p:nvSpPr>
        <p:spPr>
          <a:xfrm>
            <a:off x="2022480" y="2590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34"/>
                </a:solidFill>
                <a:latin typeface="Times New Roman"/>
              </a:rPr>
              <a:t>Vectors and Vector Spaces</a:t>
            </a:r>
            <a:endParaRPr b="0" lang="en-US" sz="32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153280" cy="14475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85341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381880" cy="3124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2"/>
          <a:stretch/>
        </p:blipFill>
        <p:spPr>
          <a:xfrm>
            <a:off x="457200" y="3809880"/>
            <a:ext cx="8229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Rank of a Matrix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599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 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rank of a matrix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 is 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defined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 as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(a) The maximum number of linearly independent column vectors in the 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matrix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OR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(b) The maximum number of linearly independent row vectors in the 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matrix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Both 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definitions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 are equivalent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6" name="Picture 8" descr=""/>
          <p:cNvPicPr/>
          <p:nvPr/>
        </p:nvPicPr>
        <p:blipFill>
          <a:blip r:embed="rId1"/>
          <a:srcRect l="0" t="-15529" r="51725" b="0"/>
          <a:stretch/>
        </p:blipFill>
        <p:spPr>
          <a:xfrm>
            <a:off x="609480" y="4800600"/>
            <a:ext cx="3200400" cy="56340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10"/>
          <p:cNvSpPr/>
          <p:nvPr/>
        </p:nvSpPr>
        <p:spPr>
          <a:xfrm>
            <a:off x="4114800" y="5005440"/>
            <a:ext cx="838080" cy="152280"/>
          </a:xfrm>
          <a:prstGeom prst="rightArrow">
            <a:avLst>
              <a:gd name="adj1" fmla="val 50000"/>
              <a:gd name="adj2" fmla="val 137589"/>
            </a:avLst>
          </a:prstGeom>
          <a:solidFill>
            <a:srgbClr val="93a299"/>
          </a:solidFill>
          <a:ln cap="sq" w="1260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48" name="Picture 9" descr=""/>
          <p:cNvPicPr/>
          <p:nvPr/>
        </p:nvPicPr>
        <p:blipFill>
          <a:blip r:embed="rId2"/>
          <a:srcRect l="62074" t="0" r="0" b="-40653"/>
          <a:stretch/>
        </p:blipFill>
        <p:spPr>
          <a:xfrm>
            <a:off x="5410080" y="4815000"/>
            <a:ext cx="25146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Rank of matrix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43080" y="1181160"/>
            <a:ext cx="8229600" cy="13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d8f67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Consider the matrix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rcRect l="20592" t="0" r="0" b="0"/>
          <a:stretch/>
        </p:blipFill>
        <p:spPr>
          <a:xfrm>
            <a:off x="4746600" y="1758960"/>
            <a:ext cx="2057400" cy="15177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5"/>
          <p:cNvSpPr/>
          <p:nvPr/>
        </p:nvSpPr>
        <p:spPr>
          <a:xfrm>
            <a:off x="5951520" y="548640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</a:rPr>
              <a:t>Hence, the rank is 3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53" name="Picture 6" descr=""/>
          <p:cNvPicPr/>
          <p:nvPr/>
        </p:nvPicPr>
        <p:blipFill>
          <a:blip r:embed="rId2"/>
          <a:stretch/>
        </p:blipFill>
        <p:spPr>
          <a:xfrm>
            <a:off x="457200" y="5056200"/>
            <a:ext cx="5562720" cy="1440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"/>
          <p:cNvPicPr/>
          <p:nvPr/>
        </p:nvPicPr>
        <p:blipFill>
          <a:blip r:embed="rId3"/>
          <a:stretch/>
        </p:blipFill>
        <p:spPr>
          <a:xfrm>
            <a:off x="457200" y="3276720"/>
            <a:ext cx="4419720" cy="187308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5"/>
          <p:cNvSpPr/>
          <p:nvPr/>
        </p:nvSpPr>
        <p:spPr>
          <a:xfrm>
            <a:off x="5032440" y="3979800"/>
            <a:ext cx="35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</a:rPr>
              <a:t>Therefore, rank is not 4 !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Orthogonal matric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3505320" cy="1684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"/>
          <p:cNvPicPr/>
          <p:nvPr/>
        </p:nvPicPr>
        <p:blipFill>
          <a:blip r:embed="rId2"/>
          <a:stretch/>
        </p:blipFill>
        <p:spPr>
          <a:xfrm>
            <a:off x="4191120" y="2286000"/>
            <a:ext cx="3276360" cy="1550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7772400" y="2209680"/>
            <a:ext cx="1108080" cy="167652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7"/>
          <p:cNvSpPr/>
          <p:nvPr/>
        </p:nvSpPr>
        <p:spPr>
          <a:xfrm>
            <a:off x="685800" y="3936960"/>
            <a:ext cx="279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929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292934"/>
                </a:solidFill>
                <a:latin typeface="Times New Roman"/>
              </a:rPr>
              <a:t>A is orthogonal if:</a:t>
            </a:r>
            <a:endParaRPr b="0" lang="en-US" sz="26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610200" y="1574640"/>
            <a:ext cx="1612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929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292934"/>
                </a:solidFill>
                <a:latin typeface="Times New Roman"/>
              </a:rPr>
              <a:t>Notation:</a:t>
            </a:r>
            <a:endParaRPr b="0" lang="en-US" sz="26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62" name="Picture 11" descr=""/>
          <p:cNvPicPr/>
          <p:nvPr/>
        </p:nvPicPr>
        <p:blipFill>
          <a:blip r:embed="rId4"/>
          <a:srcRect l="7143" t="46734" r="0" b="0"/>
          <a:stretch/>
        </p:blipFill>
        <p:spPr>
          <a:xfrm>
            <a:off x="2057400" y="4495680"/>
            <a:ext cx="5943600" cy="5907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2" descr=""/>
          <p:cNvPicPr/>
          <p:nvPr/>
        </p:nvPicPr>
        <p:blipFill>
          <a:blip r:embed="rId5"/>
          <a:stretch/>
        </p:blipFill>
        <p:spPr>
          <a:xfrm>
            <a:off x="2106720" y="5334120"/>
            <a:ext cx="2438280" cy="12096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13"/>
          <p:cNvSpPr/>
          <p:nvPr/>
        </p:nvSpPr>
        <p:spPr>
          <a:xfrm>
            <a:off x="685080" y="56386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d8f67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65" name="AutoShape 14"/>
          <p:cNvSpPr/>
          <p:nvPr/>
        </p:nvSpPr>
        <p:spPr>
          <a:xfrm>
            <a:off x="3657600" y="28954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93a299"/>
          </a:solidFill>
          <a:ln cap="sq" w="1260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66" name="AutoShape 15"/>
          <p:cNvSpPr/>
          <p:nvPr/>
        </p:nvSpPr>
        <p:spPr>
          <a:xfrm>
            <a:off x="7162920" y="2895480"/>
            <a:ext cx="533160" cy="381240"/>
          </a:xfrm>
          <a:prstGeom prst="rightArrow">
            <a:avLst>
              <a:gd name="adj1" fmla="val 50000"/>
              <a:gd name="adj2" fmla="val 34962"/>
            </a:avLst>
          </a:prstGeom>
          <a:solidFill>
            <a:srgbClr val="93a299"/>
          </a:solidFill>
          <a:ln cap="sq" w="1260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67" name="Picture 12" descr="PPT456"/>
          <p:cNvPicPr/>
          <p:nvPr/>
        </p:nvPicPr>
        <p:blipFill>
          <a:blip r:embed="rId6"/>
          <a:stretch/>
        </p:blipFill>
        <p:spPr>
          <a:xfrm>
            <a:off x="4800600" y="5508720"/>
            <a:ext cx="114300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848720" cy="2133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"/>
          <p:cNvPicPr/>
          <p:nvPr/>
        </p:nvPicPr>
        <p:blipFill>
          <a:blip r:embed="rId2"/>
          <a:stretch/>
        </p:blipFill>
        <p:spPr>
          <a:xfrm>
            <a:off x="685800" y="2743200"/>
            <a:ext cx="716292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1532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05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153280" cy="1828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2"/>
          <a:stretch/>
        </p:blipFill>
        <p:spPr>
          <a:xfrm>
            <a:off x="914400" y="3429000"/>
            <a:ext cx="7696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4582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8077320" cy="2438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67816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305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305920" cy="2209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533520" y="2743200"/>
            <a:ext cx="8153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1532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848720" cy="3276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2"/>
          <a:stretch/>
        </p:blipFill>
        <p:spPr>
          <a:xfrm>
            <a:off x="685800" y="4191120"/>
            <a:ext cx="7924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458200" cy="14475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8458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17:09:25Z</dcterms:created>
  <dc:creator>Bokkasam Sasi Bokkasam</dc:creator>
  <dc:description/>
  <dc:language>en-US</dc:language>
  <cp:lastModifiedBy>User</cp:lastModifiedBy>
  <cp:lastPrinted>2015-11-09T09:01:35Z</cp:lastPrinted>
  <dcterms:modified xsi:type="dcterms:W3CDTF">2016-10-05T08:03:18Z</dcterms:modified>
  <cp:revision>332</cp:revision>
  <dc:subject/>
  <dc:title>PowerPoint Presentation</dc:title>
</cp:coreProperties>
</file>