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149B-706A-45BC-A49C-C88E82A72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6E90-C525-43A3-B535-14A4E4DF8A03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C530-4CCF-461D-859F-EEA354BDDDFE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2CA1-EC1D-4299-8B4F-D3D325887287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76B-73CD-41A2-8BEF-675FEEE5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B0D-79F7-4E95-945F-DDF07DD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111-C7C7-4C36-A37F-1461097A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0FC-9F2D-4E11-AA8F-238A090C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3FA0-516D-47A2-865C-4734D431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C46B-49B5-4BAB-8075-70ED78CA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91FF-56D1-4646-BD40-0FB876F5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F3AB-6B0E-432A-9E82-7964E50D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A92C-BFC5-4ABA-8E1B-FEE997A4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DA2E-970C-4142-B717-8490FB89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55BD-7D0D-44C0-B1A1-0B11C4F8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415-43C4-4567-88B6-37C7C312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8D44-2AB1-41AD-9472-EDAC8F03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7F90-6918-447B-B136-B5DD96F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FBFF-606E-497C-B4F3-1567D3E3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14F8-F4A7-416F-9154-7E0BD7DB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937B-BD67-4899-97D1-6D5A2523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06B3-05F5-4F99-B2EC-6ECBF028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644A-38CF-4F01-B1EE-4B49E50A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3D2C-0566-489F-AD3B-CC594466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0649-C1FC-458F-9AAE-86A0B02D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D217-A1C9-42FB-89D0-340BBF95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A83-7DBB-416E-826A-2BD14AEA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2FC3-59FE-477B-A9AC-5D5234F3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241E-EB61-419F-BFED-7039B3DD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3FAF-89A9-48D3-816A-16D3C5C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D27E3-C992-4802-B678-AF6103C2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B198-651E-4B6F-B3A6-307CABD8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C6BE-D71C-4E9A-BDD8-3246F10F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7F22-5370-40B0-8016-3EC2B751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0F84F-AA03-4EBC-8250-FBDE41B1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6BAE-DA4D-4647-A75A-D1768F07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B8F8-CA9C-427E-8BB3-E94F5041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4A2-AF2C-4E94-8A8B-99D14F2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2944-8C75-413D-83EF-5FC4E570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DA2D7-0BEA-47CD-9DE8-6EDAFCBA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9334-E94F-4358-8432-540478F7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9D41D-C1E5-4845-90BB-0AAAF4F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EABA-02ED-4CBF-9C4A-4BE592F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8777-28D6-4195-B9B6-861B8C7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80CC-E665-42C2-AD76-14BA35E0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8768-38B0-40AF-BD10-E948593C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29E2-10F9-4518-B682-60F08CD1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B9009-772A-4E12-B43A-15987FF0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C64-AFE1-4849-9BBE-2C232AA6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D4307-8B2B-48DF-A5F9-C263400C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1355-5476-419A-AAE5-460B2300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D4EA4-5B25-4FB1-B241-5C6BD131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8239F-F309-473C-A7F6-8BE186C1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8930-33AA-4CDA-A0CE-01B501B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27F2B-6D88-4818-AF96-4641F7D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2B84-ACFA-4894-AAC7-CB8CB68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ACC79-9C4B-43A7-A3D0-8107DCB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C3F3-4DDC-480D-B998-CF9674ED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DC72-3D64-4ECE-A41B-5E29B636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9A2-E318-4795-AC9E-B974D56C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F2337-8CC0-4AA0-9C3B-1DBB5EF9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46D-6C15-4271-A2B5-81968506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B79-7F74-463A-8C3E-257130F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A63-CC2D-45C3-8282-CE9F6170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1065-EDC7-4A82-A13C-BB67863313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6542-0F4C-4BAD-A5F6-850DE4017E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D3F1-106C-4E15-B8EF-50E186FBDC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F26-F199-4572-A923-6C9B51125F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5BC5-84AC-44A1-AE47-2995EC62DD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022480" y="2590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Times New Roman"/>
              </a:rPr>
              <a:t>Vectors and Vector Spaces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1447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534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3124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8229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ank of a Matrix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rank of a 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is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fined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a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a) The maximum number of linearly independent column vectors in 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b) The maximum number of linearly independent row vectors in 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oth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finition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are equivalen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1"/>
          <a:srcRect l="0" t="-15529" r="51725" b="0"/>
          <a:stretch/>
        </p:blipFill>
        <p:spPr>
          <a:xfrm>
            <a:off x="609480" y="4800600"/>
            <a:ext cx="3200400" cy="5634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4114800" y="500544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2"/>
          <a:srcRect l="62074" t="0" r="0" b="-40653"/>
          <a:stretch/>
        </p:blipFill>
        <p:spPr>
          <a:xfrm>
            <a:off x="5410080" y="4815000"/>
            <a:ext cx="2514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Rank of matrix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3080" y="11811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Consider the matrix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rcRect l="20592" t="0" r="0" b="0"/>
          <a:stretch/>
        </p:blipFill>
        <p:spPr>
          <a:xfrm>
            <a:off x="4746600" y="1758960"/>
            <a:ext cx="2057400" cy="15177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5951520" y="5486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Hence, the rank is 3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457200" y="5056200"/>
            <a:ext cx="556272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4419720" cy="1873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5032440" y="3979800"/>
            <a:ext cx="35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Therefore, rank is not 4 !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Orthogonal matri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505320" cy="1684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3276360" cy="1550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7772400" y="2209680"/>
            <a:ext cx="1108080" cy="16765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"/>
          <p:cNvSpPr/>
          <p:nvPr/>
        </p:nvSpPr>
        <p:spPr>
          <a:xfrm>
            <a:off x="685800" y="3936960"/>
            <a:ext cx="279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</a:rPr>
              <a:t>A is orthogonal if:</a:t>
            </a:r>
            <a:endParaRPr b="0" lang="en-US" sz="26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10200" y="1574640"/>
            <a:ext cx="161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</a:rPr>
              <a:t>Notation:</a:t>
            </a:r>
            <a:endParaRPr b="0" lang="en-US" sz="26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rcRect l="7143" t="46734" r="0" b="0"/>
          <a:stretch/>
        </p:blipFill>
        <p:spPr>
          <a:xfrm>
            <a:off x="2057400" y="4495680"/>
            <a:ext cx="5943600" cy="590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5"/>
          <a:stretch/>
        </p:blipFill>
        <p:spPr>
          <a:xfrm>
            <a:off x="2106720" y="5334120"/>
            <a:ext cx="2438280" cy="12096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3"/>
          <p:cNvSpPr/>
          <p:nvPr/>
        </p:nvSpPr>
        <p:spPr>
          <a:xfrm>
            <a:off x="685080" y="5638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5" name="AutoShape 14"/>
          <p:cNvSpPr/>
          <p:nvPr/>
        </p:nvSpPr>
        <p:spPr>
          <a:xfrm>
            <a:off x="36576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6" name="AutoShape 15"/>
          <p:cNvSpPr/>
          <p:nvPr/>
        </p:nvSpPr>
        <p:spPr>
          <a:xfrm>
            <a:off x="7162920" y="2895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7" name="Picture 12" descr="PPT456"/>
          <p:cNvPicPr/>
          <p:nvPr/>
        </p:nvPicPr>
        <p:blipFill>
          <a:blip r:embed="rId6"/>
          <a:stretch/>
        </p:blipFill>
        <p:spPr>
          <a:xfrm>
            <a:off x="4800600" y="5508720"/>
            <a:ext cx="1143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2133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162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696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438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6781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15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327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92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1447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458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5-11-09T09:01:35Z</cp:lastPrinted>
  <dcterms:modified xsi:type="dcterms:W3CDTF">2016-10-05T08:03:18Z</dcterms:modified>
  <cp:revision>332</cp:revision>
  <dc:subject/>
  <dc:title>PowerPoint Presentation</dc:title>
</cp:coreProperties>
</file>