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5EF-4661-48CC-93DD-F33ABADB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D04-F32D-48C1-B287-D23B53A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BA7-A3C2-4CE6-9AC5-77C2FDB7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2E5-2921-4716-9ABE-A244128B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A71B-533E-4BC9-AA8C-B1DC6069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EE7B-2CAD-4E4F-B566-8A996A33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1D1A-EBFD-4A37-835C-4ADB4C5B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9535-5647-4B6C-9CD3-CC3D069A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B7A7-2370-4D75-8DBF-F25ECA2C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F5FA-C15B-43AE-87B5-E475F7CE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5633-B9D0-4062-A32A-88BD84E8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68B-F2A9-49EE-A037-329EAD4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2E91-176C-4BCD-A970-1C1C582C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DC62-BE45-4EF3-9416-84FDDD6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D175-17AB-4BA2-AC8C-BA2CF60C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7209-9B53-4FCE-A535-CBA0785D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0A93-AD7E-4BDE-844B-75FACDA0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8FC-DF12-46CE-92B7-EB94AA9C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177-D782-41CD-9182-1E35827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1EA-1C62-44D0-BB9B-03CEBDAB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FA2-48DA-480D-9AE7-76B16900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36C-5EB5-444C-B5AF-BC8DE7EF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BDB-FCBA-42E7-AEA4-7E1F7F1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BD5-2FAB-44BA-8EFE-0580E0F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6862-FCDE-41FA-A071-3A6D947B1817}" type="slidenum"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7834-2FE0-4AEE-97FB-1ED960FA66F7}" type="slidenum"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20680" y="1952280"/>
            <a:ext cx="3516480" cy="38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Venous drainage from the face is entirely superficia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All the venous drainage from the head and neck terminate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nal jugular vein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which join the 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subclavian</a:t>
            </a:r>
            <a:r>
              <a:rPr b="0" i="1" lang="en-US" sz="24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vein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to form th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achiocephalic vein 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behind the medial end of the clavicle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5680" y="2050920"/>
            <a:ext cx="380340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The maxillary vein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A short trunk accompany  the first part of the artery.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Formed by confluence of  the veins of the pterygoid plexus.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It passes backward between the sphenomandibular ligament and the neck of the mandible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Unite with the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superficial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emporal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vein</a:t>
            </a: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 to form the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retromadibular vein. 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11480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terygoid plexus: </a:t>
            </a:r>
            <a:endParaRPr b="0" lang="en-US" sz="3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A network of very small veins, lie around and within the lateral pterygoid muscle in the infratemporal regio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receive some of the veins that correspond to the maxillary artery, inferior ophthalmic vein (internal carotid blood) and the deep facial vein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76920" y="2152800"/>
            <a:ext cx="426708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Pterygoid plexus: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Drain into a pair of large, short maxillary veins which join the superficial temporal vein to form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retromandibular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Deep facial vein drain the plexus into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facial vein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if the maxillary is occluded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505480" y="1828800"/>
            <a:ext cx="363852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                    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Pterygoid plexus:</a:t>
            </a:r>
            <a:endParaRPr b="0" lang="en-US" sz="1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ct 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eripheral pump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, to aid venous return by the pumping action of the muscle every time the mouth is opened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Yaw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a prolonged and forcible contraction of the lateral pterygoid to open the mouth, is accompanied by contraction of the diaphragm and stretching of limbs, is a reflex triggered by venous stagnatio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44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44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haryngeal veins:</a:t>
            </a:r>
            <a:endParaRPr b="0" lang="en-US" sz="3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ff"/>
                </a:solidFill>
                <a:latin typeface="Times New Roman"/>
              </a:rPr>
              <a:t>drain the pharyngeal plexus on the outer surface of the pharynx.</a:t>
            </a:r>
            <a:endParaRPr b="0" lang="en-US" sz="26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ff"/>
                </a:solidFill>
                <a:latin typeface="Times New Roman"/>
              </a:rPr>
              <a:t>End in the internal jugular vein , the facial the lingual or the superior thyroid veins </a:t>
            </a:r>
            <a:endParaRPr b="0" lang="en-US" sz="26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13240" y="1676520"/>
            <a:ext cx="37497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Lingual vein:</a:t>
            </a:r>
            <a:endParaRPr b="0" lang="en-US" sz="26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the tip drain into the deep lingual vein, visible on the under surface near the midline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run back superficial to the hypoglossus and is joined by the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sublingual vein</a:t>
            </a: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 from the gland to form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vena comtians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join the internal jugular near the greater horn of the hyoid bone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13400" y="12193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Superior thyroid vein: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leaves the superior pole of the thyroid gland and empty in the facial or the internal jugular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Middle thyroid vein: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hort and wide, pass from the middle of the pole directly into the internal jugular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Occipital vein: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join the internal jugular but more often join the vertebral or the posterior auricular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238720" y="1295280"/>
            <a:ext cx="39052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40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40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nterior jugular vein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start below the chin, pass beneath the platysma to the suprasternal notch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ierce the deep fascia and is connected to the other side by an anastomosing vein the jugular arch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angle laterally to pass deep to sternocleidomastoid and open in the external jugular vei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486400" y="1523880"/>
            <a:ext cx="34894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051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xternal jugular vein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Begins behind the angle of the mandible by the union of th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osterior auricular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osterior division of the retromandibular vein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It descend obliquely, deep to the platysma, receive the posterior external jugular vei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pierce the deep fascia just above the clavicle and drain into th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ubclavian vein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904000" y="1295280"/>
            <a:ext cx="3240000" cy="47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ributaries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sterior auric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osterior division of retro mandib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osterior exernal jug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verse cervical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uprascap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imes New Roman"/>
              </a:rPr>
              <a:t>anterior jug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nternal jugular vein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It receive blood from the brain, face and the neck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It emerges through the jugular foramen,as a continuation of the sigmoid sinus descend down in the neck, first behind then lateral to the internal carotid artery inside the carotid sheath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72040" y="1447920"/>
            <a:ext cx="40179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The deep cervical lymph nodes are  adjacent to the vei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Terminate beneath the triangular interval between the sternal and the clavicular head of the </a:t>
            </a:r>
            <a:r>
              <a:rPr b="1" i="1" lang="en-US" sz="2000" spc="-1" strike="noStrike">
                <a:solidFill>
                  <a:srgbClr val="99ffff"/>
                </a:solidFill>
                <a:latin typeface="Times New Roman"/>
              </a:rPr>
              <a:t>sternocleidomastoid</a:t>
            </a: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 muscle joining the subclavian vein to form the </a:t>
            </a:r>
            <a:r>
              <a:rPr b="1" i="1" lang="en-US" sz="2000" spc="-1" strike="noStrike">
                <a:solidFill>
                  <a:srgbClr val="99ffff"/>
                </a:solidFill>
                <a:latin typeface="Times New Roman"/>
              </a:rPr>
              <a:t>brachiocephalic</a:t>
            </a: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 vei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426360" y="457200"/>
            <a:ext cx="2717640" cy="294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64160" y="3581280"/>
            <a:ext cx="26798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e superior and inferior bulbs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are dilatation near the origin and the termination of the vein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Above the inferior bulb is a bicuspid valve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Skin, superficial fascia, platysma, deep cervical fascia and parotid lies lateral and anteriorly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194440" y="1676520"/>
            <a:ext cx="3754440" cy="42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5720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ributaries: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Times New Roman"/>
              </a:rPr>
              <a:t>Inferior petrosal sinus:</a:t>
            </a:r>
            <a:endParaRPr b="0" lang="en-US" sz="29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assist in draining the cavernous sinus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leaves through anterior part of jugular foramen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join the vein below the superior bulb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0880" y="1523880"/>
            <a:ext cx="3808440" cy="43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47242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acial vein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is formed by the union   of the supraorbital and supratrochlear veins the medial canthus to form the angular vei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Communicate with the cavernous sinus through the ophthalmic vein via the supraorbita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70560" y="1752480"/>
            <a:ext cx="35323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Times New Roman"/>
              </a:rPr>
              <a:t>Facial vein:</a:t>
            </a:r>
            <a:endParaRPr b="0" lang="en-US" sz="1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descend on the face behind the facial artery  to the lower border of  the mandible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to be joined by the anterior division of th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etomandibular vein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Joins the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pterygoid plexus through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eep facial vei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Cavernous sinus through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uperior ophthalmic vein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15000" y="1212840"/>
            <a:ext cx="3429000" cy="2376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715000" y="3708360"/>
            <a:ext cx="342900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Retromandibular vein:</a:t>
            </a:r>
            <a:endParaRPr b="0" lang="en-US" sz="3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ffff"/>
                </a:solidFill>
                <a:latin typeface="Times New Roman"/>
              </a:rPr>
              <a:t>formed by the union of </a:t>
            </a:r>
            <a:r>
              <a:rPr b="1" i="1" lang="en-US" sz="2500" spc="-1" strike="noStrike">
                <a:solidFill>
                  <a:srgbClr val="ffff00"/>
                </a:solidFill>
                <a:latin typeface="Times New Roman"/>
              </a:rPr>
              <a:t>superficial temporal</a:t>
            </a:r>
            <a:r>
              <a:rPr b="1" lang="en-US" sz="2500" spc="-1" strike="noStrike">
                <a:solidFill>
                  <a:srgbClr val="99ffff"/>
                </a:solidFill>
                <a:latin typeface="Times New Roman"/>
              </a:rPr>
              <a:t> and </a:t>
            </a:r>
            <a:r>
              <a:rPr b="1" i="1" lang="en-US" sz="2500" spc="-1" strike="noStrike">
                <a:solidFill>
                  <a:srgbClr val="ffff00"/>
                </a:solidFill>
                <a:latin typeface="Times New Roman"/>
              </a:rPr>
              <a:t>maxillary vein</a:t>
            </a:r>
            <a:r>
              <a:rPr b="1" lang="en-US" sz="2500" spc="-1" strike="noStrike">
                <a:solidFill>
                  <a:srgbClr val="99ffff"/>
                </a:solidFill>
                <a:latin typeface="Times New Roman"/>
              </a:rPr>
              <a:t> from the pterygoid plexus</a:t>
            </a:r>
            <a:endParaRPr b="0" lang="en-US" sz="25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ffff"/>
                </a:solidFill>
                <a:latin typeface="Times New Roman"/>
              </a:rPr>
              <a:t>passes downwards in the substance of the parotid gland emerging from its lower border &amp; divide into two divisions</a:t>
            </a:r>
            <a:endParaRPr b="0" lang="en-US" sz="25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92880" y="1871640"/>
            <a:ext cx="365112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Retromandibular vein:</a:t>
            </a:r>
            <a:endParaRPr b="0" lang="en-US" sz="15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terior division: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joins the facial vein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erior division: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ierces the deep fascia and join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osterior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uricular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 to form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xternal jugular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It empty into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ubclavian vein  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97320" y="1600200"/>
            <a:ext cx="3948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4:41:16Z</dcterms:created>
  <dc:creator>Dr Abdin</dc:creator>
  <dc:description/>
  <dc:language>en-US</dc:language>
  <cp:lastModifiedBy>Helabdin</cp:lastModifiedBy>
  <dcterms:modified xsi:type="dcterms:W3CDTF">2004-12-11T03:40:36Z</dcterms:modified>
  <cp:revision>33</cp:revision>
  <dc:subject/>
  <dc:title>Veins of the Head and neck</dc:title>
</cp:coreProperties>
</file>