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8745-7567-465D-89B2-B15109641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3031-9622-4AB4-B28E-FA5A81A3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BD28-2898-46F2-8C68-666988D1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B53C-CEFD-4A18-8E8D-64473C17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6B67-1958-4252-9667-705E6DFD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B7BC-8D4D-49FA-926A-DC6B6C94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AABC-14E0-47D8-834E-4EC54520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F184-68D3-4A63-8002-05FE4DB3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0BA5-A212-439D-87C9-221FE7C4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F066-D584-4C79-AEA2-BD4CA13F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7496-AEAD-4BF1-A961-6F58A970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CA3B-85DD-43E3-83FF-CC722358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0527-A9D5-4E3F-9474-6AA1CA24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F30B-67CE-4642-B879-E6B51B20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26E0-1A9A-415D-9C5D-5A08148D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5025-3FD4-458B-82BC-141109F4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2A58-09B2-4151-BEC7-794091CA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276C-BAC8-4656-947B-B947533D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2237-56D2-4B45-B22A-D1BDF21D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4C0B-58A8-456D-A3D8-DA0B8623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C253-6DCC-46D0-9854-6C18CD8F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6E47-CD68-4944-9F28-E3B6B121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1B9B-DD85-415F-B405-7CD1EB11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35C3-A5C7-485D-9334-B44AF662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0320" y="6033960"/>
            <a:ext cx="7531200" cy="290520"/>
            <a:chOff x="760320" y="6033960"/>
            <a:chExt cx="7531200" cy="290520"/>
          </a:xfrm>
        </p:grpSpPr>
        <p:sp>
          <p:nvSpPr>
            <p:cNvPr id="1" name=""/>
            <p:cNvSpPr/>
            <p:nvPr/>
          </p:nvSpPr>
          <p:spPr>
            <a:xfrm>
              <a:off x="760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903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6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89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332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75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18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1523880" y="6059520"/>
              <a:ext cx="284400" cy="264960"/>
              <a:chOff x="1523880" y="6059520"/>
              <a:chExt cx="284400" cy="264960"/>
            </a:xfrm>
          </p:grpSpPr>
          <p:sp>
            <p:nvSpPr>
              <p:cNvPr id="9" name=""/>
              <p:cNvSpPr/>
              <p:nvPr/>
            </p:nvSpPr>
            <p:spPr>
              <a:xfrm>
                <a:off x="1617840" y="60595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685880" y="61880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23880" y="619128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2666880" y="6046920"/>
              <a:ext cx="284400" cy="264960"/>
              <a:chOff x="2666880" y="6046920"/>
              <a:chExt cx="284400" cy="264960"/>
            </a:xfrm>
          </p:grpSpPr>
          <p:sp>
            <p:nvSpPr>
              <p:cNvPr id="13" name=""/>
              <p:cNvSpPr/>
              <p:nvPr/>
            </p:nvSpPr>
            <p:spPr>
              <a:xfrm>
                <a:off x="2760840" y="60469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828880" y="61754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666880" y="617868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3835440" y="6059520"/>
              <a:ext cx="284040" cy="264960"/>
              <a:chOff x="3835440" y="6059520"/>
              <a:chExt cx="284040" cy="264960"/>
            </a:xfrm>
          </p:grpSpPr>
          <p:sp>
            <p:nvSpPr>
              <p:cNvPr id="17" name=""/>
              <p:cNvSpPr/>
              <p:nvPr/>
            </p:nvSpPr>
            <p:spPr>
              <a:xfrm>
                <a:off x="3929040" y="60595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997440" y="618804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835440" y="619128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" name=""/>
            <p:cNvGrpSpPr/>
            <p:nvPr/>
          </p:nvGrpSpPr>
          <p:grpSpPr>
            <a:xfrm>
              <a:off x="4952880" y="6033960"/>
              <a:ext cx="284400" cy="265320"/>
              <a:chOff x="4952880" y="6033960"/>
              <a:chExt cx="284400" cy="265320"/>
            </a:xfrm>
          </p:grpSpPr>
          <p:sp>
            <p:nvSpPr>
              <p:cNvPr id="21" name=""/>
              <p:cNvSpPr/>
              <p:nvPr/>
            </p:nvSpPr>
            <p:spPr>
              <a:xfrm>
                <a:off x="5046840" y="6033960"/>
                <a:ext cx="96840" cy="16056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114880" y="61628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952880" y="6165720"/>
                <a:ext cx="133560" cy="13356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sp>
          <p:nvSpPr>
            <p:cNvPr id="24" name=""/>
            <p:cNvSpPr/>
            <p:nvPr/>
          </p:nvSpPr>
          <p:spPr>
            <a:xfrm>
              <a:off x="6189840" y="6033960"/>
              <a:ext cx="96840" cy="1605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28" y="0"/>
                  </a:moveTo>
                  <a:lnTo>
                    <a:pt x="0" y="31"/>
                  </a:lnTo>
                  <a:lnTo>
                    <a:pt x="0" y="71"/>
                  </a:lnTo>
                  <a:lnTo>
                    <a:pt x="27" y="100"/>
                  </a:lnTo>
                  <a:lnTo>
                    <a:pt x="60" y="73"/>
                  </a:lnTo>
                  <a:lnTo>
                    <a:pt x="60" y="30"/>
                  </a:lnTo>
                  <a:lnTo>
                    <a:pt x="28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257880" y="61628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69" y="0"/>
                  </a:moveTo>
                  <a:lnTo>
                    <a:pt x="29" y="8"/>
                  </a:lnTo>
                  <a:lnTo>
                    <a:pt x="4" y="39"/>
                  </a:lnTo>
                  <a:lnTo>
                    <a:pt x="0" y="80"/>
                  </a:lnTo>
                  <a:lnTo>
                    <a:pt x="50" y="76"/>
                  </a:lnTo>
                  <a:lnTo>
                    <a:pt x="76" y="43"/>
                  </a:lnTo>
                  <a:lnTo>
                    <a:pt x="69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095880" y="6165720"/>
              <a:ext cx="13356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" y="0"/>
                  </a:moveTo>
                  <a:lnTo>
                    <a:pt x="47" y="8"/>
                  </a:lnTo>
                  <a:lnTo>
                    <a:pt x="71" y="40"/>
                  </a:lnTo>
                  <a:lnTo>
                    <a:pt x="83" y="83"/>
                  </a:lnTo>
                  <a:lnTo>
                    <a:pt x="26" y="77"/>
                  </a:lnTo>
                  <a:lnTo>
                    <a:pt x="0" y="43"/>
                  </a:lnTo>
                  <a:lnTo>
                    <a:pt x="6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345440" y="6033960"/>
              <a:ext cx="96840" cy="1605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28" y="0"/>
                  </a:moveTo>
                  <a:lnTo>
                    <a:pt x="0" y="31"/>
                  </a:lnTo>
                  <a:lnTo>
                    <a:pt x="0" y="71"/>
                  </a:lnTo>
                  <a:lnTo>
                    <a:pt x="27" y="100"/>
                  </a:lnTo>
                  <a:lnTo>
                    <a:pt x="60" y="73"/>
                  </a:lnTo>
                  <a:lnTo>
                    <a:pt x="60" y="30"/>
                  </a:lnTo>
                  <a:lnTo>
                    <a:pt x="28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413480" y="61628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69" y="0"/>
                  </a:moveTo>
                  <a:lnTo>
                    <a:pt x="29" y="8"/>
                  </a:lnTo>
                  <a:lnTo>
                    <a:pt x="4" y="39"/>
                  </a:lnTo>
                  <a:lnTo>
                    <a:pt x="0" y="80"/>
                  </a:lnTo>
                  <a:lnTo>
                    <a:pt x="50" y="76"/>
                  </a:lnTo>
                  <a:lnTo>
                    <a:pt x="76" y="43"/>
                  </a:lnTo>
                  <a:lnTo>
                    <a:pt x="69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251840" y="616572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" y="0"/>
                  </a:moveTo>
                  <a:lnTo>
                    <a:pt x="47" y="8"/>
                  </a:lnTo>
                  <a:lnTo>
                    <a:pt x="71" y="40"/>
                  </a:lnTo>
                  <a:lnTo>
                    <a:pt x="83" y="83"/>
                  </a:lnTo>
                  <a:lnTo>
                    <a:pt x="26" y="77"/>
                  </a:lnTo>
                  <a:lnTo>
                    <a:pt x="0" y="43"/>
                  </a:lnTo>
                  <a:lnTo>
                    <a:pt x="6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D54C-0DF1-43B0-BF7E-92A9C173529D}" type="slidenum">
              <a:rPr b="0" lang="en-GB" sz="1400" spc="-1" strike="noStrike">
                <a:solidFill>
                  <a:srgbClr val="99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68580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64AE-4BF2-4BDA-BB20-222A2762A145}" type="slidenum">
              <a:rPr b="0" lang="en-GB" sz="1400" spc="-1" strike="noStrike">
                <a:solidFill>
                  <a:srgbClr val="99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4360" y="542880"/>
            <a:ext cx="7530840" cy="3191040"/>
            <a:chOff x="684360" y="542880"/>
            <a:chExt cx="7530840" cy="3191040"/>
          </a:xfrm>
        </p:grpSpPr>
        <p:grpSp>
          <p:nvGrpSpPr>
            <p:cNvPr id="76" name=""/>
            <p:cNvGrpSpPr/>
            <p:nvPr/>
          </p:nvGrpSpPr>
          <p:grpSpPr>
            <a:xfrm>
              <a:off x="684360" y="3443400"/>
              <a:ext cx="7530840" cy="290520"/>
              <a:chOff x="684360" y="3443400"/>
              <a:chExt cx="7530840" cy="290520"/>
            </a:xfrm>
          </p:grpSpPr>
          <p:sp>
            <p:nvSpPr>
              <p:cNvPr id="77" name=""/>
              <p:cNvSpPr/>
              <p:nvPr/>
            </p:nvSpPr>
            <p:spPr>
              <a:xfrm>
                <a:off x="684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827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970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13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256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399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42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1447920" y="3468600"/>
                <a:ext cx="284040" cy="265320"/>
                <a:chOff x="1447920" y="3468600"/>
                <a:chExt cx="284040" cy="2653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541520" y="3468600"/>
                  <a:ext cx="96840" cy="16056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09560" y="3597120"/>
                  <a:ext cx="122400" cy="12888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447920" y="3600360"/>
                  <a:ext cx="133200" cy="1335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590920" y="3456000"/>
                <a:ext cx="284040" cy="264960"/>
                <a:chOff x="2590920" y="3456000"/>
                <a:chExt cx="284040" cy="2649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684520" y="3456000"/>
                  <a:ext cx="96840" cy="16020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752560" y="3584520"/>
                  <a:ext cx="122400" cy="12852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590920" y="3587760"/>
                  <a:ext cx="133200" cy="1332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759120" y="3468600"/>
                <a:ext cx="284400" cy="265320"/>
                <a:chOff x="3759120" y="3468600"/>
                <a:chExt cx="284400" cy="2653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852720" y="3468600"/>
                  <a:ext cx="96840" cy="16056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921120" y="3597120"/>
                  <a:ext cx="122400" cy="12888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759120" y="3600360"/>
                  <a:ext cx="133560" cy="1335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876920" y="3443400"/>
                <a:ext cx="284040" cy="264960"/>
                <a:chOff x="4876920" y="3443400"/>
                <a:chExt cx="284040" cy="2649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970520" y="3443400"/>
                  <a:ext cx="96840" cy="16020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038560" y="3571920"/>
                  <a:ext cx="122400" cy="12852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876920" y="3575160"/>
                  <a:ext cx="133200" cy="1332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>
                <a:off x="6113520" y="344340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181560" y="357192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019920" y="35751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269120" y="344340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337520" y="357192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175520" y="35751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673440" y="542880"/>
              <a:ext cx="1798560" cy="1363680"/>
              <a:chOff x="3673440" y="542880"/>
              <a:chExt cx="1798560" cy="1363680"/>
            </a:xfrm>
          </p:grpSpPr>
          <p:sp>
            <p:nvSpPr>
              <p:cNvPr id="107" name=""/>
              <p:cNvSpPr/>
              <p:nvPr/>
            </p:nvSpPr>
            <p:spPr>
              <a:xfrm>
                <a:off x="4233960" y="542880"/>
                <a:ext cx="677880" cy="897120"/>
              </a:xfrm>
              <a:custGeom>
                <a:avLst/>
                <a:gdLst/>
                <a:ahLst/>
                <a:rect l="l" t="t" r="r" b="b"/>
                <a:pathLst>
                  <a:path w="427" h="565">
                    <a:moveTo>
                      <a:pt x="213" y="564"/>
                    </a:moveTo>
                    <a:lnTo>
                      <a:pt x="147" y="531"/>
                    </a:lnTo>
                    <a:lnTo>
                      <a:pt x="93" y="486"/>
                    </a:lnTo>
                    <a:lnTo>
                      <a:pt x="57" y="444"/>
                    </a:lnTo>
                    <a:lnTo>
                      <a:pt x="27" y="396"/>
                    </a:lnTo>
                    <a:lnTo>
                      <a:pt x="15" y="363"/>
                    </a:lnTo>
                    <a:lnTo>
                      <a:pt x="3" y="333"/>
                    </a:lnTo>
                    <a:lnTo>
                      <a:pt x="0" y="288"/>
                    </a:lnTo>
                    <a:lnTo>
                      <a:pt x="0" y="252"/>
                    </a:lnTo>
                    <a:lnTo>
                      <a:pt x="9" y="216"/>
                    </a:lnTo>
                    <a:lnTo>
                      <a:pt x="24" y="177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78" y="96"/>
                    </a:lnTo>
                    <a:lnTo>
                      <a:pt x="114" y="60"/>
                    </a:lnTo>
                    <a:lnTo>
                      <a:pt x="165" y="24"/>
                    </a:lnTo>
                    <a:lnTo>
                      <a:pt x="165" y="27"/>
                    </a:lnTo>
                    <a:lnTo>
                      <a:pt x="213" y="0"/>
                    </a:lnTo>
                    <a:lnTo>
                      <a:pt x="249" y="18"/>
                    </a:lnTo>
                    <a:lnTo>
                      <a:pt x="282" y="39"/>
                    </a:lnTo>
                    <a:lnTo>
                      <a:pt x="315" y="63"/>
                    </a:lnTo>
                    <a:lnTo>
                      <a:pt x="312" y="63"/>
                    </a:lnTo>
                    <a:lnTo>
                      <a:pt x="342" y="90"/>
                    </a:lnTo>
                    <a:lnTo>
                      <a:pt x="369" y="123"/>
                    </a:lnTo>
                    <a:lnTo>
                      <a:pt x="390" y="153"/>
                    </a:lnTo>
                    <a:lnTo>
                      <a:pt x="408" y="189"/>
                    </a:lnTo>
                    <a:lnTo>
                      <a:pt x="420" y="222"/>
                    </a:lnTo>
                    <a:lnTo>
                      <a:pt x="420" y="225"/>
                    </a:lnTo>
                    <a:lnTo>
                      <a:pt x="426" y="264"/>
                    </a:lnTo>
                    <a:lnTo>
                      <a:pt x="426" y="306"/>
                    </a:lnTo>
                    <a:lnTo>
                      <a:pt x="417" y="348"/>
                    </a:lnTo>
                    <a:lnTo>
                      <a:pt x="402" y="393"/>
                    </a:lnTo>
                    <a:lnTo>
                      <a:pt x="378" y="432"/>
                    </a:lnTo>
                    <a:lnTo>
                      <a:pt x="354" y="465"/>
                    </a:lnTo>
                    <a:lnTo>
                      <a:pt x="324" y="492"/>
                    </a:lnTo>
                    <a:lnTo>
                      <a:pt x="297" y="516"/>
                    </a:lnTo>
                    <a:lnTo>
                      <a:pt x="255" y="543"/>
                    </a:lnTo>
                    <a:lnTo>
                      <a:pt x="237" y="552"/>
                    </a:lnTo>
                    <a:lnTo>
                      <a:pt x="213" y="564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724280" y="1371600"/>
                <a:ext cx="747720" cy="53496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16" y="301"/>
                    </a:moveTo>
                    <a:lnTo>
                      <a:pt x="83" y="324"/>
                    </a:lnTo>
                    <a:lnTo>
                      <a:pt x="152" y="335"/>
                    </a:lnTo>
                    <a:lnTo>
                      <a:pt x="207" y="336"/>
                    </a:lnTo>
                    <a:lnTo>
                      <a:pt x="263" y="330"/>
                    </a:lnTo>
                    <a:lnTo>
                      <a:pt x="297" y="322"/>
                    </a:lnTo>
                    <a:lnTo>
                      <a:pt x="328" y="314"/>
                    </a:lnTo>
                    <a:lnTo>
                      <a:pt x="364" y="295"/>
                    </a:lnTo>
                    <a:lnTo>
                      <a:pt x="392" y="278"/>
                    </a:lnTo>
                    <a:lnTo>
                      <a:pt x="415" y="255"/>
                    </a:lnTo>
                    <a:lnTo>
                      <a:pt x="436" y="228"/>
                    </a:lnTo>
                    <a:lnTo>
                      <a:pt x="458" y="191"/>
                    </a:lnTo>
                    <a:lnTo>
                      <a:pt x="455" y="192"/>
                    </a:lnTo>
                    <a:lnTo>
                      <a:pt x="464" y="158"/>
                    </a:lnTo>
                    <a:lnTo>
                      <a:pt x="470" y="119"/>
                    </a:lnTo>
                    <a:lnTo>
                      <a:pt x="466" y="72"/>
                    </a:lnTo>
                    <a:lnTo>
                      <a:pt x="463" y="74"/>
                    </a:lnTo>
                    <a:lnTo>
                      <a:pt x="454" y="33"/>
                    </a:lnTo>
                    <a:lnTo>
                      <a:pt x="418" y="20"/>
                    </a:lnTo>
                    <a:lnTo>
                      <a:pt x="380" y="10"/>
                    </a:lnTo>
                    <a:lnTo>
                      <a:pt x="341" y="3"/>
                    </a:lnTo>
                    <a:lnTo>
                      <a:pt x="343" y="4"/>
                    </a:lnTo>
                    <a:lnTo>
                      <a:pt x="303" y="0"/>
                    </a:lnTo>
                    <a:lnTo>
                      <a:pt x="260" y="0"/>
                    </a:lnTo>
                    <a:lnTo>
                      <a:pt x="224" y="1"/>
                    </a:lnTo>
                    <a:lnTo>
                      <a:pt x="185" y="8"/>
                    </a:lnTo>
                    <a:lnTo>
                      <a:pt x="151" y="16"/>
                    </a:lnTo>
                    <a:lnTo>
                      <a:pt x="149" y="18"/>
                    </a:lnTo>
                    <a:lnTo>
                      <a:pt x="115" y="33"/>
                    </a:lnTo>
                    <a:lnTo>
                      <a:pt x="82" y="53"/>
                    </a:lnTo>
                    <a:lnTo>
                      <a:pt x="55" y="78"/>
                    </a:lnTo>
                    <a:lnTo>
                      <a:pt x="30" y="108"/>
                    </a:lnTo>
                    <a:lnTo>
                      <a:pt x="15" y="141"/>
                    </a:lnTo>
                    <a:lnTo>
                      <a:pt x="4" y="171"/>
                    </a:lnTo>
                    <a:lnTo>
                      <a:pt x="2" y="202"/>
                    </a:lnTo>
                    <a:lnTo>
                      <a:pt x="0" y="229"/>
                    </a:lnTo>
                    <a:lnTo>
                      <a:pt x="6" y="267"/>
                    </a:lnTo>
                    <a:lnTo>
                      <a:pt x="10" y="281"/>
                    </a:lnTo>
                    <a:lnTo>
                      <a:pt x="16" y="301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673440" y="1371600"/>
                <a:ext cx="747720" cy="53496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454" y="301"/>
                    </a:moveTo>
                    <a:lnTo>
                      <a:pt x="387" y="325"/>
                    </a:lnTo>
                    <a:lnTo>
                      <a:pt x="318" y="335"/>
                    </a:lnTo>
                    <a:lnTo>
                      <a:pt x="263" y="336"/>
                    </a:lnTo>
                    <a:lnTo>
                      <a:pt x="207" y="331"/>
                    </a:lnTo>
                    <a:lnTo>
                      <a:pt x="173" y="322"/>
                    </a:lnTo>
                    <a:lnTo>
                      <a:pt x="142" y="315"/>
                    </a:lnTo>
                    <a:lnTo>
                      <a:pt x="106" y="295"/>
                    </a:lnTo>
                    <a:lnTo>
                      <a:pt x="78" y="278"/>
                    </a:lnTo>
                    <a:lnTo>
                      <a:pt x="55" y="256"/>
                    </a:lnTo>
                    <a:lnTo>
                      <a:pt x="34" y="229"/>
                    </a:lnTo>
                    <a:lnTo>
                      <a:pt x="12" y="191"/>
                    </a:lnTo>
                    <a:lnTo>
                      <a:pt x="15" y="193"/>
                    </a:lnTo>
                    <a:lnTo>
                      <a:pt x="6" y="158"/>
                    </a:lnTo>
                    <a:lnTo>
                      <a:pt x="0" y="120"/>
                    </a:lnTo>
                    <a:lnTo>
                      <a:pt x="4" y="73"/>
                    </a:lnTo>
                    <a:lnTo>
                      <a:pt x="7" y="74"/>
                    </a:lnTo>
                    <a:lnTo>
                      <a:pt x="16" y="33"/>
                    </a:lnTo>
                    <a:lnTo>
                      <a:pt x="52" y="20"/>
                    </a:lnTo>
                    <a:lnTo>
                      <a:pt x="90" y="11"/>
                    </a:lnTo>
                    <a:lnTo>
                      <a:pt x="129" y="3"/>
                    </a:lnTo>
                    <a:lnTo>
                      <a:pt x="127" y="5"/>
                    </a:lnTo>
                    <a:lnTo>
                      <a:pt x="167" y="0"/>
                    </a:lnTo>
                    <a:lnTo>
                      <a:pt x="210" y="0"/>
                    </a:lnTo>
                    <a:lnTo>
                      <a:pt x="246" y="2"/>
                    </a:lnTo>
                    <a:lnTo>
                      <a:pt x="285" y="8"/>
                    </a:lnTo>
                    <a:lnTo>
                      <a:pt x="319" y="17"/>
                    </a:lnTo>
                    <a:lnTo>
                      <a:pt x="321" y="18"/>
                    </a:lnTo>
                    <a:lnTo>
                      <a:pt x="355" y="33"/>
                    </a:lnTo>
                    <a:lnTo>
                      <a:pt x="388" y="54"/>
                    </a:lnTo>
                    <a:lnTo>
                      <a:pt x="415" y="79"/>
                    </a:lnTo>
                    <a:lnTo>
                      <a:pt x="440" y="109"/>
                    </a:lnTo>
                    <a:lnTo>
                      <a:pt x="455" y="142"/>
                    </a:lnTo>
                    <a:lnTo>
                      <a:pt x="466" y="172"/>
                    </a:lnTo>
                    <a:lnTo>
                      <a:pt x="468" y="202"/>
                    </a:lnTo>
                    <a:lnTo>
                      <a:pt x="470" y="229"/>
                    </a:lnTo>
                    <a:lnTo>
                      <a:pt x="464" y="267"/>
                    </a:lnTo>
                    <a:lnTo>
                      <a:pt x="460" y="282"/>
                    </a:lnTo>
                    <a:lnTo>
                      <a:pt x="454" y="301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endParaRPr b="0" lang="en-US" sz="36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20680" y="1952280"/>
            <a:ext cx="3516480" cy="38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Venous drainage from the face is entirely superficial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All the venous drainage from the head and neck terminate in th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nternal jugular vein</a:t>
            </a: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 which join the </a:t>
            </a:r>
            <a:r>
              <a:rPr b="0" i="1" lang="en-US" sz="2400" spc="-1" strike="noStrike">
                <a:solidFill>
                  <a:srgbClr val="ccccff"/>
                </a:solidFill>
                <a:latin typeface="Times New Roman"/>
              </a:rPr>
              <a:t>subclavian</a:t>
            </a:r>
            <a:r>
              <a:rPr b="0" i="1" lang="en-US" sz="2400" spc="-1" strike="noStrike">
                <a:solidFill>
                  <a:srgbClr val="99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ccccff"/>
                </a:solidFill>
                <a:latin typeface="Times New Roman"/>
              </a:rPr>
              <a:t>vein</a:t>
            </a: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 to form the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brachiocephalic vein </a:t>
            </a: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behind the medial end of the clavicle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35680" y="2050920"/>
            <a:ext cx="3803400" cy="380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The maxillary vein: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9ffff"/>
                </a:solidFill>
                <a:latin typeface="Times New Roman"/>
              </a:rPr>
              <a:t>A short trunk accompany  the first part of the artery.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9ffff"/>
                </a:solidFill>
                <a:latin typeface="Times New Roman"/>
              </a:rPr>
              <a:t>Formed by confluence of  the veins of the pterygoid plexus.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9ffff"/>
                </a:solidFill>
                <a:latin typeface="Times New Roman"/>
              </a:rPr>
              <a:t>It passes backward between the sphenomandibular ligament and the neck of the mandible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9ffff"/>
                </a:solidFill>
                <a:latin typeface="Times New Roman"/>
              </a:rPr>
              <a:t>Unite with the 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superficial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temporal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vein</a:t>
            </a:r>
            <a:r>
              <a:rPr b="0" lang="en-GB" sz="2200" spc="-1" strike="noStrike">
                <a:solidFill>
                  <a:srgbClr val="99ffff"/>
                </a:solidFill>
                <a:latin typeface="Times New Roman"/>
              </a:rPr>
              <a:t> to form the 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retromadibular vein. 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4114800" cy="34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47242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Pterygoid plexus: </a:t>
            </a:r>
            <a:endParaRPr b="0" lang="en-US" sz="3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A network of very small veins, lie around and within the lateral pterygoid muscle in the infratemporal region 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receive some of the veins that correspond to the maxillary artery, inferior ophthalmic vein (internal carotid blood) and the deep facial vein.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876920" y="2152800"/>
            <a:ext cx="4267080" cy="33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Pterygoid plexus: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Drain into a pair of large, short maxillary veins which join the superficial temporal vein to form the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retromandibular.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Deep facial vein drain the plexus into the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facial vein</a:t>
            </a: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 if the maxillary is occluded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505480" y="1828800"/>
            <a:ext cx="3638520" cy="37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                      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Pterygoid plexus:</a:t>
            </a:r>
            <a:endParaRPr b="0" lang="en-US" sz="18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Act as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eripheral pump</a:t>
            </a: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, to aid venous return by the pumping action of the muscle every time the mouth is opened.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Yawing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 a prolonged and forcible contraction of the lateral pterygoid to open the mouth, is accompanied by contraction of the diaphragm and stretching of limbs, is a reflex triggered by venous stagnation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44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44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4956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Pharyngeal veins:</a:t>
            </a:r>
            <a:endParaRPr b="0" lang="en-US" sz="3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ffff"/>
                </a:solidFill>
                <a:latin typeface="Times New Roman"/>
              </a:rPr>
              <a:t>drain the pharyngeal plexus on the outer surface of the pharynx.</a:t>
            </a:r>
            <a:endParaRPr b="0" lang="en-US" sz="26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ffff"/>
                </a:solidFill>
                <a:latin typeface="Times New Roman"/>
              </a:rPr>
              <a:t>End in the internal jugular vein , the facial the lingual or the superior thyroid veins </a:t>
            </a:r>
            <a:endParaRPr b="0" lang="en-US" sz="26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313240" y="1676520"/>
            <a:ext cx="374976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Lingual vein:</a:t>
            </a:r>
            <a:endParaRPr b="0" lang="en-US" sz="26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the tip drain into the deep lingual vein, visible on the under surface near the midline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run back superficial to the hypoglossus and is joined by the </a:t>
            </a:r>
            <a:r>
              <a:rPr b="1" i="1" lang="en-US" sz="2200" spc="-1" strike="noStrike">
                <a:solidFill>
                  <a:srgbClr val="ffff00"/>
                </a:solidFill>
                <a:latin typeface="Times New Roman"/>
              </a:rPr>
              <a:t>sublingual vein</a:t>
            </a: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 from the gland to form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vena comtians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join the internal jugular near the greater horn of the hyoid bone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513400" y="1219320"/>
            <a:ext cx="361008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endParaRPr b="0" lang="en-US" sz="36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42670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00"/>
                </a:solidFill>
                <a:uFillTx/>
                <a:latin typeface="Times New Roman"/>
              </a:rPr>
              <a:t>Superior thyroid vein: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leaves the superior pole of the thyroid gland and empty in the facial or the internal jugular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00"/>
                </a:solidFill>
                <a:uFillTx/>
                <a:latin typeface="Times New Roman"/>
              </a:rPr>
              <a:t>Middle thyroid vein: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short and wide, pass from the middle of the pole directly into the internal jugular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00"/>
                </a:solidFill>
                <a:uFillTx/>
                <a:latin typeface="Times New Roman"/>
              </a:rPr>
              <a:t>Occipital vein: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join the internal jugular but more often join the vertebral or the posterior auricular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238720" y="1295280"/>
            <a:ext cx="39052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40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40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endParaRPr b="0" lang="en-US" sz="40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648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nterior jugular vein: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start below the chin, pass beneath the platysma to the suprasternal notch.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Pierce the deep fascia and is connected to the other side by an anastomosing vein the jugular arch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angle laterally to pass deep to sternocleidomastoid and open in the external jugular vein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5486400" y="1523880"/>
            <a:ext cx="348948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endParaRPr b="0" lang="en-US" sz="36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51051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External jugular vein: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Begins behind the angle of the mandible by the union of the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posterior auricular</a:t>
            </a: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 and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posterior division of the retromandibular veins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It descend obliquely, deep to the platysma, receive the posterior external jugular vein 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pierce the deep fascia just above the clavicle and drain into the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ubclavian vein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904000" y="1295280"/>
            <a:ext cx="3240000" cy="472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690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Tributaries: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osterior auricular vein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osterior division of retro mandibular vein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Posterior exernal jugular vein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nsverse cervical vein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suprascapular vein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ff"/>
                </a:solidFill>
                <a:latin typeface="Times New Roman"/>
              </a:rPr>
              <a:t>anterior jugular vein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endParaRPr b="0" lang="en-US" sz="36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419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Internal jugular vein: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It receive blood from the brain, face and the neck.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It emerges through the jugular foramen,as a continuation of the sigmoid sinus descend down in the neck, first behind then lateral to the internal carotid artery inside the carotid sheath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072040" y="1447920"/>
            <a:ext cx="40179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endParaRPr b="0" lang="en-US" sz="36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50292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imes New Roman"/>
              </a:rPr>
              <a:t>The deep cervical lymph nodes are  adjacent to the vein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imes New Roman"/>
              </a:rPr>
              <a:t>Terminate beneath the triangular interval between the sternal and the clavicular head of the </a:t>
            </a:r>
            <a:r>
              <a:rPr b="1" i="1" lang="en-US" sz="2000" spc="-1" strike="noStrike">
                <a:solidFill>
                  <a:srgbClr val="99ffff"/>
                </a:solidFill>
                <a:latin typeface="Times New Roman"/>
              </a:rPr>
              <a:t>sternocleidomastoid</a:t>
            </a:r>
            <a:r>
              <a:rPr b="1" lang="en-US" sz="2400" spc="-1" strike="noStrike">
                <a:solidFill>
                  <a:srgbClr val="99ffff"/>
                </a:solidFill>
                <a:latin typeface="Times New Roman"/>
              </a:rPr>
              <a:t> muscle joining the subclavian vein to form the </a:t>
            </a:r>
            <a:r>
              <a:rPr b="1" i="1" lang="en-US" sz="2000" spc="-1" strike="noStrike">
                <a:solidFill>
                  <a:srgbClr val="99ffff"/>
                </a:solidFill>
                <a:latin typeface="Times New Roman"/>
              </a:rPr>
              <a:t>brachiocephalic</a:t>
            </a:r>
            <a:r>
              <a:rPr b="1" lang="en-US" sz="2400" spc="-1" strike="noStrike">
                <a:solidFill>
                  <a:srgbClr val="99ffff"/>
                </a:solidFill>
                <a:latin typeface="Times New Roman"/>
              </a:rPr>
              <a:t> vein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426360" y="457200"/>
            <a:ext cx="2717640" cy="2943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6464160" y="3581280"/>
            <a:ext cx="267984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endParaRPr b="0" lang="en-US" sz="36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7246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The superior and inferior bulbs: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are dilatation near the origin and the termination of the vein.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Above the inferior bulb is a bicuspid valve 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Skin, superficial fascia, platysma, deep cervical fascia and parotid lies lateral and anteriorly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194440" y="1676520"/>
            <a:ext cx="3754440" cy="426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endParaRPr b="0" lang="en-US" sz="36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5720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Tributaries: 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 u="sng">
                <a:solidFill>
                  <a:srgbClr val="ffff00"/>
                </a:solidFill>
                <a:uFillTx/>
                <a:latin typeface="Times New Roman"/>
              </a:rPr>
              <a:t>Inferior petrosal sinus:</a:t>
            </a:r>
            <a:endParaRPr b="0" lang="en-US" sz="2900" spc="-1" strike="noStrike">
              <a:solidFill>
                <a:srgbClr val="99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assist in draining the cavernous sinus 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leaves through anterior part of jugular foramen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join the vein below the superior bulb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30880" y="1523880"/>
            <a:ext cx="3808440" cy="43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 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47242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Facial vein: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is formed by the union   of the supraorbital and supratrochlear veins the medial canthus to form the angular vein 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Communicate with the cavernous sinus through the ophthalmic vein via the supraorbita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470560" y="1752480"/>
            <a:ext cx="353232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i="1" lang="en-US" sz="1600" spc="-1" strike="noStrike" u="sng">
                <a:solidFill>
                  <a:srgbClr val="ffff00"/>
                </a:solidFill>
                <a:uFillTx/>
                <a:latin typeface="Times New Roman"/>
              </a:rPr>
              <a:t>Facial vein:</a:t>
            </a:r>
            <a:endParaRPr b="0" lang="en-US" sz="16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descend on the face behind the facial artery  to the lower border of  the mandible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to be joined by the anterior division of the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retomandibular vein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imes New Roman"/>
              </a:rPr>
              <a:t>Joins the: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pterygoid plexus through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deep facial vein 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Cavernous sinus through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uperior ophthalmic vein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715000" y="1212840"/>
            <a:ext cx="3429000" cy="2376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715000" y="3708360"/>
            <a:ext cx="342900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endParaRPr b="0" lang="en-US" sz="36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4343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Retromandibular vein:</a:t>
            </a:r>
            <a:endParaRPr b="0" lang="en-US" sz="3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ffff"/>
                </a:solidFill>
                <a:latin typeface="Times New Roman"/>
              </a:rPr>
              <a:t>formed by the union of </a:t>
            </a:r>
            <a:r>
              <a:rPr b="1" i="1" lang="en-US" sz="2500" spc="-1" strike="noStrike">
                <a:solidFill>
                  <a:srgbClr val="ffff00"/>
                </a:solidFill>
                <a:latin typeface="Times New Roman"/>
              </a:rPr>
              <a:t>superficial temporal</a:t>
            </a:r>
            <a:r>
              <a:rPr b="1" lang="en-US" sz="2500" spc="-1" strike="noStrike">
                <a:solidFill>
                  <a:srgbClr val="99ffff"/>
                </a:solidFill>
                <a:latin typeface="Times New Roman"/>
              </a:rPr>
              <a:t> and </a:t>
            </a:r>
            <a:r>
              <a:rPr b="1" i="1" lang="en-US" sz="2500" spc="-1" strike="noStrike">
                <a:solidFill>
                  <a:srgbClr val="ffff00"/>
                </a:solidFill>
                <a:latin typeface="Times New Roman"/>
              </a:rPr>
              <a:t>maxillary vein</a:t>
            </a:r>
            <a:r>
              <a:rPr b="1" lang="en-US" sz="2500" spc="-1" strike="noStrike">
                <a:solidFill>
                  <a:srgbClr val="99ffff"/>
                </a:solidFill>
                <a:latin typeface="Times New Roman"/>
              </a:rPr>
              <a:t> from the pterygoid plexus</a:t>
            </a:r>
            <a:endParaRPr b="0" lang="en-US" sz="25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ffff"/>
                </a:solidFill>
                <a:latin typeface="Times New Roman"/>
              </a:rPr>
              <a:t>passes downwards in the substance of the parotid gland emerging from its lower border &amp; divide into two divisions</a:t>
            </a:r>
            <a:endParaRPr b="0" lang="en-US" sz="25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492880" y="1871640"/>
            <a:ext cx="3651120" cy="35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Veins of </a:t>
            </a:r>
            <a:r>
              <a:rPr b="0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Head </a:t>
            </a:r>
            <a:r>
              <a:rPr b="0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and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 neck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i="1" lang="en-US" sz="1500" spc="-1" strike="noStrike">
                <a:solidFill>
                  <a:srgbClr val="ffff00"/>
                </a:solidFill>
                <a:latin typeface="Times New Roman"/>
              </a:rPr>
              <a:t>Retromandibular vein:</a:t>
            </a:r>
            <a:endParaRPr b="0" lang="en-US" sz="15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4343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terior division: 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joins the facial vein 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erior division: 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pierces the deep fascia and join th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osterior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uricular</a:t>
            </a: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  to form th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xternal jugular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It empty into th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ubclavian vein   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197320" y="1600200"/>
            <a:ext cx="39481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04:41:16Z</dcterms:created>
  <dc:creator>Dr Abdin</dc:creator>
  <dc:description/>
  <dc:language>en-US</dc:language>
  <cp:lastModifiedBy>Helabdin</cp:lastModifiedBy>
  <dcterms:modified xsi:type="dcterms:W3CDTF">2004-12-11T03:40:36Z</dcterms:modified>
  <cp:revision>33</cp:revision>
  <dc:subject/>
  <dc:title>Veins of the Head and neck</dc:title>
</cp:coreProperties>
</file>