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BA19-59BA-42B5-9584-BBD51171CC9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2A27-306B-475D-8470-7002BCD62B7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4CA-F191-451A-B173-55FB89563BC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1A3-3679-4EDF-868D-C728321D00A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F35-C167-4216-AA44-C0A6564ADAC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1BA1-4761-4DDA-8561-C52B5067742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C97-FFA2-44EA-AA85-052DA08101C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FBE-8C43-4143-BFFB-A73A758C1A2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EED-6293-4572-BAFE-2971423F9D4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40F-2CB0-42AA-8134-F8E84C17ABF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A24-EC6B-4B41-96F4-16E9C01A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DA4-8C46-4D7F-A173-644721F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DB5-8F59-44FB-ACD6-5D24B6C7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306-EF78-496F-A2E8-D64C5479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CBD5-2411-4DAD-A5D6-9C0FC353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345-83AD-448E-BB1E-6DD5E5F0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1F3-9C1E-4561-9932-AAC1C0EA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89D8-0273-44DC-887A-2A54C867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BBB-9705-40A2-B900-60B1CD3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75D3-4ED8-40DD-965A-C0C31B88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D44-8156-47C2-93A2-B431298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C33-9AE3-4B60-AFE3-F635B8F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FF2-19C3-4D13-9F26-C3D4F70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C43-2F27-425D-959E-5F605C5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62C-90F6-48B9-B5E3-7F3E8896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543-521D-4F1B-85FC-0CF791E5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A8C5-8C64-436D-BAEE-21D1DEF2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6F7-52D6-4D0A-9385-135600FF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B47-73EF-4EF5-9B34-3195A74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4F8-6601-4712-8CDA-31B3FA3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66A-552A-42D1-9B9A-9CFEA9BB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98B-392D-45FB-8B11-7E24055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4A9-8632-43ED-B2CE-C9DAB9B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018-CEF6-413D-AA64-B4E6671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006-5FAE-41A7-A6F4-6712ECDD6D8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CD8-256D-46C7-AF95-30B5E3284C6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42920" y="175680"/>
            <a:ext cx="885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LECTION AND TRANSPORT OF VIROLOGICAL SPECIME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investigation of viral infections, reliable laboratory results can only be obtained if the specimens are collected, preserved and transported correctly to the Virology labora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9dd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When to collect virological specimen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men for detection of viruses should be collected as soon as possible after the appearance of the symptoms that is when the concentration of the virus is at its highes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for antibody testing should be collected as early in the disease as possible and also 5- 10 days la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rum specimens (paired sera) are necessary to detect a rise in the titre of the Ab. A four fold rise in titre between paired sera establishes a positive res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14200" y="83376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Labeling of specimen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should be includ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's name and numb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pital or health cent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specime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e and time of colle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iner tops should be sealed with adhesive tape to prevent slacking during trans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مستطيل 3"/>
          <p:cNvSpPr/>
          <p:nvPr/>
        </p:nvSpPr>
        <p:spPr>
          <a:xfrm>
            <a:off x="714240" y="71280"/>
            <a:ext cx="7929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Information to accompany specime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quest form should include the fallowing inform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me, place, age, number of the patient, and details of any recent tra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specimen, if two, mention as the first of seco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ion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clinical information: nature duration, and severity of dise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s about immunization and antimicrobial therap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 and address of the hospital or health cen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70000"/>
            <a:ext cx="8786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5395"/>
                </a:solidFill>
                <a:latin typeface="Arial"/>
                <a:ea typeface="Arial"/>
              </a:rPr>
              <a:t>*IF THE SAMPLE IS HIGH RISK, THE SAME SENTENSE SHOULD BE WRITTEN IN THE FORM BY THE RED COLOR P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orm should not be wrapped around the specimen container but placed separate it, inside the outer container where it will be found immediately when the package is opened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Transporting of specimens to the Virology laborator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uses are unable to survive temperature over 50 C, freezing or fluctuatings in temperatu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uses can also be damaged be light, drying, change in pH, and bacterial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usage of VTM will prevent specimens from drying out and help to preserve viral activit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irological specimens should be transported in ice box with the warning labe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142920" y="23076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lection of virological specime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ype of the specimen required will depen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he viral infection suspec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The laboratory technique to be us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ct and local laboratories must obtain information about the collection of specimen from their Virology Reference Labora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0"/>
            <a:ext cx="8929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The following information is intended only as a general gui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dd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9dd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Arial"/>
                <a:ea typeface="Arial"/>
              </a:rPr>
              <a:t>Faec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ce about 4-8 g of faeces (small spoon) in a clean, dry, leak-proof container (not a waxed carton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to the laboratory as soon as possi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likely to be a delay to more than few hours in the specimens reaching the laboratory, suspend about one gram of faeces in 9 ml of phosphate buffered saline. If possible centrifuge at 2000g for 15 minutes, and then transfer the supernatant fluid to a clean leak- proof contain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bel and keep at -2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 to the virology laboratory in a cold box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3"/>
          <p:cNvSpPr/>
          <p:nvPr/>
        </p:nvSpPr>
        <p:spPr>
          <a:xfrm>
            <a:off x="357120" y="785880"/>
            <a:ext cx="8215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e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ple can not be obtained, rectal swab should be collected and transported in buffered salin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isolation of viruses from rectal swab however, is less satisfactory than from fae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aeces specimens are required to diagnose viral gastroenteritis specially that caused by rotaviruses, and to investigate poliomyelitis and other diseases caused by enteroviru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42920" y="17424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Arial"/>
                <a:ea typeface="Arial"/>
              </a:rPr>
              <a:t>2. Nasopharyngeal secretions</a:t>
            </a: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a specimen by passing a sterile cotton wool swab, attached to a pent piece of thin wire, through the floor of the nasal cavity as far as the nasopharynx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fter few seconds, slowly withdraw the swab and immerse the swab in a container of sterile VTM, cutting off swab wire to allow the bottle cap to be replaced tigh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pecimen of nasopharyngeal secretion can also be obtained by using a sterile mucus extra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piratory viruses can also be recovered from a throat swab preserved in VTM but a pernasal swab is usually easier to obtain and has been found very satisfactory for the isolation of influenza viruses, measles virus, and respiratory syncytial viru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مستطيل 3"/>
          <p:cNvSpPr/>
          <p:nvPr/>
        </p:nvSpPr>
        <p:spPr>
          <a:xfrm>
            <a:off x="714240" y="107172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throat swab is unsuitable if the specimen is to be tested by a fluorescence antibody techn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sopharyngeal specimens are required to diagnose respiratory syncytial virus infection, and when necessary to investigate infections caused by influenza and parainfluenza viruses, measles, rubella virus, adenoviruses, and enteroviru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42920" y="168120"/>
            <a:ext cx="89298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3. Cerebrospinal fluid</a:t>
            </a: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 0.5- 1.0 ml of fluid in a dry, sterile, leak-proof container. Refrigerated immediately at 4 O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 in an insolated cold box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ebrospinal fluid is required to investigate some arbovirus infections. When meninges are infected, the CSF will contain lymphocytes and the CSF total protein will be rais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4. Skin and ulcer specimen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 skin scrapings in a dry sterile contain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rigerate immediately at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 and then transport in a cold box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easles or rubella is suspected, the virus is more likely to be isolated from a per nasal swa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in specimens are required to investigate infections caused by herpes simplex viruses, rabies viruses…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-11016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5. Blood for serological tests</a:t>
            </a: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rum specimens are required to diagnose an infection serological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the sample within 5 days of the onset of the symptoms, and the second sample 5-10 days la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5-10 ml of venous blood in a dry sterile, screw-cup glass tube or bott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ample is required for investigating newborn infant with congenital defects, determining immunity to rubella or other viruse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erum sample is required when testing for hepatitis B surface Antigen (HBsAg) and HIV-1 and HIV-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blood collected, collect in leak-prove container, refrigerate at 4C until transport it in ice box to the virology la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42920" y="894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6. Anticogulated blood for cultur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7-10 ml of blood into a sterile tube or bottle which contains heparin, gently mix the blood with the anticoagul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uses which can be cultured from blood include dengue viruses and some arboviru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7. Specimens such as urine and sputum are generally unsuitable for viruses' iso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amples which may contain dangerous and highly infectious viruses must be labeled </a:t>
            </a:r>
            <a:r>
              <a:rPr b="0" i="1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HIGH RIS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red marker pen, and handled with great ca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4:12Z</dcterms:created>
  <dc:creator>mohammad</dc:creator>
  <dc:description/>
  <dc:language>en-US</dc:language>
  <cp:lastModifiedBy>jaad</cp:lastModifiedBy>
  <dcterms:modified xsi:type="dcterms:W3CDTF">2010-03-23T20:50:43Z</dcterms:modified>
  <cp:revision>9</cp:revision>
  <dc:subject/>
  <dc:title>الشريحة 1</dc:title>
</cp:coreProperties>
</file>