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3DEC-EB6B-4BB2-B64A-D1CBAB65F40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F9AF-8E44-462E-A283-648E6C19735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0CA4-2892-4089-9747-CEF9050C64F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E075-E7A4-401A-BA1B-10B39CA522B4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0EB5-9650-4ABD-BE5E-75859E08B02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1C3B-9459-4A7A-9756-3E6E1777E05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2C13-9F04-44C6-BD7D-5A54BB26D3F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43C4-AAC9-4091-9DB4-939ECF186CB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D7A5-56B2-4E21-AC3A-784AACCD3AD9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784-402C-4D80-B1B0-E794AB7984C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9F2-0C3A-4B6D-AAF3-AFF4B127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08B-55CE-45ED-9E99-5E849C51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53E-8D8D-4547-8D1E-214AB1C0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051-9BF9-4752-9C59-71824FC0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9DC6-DE01-4BD1-A601-67B7E208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EE57-C1D3-420B-A0DE-598590EF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9122-E0AC-4EBC-A4CA-E267D4D3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873A-34ED-425E-9604-CEA56B9E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A7E4-76AD-4E9F-B00C-B1F8D59B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1584-2C76-4336-9135-E2A8E853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DD91-DD62-45B4-934B-89CBB2E5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E10-EE45-43D9-88AF-D2D84040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13E4-1EB2-44A2-A83E-7A3930D9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814A-3671-4ED6-9BDA-E4B6F7AB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597B-97A3-4BAB-BB00-5FC8C812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2C9F-910C-40E3-AC98-A5560117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CE93-AD49-4161-BFD2-E6FE5799E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2A0F-236F-446F-8066-2BA7BC33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E8D-8E5A-41AB-B2E5-8F77D80E8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5C4-B038-4F6B-85DD-52C02C34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EA7B-281C-4A75-928A-62F6CD23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2B7E-FE20-41F0-BCB1-763FEA43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BBA5-A6D2-4486-A40F-BF1D4145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0A9-A3F0-483C-8388-E3F210A8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2886-D6B3-44C9-9238-836B095EA249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6C0B-2B2E-4801-BA0D-ECDF0D9D0165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42920" y="175680"/>
            <a:ext cx="88581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COLLECTION AND TRANSPORT OF VIROLOGICAL SPECIMEN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investigation of viral infections, reliable laboratory results can only be obtained if the specimens are collected, preserved and transported correctly to the Virology laborat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9dd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When to collect virological specimen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men for detection of viruses should be collected as soon as possible after the appearance of the symptoms that is when the concentration of the virus is at its highes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 for antibody testing should be collected as early in the disease as possible and also 5- 10 days lat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rum specimens (paired sera) are necessary to detect a rise in the titre of the Ab. A four fold rise in titre between paired sera establishes a positive resul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214200" y="833760"/>
            <a:ext cx="88585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b5395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Labeling of specimen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is should be including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tient's name and numbe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spital or health centr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specime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e and time of collec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iner tops should be sealed with adhesive tape to prevent slacking during transi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مستطيل 3"/>
          <p:cNvSpPr/>
          <p:nvPr/>
        </p:nvSpPr>
        <p:spPr>
          <a:xfrm>
            <a:off x="714240" y="71280"/>
            <a:ext cx="7929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b5395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Information to accompany specime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request form should include the fallowing informati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me, place, age, number of the patient, and details of any recent trave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of specimen, if two, mention as the first of seco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tion requ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 clinical information: nature duration, and severity of dise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s about immunization and antimicrobial therap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 and address of the hospital or health cent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0" y="270000"/>
            <a:ext cx="8786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5395"/>
                </a:solidFill>
                <a:latin typeface="Arial"/>
                <a:ea typeface="Arial"/>
              </a:rPr>
              <a:t>*IF THE SAMPLE IS HIGH RISK, THE SAME SENTENSE SHOULD BE WRITTEN IN THE FORM BY THE RED COLOR PE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orm should not be wrapped around the specimen container but placed separate it, inside the outer container where it will be found immediately when the package is opened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Transporting of specimens to the Virology laboratory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ruses are unable to survive temperature over 50 C, freezing or fluctuatings in temperatur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iruses can also be damaged be light, drying, change in pH, and bacterial enzym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usage of VTM will prevent specimens from drying out and help to preserve viral activity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virological specimens should be transported in ice box with the warning label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"/>
          <p:cNvSpPr/>
          <p:nvPr/>
        </p:nvSpPr>
        <p:spPr>
          <a:xfrm>
            <a:off x="142920" y="230760"/>
            <a:ext cx="8501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Collection of virological specime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ype of the specimen required will depend o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he viral infection suspec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The laboratory technique to be us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ct and local laboratories must obtain information about the collection of specimen from their Virology Reference Laborat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0" y="0"/>
            <a:ext cx="8929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The following information is intended only as a general gui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dd9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9dd9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9dd9"/>
                </a:solidFill>
                <a:uFillTx/>
                <a:latin typeface="Arial"/>
                <a:ea typeface="Arial"/>
              </a:rPr>
              <a:t>Faec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ce about 4-8 g of faeces (small spoon) in a clean, dry, leak-proof container (not a waxed carton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 to the laboratory as soon as possib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re is likely to be a delay to more than few hours in the specimens reaching the laboratory, suspend about one gram of faeces in 9 ml of phosphate buffered saline. If possible centrifuge at 2000g for 15 minutes, and then transfer the supernatant fluid to a clean leak- proof contain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4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bel and keep at -2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5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nd to the virology laboratory in a cold box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مستطيل 3"/>
          <p:cNvSpPr/>
          <p:nvPr/>
        </p:nvSpPr>
        <p:spPr>
          <a:xfrm>
            <a:off x="357120" y="785880"/>
            <a:ext cx="821556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ae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ple can not be obtained, rectal swab should be collected and transported in buffered salin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isolation of viruses from rectal swab however, is less satisfactory than from fae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aeces specimens are required to diagnose viral gastroenteritis specially that caused by rotaviruses, and to investigate poliomyelitis and other diseases caused by enterovirus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42920" y="174240"/>
            <a:ext cx="8929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9dd9"/>
                </a:solidFill>
                <a:uFillTx/>
                <a:latin typeface="Arial"/>
                <a:ea typeface="Arial"/>
              </a:rPr>
              <a:t>2. Nasopharyngeal secretions</a:t>
            </a:r>
            <a:r>
              <a:rPr b="0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a specimen by passing a sterile cotton wool swab, attached to a pent piece of thin wire, through the floor of the nasal cavity as far as the nasopharynx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fter few seconds, slowly withdraw the swab and immerse the swab in a container of sterile VTM, cutting off swab wire to allow the bottle cap to be replaced tightl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C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pecimen of nasopharyngeal secretion can also be obtained by using a sterile mucus extra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piratory viruses can also be recovered from a throat swab preserved in VTM but a pernasal swab is usually easier to obtain and has been found very satisfactory for the isolation of influenza viruses, measles virus, and respiratory syncytial virus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مستطيل 3"/>
          <p:cNvSpPr/>
          <p:nvPr/>
        </p:nvSpPr>
        <p:spPr>
          <a:xfrm>
            <a:off x="714240" y="1071720"/>
            <a:ext cx="77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throat swab is unsuitable if the specimen is to be tested by a fluorescence antibody techniq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d0d9"/>
                </a:solidFill>
                <a:latin typeface="Arial"/>
                <a:ea typeface="Arial"/>
              </a:rPr>
              <a:t>F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sopharyngeal specimens are required to diagnose respiratory syncytial virus infection, and when necessary to investigate infections caused by influenza and parainfluenza viruses, measles, rubella virus, adenoviruses, and enterovirus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42920" y="168120"/>
            <a:ext cx="89298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3. Cerebrospinal fluid</a:t>
            </a:r>
            <a:r>
              <a:rPr b="0" lang="en-US" sz="2400" spc="-1" strike="noStrike">
                <a:solidFill>
                  <a:srgbClr val="0b5395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 0.5- 1.0 ml of fluid in a dry, sterile, leak-proof container. Refrigerated immediately at 4 OC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port in an insolated cold box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rebrospinal fluid is required to investigate some arbovirus infections. When meninges are infected, the CSF will contain lymphocytes and the CSF total protein will be rais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4. Skin and ulcer specimens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 skin scrapings in a dry sterile container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rigerate immediately at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 and then transport in a cold box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measles or rubella is suspected, the virus is more likely to be isolated from a per nasal swab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kin specimens are required to investigate infections caused by herpes simplex viruses, rabies viruses…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0" y="-11016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5. Blood for serological tests</a:t>
            </a:r>
            <a:r>
              <a:rPr b="0" lang="en-US" sz="2400" spc="-1" strike="noStrike">
                <a:solidFill>
                  <a:srgbClr val="0b5395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rum specimens are required to diagnose an infection serologicall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the sample within 5 days of the onset of the symptoms, and the second sample 5-10 days late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5-10 ml of venous blood in a dry sterile, screw-cup glass tube or bott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sample is required for investigating newborn infant with congenital defects, determining immunity to rubella or other viruses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serum sample is required when testing for hepatitis B surface Antigen (HBsAg) and HIV-1 and HIV-2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the blood collected, collect in leak-prove container, refrigerate at 4C until transport it in ice box to the virology la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42920" y="894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b5395"/>
                </a:solidFill>
                <a:uFillTx/>
                <a:latin typeface="Arial"/>
                <a:ea typeface="Arial"/>
              </a:rPr>
              <a:t>6. Anticogulated blood for culture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ect 7-10 ml of blood into a sterile tube or bottle which contains heparin, gently mix the blood with the anticoagula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uses which can be cultured from blood include dengue viruses and some arbovirus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5395"/>
                </a:solidFill>
                <a:latin typeface="Arial"/>
                <a:ea typeface="Arial"/>
              </a:rPr>
              <a:t>7. Specimens such as urine and sputum are generally unsuitable for viruses' isol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amples which may contain dangerous and highly infectious viruses must be labeled </a:t>
            </a:r>
            <a:r>
              <a:rPr b="0" i="1" lang="en-US" sz="2400" spc="-1" strike="noStrike">
                <a:solidFill>
                  <a:srgbClr val="0b5395"/>
                </a:solidFill>
                <a:latin typeface="Arial"/>
                <a:ea typeface="Arial"/>
              </a:rPr>
              <a:t>HIGH RIS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a red marker pen, and handled with great ca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6:04:12Z</dcterms:created>
  <dc:creator>mohammad</dc:creator>
  <dc:description/>
  <dc:language>en-US</dc:language>
  <cp:lastModifiedBy>jaad</cp:lastModifiedBy>
  <dcterms:modified xsi:type="dcterms:W3CDTF">2010-03-23T20:50:43Z</dcterms:modified>
  <cp:revision>9</cp:revision>
  <dc:subject/>
  <dc:title>الشريحة 1</dc:title>
</cp:coreProperties>
</file>