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jpeg" ContentType="image/jpeg"/>
  <Override PartName="/ppt/media/image3.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2"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5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5"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E45C-7EFA-4ACC-A33E-BC7A1264A0AE}"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9601-499F-4822-B7FE-9A6B3D499CB3}"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A591-9734-4C4C-89A4-8070B42796F6}"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D8D9-AAE3-4B7D-9AA4-5C4B9A1EC570}"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FDDA-B5C4-427F-8620-20B0948A9DBF}"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7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CB9D-BA8C-4005-B33A-93BB4C7E3F47}"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7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0A68-25D3-4461-B7E0-D06A3B6C88BC}"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7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4087-9ACB-411C-972F-6F2BCBB4D17F}"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A8E9-10BD-42B3-B2D4-630F55031143}"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6101-0850-46E5-986E-524DEF2E3C04}"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A07B2-9CD2-49B2-B147-B87F45462996}"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51A4-0794-4EFD-953E-941FB9AEA740}"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0359-DE24-4BD6-A7A5-19B59A4589B1}"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0FED5-4B20-40DF-85E8-4E2B0EBF3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284F3-BD94-423A-8101-345061B06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5E61B9-30E1-4E5B-B804-09B722D052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2805DE-F542-4A8D-BF4B-2AD5DE2FC3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55B9EF-B592-478C-9A00-E0F03D660F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214440-F979-4252-8FED-3605042057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D25B5B-30E8-46F9-A025-8CA5CC0002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CE39AD-4D2D-4877-836C-A1B7AE91C8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A72878-7668-46D6-AEB6-993873985C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A4C061-5BDA-4408-8A6D-5814F0AF7A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7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DD2468-CE8F-4D17-B1A5-F89134479B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FC1098A-FD1E-460A-898C-BAA923A4449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67778-9D2A-470B-A9E8-275180697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CB1996-1E59-46D3-9A34-78C4D0B879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9FC3CB-E774-48A4-B228-3C6619AE13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9132F0-D625-4D01-9BF1-3193E38B9F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55C5F4-7CA7-48C8-B89D-539E39A9B9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5F9206-9012-4C50-BE40-9F9E796343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9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8039A0-0996-467B-A2A9-CC21AECE33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9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FDC3E3-589E-46D9-9F86-5AEF9A3F11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093B1F-FABD-4CFD-8877-967D6D2699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962CDF-06B5-4534-B37F-C72DCD4850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59B42FE-33EC-470A-A252-F09658698E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18F50-8F79-4091-9E1E-B445B83AD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1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159936-F5CC-462B-9180-9B1AD3C643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E9E683-DDB3-444C-A3AE-AF704BD24B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2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21E087-9FDC-40CB-A850-4136987831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2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ACD43F-EB87-4417-A62C-4524FE2603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2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1D21A0-391B-4C78-A262-B267022885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79A99A-BF7E-4D75-A0EA-F9C86D844F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F07882-9470-4AFB-9894-789A80B1EA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A4646F-575A-4957-9C12-C289B5BB37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3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126C73-FF6F-44BC-97E4-5D7C078BDD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4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9649FC-A28C-41C3-9E0B-EDD2E42F39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AE96F7-B2D6-4ED5-88AD-4C0E9CF0E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4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FDE234-CB05-4A74-BDBD-1D67F97BB2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4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1A7B5C-D0C4-4260-8DF6-754D391CD88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5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629E08-23B6-4580-9B2F-CA5BDA6FC46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1BFB6F6-2919-4947-BBE1-2623DD72E95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6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0A3C8B-9D7A-428C-A27C-68668A51FF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6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7D6475-5A2D-4BB1-B894-D67E02F8E0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6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ACB3E5-5E1B-4E87-ABEA-EB6A724DA0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B5AADD-83C2-427A-A4CC-7B7003D2C8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E04937-BD4A-4BBF-ADB1-F3AD2B9509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7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8A7815-1886-44A7-A105-563BB6D5A2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1"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F7679-4EA0-48BD-B569-EE2C573A2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7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EE04AD-D2B5-4ABA-9BB5-3BF5ABCFBF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8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77602A-E097-4763-AACB-9B259AB60B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8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B46C95-D50E-458F-8829-DF55948AEA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8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4479314-C3D5-4DFF-A1AC-A7CEF2FEC43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802DDEA-8F2D-40AC-8AC7-51655BD64B7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3"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F52A6-6D09-4C38-9FDA-3B64FEE1D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4EFE7-A9B1-4D8E-82E6-247781BA9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7F710-D4CD-4970-8FC5-0BBDE91C5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6CDAC-5F60-40A9-A78E-AEBBDC1E6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A8FE1-EC2F-4EFC-86CE-5BD86779D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C5D52-BDE6-4EBE-B6A5-69831F3ED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6A339-4B07-4037-9192-28A300A74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0BDF0-2452-49A0-AEC1-9257A01CC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2"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92323-FF6D-4F35-9CA5-2E86630A0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8"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C49D04-CBBB-4BFE-9D4A-EE02D20A4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0"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2"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3"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12C8F0-0011-42FF-80E7-11B33399C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9B5AEF-13DC-4D5E-9965-870210561E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918567-3B77-4ECC-B27D-31CBFA6916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4F8B14-3DE9-4159-B3B8-E3D43B7623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9ABE3D-91AF-4397-A2A8-3F36BA3CD2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320DB9-BB73-4B95-BAD9-86C4C53C7E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84289-01B2-4E14-A89B-8ADE699CA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45E0E8-BEA8-493B-AE45-45A8D32574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61299-A6B0-47B4-BD86-3E8F642ECD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B80388-EEED-4DCA-9BCD-5727461BB2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DC21B-C698-4698-9CF8-050CD22780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53560C-DE46-442C-B3D9-C718185253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55D73D-8CF5-4D00-BD7B-C7A9D2BC66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F4FDC2-CE00-4572-AA21-5D34B5A0ED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48345A-B2DC-4834-AB71-5879055D47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E022CC-734E-4B92-956D-D5191FED00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40C887-BDD0-4731-AF5E-63DBAC4A35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7E7C8-BBAD-4E80-917A-0BAF513E1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D26E5F-AE50-471A-9B11-A73A7EF26D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CACA8A-BCCF-49CB-AC91-4B232A6832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66C484-9AD4-4FBC-BCA3-6A1613DB65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E340B9-63B3-42B9-A777-383B744C5D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CB202-CBCF-4801-A082-D243D54466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8CECF-36D5-4B8E-BE32-DC197B1AA3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7F75AE-A463-426E-A4FC-B0F0C9ED5D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1CEA54-232D-4272-9906-1D59AD3840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7A0CFD-EF89-412C-9097-DB17EE8E69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73E3EA-1AD9-4A37-B237-EA3D8CFF7A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82162-3CEC-414E-AF09-21914CF07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09BC76-6506-4AEA-ADE5-F2B09C1D2B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43A874-F748-466C-976A-9E1C1F2193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FCAA2B-06DC-49EE-96EA-8F20969A11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9406CE-B1FC-46BC-BA59-91A68A82C6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BCBFE2-ABC6-4BF8-AAC3-E4ED94C2CF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3FA934-E471-4793-8029-BB778FA53F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2C4808-2F8D-4E93-94A3-FDC4BE6645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4F2631-3DA7-4D17-A81B-B19FD5A970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67BC01-D54C-445E-8BAF-DEFCCA11A8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442DCF-E2F3-421E-995D-69366EFA94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FC8FB-0E48-4913-BF5A-AD286618F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0C7924-B117-44F4-8187-3B430F39E9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E35D5C-7AC1-4AC3-81AD-6A8623CA3B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0D417A-9F68-41D0-B56E-C9E8DAE3BD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CEDA91-B820-4C81-A47B-423BD5E7A4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6DEE7D-BA62-44B8-95CC-93ECC24D67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484E9B-ABEB-4210-B56C-DBA5E75807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E59B03-7F82-4927-AE09-69F61B6215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42C6EE-9FF9-4353-AFEE-04F6CC0457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83EE7B-092C-4FE4-B7A4-E43BDE3AF0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E82BD6-F6BB-4F51-8BB6-4ADDC9B88C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47209-09EB-43DA-97F7-F58DD4B49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47E1FF-1880-4D3D-879A-DDEE5F361D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636DBC-C301-4DE7-AAAF-B6977192E0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EF942A-AE12-4A85-BA07-5F55111F29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550C1E-D398-41B1-A28F-24E0DE7CE5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66CB85-BA25-44AB-A4DB-D8D8F4EFF2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59ADC4-9020-4F50-9CCC-115168D523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5E2EA7-C3B0-4A73-8CEE-57066B5F55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66C4BA-04E8-4E7F-81D3-8334EDFF1B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2FBF4C-1E6E-4F80-8152-CD235C25A7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1AE307-6D1E-4669-872F-D006AA3603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92960-9D7D-4350-92D5-F54EB9545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14644F-A7F9-485E-BCED-445A277FE1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58B8A2-1294-4124-B770-80E1BC053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D85484-D922-43E6-8049-3A3CE8F61A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B27B73-A6C2-4C72-A01E-D950463053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A69518-76DE-463B-8F81-AC1D6DDC66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185882-9B9F-4755-A95D-C63FE8DA20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1"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F8FBB2-00AC-43C8-89CD-E336594682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3"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8291A4-0432-4520-9447-E9984F4682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EDFF9A-70BE-4E8C-9C8F-5BBFC32A0E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7D6021-8602-4EDB-9C9A-D8616E6388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E12E0-5B81-47B8-8DAA-35BAB573C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6E0803-2A63-4757-8C8F-56FF7118A4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4AE1EF-8CEA-41F6-9683-747E363429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6"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555244-4139-470D-8297-4645837BE3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5DDA6D-CCEC-4D81-80F2-D09BAFAF57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2"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3"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DC00EC-69FD-4CE3-A82A-721A5717AC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EB62D3-CB0A-42F6-9F93-F14B81EC56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0"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1"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3"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4"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23DC4B-5ABB-4F73-89E4-4B12988CC0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69BD8B-E74F-4616-A73A-A95902ACEA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A7B674-FDF6-4742-A428-C22CE5AF4C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A0CD59-A77E-4E1A-893E-FE37BF96173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3F72-58E9-46C5-8E6D-089457066BCE}"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7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79" name="PlaceHolder 3"/>
          <p:cNvSpPr>
            <a:spLocks noGrp="1"/>
          </p:cNvSpPr>
          <p:nvPr>
            <p:ph type="dt" idx="28"/>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Century Gothic"/>
                <a:ea typeface="Tahoma"/>
              </a:rPr>
              <a:t>&lt;date/time&gt;</a:t>
            </a:r>
            <a:endParaRPr b="0" lang="en-US" sz="900" spc="-1" strike="noStrike">
              <a:solidFill>
                <a:srgbClr val="000000"/>
              </a:solidFill>
              <a:latin typeface="Times New Roman"/>
            </a:endParaRPr>
          </a:p>
        </p:txBody>
      </p:sp>
      <p:sp>
        <p:nvSpPr>
          <p:cNvPr id="380" name="PlaceHolder 4"/>
          <p:cNvSpPr>
            <a:spLocks noGrp="1"/>
          </p:cNvSpPr>
          <p:nvPr>
            <p:ph type="ftr" idx="29"/>
          </p:nvPr>
        </p:nvSpPr>
        <p:spPr>
          <a:xfrm>
            <a:off x="1169640" y="6557760"/>
            <a:ext cx="4948200" cy="3013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PlaceHolder 5"/>
          <p:cNvSpPr>
            <a:spLocks noGrp="1"/>
          </p:cNvSpPr>
          <p:nvPr>
            <p:ph type="sldNum" idx="30"/>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9D28-B1C1-44AB-9C9A-8500E36FADD1}" type="slidenum">
              <a:rPr b="0" lang="ar-SA" sz="900" spc="-1" strike="noStrike">
                <a:solidFill>
                  <a:srgbClr val="000000"/>
                </a:solidFill>
                <a:latin typeface="Century Gothic"/>
                <a:ea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1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20" name="PlaceHolder 3"/>
          <p:cNvSpPr>
            <a:spLocks noGrp="1"/>
          </p:cNvSpPr>
          <p:nvPr>
            <p:ph type="dt" idx="3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PlaceHolder 5"/>
          <p:cNvSpPr>
            <a:spLocks noGrp="1"/>
          </p:cNvSpPr>
          <p:nvPr>
            <p:ph type="sldNum" idx="3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5BAC-7625-4E06-9B53-0DD5FA161C92}"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6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61" name="PlaceHolder 3"/>
          <p:cNvSpPr>
            <a:spLocks noGrp="1"/>
          </p:cNvSpPr>
          <p:nvPr>
            <p:ph type="dt" idx="34"/>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entury Gothic"/>
                <a:ea typeface="Tahoma"/>
              </a:rPr>
              <a:t>&lt;date/time&gt;</a:t>
            </a:r>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PlaceHolder 5"/>
          <p:cNvSpPr>
            <a:spLocks noGrp="1"/>
          </p:cNvSpPr>
          <p:nvPr>
            <p:ph type="sldNum" idx="36"/>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A5F8-1840-4158-ACA7-6FE07EE48A38}" type="slidenum">
              <a:rPr b="0" lang="ar-SA" sz="1200" spc="-1" strike="noStrike">
                <a:solidFill>
                  <a:srgbClr val="ffffff"/>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4" name="مثلث متساوي الساقين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6"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7"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ffffff"/>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A2B1-9E18-4760-8E17-363F41F31997}" type="slidenum">
              <a:rPr b="0" lang="ar-SA" sz="1300" spc="-1" strike="noStrike">
                <a:solidFill>
                  <a:srgbClr val="ffffff"/>
                </a:solidFill>
                <a:latin typeface="Century Gothic"/>
                <a:ea typeface="Tahom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8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88"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89"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CE44-06D9-4664-8B6B-0FA312EF5803}"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7" name="مثلث قائم الزاوية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مثلث متساوي الساقين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رابط مستقيم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رابط مستقيم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3"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CFA6-F93A-4EE3-9D4E-0802BB5E06CB}"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74"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6144-424C-4C58-ADEB-DB9721DEE4E4}"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1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15"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F88A-5ACA-43E3-9A24-7945F29E0BF5}"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5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56" name="PlaceHolder 3"/>
          <p:cNvSpPr>
            <a:spLocks noGrp="1"/>
          </p:cNvSpPr>
          <p:nvPr>
            <p:ph type="dt" idx="19"/>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PlaceHolder 5"/>
          <p:cNvSpPr>
            <a:spLocks noGrp="1"/>
          </p:cNvSpPr>
          <p:nvPr>
            <p:ph type="sldNum" idx="21"/>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0D246-FDE4-44FE-A6F5-73DF9CC9C3A6}"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96"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97" name="PlaceHolder 3"/>
          <p:cNvSpPr>
            <a:spLocks noGrp="1"/>
          </p:cNvSpPr>
          <p:nvPr>
            <p:ph type="dt" idx="22"/>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PlaceHolder 5"/>
          <p:cNvSpPr>
            <a:spLocks noGrp="1"/>
          </p:cNvSpPr>
          <p:nvPr>
            <p:ph type="sldNum" idx="24"/>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886A7-9E4B-4887-96E2-D040633A28F5}"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3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38" name="PlaceHolder 3"/>
          <p:cNvSpPr>
            <a:spLocks noGrp="1"/>
          </p:cNvSpPr>
          <p:nvPr>
            <p:ph type="dt" idx="25"/>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Century Gothic"/>
                <a:ea typeface="Tahoma"/>
              </a:rPr>
              <a:t>&lt;date/time&gt;</a:t>
            </a:r>
            <a:endParaRPr b="0" lang="en-US" sz="900" spc="-1" strike="noStrike">
              <a:solidFill>
                <a:srgbClr val="000000"/>
              </a:solidFill>
              <a:latin typeface="Times New Roman"/>
            </a:endParaRPr>
          </a:p>
        </p:txBody>
      </p:sp>
      <p:sp>
        <p:nvSpPr>
          <p:cNvPr id="339" name="PlaceHolder 4"/>
          <p:cNvSpPr>
            <a:spLocks noGrp="1"/>
          </p:cNvSpPr>
          <p:nvPr>
            <p:ph type="ftr" idx="26"/>
          </p:nvPr>
        </p:nvSpPr>
        <p:spPr>
          <a:xfrm>
            <a:off x="1134720" y="6556320"/>
            <a:ext cx="514332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PlaceHolder 5"/>
          <p:cNvSpPr>
            <a:spLocks noGrp="1"/>
          </p:cNvSpPr>
          <p:nvPr>
            <p:ph type="sldNum" idx="27"/>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9A18-F4F1-4ADF-ABAF-F74E3764B5EB}" type="slidenum">
              <a:rPr b="0" lang="ar-SA" sz="900" spc="-1" strike="noStrike">
                <a:solidFill>
                  <a:srgbClr val="000000"/>
                </a:solidFill>
                <a:latin typeface="Century Gothic"/>
                <a:ea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trialx.com/curetalk/wp-content/blogs.dir/7/files/2011/05/diseases/Parainfluenza-1.jpg" TargetMode="Externa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pathmicro.med.sc.edu/mhunt/flucolo3.gif" TargetMode="Externa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Rectangle 2"/>
          <p:cNvSpPr/>
          <p:nvPr/>
        </p:nvSpPr>
        <p:spPr>
          <a:xfrm>
            <a:off x="214200" y="228960"/>
            <a:ext cx="8929800" cy="320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40059"/>
                </a:solidFill>
                <a:uFillTx/>
                <a:latin typeface="Copperplate Gothic Light"/>
                <a:ea typeface="바탕"/>
              </a:rPr>
              <a:t>Respiratory Viruses</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Respiratory diseases occur most frequently in colder weather, especially in raining season, and in cases of overcrowding. Causes of sever viral respiratory illnesses in developing countries include measles virus, influenza and parainfluenza viruses, and respiratory syncytial virus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08" name="Object 1"/>
          <p:cNvGraphicFramePr/>
          <p:nvPr/>
        </p:nvGraphicFramePr>
        <p:xfrm>
          <a:off x="571680" y="3214800"/>
          <a:ext cx="8378640" cy="3643200"/>
        </p:xfrm>
        <a:graphic>
          <a:graphicData uri="http://schemas.openxmlformats.org/presentationml/2006/ole">
            <p:oleObj progId="Word.Document.12" r:id="rId1" spid="">
              <p:embed/>
              <p:pic>
                <p:nvPicPr>
                  <p:cNvPr id="509" name="Object 1" descr=""/>
                  <p:cNvPicPr/>
                  <p:nvPr/>
                </p:nvPicPr>
                <p:blipFill>
                  <a:blip r:embed="rId2"/>
                  <a:stretch/>
                </p:blipFill>
                <p:spPr>
                  <a:xfrm>
                    <a:off x="571680" y="3214800"/>
                    <a:ext cx="8378640" cy="3643200"/>
                  </a:xfrm>
                  <a:prstGeom prst="rect">
                    <a:avLst/>
                  </a:prstGeom>
                  <a:ln w="0">
                    <a:noFill/>
                  </a:ln>
                </p:spPr>
              </p:pic>
            </p:oleObj>
          </a:graphicData>
        </a:graphic>
      </p:graphicFrame>
      <p:sp>
        <p:nvSpPr>
          <p:cNvPr id="510" name="Rectangle 3"/>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Rectangle 1"/>
          <p:cNvSpPr/>
          <p:nvPr/>
        </p:nvSpPr>
        <p:spPr>
          <a:xfrm>
            <a:off x="142920" y="335520"/>
            <a:ext cx="885816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Prevention</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nactivated  vaccines are available against influenza A and B.</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e vaccine is normally trivalent, consisting of one A H3N2 strain, one A H1N1 strain, and one B strain.</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e strains used are reviewed by the WHO each year.</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e vaccine should be given to debilitated and elderly individuals who are at risk of severe influenza infection.</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f however, an epidemic is caused by a new subtype, previous immunization is ineffective. </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Rectangle 1"/>
          <p:cNvSpPr/>
          <p:nvPr/>
        </p:nvSpPr>
        <p:spPr>
          <a:xfrm>
            <a:off x="285840" y="664560"/>
            <a:ext cx="8858160" cy="4604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b050"/>
                </a:solidFill>
                <a:uFillTx/>
                <a:latin typeface="Times New Roman"/>
                <a:ea typeface="바탕"/>
              </a:rPr>
              <a:t>3- Parainfluenza Virus</a:t>
            </a:r>
            <a:endParaRPr b="0" lang="en-US" sz="28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sRNA virus</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belonging to the family Paramyxoviruse</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enveloped, pleomorphic morphology</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5 serotypes: 1, 2, 3, 4a and 4b</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Closely related to Mumps virus</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27" name="Picture 5" descr="Parainfluenza image">
            <a:hlinkClick r:id="rId1"/>
          </p:cNvPr>
          <p:cNvPicPr/>
          <p:nvPr/>
        </p:nvPicPr>
        <p:blipFill>
          <a:blip r:embed="rId2"/>
          <a:stretch/>
        </p:blipFill>
        <p:spPr>
          <a:xfrm>
            <a:off x="5643720" y="1643040"/>
            <a:ext cx="3143160" cy="314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Rectangle 1"/>
          <p:cNvSpPr/>
          <p:nvPr/>
        </p:nvSpPr>
        <p:spPr>
          <a:xfrm>
            <a:off x="214200" y="73800"/>
            <a:ext cx="864396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Transmission and pathogenicity:  </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Parainfluenza viruses are highly infectious but about 30-50% of infections are without symptoms.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e most serious Parainfluenza viral infections occur in young children. The exudate produced by the inflamed cells of the respiratory tract can cause obstruction of the larynx and bronchi (Croup).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ype 1 and 2 Parainfluenza viruses are often the cause of croup, and infections tend to occur as epidemics.</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Parainfluenza type 3 is a major cause of sever bronchiolitis and bronchopneumonia in infants.</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ype 4 is of low pathogenicity</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Vaccines against Parainfluenza viruses are not yet available.</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مستطيل 3"/>
          <p:cNvSpPr/>
          <p:nvPr/>
        </p:nvSpPr>
        <p:spPr>
          <a:xfrm>
            <a:off x="285840" y="357120"/>
            <a:ext cx="8215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Clinical Manifestations</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Croup (laryngotracheobroncitis) - most common manifestation of parainfluenza virus infection. However other viruses may induce croup e.g. influenza and RSV.</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Other conditions that may be caused by parainfluenza viruses include Bronchiolitis, Pneumonia.</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0" name="مستطيل 4"/>
          <p:cNvSpPr/>
          <p:nvPr/>
        </p:nvSpPr>
        <p:spPr>
          <a:xfrm>
            <a:off x="285840" y="3643200"/>
            <a:ext cx="8429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Management</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No specific antiviral chemotherapy available.</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vere cases of croup should be admitted to hospital and placed in oxygen tents.</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No vaccine is available.</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Rectangle 1"/>
          <p:cNvSpPr/>
          <p:nvPr/>
        </p:nvSpPr>
        <p:spPr>
          <a:xfrm>
            <a:off x="285840" y="446040"/>
            <a:ext cx="864396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Laboratory Diagnosis</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Detection of Antigen - a rapid diagnosis can be made by the detection of parainfluenza antigen from nasopharyngeal aspirates and throat washings.</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Virus Isolation - virus may be readily isolated from nasopharyngeal aspirates and throat swabs.</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rology - a retrospective diagnosis may be made by serolog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Rectangle 1"/>
          <p:cNvSpPr/>
          <p:nvPr/>
        </p:nvSpPr>
        <p:spPr>
          <a:xfrm>
            <a:off x="214200" y="102960"/>
            <a:ext cx="8929800" cy="7012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b050"/>
                </a:solidFill>
                <a:uFillTx/>
                <a:latin typeface="Times New Roman"/>
                <a:ea typeface="바탕"/>
              </a:rPr>
              <a:t>4- Respiratory Syncytial Virus (RSV)</a:t>
            </a:r>
            <a:endParaRPr b="0" lang="en-US" sz="28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sRNA virus.</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belong to the Paramyxovirus family.</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Causes a sizable epidemic each year.</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t is surrounded by an envelop.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RSV can be grown in tissue culture.</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nfected cells joined together in masses called syncytia.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nclusion bodies can be present. </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AutoShape 4"/>
          <p:cNvSpPr/>
          <p:nvPr/>
        </p:nvSpPr>
        <p:spPr>
          <a:xfrm>
            <a:off x="9082080" y="-384120"/>
            <a:ext cx="304920" cy="304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4" name="Picture 6" descr="http://2.bp.blogspot.com/-eiZbbUvHn0c/T5FWh9W3w3I/AAAAAAAAAfQ/mQzFvu_sOHk/s1600/RSV-1.jpg"/>
          <p:cNvPicPr/>
          <p:nvPr/>
        </p:nvPicPr>
        <p:blipFill>
          <a:blip r:embed="rId1"/>
          <a:srcRect l="17783" t="5255" r="21548" b="0"/>
          <a:stretch/>
        </p:blipFill>
        <p:spPr>
          <a:xfrm>
            <a:off x="5357880" y="1285920"/>
            <a:ext cx="3454200" cy="3219480"/>
          </a:xfrm>
          <a:prstGeom prst="rect">
            <a:avLst/>
          </a:prstGeom>
          <a:ln w="0">
            <a:noFill/>
          </a:ln>
        </p:spPr>
      </p:pic>
      <p:sp>
        <p:nvSpPr>
          <p:cNvPr id="535" name="مستطيل 4"/>
          <p:cNvSpPr/>
          <p:nvPr/>
        </p:nvSpPr>
        <p:spPr>
          <a:xfrm>
            <a:off x="8715240" y="3286080"/>
            <a:ext cx="71640" cy="214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مستطيل 5"/>
          <p:cNvSpPr/>
          <p:nvPr/>
        </p:nvSpPr>
        <p:spPr>
          <a:xfrm>
            <a:off x="8501040" y="3714840"/>
            <a:ext cx="285840" cy="214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مستطيل 6"/>
          <p:cNvSpPr/>
          <p:nvPr/>
        </p:nvSpPr>
        <p:spPr>
          <a:xfrm>
            <a:off x="5357880" y="1285920"/>
            <a:ext cx="285840" cy="214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مستطيل 4"/>
          <p:cNvSpPr/>
          <p:nvPr/>
        </p:nvSpPr>
        <p:spPr>
          <a:xfrm>
            <a:off x="357120" y="0"/>
            <a:ext cx="821556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Transmission and pathology:</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RSV is a cause of sever and occasionally fetal bronchiolitis and pneumonia in infants.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t can also cause infections of the upper respiratory tract.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 complication of RSV in young children is otitis media.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RSV is highly infectious. It is spread from one person to person mainly by droplet infection</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No vaccine against RSV is available at present.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Breast feeding provides some protection for infants.</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responsible for 50-90% of Bronchiolitis and 5-40% of Bronchopneumonia</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Other manifestations include croup (10% of all cases).</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Rectangle 1"/>
          <p:cNvSpPr/>
          <p:nvPr/>
        </p:nvSpPr>
        <p:spPr>
          <a:xfrm>
            <a:off x="285840" y="28080"/>
            <a:ext cx="84294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Infants at Risk of Severe Infection</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바탕"/>
              </a:rPr>
              <a:t>Infants with congenital heart disease - infants who were hospitalized within the first few days of life with congenital disease are particularly at risk.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바탕"/>
              </a:rPr>
              <a:t>Infants with underlying pulmonary disease - infants with underlying pulmonary disease, especially bronchopulmonary dysplasia, are at risk of developing prolonged infection with RSV.</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바탕"/>
              </a:rPr>
              <a:t>Immunocompromized infants</a:t>
            </a:r>
            <a:endParaRPr b="0" lang="en-US" sz="24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바탕"/>
              </a:rPr>
              <a:t> </a:t>
            </a:r>
            <a:r>
              <a:rPr b="0" lang="en-GB" sz="2400" spc="-1" strike="noStrike">
                <a:solidFill>
                  <a:srgbClr val="000000"/>
                </a:solidFill>
                <a:latin typeface="Times New Roman"/>
                <a:ea typeface="바탕"/>
              </a:rPr>
              <a:t>children who are immunosuppressed</a:t>
            </a:r>
            <a:endParaRPr b="0" lang="en-US" sz="24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바탕"/>
              </a:rPr>
              <a:t> </a:t>
            </a:r>
            <a:r>
              <a:rPr b="0" lang="en-GB" sz="2400" spc="-1" strike="noStrike">
                <a:solidFill>
                  <a:srgbClr val="000000"/>
                </a:solidFill>
                <a:latin typeface="Times New Roman"/>
                <a:ea typeface="바탕"/>
              </a:rPr>
              <a:t>or have a congenital immunodeficiency</a:t>
            </a:r>
            <a:endParaRPr b="0" lang="en-US" sz="24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바탕"/>
              </a:rPr>
              <a:t> </a:t>
            </a:r>
            <a:r>
              <a:rPr b="0" lang="en-GB" sz="2400" spc="-1" strike="noStrike">
                <a:solidFill>
                  <a:srgbClr val="000000"/>
                </a:solidFill>
                <a:latin typeface="Times New Roman"/>
                <a:ea typeface="바탕"/>
              </a:rPr>
              <a:t>disease may develop lower respiratory</a:t>
            </a:r>
            <a:endParaRPr b="0" lang="en-US" sz="24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바탕"/>
              </a:rPr>
              <a:t> </a:t>
            </a:r>
            <a:r>
              <a:rPr b="0" lang="en-GB" sz="2400" spc="-1" strike="noStrike">
                <a:solidFill>
                  <a:srgbClr val="000000"/>
                </a:solidFill>
                <a:latin typeface="Times New Roman"/>
                <a:ea typeface="바탕"/>
              </a:rPr>
              <a:t>tract disease at any age. </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40" name="Picture 4" descr="http://2.bp.blogspot.com/-ZfwPnIk0Pao/Ubr1DfEXK5I/AAAAAAAAAMo/yJ645ZDhaq4/s1600/Bronchiolitis_anatomy.png"/>
          <p:cNvPicPr/>
          <p:nvPr/>
        </p:nvPicPr>
        <p:blipFill>
          <a:blip r:embed="rId1"/>
          <a:stretch/>
        </p:blipFill>
        <p:spPr>
          <a:xfrm>
            <a:off x="5357880" y="3500280"/>
            <a:ext cx="3571920" cy="307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مستطيل 3"/>
          <p:cNvSpPr/>
          <p:nvPr/>
        </p:nvSpPr>
        <p:spPr>
          <a:xfrm>
            <a:off x="571680" y="165240"/>
            <a:ext cx="8001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Laboratory Diagnosis</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Detection of Antigen - a rapid diagnosis can be made by the detection of RSV antigen from nasopharyngeal aspirates.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Virus Isolation - virus may be readily isolated from nasopharyngeal aspirates. However, this will take several days.</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rolog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مربع نص 3"/>
          <p:cNvSpPr/>
          <p:nvPr/>
        </p:nvSpPr>
        <p:spPr>
          <a:xfrm>
            <a:off x="357120" y="142920"/>
            <a:ext cx="8286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0062"/>
                </a:solidFill>
                <a:latin typeface="Arial"/>
              </a:rPr>
              <a:t>Respiratory Viruses</a:t>
            </a:r>
            <a:endParaRPr b="0" lang="en-US" sz="3200" spc="-1" strike="noStrike">
              <a:solidFill>
                <a:srgbClr val="ffffff"/>
              </a:solidFill>
              <a:latin typeface="Arial"/>
            </a:endParaRPr>
          </a:p>
        </p:txBody>
      </p:sp>
      <p:graphicFrame>
        <p:nvGraphicFramePr>
          <p:cNvPr id="543" name=""/>
          <p:cNvGraphicFramePr/>
          <p:nvPr/>
        </p:nvGraphicFramePr>
        <p:xfrm>
          <a:off x="285840" y="1000080"/>
          <a:ext cx="8429400" cy="5611680"/>
        </p:xfrm>
        <a:graphic>
          <a:graphicData uri="http://schemas.openxmlformats.org/drawingml/2006/table">
            <a:tbl>
              <a:tblPr/>
              <a:tblGrid>
                <a:gridCol w="2128680"/>
                <a:gridCol w="1843200"/>
                <a:gridCol w="900000"/>
                <a:gridCol w="1428840"/>
                <a:gridCol w="2128680"/>
              </a:tblGrid>
              <a:tr h="1072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Viru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388c"/>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Family</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388c"/>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Nuclic acid</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388c"/>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Envelop</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388c"/>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Featu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388c"/>
                    </a:solidFill>
                  </a:tcPr>
                </a:tc>
              </a:tr>
              <a:tr h="926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easl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Gothic"/>
                        </a:rPr>
                        <a:t>Paramyxoviru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nveloped helica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virus can be grown in human and animal tissue</a:t>
                      </a:r>
                      <a:r>
                        <a:rPr b="0" lang="en-US" sz="1800" spc="-1" strike="noStrike">
                          <a:solidFill>
                            <a:srgbClr val="000000"/>
                          </a:solidFill>
                          <a:latin typeface="Times New Roman"/>
                          <a:ea typeface="바탕"/>
                        </a:rPr>
                        <a:t>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r>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fluenz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Gothic"/>
                        </a:rPr>
                        <a:t>Orthomyxoviru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nveloped helica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3</a:t>
                      </a:r>
                      <a:r>
                        <a:rPr b="0" lang="en-US" sz="1800" spc="-1" strike="noStrike">
                          <a:solidFill>
                            <a:srgbClr val="000000"/>
                          </a:solidFill>
                          <a:latin typeface="Times New Roman"/>
                          <a:ea typeface="바탕"/>
                        </a:rPr>
                        <a:t> </a:t>
                      </a:r>
                      <a:r>
                        <a:rPr b="0" lang="en-US" sz="1800" spc="-1" strike="noStrike">
                          <a:solidFill>
                            <a:srgbClr val="000000"/>
                          </a:solidFill>
                          <a:latin typeface="Times New Roman"/>
                          <a:ea typeface="바탕"/>
                        </a:rPr>
                        <a:t>types: A, B, and C</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12175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arainfluenz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Gothic"/>
                        </a:rPr>
                        <a:t>Paramyxoviru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nveloped helical</a:t>
                      </a:r>
                      <a:endParaRPr b="0" lang="en-US" sz="1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ctr">
                      <a:noAutofit/>
                    </a:bodyPr>
                    <a:p>
                      <a:pPr algn="ct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5 serotypes: 1, 2, 3, 4a and 4b</a:t>
                      </a:r>
                      <a:endParaRPr b="0" lang="en-US" sz="1800" spc="-1" strike="noStrike">
                        <a:solidFill>
                          <a:srgbClr val="ffffff"/>
                        </a:solidFill>
                        <a:latin typeface="Arial"/>
                      </a:endParaRPr>
                    </a:p>
                    <a:p>
                      <a:pPr algn="ct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Closely related to Mumps viru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17521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spiratory Syncytial (RSV)</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7bb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Gothic"/>
                        </a:rPr>
                        <a:t>Paramyxoviru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7bb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7bb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nveloped helical</a:t>
                      </a:r>
                      <a:endParaRPr b="0" lang="en-US" sz="1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7bbff"/>
                    </a:solidFill>
                  </a:tcPr>
                </a:tc>
                <a:tc>
                  <a:txBody>
                    <a:bodyPr lIns="90000" rIns="90000" tIns="46800" bIns="46800" anchor="ctr">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Causes a sizable epidemic each year.</a:t>
                      </a:r>
                      <a:endParaRPr b="0" lang="en-US" sz="1800" spc="-1" strike="noStrike">
                        <a:solidFill>
                          <a:srgbClr val="ffffff"/>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can be grown in tissue culture.</a:t>
                      </a:r>
                      <a:endParaRPr b="0" lang="en-US" sz="1800" spc="-1" strike="noStrike">
                        <a:solidFill>
                          <a:srgbClr val="ffffff"/>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Inclusion bodies can be present.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7bb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Rectangle 1"/>
          <p:cNvSpPr/>
          <p:nvPr/>
        </p:nvSpPr>
        <p:spPr>
          <a:xfrm>
            <a:off x="214200" y="234720"/>
            <a:ext cx="892980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b050"/>
                </a:solidFill>
                <a:uFillTx/>
                <a:latin typeface="Times New Roman"/>
                <a:ea typeface="바탕"/>
              </a:rPr>
              <a:t>1- Measles virus</a:t>
            </a:r>
            <a:endParaRPr b="0" lang="en-US" sz="24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Measles virus belongs to the family Paramyxovirus.</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90062"/>
                </a:solidFill>
                <a:uFillTx/>
                <a:latin typeface="Times New Roman"/>
                <a:ea typeface="바탕"/>
              </a:rPr>
              <a:t>VIRUS:</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t is a single stranded RNA spherical particle</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r>
              <a:rPr b="0" lang="en-US" sz="2400" spc="-1" strike="noStrike">
                <a:solidFill>
                  <a:srgbClr val="000000"/>
                </a:solidFill>
                <a:latin typeface="Times New Roman"/>
                <a:ea typeface="바탕"/>
              </a:rPr>
              <a:t>with helical capsid symmetry.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t is surrounded by an envelope.</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e virus can be grown in human and animal tissue culture cells.</a:t>
            </a:r>
            <a:endParaRPr b="0" lang="en-US" sz="2400" spc="-1" strike="noStrike">
              <a:solidFill>
                <a:srgbClr val="ffffff"/>
              </a:solidFill>
              <a:latin typeface="Arial"/>
            </a:endParaRPr>
          </a:p>
        </p:txBody>
      </p:sp>
      <p:pic>
        <p:nvPicPr>
          <p:cNvPr id="512" name="Picture 2" descr="http://farm4.static.flickr.com/3041/2713093439_09c83ac03f.jpg"/>
          <p:cNvPicPr/>
          <p:nvPr/>
        </p:nvPicPr>
        <p:blipFill>
          <a:blip r:embed="rId1"/>
          <a:stretch/>
        </p:blipFill>
        <p:spPr>
          <a:xfrm>
            <a:off x="6000840" y="1714680"/>
            <a:ext cx="2500200" cy="25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مستطيل 3"/>
          <p:cNvSpPr/>
          <p:nvPr/>
        </p:nvSpPr>
        <p:spPr>
          <a:xfrm>
            <a:off x="571680" y="71280"/>
            <a:ext cx="8286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Transmission and pathogenecity: </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n developing countries measles is a serious and fetal disease in non immune young children, especially with malnutrition and immune suppressive children.</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e virus is highly infectious and spread mainly by air droplets. </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مستطيل 4"/>
          <p:cNvSpPr/>
          <p:nvPr/>
        </p:nvSpPr>
        <p:spPr>
          <a:xfrm>
            <a:off x="500040" y="3143160"/>
            <a:ext cx="8072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Clinical features: </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Early clinical features include, fever, cough,                         nasal discharge and conjunctivitis followed by a rash.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Complications which develop due to sever measles and ,or, secondary bacterial or viral  infection include bronchopneumonia and diarrhea, conjunctivitis which may lead to ulcerative keratitis and blindness. Anaemia often develops.</a:t>
            </a:r>
            <a:endParaRPr b="0" lang="en-US" sz="2400" spc="-1" strike="noStrike">
              <a:solidFill>
                <a:srgbClr val="ffffff"/>
              </a:solidFill>
              <a:latin typeface="Arial"/>
            </a:endParaRPr>
          </a:p>
        </p:txBody>
      </p:sp>
      <p:pic>
        <p:nvPicPr>
          <p:cNvPr id="515" name="Picture 5" descr="https://encrypted-tbn2.gstatic.com/images?q=tbn:ANd9GcSIDt1gOMILAm8TXGPr0qlaIafjiCoOKMW3mEFdfV7aUHMlBYd9hw"/>
          <p:cNvPicPr/>
          <p:nvPr/>
        </p:nvPicPr>
        <p:blipFill>
          <a:blip r:embed="rId1"/>
          <a:stretch/>
        </p:blipFill>
        <p:spPr>
          <a:xfrm>
            <a:off x="6286680" y="2714760"/>
            <a:ext cx="2428560" cy="161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Rectangle 1"/>
          <p:cNvSpPr/>
          <p:nvPr/>
        </p:nvSpPr>
        <p:spPr>
          <a:xfrm>
            <a:off x="71280" y="179640"/>
            <a:ext cx="885852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Prevention:</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Usually by immunization with live vaccine at 9 months old.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Great caring must be taken when dealing with measles samples.</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n efficient cold storage must be used</a:t>
            </a:r>
            <a:r>
              <a:rPr b="0" lang="en-US" sz="2400" spc="-1" strike="noStrike">
                <a:solidFill>
                  <a:srgbClr val="ffffff"/>
                </a:solidFill>
                <a:latin typeface="Times New Roman"/>
                <a:ea typeface="바탕"/>
              </a:rPr>
              <a:t>.</a:t>
            </a:r>
            <a:endParaRPr b="0" lang="en-US" sz="24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Lab diagnosis:</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Measles usually diagnosed clinically. If laboratory assist is required, it is recommended to take nasopharyngeal specimen and use the immunofluorescence technique.</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Rectangle 1"/>
          <p:cNvSpPr/>
          <p:nvPr/>
        </p:nvSpPr>
        <p:spPr>
          <a:xfrm>
            <a:off x="142920" y="280080"/>
            <a:ext cx="892980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b050"/>
                </a:solidFill>
                <a:uFillTx/>
                <a:latin typeface="Times New Roman"/>
                <a:ea typeface="바탕"/>
              </a:rPr>
              <a:t>2. Influenza Virus</a:t>
            </a:r>
            <a:endParaRPr b="0" lang="en-US" sz="24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RNA virus.</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belong to the family Orthomyxovirus</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enveloped virus</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3 types: A, B, and C</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ype A undergoes antigenic shift and drift.</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ype B undergoes antigenic drift only </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nd type C is relatively stable</a:t>
            </a:r>
            <a:endParaRPr b="0" lang="en-US" sz="2400" spc="-1" strike="noStrike">
              <a:solidFill>
                <a:srgbClr val="ffffff"/>
              </a:solidFill>
              <a:latin typeface="Arial"/>
            </a:endParaRPr>
          </a:p>
        </p:txBody>
      </p:sp>
      <p:pic>
        <p:nvPicPr>
          <p:cNvPr id="518" name="Picture 4" descr="flucolo3.gif (58901 bytes)">
            <a:hlinkClick r:id="rId1"/>
          </p:cNvPr>
          <p:cNvPicPr/>
          <p:nvPr/>
        </p:nvPicPr>
        <p:blipFill>
          <a:blip r:embed="rId2"/>
          <a:stretch/>
        </p:blipFill>
        <p:spPr>
          <a:xfrm>
            <a:off x="5786280" y="2286000"/>
            <a:ext cx="2992680" cy="27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Rectangle 1"/>
          <p:cNvSpPr/>
          <p:nvPr/>
        </p:nvSpPr>
        <p:spPr>
          <a:xfrm>
            <a:off x="285840" y="881640"/>
            <a:ext cx="885816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e40059"/>
                </a:solidFill>
                <a:uFillTx/>
                <a:latin typeface="Times New Roman"/>
                <a:ea typeface="바탕"/>
              </a:rPr>
              <a:t>Clinical features:</a:t>
            </a:r>
            <a:endParaRPr b="0" lang="en-US" sz="2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바탕"/>
              </a:rPr>
              <a:t>The clinical features of influenza "flu" include fever, chills, tiredness, headache, muscle pain, sore throat. </a:t>
            </a:r>
            <a:r>
              <a:rPr b="0" i="1" lang="en-US" sz="2200" spc="-1" strike="noStrike">
                <a:solidFill>
                  <a:srgbClr val="000000"/>
                </a:solidFill>
                <a:latin typeface="Times New Roman"/>
                <a:ea typeface="바탕"/>
              </a:rPr>
              <a:t>Infection is by inhaling the virus.</a:t>
            </a:r>
            <a:endParaRPr b="0" lang="en-US" sz="2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바탕"/>
              </a:rPr>
              <a:t>Severe case can lead to influenza pneumonia which can be fetal.</a:t>
            </a:r>
            <a:endParaRPr b="0" lang="en-US" sz="2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e40059"/>
                </a:solidFill>
                <a:uFillTx/>
                <a:latin typeface="Times New Roman"/>
                <a:ea typeface="바탕"/>
              </a:rPr>
              <a:t>Influenza A Virus:</a:t>
            </a:r>
            <a:endParaRPr b="0" lang="en-US" sz="2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바탕"/>
              </a:rPr>
              <a:t>Usually causes a mild febrile illness.</a:t>
            </a:r>
            <a:endParaRPr b="0" lang="en-US" sz="2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바탕"/>
              </a:rPr>
              <a:t>Death may result from complications such as viral/bacterial pneumonia.</a:t>
            </a:r>
            <a:endParaRPr b="0" lang="en-US" sz="2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0" name="Rectangle 2" descr=""/>
          <p:cNvPicPr/>
          <p:nvPr/>
        </p:nvPicPr>
        <p:blipFill>
          <a:blip r:embed="rId1"/>
          <a:stretch/>
        </p:blipFill>
        <p:spPr>
          <a:xfrm>
            <a:off x="1994040" y="566640"/>
            <a:ext cx="5492520" cy="1152720"/>
          </a:xfrm>
          <a:prstGeom prst="rect">
            <a:avLst/>
          </a:prstGeom>
          <a:ln w="0">
            <a:noFill/>
          </a:ln>
        </p:spPr>
      </p:pic>
      <p:sp>
        <p:nvSpPr>
          <p:cNvPr id="521" name="PlaceHolder 1"/>
          <p:cNvSpPr>
            <a:spLocks noGrp="1"/>
          </p:cNvSpPr>
          <p:nvPr>
            <p:ph/>
          </p:nvPr>
        </p:nvSpPr>
        <p:spPr>
          <a:xfrm>
            <a:off x="761760" y="1980720"/>
            <a:ext cx="7483320" cy="4496040"/>
          </a:xfrm>
          <a:prstGeom prst="rect">
            <a:avLst/>
          </a:prstGeom>
          <a:noFill/>
          <a:ln w="0">
            <a:noFill/>
          </a:ln>
        </p:spPr>
        <p:txBody>
          <a:bodyPr lIns="90360" rIns="90360" tIns="44280" bIns="44280" anchor="t">
            <a:normAutofit/>
          </a:bodyPr>
          <a:p>
            <a:pPr marL="44784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18</a:t>
            </a:r>
            <a:r>
              <a:rPr b="0" lang="en-US" sz="2400" spc="-1" strike="noStrike">
                <a:solidFill>
                  <a:srgbClr val="000000"/>
                </a:solidFill>
                <a:latin typeface="Times New Roman"/>
              </a:rPr>
              <a:t>	</a:t>
            </a:r>
            <a:r>
              <a:rPr b="1" lang="en-US" sz="2400" spc="-1" strike="noStrike">
                <a:solidFill>
                  <a:srgbClr val="000000"/>
                </a:solidFill>
                <a:latin typeface="Times New Roman"/>
              </a:rPr>
              <a:t>H1N1</a:t>
            </a:r>
            <a:r>
              <a:rPr b="0" lang="en-US" sz="2200" spc="-1" strike="noStrike">
                <a:solidFill>
                  <a:srgbClr val="000000"/>
                </a:solidFill>
                <a:latin typeface="Times New Roman"/>
              </a:rPr>
              <a:t>	</a:t>
            </a:r>
            <a:r>
              <a:rPr b="0" lang="en-US" sz="2200" spc="-1" strike="noStrike">
                <a:solidFill>
                  <a:srgbClr val="000000"/>
                </a:solidFill>
                <a:latin typeface="Times New Roman"/>
              </a:rPr>
              <a:t>“Spanish Influenza” </a:t>
            </a:r>
            <a:r>
              <a:rPr b="0" lang="en-US" sz="2400" spc="-1" strike="noStrike">
                <a:solidFill>
                  <a:srgbClr val="000000"/>
                </a:solidFill>
                <a:latin typeface="Times New Roman"/>
              </a:rPr>
              <a:t>	</a:t>
            </a:r>
            <a:r>
              <a:rPr b="0" lang="en-US" sz="2400" spc="-1" strike="noStrike">
                <a:solidFill>
                  <a:srgbClr val="000000"/>
                </a:solidFill>
                <a:latin typeface="Times New Roman"/>
              </a:rPr>
              <a:t>20-40 million deaths</a:t>
            </a:r>
            <a:endParaRPr b="0" lang="en-US" sz="2400" spc="-1" strike="noStrike">
              <a:solidFill>
                <a:srgbClr val="ffffff"/>
              </a:solidFill>
              <a:latin typeface="Century Gothic"/>
            </a:endParaRPr>
          </a:p>
          <a:p>
            <a:pPr marL="447840" indent="0" algn="r" rtl="1">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Gothic"/>
            </a:endParaRPr>
          </a:p>
          <a:p>
            <a:pPr marL="44784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57</a:t>
            </a:r>
            <a:r>
              <a:rPr b="0" lang="en-US" sz="2400" spc="-1" strike="noStrike">
                <a:solidFill>
                  <a:srgbClr val="000000"/>
                </a:solidFill>
                <a:latin typeface="Times New Roman"/>
              </a:rPr>
              <a:t>	</a:t>
            </a:r>
            <a:r>
              <a:rPr b="1" lang="en-US" sz="2400" spc="-1" strike="noStrike">
                <a:solidFill>
                  <a:srgbClr val="000000"/>
                </a:solidFill>
                <a:latin typeface="Times New Roman"/>
              </a:rPr>
              <a:t>H2N2</a:t>
            </a:r>
            <a:r>
              <a:rPr b="0" lang="en-US" sz="2400" spc="-1" strike="noStrike">
                <a:solidFill>
                  <a:srgbClr val="000000"/>
                </a:solidFill>
                <a:latin typeface="Times New Roman"/>
              </a:rPr>
              <a:t>	</a:t>
            </a:r>
            <a:r>
              <a:rPr b="0" lang="en-US" sz="2200" spc="-1" strike="noStrike">
                <a:solidFill>
                  <a:srgbClr val="000000"/>
                </a:solidFill>
                <a:latin typeface="Times New Roman"/>
              </a:rPr>
              <a:t>“Asian Flu”</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2 million deaths</a:t>
            </a:r>
            <a:endParaRPr b="0" lang="en-US" sz="2400" spc="-1" strike="noStrike">
              <a:solidFill>
                <a:srgbClr val="ffffff"/>
              </a:solidFill>
              <a:latin typeface="Century Gothic"/>
            </a:endParaRPr>
          </a:p>
          <a:p>
            <a:pPr marL="447840" indent="0" algn="r" rtl="1">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Gothic"/>
            </a:endParaRPr>
          </a:p>
          <a:p>
            <a:pPr marL="44784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8</a:t>
            </a:r>
            <a:r>
              <a:rPr b="0" lang="en-US" sz="2400" spc="-1" strike="noStrike">
                <a:solidFill>
                  <a:srgbClr val="000000"/>
                </a:solidFill>
                <a:latin typeface="Times New Roman"/>
              </a:rPr>
              <a:t>	</a:t>
            </a:r>
            <a:r>
              <a:rPr b="1" lang="en-US" sz="2400" spc="-1" strike="noStrike">
                <a:solidFill>
                  <a:srgbClr val="000000"/>
                </a:solidFill>
                <a:latin typeface="Times New Roman"/>
              </a:rPr>
              <a:t>H3N2</a:t>
            </a:r>
            <a:r>
              <a:rPr b="0" lang="en-US" sz="2400" spc="-1" strike="noStrike">
                <a:solidFill>
                  <a:srgbClr val="000000"/>
                </a:solidFill>
                <a:latin typeface="Times New Roman"/>
              </a:rPr>
              <a:t>	</a:t>
            </a:r>
            <a:r>
              <a:rPr b="0" lang="en-US" sz="2200" spc="-1" strike="noStrike">
                <a:solidFill>
                  <a:srgbClr val="000000"/>
                </a:solidFill>
                <a:latin typeface="Times New Roman"/>
              </a:rPr>
              <a:t>“Hong Kong Flu”</a:t>
            </a:r>
            <a:r>
              <a:rPr b="0" lang="en-US" sz="2400" spc="-1" strike="noStrike">
                <a:solidFill>
                  <a:srgbClr val="000000"/>
                </a:solidFill>
                <a:latin typeface="Times New Roman"/>
              </a:rPr>
              <a:t>	</a:t>
            </a:r>
            <a:r>
              <a:rPr b="0" lang="en-US" sz="2400" spc="-1" strike="noStrike">
                <a:solidFill>
                  <a:srgbClr val="000000"/>
                </a:solidFill>
                <a:latin typeface="Times New Roman"/>
              </a:rPr>
              <a:t>700,000 deaths</a:t>
            </a:r>
            <a:endParaRPr b="0" lang="en-US" sz="2400" spc="-1" strike="noStrike">
              <a:solidFill>
                <a:srgbClr val="ffffff"/>
              </a:solidFill>
              <a:latin typeface="Century Gothic"/>
            </a:endParaRPr>
          </a:p>
          <a:p>
            <a:pPr marL="447840" indent="0" algn="r" rtl="1">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Gothic"/>
            </a:endParaRPr>
          </a:p>
          <a:p>
            <a:pPr marL="44784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77</a:t>
            </a:r>
            <a:r>
              <a:rPr b="0" lang="en-US" sz="2400" spc="-1" strike="noStrike">
                <a:solidFill>
                  <a:srgbClr val="000000"/>
                </a:solidFill>
                <a:latin typeface="Times New Roman"/>
              </a:rPr>
              <a:t>	</a:t>
            </a:r>
            <a:r>
              <a:rPr b="1" lang="en-US" sz="2400" spc="-1" strike="noStrike">
                <a:solidFill>
                  <a:srgbClr val="000000"/>
                </a:solidFill>
                <a:latin typeface="Times New Roman"/>
              </a:rPr>
              <a:t>H1N1</a:t>
            </a:r>
            <a:r>
              <a:rPr b="0" lang="en-US" sz="2400" spc="-1" strike="noStrike">
                <a:solidFill>
                  <a:srgbClr val="000000"/>
                </a:solidFill>
                <a:latin typeface="Times New Roman"/>
              </a:rPr>
              <a:t>	</a:t>
            </a:r>
            <a:r>
              <a:rPr b="0" lang="en-US" sz="2400" spc="-1" strike="noStrike">
                <a:solidFill>
                  <a:srgbClr val="000000"/>
                </a:solidFill>
                <a:latin typeface="Times New Roman"/>
              </a:rPr>
              <a:t> Re-emergence</a:t>
            </a:r>
            <a:r>
              <a:rPr b="0" lang="en-US" sz="2400" spc="-1" strike="noStrike">
                <a:solidFill>
                  <a:srgbClr val="000000"/>
                </a:solidFill>
                <a:latin typeface="Times New Roman"/>
              </a:rPr>
              <a:t>	</a:t>
            </a:r>
            <a:r>
              <a:rPr b="0" lang="en-US" sz="2400" spc="-1" strike="noStrike">
                <a:solidFill>
                  <a:srgbClr val="000000"/>
                </a:solidFill>
                <a:latin typeface="Times New Roman"/>
              </a:rPr>
              <a:t>No pandemic</a:t>
            </a:r>
            <a:endParaRPr b="0" lang="en-US" sz="2400" spc="-1" strike="noStrike">
              <a:solidFill>
                <a:srgbClr val="ffffff"/>
              </a:solidFill>
              <a:latin typeface="Century Gothic"/>
            </a:endParaRPr>
          </a:p>
          <a:p>
            <a:pPr marL="447840" indent="0" algn="r" rtl="1">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Gothic"/>
            </a:endParaRPr>
          </a:p>
          <a:p>
            <a:pPr marL="447840" indent="0" algn="r" rtl="1">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Gothic"/>
            </a:endParaRPr>
          </a:p>
          <a:p>
            <a:pPr marL="447840" indent="-382680" algn="just">
              <a:lnSpc>
                <a:spcPct val="100000"/>
              </a:lnSpc>
              <a:spcBef>
                <a:spcPts val="550"/>
              </a:spcBef>
              <a:buClr>
                <a:srgbClr val="ff388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least 15 HA subtypes and 9 NA subtypes occur in nature. Up until 1997, only viruses of H1, H2, and H3 are known to infect and cause disease in humans.</a:t>
            </a:r>
            <a:endParaRPr b="0" lang="en-US" sz="2200" spc="-1" strike="noStrike">
              <a:solidFill>
                <a:srgbClr val="ffffff"/>
              </a:solidFill>
              <a:latin typeface="Century Gothic"/>
            </a:endParaRPr>
          </a:p>
          <a:p>
            <a:pPr marL="447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Rectangle 1"/>
          <p:cNvSpPr/>
          <p:nvPr/>
        </p:nvSpPr>
        <p:spPr>
          <a:xfrm>
            <a:off x="214200" y="36000"/>
            <a:ext cx="8715600" cy="743220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11fcb"/>
                </a:solidFill>
                <a:uFillTx/>
                <a:latin typeface="Times New Roman"/>
                <a:ea typeface="바탕"/>
              </a:rPr>
              <a:t>Avian Influenza</a:t>
            </a:r>
            <a:endParaRPr b="0" lang="en-US" sz="2800" spc="-1" strike="noStrike">
              <a:solidFill>
                <a:srgbClr val="ffffff"/>
              </a:solidFill>
              <a:latin typeface="Arial"/>
            </a:endParaRPr>
          </a:p>
          <a:p>
            <a:pPr algn="ctr">
              <a:lnSpc>
                <a:spcPct val="8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8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59"/>
                </a:solidFill>
                <a:latin typeface="Times New Roman"/>
                <a:ea typeface="바탕"/>
              </a:rPr>
              <a:t>H5N1</a:t>
            </a:r>
            <a:endParaRPr b="0" lang="en-US" sz="2400" spc="-1" strike="noStrike">
              <a:solidFill>
                <a:srgbClr val="ffffff"/>
              </a:solidFill>
              <a:latin typeface="Arial"/>
            </a:endParaRPr>
          </a:p>
          <a:p>
            <a:pPr algn="ctr">
              <a:lnSpc>
                <a:spcPct val="8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n outbreak of Avian Influenza H5N1 occurred in </a:t>
            </a:r>
            <a:endParaRPr b="0" lang="en-US" sz="2400" spc="-1" strike="noStrike">
              <a:solidFill>
                <a:srgbClr val="ffffff"/>
              </a:solidFill>
              <a:latin typeface="Arial"/>
            </a:endParaRPr>
          </a:p>
          <a:p>
            <a:pPr>
              <a:lnSpc>
                <a:spcPct val="8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Hong Kong in 1997 where 18 persons were infected of which 6 died.</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e source of the virus was probably from infected chickens and the outbreak was eventually controlled by a mass slaughter of chickens in the territory.</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However, the strains involved were highly virulent for their natural avian hosts.</a:t>
            </a:r>
            <a:endParaRPr b="0" lang="en-US" sz="24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59"/>
                </a:solidFill>
                <a:latin typeface="Times New Roman"/>
                <a:ea typeface="바탕"/>
              </a:rPr>
              <a:t>H9N2 </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veral cases of human infection with avian H9N2 virus occurred in Hong Kong and Southern China in 1999.</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e disease was mild and all patients made a complete recovery</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gain, there was no evidence of reassortment</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23" name="Picture 4" descr="https://encrypted-tbn1.gstatic.com/images?q=tbn:ANd9GcRU190SgibnP3zz9vPkVW2WnWMRyM3Z7oZp9Pwgn3RhCX59Jldw"/>
          <p:cNvPicPr/>
          <p:nvPr/>
        </p:nvPicPr>
        <p:blipFill>
          <a:blip r:embed="rId1"/>
          <a:stretch/>
        </p:blipFill>
        <p:spPr>
          <a:xfrm>
            <a:off x="6572160" y="0"/>
            <a:ext cx="2571840" cy="157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مستطيل 3"/>
          <p:cNvSpPr/>
          <p:nvPr/>
        </p:nvSpPr>
        <p:spPr>
          <a:xfrm>
            <a:off x="357120" y="428760"/>
            <a:ext cx="83581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Laboratory Diagnosis</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is is required at the start of a new epidemic so that the virus type and subtype can be identified and, if needed a new vaccine is prepared.</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Detection of Antigen - a rapid diagnosis can be made by the detection of influenza antigen from nasopharyngeal aspirates and throat washings by IFT and ELISA</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Virus Isolation - virus may be readily isolated from nasopharyngeal aspirates and throat swabs by egg inoculation and cultural technique.</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6:20:17Z</dcterms:created>
  <dc:creator>mohammad</dc:creator>
  <dc:description/>
  <dc:language>en-US</dc:language>
  <cp:lastModifiedBy>Your User Name</cp:lastModifiedBy>
  <dcterms:modified xsi:type="dcterms:W3CDTF">2013-11-06T20:10:24Z</dcterms:modified>
  <cp:revision>56</cp:revision>
  <dc:subject/>
  <dc:title>الشريحة 1</dc:title>
</cp:coreProperties>
</file>