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jpeg" ContentType="image/jpeg"/>
  <Override PartName="/ppt/media/image3.jpeg" ContentType="image/jpe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C223-22C7-4A4D-BCD4-79F0F9CA485C}" type="slidenum">
              <a:rPr b="0" lang="ar-S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0909F-4BBE-4E77-BAFA-3578726F15F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4"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5532-32FE-4121-BE7E-F5D28089A8B7}"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3149-7061-4A5C-A9C3-BC7C405199A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C9079-3641-403D-841F-638F32C0B23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1B37-C9B5-4510-B2A6-D8678B01225A}"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F647-9E2C-4518-9CB7-0B76894EFCE9}"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7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CED1-124D-40A3-8303-E8B8E04E6097}"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49"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ACE3-7F35-409A-AB2E-D3B93D687557}"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CA5C-4453-406D-90DD-A4312BB1D8E8}"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7FAF-DDA5-467F-B07E-A981AFD006D6}"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5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4614-D46F-45BA-8AA8-3619EB7BE3AC}"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56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DD2B-FDEF-4318-872D-ADDC6C40E594}" type="slidenum">
              <a:rPr b="0" lang="ar-SA"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B04F1-01C6-4382-B438-F83A5EBEB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8A0E3-D77D-488D-807C-2574786E1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A6D430-42A1-47A5-B2A9-E8E6884DBA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71300F-79D3-49E9-9A16-44CF9F3622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212C30-DC15-4782-AAC2-2A64F236B3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06D769-04E9-44CC-A96B-E8F5C2C4ED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5F9C93-74B3-478A-A595-CD65165A9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5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91103F-E7EC-4F87-A4D7-E40F27ECC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89530-7570-4CDE-A305-FC7D1ACBC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6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E386F3-0AAB-4437-9578-EB689A53AF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7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7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0DB4B8-B378-46D6-88F8-154F27F99C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318C0C8-CEE7-40D9-A305-74BF51C7253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88E65-3B54-49CD-A1BD-288AE67B0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8BEF215-0E4C-4BFB-B00C-2146C55404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C87260-42D8-42AD-82CE-B6427634FD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C34BF4-D0D0-4B3B-A15E-63E42F1592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AB11FE-288B-43AE-A2F8-4BF27270D7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2C4782A-0150-47DF-A1C4-EA1D9236D8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4CD335-795A-4F56-8CDD-871EB95840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B4D424-9787-4DF2-8C54-6112D5A7ED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77B1A0-02D0-4E19-A9FB-5E2C46D1C2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0292FF-9F78-456A-BFA7-E27A0E0C6F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64C71E4-C7E3-420C-96AB-EFFB04F9198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EB5595-8E01-4282-B354-47FDBA3DD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1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2E2366-E74A-4097-91CB-C28C2F68A5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E1CF0E8-102E-40AF-BF48-A30164AB06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087439A-49AC-4040-96A5-981E291F09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6DB6A5-95D6-4686-BD6A-47912DE5703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2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98970B-09D9-4838-B4EA-61581B162F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41E826-DD71-496C-98EF-C8B5B23A89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894D5D-C163-4AD8-8A7B-26DC76CC73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D18836-6FC6-4F1B-975A-3B0A7844F6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3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422DA-806A-476C-A18D-3215E848A2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2D3C6F-85A9-41FB-8726-5B0285ADD7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2C283-F8B7-4373-91F7-8F520F5D9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7692FB-CDBC-43B6-AF81-D4973FF564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4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4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6E29759-5993-4F4E-9D76-8F1DB9F5B8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5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5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84803F-5C32-44F2-85FF-AF6E140551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EE31616-8030-4516-A474-3C93B67D3F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C7DFB41-5BCD-4379-95AF-F8E5C1CD18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05891D-DD50-4FA9-95C1-225C796F42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6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68BC37-0969-4A2A-B4EF-0EA59DA6678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7A54A4D-2621-4144-8FC4-D4669BD357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B15683C-8455-4F31-AF6E-AF90646B79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04B0F2-9F60-4809-BE63-4F9AFF36ABB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3ECBD6-145E-4DD9-9D89-ABFEF36B7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7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70AA5C-FFD7-4688-97E0-B32AA219C48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2E23AE-6AB4-419D-ADC2-8E4E52F1D42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8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AE8525-7E97-49B6-9B06-2091859F8F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8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02BCD3-B29C-45FF-ADF6-09832549F6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49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9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571D624-B906-4D75-81AF-F940357687B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DD3CE-7D9D-4A71-AB02-0B07D8058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54035-1410-48E4-95A4-7F7DD9922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AF7F6-47D0-4921-B281-A5A7F94CB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12018-F285-49CB-B3A5-474AD9709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7DEBC-7BCA-4C63-B5BC-6206BDB31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D98B0-B98D-4ED0-9967-55AB811E3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5E92C-445F-42F9-9A92-42F29D3EE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E2A58-8F96-4805-A472-744FDD79F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8034E-776E-4DE3-80B3-8F580D718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561ACD-28AE-4E52-B049-D023C998B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E78466-5E2F-4830-B25A-262BA7BBD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C8BD8-06AB-4E86-B437-D13998A6F2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0ADBE7-2071-40DA-941D-0D4150866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E46F4-2A42-4BDD-A139-6F6044636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9D5A57-8651-4EA7-BECE-EA0A174A8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ED6FD-E0E0-433D-BD65-19ED03CA52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ECC54-7D05-4472-8AE5-B755274D7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54E256-DA00-4473-BF4A-ACBB3C5D54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E1088D-2CD4-4DB5-8302-78C9711FF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7"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DED0B-5D09-4203-B2EC-E1F15CEE8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1"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23F6A-DBAE-46C4-9567-5B60C5274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3"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4"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221F31-C021-46FB-8463-779E12D3D0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9"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3F107E-21ED-4A74-A906-79C73B612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1"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2"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6"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09857-B399-4983-8FD8-66DCE93F57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902835-9050-450B-8E78-BB2ECD2CDD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FE4B4-40EA-4202-96FF-DE9CAC7170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1EFB39-8177-42AD-8DDE-A6E187563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BF36C-8CE2-4055-BCA6-8C3770B19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72E501-A400-413D-9CE7-44B46CC9D0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86319F-F051-4D5E-8D5C-02549549A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5589B2-B585-409A-BF20-462F4360EB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329F21-A54D-48E2-9887-2E11DB364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CA7BDB-23BA-4124-9054-FD4606345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E2906-87E2-4389-BAC8-CFFA26EDF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BBD066-51A8-48CF-B392-6800171406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FBC41D-0D5D-414C-999C-DEEBACCFAE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2C790D-75F5-4162-A898-E044E58CE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F2879F-F24A-479F-BA08-C866000ED8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22742-6942-4AC7-8445-003FEC05A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D38316-3A88-47B6-8B20-392ACD732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E56F5-3CF9-4A88-B969-403CB8F8F8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DAD16E-DDCB-4491-9313-C5B7F4CA82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ABAC58-7928-4761-9EE4-D14F44EF01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B47ED0-771A-47F5-9FA8-560F4071A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316B2F-4B79-4313-AC86-38A83078D5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9F5B27-467D-48DD-ABC6-AE49FEDB8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AD4213-16F9-4FF6-BEB8-48D837AE53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2EF289-C313-4268-9615-DD22CA300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C551A0-9614-4989-AE47-0CB156C8BF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72D40-A307-4156-8617-1B1322B0B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99A491-E7E6-439D-B05C-D2B8E5D255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598710-391E-4BC9-8019-ED6721E1A2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28011B-B2D8-444B-B89F-25EB843931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18A387-146D-4A8E-805F-DB74CD3141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F8254A-23A9-46BC-9D74-8C8915668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CCF1B1-E76F-4663-AC53-F5CECDEF10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C7C11-D36D-41CA-BD29-0312AABBCB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FFD16E-DECA-48AE-A8D2-F18203E3C1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4E1188-93EA-407A-9750-301EF9B1C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AB8697-8387-4D5E-AD66-AB882F048D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33573-59FF-4D0A-BB2E-1960F865C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E78C97-60A5-4286-8998-1906634F9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D70FED-720A-48B1-A3ED-1236EDDC30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BAC3F5-5FFA-4109-B49A-F4D32C24A1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19CEED-61B5-497D-9211-7F2811CEC5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D73077-BAFD-427F-A74E-CEDCC347E3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4896D1-C861-47AC-B016-335AF6A377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14C2B6-F902-405F-8BD2-67E113D515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6B5663-2D28-4F3F-A492-B007BE26B8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13419A-2E44-4BDC-B36D-84C7B8B053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2012D8-D084-4AC3-9978-5E73A8C8B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8016C-00C2-45C0-8432-7B78AA83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D7B811-A455-49DC-8311-F43D3C391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4C5B9-B022-4501-932E-D4ED8C099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D53339-46D9-4963-8800-919AABC4C3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1FFE33-64CF-4C93-B8A9-319F545C46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C587E4-F3F2-4692-8494-C93D930798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8B337E-A8F0-4A97-856E-4EE6AF72D2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1"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1CD802-9FC8-4B68-8EC2-64ABADBBB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CECF80-0096-4AC4-8E5B-83A323C34D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5"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87F9D2-9FE9-4B91-8582-505885483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E9E455-686E-4E37-86F7-8A1B25F647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389F-FA16-421F-8CF6-9560906FB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9BB0D6-C67D-4A55-A8A8-4968E080E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362AE1-9F19-4B36-B0AD-4E9A3E97FF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6"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13AC10-F969-443A-B187-F1AD0288A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B6DBF-55B4-4DEA-9537-4CC8D899DE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2"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3"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C7F50-D76B-45C9-8D5D-A58BF4A1D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7E600A-14C8-4224-9395-B21F284AF1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0"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1"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3"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4"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4BADC8-DFF5-414B-93CD-5F1D26275E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DAFB46-9A63-4C7B-B841-478A95D593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2"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BDB030-6370-4220-9957-808C98107D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44"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A94178-9D15-40A3-9803-30D3573ECE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مثلث قائم الزاوية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رابط مستقيم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رابط مستقيم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21AC8-0E4E-421F-85C3-DFDDA0C37036}"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7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79" name="PlaceHolder 3"/>
          <p:cNvSpPr>
            <a:spLocks noGrp="1"/>
          </p:cNvSpPr>
          <p:nvPr>
            <p:ph type="dt" idx="28"/>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380" name="PlaceHolder 4"/>
          <p:cNvSpPr>
            <a:spLocks noGrp="1"/>
          </p:cNvSpPr>
          <p:nvPr>
            <p:ph type="ftr" idx="29"/>
          </p:nvPr>
        </p:nvSpPr>
        <p:spPr>
          <a:xfrm>
            <a:off x="1169640" y="6557760"/>
            <a:ext cx="4948200" cy="30132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5"/>
          <p:cNvSpPr>
            <a:spLocks noGrp="1"/>
          </p:cNvSpPr>
          <p:nvPr>
            <p:ph type="sldNum" idx="30"/>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DAD0-3A29-494C-B620-A0D0822A3BFA}"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1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20" name="PlaceHolder 3"/>
          <p:cNvSpPr>
            <a:spLocks noGrp="1"/>
          </p:cNvSpPr>
          <p:nvPr>
            <p:ph type="dt" idx="3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PlaceHolder 5"/>
          <p:cNvSpPr>
            <a:spLocks noGrp="1"/>
          </p:cNvSpPr>
          <p:nvPr>
            <p:ph type="sldNum" idx="3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AC63-9841-4DC2-A608-56EDDC4586BF}"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6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61" name="PlaceHolder 3"/>
          <p:cNvSpPr>
            <a:spLocks noGrp="1"/>
          </p:cNvSpPr>
          <p:nvPr>
            <p:ph type="dt" idx="34"/>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Century Gothic"/>
                <a:ea typeface="Tahoma"/>
              </a:rPr>
              <a:t>&lt;date/time&gt;</a:t>
            </a:r>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PlaceHolder 5"/>
          <p:cNvSpPr>
            <a:spLocks noGrp="1"/>
          </p:cNvSpPr>
          <p:nvPr>
            <p:ph type="sldNum" idx="36"/>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8BD2-C8F5-420C-8FCE-05B04FBF9CDC}" type="slidenum">
              <a:rPr b="0" lang="ar-SA" sz="1200" spc="-1" strike="noStrike">
                <a:solidFill>
                  <a:srgbClr val="ffffff"/>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4" name="مثلث متساوي الساقين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47"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ffffff"/>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746FA-F5CE-4021-8F1A-5CC0B10DC3BF}" type="slidenum">
              <a:rPr b="0" lang="ar-SA" sz="1300" spc="-1" strike="noStrike">
                <a:solidFill>
                  <a:srgbClr val="ffffff"/>
                </a:solidFill>
                <a:latin typeface="Century Gothic"/>
                <a:ea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8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88"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89"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68CC-350C-4A1D-A213-7E400F7E29DC}"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7" name="مثلث قائم الزاوية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مثلث متساوي الساقين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رابط مستقيم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رابط مستقيم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3"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92FF-A5DB-4086-AD21-B99D459154E1}"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74"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9CC7-197D-441F-AA7B-CFBCA1A234A9}"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1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15"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7497-93EC-4DB8-BD61-61E46241F0D8}"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5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56" name="PlaceHolder 3"/>
          <p:cNvSpPr>
            <a:spLocks noGrp="1"/>
          </p:cNvSpPr>
          <p:nvPr>
            <p:ph type="dt" idx="19"/>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21"/>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8C80-75E4-4E79-B651-6D447D16E14D}"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96"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97" name="PlaceHolder 3"/>
          <p:cNvSpPr>
            <a:spLocks noGrp="1"/>
          </p:cNvSpPr>
          <p:nvPr>
            <p:ph type="dt" idx="22"/>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Century Gothic"/>
                <a:ea typeface="Tahoma"/>
              </a:rPr>
              <a:t>&lt;date/time&gt;</a:t>
            </a:r>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456840" y="6481800"/>
            <a:ext cx="425916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5"/>
          <p:cNvSpPr>
            <a:spLocks noGrp="1"/>
          </p:cNvSpPr>
          <p:nvPr>
            <p:ph type="sldNum" idx="24"/>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B7AA-5850-4B99-8999-5B367EB0A212}" type="slidenum">
              <a:rPr b="0" lang="ar-SA" sz="1200" spc="-1" strike="noStrike">
                <a:solidFill>
                  <a:srgbClr val="000000"/>
                </a:solidFill>
                <a:latin typeface="Century Gothic"/>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37"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lgn="r" rtl="1">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lgn="r" rtl="1">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lgn="r" rtl="1">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lgn="r" rtl="1">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lgn="r" rtl="1">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38" name="PlaceHolder 3"/>
          <p:cNvSpPr>
            <a:spLocks noGrp="1"/>
          </p:cNvSpPr>
          <p:nvPr>
            <p:ph type="dt" idx="25"/>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00" spc="-1" strike="noStrike">
                <a:solidFill>
                  <a:srgbClr val="000000"/>
                </a:solidFill>
                <a:latin typeface="Century Gothic"/>
                <a:ea typeface="Tahoma"/>
              </a:rPr>
              <a:t>&lt;date/time&gt;</a:t>
            </a:r>
            <a:endParaRPr b="0" lang="en-US" sz="900" spc="-1" strike="noStrike">
              <a:solidFill>
                <a:srgbClr val="000000"/>
              </a:solidFill>
              <a:latin typeface="Times New Roman"/>
            </a:endParaRPr>
          </a:p>
        </p:txBody>
      </p:sp>
      <p:sp>
        <p:nvSpPr>
          <p:cNvPr id="339" name="PlaceHolder 4"/>
          <p:cNvSpPr>
            <a:spLocks noGrp="1"/>
          </p:cNvSpPr>
          <p:nvPr>
            <p:ph type="ftr" idx="26"/>
          </p:nvPr>
        </p:nvSpPr>
        <p:spPr>
          <a:xfrm>
            <a:off x="1134720" y="6556320"/>
            <a:ext cx="5143320" cy="3016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PlaceHolder 5"/>
          <p:cNvSpPr>
            <a:spLocks noGrp="1"/>
          </p:cNvSpPr>
          <p:nvPr>
            <p:ph type="sldNum" idx="27"/>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000000"/>
                </a:solidFill>
                <a:latin typeface="Century Gothic"/>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AE62-BAB6-4DF7-BBB2-1C079E9A1CB6}" type="slidenum">
              <a:rPr b="0" lang="ar-SA" sz="900" spc="-1" strike="noStrike">
                <a:solidFill>
                  <a:srgbClr val="000000"/>
                </a:solidFill>
                <a:latin typeface="Century Gothic"/>
                <a:ea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trialx.com/curetalk/wp-content/blogs.dir/7/files/2011/05/diseases/Parainfluenza-1.jpg" TargetMode="Externa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athmicro.med.sc.edu/mhunt/flucolo3.gif" TargetMode="External"/><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Rectangle 2"/>
          <p:cNvSpPr/>
          <p:nvPr/>
        </p:nvSpPr>
        <p:spPr>
          <a:xfrm>
            <a:off x="214200" y="228960"/>
            <a:ext cx="8929800" cy="320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e40059"/>
                </a:solidFill>
                <a:uFillTx/>
                <a:latin typeface="Copperplate Gothic Light"/>
                <a:ea typeface="바탕"/>
              </a:rPr>
              <a:t>Respiratory Viruses</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espiratory diseases occur most frequently in colder weather, especially in raining season, and in cases of overcrowding. Causes of sever viral respiratory illnesses in developing countries include measles virus, influenza and parainfluenza viruses, and respiratory syncytial virus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08" name="Object 1"/>
          <p:cNvGraphicFramePr/>
          <p:nvPr/>
        </p:nvGraphicFramePr>
        <p:xfrm>
          <a:off x="571680" y="3214800"/>
          <a:ext cx="8378640" cy="3643200"/>
        </p:xfrm>
        <a:graphic>
          <a:graphicData uri="http://schemas.openxmlformats.org/presentationml/2006/ole">
            <p:oleObj progId="Word.Document.12" r:id="rId1" spid="">
              <p:embed/>
              <p:pic>
                <p:nvPicPr>
                  <p:cNvPr id="509" name="Object 1" descr=""/>
                  <p:cNvPicPr/>
                  <p:nvPr/>
                </p:nvPicPr>
                <p:blipFill>
                  <a:blip r:embed="rId2"/>
                  <a:stretch/>
                </p:blipFill>
                <p:spPr>
                  <a:xfrm>
                    <a:off x="571680" y="3214800"/>
                    <a:ext cx="8378640" cy="3643200"/>
                  </a:xfrm>
                  <a:prstGeom prst="rect">
                    <a:avLst/>
                  </a:prstGeom>
                  <a:ln w="0">
                    <a:noFill/>
                  </a:ln>
                </p:spPr>
              </p:pic>
            </p:oleObj>
          </a:graphicData>
        </a:graphic>
      </p:graphicFrame>
      <p:sp>
        <p:nvSpPr>
          <p:cNvPr id="510" name="Rectangle 3"/>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Rectangle 1"/>
          <p:cNvSpPr/>
          <p:nvPr/>
        </p:nvSpPr>
        <p:spPr>
          <a:xfrm>
            <a:off x="142920" y="335520"/>
            <a:ext cx="885816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Prevention</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activated  vaccines are available against influenza A and B.</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accine is normally trivalent, consisting of one A H3N2 strain, one A H1N1 strain, and one B strain.</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strains used are reviewed by the WHO each year.</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accine should be given to debilitated and elderly individuals who are at risk of severe influenza infection.</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f however, an epidemic is caused by a new subtype, previous immunization is ineffective. </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6" name="Rectangle 1"/>
          <p:cNvSpPr/>
          <p:nvPr/>
        </p:nvSpPr>
        <p:spPr>
          <a:xfrm>
            <a:off x="285840" y="664560"/>
            <a:ext cx="8858160" cy="4604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b050"/>
                </a:solidFill>
                <a:uFillTx/>
                <a:latin typeface="Times New Roman"/>
                <a:ea typeface="바탕"/>
              </a:rPr>
              <a:t>3- Parainfluenza Virus</a:t>
            </a:r>
            <a:endParaRPr b="0" lang="en-US" sz="28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sRNA viru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elonging to the family Paramyxoviruse</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enveloped, pleomorphic morphology</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5 serotypes: 1, 2, 3, 4a and 4b</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losely related to Mumps viru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7" name="Picture 5" descr="Parainfluenza image">
            <a:hlinkClick r:id="rId1"/>
          </p:cNvPr>
          <p:cNvPicPr/>
          <p:nvPr/>
        </p:nvPicPr>
        <p:blipFill>
          <a:blip r:embed="rId2"/>
          <a:stretch/>
        </p:blipFill>
        <p:spPr>
          <a:xfrm>
            <a:off x="5643720" y="1643040"/>
            <a:ext cx="3143160" cy="3143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8" name="Rectangle 1"/>
          <p:cNvSpPr/>
          <p:nvPr/>
        </p:nvSpPr>
        <p:spPr>
          <a:xfrm>
            <a:off x="214200" y="73800"/>
            <a:ext cx="864396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Transmission and pathogenicity: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Parainfluenza viruses are highly infectious but about 30-50% of infections are without symptoms.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most serious Parainfluenza viral infections occur in young children. The exudate produced by the inflamed cells of the respiratory tract can cause obstruction of the larynx and bronchi (Croup).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1 and 2 Parainfluenza viruses are often the cause of croup, and infections tend to occur as epidemic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Parainfluenza type 3 is a major cause of sever bronchiolitis and bronchopneumonia in infant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4 is of low pathogenicity</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accines against Parainfluenza viruses are not yet available.</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مستطيل 3"/>
          <p:cNvSpPr/>
          <p:nvPr/>
        </p:nvSpPr>
        <p:spPr>
          <a:xfrm>
            <a:off x="285840" y="357120"/>
            <a:ext cx="8215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Clinical Manifestation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roup (laryngotracheobroncitis) - most common manifestation of parainfluenza virus infection. However other viruses may induce croup e.g. influenza and RSV.</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ther conditions that may be caused by parainfluenza viruses include Bronchiolitis, Pneumonia.</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مستطيل 4"/>
          <p:cNvSpPr/>
          <p:nvPr/>
        </p:nvSpPr>
        <p:spPr>
          <a:xfrm>
            <a:off x="285840" y="3643200"/>
            <a:ext cx="8429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Management</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No specific antiviral chemotherapy available.</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vere cases of croup should be admitted to hospital and placed in oxygen tent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No vaccine is available.</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Rectangle 1"/>
          <p:cNvSpPr/>
          <p:nvPr/>
        </p:nvSpPr>
        <p:spPr>
          <a:xfrm>
            <a:off x="285840" y="446040"/>
            <a:ext cx="864396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oratory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Detection of Antigen - a rapid diagnosis can be made by the detection of parainfluenza antigen from nasopharyngeal aspirates and throat washing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irus Isolation - virus may be readily isolated from nasopharyngeal aspirates and throat swab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rology - a retrospective diagnosis may be made by se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Rectangle 1"/>
          <p:cNvSpPr/>
          <p:nvPr/>
        </p:nvSpPr>
        <p:spPr>
          <a:xfrm>
            <a:off x="214200" y="102960"/>
            <a:ext cx="8929800" cy="7012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b050"/>
                </a:solidFill>
                <a:uFillTx/>
                <a:latin typeface="Times New Roman"/>
                <a:ea typeface="바탕"/>
              </a:rPr>
              <a:t>4- Respiratory Syncytial Virus (RSV)</a:t>
            </a:r>
            <a:endParaRPr b="0" lang="en-US" sz="28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sRNA viru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elong to the Paramyxovirus family.</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auses a sizable epidemic each year.</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is surrounded by an envelop.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SV can be grown in tissue culture.</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fected cells joined together in masses called syncytia.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clusion bodies can be present.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AutoShape 4"/>
          <p:cNvSpPr/>
          <p:nvPr/>
        </p:nvSpPr>
        <p:spPr>
          <a:xfrm>
            <a:off x="9082080" y="-384120"/>
            <a:ext cx="304920" cy="304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4" name="Picture 6" descr="http://2.bp.blogspot.com/-eiZbbUvHn0c/T5FWh9W3w3I/AAAAAAAAAfQ/mQzFvu_sOHk/s1600/RSV-1.jpg"/>
          <p:cNvPicPr/>
          <p:nvPr/>
        </p:nvPicPr>
        <p:blipFill>
          <a:blip r:embed="rId1"/>
          <a:srcRect l="17783" t="5255" r="21548" b="0"/>
          <a:stretch/>
        </p:blipFill>
        <p:spPr>
          <a:xfrm>
            <a:off x="5357880" y="1285920"/>
            <a:ext cx="3454200" cy="3219480"/>
          </a:xfrm>
          <a:prstGeom prst="rect">
            <a:avLst/>
          </a:prstGeom>
          <a:ln w="0">
            <a:noFill/>
          </a:ln>
        </p:spPr>
      </p:pic>
      <p:sp>
        <p:nvSpPr>
          <p:cNvPr id="535" name="مستطيل 4"/>
          <p:cNvSpPr/>
          <p:nvPr/>
        </p:nvSpPr>
        <p:spPr>
          <a:xfrm>
            <a:off x="8715240" y="3286080"/>
            <a:ext cx="71640" cy="21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مستطيل 5"/>
          <p:cNvSpPr/>
          <p:nvPr/>
        </p:nvSpPr>
        <p:spPr>
          <a:xfrm>
            <a:off x="8501040" y="3714840"/>
            <a:ext cx="285840" cy="21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مستطيل 6"/>
          <p:cNvSpPr/>
          <p:nvPr/>
        </p:nvSpPr>
        <p:spPr>
          <a:xfrm>
            <a:off x="5357880" y="1285920"/>
            <a:ext cx="285840" cy="2142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مستطيل 4"/>
          <p:cNvSpPr/>
          <p:nvPr/>
        </p:nvSpPr>
        <p:spPr>
          <a:xfrm>
            <a:off x="357120" y="0"/>
            <a:ext cx="821556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Transmission and pathology:</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SV is a cause of sever and occasionally fetal bronchiolitis and pneumonia in infants.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can also cause infections of the upper respiratory tract.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 complication of RSV in young children is otitis media.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SV is highly infectious. It is spread from one person to person mainly by droplet infection</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No vaccine against RSV is available at present.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reast feeding provides some protection for infant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esponsible for 50-90% of Bronchiolitis and 5-40% of Bronchopneumonia</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Other manifestations include croup (10% of all case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Rectangle 1"/>
          <p:cNvSpPr/>
          <p:nvPr/>
        </p:nvSpPr>
        <p:spPr>
          <a:xfrm>
            <a:off x="285840" y="28080"/>
            <a:ext cx="842940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Infants at Risk of Severe Infection</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Infants with congenital heart disease - infants who were hospitalized within the first few days of life with congenital disease are particularly at risk.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Infants with underlying pulmonary disease - infants with underlying pulmonary disease, especially bronchopulmonary dysplasia, are at risk of developing prolonged infection with RSV.</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Immunocompromized infants</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children who are immunosuppressed</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or have a congenital immunodeficiency</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disease may develop lower respiratory</a:t>
            </a:r>
            <a:endParaRPr b="0" lang="en-US" sz="2400" spc="-1" strike="noStrike">
              <a:solidFill>
                <a:srgbClr val="ffffff"/>
              </a:solidFill>
              <a:latin typeface="Arial"/>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바탕"/>
              </a:rPr>
              <a:t> </a:t>
            </a:r>
            <a:r>
              <a:rPr b="0" lang="en-GB" sz="2400" spc="-1" strike="noStrike">
                <a:solidFill>
                  <a:srgbClr val="000000"/>
                </a:solidFill>
                <a:latin typeface="Times New Roman"/>
                <a:ea typeface="바탕"/>
              </a:rPr>
              <a:t>tract disease at any age.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40" name="Picture 4" descr="http://2.bp.blogspot.com/-ZfwPnIk0Pao/Ubr1DfEXK5I/AAAAAAAAAMo/yJ645ZDhaq4/s1600/Bronchiolitis_anatomy.png"/>
          <p:cNvPicPr/>
          <p:nvPr/>
        </p:nvPicPr>
        <p:blipFill>
          <a:blip r:embed="rId1"/>
          <a:stretch/>
        </p:blipFill>
        <p:spPr>
          <a:xfrm>
            <a:off x="5357880" y="3500280"/>
            <a:ext cx="3571920" cy="3071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مستطيل 3"/>
          <p:cNvSpPr/>
          <p:nvPr/>
        </p:nvSpPr>
        <p:spPr>
          <a:xfrm>
            <a:off x="571680" y="16524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oratory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Detection of Antigen - a rapid diagnosis can be made by the detection of RSV antigen from nasopharyngeal aspirates.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irus Isolation - virus may be readily isolated from nasopharyngeal aspirates. However, this will take several days.</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rolo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مربع نص 3"/>
          <p:cNvSpPr/>
          <p:nvPr/>
        </p:nvSpPr>
        <p:spPr>
          <a:xfrm>
            <a:off x="357120" y="142920"/>
            <a:ext cx="828684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90062"/>
                </a:solidFill>
                <a:latin typeface="Arial"/>
              </a:rPr>
              <a:t>Respiratory Viruses</a:t>
            </a:r>
            <a:endParaRPr b="0" lang="en-US" sz="3200" spc="-1" strike="noStrike">
              <a:solidFill>
                <a:srgbClr val="ffffff"/>
              </a:solidFill>
              <a:latin typeface="Arial"/>
            </a:endParaRPr>
          </a:p>
        </p:txBody>
      </p:sp>
      <p:graphicFrame>
        <p:nvGraphicFramePr>
          <p:cNvPr id="543" name=""/>
          <p:cNvGraphicFramePr/>
          <p:nvPr/>
        </p:nvGraphicFramePr>
        <p:xfrm>
          <a:off x="285840" y="1000080"/>
          <a:ext cx="8429400" cy="5611680"/>
        </p:xfrm>
        <a:graphic>
          <a:graphicData uri="http://schemas.openxmlformats.org/drawingml/2006/table">
            <a:tbl>
              <a:tblPr/>
              <a:tblGrid>
                <a:gridCol w="2128680"/>
                <a:gridCol w="1843200"/>
                <a:gridCol w="900000"/>
                <a:gridCol w="1428840"/>
                <a:gridCol w="2128680"/>
              </a:tblGrid>
              <a:tr h="10728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Viru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amil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Nuclic acid</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Envelop</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rPr>
                        <a:t>Featur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388c"/>
                    </a:solidFill>
                  </a:tcPr>
                </a:tc>
              </a:tr>
              <a:tr h="92664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Measle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Para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virus can be grown in human and animal tissue</a:t>
                      </a:r>
                      <a:r>
                        <a:rPr b="0" lang="en-US" sz="1800" spc="-1" strike="noStrike">
                          <a:solidFill>
                            <a:srgbClr val="000000"/>
                          </a:solidFill>
                          <a:latin typeface="Times New Roman"/>
                          <a:ea typeface="바탕"/>
                        </a:rPr>
                        <a:t>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b050"/>
                    </a:solidFill>
                  </a:tcPr>
                </a:tc>
              </a:tr>
              <a:tr h="64260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nfluenz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Ortho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3</a:t>
                      </a:r>
                      <a:r>
                        <a:rPr b="0" lang="en-US" sz="1800" spc="-1" strike="noStrike">
                          <a:solidFill>
                            <a:srgbClr val="000000"/>
                          </a:solidFill>
                          <a:latin typeface="Times New Roman"/>
                          <a:ea typeface="바탕"/>
                        </a:rPr>
                        <a:t> </a:t>
                      </a:r>
                      <a:r>
                        <a:rPr b="0" lang="en-US" sz="1800" spc="-1" strike="noStrike">
                          <a:solidFill>
                            <a:srgbClr val="000000"/>
                          </a:solidFill>
                          <a:latin typeface="Times New Roman"/>
                          <a:ea typeface="바탕"/>
                        </a:rPr>
                        <a:t>types: A, B, and C</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e8ee"/>
                    </a:solidFill>
                  </a:tcPr>
                </a:tc>
              </a:tr>
              <a:tr h="12175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Parainfluenza</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Para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c>
                  <a:txBody>
                    <a:bodyPr lIns="90000" rIns="90000" tIns="46800" bIns="46800" anchor="ctr">
                      <a:noAutofit/>
                    </a:bodyPr>
                    <a:p>
                      <a:pPr algn="ct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5 serotypes: 1, 2, 3, 4a and 4b</a:t>
                      </a:r>
                      <a:endParaRPr b="0" lang="en-US" sz="1800" spc="-1" strike="noStrike">
                        <a:solidFill>
                          <a:srgbClr val="ffffff"/>
                        </a:solidFill>
                        <a:latin typeface="Arial"/>
                      </a:endParaRPr>
                    </a:p>
                    <a:p>
                      <a:pPr algn="ct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Closely related to Mumps viru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cedb"/>
                    </a:solidFill>
                  </a:tcPr>
                </a:tc>
              </a:tr>
              <a:tr h="17521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spiratory Syncytial (RSV)</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entury Gothic"/>
                        </a:rPr>
                        <a:t>Paramyxovirus</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RNA</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Enveloped helical</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c>
                  <a:txBody>
                    <a:bodyPr lIns="90000" rIns="90000" tIns="46800" bIns="46800" anchor="ctr">
                      <a:noAutofit/>
                    </a:bodyPr>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Causes a sizable epidemic each year.</a:t>
                      </a:r>
                      <a:endParaRPr b="0" lang="en-US" sz="1800" spc="-1" strike="noStrike">
                        <a:solidFill>
                          <a:srgbClr val="ffffff"/>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can be grown in tissue culture.</a:t>
                      </a:r>
                      <a:endParaRPr b="0" lang="en-US" sz="1800" spc="-1" strike="noStrike">
                        <a:solidFill>
                          <a:srgbClr val="ffffff"/>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바탕"/>
                        </a:rPr>
                        <a:t>Inclusion bodies can be present.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87bb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1" name="Rectangle 1"/>
          <p:cNvSpPr/>
          <p:nvPr/>
        </p:nvSpPr>
        <p:spPr>
          <a:xfrm>
            <a:off x="214200" y="234720"/>
            <a:ext cx="892980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Times New Roman"/>
                <a:ea typeface="바탕"/>
              </a:rPr>
              <a:t>1- Measles virus</a:t>
            </a:r>
            <a:endParaRPr b="0" lang="en-US" sz="2400" spc="-1" strike="noStrike">
              <a:solidFill>
                <a:srgbClr val="ffffff"/>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Measles virus belongs to the family Paramyxoviru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90062"/>
                </a:solidFill>
                <a:uFillTx/>
                <a:latin typeface="Times New Roman"/>
                <a:ea typeface="바탕"/>
              </a:rPr>
              <a:t>VIRU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is a single stranded RNA spherical particle</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r>
              <a:rPr b="0" lang="en-US" sz="2400" spc="-1" strike="noStrike">
                <a:solidFill>
                  <a:srgbClr val="000000"/>
                </a:solidFill>
                <a:latin typeface="Times New Roman"/>
                <a:ea typeface="바탕"/>
              </a:rPr>
              <a:t>with helical capsid symmetry.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t is surrounded by an envelope.</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irus can be grown in human and animal tissue culture cells.</a:t>
            </a:r>
            <a:endParaRPr b="0" lang="en-US" sz="2400" spc="-1" strike="noStrike">
              <a:solidFill>
                <a:srgbClr val="ffffff"/>
              </a:solidFill>
              <a:latin typeface="Arial"/>
            </a:endParaRPr>
          </a:p>
        </p:txBody>
      </p:sp>
      <p:pic>
        <p:nvPicPr>
          <p:cNvPr id="512" name="Picture 2" descr="http://farm4.static.flickr.com/3041/2713093439_09c83ac03f.jpg"/>
          <p:cNvPicPr/>
          <p:nvPr/>
        </p:nvPicPr>
        <p:blipFill>
          <a:blip r:embed="rId1"/>
          <a:stretch/>
        </p:blipFill>
        <p:spPr>
          <a:xfrm>
            <a:off x="6000840" y="1714680"/>
            <a:ext cx="2500200" cy="25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مستطيل 3"/>
          <p:cNvSpPr/>
          <p:nvPr/>
        </p:nvSpPr>
        <p:spPr>
          <a:xfrm>
            <a:off x="571680" y="71280"/>
            <a:ext cx="82864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Transmission and pathogenecity: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In developing countries measles is a serious and fetal disease in non immune young children, especially with malnutrition and immune suppressive children.</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virus is highly infectious and spread mainly by air droplets. </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مستطيل 4"/>
          <p:cNvSpPr/>
          <p:nvPr/>
        </p:nvSpPr>
        <p:spPr>
          <a:xfrm>
            <a:off x="500040" y="3143160"/>
            <a:ext cx="8072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Clinical features: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Early clinical features include, fever, cough,                         nasal discharge and conjunctivitis followed by a rash.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Complications which develop due to sever measles and ,or, secondary bacterial or viral  infection include bronchopneumonia and diarrhea, conjunctivitis which may lead to ulcerative keratitis and blindness. Anaemia often develops.</a:t>
            </a:r>
            <a:endParaRPr b="0" lang="en-US" sz="2400" spc="-1" strike="noStrike">
              <a:solidFill>
                <a:srgbClr val="ffffff"/>
              </a:solidFill>
              <a:latin typeface="Arial"/>
            </a:endParaRPr>
          </a:p>
        </p:txBody>
      </p:sp>
      <p:pic>
        <p:nvPicPr>
          <p:cNvPr id="515" name="Picture 5" descr="https://encrypted-tbn2.gstatic.com/images?q=tbn:ANd9GcSIDt1gOMILAm8TXGPr0qlaIafjiCoOKMW3mEFdfV7aUHMlBYd9hw"/>
          <p:cNvPicPr/>
          <p:nvPr/>
        </p:nvPicPr>
        <p:blipFill>
          <a:blip r:embed="rId1"/>
          <a:stretch/>
        </p:blipFill>
        <p:spPr>
          <a:xfrm>
            <a:off x="6286680" y="2714760"/>
            <a:ext cx="2428560" cy="161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Rectangle 1"/>
          <p:cNvSpPr/>
          <p:nvPr/>
        </p:nvSpPr>
        <p:spPr>
          <a:xfrm>
            <a:off x="71280" y="179640"/>
            <a:ext cx="88585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Prevention:</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Usually by immunization with live vaccine at 9 months old. </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Great caring must be taken when dealing with measles sample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n efficient cold storage must be used</a:t>
            </a:r>
            <a:r>
              <a:rPr b="0" lang="en-US" sz="2400" spc="-1" strike="noStrike">
                <a:solidFill>
                  <a:srgbClr val="ffffff"/>
                </a:solidFill>
                <a:latin typeface="Times New Roman"/>
                <a:ea typeface="바탕"/>
              </a:rPr>
              <a:t>.</a:t>
            </a:r>
            <a:endParaRPr b="0" lang="en-US" sz="24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Measles usually diagnosed clinically. If laboratory assist is required, it is recommended to take nasopharyngeal specimen and use the immunofluorescence technique.</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7" name="Rectangle 1"/>
          <p:cNvSpPr/>
          <p:nvPr/>
        </p:nvSpPr>
        <p:spPr>
          <a:xfrm>
            <a:off x="142920" y="280080"/>
            <a:ext cx="892980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b050"/>
                </a:solidFill>
                <a:uFillTx/>
                <a:latin typeface="Times New Roman"/>
                <a:ea typeface="바탕"/>
              </a:rPr>
              <a:t>2. Influenza Virus</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RNA viru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belong to the family Orthomyxovirus</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enveloped virus</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3 types: A, B, and C</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A undergoes antigenic shift and drift.</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ype B undergoes antigenic drift only </a:t>
            </a:r>
            <a:endParaRPr b="0" lang="en-US" sz="24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nd type C is relatively stable</a:t>
            </a:r>
            <a:endParaRPr b="0" lang="en-US" sz="2400" spc="-1" strike="noStrike">
              <a:solidFill>
                <a:srgbClr val="ffffff"/>
              </a:solidFill>
              <a:latin typeface="Arial"/>
            </a:endParaRPr>
          </a:p>
        </p:txBody>
      </p:sp>
      <p:pic>
        <p:nvPicPr>
          <p:cNvPr id="518" name="Picture 4" descr="flucolo3.gif (58901 bytes)">
            <a:hlinkClick r:id="rId1"/>
          </p:cNvPr>
          <p:cNvPicPr/>
          <p:nvPr/>
        </p:nvPicPr>
        <p:blipFill>
          <a:blip r:embed="rId2"/>
          <a:stretch/>
        </p:blipFill>
        <p:spPr>
          <a:xfrm>
            <a:off x="5786280" y="2286000"/>
            <a:ext cx="2992680" cy="27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Rectangle 1"/>
          <p:cNvSpPr/>
          <p:nvPr/>
        </p:nvSpPr>
        <p:spPr>
          <a:xfrm>
            <a:off x="285840" y="881640"/>
            <a:ext cx="885816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e40059"/>
                </a:solidFill>
                <a:uFillTx/>
                <a:latin typeface="Times New Roman"/>
                <a:ea typeface="바탕"/>
              </a:rPr>
              <a:t>Clinical feature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The clinical features of influenza "flu" include fever, chills, tiredness, headache, muscle pain, sore throat. </a:t>
            </a:r>
            <a:r>
              <a:rPr b="0" i="1" lang="en-US" sz="2200" spc="-1" strike="noStrike">
                <a:solidFill>
                  <a:srgbClr val="000000"/>
                </a:solidFill>
                <a:latin typeface="Times New Roman"/>
                <a:ea typeface="바탕"/>
              </a:rPr>
              <a:t>Infection is by inhaling the viru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Severe case can lead to influenza pneumonia which can be fetal.</a:t>
            </a: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e40059"/>
                </a:solidFill>
                <a:uFillTx/>
                <a:latin typeface="Times New Roman"/>
                <a:ea typeface="바탕"/>
              </a:rPr>
              <a:t>Influenza A Viru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Usually causes a mild febrile illness.</a:t>
            </a:r>
            <a:endParaRPr b="0" lang="en-US" sz="22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바탕"/>
              </a:rPr>
              <a:t>Death may result from complications such as viral/bacterial pneumonia.</a:t>
            </a: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0" name="Rectangle 2" descr=""/>
          <p:cNvPicPr/>
          <p:nvPr/>
        </p:nvPicPr>
        <p:blipFill>
          <a:blip r:embed="rId1"/>
          <a:stretch/>
        </p:blipFill>
        <p:spPr>
          <a:xfrm>
            <a:off x="1994040" y="566640"/>
            <a:ext cx="5492520" cy="1152720"/>
          </a:xfrm>
          <a:prstGeom prst="rect">
            <a:avLst/>
          </a:prstGeom>
          <a:ln w="0">
            <a:noFill/>
          </a:ln>
        </p:spPr>
      </p:pic>
      <p:sp>
        <p:nvSpPr>
          <p:cNvPr id="521" name="PlaceHolder 1"/>
          <p:cNvSpPr>
            <a:spLocks noGrp="1"/>
          </p:cNvSpPr>
          <p:nvPr>
            <p:ph/>
          </p:nvPr>
        </p:nvSpPr>
        <p:spPr>
          <a:xfrm>
            <a:off x="761760" y="1980720"/>
            <a:ext cx="7483320" cy="4496040"/>
          </a:xfrm>
          <a:prstGeom prst="rect">
            <a:avLst/>
          </a:prstGeom>
          <a:noFill/>
          <a:ln w="0">
            <a:noFill/>
          </a:ln>
        </p:spPr>
        <p:txBody>
          <a:bodyPr lIns="90360" rIns="90360" tIns="44280" bIns="44280" anchor="t">
            <a:normAutofit/>
          </a:bodyPr>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18</a:t>
            </a:r>
            <a:r>
              <a:rPr b="0" lang="en-US" sz="2400" spc="-1" strike="noStrike">
                <a:solidFill>
                  <a:srgbClr val="000000"/>
                </a:solidFill>
                <a:latin typeface="Times New Roman"/>
              </a:rPr>
              <a:t>	</a:t>
            </a:r>
            <a:r>
              <a:rPr b="1" lang="en-US" sz="2400" spc="-1" strike="noStrike">
                <a:solidFill>
                  <a:srgbClr val="000000"/>
                </a:solidFill>
                <a:latin typeface="Times New Roman"/>
              </a:rPr>
              <a:t>H1N1</a:t>
            </a:r>
            <a:r>
              <a:rPr b="0" lang="en-US" sz="2200" spc="-1" strike="noStrike">
                <a:solidFill>
                  <a:srgbClr val="000000"/>
                </a:solidFill>
                <a:latin typeface="Times New Roman"/>
              </a:rPr>
              <a:t>	</a:t>
            </a:r>
            <a:r>
              <a:rPr b="0" lang="en-US" sz="2200" spc="-1" strike="noStrike">
                <a:solidFill>
                  <a:srgbClr val="000000"/>
                </a:solidFill>
                <a:latin typeface="Times New Roman"/>
              </a:rPr>
              <a:t>“Spanish Influenza” </a:t>
            </a:r>
            <a:r>
              <a:rPr b="0" lang="en-US" sz="2400" spc="-1" strike="noStrike">
                <a:solidFill>
                  <a:srgbClr val="000000"/>
                </a:solidFill>
                <a:latin typeface="Times New Roman"/>
              </a:rPr>
              <a:t>	</a:t>
            </a:r>
            <a:r>
              <a:rPr b="0" lang="en-US" sz="2400" spc="-1" strike="noStrike">
                <a:solidFill>
                  <a:srgbClr val="000000"/>
                </a:solidFill>
                <a:latin typeface="Times New Roman"/>
              </a:rPr>
              <a:t>20-40 million deaths</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57</a:t>
            </a:r>
            <a:r>
              <a:rPr b="0" lang="en-US" sz="2400" spc="-1" strike="noStrike">
                <a:solidFill>
                  <a:srgbClr val="000000"/>
                </a:solidFill>
                <a:latin typeface="Times New Roman"/>
              </a:rPr>
              <a:t>	</a:t>
            </a:r>
            <a:r>
              <a:rPr b="1" lang="en-US" sz="2400" spc="-1" strike="noStrike">
                <a:solidFill>
                  <a:srgbClr val="000000"/>
                </a:solidFill>
                <a:latin typeface="Times New Roman"/>
              </a:rPr>
              <a:t>H2N2</a:t>
            </a:r>
            <a:r>
              <a:rPr b="0" lang="en-US" sz="2400" spc="-1" strike="noStrike">
                <a:solidFill>
                  <a:srgbClr val="000000"/>
                </a:solidFill>
                <a:latin typeface="Times New Roman"/>
              </a:rPr>
              <a:t>	</a:t>
            </a:r>
            <a:r>
              <a:rPr b="0" lang="en-US" sz="2200" spc="-1" strike="noStrike">
                <a:solidFill>
                  <a:srgbClr val="000000"/>
                </a:solidFill>
                <a:latin typeface="Times New Roman"/>
              </a:rPr>
              <a:t>“Asian Flu”</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 million deaths</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8</a:t>
            </a:r>
            <a:r>
              <a:rPr b="0" lang="en-US" sz="2400" spc="-1" strike="noStrike">
                <a:solidFill>
                  <a:srgbClr val="000000"/>
                </a:solidFill>
                <a:latin typeface="Times New Roman"/>
              </a:rPr>
              <a:t>	</a:t>
            </a:r>
            <a:r>
              <a:rPr b="1" lang="en-US" sz="2400" spc="-1" strike="noStrike">
                <a:solidFill>
                  <a:srgbClr val="000000"/>
                </a:solidFill>
                <a:latin typeface="Times New Roman"/>
              </a:rPr>
              <a:t>H3N2</a:t>
            </a:r>
            <a:r>
              <a:rPr b="0" lang="en-US" sz="2400" spc="-1" strike="noStrike">
                <a:solidFill>
                  <a:srgbClr val="000000"/>
                </a:solidFill>
                <a:latin typeface="Times New Roman"/>
              </a:rPr>
              <a:t>	</a:t>
            </a:r>
            <a:r>
              <a:rPr b="0" lang="en-US" sz="2200" spc="-1" strike="noStrike">
                <a:solidFill>
                  <a:srgbClr val="000000"/>
                </a:solidFill>
                <a:latin typeface="Times New Roman"/>
              </a:rPr>
              <a:t>“Hong Kong Flu”</a:t>
            </a:r>
            <a:r>
              <a:rPr b="0" lang="en-US" sz="2400" spc="-1" strike="noStrike">
                <a:solidFill>
                  <a:srgbClr val="000000"/>
                </a:solidFill>
                <a:latin typeface="Times New Roman"/>
              </a:rPr>
              <a:t>	</a:t>
            </a:r>
            <a:r>
              <a:rPr b="0" lang="en-US" sz="2400" spc="-1" strike="noStrike">
                <a:solidFill>
                  <a:srgbClr val="000000"/>
                </a:solidFill>
                <a:latin typeface="Times New Roman"/>
              </a:rPr>
              <a:t>700,000 deaths</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7</a:t>
            </a:r>
            <a:r>
              <a:rPr b="0" lang="en-US" sz="2400" spc="-1" strike="noStrike">
                <a:solidFill>
                  <a:srgbClr val="000000"/>
                </a:solidFill>
                <a:latin typeface="Times New Roman"/>
              </a:rPr>
              <a:t>	</a:t>
            </a:r>
            <a:r>
              <a:rPr b="1" lang="en-US" sz="2400" spc="-1" strike="noStrike">
                <a:solidFill>
                  <a:srgbClr val="000000"/>
                </a:solidFill>
                <a:latin typeface="Times New Roman"/>
              </a:rPr>
              <a:t>H1N1</a:t>
            </a:r>
            <a:r>
              <a:rPr b="0" lang="en-US" sz="2400" spc="-1" strike="noStrike">
                <a:solidFill>
                  <a:srgbClr val="000000"/>
                </a:solidFill>
                <a:latin typeface="Times New Roman"/>
              </a:rPr>
              <a:t>	</a:t>
            </a:r>
            <a:r>
              <a:rPr b="0" lang="en-US" sz="2400" spc="-1" strike="noStrike">
                <a:solidFill>
                  <a:srgbClr val="000000"/>
                </a:solidFill>
                <a:latin typeface="Times New Roman"/>
              </a:rPr>
              <a:t> Re-emergence</a:t>
            </a:r>
            <a:r>
              <a:rPr b="0" lang="en-US" sz="2400" spc="-1" strike="noStrike">
                <a:solidFill>
                  <a:srgbClr val="000000"/>
                </a:solidFill>
                <a:latin typeface="Times New Roman"/>
              </a:rPr>
              <a:t>	</a:t>
            </a:r>
            <a:r>
              <a:rPr b="0" lang="en-US" sz="2400" spc="-1" strike="noStrike">
                <a:solidFill>
                  <a:srgbClr val="000000"/>
                </a:solidFill>
                <a:latin typeface="Times New Roman"/>
              </a:rPr>
              <a:t>No pandemic</a:t>
            </a:r>
            <a:endParaRPr b="0" lang="en-US" sz="2400" spc="-1" strike="noStrike">
              <a:solidFill>
                <a:srgbClr val="ffffff"/>
              </a:solidFill>
              <a:latin typeface="Century Gothic"/>
            </a:endParaRPr>
          </a:p>
          <a:p>
            <a:pPr marL="447840" indent="0" algn="r" rtl="1">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Century Gothic"/>
            </a:endParaRPr>
          </a:p>
          <a:p>
            <a:pPr marL="447840" indent="0" algn="r" rtl="1">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entury Gothic"/>
            </a:endParaRPr>
          </a:p>
          <a:p>
            <a:pPr marL="447840" indent="-382680" algn="just">
              <a:lnSpc>
                <a:spcPct val="100000"/>
              </a:lnSpc>
              <a:spcBef>
                <a:spcPts val="550"/>
              </a:spcBef>
              <a:buClr>
                <a:srgbClr val="ff388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least 15 HA subtypes and 9 NA subtypes occur in nature. Up until 1997, only viruses of H1, H2, and H3 are known to infect and cause disease in humans.</a:t>
            </a:r>
            <a:endParaRPr b="0" lang="en-US" sz="2200" spc="-1" strike="noStrike">
              <a:solidFill>
                <a:srgbClr val="ffffff"/>
              </a:solidFill>
              <a:latin typeface="Century Gothic"/>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Rectangle 1"/>
          <p:cNvSpPr/>
          <p:nvPr/>
        </p:nvSpPr>
        <p:spPr>
          <a:xfrm>
            <a:off x="214200" y="36000"/>
            <a:ext cx="8715600" cy="743220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811fcb"/>
                </a:solidFill>
                <a:uFillTx/>
                <a:latin typeface="Times New Roman"/>
                <a:ea typeface="바탕"/>
              </a:rPr>
              <a:t>Avian Influenza</a:t>
            </a:r>
            <a:endParaRPr b="0" lang="en-US" sz="2800" spc="-1" strike="noStrike">
              <a:solidFill>
                <a:srgbClr val="ffffff"/>
              </a:solidFill>
              <a:latin typeface="Arial"/>
            </a:endParaRPr>
          </a:p>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59"/>
                </a:solidFill>
                <a:latin typeface="Times New Roman"/>
                <a:ea typeface="바탕"/>
              </a:rPr>
              <a:t>H5N1</a:t>
            </a:r>
            <a:endParaRPr b="0" lang="en-US" sz="2400" spc="-1" strike="noStrike">
              <a:solidFill>
                <a:srgbClr val="ffffff"/>
              </a:solidFill>
              <a:latin typeface="Arial"/>
            </a:endParaRPr>
          </a:p>
          <a:p>
            <a:pPr algn="ct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n outbreak of Avian Influenza H5N1 occurred in </a:t>
            </a:r>
            <a:endParaRPr b="0" lang="en-US" sz="2400" spc="-1" strike="noStrike">
              <a:solidFill>
                <a:srgbClr val="ffffff"/>
              </a:solidFill>
              <a:latin typeface="Arial"/>
            </a:endParaRPr>
          </a:p>
          <a:p>
            <a:pPr>
              <a:lnSpc>
                <a:spcPct val="8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Hong Kong in 1997 where 18 persons were infected of which 6 died.</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source of the virus was probably from infected chickens and the outbreak was eventually controlled by a mass slaughter of chickens in the territory.</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However, the strains involved were highly virulent for their natural avian hosts.</a:t>
            </a:r>
            <a:endParaRPr b="0" lang="en-US" sz="2400" spc="-1" strike="noStrike">
              <a:solidFill>
                <a:srgbClr val="ffffff"/>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40059"/>
                </a:solidFill>
                <a:latin typeface="Times New Roman"/>
                <a:ea typeface="바탕"/>
              </a:rPr>
              <a:t>H9N2 </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Several cases of human infection with avian H9N2 virus occurred in Hong Kong and Southern China in 1999.</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e disease was mild and all patients made a complete recovery</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Again, there was no evidence of reassortment</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523" name="Picture 4" descr="https://encrypted-tbn1.gstatic.com/images?q=tbn:ANd9GcRU190SgibnP3zz9vPkVW2WnWMRyM3Z7oZp9Pwgn3RhCX59Jldw"/>
          <p:cNvPicPr/>
          <p:nvPr/>
        </p:nvPicPr>
        <p:blipFill>
          <a:blip r:embed="rId1"/>
          <a:stretch/>
        </p:blipFill>
        <p:spPr>
          <a:xfrm>
            <a:off x="6572160" y="0"/>
            <a:ext cx="2571840" cy="157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4" name="مستطيل 3"/>
          <p:cNvSpPr/>
          <p:nvPr/>
        </p:nvSpPr>
        <p:spPr>
          <a:xfrm>
            <a:off x="357120" y="428760"/>
            <a:ext cx="83581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e40059"/>
                </a:solidFill>
                <a:uFillTx/>
                <a:latin typeface="Times New Roman"/>
                <a:ea typeface="바탕"/>
              </a:rPr>
              <a:t>Laboratory Diagnosis</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This is required at the start of a new epidemic so that the virus type and subtype can be identified and, if needed a new vaccine is prepared.</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Detection of Antigen - a rapid diagnosis can be made by the detection of influenza antigen from nasopharyngeal aspirates and throat washings by IFT and ELISA</a:t>
            </a:r>
            <a:endParaRPr b="0" lang="en-US" sz="2400" spc="-1" strike="noStrike">
              <a:solidFill>
                <a:srgbClr val="ffffff"/>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바탕"/>
              </a:rPr>
              <a:t>Virus Isolation - virus may be readily isolated from nasopharyngeal aspirates and throat swabs by egg inoculation and cultural technique.</a:t>
            </a:r>
            <a:endParaRPr b="0" lang="en-US" sz="2400" spc="-1" strike="noStrike">
              <a:solidFill>
                <a:srgbClr val="ffffff"/>
              </a:solidFill>
              <a:latin typeface="Arial"/>
            </a:endParaRPr>
          </a:p>
          <a:p>
            <a:pP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16:20:17Z</dcterms:created>
  <dc:creator>mohammad</dc:creator>
  <dc:description/>
  <dc:language>en-US</dc:language>
  <cp:lastModifiedBy>Your User Name</cp:lastModifiedBy>
  <dcterms:modified xsi:type="dcterms:W3CDTF">2013-11-06T20:10:24Z</dcterms:modified>
  <cp:revision>56</cp:revision>
  <dc:subject/>
  <dc:title>الشريحة 1</dc:title>
</cp:coreProperties>
</file>