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0.jpeg" ContentType="image/jpeg"/>
  <Override PartName="/ppt/media/image3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E01-EF25-4C9E-8ADC-193AE8E4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6C0-A138-44AF-A75D-E0E8E9F1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9B129-0C0E-4777-8C15-E56E2D74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5AEF6-63F9-45AE-91CA-289E9732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38682-673C-42BA-8660-C6A519FD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D244A-32D8-4428-AE5B-DF6129AF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7A21A-A356-47EE-8088-498A351C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23B60-DCEB-4428-8DE1-860D9AC6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1FEEA-338A-48DF-A0E1-26C94228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F0852-7564-4B98-BC64-A55144FB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2A4D9-F74E-4BFD-A45E-CBF536D8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EA256-2709-4B59-AE79-52C93068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044-E0DF-4831-9644-70467847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3D11A-DD2F-40C0-A05F-0960F0D1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23212-8A11-431F-86D8-BA4DE2B9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35D6F-08A9-4A8F-84EC-064F65AD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3A1A3-3C28-40FE-8318-E2883967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3292D-CAE9-40AC-8826-0CAF63F1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7B439-ECE8-44A0-A907-54CFDAE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330EC-095D-4462-9553-070FD02A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033DB-3A9D-4CDD-904F-4450EDB0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B037E-3018-46A0-AF0C-137E3355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3669A-547E-4FBC-BC41-683D1052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AA00-5464-4365-ADA1-1445A3EB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7D2F0-844E-4198-82BB-926973C3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250EC-9523-4238-AF40-956C1840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134F0-91EA-400D-9036-2FC5B6CD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E8615-9F01-4459-ACD8-BB596528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9D02F-DCB2-4C6A-B35A-E9576773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EE25B-68FD-43C9-9C75-EE17A840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E038C-C198-49D8-B6D6-B8B2D660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7B1B1-FD1E-4649-8F4E-897D313F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16ED8-C9EF-4E09-8B17-2FC7B1A7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7567B-88AB-4BA3-BE55-72EC8335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2D87-846D-4F52-B67F-1F185E42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4F799-FC6D-48C0-9898-11C08DDC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6A807-BE1F-4C6C-94D2-7FAD7FCA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97B46-4A7F-47B6-96DF-83B9FFA3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775B3-C62A-430D-9440-1A7AEBBC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692BA-1030-4746-AA33-DA48B10C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9BC89-7427-4A36-A413-F2211EAF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E0B23-24F2-407C-ACF6-D90ABDAC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DEB45-969F-4E6A-AE18-0DF3FC71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F841D-87C7-4851-A6ED-3FD8C3BB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FC397-019A-4C2A-93CC-1A4C2116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ADB0-8D48-4547-9D91-22DBE79F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B2C14-C14E-4058-9809-1F65EC0D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5A688-5B8B-4D42-AB00-571F05DF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F1D77-85C5-46CE-AD03-00B0D6A1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6E6E5-F916-41E0-96B0-B373E903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785D4-D6F1-4E10-BAAA-84BB47AB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1EE73-941C-4B6E-B546-6DBEA4E5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815A2-97E5-4461-9669-4DA0C5B2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32B22-BD6E-4A51-9750-14C65AB4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3CD06-6E9B-41BE-BA90-62B4852E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E9966-EF99-45A0-A085-E634864C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3703-E59E-453D-8A2A-20043CF0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15DDA-B6BB-42B2-A0B0-0144623C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63346-F388-448A-9EB7-CC19DB13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26EF40-F548-4357-9DE3-74D44BD5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F15AA-763C-4BEE-9B9E-514ADEE3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E3ED0-FE5B-49C2-BAE3-6B49D3BC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C0E20-9C31-4C23-BB76-C40179B7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54381-0514-4D43-8BA4-4817F82E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B0B97-7088-4EB7-8BC1-FC95C0E5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20466-2B5A-4243-B2DE-7D5FA5C7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401260-060F-4E91-B963-CFC8494F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C51B-8694-47F1-8528-10D6F082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2C88C0-D345-4DEF-825D-F78AD487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46E65-39D0-4DC2-8638-9FE31CEE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056305-F967-4343-ABFD-8DC8EF61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11582-F29A-4D2E-B5E4-C3E56652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543BF7-752D-44B7-8844-CC2EF2C8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81EE7-00F1-42C0-8A3A-80BDA20B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84F443-EFBE-416E-B963-C5A9D1A6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013B1-2672-4157-B809-C2D1E1EB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9F1E71-5B0E-41F8-9ED2-29A4262A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14C08-ED5B-4984-8B0E-3098C74A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0E1E-9BBE-444E-9B69-4816C77D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FB7493-A587-469C-A42B-5B6B1EAF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72B4B0-EF2E-47CA-804D-361DC866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F4916-7287-4E68-B0F5-15E6548F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A619E-C288-448B-9A51-1692A040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878F1-4938-4010-95CF-164B627D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F06A59-2DF4-402D-89A6-4E3C15F4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6FF50-C237-4846-9D65-BBD5D5AB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2ED85D-BC9C-43C8-B933-C230CEE9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D2133B-3460-4D29-B78D-5157BCB0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8D30BD-566B-48F8-B464-7F77635A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26B9-71D8-48B9-A3E7-26B2F462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74769-05B5-4235-8B1F-DA7803C6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FB93D1-C919-4C0D-8101-45EF491B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EDDB39-8BB0-4548-8CCC-5DF6FF2C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466499-5912-4003-AF74-C6945CF7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4FE97-587E-4A26-8417-D83056CC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C891C1-3B8C-4B64-AF5E-9889B88A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1301F1-59C8-4C04-9CDF-7B9A5E32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47F11-497F-4320-8671-CD6039C9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62166A-4A0F-497B-986E-BA663885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A43B9-2ABE-4F32-A916-E8D6A3DF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A0D9-25BC-4F21-A949-23EDD58C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F36FEA-2114-4BCA-80F8-6014E237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6009B-A3F3-4EEC-A658-ADE2EEE3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F502D-785E-471F-B005-05A7B758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99F-F348-4249-A049-68DB314C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B2F7-780F-4C4A-9118-55ED403A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9892-F6BD-4D1E-A871-E6DE0979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D25E-EC83-4F74-9636-C6C96920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42B6-53E2-4864-AEF6-576520E3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7E1D-8F64-43E9-A803-5B775F21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72E68-217A-4F76-BE3D-EEEA9E4C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7E79C-3C5B-4161-AE05-44D01F27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E35D9-9FF1-4541-836F-F2218C11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EAB6F-6E8F-4C20-86E9-BFD8350E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2121-49C1-4130-8520-8D8AD4DE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658-2F35-4427-AF21-07D044F3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22B5-F42F-4AA4-B7BB-C84DAA1D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D429-559B-4CE0-83B7-01C8E663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E85F7-18FF-492A-B3D2-480F8A15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81712-D38B-4ABE-A834-AF2EF17B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28201-8E56-4079-887F-4727857E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CBE1-4603-4003-BD4F-95A99511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F006-50E4-47AE-A42B-D32DD2C1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A916-0460-424A-B163-C9325D97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9EC1D-3FFE-48B8-B103-6A4C60CD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D920-9308-46FC-82E9-AB46C83E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F16-F306-4834-9489-2731A4FF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E07AF-34FA-48DA-9538-DFD332E2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2C898-9378-4C72-95B7-80E2728B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706FF-5497-4BFC-9A97-649479C9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29C88-A825-48EB-981F-D2AC766B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2449-39E9-40EB-A583-509B772E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9C89B-EB0C-4976-8591-16F25942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6C539-6727-4871-B219-6DB0AC34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B8BE-0859-42AF-A2B1-30AC060C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3FC64-1611-4137-9A7C-76DCCDC6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C1E87-2A7D-44CC-839A-72B65F1C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5CF-512E-485C-B67E-DE5D4F26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DA046-A241-4C74-85A9-8F4FCFBD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1C02-FED5-4010-BBEE-BB3184B9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14A7F-54A5-4807-A79A-DEE40886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594BF-0E53-4CEF-9A05-A10EF25A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DAD9C-8111-4055-88DD-7338DB54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93505-DFC1-4ABA-93BC-A053EF90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A27A5-809F-48E0-A8E9-3C23CBC1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78683-E24E-4B32-9290-982E3FEA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895B7-B9EE-4CF2-B702-D8A777E0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7A390-BB9E-4AB6-98E0-D9C7624E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1D2-0A06-4328-AD52-5D572484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25C4E-A545-4E62-894E-CB0D746B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43E36-93CC-42BB-9FDF-A437EA0D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11E82-E41C-4043-818E-1F125F4E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C4CF9-EDB6-4C25-8B2C-022E940A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93BF7-1ACC-4195-90D0-0A241301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B19B6-586E-4571-875A-AE50005B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D0723-AD38-4352-923B-AE31673F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80529-2257-40FB-993C-E7C3C5F5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6011D-4DBF-4360-827D-5028A92D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9CC4B-B203-4DC1-8F03-BF36B7E3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A40-B26E-4CDF-BE13-00EFA8DD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79AE2-D725-4402-B4CD-8B808C9C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87A87-3AB6-4EB0-B087-5F27F517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BAD2C-F862-45BE-9479-731B23D8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59A15-FE17-4B93-8D7C-E5A598C6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FF233-DF28-4E2E-A613-9AF9588A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DABA8-B2A2-4033-B8E6-591010B4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D1DF1-B1B3-48CE-AE23-628422F7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56BF4-6C4E-455C-AF49-E69A83D0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128D8-2CB8-4C74-829A-E9DC7174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7FA47-4267-42DB-AF81-9F2F859E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418-D893-4FB4-B260-40DC42C4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8C181-73CE-4705-800F-7E6269AD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9A34C-E604-4D81-B172-53EE5D4D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A50F6-7C1B-44DD-B97F-FBC112BB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54E8A-0A52-4730-AAC2-13FC83DF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D588A-6863-4463-8C12-6B6CF451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2B73C-8517-4931-B498-21618E1A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DF4FB-6D9F-4BC2-AAE6-597CD40D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133BE-66CE-4A89-8D93-65F77B61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21F88-BFBC-42E1-B33F-A50551FD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2513F-F719-40AD-8D6F-4B3C2BBA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3366-BD83-4074-ABB4-0F063CC0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C143F-0616-4A3F-B222-4D877EC3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BF516-E9BA-42C4-96BF-2922D319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23A99-EDBC-4F13-9A40-73598BEC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4A528-43BF-4794-AE7F-A197A085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DE0C1-99CC-4B48-BD39-29335206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E21BD-3DC8-4E8E-8CC4-3E7EF81B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9F571-10AF-4431-BE6F-E21B9F96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BFCFE-95D3-4B34-822D-6A06927D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A0DAB-40F7-4CA3-8194-307BA8F3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441C0-6FF5-44FD-B657-33CCD69C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111D-99F1-417F-BFDE-361717546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C017-3C4F-414A-A269-E283790BE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0236-D031-422C-8478-B0C6ABD02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443F-F3EC-4E26-A5B1-8242AED95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5E77-1DE3-4F1B-A1F9-BB352866F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9523-B08E-4393-B8F9-128DB5B61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B536-3296-4ED5-94AA-6E97631E4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EF9C-48F6-4FEB-B25D-DD4FEA254B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9E3C-FDBB-4D7C-A3E0-71BF3A575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577D-8EBF-499A-A79D-35774CC5E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EF61-7D47-478A-8F50-53F0CDCFF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7006-2E60-4B16-9292-94A72145E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A973-352F-452C-86EC-7EF7F5975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C4B3-93C5-433D-9E24-563E32D30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E5F6-C2EC-4B24-9AF1-D6724389C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8440-0B49-41B6-8D1D-2E447BB9C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7" descr="vital%20sign%20orp%20meter"/>
          <p:cNvPicPr/>
          <p:nvPr/>
        </p:nvPicPr>
        <p:blipFill>
          <a:blip r:embed="rId1"/>
          <a:stretch/>
        </p:blipFill>
        <p:spPr>
          <a:xfrm>
            <a:off x="5435640" y="476280"/>
            <a:ext cx="3522600" cy="482436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5338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tal sig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sessment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Clinical signs of fever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-Clinical signs of  hypotherm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Site most appropriate for measurement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-Factors that may alter body tempera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lanning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aaaac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63636"/>
                </a:solidFill>
                <a:uFillTx/>
                <a:latin typeface="Arial"/>
              </a:rPr>
              <a:t>Preparation of equipmen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3636"/>
                </a:solidFill>
                <a:latin typeface="Arial"/>
              </a:rPr>
              <a:t>1-Thermomet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3636"/>
                </a:solidFill>
                <a:latin typeface="Arial"/>
              </a:rPr>
              <a:t>2-Thermometer cover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3636"/>
                </a:solidFill>
                <a:latin typeface="Arial"/>
              </a:rPr>
              <a:t>3-Water- soluble lubricant for a rectal temperature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3636"/>
                </a:solidFill>
                <a:latin typeface="Arial"/>
              </a:rPr>
              <a:t>4-Disposable glove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3636"/>
                </a:solidFill>
                <a:latin typeface="Arial"/>
              </a:rPr>
              <a:t>5- Towel for axillary temperature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3636"/>
                </a:solidFill>
                <a:latin typeface="Arial"/>
              </a:rPr>
              <a:t>6-Tissue /wi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plement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aaaac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63636"/>
                </a:solidFill>
                <a:uFillTx/>
                <a:latin typeface="Arial"/>
              </a:rPr>
              <a:t>Prepara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63636"/>
                </a:solidFill>
                <a:latin typeface="Arial"/>
              </a:rPr>
              <a:t>Check that all equipments functioning well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63636"/>
                </a:solidFill>
                <a:uFillTx/>
                <a:latin typeface="Arial"/>
              </a:rPr>
              <a:t>Performance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63636"/>
                </a:solidFill>
                <a:latin typeface="Arial"/>
              </a:rPr>
              <a:t>1- Introduce self , verify the client’s identity , explain to the client what will you do, why and how 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63636"/>
                </a:solidFill>
                <a:latin typeface="Arial"/>
              </a:rPr>
              <a:t>2- Hand washing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63636"/>
                </a:solidFill>
                <a:latin typeface="Arial"/>
              </a:rPr>
              <a:t>3-Provide for client’s privacy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63636"/>
                </a:solidFill>
                <a:latin typeface="Arial"/>
              </a:rPr>
              <a:t>4-Position the patient according to the method will be practiced ( lateral or sim’s position for rectal temperature 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63636"/>
                </a:solidFill>
                <a:latin typeface="Arial"/>
              </a:rPr>
              <a:t>5-Place the thermometer as the following 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valu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Compare the temperature measurement to baseline data , normal range of age of the client and the client’s previous temperature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Analyze considering time of day and any additional influence factors and other vital signs 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sessment of peripheral Pul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</a:rPr>
              <a:t>Purpos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o establish baseline data for subsequent eval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o identify whether the pulse rate is within normal rang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o determine whether the pulse rhythm is regular and the pulse volume is appropriat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o determine the equality of corresponding peripheral pulse on each side of the body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o monitor and assess  changes in the client’s health statu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o monitor client’s at risk for pulse alteration ( heart disease , cardiac arrhythmia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o evaluate perfusion to the extrem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6161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ssessmen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b898ff"/>
              </a:gs>
              <a:gs pos="100000">
                <a:srgbClr val="ebe2ff"/>
              </a:gs>
            </a:gsLst>
            <a:lin ang="16200000"/>
          </a:gradFill>
          <a:ln w="9360">
            <a:solidFill>
              <a:srgbClr val="7741c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`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1-Clinical signs of cardiovascular alterations as: (dyspnea, cyanosis, palpitations , syncope , cool skin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2- Factors that may alter puls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( e.g. emotional status , physical activity 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3- Which site is most appropriate for assessment based on a purpos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Pulse site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Content Placeholder 3" descr="http://t0.gstatic.com/images?q=tbn:ANd9GcTnBelL9WIVpIek6IJe7WlO2I6xkQ_rFfzHYuR0DQp27H9KM1OK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1" name="Content Placeholder 3" descr="graphic0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Arial"/>
              </a:rPr>
              <a:t>Assessment of apical pulse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95280" y="1557000"/>
            <a:ext cx="396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Position the patient in comfortable supine position or in a sitting posi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Locate the apex of hea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Picture 3" descr="SurfaceAnatomy.png"/>
          <p:cNvPicPr/>
          <p:nvPr/>
        </p:nvPicPr>
        <p:blipFill>
          <a:blip r:embed="rId4"/>
          <a:stretch/>
        </p:blipFill>
        <p:spPr>
          <a:xfrm>
            <a:off x="4716360" y="2146320"/>
            <a:ext cx="4427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buClr>
                <a:srgbClr val="0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Planning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80"/>
                </a:solidFill>
                <a:uFillTx/>
                <a:latin typeface="Arial"/>
              </a:rPr>
              <a:t>Equipment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000080"/>
                </a:solidFill>
                <a:latin typeface="Arial"/>
              </a:rPr>
              <a:t>Watch with a second hand or indicator</a:t>
            </a:r>
            <a:r>
              <a:rPr b="1" lang="ar-SA" sz="19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80"/>
                </a:solidFill>
                <a:latin typeface="Arial"/>
              </a:rPr>
              <a:t>Implement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000080"/>
                </a:solidFill>
                <a:uFillTx/>
                <a:latin typeface="Arial"/>
              </a:rPr>
              <a:t>Performance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1- </a:t>
            </a: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Introduce self , verify the client’s identity , explain to the client what will you do, why and how ?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2- Hand washing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3-Provide for client’s privacy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4- Select the pulse point .  Normally , the radial pulse is taken unless it can’t be exposed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5- Position the patient in a rest position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tal Signs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s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666ff"/>
          </a:solidFill>
          <a:ln w="25560">
            <a:solidFill>
              <a:srgbClr val="7c7c9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plementation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b3b3ff"/>
          </a:solidFill>
          <a:ln w="9360">
            <a:solidFill>
              <a:srgbClr val="2d61f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6- Palpate and count the pulse . Place 3 or 2 middle fingers lightly and squarely over the pulse poin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7- Count for 15 seconds and multiply by 4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8- Record the pulse on the workshee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9- Assess the pulse rhythm and strength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10- Document the pulse rate on the patient’s recor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3636"/>
                </a:solidFill>
                <a:latin typeface="Arial"/>
              </a:rPr>
              <a:t>11- Hand wash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valuatio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Arial"/>
              </a:rPr>
              <a:t>1-Compare the pulse rate to baseline data or normal range for age of the client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Arial"/>
              </a:rPr>
              <a:t>2- Relate pulse volume , rate to other vital signs , pulse rhythm and volume to other baseline data and health statu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Arial"/>
              </a:rPr>
              <a:t>3- Conduct appropriate follow up such as notifying the primary care giver or giving medication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Arial"/>
              </a:rPr>
              <a:t>C-Assessment of Respiration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161616"/>
                </a:solidFill>
                <a:uFillTx/>
                <a:latin typeface="Arial"/>
              </a:rPr>
              <a:t>Purposes :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1616"/>
                </a:solidFill>
                <a:latin typeface="Arial"/>
              </a:rPr>
              <a:t>To acquire baseline data against which future measurements can be compared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1616"/>
                </a:solidFill>
                <a:latin typeface="Arial"/>
              </a:rPr>
              <a:t>To monitor abnormal respiration and respiratory patterns and identify changes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1616"/>
                </a:solidFill>
                <a:latin typeface="Arial"/>
              </a:rPr>
              <a:t>To monitor respirations before or following the administration of general anesthetic or any medication that can influences respiration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1616"/>
                </a:solidFill>
                <a:latin typeface="Arial"/>
              </a:rPr>
              <a:t>To monitor clients at risk for respiratory alterations 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Title 1"/>
          <p:cNvGrpSpPr/>
          <p:nvPr/>
        </p:nvGrpSpPr>
        <p:grpSpPr>
          <a:xfrm>
            <a:off x="0" y="0"/>
            <a:ext cx="9144000" cy="1420920"/>
            <a:chOff x="0" y="0"/>
            <a:chExt cx="9144000" cy="1420920"/>
          </a:xfrm>
        </p:grpSpPr>
        <p:pic>
          <p:nvPicPr>
            <p:cNvPr id="794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0" y="0"/>
              <a:ext cx="914400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161616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161616"/>
                  </a:solidFill>
                  <a:latin typeface="Arial"/>
                </a:rPr>
                <a:t>Assessment : 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6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Skin and mucous membrane color ( cyanosis or pallor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Positions assumed for breathing ( using of orthopneic posi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Signs of cerebral anoxia ( irritability , restlessness drowsiness or loss of consciousness )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Chest movement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Activity tole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Chest pai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Dyspn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Medication that affect respiration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Planning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</a:rPr>
              <a:t>Equip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Watch with a second or indicator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1616"/>
                </a:solidFill>
                <a:latin typeface="Arial"/>
              </a:rPr>
              <a:t>Implementation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</a:rPr>
              <a:t>Prepar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For a routine assessment of respiration , determine the client’s activity schedule and choose a suitable time to monitor the respirations . A client who has been  exercising will need to rest for a few minutes to permit the accelerated respiratory rate to return to normal 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Implementation 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63636"/>
                </a:solidFill>
                <a:latin typeface="Arial"/>
              </a:rPr>
              <a:t>1- Introduce self , verify the client’s identity ,  never to notify the patient that you will assess respiration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89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63636"/>
                </a:solidFill>
                <a:latin typeface="Arial"/>
              </a:rPr>
              <a:t>2- Hand washing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89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63636"/>
                </a:solidFill>
                <a:latin typeface="Arial"/>
              </a:rPr>
              <a:t>3-Provide for client’s privacy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89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63636"/>
                </a:solidFill>
                <a:latin typeface="Arial"/>
              </a:rPr>
              <a:t>4-Observe and count the respiratory rate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89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63636"/>
                </a:solidFill>
                <a:latin typeface="Arial"/>
              </a:rPr>
              <a:t>5- Observe the respiration for depth by watching the movement of the chest , observe for regularity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89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63636"/>
                </a:solidFill>
                <a:latin typeface="Arial"/>
              </a:rPr>
              <a:t>6- Document the respiratory rate , rhythm and depth in an appropriate record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63636"/>
                </a:solidFill>
                <a:latin typeface="Arial"/>
              </a:rPr>
              <a:t>   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161616"/>
                </a:solidFill>
                <a:latin typeface="Arial"/>
              </a:rPr>
              <a:t>Evaluatio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Relate respiratory rate to other vital signs , in particular pulse , relate respiratory rhythm ,and depth to baseline data and health statu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Report to the primary care provider a respiratory rate significantly above or below the normal range and any notable change in respiration from a previous assessment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Conduct appropriate follow up such as administering oxygen, or other medic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sessment of Blood Pressu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0" y="1915920"/>
            <a:ext cx="9144000" cy="4941720"/>
          </a:xfrm>
          <a:prstGeom prst="rect">
            <a:avLst/>
          </a:prstGeom>
          <a:solidFill>
            <a:srgbClr val="d6e0ff"/>
          </a:soli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61616"/>
                </a:solidFill>
                <a:uFillTx/>
                <a:latin typeface="Arial"/>
              </a:rPr>
              <a:t>Purpos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1-To obtain a baseline measure of arterial blood pressure for subsequent evalua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2- To determine the client’s hemodynamic statu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rial"/>
              </a:rPr>
              <a:t>3- To identify and monitor changes in blood pressure resulting from a disease process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3610080" cy="1828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Equi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4284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hygmomano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er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314360" indent="-571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rcu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314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etho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4375080" y="0"/>
            <a:ext cx="4762440" cy="40053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4" descr="http://aaxispacifichealthcare.com.au/b2b/images/10111412-SM-Mercury%20Sphygmomanometer-Desk-200px.jpg"/>
          <p:cNvPicPr/>
          <p:nvPr/>
        </p:nvPicPr>
        <p:blipFill>
          <a:blip r:embed="rId2"/>
          <a:stretch/>
        </p:blipFill>
        <p:spPr>
          <a:xfrm>
            <a:off x="4211640" y="3817800"/>
            <a:ext cx="4916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4" descr="cuffs"/>
          <p:cNvPicPr/>
          <p:nvPr/>
        </p:nvPicPr>
        <p:blipFill>
          <a:blip r:embed="rId1"/>
          <a:stretch/>
        </p:blipFill>
        <p:spPr>
          <a:xfrm>
            <a:off x="5235480" y="1700280"/>
            <a:ext cx="3429000" cy="413388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4" descr=""/>
          <p:cNvPicPr/>
          <p:nvPr/>
        </p:nvPicPr>
        <p:blipFill>
          <a:blip r:embed="rId2"/>
          <a:stretch/>
        </p:blipFill>
        <p:spPr>
          <a:xfrm>
            <a:off x="457200" y="2276640"/>
            <a:ext cx="4468680" cy="3557520"/>
          </a:xfrm>
          <a:prstGeom prst="rect">
            <a:avLst/>
          </a:prstGeom>
          <a:ln w="0">
            <a:noFill/>
          </a:ln>
        </p:spPr>
      </p:pic>
      <p:sp>
        <p:nvSpPr>
          <p:cNvPr id="811" name="TextBox 6"/>
          <p:cNvSpPr/>
          <p:nvPr/>
        </p:nvSpPr>
        <p:spPr>
          <a:xfrm>
            <a:off x="473040" y="600876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diatr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Box 7"/>
          <p:cNvSpPr/>
          <p:nvPr/>
        </p:nvSpPr>
        <p:spPr>
          <a:xfrm>
            <a:off x="4902120" y="603108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ul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Box 8"/>
          <p:cNvSpPr/>
          <p:nvPr/>
        </p:nvSpPr>
        <p:spPr>
          <a:xfrm>
            <a:off x="826920" y="155736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hygmomanome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tal 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signs that provide data to determine a person’s state of heal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 a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vidual is al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ch as temperature,  pulse rate, respiratory rate (TPR), and  blood pressure (BP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3" name="Picture 6" descr="CR-8100P-CO2"/>
          <p:cNvPicPr/>
          <p:nvPr/>
        </p:nvPicPr>
        <p:blipFill>
          <a:blip r:embed="rId3"/>
          <a:stretch/>
        </p:blipFill>
        <p:spPr>
          <a:xfrm>
            <a:off x="4915080" y="1700280"/>
            <a:ext cx="3573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s of  stethosco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Earpieces- should fit snugly and follow the natural curve of the ear canal, point toward the face when it is in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ubing- 12-18 inches long, longer tubing decreases the transmission of sound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7128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s of a stethosco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iaphragm= circular, flat surface- transmits high pitched sounds ( Bowel, lung, heart sou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ell= bowl shaped- transmits low pitched sounds (heart and vascular sou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0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7128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161616"/>
                </a:solidFill>
                <a:latin typeface="Arial"/>
              </a:rPr>
              <a:t>Assessme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1- Signs &amp; symptoms of hypertension ( headache , ringing in the ears , flushing of the face ,nosebleeds, fatigue 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2- Signs &amp; symptoms of hypotension ( tachycardia , dizziness, mental confusion , restlessness cool and clammy skin, pale or cyanosis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3- Factors affecting blood pressure ( stress , activity , pain and time of last caffeine 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4- Some blood pressure cuffs contains latex . Assess the client for latex allergy and obtain a latex –free cuff if indicated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Title 1"/>
          <p:cNvGrpSpPr/>
          <p:nvPr/>
        </p:nvGrpSpPr>
        <p:grpSpPr>
          <a:xfrm>
            <a:off x="0" y="0"/>
            <a:ext cx="9144000" cy="907920"/>
            <a:chOff x="0" y="0"/>
            <a:chExt cx="9144000" cy="907920"/>
          </a:xfrm>
        </p:grpSpPr>
        <p:pic>
          <p:nvPicPr>
            <p:cNvPr id="824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"/>
            <p:cNvSpPr/>
            <p:nvPr/>
          </p:nvSpPr>
          <p:spPr>
            <a:xfrm>
              <a:off x="0" y="0"/>
              <a:ext cx="9144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161616"/>
                  </a:solidFill>
                  <a:latin typeface="Arial"/>
                </a:rPr>
                <a:t>Planning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 txBox="1"/>
          <p:nvPr/>
        </p:nvSpPr>
        <p:spPr>
          <a:xfrm>
            <a:off x="0" y="926640"/>
            <a:ext cx="9144000" cy="541044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80"/>
                </a:solidFill>
                <a:uFillTx/>
                <a:latin typeface="Arial"/>
              </a:rPr>
              <a:t>Equipment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- stethoscop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2-Blood pressure cuff (appropriate siz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phygmomanome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Prepar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-Ensure that the equipment is intact and functioning we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2- Make sure that the client has not smoked within 30 minute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aaaade"/>
              </a:gs>
              <a:gs pos="100000">
                <a:srgbClr val="e8e8f6"/>
              </a:gs>
            </a:gsLst>
            <a:lin ang="16200000"/>
          </a:gradFill>
          <a:ln w="9360">
            <a:solidFill>
              <a:srgbClr val="000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plement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b898ff"/>
              </a:gs>
              <a:gs pos="100000">
                <a:srgbClr val="ebe2ff"/>
              </a:gs>
            </a:gsLst>
            <a:lin ang="16200000"/>
          </a:gradFill>
          <a:ln w="9360">
            <a:solidFill>
              <a:srgbClr val="7741c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80"/>
                </a:solidFill>
                <a:uFillTx/>
                <a:latin typeface="Arial"/>
              </a:rPr>
              <a:t>Preparatio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1-Ensure that the equipment is intact and functioning w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2- Make sure that the client has not smoked within 30 minut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80"/>
                </a:solidFill>
                <a:uFillTx/>
                <a:latin typeface="Arial"/>
              </a:rPr>
              <a:t>Performanc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1- Introduce self , verify the client’s identity ,       explain to the client what will you do, why and how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2- Hand wash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3-Provide for client’s privac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Picture 2" descr="C:\Users\COMPAQ\Downloads\bp.jpg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8526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" descr="C:\Users\COMPAQ\Downloads\bp2.jpg"/>
          <p:cNvPicPr/>
          <p:nvPr/>
        </p:nvPicPr>
        <p:blipFill>
          <a:blip r:embed="rId2"/>
          <a:stretch/>
        </p:blipFill>
        <p:spPr>
          <a:xfrm>
            <a:off x="5940360" y="2708280"/>
            <a:ext cx="3203640" cy="41497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" descr="C:\Users\COMPAQ\Downloads\bp3.jpg"/>
          <p:cNvPicPr/>
          <p:nvPr/>
        </p:nvPicPr>
        <p:blipFill>
          <a:blip r:embed="rId3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4-Take the accurate reading of blood pressure and Document the finding in the client’s record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5-Hand wa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e96ff"/>
              </a:gs>
              <a:gs pos="100000">
                <a:srgbClr val="d9dfff"/>
              </a:gs>
            </a:gsLst>
            <a:lin ang="16200000"/>
          </a:gradFill>
          <a:ln w="9360">
            <a:solidFill>
              <a:srgbClr val="2d61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valu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cdcdf3"/>
              </a:gs>
              <a:gs pos="100000">
                <a:srgbClr val="f1f1fc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1- Relate blood pressure to other vital signs , to baseline data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2- Report any significant changes in client’s blood pressure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3- Conduct appropriate follow up , medication administration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5"/>
          <p:cNvSpPr/>
          <p:nvPr/>
        </p:nvSpPr>
        <p:spPr>
          <a:xfrm>
            <a:off x="468360" y="1484280"/>
            <a:ext cx="8424720" cy="4025880"/>
          </a:xfrm>
          <a:prstGeom prst="rect">
            <a:avLst/>
          </a:prstGeom>
          <a:solidFill>
            <a:srgbClr val="361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900" spc="-1" strike="noStrike">
                <a:solidFill>
                  <a:srgbClr val="ffffff"/>
                </a:solidFill>
                <a:latin typeface="Arial"/>
              </a:rPr>
              <a:t>THANK TOU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asuring Body Temp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urpose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-To establish baseline data for subsequent evaluatio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To identify whether the core body temperature is within normal rang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To determine changes in the core body temperature in response to specific therapies ( antipyretic medication , immunosuppressive drugs, invasive procedur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-To monitor clients at risk for imbalanced body temperature ( clients at risk for infection , or diagnosis of infection , or those who have been exposed to temperature extreme)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solidFill>
            <a:srgbClr val="85a3ff"/>
          </a:solidFill>
          <a:ln w="936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Thermo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60595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ic thermo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readings in less than 60 seco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ccurate if placed in sublingual poc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sensor on the end of the thermometer that touches the body part and reads the body’s temperat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Picture 5" descr=""/>
          <p:cNvPicPr/>
          <p:nvPr/>
        </p:nvPicPr>
        <p:blipFill>
          <a:blip r:embed="rId4"/>
          <a:stretch/>
        </p:blipFill>
        <p:spPr>
          <a:xfrm>
            <a:off x="6543720" y="1268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5" descr="electronic thermometer"/>
          <p:cNvPicPr/>
          <p:nvPr/>
        </p:nvPicPr>
        <p:blipFill>
          <a:blip r:embed="rId5"/>
          <a:stretch/>
        </p:blipFill>
        <p:spPr>
          <a:xfrm>
            <a:off x="6197760" y="3556080"/>
            <a:ext cx="28350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mpanic membrane thermome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temperature inside of the 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read the infrared heat that comes from inside of the 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appropriate for infants and young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s are obtained  in 2 seconds or 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solidFill>
            <a:srgbClr val="85a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Thermo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5"/>
          <a:stretch/>
        </p:blipFill>
        <p:spPr>
          <a:xfrm>
            <a:off x="6012000" y="1268280"/>
            <a:ext cx="29034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http://upload.wikimedia.org/wikipedia/commons/9/93/Clinical_thermometer_38.7.JPG"/>
          <p:cNvPicPr/>
          <p:nvPr/>
        </p:nvPicPr>
        <p:blipFill>
          <a:blip r:embed="rId1"/>
          <a:stretch/>
        </p:blipFill>
        <p:spPr>
          <a:xfrm>
            <a:off x="6585120" y="0"/>
            <a:ext cx="2593800" cy="231156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457200" y="1698120"/>
            <a:ext cx="73548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ss and mercury thermometers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lass tube with mercury inside of the tub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ube goes underneath the tongue and the body temperature will cause the mercury to rise inside the tub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just throw away a mercury thermome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6275520" cy="1143000"/>
          </a:xfrm>
          <a:prstGeom prst="rect">
            <a:avLst/>
          </a:prstGeom>
          <a:solidFill>
            <a:srgbClr val="85a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Thermo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tes for taking the Temp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457200" y="963720"/>
          <a:ext cx="8229600" cy="5316480"/>
        </p:xfrm>
        <a:graphic>
          <a:graphicData uri="http://schemas.openxmlformats.org/drawingml/2006/table">
            <a:tbl>
              <a:tblPr/>
              <a:tblGrid>
                <a:gridCol w="1403280"/>
                <a:gridCol w="2243160"/>
                <a:gridCol w="4583160"/>
              </a:tblGrid>
              <a:tr h="7452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30400"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ccessible and conveni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hermometers can be brok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accurate if client has just ingested hot or cold fluid, or smo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2824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57200">
                <a:tc rowSpan="3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rowSpan="3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liable measur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convenient and more unpleasant; difficult for client who cannot  turn to si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ould injure the rectum following surg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5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esence of stool may interfere with thermometer plac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2860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22860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XILLA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afe and noninva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hermometer must be left in place  for a long tim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2860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57200"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MPANIC MEMBRA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adily accessible; reflects the core temperature, very f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an be uncomfortable  and involves risk of injuring the membrane if inserted too 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3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resence of cerumen can affect the read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22860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56120">
                <a:tc rowSpan="2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ORAL ART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rowSpan="3"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afe and non invasive , very f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Requires electronic equipment (expensive / unavailable) 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7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tion in technique if the client has perspiration on the foreh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27828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0" name="Picture 3" descr="Oral-temp[1].jpg"/>
          <p:cNvPicPr/>
          <p:nvPr/>
        </p:nvPicPr>
        <p:blipFill>
          <a:blip r:embed="rId3"/>
          <a:stretch/>
        </p:blipFill>
        <p:spPr>
          <a:xfrm>
            <a:off x="223920" y="1727280"/>
            <a:ext cx="1904760" cy="141912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4" descr="babytemp_ArticleImage.jpg"/>
          <p:cNvPicPr/>
          <p:nvPr/>
        </p:nvPicPr>
        <p:blipFill>
          <a:blip r:embed="rId4"/>
          <a:stretch/>
        </p:blipFill>
        <p:spPr>
          <a:xfrm>
            <a:off x="179280" y="4221000"/>
            <a:ext cx="3240360" cy="23814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5" descr="u11472324.jpg"/>
          <p:cNvPicPr/>
          <p:nvPr/>
        </p:nvPicPr>
        <p:blipFill>
          <a:blip r:embed="rId5"/>
          <a:stretch/>
        </p:blipFill>
        <p:spPr>
          <a:xfrm>
            <a:off x="6781680" y="1090440"/>
            <a:ext cx="2159280" cy="21592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tympanic-thermometer-how-it-worksjw.jpg"/>
          <p:cNvPicPr/>
          <p:nvPr/>
        </p:nvPicPr>
        <p:blipFill>
          <a:blip r:embed="rId6"/>
          <a:stretch/>
        </p:blipFill>
        <p:spPr>
          <a:xfrm>
            <a:off x="6232680" y="3571920"/>
            <a:ext cx="2790720" cy="30481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7" descr="nurse-holding-rectal_~NU107003.jpg"/>
          <p:cNvPicPr/>
          <p:nvPr/>
        </p:nvPicPr>
        <p:blipFill>
          <a:blip r:embed="rId7"/>
          <a:stretch/>
        </p:blipFill>
        <p:spPr>
          <a:xfrm>
            <a:off x="2641680" y="1477800"/>
            <a:ext cx="3673440" cy="270828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85a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tes for taking theTemp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Irene Roco</dc:creator>
  <dc:description/>
  <dc:language>en-US</dc:language>
  <cp:lastModifiedBy>IRENE ROCO</cp:lastModifiedBy>
  <dcterms:modified xsi:type="dcterms:W3CDTF">2015-09-04T13:39:55Z</dcterms:modified>
  <cp:revision>107</cp:revision>
  <dc:subject/>
  <dc:title>PowerPoint Presentation</dc:title>
</cp:coreProperties>
</file>