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6.jpeg" ContentType="image/jpeg"/>
  <Override PartName="/ppt/media/image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7.png" ContentType="image/png"/>
  <Override PartName="/ppt/media/image9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30.jpeg" ContentType="image/jpeg"/>
  <Override PartName="/ppt/media/image3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19.jpeg" ContentType="image/jpeg"/>
  <Override PartName="/ppt/media/image20.jpeg" ContentType="image/jpeg"/>
  <Override PartName="/ppt/media/image21.png" ContentType="image/png"/>
  <Override PartName="/ppt/media/image22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9A32-D600-4FFD-A13A-B3D64159F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2C2E-EED3-45C7-BE4B-7B5CEA22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4C72D5-A6C9-4552-98DF-057B5B6B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2772E-0E04-49FE-BE12-2F9A3AB1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B9971F-2C80-4571-8647-1D668D9C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13E0F3-3BE8-4447-A2C1-1504A4DF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624EA-9FA0-4F1C-9FDD-A2FD85A2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97B0EB-CD4A-4AED-BE45-5A17024F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6A332E-B8AE-4FBC-8ECE-8A19D735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5AB45C-57DD-4E89-8C92-030ADBD8F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59B012-D198-4E26-AB7B-BFC1327C7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6F8F26-F1D9-431F-BC49-1B35E6F04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4757-C9D2-48CB-B1AC-7E11090BF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A89EA1-C946-49AF-B42E-3384D541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475DA0-54BA-4AC9-B5D6-2A993E52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E2FA5E-F829-414E-8DB3-7CB56455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747580-E931-4AE7-A4E6-46F9DFCD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EBCF29-40DC-41D6-83D0-2A3E9FE5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740115-FD77-42B2-BEB7-0E5DE0B7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1D2149-9958-41EE-9231-64ACB0D8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FDF035-941D-4A38-BF4E-6E8168CE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C4F034-E44A-40C6-A28C-AC914FD3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D27CBB-C408-4472-B80D-D513F95B8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493B-B162-4D70-8425-27D35080F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FE10E8-A18C-4F4E-B7B6-2FEC3D6AF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965C0-F394-4682-8028-4674B477A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226C81-9311-4622-B3A5-916B1B68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650D53-FAEF-496B-B4C2-51806948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B7A48F-E2E4-4CC0-A459-75A54EA9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E0C4FD-DCD3-49BB-B45A-9718509C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0EA6E-027C-4803-A12B-A9E33E533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740B8-01EC-4EEE-8F0F-6198EFC0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3AF53-5A23-4CFE-B05F-81EFECAC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63C604-47DF-4803-8369-80DDF295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2276-EF41-47CC-A774-ACC9F255B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2C0CA-A90C-4E90-AF1E-8DFD6397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FF650A-6F24-46B0-8CC6-4A8CE3792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2E692-6D7B-4409-9EC4-21720816B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16C9FF-EA1A-4520-A3B3-847DEAB34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305CA0-983B-4320-9767-B96B8C4A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FC278F-8FDB-43CC-9F68-DD295EFA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27DE07-2E87-494D-AA19-DFDEC5BC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187C83-90BB-42C2-A946-D21FE17E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042091-3CD0-44C5-BAED-51D9A00C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087A91-A021-4F0B-BCF2-C76D6001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A5940-DB91-4251-8118-9C130C88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296BE4-EB3C-4A20-AB12-DDC500CF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9066C3-7EC4-48A2-A57D-F319FD2A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3B9650-DC41-4BBB-84BE-D3409C8A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03B9A5-E992-46BC-B4C1-CFB2C67A6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8C81CA-8E63-4F0A-A133-E2C4C616B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A11AF1-E458-4ECC-B46F-F812A6548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E3F398-CE53-45CF-A533-C1E26C1A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F6CE8C-C70C-4567-9A18-6786A22B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9F08E0-6FDD-40B0-B8F0-7403A27A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E524B5-21DC-45C2-B163-5EBB34AD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2043-5BBC-4D57-8C04-D4CFA21A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638E2D-2810-4BBD-9269-5D474532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0EAF31-AEAE-44FF-ACD1-B8AC8510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9DB8E8-CE89-4EB0-9A21-68DA1CB3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D19DB9-12C2-4729-8ED5-5B320B25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B08191-13B9-4515-B742-560AE7B8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803174-D410-4E57-AD3C-9FD2B4C8D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CD6001-04D6-489C-AE64-FC2854D8F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6766A1-7835-4B3C-B8B2-6AAAA5898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F8629A-DE7E-41E1-B838-2DE82276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0E8910-9ACB-4363-B4A1-5430F2A3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DCA5-9031-4A17-9DBB-01878206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377AE9-282B-4D6F-A9B5-95BD378D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5711BF-0F46-4F01-8113-0934A77F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8EB213-2D83-4B2A-8406-C83FD4BA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D42B7D-320A-4EDA-9936-829C255B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FE2A5B-57D8-428F-AB51-6834B2FE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CF283C-EA20-41A0-A342-1CA7C193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B9D881-C66A-404B-A5FD-0B490C42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ED78E2-45F1-4BE8-9782-6D0B927C6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EB7CBD-966C-42F5-85FC-A60265F4E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07631C-28E0-4F58-B187-0D226F1CC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A5C7E-BB57-449E-AD3B-4AFBFFDE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7C1225-E628-4D99-8247-21904EBA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E42E03-2A81-4A8E-8974-07EC9862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9AC156-9729-4952-89C8-6FA0BE02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00D143-258A-4D98-9EF0-D40428FC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EC1C6D-9110-4834-9EAA-C0C09996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F21917-9F2D-48DE-B1CC-B91C1EB9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D1668B-2E34-4E68-979E-386E6080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135414-E0FB-4C1D-A1BB-FA99156E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5801F2-EE7E-4C94-8368-4A408130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A3DB64-067A-488A-835A-F80F0C154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DA03-B03B-40DF-A6D0-6D1D837C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50A600-076C-4DC5-A106-149D0E0AA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E2ED6D-1BDB-4E74-95AE-FC78E4359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771147-0598-4B3B-BDBA-260771E6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DC9167-98E9-4790-8685-9AEFE64D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014D0A-BAA3-4ED0-8280-9E5A0823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C9B448-DAC8-4386-8357-45A9CC76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2C516E-D823-4A7A-BD55-F66F46E6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5DE6A6-4F21-481B-823E-D53103CE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ED0D85-97C7-4151-B69C-E78FC45F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C0B206-66BB-4E48-9D5B-AF6B2A92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E9C8-657C-4E9F-9DED-6E53EFC4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3F6A02-21BD-4BAD-A438-864C1B4F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C35532-C723-437E-AFD1-57B0E95F0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74F62D-CF4F-4ACB-B617-BE9BA5A87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3F2B-A5E8-4171-808E-2DFAFAF8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D1E03-9A83-4B30-B6E1-A0054616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9EBB-4CED-4396-8ED3-0B00CF0D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8CFB-39DD-434B-91FC-EFC462B3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CB148-3DC1-4150-A258-255FCAC8A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9C48-C15A-4E71-AD3F-E00D08F9D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C8551-DC3A-43B1-91CE-9F578FF44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AD11A-C82F-4B4C-A157-074AF018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4C761-0C70-44D9-8552-9F4F1F8B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3A3E8-E803-47BB-81D6-5BA0C254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4080F-85A0-4DC8-A269-2646757F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71F7-1877-40AF-AEF3-467C98D3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9A52F-14B0-449D-A7D4-DF089579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41AC4-00C0-4253-8BF5-326F5F38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7EE7A-B768-4D63-B9B9-5E169C74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44718-945D-40A2-BF12-323B0767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929AD-35E7-4C25-9C63-C2B9859C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4ED69-D115-4F0C-988D-0948185A8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D47C8-8C90-454E-BA4F-F42A84172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76E7D-1431-44D8-A787-AA8EC45CB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52AEC-529C-41BE-817A-FF9F428C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68B41-B9A0-4CE2-84D8-2EDA4F8D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E046-2948-40F2-90A1-027A43B8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FADEB-BBCD-454B-BC5E-6E6394E4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86838-17E5-4DCF-8987-727C5943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58144-4BFC-4261-8A27-3C75A41C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333C2-11DC-4F5F-BCFD-C927F6FC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5F996-E292-46B7-BE77-AD24E37A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7869E-B071-4731-B6AF-6E67053A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3A21E-E0A1-4A77-8643-5F6EE1E5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622D3-2E59-4550-B5E1-75F6B2CF2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9F5DA-4E9B-4788-BB2A-0CB71A269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BF750-DEFD-44B1-84A5-8C224B990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457D-A2FD-49AE-969C-549D10F0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BAF88-AE9D-41AA-BC4E-E08D59D2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70427-1B2E-4E5E-A6A0-DC5BD3F3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F9EE2-0872-4137-994D-CC216F07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5E7B6-0965-4F63-BC79-C40645DA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C5B10-70D7-4F37-A2AD-04096B2F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B9D10-1FB9-4CDF-AF7F-FE854713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8743B-A13F-41F4-A016-29C0DC1B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A086E-EAA0-4448-8B6D-E6C185E6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70F54-954F-4044-8F1B-ED23C3D9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26EBC-F8EB-4E49-B263-C00A33CE4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8E49-5B87-4B7B-B7D5-C889564E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CFAB6-40F3-404E-A07B-C49E3BFAC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C190F-E705-4DE9-BB79-B5191C2FA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60041-0D42-4E4C-8C7A-49BFFBD7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4E6D9-917B-469F-9B7A-D71B74A2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682A6-E030-434A-B0F7-620ED6D2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F786E-9D8B-4D63-AAA3-21912728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E8039-7A94-4B3E-B52D-EE133CC8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1E2F8-CB37-4250-AEDF-C24E8A79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3D386-D32E-408C-B87B-1C4C0276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0DB86-E2E7-4B09-B7BE-2F849EB9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D158-BC04-4D19-B64A-C9B7B8C1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3196C-F039-481D-B085-2AECE048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C30DE-2A13-41C4-8607-7B9F05EAE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EFB0F-FB04-421A-9866-5D8A2059B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75FF5-7A88-4804-8C8B-F371BFDD9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0A44B-3F5D-4B9B-B90A-D58E51FD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D261C-2FCE-40D7-9849-AD8B9AB9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2EDDC-52DD-499C-8B54-30D56DCB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E7FF6-395A-49E7-AB7F-28493919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6E99F-0D99-44F8-B1F2-F546ACA2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6F94E-316E-4AB3-B83B-E7704104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727C-C154-4869-B88F-920D0101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887E7-3D89-424A-BDA5-777D7A62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1A91D-1C51-4CC0-8AD9-D392FF0E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0170D-C6DB-40F7-B766-28C8DDD3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F1DB4-EE14-4309-BC8B-D121BDE73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98AD3-31D0-4E09-88C0-EDE4920FE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3FE329-458A-4479-ABE5-71476391E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355E5-7841-4DCD-87BA-CA329CC7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F1C28-6956-4D1D-8FBA-764FE17E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9FE0A-4556-47FB-8A30-3428D207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D655A-DD24-4AE3-BF3E-C003F806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5A60-AA86-462D-A87D-620E20DC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B5D2C-FBEA-4A9F-AFF9-A1C87C4A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C5D68-0D6C-47C8-BC75-60566A75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5AFCA-4334-4042-AAA7-73683D69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47574-106C-4C60-8E24-4CEC9B12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E84C5-93C6-4EA2-A0F6-EA5290FB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FA484-08D2-4388-A206-8432D37C4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F3030-B24D-4215-ADFA-C647EC9D1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A6245-2CCA-40B6-83B4-992CA9D31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162ABB-6A31-442A-B5A4-0BA01EA2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B6EA41-A4E4-4FB2-B65C-CA3A07C9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AE4F-07FE-4168-84DC-0261C17FB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68C1-DCB5-484D-9154-2D9B31D26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DA15-4368-4811-BBDB-A2F463B2F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FD6F-4B97-4658-B81B-3D503CB35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3955-3C90-4BB8-A879-02AB87C31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64E4-92ED-4AED-A77A-C28DD4C58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B4AD-2AD2-4630-9C0D-20BD9021B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BAD7-67B0-452B-B67D-7163526525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CC38-79FD-4625-9251-46CE07633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3BCE-EEEB-4173-A3B8-E9D8AF2AC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215B-8AD3-4752-8A00-838F6EA60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8A7F-4E50-41AC-9874-03CF94C59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7180-AEC5-4F05-AF1B-A678A9B98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F50E-7644-447D-8104-120D5D0F2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6003-33F3-42A4-9EF4-264481274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D1D0-C1C9-492F-923C-5FC841CCE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8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7" descr="vital%20sign%20orp%20meter"/>
          <p:cNvPicPr/>
          <p:nvPr/>
        </p:nvPicPr>
        <p:blipFill>
          <a:blip r:embed="rId1"/>
          <a:stretch/>
        </p:blipFill>
        <p:spPr>
          <a:xfrm>
            <a:off x="5435640" y="476280"/>
            <a:ext cx="3522600" cy="482436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53388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Vital sig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66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ssessment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Clinical signs of fever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-Clinical signs of  hypotherm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-Site most appropriate for measurement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-Factors that may alter body temperatu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66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Planning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solidFill>
            <a:srgbClr val="aaaac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63636"/>
                </a:solidFill>
                <a:uFillTx/>
                <a:latin typeface="Arial"/>
              </a:rPr>
              <a:t>Preparation of equipment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3636"/>
                </a:solidFill>
                <a:latin typeface="Arial"/>
              </a:rPr>
              <a:t>1-Thermomete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3636"/>
                </a:solidFill>
                <a:latin typeface="Arial"/>
              </a:rPr>
              <a:t>2-Thermometer cover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3636"/>
                </a:solidFill>
                <a:latin typeface="Arial"/>
              </a:rPr>
              <a:t>3-Water- soluble lubricant for a rectal temperature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3636"/>
                </a:solidFill>
                <a:latin typeface="Arial"/>
              </a:rPr>
              <a:t>4-Disposable gloves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3636"/>
                </a:solidFill>
                <a:latin typeface="Arial"/>
              </a:rPr>
              <a:t>5- Towel for axillary temperature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3636"/>
                </a:solidFill>
                <a:latin typeface="Arial"/>
              </a:rPr>
              <a:t>6-Tissue /wip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mplementat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solidFill>
            <a:srgbClr val="aaaac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363636"/>
                </a:solidFill>
                <a:uFillTx/>
                <a:latin typeface="Arial"/>
              </a:rPr>
              <a:t>Preparati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63636"/>
                </a:solidFill>
                <a:latin typeface="Arial"/>
              </a:rPr>
              <a:t>Check that all equipments functioning well 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363636"/>
                </a:solidFill>
                <a:uFillTx/>
                <a:latin typeface="Arial"/>
              </a:rPr>
              <a:t>Performance 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63636"/>
                </a:solidFill>
                <a:latin typeface="Arial"/>
              </a:rPr>
              <a:t>1- Introduce self , verify the client’s identity , explain to the client what will you do, why and how 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63636"/>
                </a:solidFill>
                <a:latin typeface="Arial"/>
              </a:rPr>
              <a:t>2- Hand washing 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63636"/>
                </a:solidFill>
                <a:latin typeface="Arial"/>
              </a:rPr>
              <a:t>3-Provide for client’s privacy 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63636"/>
                </a:solidFill>
                <a:latin typeface="Arial"/>
              </a:rPr>
              <a:t>4-Position the patient according to the method will be practiced ( lateral or sim’s position for rectal temperature 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63636"/>
                </a:solidFill>
                <a:latin typeface="Arial"/>
              </a:rPr>
              <a:t>5-Place the thermometer as the following 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aaaade"/>
              </a:gs>
              <a:gs pos="100000">
                <a:srgbClr val="e8e8f6"/>
              </a:gs>
            </a:gsLst>
            <a:lin ang="16200000"/>
          </a:gradFill>
          <a:ln w="9360">
            <a:solidFill>
              <a:srgbClr val="00008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valuat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gradFill rotWithShape="0">
            <a:gsLst>
              <a:gs pos="0">
                <a:srgbClr val="7e96ff"/>
              </a:gs>
              <a:gs pos="100000">
                <a:srgbClr val="d9dfff"/>
              </a:gs>
            </a:gsLst>
            <a:lin ang="16200000"/>
          </a:gradFill>
          <a:ln w="9360">
            <a:solidFill>
              <a:srgbClr val="2d61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Compare the temperature measurement to baseline data , normal range of age of the client and the client’s previous temperature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Analyze considering time of day and any additional influence factors and other vital signs 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7e96ff"/>
              </a:gs>
              <a:gs pos="100000">
                <a:srgbClr val="d9dfff"/>
              </a:gs>
            </a:gsLst>
            <a:lin ang="16200000"/>
          </a:gradFill>
          <a:ln w="9360">
            <a:solidFill>
              <a:srgbClr val="2d61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ssessment of peripheral Puls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gradFill rotWithShape="0">
            <a:gsLst>
              <a:gs pos="0">
                <a:srgbClr val="aaaade"/>
              </a:gs>
              <a:gs pos="100000">
                <a:srgbClr val="e8e8f6"/>
              </a:gs>
            </a:gsLst>
            <a:lin ang="16200000"/>
          </a:gradFill>
          <a:ln w="9360">
            <a:solidFill>
              <a:srgbClr val="00008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161616"/>
                </a:solidFill>
                <a:uFillTx/>
                <a:latin typeface="Arial"/>
              </a:rPr>
              <a:t>Purpose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1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6"/>
                </a:solidFill>
                <a:latin typeface="Arial"/>
              </a:rPr>
              <a:t>To establish baseline data for subsequent evalu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1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6"/>
                </a:solidFill>
                <a:latin typeface="Arial"/>
              </a:rPr>
              <a:t>To identify whether the pulse rate is within normal range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1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6"/>
                </a:solidFill>
                <a:latin typeface="Arial"/>
              </a:rPr>
              <a:t>To determine whether the pulse rhythm is regular and the pulse volume is appropriate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1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6"/>
                </a:solidFill>
                <a:latin typeface="Arial"/>
              </a:rPr>
              <a:t>To determine the equality of corresponding peripheral pulse on each side of the body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1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6"/>
                </a:solidFill>
                <a:latin typeface="Arial"/>
              </a:rPr>
              <a:t>To monitor and assess  changes in the client’s health status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1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6"/>
                </a:solidFill>
                <a:latin typeface="Arial"/>
              </a:rPr>
              <a:t>To monitor client’s at risk for pulse alteration ( heart disease , cardiac arrhythmia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1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6"/>
                </a:solidFill>
                <a:latin typeface="Arial"/>
              </a:rPr>
              <a:t>To evaluate perfusion to the extremit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1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03280"/>
          </a:xfrm>
          <a:prstGeom prst="rect">
            <a:avLst/>
          </a:prstGeom>
          <a:solidFill>
            <a:srgbClr val="3366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Assessment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gradFill rotWithShape="0">
            <a:gsLst>
              <a:gs pos="0">
                <a:srgbClr val="b898ff"/>
              </a:gs>
              <a:gs pos="100000">
                <a:srgbClr val="ebe2ff"/>
              </a:gs>
            </a:gsLst>
            <a:lin ang="16200000"/>
          </a:gradFill>
          <a:ln w="9360">
            <a:solidFill>
              <a:srgbClr val="7741c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1616"/>
                </a:solidFill>
                <a:latin typeface="Arial"/>
              </a:rPr>
              <a:t>`</a:t>
            </a:r>
            <a:r>
              <a:rPr b="1" lang="en-US" sz="3200" spc="-1" strike="noStrike">
                <a:solidFill>
                  <a:srgbClr val="161616"/>
                </a:solidFill>
                <a:latin typeface="Arial"/>
              </a:rPr>
              <a:t>1-Clinical signs of cardiovascular alterations as: (dyspnea, cyanosis, palpitations , syncope , cool skin 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Arial"/>
              </a:rPr>
              <a:t>2- Factors that may alter pulse 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161616"/>
                </a:solidFill>
                <a:latin typeface="Arial"/>
              </a:rPr>
              <a:t>( e.g. emotional status , physical activity )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Arial"/>
              </a:rPr>
              <a:t>3- Which site is most appropriate for assessment based on a purpose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7e96ff"/>
              </a:gs>
              <a:gs pos="100000">
                <a:srgbClr val="d9dfff"/>
              </a:gs>
            </a:gsLst>
            <a:lin ang="16200000"/>
          </a:gradFill>
          <a:ln w="9360">
            <a:solidFill>
              <a:srgbClr val="2d61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2060"/>
                </a:solidFill>
                <a:latin typeface="Arial"/>
              </a:rPr>
              <a:t>Pulse sites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9" name="Content Placeholder 3" descr="http://t0.gstatic.com/images?q=tbn:ANd9GcTnBelL9WIVpIek6IJe7WlO2I6xkQ_rFfzHYuR0DQp27H9KM1OK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1" name="Content Placeholder 3" descr="graphic0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7e96ff"/>
              </a:gs>
              <a:gs pos="100000">
                <a:srgbClr val="d9dfff"/>
              </a:gs>
            </a:gsLst>
            <a:lin ang="16200000"/>
          </a:gradFill>
          <a:ln w="9360">
            <a:solidFill>
              <a:srgbClr val="2d61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61616"/>
                </a:solidFill>
                <a:latin typeface="Arial"/>
              </a:rPr>
              <a:t>Assessment of apical pulse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395280" y="1557000"/>
            <a:ext cx="3960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Arial"/>
              </a:rPr>
              <a:t>Position the patient in comfortable supine position or in a sitting position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Arial"/>
              </a:rPr>
              <a:t>Locate the apex of hear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4" name="Picture 3" descr="SurfaceAnatomy.png"/>
          <p:cNvPicPr/>
          <p:nvPr/>
        </p:nvPicPr>
        <p:blipFill>
          <a:blip r:embed="rId4"/>
          <a:stretch/>
        </p:blipFill>
        <p:spPr>
          <a:xfrm>
            <a:off x="4716360" y="2146320"/>
            <a:ext cx="44276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aaaade"/>
              </a:gs>
              <a:gs pos="100000">
                <a:srgbClr val="e8e8f6"/>
              </a:gs>
            </a:gsLst>
            <a:lin ang="16200000"/>
          </a:gradFill>
          <a:ln w="9360">
            <a:solidFill>
              <a:srgbClr val="00008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algn="ctr">
              <a:buClr>
                <a:srgbClr val="000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80"/>
                </a:solidFill>
                <a:latin typeface="Arial"/>
              </a:rPr>
              <a:t>Planning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gradFill rotWithShape="0">
            <a:gsLst>
              <a:gs pos="0">
                <a:srgbClr val="7e96ff"/>
              </a:gs>
              <a:gs pos="100000">
                <a:srgbClr val="d9dfff"/>
              </a:gs>
            </a:gsLst>
            <a:lin ang="16200000"/>
          </a:gradFill>
          <a:ln w="9360">
            <a:solidFill>
              <a:srgbClr val="2d61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SzPct val="1347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80"/>
                </a:solidFill>
                <a:uFillTx/>
                <a:latin typeface="Arial"/>
              </a:rPr>
              <a:t>Equipment 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80"/>
                </a:solidFill>
                <a:latin typeface="Arial"/>
              </a:rPr>
              <a:t>-</a:t>
            </a:r>
            <a:r>
              <a:rPr b="1" lang="en-US" sz="1900" spc="-1" strike="noStrike">
                <a:solidFill>
                  <a:srgbClr val="000080"/>
                </a:solidFill>
                <a:latin typeface="Arial"/>
              </a:rPr>
              <a:t>Watch with a second hand or indicator</a:t>
            </a:r>
            <a:r>
              <a:rPr b="1" lang="ar-SA" sz="19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8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80"/>
                </a:solidFill>
                <a:latin typeface="Arial"/>
              </a:rPr>
              <a:t>Implement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 u="sng">
                <a:solidFill>
                  <a:srgbClr val="000080"/>
                </a:solidFill>
                <a:uFillTx/>
                <a:latin typeface="Arial"/>
              </a:rPr>
              <a:t>Performance 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1- </a:t>
            </a: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Introduce self , verify the client’s identity , explain to the client what will you do, why and how ?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SzPct val="12894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2- Hand washing 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SzPct val="12894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3-Provide for client’s privacy 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  </a:t>
            </a: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4- Select the pulse point .  Normally , the radial pulse is taken unless it can’t be exposed 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SzPct val="12894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5- Position the patient in a rest position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tal Signs 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lse 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iratory 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od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6666ff"/>
          </a:solidFill>
          <a:ln w="25560">
            <a:solidFill>
              <a:srgbClr val="7c7c94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mplementation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solidFill>
            <a:srgbClr val="b3b3ff"/>
          </a:solidFill>
          <a:ln w="9360">
            <a:solidFill>
              <a:srgbClr val="2d61f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3636"/>
                </a:solidFill>
                <a:latin typeface="Arial"/>
              </a:rPr>
              <a:t>6- Palpate and count the pulse . Place 3 or 2 middle fingers lightly and squarely over the pulse point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3636"/>
                </a:solidFill>
                <a:latin typeface="Arial"/>
              </a:rPr>
              <a:t>7- Count for 15 seconds and multiply by 4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3636"/>
                </a:solidFill>
                <a:latin typeface="Arial"/>
              </a:rPr>
              <a:t>8- Record the pulse on the worksheet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3636"/>
                </a:solidFill>
                <a:latin typeface="Arial"/>
              </a:rPr>
              <a:t>9- Assess the pulse rhythm and strength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3636"/>
                </a:solidFill>
                <a:latin typeface="Arial"/>
              </a:rPr>
              <a:t>10- Document the pulse rate on the patient’s record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3636"/>
                </a:solidFill>
                <a:latin typeface="Arial"/>
              </a:rPr>
              <a:t>11- Hand wash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aaaade"/>
              </a:gs>
              <a:gs pos="100000">
                <a:srgbClr val="e8e8f6"/>
              </a:gs>
            </a:gsLst>
            <a:lin ang="16200000"/>
          </a:gradFill>
          <a:ln w="9360">
            <a:solidFill>
              <a:srgbClr val="00008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Evaluation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gradFill rotWithShape="0">
            <a:gsLst>
              <a:gs pos="0">
                <a:srgbClr val="7e96ff"/>
              </a:gs>
              <a:gs pos="100000">
                <a:srgbClr val="d9dfff"/>
              </a:gs>
            </a:gsLst>
            <a:lin ang="16200000"/>
          </a:gradFill>
          <a:ln w="9360">
            <a:solidFill>
              <a:srgbClr val="2d61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61616"/>
                </a:solidFill>
                <a:latin typeface="Arial"/>
              </a:rPr>
              <a:t>1-Compare the pulse rate to baseline data or normal range for age of the client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61616"/>
                </a:solidFill>
                <a:latin typeface="Arial"/>
              </a:rPr>
              <a:t>2- Relate pulse volume , rate to other vital signs , pulse rhythm and volume to other baseline data and health status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61616"/>
                </a:solidFill>
                <a:latin typeface="Arial"/>
              </a:rPr>
              <a:t>3- Conduct appropriate follow up such as notifying the primary care giver or giving medication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aaaade"/>
              </a:gs>
              <a:gs pos="100000">
                <a:srgbClr val="e8e8f6"/>
              </a:gs>
            </a:gsLst>
            <a:lin ang="16200000"/>
          </a:gradFill>
          <a:ln w="9360">
            <a:solidFill>
              <a:srgbClr val="00008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61616"/>
                </a:solidFill>
                <a:latin typeface="Arial"/>
              </a:rPr>
              <a:t>C-Assessment of Respiration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gradFill rotWithShape="0">
            <a:gsLst>
              <a:gs pos="0">
                <a:srgbClr val="7e96ff"/>
              </a:gs>
              <a:gs pos="100000">
                <a:srgbClr val="d9dfff"/>
              </a:gs>
            </a:gsLst>
            <a:lin ang="16200000"/>
          </a:gradFill>
          <a:ln w="9360">
            <a:solidFill>
              <a:srgbClr val="2d61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02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 u="sng">
                <a:solidFill>
                  <a:srgbClr val="161616"/>
                </a:solidFill>
                <a:uFillTx/>
                <a:latin typeface="Arial"/>
              </a:rPr>
              <a:t>Purposes :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1616"/>
                </a:solidFill>
                <a:latin typeface="Arial"/>
              </a:rPr>
              <a:t>To acquire baseline data against which future measurements can be compared 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1616"/>
                </a:solidFill>
                <a:latin typeface="Arial"/>
              </a:rPr>
              <a:t>To monitor abnormal respiration and respiratory patterns and identify changes 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1616"/>
                </a:solidFill>
                <a:latin typeface="Arial"/>
              </a:rPr>
              <a:t>To monitor respirations before or following the administration of general anesthetic or any medication that can influences respiration 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1616"/>
                </a:solidFill>
                <a:latin typeface="Arial"/>
              </a:rPr>
              <a:t>To monitor clients at risk for respiratory alterations .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Title 1"/>
          <p:cNvGrpSpPr/>
          <p:nvPr/>
        </p:nvGrpSpPr>
        <p:grpSpPr>
          <a:xfrm>
            <a:off x="0" y="0"/>
            <a:ext cx="9144000" cy="1420920"/>
            <a:chOff x="0" y="0"/>
            <a:chExt cx="9144000" cy="1420920"/>
          </a:xfrm>
        </p:grpSpPr>
        <p:pic>
          <p:nvPicPr>
            <p:cNvPr id="794" name="Titl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"/>
            <p:cNvSpPr/>
            <p:nvPr/>
          </p:nvSpPr>
          <p:spPr>
            <a:xfrm>
              <a:off x="0" y="0"/>
              <a:ext cx="9144000" cy="14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161616"/>
                  </a:solidFill>
                  <a:latin typeface="Arial"/>
                </a:rPr>
                <a:t> </a:t>
              </a:r>
              <a:r>
                <a:rPr b="0" lang="en-US" sz="4800" spc="-1" strike="noStrike">
                  <a:solidFill>
                    <a:srgbClr val="161616"/>
                  </a:solidFill>
                  <a:latin typeface="Arial"/>
                </a:rPr>
                <a:t>Assessment : 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6" name=""/>
          <p:cNvSpPr txBox="1"/>
          <p:nvPr/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7e96ff"/>
              </a:gs>
              <a:gs pos="100000">
                <a:srgbClr val="d9dfff"/>
              </a:gs>
            </a:gsLst>
            <a:lin ang="16200000"/>
          </a:gradFill>
          <a:ln w="9360">
            <a:solidFill>
              <a:srgbClr val="2d61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161616"/>
                </a:solidFill>
                <a:latin typeface="Arial"/>
              </a:rPr>
              <a:t>Skin and mucous membrane color ( cyanosis or pallor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Arial"/>
              </a:rPr>
              <a:t>Positions assumed for breathing ( using of orthopneic positio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Arial"/>
              </a:rPr>
              <a:t>Signs of cerebral anoxia ( irritability , restlessness drowsiness or loss of consciousness )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Arial"/>
              </a:rPr>
              <a:t>Chest movement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Arial"/>
              </a:rPr>
              <a:t>Activity toler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Arial"/>
              </a:rPr>
              <a:t>Chest pain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Arial"/>
              </a:rPr>
              <a:t>Dyspne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Arial"/>
              </a:rPr>
              <a:t>Medication that affect respiration 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7e96ff"/>
              </a:gs>
              <a:gs pos="100000">
                <a:srgbClr val="d9dfff"/>
              </a:gs>
            </a:gsLst>
            <a:lin ang="16200000"/>
          </a:gradFill>
          <a:ln w="9360">
            <a:solidFill>
              <a:srgbClr val="2d61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80"/>
                </a:solidFill>
                <a:latin typeface="Arial"/>
              </a:rPr>
              <a:t>Planning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gradFill rotWithShape="0">
            <a:gsLst>
              <a:gs pos="0">
                <a:srgbClr val="aaaade"/>
              </a:gs>
              <a:gs pos="100000">
                <a:srgbClr val="e8e8f6"/>
              </a:gs>
            </a:gsLst>
            <a:lin ang="16200000"/>
          </a:gradFill>
          <a:ln w="9360">
            <a:solidFill>
              <a:srgbClr val="00008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161616"/>
                </a:solidFill>
                <a:uFillTx/>
                <a:latin typeface="Arial"/>
              </a:rPr>
              <a:t>Equipme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6"/>
                </a:solidFill>
                <a:latin typeface="Arial"/>
              </a:rPr>
              <a:t>Watch with a second or indicator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61616"/>
                </a:solidFill>
                <a:latin typeface="Arial"/>
              </a:rPr>
              <a:t>Implementation 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161616"/>
                </a:solidFill>
                <a:uFillTx/>
                <a:latin typeface="Arial"/>
              </a:rPr>
              <a:t>Prepar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6"/>
                </a:solidFill>
                <a:latin typeface="Arial"/>
              </a:rPr>
              <a:t>For a routine assessment of respiration , determine the client’s activity schedule and choose a suitable time to monitor the respirations . A client who has been  exercising will need to rest for a few minutes to permit the accelerated respiratory rate to return to normal .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aaaade"/>
              </a:gs>
              <a:gs pos="100000">
                <a:srgbClr val="e8e8f6"/>
              </a:gs>
            </a:gsLst>
            <a:lin ang="16200000"/>
          </a:gradFill>
          <a:ln w="9360">
            <a:solidFill>
              <a:srgbClr val="00008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8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80"/>
                </a:solidFill>
                <a:latin typeface="Arial"/>
              </a:rPr>
              <a:t>Implementation 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gradFill rotWithShape="0">
            <a:gsLst>
              <a:gs pos="0">
                <a:srgbClr val="7e96ff"/>
              </a:gs>
              <a:gs pos="100000">
                <a:srgbClr val="d9dfff"/>
              </a:gs>
            </a:gsLst>
            <a:lin ang="16200000"/>
          </a:gradFill>
          <a:ln w="9360">
            <a:solidFill>
              <a:srgbClr val="2d61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575"/>
              </a:spcBef>
              <a:buSzPct val="1289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63636"/>
                </a:solidFill>
                <a:latin typeface="Arial"/>
              </a:rPr>
              <a:t>1- Introduce self , verify the client’s identity ,  never to notify the patient that you will assess respiration 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75"/>
              </a:spcBef>
              <a:buSzPct val="12894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63636"/>
                </a:solidFill>
                <a:latin typeface="Arial"/>
              </a:rPr>
              <a:t>2- Hand washing 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75"/>
              </a:spcBef>
              <a:buSzPct val="12894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63636"/>
                </a:solidFill>
                <a:latin typeface="Arial"/>
              </a:rPr>
              <a:t>3-Provide for client’s privacy 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75"/>
              </a:spcBef>
              <a:buSzPct val="12894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63636"/>
                </a:solidFill>
                <a:latin typeface="Arial"/>
              </a:rPr>
              <a:t>4-Observe and count the respiratory rate 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75"/>
              </a:spcBef>
              <a:buSzPct val="12894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63636"/>
                </a:solidFill>
                <a:latin typeface="Arial"/>
              </a:rPr>
              <a:t>5- Observe the respiration for depth by watching the movement of the chest , observe for regularity 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75"/>
              </a:spcBef>
              <a:buSzPct val="12894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63636"/>
                </a:solidFill>
                <a:latin typeface="Arial"/>
              </a:rPr>
              <a:t>6- Document the respiratory rate , rhythm and depth in an appropriate record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63636"/>
                </a:solidFill>
                <a:latin typeface="Arial"/>
              </a:rPr>
              <a:t>    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SzPct val="12894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7e96ff"/>
              </a:gs>
              <a:gs pos="100000">
                <a:srgbClr val="d9dfff"/>
              </a:gs>
            </a:gsLst>
            <a:lin ang="16200000"/>
          </a:gradFill>
          <a:ln w="9360">
            <a:solidFill>
              <a:srgbClr val="2d61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61616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161616"/>
                </a:solidFill>
                <a:latin typeface="Arial"/>
              </a:rPr>
              <a:t>Evaluation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gradFill rotWithShape="0">
            <a:gsLst>
              <a:gs pos="0">
                <a:srgbClr val="aaaade"/>
              </a:gs>
              <a:gs pos="100000">
                <a:srgbClr val="e8e8f6"/>
              </a:gs>
            </a:gsLst>
            <a:lin ang="16200000"/>
          </a:gradFill>
          <a:ln w="9360">
            <a:solidFill>
              <a:srgbClr val="00008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Relate respiratory rate to other vital signs , in particular pulse , relate respiratory rhythm ,and depth to baseline data and health status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Report to the primary care provider a respiratory rate significantly above or below the normal range and any notable change in respiration from a previous assessment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Conduct appropriate follow up such as administering oxygen, or other medica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gradFill rotWithShape="0">
            <a:gsLst>
              <a:gs pos="0">
                <a:srgbClr val="7e96ff"/>
              </a:gs>
              <a:gs pos="100000">
                <a:srgbClr val="d9dfff"/>
              </a:gs>
            </a:gsLst>
            <a:lin ang="16200000"/>
          </a:gradFill>
          <a:ln w="9360">
            <a:solidFill>
              <a:srgbClr val="2d61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ssessment of Blood Pressur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0" y="1915920"/>
            <a:ext cx="9144000" cy="4941720"/>
          </a:xfrm>
          <a:prstGeom prst="rect">
            <a:avLst/>
          </a:prstGeom>
          <a:solidFill>
            <a:srgbClr val="d6e0ff"/>
          </a:solidFill>
          <a:ln w="9360">
            <a:solidFill>
              <a:srgbClr val="d5d5d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161616"/>
                </a:solidFill>
                <a:uFillTx/>
                <a:latin typeface="Arial"/>
              </a:rPr>
              <a:t>Purpose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Arial"/>
              </a:rPr>
              <a:t>1-To obtain a baseline measure of arterial blood pressure for subsequent evaluation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Arial"/>
              </a:rPr>
              <a:t>2- To determine the client’s hemodynamic status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Arial"/>
              </a:rPr>
              <a:t>3- To identify and monitor changes in blood pressure resulting from a disease processes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3610080" cy="1828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Equi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subTitle"/>
          </p:nvPr>
        </p:nvSpPr>
        <p:spPr>
          <a:xfrm>
            <a:off x="0" y="3428640"/>
            <a:ext cx="428472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hygmomano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314360" indent="-5713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er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314360" indent="-5713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ercu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314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ethosc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7" name="Picture 3" descr=""/>
          <p:cNvPicPr/>
          <p:nvPr/>
        </p:nvPicPr>
        <p:blipFill>
          <a:blip r:embed="rId1"/>
          <a:stretch/>
        </p:blipFill>
        <p:spPr>
          <a:xfrm>
            <a:off x="4375080" y="0"/>
            <a:ext cx="4762440" cy="400536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4" descr="http://aaxispacifichealthcare.com.au/b2b/images/10111412-SM-Mercury%20Sphygmomanometer-Desk-200px.jpg"/>
          <p:cNvPicPr/>
          <p:nvPr/>
        </p:nvPicPr>
        <p:blipFill>
          <a:blip r:embed="rId2"/>
          <a:stretch/>
        </p:blipFill>
        <p:spPr>
          <a:xfrm>
            <a:off x="4211640" y="3817800"/>
            <a:ext cx="49165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4" descr="cuffs"/>
          <p:cNvPicPr/>
          <p:nvPr/>
        </p:nvPicPr>
        <p:blipFill>
          <a:blip r:embed="rId1"/>
          <a:stretch/>
        </p:blipFill>
        <p:spPr>
          <a:xfrm>
            <a:off x="5235480" y="1700280"/>
            <a:ext cx="3429000" cy="413388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4" descr=""/>
          <p:cNvPicPr/>
          <p:nvPr/>
        </p:nvPicPr>
        <p:blipFill>
          <a:blip r:embed="rId2"/>
          <a:stretch/>
        </p:blipFill>
        <p:spPr>
          <a:xfrm>
            <a:off x="457200" y="2276640"/>
            <a:ext cx="4468680" cy="3557520"/>
          </a:xfrm>
          <a:prstGeom prst="rect">
            <a:avLst/>
          </a:prstGeom>
          <a:ln w="0">
            <a:noFill/>
          </a:ln>
        </p:spPr>
      </p:pic>
      <p:sp>
        <p:nvSpPr>
          <p:cNvPr id="811" name="TextBox 6"/>
          <p:cNvSpPr/>
          <p:nvPr/>
        </p:nvSpPr>
        <p:spPr>
          <a:xfrm>
            <a:off x="473040" y="6008760"/>
            <a:ext cx="409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diatr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TextBox 7"/>
          <p:cNvSpPr/>
          <p:nvPr/>
        </p:nvSpPr>
        <p:spPr>
          <a:xfrm>
            <a:off x="4902120" y="6031080"/>
            <a:ext cx="40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ul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TextBox 8"/>
          <p:cNvSpPr/>
          <p:nvPr/>
        </p:nvSpPr>
        <p:spPr>
          <a:xfrm>
            <a:off x="826920" y="1557360"/>
            <a:ext cx="409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phygmomanome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ital sig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59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 signs that provide data to determine a person’s state of healt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ate an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dividual is al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such as temperature,  pulse rate, respiratory rate (TPR), and  blood pressure (BP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3" name="Picture 6" descr="CR-8100P-CO2"/>
          <p:cNvPicPr/>
          <p:nvPr/>
        </p:nvPicPr>
        <p:blipFill>
          <a:blip r:embed="rId3"/>
          <a:stretch/>
        </p:blipFill>
        <p:spPr>
          <a:xfrm>
            <a:off x="4915080" y="1700280"/>
            <a:ext cx="35733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rts of  stethoscop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Earpieces- should fit snugly and follow the natural curve of the ear canal, point toward the face when it is in pl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ubing- 12-18 inches long, longer tubing decreases the transmission of sound w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7" name="Picture 1" descr=""/>
          <p:cNvPicPr/>
          <p:nvPr/>
        </p:nvPicPr>
        <p:blipFill>
          <a:blip r:embed="rId3"/>
          <a:stretch/>
        </p:blipFill>
        <p:spPr>
          <a:xfrm>
            <a:off x="900000" y="4292640"/>
            <a:ext cx="7128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rts of a stethoscop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Diaphragm= circular, flat surface- transmits high pitched sounds ( Bowel, lung, heart soun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Bell= bowl shaped- transmits low pitched sounds (heart and vascular soun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0" name="Picture 1" descr=""/>
          <p:cNvPicPr/>
          <p:nvPr/>
        </p:nvPicPr>
        <p:blipFill>
          <a:blip r:embed="rId3"/>
          <a:stretch/>
        </p:blipFill>
        <p:spPr>
          <a:xfrm>
            <a:off x="900000" y="4292640"/>
            <a:ext cx="7128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fafafa"/>
              </a:gs>
            </a:gsLst>
            <a:lin ang="16200000"/>
          </a:gradFill>
          <a:ln w="9360">
            <a:solidFill>
              <a:srgbClr val="d5d5d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61616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161616"/>
                </a:solidFill>
                <a:latin typeface="Arial"/>
              </a:rPr>
              <a:t>Assessmen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7e96ff"/>
              </a:gs>
              <a:gs pos="100000">
                <a:srgbClr val="d9dfff"/>
              </a:gs>
            </a:gsLst>
            <a:lin ang="16200000"/>
          </a:gradFill>
          <a:ln w="9360">
            <a:solidFill>
              <a:srgbClr val="2d61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Arial"/>
              </a:rPr>
              <a:t>1- Signs &amp; symptoms of hypertension ( headache , ringing in the ears , flushing of the face ,nosebleeds, fatigue 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Arial"/>
              </a:rPr>
              <a:t>2- Signs &amp; symptoms of hypotension ( tachycardia , dizziness, mental confusion , restlessness cool and clammy skin, pale or cyanosis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Arial"/>
              </a:rPr>
              <a:t>3- Factors affecting blood pressure ( stress , activity , pain and time of last caffeine 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Arial"/>
              </a:rPr>
              <a:t>4- Some blood pressure cuffs contains latex . Assess the client for latex allergy and obtain a latex –free cuff if indicated 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3" name="Title 1"/>
          <p:cNvGrpSpPr/>
          <p:nvPr/>
        </p:nvGrpSpPr>
        <p:grpSpPr>
          <a:xfrm>
            <a:off x="0" y="0"/>
            <a:ext cx="9144000" cy="907920"/>
            <a:chOff x="0" y="0"/>
            <a:chExt cx="9144000" cy="907920"/>
          </a:xfrm>
        </p:grpSpPr>
        <p:pic>
          <p:nvPicPr>
            <p:cNvPr id="824" name="Titl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5" name=""/>
            <p:cNvSpPr/>
            <p:nvPr/>
          </p:nvSpPr>
          <p:spPr>
            <a:xfrm>
              <a:off x="0" y="0"/>
              <a:ext cx="9144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161616"/>
                  </a:solidFill>
                  <a:latin typeface="Arial"/>
                </a:rPr>
                <a:t>Planning 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 txBox="1"/>
          <p:nvPr/>
        </p:nvSpPr>
        <p:spPr>
          <a:xfrm>
            <a:off x="0" y="926640"/>
            <a:ext cx="9144000" cy="5410440"/>
          </a:xfrm>
          <a:prstGeom prst="rect">
            <a:avLst/>
          </a:prstGeom>
          <a:gradFill rotWithShape="0">
            <a:gsLst>
              <a:gs pos="0">
                <a:srgbClr val="7e96ff"/>
              </a:gs>
              <a:gs pos="100000">
                <a:srgbClr val="d9dfff"/>
              </a:gs>
            </a:gsLst>
            <a:lin ang="16200000"/>
          </a:gradFill>
          <a:ln w="9360">
            <a:solidFill>
              <a:srgbClr val="2d61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80"/>
                </a:solidFill>
                <a:uFillTx/>
                <a:latin typeface="Arial"/>
              </a:rPr>
              <a:t>Equipment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1- stethoscop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2-Blood pressure cuff (appropriate siz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phygmomanomet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80"/>
                </a:solidFill>
                <a:uFillTx/>
                <a:latin typeface="Arial"/>
              </a:rPr>
              <a:t>Preparation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1-Ensure that the equipment is intact and functioning wel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2- Make sure that the client has not smoked within 30 minute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aaaade"/>
              </a:gs>
              <a:gs pos="100000">
                <a:srgbClr val="e8e8f6"/>
              </a:gs>
            </a:gsLst>
            <a:lin ang="16200000"/>
          </a:gradFill>
          <a:ln w="9360">
            <a:solidFill>
              <a:srgbClr val="00008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mplementat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gradFill rotWithShape="0">
            <a:gsLst>
              <a:gs pos="0">
                <a:srgbClr val="b898ff"/>
              </a:gs>
              <a:gs pos="100000">
                <a:srgbClr val="ebe2ff"/>
              </a:gs>
            </a:gsLst>
            <a:lin ang="16200000"/>
          </a:gradFill>
          <a:ln w="9360">
            <a:solidFill>
              <a:srgbClr val="7741c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80"/>
                </a:solidFill>
                <a:uFillTx/>
                <a:latin typeface="Arial"/>
              </a:rPr>
              <a:t>Preparatio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1-Ensure that the equipment is intact and functioning we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2- Make sure that the client has not smoked within 30 minute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80"/>
                </a:solidFill>
                <a:uFillTx/>
                <a:latin typeface="Arial"/>
              </a:rPr>
              <a:t>Performance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1- Introduce self , verify the client’s identity ,       explain to the client what will you do, why and how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2- Hand washing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3-Provide for client’s privacy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0" name="Picture 2" descr="C:\Users\COMPAQ\Downloads\bp.jpg"/>
          <p:cNvPicPr/>
          <p:nvPr/>
        </p:nvPicPr>
        <p:blipFill>
          <a:blip r:embed="rId1"/>
          <a:stretch/>
        </p:blipFill>
        <p:spPr>
          <a:xfrm>
            <a:off x="5867280" y="0"/>
            <a:ext cx="3276720" cy="285264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3" descr="C:\Users\COMPAQ\Downloads\bp2.jpg"/>
          <p:cNvPicPr/>
          <p:nvPr/>
        </p:nvPicPr>
        <p:blipFill>
          <a:blip r:embed="rId2"/>
          <a:stretch/>
        </p:blipFill>
        <p:spPr>
          <a:xfrm>
            <a:off x="5940360" y="2708280"/>
            <a:ext cx="3203640" cy="414972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4" descr="C:\Users\COMPAQ\Downloads\bp3.jpg"/>
          <p:cNvPicPr/>
          <p:nvPr/>
        </p:nvPicPr>
        <p:blipFill>
          <a:blip r:embed="rId3"/>
          <a:stretch/>
        </p:blipFill>
        <p:spPr>
          <a:xfrm>
            <a:off x="0" y="0"/>
            <a:ext cx="558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gradFill rotWithShape="0">
            <a:gsLst>
              <a:gs pos="0">
                <a:srgbClr val="7e96ff"/>
              </a:gs>
              <a:gs pos="100000">
                <a:srgbClr val="d9dfff"/>
              </a:gs>
            </a:gsLst>
            <a:lin ang="16200000"/>
          </a:gradFill>
          <a:ln w="9360">
            <a:solidFill>
              <a:srgbClr val="2d61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4-Take the accurate reading of blood pressure and Document the finding in the client’s record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5-Hand was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7e96ff"/>
              </a:gs>
              <a:gs pos="100000">
                <a:srgbClr val="d9dfff"/>
              </a:gs>
            </a:gsLst>
            <a:lin ang="16200000"/>
          </a:gradFill>
          <a:ln w="9360">
            <a:solidFill>
              <a:srgbClr val="2d61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valuat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gradFill rotWithShape="0">
            <a:gsLst>
              <a:gs pos="0">
                <a:srgbClr val="cdcdf3"/>
              </a:gs>
              <a:gs pos="100000">
                <a:srgbClr val="f1f1fc"/>
              </a:gs>
            </a:gsLst>
            <a:lin ang="16200000"/>
          </a:gradFill>
          <a:ln w="9360">
            <a:solidFill>
              <a:srgbClr val="a5a5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Arial"/>
              </a:rPr>
              <a:t>1- Relate blood pressure to other vital signs , to baseline data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Arial"/>
              </a:rPr>
              <a:t>2- Report any significant changes in client’s blood pressure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Arial"/>
              </a:rPr>
              <a:t>3- Conduct appropriate follow up , medication administration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5"/>
          <p:cNvSpPr/>
          <p:nvPr/>
        </p:nvSpPr>
        <p:spPr>
          <a:xfrm>
            <a:off x="468360" y="1484280"/>
            <a:ext cx="8424720" cy="4025880"/>
          </a:xfrm>
          <a:prstGeom prst="rect">
            <a:avLst/>
          </a:prstGeom>
          <a:solidFill>
            <a:srgbClr val="3619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900" spc="-1" strike="noStrike">
                <a:solidFill>
                  <a:srgbClr val="ffffff"/>
                </a:solidFill>
                <a:latin typeface="Arial"/>
              </a:rPr>
              <a:t>THANK TOU</a:t>
            </a: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asuring Body Tempera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Purpose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-To establish baseline data for subsequent evaluation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-To identify whether the core body temperature is within normal range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-To determine changes in the core body temperature in response to specific therapies ( antipyretic medication , immunosuppressive drugs, invasive procedure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-To monitor clients at risk for imbalanced body temperature ( clients at risk for infection , or diagnosis of infection , or those who have been exposed to temperature extreme)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solidFill>
            <a:srgbClr val="85a3ff"/>
          </a:solidFill>
          <a:ln w="9360">
            <a:solidFill>
              <a:srgbClr val="000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 of Thermome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605952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ctronic thermome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readings in less than 60 secon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accurate if placed in sublingual poc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 sensor on the end of the thermometer that touches the body part and reads the body’s temperatur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8" name="Picture 5" descr=""/>
          <p:cNvPicPr/>
          <p:nvPr/>
        </p:nvPicPr>
        <p:blipFill>
          <a:blip r:embed="rId4"/>
          <a:stretch/>
        </p:blipFill>
        <p:spPr>
          <a:xfrm>
            <a:off x="6543720" y="12682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5" descr="electronic thermometer"/>
          <p:cNvPicPr/>
          <p:nvPr/>
        </p:nvPicPr>
        <p:blipFill>
          <a:blip r:embed="rId5"/>
          <a:stretch/>
        </p:blipFill>
        <p:spPr>
          <a:xfrm>
            <a:off x="6197760" y="3556080"/>
            <a:ext cx="283500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56991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mpanic membrane thermomet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s the temperature inside of the ea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will read the infrared heat that comes from inside of the ea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pecially appropriate for infants and young child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ings are obtained  in 2 seconds or l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solidFill>
            <a:srgbClr val="85a3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 of Thermome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2" name="Picture 1" descr=""/>
          <p:cNvPicPr/>
          <p:nvPr/>
        </p:nvPicPr>
        <p:blipFill>
          <a:blip r:embed="rId5"/>
          <a:stretch/>
        </p:blipFill>
        <p:spPr>
          <a:xfrm>
            <a:off x="6012000" y="1268280"/>
            <a:ext cx="290340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Picture 4" descr="http://upload.wikimedia.org/wikipedia/commons/9/93/Clinical_thermometer_38.7.JPG"/>
          <p:cNvPicPr/>
          <p:nvPr/>
        </p:nvPicPr>
        <p:blipFill>
          <a:blip r:embed="rId1"/>
          <a:stretch/>
        </p:blipFill>
        <p:spPr>
          <a:xfrm>
            <a:off x="6585120" y="0"/>
            <a:ext cx="2593800" cy="2311560"/>
          </a:xfrm>
          <a:prstGeom prst="rect">
            <a:avLst/>
          </a:prstGeom>
          <a:ln w="0">
            <a:noFill/>
          </a:ln>
        </p:spPr>
      </p:pic>
      <p:sp>
        <p:nvSpPr>
          <p:cNvPr id="754" name="PlaceHolder 1"/>
          <p:cNvSpPr>
            <a:spLocks noGrp="1"/>
          </p:cNvSpPr>
          <p:nvPr>
            <p:ph/>
          </p:nvPr>
        </p:nvSpPr>
        <p:spPr>
          <a:xfrm>
            <a:off x="457200" y="1698120"/>
            <a:ext cx="735480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ass and mercury thermometers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lass tube with mercury inside of the tub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ube goes underneath the tongue and the body temperature will cause the mercury to rise inside the tub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just throw away a mercury thermomet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6275520" cy="1143000"/>
          </a:xfrm>
          <a:prstGeom prst="rect">
            <a:avLst/>
          </a:prstGeom>
          <a:solidFill>
            <a:srgbClr val="85a3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 of Thermome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tes for taking the Tempera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58" name=""/>
          <p:cNvGraphicFramePr/>
          <p:nvPr/>
        </p:nvGraphicFramePr>
        <p:xfrm>
          <a:off x="457200" y="963720"/>
          <a:ext cx="8229600" cy="5316480"/>
        </p:xfrm>
        <a:graphic>
          <a:graphicData uri="http://schemas.openxmlformats.org/drawingml/2006/table">
            <a:tbl>
              <a:tblPr/>
              <a:tblGrid>
                <a:gridCol w="1403280"/>
                <a:gridCol w="2243160"/>
                <a:gridCol w="4583160"/>
              </a:tblGrid>
              <a:tr h="74520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ANTAG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ADVANTAG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230400">
                <a:tc rowSpan="2"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 rowSpan="2"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Accessible and conveni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Thermometers can be brok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Inaccurate if client has just ingested hot or cold fluid, or smok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228240">
                <a:tc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57200">
                <a:tc rowSpan="3"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 rowSpan="3"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Reliable measurem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Inconvenient and more unpleasant; difficult for client who cannot  turn to si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22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Could injure the rectum following surge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5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Presence of stool may interfere with thermometer placem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228600">
                <a:tc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228600">
                <a:tc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XILLA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Safe and noninvasiv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Thermometer must be left in place  for a long tim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228600">
                <a:tc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57200">
                <a:tc rowSpan="2"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MPANIC MEMBRAN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 rowSpan="2"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Readily accessible; reflects the core temperature, very fa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Can be uncomfortable  and involves risk of injuring the membrane if inserted too f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23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Presence of cerumen can affect the read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228600">
                <a:tc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456120">
                <a:tc rowSpan="2"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MPORAL ARTE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 rowSpan="3"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Safe and non invasive , very fa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Requires electronic equipment (expensive / unavailable) 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17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Variation in technique if the client has perspiration on the forehe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27828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 txBox="1"/>
          <p:nvPr/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0" name="Picture 3" descr="Oral-temp[1].jpg"/>
          <p:cNvPicPr/>
          <p:nvPr/>
        </p:nvPicPr>
        <p:blipFill>
          <a:blip r:embed="rId3"/>
          <a:stretch/>
        </p:blipFill>
        <p:spPr>
          <a:xfrm>
            <a:off x="223920" y="1727280"/>
            <a:ext cx="1904760" cy="141912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4" descr="babytemp_ArticleImage.jpg"/>
          <p:cNvPicPr/>
          <p:nvPr/>
        </p:nvPicPr>
        <p:blipFill>
          <a:blip r:embed="rId4"/>
          <a:stretch/>
        </p:blipFill>
        <p:spPr>
          <a:xfrm>
            <a:off x="179280" y="4221000"/>
            <a:ext cx="3240360" cy="238140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5" descr="u11472324.jpg"/>
          <p:cNvPicPr/>
          <p:nvPr/>
        </p:nvPicPr>
        <p:blipFill>
          <a:blip r:embed="rId5"/>
          <a:stretch/>
        </p:blipFill>
        <p:spPr>
          <a:xfrm>
            <a:off x="6781680" y="1090440"/>
            <a:ext cx="2159280" cy="21592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6" descr="tympanic-thermometer-how-it-worksjw.jpg"/>
          <p:cNvPicPr/>
          <p:nvPr/>
        </p:nvPicPr>
        <p:blipFill>
          <a:blip r:embed="rId6"/>
          <a:stretch/>
        </p:blipFill>
        <p:spPr>
          <a:xfrm>
            <a:off x="6232680" y="3571920"/>
            <a:ext cx="2790720" cy="304812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7" descr="nurse-holding-rectal_~NU107003.jpg"/>
          <p:cNvPicPr/>
          <p:nvPr/>
        </p:nvPicPr>
        <p:blipFill>
          <a:blip r:embed="rId7"/>
          <a:stretch/>
        </p:blipFill>
        <p:spPr>
          <a:xfrm>
            <a:off x="2641680" y="1477800"/>
            <a:ext cx="3673440" cy="2708280"/>
          </a:xfrm>
          <a:prstGeom prst="rect">
            <a:avLst/>
          </a:prstGeom>
          <a:ln w="0">
            <a:noFill/>
          </a:ln>
        </p:spPr>
      </p:pic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85a3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tes for taking theTempera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r.Irene Roco</dc:creator>
  <dc:description/>
  <dc:language>en-US</dc:language>
  <cp:lastModifiedBy>IRENE ROCO</cp:lastModifiedBy>
  <dcterms:modified xsi:type="dcterms:W3CDTF">2015-09-04T13:39:55Z</dcterms:modified>
  <cp:revision>107</cp:revision>
  <dc:subject/>
  <dc:title>PowerPoint Presentation</dc:title>
</cp:coreProperties>
</file>