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3.png" ContentType="image/png"/>
  <Override PartName="/ppt/media/image1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307-3A12-40C8-A867-AA85B3A9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AE-C7E2-46DE-8A19-CF5A6AC8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DFD5B-4892-4630-B3D2-76C682C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4C313-7916-4010-A8AD-3862480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433E9-70B5-4616-9019-945C8A6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E10ED-5A2E-40E8-A9EF-497288F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9328A-BF83-484E-923E-2036F58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7EDE9-BBB6-4D57-952D-8E6BCE6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15A46-5B89-453C-91D8-125D8924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1997D-A389-44A4-8E59-7EAC804E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A67A6-E73A-4D2C-B2D3-2CA1A59B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28C32-86A2-462A-9CA6-CD50CC53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0D6-37F2-4A6E-8947-D298D7CF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7CA05-6FE1-4F72-982E-800A64D5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5B9F4-223E-4521-8132-14628E7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0C6A8-F5C8-4A86-BB58-EB0A83E6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914CC-EC7E-48B5-99FE-38DE18D2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92B92-678C-4E94-85F8-B6749DC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43173-E524-4FA2-B273-1A19EA7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AB86C-56B9-47B6-BE45-A9209C4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EE582-9457-485A-9830-06F4527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B372B-09BB-4270-93F3-2145E2E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B0E4F-2582-408C-8321-8763541D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7F4-330C-42FB-AE3F-1DBB41B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06E99-863A-4742-B0A9-2273E53E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DBD6B-F04D-4289-8937-D0F14F4A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FA9B2-0540-47F1-BAC7-7E97EE2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21FCB-8EC1-4F24-8B95-556EC87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5A952-2958-4EDC-9135-DEFC8F31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FED44-CF81-4266-A86B-BB164100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62C45-BF00-49BC-A360-B1185EC8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7FBFB-3188-45B1-816F-74862A0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EF587-BAED-4355-833F-7F11A6B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9382-94AE-4964-BA79-BB940E8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65B7-A0C7-43DB-B4FC-728ACB55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7A241-30BE-4541-8FB0-06D011A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BD223-1D1C-4D93-A174-D5577AC6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83585-21F9-4491-883D-CEDF7824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6CB04-0415-4043-8B6A-2CB80146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099EB-8A34-4FDB-9FC7-9F05766B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F1DD2-8DAD-4164-BECC-EFB74CD0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67AD1-88FE-4D39-A905-E7544301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2BF93-E345-485F-B406-6742FDC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562E4-AC43-4126-A207-3AB0BE2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F3D1C-3B37-46D3-AA90-2EB591A7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A65C-8817-417E-A4CA-8E9CC87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0CCC7-3A0B-40F2-9D45-FFA3311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33EDF-8EE7-4216-8846-81409F3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355C8-0FF2-4CFF-B86E-946A50C6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B2DEC-D8F4-41F3-B60F-AB9BE4F9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DF197-6234-4590-9528-BC813B0C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A492D-696F-4C3F-B8E6-4EB1E561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99B2C-26C7-44F7-B621-8D9361CC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F746D-5487-49BC-B6CB-5486CBDC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81C30-172F-4C30-9211-72CBAA15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2EF19-1FD3-44B0-99C9-FD8F132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A425-539E-466A-AEA0-97B33ED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73508-7DF7-4ED9-BB90-01CC5F6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B7264-8F94-4BD0-8A9D-567B1F9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8495F-C4FB-4911-A73B-1407B7A6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69865-2C6A-4AD3-A880-492EF7F6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FD07F-662C-4754-AD1D-3014C82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398E3-C165-4DEC-8538-28A5DC90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56A37-C5D4-4C3C-96D4-F1AC07DE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7A6BE-7399-44F1-97B5-80678586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2AB57-6D67-4505-AD74-38C72952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DC0B7-1BB1-47AE-88CA-25A7DE2D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6FC2-FBA1-478C-935D-C7932589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F8F90-E39A-4D7B-A392-DD136A3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BABAF-2BF4-419C-AACB-383627C9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7773B-60CC-4417-9655-B43E506B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4C94C-EAC8-4CE0-9E5F-A379DA1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300DE-649E-4BF2-B0BA-30405D6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EF959-9340-48E6-B7D1-458E8BD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43A8E-8D4F-4F3C-BC2A-DA40065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09C74-BB90-4FB7-B9F4-1A8363A5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6ADAD-FA7D-4CC2-9304-E4229B10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B50A3-389B-4284-B8CB-E916571F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6CE6-7D11-4899-A86A-6EE6FBA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2CBE7-D6AA-41DC-B45E-21CD94B7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C01BC-913C-463F-BD41-F180B60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198D3-2082-41B4-8D6C-766F0A6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4E537-F2F8-4A10-81E6-D3240526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8CBAA-785E-485F-B9C2-3CB30FA2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28ABC-BB9D-4ED7-8018-4198732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5F231-9E1C-482A-B42D-7651045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6FDB4-C7B0-44A0-BB02-1D0F848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6F738-B372-48B4-90AB-F05FEDB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623E7-D153-4892-B4D3-99F5EEDF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373E-E48E-4AF3-96D9-C06974DE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06967-CD5A-40D8-8DB8-D270A62A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93254-82ED-4B22-921C-F82DC9DD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56823-F4AC-4090-A232-2722B1B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AA1DB-458E-425C-844E-0745DEDA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4BE79-4543-42E3-8807-2584C67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A3865-AD13-4585-80D5-2DB3B09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83898-D3E8-46E6-B497-89D254FF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00838-CCC4-4BE0-8B7D-011DD67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4CA3F-9A80-45F0-8F33-39C0965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9D079-E561-4372-82A0-8B9F30C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48DF-3595-4DC1-8FF9-58066DFB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A28E0-9F19-4DAE-BD5E-D9019624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96D82-5EFE-4976-8585-7371ED8E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1DD39-3C1A-460B-9975-31E166CD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95D-D216-4ABC-A342-F7DE96F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6B3A-62E8-42C3-9DC4-F9CBD5F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5F83-36C5-4592-9AE8-12C4BA0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DD1-AE21-4574-B344-317CAB9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193A-9397-48E7-94DF-2999CB2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8A28-DAFE-46E1-A1C3-7E5BEE82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2184-469E-4259-9FB6-282B162E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F550-5672-4B6F-9DC3-BFDAA86F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A7CF-FEE8-446A-829A-E060AE5F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ECF4-DBC7-4417-A31B-12FE0F39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07D1-60CA-4FBA-AF43-9C1A7CF4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D25-4B1D-4681-B20B-4B3339E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2286-A1B0-4A8E-B1E8-FB1A2FFD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BC48-622D-498E-ADAA-1C5F6E0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B7D8-91B1-4E97-BC6C-B712D258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04C8-7FB3-47B8-A9A3-1D067C9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FD7D-9403-4013-88EE-AD432660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6484-52B3-495D-908B-FC2B36CB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EF7F-3FD7-47F7-82CE-366A7767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20A1-A2B4-4A95-A677-FDE07D80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985A-3942-4D03-A7FD-EB3F3BAF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D738-E37D-4CE6-88FA-631C9E5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2D3-897C-45F2-B534-0B279BA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4AEF-1F21-49DF-85A3-2DE72E68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9BA9E-F92B-45E8-BAFC-806A8FC6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0D9B-7110-485C-A172-DB1548AE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6ED1-4001-4D38-A539-D499924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BE79-DBC5-4E53-B762-D3EB6C1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E73B-1A70-4B3F-9089-4B9D1BB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D50F-C473-4F1B-AA33-CA13F47D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B4ED-64C2-4C54-B84D-56398A6F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AE72-5B42-4560-9476-EEE93314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C2CB1-0C1F-4E97-9AB1-3B6202D8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828-CAFE-43FB-B65C-034128F7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785D-DFE6-4425-A976-713E46F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E014-6B43-4EB0-B331-1C32001B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FDD20-CEBA-4838-858B-5EF7063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3D62-AE9B-420B-9ABB-28CD99B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2440-0FD3-46EA-9E53-377A2FE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62A7-C90A-442B-87D2-A5AEE2C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6DCE-609C-4DEF-8718-61D4917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BD5E-1395-4403-8792-F2138F0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A75F-4A66-4210-84A3-AA1AF42E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7351-6DA9-4FE1-B4CC-EA8D855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60E-6C58-4E29-B41D-7479F2C9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9222-9D23-4824-A687-2615BB6C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C454-C953-46BF-877B-40292804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D4112-476A-4594-BF18-9A5A2444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9981D-24DC-48BE-B2D1-BD3479D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8E80-B0B6-4559-B18B-0E06695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E26ED-908A-49E8-B640-8D3AC6F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B6698-7172-488F-816E-C80C4FC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87CA6-AC08-4C9F-943A-323B3C08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F7A2-298E-42D1-A96A-93784BF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3BE4B-6CA5-4D4F-8494-CDFEB8A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594-4BB2-45F5-A235-A9A42C9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EF34-5742-444C-BF0D-5857D605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F7A9-459F-4BA3-AA75-8BEBD5A1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98E1-4B38-448C-A472-721D6A98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2202-AC56-46EE-AB34-77173476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C2B7-CFC1-4B00-B101-C626258A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05C0-4F45-4193-B1C2-874902DB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2BFD5-28AC-4882-9C41-DEAFC006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E798-799B-4084-8B91-6A84FED3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A1709-B70D-4E95-A525-6347C2E8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F37CE-4E28-4B0F-9681-446F9F45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122-F62F-446F-8A2C-8A57762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4AFE-8C36-4940-9074-18437A8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BC7E-9EE5-4C9E-8831-651FE876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80623-19E1-466E-938A-B975422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E5FF0-EACD-4A67-8651-7C33F10D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A290-0E4C-4FE3-88F2-EAAA4A59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F892-1444-4B19-9A47-B7DE9FED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60571-9A09-485E-A7BF-8999FF3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1E3A-0B54-436F-AA9E-6ADFD102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2F256-A837-4C1F-A0DA-C1256CD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E0425-D7B0-499A-9C45-B7C25732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263-C8A9-4517-9054-9111EA0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1922-0E87-4964-928C-8678D6C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50E5-BEF5-4F81-9A11-D38D377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3C0D0-9429-41DE-B1ED-E8B3C4A3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3629-B907-4F7E-BDB7-5D12882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1D09-C68D-4F28-A1C4-C09C7538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28CE-CC56-436E-99E8-44153166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87019-2D82-46FA-B3F5-54349559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FDCDC-E03B-4057-91D0-356787A3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28732-0385-4A34-98C0-CA7F9DB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2E21-D6BF-4EEF-9774-2233140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B6B-879E-423C-A156-2F3C637A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226E-F667-49DE-8EB4-232D33EE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B5F-A1D5-4FB5-BEAB-D669C2E71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846-9A2C-43D2-B75A-BE4C43CC8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C5C-A1E7-41BC-B53A-C709EF62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66DE-D791-4583-9381-EE11F2AB0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F617-671D-40EB-821D-0495E801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539D-6D20-43A8-9222-C463B2133A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013-892C-496A-9B44-6FA1637E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CA6-4B52-4614-85E8-0D05AE34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2D6-A7FB-4BF5-B3E2-8208C760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34A-88EE-4451-B4A3-EC7F4DD6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838A-5373-45C9-BDE9-36DAFE26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460C-9158-4ACC-AD90-18B42B7C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27E7-0266-4F5B-BDD6-91DF884B9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BBC7-2094-4EAF-88F5-50F5D06D9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7" descr="vital%20sign%20orp%20meter"/>
          <p:cNvPicPr/>
          <p:nvPr/>
        </p:nvPicPr>
        <p:blipFill>
          <a:blip r:embed="rId1"/>
          <a:stretch/>
        </p:blipFill>
        <p:spPr>
          <a:xfrm>
            <a:off x="5435640" y="476280"/>
            <a:ext cx="3522600" cy="4824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5338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peripheral Pul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identify baseline and whether the pulse rate is within normal range and the pulse rhythm is regular and the pulse volume is appropriat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Pulse sit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Content Placeholder 3" descr="http://t0.gstatic.com/images?q=tbn:ANd9GcTnBelL9WIVpIek6IJe7WlO2I6xkQ_rFfzHYuR0DQp27H9KM1OK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Content Placeholder 3" descr="graphic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666ff"/>
          </a:solidFill>
          <a:ln w="25560">
            <a:solidFill>
              <a:srgbClr val="7c7c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3b3ff"/>
          </a:solidFill>
          <a:ln w="9360">
            <a:solidFill>
              <a:srgbClr val="2d61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6- Palpate and count the pulse . Place 3 or 2 middle fingers lightly and squarely over the pulse poi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7- Count for 15 seconds and multiply by 4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8- Record the pulse on the workshee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9- Assess the pulse rhythm and strengt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0- Document the pulse rate on the patient’s reco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1- Hand was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C-Assessment of Respir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61616"/>
                </a:solidFill>
                <a:uFillTx/>
                <a:latin typeface="Arial"/>
              </a:rPr>
              <a:t>Purposes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To acquire baseline data and monitor abnormal respiration and respiratory patterns against which future measurements can be com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Planning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rial"/>
              </a:rPr>
              <a:t>Implementa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repa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For a routine assessment of respiration , determine the client’s activity schedule and choose a suitable time to monitor the respirations . A client who has been  exercising will need to rest for a few minutes to permit the accelerated respiratory rate to return to normal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consider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3636"/>
                </a:solidFill>
                <a:latin typeface="Arial"/>
              </a:rPr>
              <a:t>never to notify the patient that you will assess respiration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3636"/>
                </a:solidFill>
                <a:latin typeface="Arial"/>
              </a:rPr>
              <a:t>count the respiratory rate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3636"/>
                </a:solidFill>
                <a:latin typeface="Arial"/>
              </a:rPr>
              <a:t>5Observe the respiration for depth regularity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Blood Press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d6e0ff"/>
          </a:soli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1-To obtain a baseline measure of arterial blood pressure and monitor changes in blood pressure for subsequent evalu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3610080" cy="1828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qui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428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er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rc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tho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3" descr=""/>
          <p:cNvPicPr/>
          <p:nvPr/>
        </p:nvPicPr>
        <p:blipFill>
          <a:blip r:embed="rId1"/>
          <a:stretch/>
        </p:blipFill>
        <p:spPr>
          <a:xfrm>
            <a:off x="4375080" y="0"/>
            <a:ext cx="4762440" cy="4005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http://aaxispacifichealthcare.com.au/b2b/images/10111412-SM-Mercury%20Sphygmomanometer-Desk-200px.jpg"/>
          <p:cNvPicPr/>
          <p:nvPr/>
        </p:nvPicPr>
        <p:blipFill>
          <a:blip r:embed="rId2"/>
          <a:stretch/>
        </p:blipFill>
        <p:spPr>
          <a:xfrm>
            <a:off x="4211640" y="3817800"/>
            <a:ext cx="491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4" descr="cuffs"/>
          <p:cNvPicPr/>
          <p:nvPr/>
        </p:nvPicPr>
        <p:blipFill>
          <a:blip r:embed="rId1"/>
          <a:stretch/>
        </p:blipFill>
        <p:spPr>
          <a:xfrm>
            <a:off x="5235480" y="1700280"/>
            <a:ext cx="3429000" cy="41338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" descr=""/>
          <p:cNvPicPr/>
          <p:nvPr/>
        </p:nvPicPr>
        <p:blipFill>
          <a:blip r:embed="rId2"/>
          <a:stretch/>
        </p:blipFill>
        <p:spPr>
          <a:xfrm>
            <a:off x="457200" y="2276640"/>
            <a:ext cx="4468680" cy="3557520"/>
          </a:xfrm>
          <a:prstGeom prst="rect">
            <a:avLst/>
          </a:prstGeom>
          <a:ln w="0">
            <a:noFill/>
          </a:ln>
        </p:spPr>
      </p:pic>
      <p:sp>
        <p:nvSpPr>
          <p:cNvPr id="788" name="TextBox 6"/>
          <p:cNvSpPr/>
          <p:nvPr/>
        </p:nvSpPr>
        <p:spPr>
          <a:xfrm>
            <a:off x="473040" y="60087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at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7"/>
          <p:cNvSpPr/>
          <p:nvPr/>
        </p:nvSpPr>
        <p:spPr>
          <a:xfrm>
            <a:off x="4902120" y="603108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u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8"/>
          <p:cNvSpPr/>
          <p:nvPr/>
        </p:nvSpPr>
        <p:spPr>
          <a:xfrm>
            <a:off x="826920" y="15573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l Sign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a stethosco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aphragm= circular, flat surface- transmits high pitched sounds ( Bowel, lung, heart sou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ell= bowl shaped- transmits low pitched sounds (heart and vascular s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712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Title 1"/>
          <p:cNvGrpSpPr/>
          <p:nvPr/>
        </p:nvGrpSpPr>
        <p:grpSpPr>
          <a:xfrm>
            <a:off x="0" y="0"/>
            <a:ext cx="9144000" cy="907920"/>
            <a:chOff x="0" y="0"/>
            <a:chExt cx="9144000" cy="907920"/>
          </a:xfrm>
        </p:grpSpPr>
        <p:pic>
          <p:nvPicPr>
            <p:cNvPr id="796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8" name=""/>
          <p:cNvSpPr txBox="1"/>
          <p:nvPr/>
        </p:nvSpPr>
        <p:spPr>
          <a:xfrm>
            <a:off x="0" y="926640"/>
            <a:ext cx="9144000" cy="54104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repar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- Make sure that the client has not smoked within 30 minut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2" descr="C:\Users\COMPAQ\Downloads\bp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" descr="C:\Users\COMPAQ\Downloads\bp2.jpg"/>
          <p:cNvPicPr/>
          <p:nvPr/>
        </p:nvPicPr>
        <p:blipFill>
          <a:blip r:embed="rId2"/>
          <a:stretch/>
        </p:blipFill>
        <p:spPr>
          <a:xfrm>
            <a:off x="5940360" y="2708280"/>
            <a:ext cx="3203640" cy="4149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C:\Users\COMPAQ\Downloads\bp3.jpg"/>
          <p:cNvPicPr/>
          <p:nvPr/>
        </p:nvPicPr>
        <p:blipFill>
          <a:blip r:embed="rId3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5"/>
          <p:cNvSpPr/>
          <p:nvPr/>
        </p:nvSpPr>
        <p:spPr>
          <a:xfrm>
            <a:off x="468360" y="1484280"/>
            <a:ext cx="8424720" cy="4025880"/>
          </a:xfrm>
          <a:prstGeom prst="rect">
            <a:avLst/>
          </a:prstGeom>
          <a:solidFill>
            <a:srgbClr val="361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THANK TOU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tal 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igns that provide data to determine a person’s state of 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is al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temperature,  pulse rate, respiratory rate (TPR), and  blood pressure (BP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6" descr="CR-8100P-CO2"/>
          <p:cNvPicPr/>
          <p:nvPr/>
        </p:nvPicPr>
        <p:blipFill>
          <a:blip r:embed="rId3"/>
          <a:stretch/>
        </p:blipFill>
        <p:spPr>
          <a:xfrm>
            <a:off x="4915080" y="1700280"/>
            <a:ext cx="3573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asuring Body 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Purposes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stablish baseline data for subsequent evalu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identify whether the core body temperature is within normal range or not (e.g. infection)  and response to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60595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ic thermo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ccurate if placed in sublingual poc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2"/>
          <a:stretch/>
        </p:blipFill>
        <p:spPr>
          <a:xfrm>
            <a:off x="6543720" y="1268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5" descr="electronic thermometer"/>
          <p:cNvPicPr/>
          <p:nvPr/>
        </p:nvPicPr>
        <p:blipFill>
          <a:blip r:embed="rId3"/>
          <a:stretch/>
        </p:blipFill>
        <p:spPr>
          <a:xfrm>
            <a:off x="6197760" y="3556080"/>
            <a:ext cx="2835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mpanic membrane thermome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temperature inside of the 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appropriate for infants and you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2903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http://upload.wikimedia.org/wikipedia/commons/9/93/Clinical_thermometer_38.7.JPG"/>
          <p:cNvPicPr/>
          <p:nvPr/>
        </p:nvPicPr>
        <p:blipFill>
          <a:blip r:embed="rId1"/>
          <a:stretch/>
        </p:blipFill>
        <p:spPr>
          <a:xfrm>
            <a:off x="6585120" y="0"/>
            <a:ext cx="2593800" cy="2311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7354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and mercury thermometers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ass tube with mercury inside of the 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309600" y="583920"/>
            <a:ext cx="627552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tes for taking th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08000" y="963720"/>
          <a:ext cx="8856720" cy="5705280"/>
        </p:xfrm>
        <a:graphic>
          <a:graphicData uri="http://schemas.openxmlformats.org/drawingml/2006/table">
            <a:tbl>
              <a:tblPr/>
              <a:tblGrid>
                <a:gridCol w="1509840"/>
                <a:gridCol w="2414520"/>
                <a:gridCol w="4932360"/>
              </a:tblGrid>
              <a:tr h="7999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768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ccessible and conveni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s can be brok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accurate if client has just ingested hot or cold fluid, or smo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44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0320"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liable measu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363636"/>
                          </a:solidFill>
                          <a:latin typeface="Arial"/>
                        </a:rPr>
                        <a:t>(lateral or sim’s positio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nvenient and more unpleasant; difficult for client who cannot  turn to s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uld injure the rectum following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stool may interfere with thermometer plac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44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444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XILL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inva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 must be left in place  for a long ti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62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8888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MPANIC MEMBRA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ily accessible; reflects the core temperature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an be uncomfortable  and involves risk of injuring the membrane if inserted too 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cerumen can affect the 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4588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8924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L ART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 invasive 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quires electronic equipment (expensive / unavailable) 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tion in technique if the client has perspiration on the foreh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984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Picture 3" descr="Oral-temp[1].jpg"/>
          <p:cNvPicPr/>
          <p:nvPr/>
        </p:nvPicPr>
        <p:blipFill>
          <a:blip r:embed="rId3"/>
          <a:stretch/>
        </p:blipFill>
        <p:spPr>
          <a:xfrm>
            <a:off x="223920" y="172728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babytemp_ArticleImage.jpg"/>
          <p:cNvPicPr/>
          <p:nvPr/>
        </p:nvPicPr>
        <p:blipFill>
          <a:blip r:embed="rId4"/>
          <a:stretch/>
        </p:blipFill>
        <p:spPr>
          <a:xfrm>
            <a:off x="179280" y="4221000"/>
            <a:ext cx="3240360" cy="2381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u11472324.jpg"/>
          <p:cNvPicPr/>
          <p:nvPr/>
        </p:nvPicPr>
        <p:blipFill>
          <a:blip r:embed="rId5"/>
          <a:stretch/>
        </p:blipFill>
        <p:spPr>
          <a:xfrm>
            <a:off x="6781680" y="109044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tympanic-thermometer-how-it-worksjw.jpg"/>
          <p:cNvPicPr/>
          <p:nvPr/>
        </p:nvPicPr>
        <p:blipFill>
          <a:blip r:embed="rId6"/>
          <a:stretch/>
        </p:blipFill>
        <p:spPr>
          <a:xfrm>
            <a:off x="6232680" y="3571920"/>
            <a:ext cx="2790720" cy="3048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7" descr="nurse-holding-rectal_~NU107003.jpg"/>
          <p:cNvPicPr/>
          <p:nvPr/>
        </p:nvPicPr>
        <p:blipFill>
          <a:blip r:embed="rId7"/>
          <a:stretch/>
        </p:blipFill>
        <p:spPr>
          <a:xfrm>
            <a:off x="2641680" y="1477800"/>
            <a:ext cx="3673440" cy="2708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tes for taking the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Irene Roco</dc:creator>
  <dc:description/>
  <dc:language>en-US</dc:language>
  <cp:lastModifiedBy>Administrator</cp:lastModifiedBy>
  <dcterms:modified xsi:type="dcterms:W3CDTF">2016-02-03T19:45:12Z</dcterms:modified>
  <cp:revision>114</cp:revision>
  <dc:subject/>
  <dc:title>PowerPoint Presentation</dc:title>
</cp:coreProperties>
</file>