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19.png" ContentType="image/pn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3.png" ContentType="image/png"/>
  <Override PartName="/ppt/media/image1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D41-61C0-43FB-91EE-CDB98C76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107-DEEC-4137-A01E-447606CB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E0447-8CF3-4202-900E-C57A89C1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7DE2C-3FBA-4ED5-99E8-D7C528F0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E74FC-883F-40CA-9AC0-8887DCFA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21247-AE10-468D-AD2A-698E3F41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A4A01-0C7E-4C37-A09E-A9C70ED5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78422-20EE-4CE9-A45F-EA1604B0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7457B-6238-474F-9E79-D8B71008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0BB56-FBD0-4076-A4C3-9B653659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FF2B8-8D96-438F-92A1-B40093B0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99A86-E1F3-41F9-BD13-629F77B2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36D-1566-4AB0-9D41-36A43723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3B4B4-763B-47E6-B356-06CF8729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8A3A2-23D9-4BE5-B2E1-B353DEC5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91346-BACF-4CB3-B8D7-FB748520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008A7-87B9-498E-A34C-A8C44DE0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548A5-7309-44A1-B8C6-650CD473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57F07-6392-4BA7-84D3-B28A5B66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90F7C-FF01-4568-A744-C66311C2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B1D58-82F6-48A8-AD74-F69546C1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AFAB8-81C1-46E7-87C8-A0EB7742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D9237-23B0-48FA-9464-DEA84107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8E6-A00B-4001-A534-DF76730E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986EA-E8EF-4310-AD7D-333577FE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9BA6F-3F58-479F-903A-E3BCC180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4CC5C-6EB1-4246-A4C4-B690DDD6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50175-7A2F-4BD0-A727-039479AE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907CB-D6A4-4A47-AD44-01309B9D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321EA-D34E-4727-90B5-69350499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C59D4-AE62-49E2-A4C7-812D4DCA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16DDA-5C6F-4671-A97C-877F64F6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3225F-49FE-41DB-832D-FE05AC1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E3E59-52AC-4F7E-8377-5897E902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B038-A19A-4E75-B8A6-E35FA3C5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1CD6A-DF15-4DEA-81E1-C096556E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E65DE-0FE1-4A60-9B31-5BF73CD9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9D770-6445-4946-8BE8-3723B286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9EC70-E615-457A-87E0-051E3112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9AFF9-B23D-4911-B247-9568899F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B224C-F4D9-4110-910B-8AEF40E3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5C985-0414-43CF-A796-B699F536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6D07A-D3E7-491A-BB44-8DA1632E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80766-CAF3-41CA-A0A4-DB3B358E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8A8CA-F660-4A0A-8E3A-4B601AC8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A115-6912-436F-90A6-54B119BE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82E4F-C076-4806-A81A-B13B466D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FAB2E-5177-452F-85C0-D2FEFDAD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9329C-F9C1-4A55-9BA1-5B2EE22A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577F0-E4D9-43BE-8590-178E22C9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969F6-A74F-4039-9C1F-23BB1191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CAE21-0EC1-4600-B61C-969BC6BF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CB70F-77CA-486C-90C7-DF5BA22C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0B2E1-BC25-4DE2-AFE0-BE4FD10C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B5A21-3D4F-470D-BD5B-7C4D8D36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EF7EA-C95F-4D9B-8A05-FC207C3F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1FDE-5408-451B-BA84-DAE96B2B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4C524-9940-469A-8DDB-5AD2FA7D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9D265-9757-47B3-8BF9-8E4319A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FB633-EC0B-4008-940D-CE4C5526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2A159-3D35-4DE1-A7F0-495122A5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B018F-534A-437E-B04A-F8CF7CB0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546E1-7F1C-4F3C-AE83-0A384DB1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2F023-E7DA-40F7-89C3-51637E04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9B7DB-74C5-42C0-A747-1FC53FF7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5D558-D4DE-42C8-BD8A-5E8895B8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770C3-94FF-4204-B0E2-37D931E0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14E5-C1B9-4D32-87C9-4DA75EC5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FEBE3-C38B-43B6-B694-A4283998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F8366-286F-430E-8CB8-0372D983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E7D77-0A87-4204-BCFE-D1D03598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6CFFF-F30B-49EB-9B5D-32971E67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E6346-F314-4E64-82A6-79C174F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0A395-2DD8-44A2-8292-BAC2E52E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0FECE-AC18-4687-A99F-ECF306E8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D5E8E-E87E-47B9-A602-C3342FE7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67164-1D9C-4209-A4E8-6C7FC3D2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3E7CC-F5DE-4546-A066-F865DE42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C4DA-70CD-45EC-9A54-E0C952B3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586C6-5992-441D-9AA5-E4EC8AAA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3C0F7-018C-4B58-983E-8E7F6E2E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45108-6AA2-4AC0-88FF-4ED3801A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D50E1-6E8E-4804-9537-924399AF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E71FD1-3414-4509-B52E-6757224B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491F4-BAE0-48CC-8100-CC0EB1AF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4597C9-5AE8-4FFD-A9C3-197C4E37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B6950-A545-47A5-898C-8CEC3FF2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B0E78-DA12-4271-B759-D83199A2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9D8FF-73F6-42FD-AD75-78CAE7A1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FF1A-538B-46B5-80AF-0A6ADB1F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13018-A7FC-459C-B753-9F62573E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133E24-586F-4925-B889-6F0FE358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B5892C-E6C9-4ABF-9A7F-B057094D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271C9-E84A-476C-ACA1-2C1270F5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101A7-6F31-4C51-A16B-265C9E31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9FAA6-C0BB-4FB8-A72E-0BA04AB1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4CD6C-231F-4144-A2D8-1DE79700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0EB36-0A35-43E5-99B4-58F6D0D2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7DF229-69F4-4347-95BA-34515A38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57AC28-37E2-4FB4-A5B0-27BC0721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0D69-0DF9-4B73-B3AD-976696FE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4CF203-BEBA-4344-B2F3-162443FB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DE64C-2788-49D2-966E-4DF6992D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A63CE1-6A9E-4361-A91A-D3240379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8BE-91C1-412D-812C-860CDD55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04F1-28C3-4E15-93CE-23DACAE0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5393-1B9A-4F2E-ABBB-3210D35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4BB2-7918-4F97-992F-BEF3B475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7373-4685-4BBE-89D8-67BA73BF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702E-88A1-45B7-8D20-36C37102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42783-8661-4DFC-99D9-754A1D65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5271-DB3C-4F3C-B973-1C13FE0A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DDB6-F8AA-47E3-8D5E-6AD253B3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05F3C-82FD-4DD2-A7E6-388FA84A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275D-D12D-41C5-AD13-9F66AA44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AA5-A497-4F41-B1F2-CE584EAF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0548-3EAB-4D25-8EBE-16B2E125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2FA4-3D59-47C6-B485-68C8F47A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5DD1-6B20-4D6A-8584-C74F8BCC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D492F-F468-4EBD-BA5A-7AACA21E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4ECF-C86B-48E7-AE07-25A23A33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601AB-CBF2-4B6D-A62B-CCDEDA74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B3797-44D1-4146-A37C-A8B6E3D1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5421E-77C3-4C5B-99F8-6BD708D0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E38C6-ECC0-4DB9-AB44-15A8E8AD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68462-DFA7-4FBE-AF1A-4B9479F4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533-F61D-4554-8294-770488CB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19A65-CCE6-4993-B26C-FAB0C3EA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5435-1481-4DFB-8690-AC03A012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82305-6CCF-4683-9C0D-0904428D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665BD-3C35-4355-B7A8-25E8B684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94FA8-D64A-46BF-A07E-E770C1BF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A9B81-E03C-469C-8377-265F8965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233C-D1A8-4F4D-A5EA-48C98D86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E4AA0-E457-4F68-96E5-04328AAC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2E532-A874-4FED-8000-E94613E0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4532B-0D53-4826-813C-786D4FF9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F6E-8906-4AD0-8247-A6965FC2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A2198-BA17-439D-92FE-8A24B28D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AAF6C-AF4D-4047-96DB-B2BA2D17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EC75E-1F73-4EB4-9256-26B85E57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45E40-90D3-4370-9A07-9A45B715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4B9B1-0649-498B-8B54-84D938DD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D568C-AEFE-44AE-8857-4A13B4DD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17456-5CA5-4A22-A8B5-6D722A51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F6F58-D8F6-4868-A91C-8D1C0645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2DF0B-B3C5-492F-884D-585617A4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C4DB8-B73A-46C7-8D18-D189C332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09E-5ECB-403F-A909-5B03B789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66ECE-3387-498A-9DD3-7D547020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7F6B5-9131-4CE2-8A3A-F3783B44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7468B-74FC-4ABA-A733-EEFE1EF6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F11E4-1B7C-4348-86B3-893321D9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C60F4-144A-4F2E-B762-5AB03F8F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ADB13-56E8-48CA-8440-30068177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88041-A072-4200-9A38-864E8954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90787-76FB-47E9-8B97-9E8E7158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3BB8A-DC5D-4087-AB31-D7C9A929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E8513-9D51-4565-93E6-93ABF022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05B-6F90-4B99-A731-7383267A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D347-3815-41C2-9ABB-BDFC26B7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1226E-FE14-47D3-8890-D11F78E1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E480D-4093-49EA-8FF6-CFB92320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32305-4FCF-47E6-94EE-08530A01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BDE12-25E1-4A5D-90E0-ADB82875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289B4-16DD-4C1A-AE4C-EB3158A7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CB37B-F374-4BD1-8E3E-7C48CF7A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904CF-238B-4C8F-A1C7-F147D7CD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3F918-4636-4A42-8A1E-396F3FA2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02CAC-516A-42CD-9DD2-7CB0154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740-E390-454A-A642-E048FA70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87663-04E7-4E7C-990A-A129D29E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08504-7A15-4DEE-A83F-6D2D0B60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DDCD4-E2C6-4F59-9737-E93051B4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3EF63-DFA4-4D04-92A8-032C3022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44172-2F69-4C62-9EB6-40566860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A17C0-2424-4327-9D34-B3C410A9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0D61F-5FB0-4DAF-926B-AFB066BE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CFAAF-4305-4027-9813-6398D8A0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BD9C7-3025-4DD2-AC91-116846AD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EA170-7890-459F-8FD9-32B9AAED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33D-A277-40A4-99B6-4096346B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6E45E-FACF-4063-9141-73823A01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995FA-B45A-434F-AD53-EE1DD7CD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A1B62-9933-461D-9496-6BA979F6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71868-9E2A-4620-9A97-97C3694E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1A593-8DB7-4A98-B6B9-E8B57F80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C7CF5-A6D8-4F3B-96B5-4523ED0E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876D5-6372-4865-896E-602ACF29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B7CD8-8D88-4CD2-8BB2-67BC06E5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56FF5-080E-4F75-AE97-30F31386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BA5E1-55AB-4185-8F49-E0730C0A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F5F1-22DF-4EF2-B924-A5C9E3D13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3EF2-C56C-4661-BF66-085C6FC43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1579-86A8-4139-AFBE-338779ADF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FF38-24E7-4396-92BD-20E610D4C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6355-5C7C-496E-B15A-AF99F9AEA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6718-DA2B-4491-B879-FAF6DFB9C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BF1E-C91F-45F7-B488-EDC485CA2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02A1-8283-40E2-8843-B90E6A7EBC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A60C-AE8A-4994-8E9E-C95978ECE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13C8-53F3-4565-A07A-EB951A474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59BA-40DE-4547-BAD3-BC1514B4D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7C6B-0678-4A1E-A752-9671211F4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CAA4-9D57-4FA8-927F-663748DB7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E0B8-8908-46CA-9D58-5FFD8600C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F158-4CC6-4DCD-B311-724377861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29BE-15EE-45C6-A719-20E9485C8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7" descr="vital%20sign%20orp%20meter"/>
          <p:cNvPicPr/>
          <p:nvPr/>
        </p:nvPicPr>
        <p:blipFill>
          <a:blip r:embed="rId1"/>
          <a:stretch/>
        </p:blipFill>
        <p:spPr>
          <a:xfrm>
            <a:off x="5435640" y="476280"/>
            <a:ext cx="3522600" cy="482436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5338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tal sig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ssment of peripheral Pul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</a:rPr>
              <a:t>Purpos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identify baseline and whether the pulse rate is within normal range and the pulse rhythm is regular and the pulse volume is appropriat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Pulse site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9" name="Content Placeholder 3" descr="http://t0.gstatic.com/images?q=tbn:ANd9GcTnBelL9WIVpIek6IJe7WlO2I6xkQ_rFfzHYuR0DQp27H9KM1OK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Content Placeholder 3" descr="graphic0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666ff"/>
          </a:solidFill>
          <a:ln w="25560">
            <a:solidFill>
              <a:srgbClr val="7c7c9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lementation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b3b3ff"/>
          </a:solidFill>
          <a:ln w="9360">
            <a:solidFill>
              <a:srgbClr val="2d61f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6- Palpate and count the pulse . Place 3 or 2 middle fingers lightly and squarely over the pulse poi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7- Count for 15 seconds and multiply by 4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8- Record the pulse on the workshee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9- Assess the pulse rhythm and strength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10- Document the pulse rate on the patient’s recor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11- Hand wash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Arial"/>
              </a:rPr>
              <a:t>C-Assessment of Respiration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61616"/>
                </a:solidFill>
                <a:uFillTx/>
                <a:latin typeface="Arial"/>
              </a:rPr>
              <a:t>Purposes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To acquire baseline data and monitor abnormal respiration and respiratory patterns against which future measurements can be com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Planning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1616"/>
                </a:solidFill>
                <a:latin typeface="Arial"/>
              </a:rPr>
              <a:t>Implementation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</a:rPr>
              <a:t>Prepar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For a routine assessment of respiration , determine the client’s activity schedule and choose a suitable time to monitor the respirations . A client who has been  exercising will need to rest for a few minutes to permit the accelerated respiratory rate to return to normal 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consider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8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63636"/>
                </a:solidFill>
                <a:latin typeface="Arial"/>
              </a:rPr>
              <a:t>never to notify the patient that you will assess respiration. 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63636"/>
                </a:solidFill>
                <a:latin typeface="Arial"/>
              </a:rPr>
              <a:t>count the respiratory rate 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63636"/>
                </a:solidFill>
                <a:latin typeface="Arial"/>
              </a:rPr>
              <a:t>5Observe the respiration for depth regularity 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ssment of Blood Press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0" y="1915920"/>
            <a:ext cx="9144000" cy="4941720"/>
          </a:xfrm>
          <a:prstGeom prst="rect">
            <a:avLst/>
          </a:prstGeom>
          <a:solidFill>
            <a:srgbClr val="d6e0ff"/>
          </a:soli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61616"/>
                </a:solidFill>
                <a:uFillTx/>
                <a:latin typeface="Arial"/>
              </a:rPr>
              <a:t>Purpos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1-To obtain a baseline measure of arterial blood pressure and monitor changes in blood pressure for subsequent evalu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3610080" cy="1828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qui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4284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hygmomano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er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rcu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14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etho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Picture 3" descr=""/>
          <p:cNvPicPr/>
          <p:nvPr/>
        </p:nvPicPr>
        <p:blipFill>
          <a:blip r:embed="rId1"/>
          <a:stretch/>
        </p:blipFill>
        <p:spPr>
          <a:xfrm>
            <a:off x="4375080" y="0"/>
            <a:ext cx="4762440" cy="40053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" descr="http://aaxispacifichealthcare.com.au/b2b/images/10111412-SM-Mercury%20Sphygmomanometer-Desk-200px.jpg"/>
          <p:cNvPicPr/>
          <p:nvPr/>
        </p:nvPicPr>
        <p:blipFill>
          <a:blip r:embed="rId2"/>
          <a:stretch/>
        </p:blipFill>
        <p:spPr>
          <a:xfrm>
            <a:off x="4211640" y="3817800"/>
            <a:ext cx="4916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4" descr="cuffs"/>
          <p:cNvPicPr/>
          <p:nvPr/>
        </p:nvPicPr>
        <p:blipFill>
          <a:blip r:embed="rId1"/>
          <a:stretch/>
        </p:blipFill>
        <p:spPr>
          <a:xfrm>
            <a:off x="5235480" y="1700280"/>
            <a:ext cx="3429000" cy="41338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4" descr=""/>
          <p:cNvPicPr/>
          <p:nvPr/>
        </p:nvPicPr>
        <p:blipFill>
          <a:blip r:embed="rId2"/>
          <a:stretch/>
        </p:blipFill>
        <p:spPr>
          <a:xfrm>
            <a:off x="457200" y="2276640"/>
            <a:ext cx="4468680" cy="3557520"/>
          </a:xfrm>
          <a:prstGeom prst="rect">
            <a:avLst/>
          </a:prstGeom>
          <a:ln w="0">
            <a:noFill/>
          </a:ln>
        </p:spPr>
      </p:pic>
      <p:sp>
        <p:nvSpPr>
          <p:cNvPr id="788" name="TextBox 6"/>
          <p:cNvSpPr/>
          <p:nvPr/>
        </p:nvSpPr>
        <p:spPr>
          <a:xfrm>
            <a:off x="473040" y="600876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diatr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Box 7"/>
          <p:cNvSpPr/>
          <p:nvPr/>
        </p:nvSpPr>
        <p:spPr>
          <a:xfrm>
            <a:off x="4902120" y="603108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ul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Box 8"/>
          <p:cNvSpPr/>
          <p:nvPr/>
        </p:nvSpPr>
        <p:spPr>
          <a:xfrm>
            <a:off x="826920" y="155736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hygmomanome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tal Signs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s of a stethosco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iaphragm= circular, flat surface- transmits high pitched sounds ( Bowel, lung, heart sou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ell= bowl shaped- transmits low pitched sounds (heart and vascular sou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7128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Title 1"/>
          <p:cNvGrpSpPr/>
          <p:nvPr/>
        </p:nvGrpSpPr>
        <p:grpSpPr>
          <a:xfrm>
            <a:off x="0" y="0"/>
            <a:ext cx="9144000" cy="907920"/>
            <a:chOff x="0" y="0"/>
            <a:chExt cx="9144000" cy="907920"/>
          </a:xfrm>
        </p:grpSpPr>
        <p:pic>
          <p:nvPicPr>
            <p:cNvPr id="796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0" y="0"/>
              <a:ext cx="9144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8" name=""/>
          <p:cNvSpPr txBox="1"/>
          <p:nvPr/>
        </p:nvSpPr>
        <p:spPr>
          <a:xfrm>
            <a:off x="0" y="926640"/>
            <a:ext cx="9144000" cy="541044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Prepar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2- Make sure that the client has not smoked within 30 minute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0" name="Picture 2" descr="C:\Users\COMPAQ\Downloads\bp.jpg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85264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3" descr="C:\Users\COMPAQ\Downloads\bp2.jpg"/>
          <p:cNvPicPr/>
          <p:nvPr/>
        </p:nvPicPr>
        <p:blipFill>
          <a:blip r:embed="rId2"/>
          <a:stretch/>
        </p:blipFill>
        <p:spPr>
          <a:xfrm>
            <a:off x="5940360" y="2708280"/>
            <a:ext cx="3203640" cy="4149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C:\Users\COMPAQ\Downloads\bp3.jpg"/>
          <p:cNvPicPr/>
          <p:nvPr/>
        </p:nvPicPr>
        <p:blipFill>
          <a:blip r:embed="rId3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5"/>
          <p:cNvSpPr/>
          <p:nvPr/>
        </p:nvSpPr>
        <p:spPr>
          <a:xfrm>
            <a:off x="468360" y="1484280"/>
            <a:ext cx="8424720" cy="4025880"/>
          </a:xfrm>
          <a:prstGeom prst="rect">
            <a:avLst/>
          </a:prstGeom>
          <a:solidFill>
            <a:srgbClr val="361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THANK TOU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tal 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signs that provide data to determine a person’s state of heal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a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vidual is al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temperature,  pulse rate, respiratory rate (TPR), and  blood pressure (BP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" name="Picture 6" descr="CR-8100P-CO2"/>
          <p:cNvPicPr/>
          <p:nvPr/>
        </p:nvPicPr>
        <p:blipFill>
          <a:blip r:embed="rId3"/>
          <a:stretch/>
        </p:blipFill>
        <p:spPr>
          <a:xfrm>
            <a:off x="4915080" y="1700280"/>
            <a:ext cx="3573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asuring Body Temp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Purposes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establish baseline data for subsequent evalua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identify whether the core body temperature is within normal range or not (e.g. infection)  and response to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solidFill>
            <a:srgbClr val="85a3ff"/>
          </a:solidFill>
          <a:ln w="93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Thermo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60595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ic thermo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ccurate if placed in sublingual pock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Picture 5" descr=""/>
          <p:cNvPicPr/>
          <p:nvPr/>
        </p:nvPicPr>
        <p:blipFill>
          <a:blip r:embed="rId2"/>
          <a:stretch/>
        </p:blipFill>
        <p:spPr>
          <a:xfrm>
            <a:off x="6543720" y="1268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5" descr="electronic thermometer"/>
          <p:cNvPicPr/>
          <p:nvPr/>
        </p:nvPicPr>
        <p:blipFill>
          <a:blip r:embed="rId3"/>
          <a:stretch/>
        </p:blipFill>
        <p:spPr>
          <a:xfrm>
            <a:off x="6197760" y="3556080"/>
            <a:ext cx="2835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mpanic membrane thermome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temperature inside of the 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appropriate for infants and young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solidFill>
            <a:srgbClr val="85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Thermo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6012000" y="1268280"/>
            <a:ext cx="2903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http://upload.wikimedia.org/wikipedia/commons/9/93/Clinical_thermometer_38.7.JPG"/>
          <p:cNvPicPr/>
          <p:nvPr/>
        </p:nvPicPr>
        <p:blipFill>
          <a:blip r:embed="rId1"/>
          <a:stretch/>
        </p:blipFill>
        <p:spPr>
          <a:xfrm>
            <a:off x="6585120" y="0"/>
            <a:ext cx="2593800" cy="231156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7354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ss and mercury thermometers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lass tube with mercury inside of the tub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309600" y="583920"/>
            <a:ext cx="6275520" cy="1143000"/>
          </a:xfrm>
          <a:prstGeom prst="rect">
            <a:avLst/>
          </a:prstGeom>
          <a:solidFill>
            <a:srgbClr val="85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Thermo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tes for taking the Temp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108000" y="963720"/>
          <a:ext cx="8856720" cy="5705280"/>
        </p:xfrm>
        <a:graphic>
          <a:graphicData uri="http://schemas.openxmlformats.org/drawingml/2006/table">
            <a:tbl>
              <a:tblPr/>
              <a:tblGrid>
                <a:gridCol w="1509840"/>
                <a:gridCol w="2414520"/>
                <a:gridCol w="4932360"/>
              </a:tblGrid>
              <a:tr h="7999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7680"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ccessible and conveni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hermometers can be brok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accurate if client has just ingested hot or cold fluid, or smo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4444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90320">
                <a:tc rowSpan="3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3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liable measur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363636"/>
                          </a:solidFill>
                          <a:latin typeface="Arial"/>
                        </a:rPr>
                        <a:t>(lateral or sim’s positio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convenient and more unpleasant; difficult for client who cannot  turn to si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uld injure the rectum following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esence of stool may interfere with thermometer plac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4444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24444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XILLA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afe and noninva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hermometer must be left in place  for a long ti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4624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88880"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MPANIC MEMBRA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adily accessible; reflects the core temperature, very f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an be uncomfortable  and involves risk of injuring the membrane if inserted too 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esence of cerumen can affect the read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24588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89240"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ORAL ART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3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afe and non invasive , very f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quires electronic equipment (expensive / unavailable) 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tion in technique if the client has perspiration on the foreh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9844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0" name="Picture 3" descr="Oral-temp[1].jpg"/>
          <p:cNvPicPr/>
          <p:nvPr/>
        </p:nvPicPr>
        <p:blipFill>
          <a:blip r:embed="rId3"/>
          <a:stretch/>
        </p:blipFill>
        <p:spPr>
          <a:xfrm>
            <a:off x="223920" y="172728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" descr="babytemp_ArticleImage.jpg"/>
          <p:cNvPicPr/>
          <p:nvPr/>
        </p:nvPicPr>
        <p:blipFill>
          <a:blip r:embed="rId4"/>
          <a:stretch/>
        </p:blipFill>
        <p:spPr>
          <a:xfrm>
            <a:off x="179280" y="4221000"/>
            <a:ext cx="3240360" cy="23814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5" descr="u11472324.jpg"/>
          <p:cNvPicPr/>
          <p:nvPr/>
        </p:nvPicPr>
        <p:blipFill>
          <a:blip r:embed="rId5"/>
          <a:stretch/>
        </p:blipFill>
        <p:spPr>
          <a:xfrm>
            <a:off x="6781680" y="109044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tympanic-thermometer-how-it-worksjw.jpg"/>
          <p:cNvPicPr/>
          <p:nvPr/>
        </p:nvPicPr>
        <p:blipFill>
          <a:blip r:embed="rId6"/>
          <a:stretch/>
        </p:blipFill>
        <p:spPr>
          <a:xfrm>
            <a:off x="6232680" y="3571920"/>
            <a:ext cx="2790720" cy="30481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7" descr="nurse-holding-rectal_~NU107003.jpg"/>
          <p:cNvPicPr/>
          <p:nvPr/>
        </p:nvPicPr>
        <p:blipFill>
          <a:blip r:embed="rId7"/>
          <a:stretch/>
        </p:blipFill>
        <p:spPr>
          <a:xfrm>
            <a:off x="2641680" y="1477800"/>
            <a:ext cx="3673440" cy="270828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85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tes for taking theTemp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Irene Roco</dc:creator>
  <dc:description/>
  <dc:language>en-US</dc:language>
  <cp:lastModifiedBy>Administrator</cp:lastModifiedBy>
  <dcterms:modified xsi:type="dcterms:W3CDTF">2016-02-03T19:45:12Z</dcterms:modified>
  <cp:revision>114</cp:revision>
  <dc:subject/>
  <dc:title>PowerPoint Presentation</dc:title>
</cp:coreProperties>
</file>