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304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70080" y="5752800"/>
            <a:ext cx="1046304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70080" y="254160"/>
            <a:ext cx="10463040" cy="112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7008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56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70080" y="5752800"/>
            <a:ext cx="1046304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304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70080" y="5752800"/>
            <a:ext cx="1046304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7008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56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7800" y="276876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5520" y="276876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70080" y="575280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7800" y="575280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5520" y="575280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7008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56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70080" y="2768760"/>
            <a:ext cx="10463040" cy="57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304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70080" y="254160"/>
            <a:ext cx="10463040" cy="112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7008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56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70080" y="5752800"/>
            <a:ext cx="1046304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304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70080" y="5752800"/>
            <a:ext cx="1046304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7008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56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7800" y="276876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5520" y="276876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70080" y="575280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7800" y="575280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5520" y="575280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7800" y="276876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5520" y="276876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70080" y="575280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7800" y="575280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5520" y="575280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70080" y="2768760"/>
            <a:ext cx="10463040" cy="57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304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70080" y="254160"/>
            <a:ext cx="10463040" cy="112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7008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56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70080" y="5752800"/>
            <a:ext cx="1046304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304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70080" y="5752800"/>
            <a:ext cx="1046304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7008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56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7800" y="276876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5520" y="276876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70080" y="575280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7800" y="575280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5520" y="575280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70080" y="2768760"/>
            <a:ext cx="10463040" cy="57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304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70080" y="254160"/>
            <a:ext cx="10463040" cy="112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7008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70080" y="2768760"/>
            <a:ext cx="10463040" cy="57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56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70080" y="5752800"/>
            <a:ext cx="1046304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304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70080" y="5752800"/>
            <a:ext cx="1046304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7008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56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7800" y="276876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5520" y="276876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70080" y="575280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7800" y="575280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5520" y="575280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70080" y="2768760"/>
            <a:ext cx="10463040" cy="57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304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304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70080" y="254160"/>
            <a:ext cx="10463040" cy="112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7008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56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70080" y="5752800"/>
            <a:ext cx="1046304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304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70080" y="5752800"/>
            <a:ext cx="1046304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7008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56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800" y="276876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5520" y="276876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70080" y="575280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7800" y="575280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5520" y="575280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70080" y="2768760"/>
            <a:ext cx="10463040" cy="57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304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70080" y="254160"/>
            <a:ext cx="10463040" cy="112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7008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56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70080" y="5752800"/>
            <a:ext cx="1046304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304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70080" y="5752800"/>
            <a:ext cx="1046304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7008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56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7800" y="276876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5520" y="276876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70080" y="575280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7800" y="575280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5520" y="575280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70080" y="254160"/>
            <a:ext cx="10463040" cy="112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7008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70080" y="2768760"/>
            <a:ext cx="10463040" cy="57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56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70080" y="5752800"/>
            <a:ext cx="1046304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304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70080" y="5752800"/>
            <a:ext cx="1046304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7008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56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7800" y="276876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5520" y="276876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70080" y="575280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7800" y="575280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5520" y="575280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70080" y="2768760"/>
            <a:ext cx="10463040" cy="57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304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304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70080" y="254160"/>
            <a:ext cx="10463040" cy="112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7008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56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70080" y="5752800"/>
            <a:ext cx="1046304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304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70080" y="5752800"/>
            <a:ext cx="1046304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7008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56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7800" y="276876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5520" y="276876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70080" y="575280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7800" y="575280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5520" y="575280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70080" y="2768760"/>
            <a:ext cx="10463040" cy="57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304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70080" y="254160"/>
            <a:ext cx="10463040" cy="112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7008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56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70080" y="5752800"/>
            <a:ext cx="1046304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304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70080" y="5752800"/>
            <a:ext cx="1046304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7008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56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7800" y="276876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5520" y="276876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70080" y="575280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7800" y="575280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5520" y="575280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70080" y="2768760"/>
            <a:ext cx="10463040" cy="57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304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70080" y="254160"/>
            <a:ext cx="10463040" cy="112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7008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56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70080" y="5752800"/>
            <a:ext cx="1046304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304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70080" y="5752800"/>
            <a:ext cx="1046304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7008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56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70080" y="254160"/>
            <a:ext cx="10463040" cy="112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7800" y="276876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5520" y="276876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70080" y="575280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7800" y="575280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5520" y="575280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70080" y="2768760"/>
            <a:ext cx="10463040" cy="57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304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70080" y="254160"/>
            <a:ext cx="10463040" cy="112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7008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56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70080" y="5752800"/>
            <a:ext cx="1046304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7008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304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70080" y="5752800"/>
            <a:ext cx="1046304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7008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56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7800" y="276876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5520" y="276876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70080" y="575280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7800" y="575280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5520" y="575280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70080" y="2768760"/>
            <a:ext cx="10463040" cy="57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304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70080" y="254160"/>
            <a:ext cx="10463040" cy="112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7008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56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56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70080" y="5752800"/>
            <a:ext cx="1046304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304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70080" y="5752800"/>
            <a:ext cx="1046304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7008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56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800" y="276876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5520" y="276876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70080" y="575280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7800" y="575280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5520" y="575280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70080" y="2768760"/>
            <a:ext cx="10463040" cy="57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304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70080" y="5752800"/>
            <a:ext cx="1046304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70080" y="254160"/>
            <a:ext cx="10463040" cy="112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7008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56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70080" y="5752800"/>
            <a:ext cx="1046304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304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70080" y="5752800"/>
            <a:ext cx="1046304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560" y="276876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7008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560" y="5752800"/>
            <a:ext cx="5105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7800" y="276876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5520" y="276876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70080" y="575280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7800" y="575280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5520" y="5752800"/>
            <a:ext cx="3368880" cy="2724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70080" y="2768760"/>
            <a:ext cx="10463040" cy="57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70080" y="2768760"/>
            <a:ext cx="1046304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70080" y="5028840"/>
            <a:ext cx="10463040" cy="1128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88920" indent="-8892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88920" indent="-8892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88920" indent="-8892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88920" indent="-8892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88920" indent="-8892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88920" indent="-8892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70080" y="1638360"/>
            <a:ext cx="10463040" cy="330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760"/>
            <a:ext cx="504036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267480" indent="0">
              <a:spcBef>
                <a:spcPts val="3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267480" indent="-267480">
              <a:spcBef>
                <a:spcPts val="38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267480" indent="-267480">
              <a:spcBef>
                <a:spcPts val="38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267480" indent="-267480">
              <a:spcBef>
                <a:spcPts val="38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67480" indent="-2674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67480" indent="-2674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67480" indent="-2674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70080" y="2768760"/>
            <a:ext cx="1046304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301680" indent="0">
              <a:spcBef>
                <a:spcPts val="3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301680" indent="-301680">
              <a:spcBef>
                <a:spcPts val="38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301680" indent="-301680">
              <a:spcBef>
                <a:spcPts val="38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301680" indent="-301680">
              <a:spcBef>
                <a:spcPts val="38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301680" indent="-3016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301680" indent="-3016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301680" indent="-3016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0" y="2768760"/>
            <a:ext cx="396072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7000"/>
          </a:bodyPr>
          <a:p>
            <a:pPr marL="229680" indent="0">
              <a:spcBef>
                <a:spcPts val="3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229680" indent="-229680">
              <a:spcBef>
                <a:spcPts val="38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229680" indent="-229680">
              <a:spcBef>
                <a:spcPts val="38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229680" indent="-229680">
              <a:spcBef>
                <a:spcPts val="38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9680" indent="-2296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9680" indent="-2296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9680" indent="-2296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760"/>
            <a:ext cx="504036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267480" indent="0">
              <a:spcBef>
                <a:spcPts val="38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267480" indent="-267480">
              <a:spcBef>
                <a:spcPts val="38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267480" indent="-267480">
              <a:spcBef>
                <a:spcPts val="38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267480" indent="-267480">
              <a:spcBef>
                <a:spcPts val="38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67480" indent="-2674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67480" indent="-2674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67480" indent="-2674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70080" y="2768760"/>
            <a:ext cx="10463040" cy="571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305280" indent="0"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305280" indent="-305280">
              <a:spcBef>
                <a:spcPts val="24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305280" indent="-3052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305280" indent="-305280">
              <a:spcBef>
                <a:spcPts val="24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305280" indent="-30528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305280" indent="-30528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305280" indent="-305280">
              <a:spcBef>
                <a:spcPts val="24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70080" y="2971440"/>
            <a:ext cx="10463040" cy="38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70080" y="1269720"/>
            <a:ext cx="10463040" cy="7211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298440" indent="0">
              <a:spcBef>
                <a:spcPts val="4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298440" indent="-298440">
              <a:spcBef>
                <a:spcPts val="4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298440" indent="-298440">
              <a:spcBef>
                <a:spcPts val="4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98440" indent="-298440">
              <a:spcBef>
                <a:spcPts val="4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98440" indent="-298440">
              <a:spcBef>
                <a:spcPts val="4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98440" indent="-298440">
              <a:spcBef>
                <a:spcPts val="4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98440" indent="-298440">
              <a:spcBef>
                <a:spcPts val="4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70080" y="7365600"/>
            <a:ext cx="10463040" cy="17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70080" y="7365600"/>
            <a:ext cx="10463040" cy="170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5840" cy="330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5840" cy="330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5840" cy="330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5840" cy="330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70080" y="254160"/>
            <a:ext cx="10463040" cy="2436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phygmomanometer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livepage.apple.com/" TargetMode="External"/><Relationship Id="rId2" Type="http://schemas.openxmlformats.org/officeDocument/2006/relationships/hyperlink" Target="http://livepage.apple.com/" TargetMode="External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66320" y="1828440"/>
            <a:ext cx="10464840" cy="4025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515600"/>
              </a:tabLst>
            </a:pPr>
            <a:br>
              <a:rPr sz="58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2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5156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2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5156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69720" y="817884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2520" tIns="50760" bIns="50760" anchor="t">
            <a:normAutofit/>
          </a:bodyPr>
          <a:p>
            <a:pPr lvl="1" marL="52560" indent="0" algn="ctr">
              <a:lnSpc>
                <a:spcPct val="100000"/>
              </a:lnSpc>
              <a:buNone/>
              <a:tabLst>
                <a:tab algn="l" pos="0"/>
                <a:tab algn="l" pos="52560"/>
                <a:tab algn="l" pos="966960"/>
                <a:tab algn="l" pos="1881360"/>
                <a:tab algn="l" pos="2795760"/>
                <a:tab algn="l" pos="3710160"/>
                <a:tab algn="l" pos="4624560"/>
                <a:tab algn="l" pos="5538960"/>
                <a:tab algn="l" pos="6453360"/>
                <a:tab algn="l" pos="7367760"/>
                <a:tab algn="l" pos="8282160"/>
                <a:tab algn="l" pos="9196560"/>
                <a:tab algn="l" pos="10110960"/>
                <a:tab algn="l" pos="10134720"/>
                <a:tab algn="l" pos="10515600"/>
              </a:tabLst>
            </a:pPr>
            <a:r>
              <a:rPr b="0" lang="en-US" sz="1800" spc="-1" strike="noStrike">
                <a:solidFill>
                  <a:srgbClr val="a40800"/>
                </a:solidFill>
                <a:latin typeface="Times New Roman Bold"/>
                <a:ea typeface="Times New Roman Bold"/>
              </a:rPr>
              <a:t>Mashael Alsufyani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52560" indent="0" algn="ctr">
              <a:lnSpc>
                <a:spcPct val="100000"/>
              </a:lnSpc>
              <a:buNone/>
              <a:tabLst>
                <a:tab algn="l" pos="0"/>
                <a:tab algn="l" pos="52560"/>
                <a:tab algn="l" pos="966960"/>
                <a:tab algn="l" pos="1881360"/>
                <a:tab algn="l" pos="2795760"/>
                <a:tab algn="l" pos="3710160"/>
                <a:tab algn="l" pos="4624560"/>
                <a:tab algn="l" pos="5538960"/>
                <a:tab algn="l" pos="6453360"/>
                <a:tab algn="l" pos="7367760"/>
                <a:tab algn="l" pos="8282160"/>
                <a:tab algn="l" pos="9196560"/>
                <a:tab algn="l" pos="10110960"/>
                <a:tab algn="l" pos="10134720"/>
                <a:tab algn="l" pos="10515600"/>
              </a:tabLst>
            </a:pPr>
            <a:r>
              <a:rPr b="0" lang="en-US" sz="1800" spc="-1" strike="noStrike">
                <a:solidFill>
                  <a:srgbClr val="a40800"/>
                </a:solidFill>
                <a:latin typeface="Times New Roman Bold"/>
                <a:ea typeface="Times New Roman Bold"/>
              </a:rPr>
              <a:t>M.S.N ,community Health Nursing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52560" indent="0" algn="ctr">
              <a:lnSpc>
                <a:spcPct val="100000"/>
              </a:lnSpc>
              <a:buNone/>
              <a:tabLst>
                <a:tab algn="l" pos="0"/>
                <a:tab algn="l" pos="52560"/>
                <a:tab algn="l" pos="966960"/>
                <a:tab algn="l" pos="1881360"/>
                <a:tab algn="l" pos="2795760"/>
                <a:tab algn="l" pos="3710160"/>
                <a:tab algn="l" pos="4624560"/>
                <a:tab algn="l" pos="5538960"/>
                <a:tab algn="l" pos="6453360"/>
                <a:tab algn="l" pos="7367760"/>
                <a:tab algn="l" pos="8282160"/>
                <a:tab algn="l" pos="9196560"/>
                <a:tab algn="l" pos="10110960"/>
                <a:tab algn="l" pos="10134720"/>
                <a:tab algn="l" pos="10515600"/>
              </a:tabLst>
            </a:pPr>
            <a:r>
              <a:rPr b="0" lang="en-US" sz="1800" spc="-1" strike="noStrike">
                <a:solidFill>
                  <a:srgbClr val="a40800"/>
                </a:solidFill>
                <a:latin typeface="Times New Roman Bold"/>
                <a:ea typeface="Times New Roman Bold"/>
              </a:rPr>
              <a:t>Nursing lecturer, King Saud University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1592280" y="169920"/>
            <a:ext cx="9831240" cy="702468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1881360" y="7257960"/>
            <a:ext cx="9258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2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How to Measure Vital Sign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1955880" y="1409760"/>
            <a:ext cx="9080280" cy="773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00280" y="876240"/>
            <a:ext cx="10464480" cy="243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515600"/>
              </a:tabLst>
            </a:pPr>
            <a:r>
              <a:rPr b="0" lang="en-US" sz="4800" spc="-1" strike="noStrike">
                <a:solidFill>
                  <a:srgbClr val="002d99"/>
                </a:solidFill>
                <a:latin typeface="Times New Roman Bold"/>
                <a:ea typeface="Times New Roman Bold"/>
              </a:rPr>
              <a:t>How to Take Pulse</a:t>
            </a:r>
            <a:br>
              <a:rPr sz="48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5156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5156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47280" y="2019240"/>
            <a:ext cx="11557080" cy="7886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740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134720"/>
                <a:tab algn="l" pos="108586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ce two or three fingers over the radial artery (in the wrist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740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134720"/>
                <a:tab algn="l" pos="108586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 beats for 60 seconds using watch or clock with a second hand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740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134720"/>
                <a:tab algn="l" pos="108586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ormal heart rate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 – 100/ minute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740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134720"/>
                <a:tab algn="l" pos="108586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unt beats if pulse is irregula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740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134720"/>
                <a:tab algn="l" pos="108586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 and report any irregularit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1269720" y="13586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356040" indent="-2502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38120"/>
                <a:tab algn="l" pos="1352520"/>
                <a:tab algn="l" pos="2266920"/>
                <a:tab algn="l" pos="3181320"/>
                <a:tab algn="l" pos="4095720"/>
                <a:tab algn="l" pos="5010120"/>
                <a:tab algn="l" pos="5924520"/>
                <a:tab algn="l" pos="6838920"/>
                <a:tab algn="l" pos="7753320"/>
                <a:tab algn="l" pos="8667720"/>
                <a:tab algn="l" pos="9582120"/>
                <a:tab algn="l" pos="10134720"/>
                <a:tab algn="l" pos="105156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 Bold"/>
                <a:ea typeface="Times New Roman Bold"/>
              </a:rPr>
              <a:t>Normal heart rate</a:t>
            </a: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 – 100/ minute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56040" indent="-250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38120"/>
                <a:tab algn="l" pos="1352520"/>
                <a:tab algn="l" pos="2266920"/>
                <a:tab algn="l" pos="3181320"/>
                <a:tab algn="l" pos="4095720"/>
                <a:tab algn="l" pos="5010120"/>
                <a:tab algn="l" pos="5924520"/>
                <a:tab algn="l" pos="6838920"/>
                <a:tab algn="l" pos="7753320"/>
                <a:tab algn="l" pos="8667720"/>
                <a:tab algn="l" pos="9582120"/>
                <a:tab algn="l" pos="101347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r in rate and rhythm, strong to touch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5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38120"/>
                <a:tab algn="l" pos="1352520"/>
                <a:tab algn="l" pos="2266920"/>
                <a:tab algn="l" pos="3181320"/>
                <a:tab algn="l" pos="4095720"/>
                <a:tab algn="l" pos="5010120"/>
                <a:tab algn="l" pos="5924520"/>
                <a:tab algn="l" pos="6838920"/>
                <a:tab algn="l" pos="7753320"/>
                <a:tab algn="l" pos="8667720"/>
                <a:tab algn="l" pos="9582120"/>
                <a:tab algn="l" pos="101347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56040" indent="-250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38120"/>
                <a:tab algn="l" pos="1352520"/>
                <a:tab algn="l" pos="2266920"/>
                <a:tab algn="l" pos="3181320"/>
                <a:tab algn="l" pos="4095720"/>
                <a:tab algn="l" pos="5010120"/>
                <a:tab algn="l" pos="5924520"/>
                <a:tab algn="l" pos="6838920"/>
                <a:tab algn="l" pos="7753320"/>
                <a:tab algn="l" pos="8667720"/>
                <a:tab algn="l" pos="9582120"/>
                <a:tab algn="l" pos="10134720"/>
                <a:tab algn="l" pos="105156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 Bold"/>
                <a:ea typeface="Times New Roman Bold"/>
              </a:rPr>
              <a:t>Tachycardia</a:t>
            </a: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 heart rate &gt; 100/minute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56040" indent="-250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38120"/>
                <a:tab algn="l" pos="1352520"/>
                <a:tab algn="l" pos="2266920"/>
                <a:tab algn="l" pos="3181320"/>
                <a:tab algn="l" pos="4095720"/>
                <a:tab algn="l" pos="5010120"/>
                <a:tab algn="l" pos="5924520"/>
                <a:tab algn="l" pos="6838920"/>
                <a:tab algn="l" pos="7753320"/>
                <a:tab algn="l" pos="8667720"/>
                <a:tab algn="l" pos="9582120"/>
                <a:tab algn="l" pos="101347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s: exercise, infection, excitement, shock, heart attack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5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38120"/>
                <a:tab algn="l" pos="1352520"/>
                <a:tab algn="l" pos="2266920"/>
                <a:tab algn="l" pos="3181320"/>
                <a:tab algn="l" pos="4095720"/>
                <a:tab algn="l" pos="5010120"/>
                <a:tab algn="l" pos="5924520"/>
                <a:tab algn="l" pos="6838920"/>
                <a:tab algn="l" pos="7753320"/>
                <a:tab algn="l" pos="8667720"/>
                <a:tab algn="l" pos="9582120"/>
                <a:tab algn="l" pos="101347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56040" indent="-250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38120"/>
                <a:tab algn="l" pos="1352520"/>
                <a:tab algn="l" pos="2266920"/>
                <a:tab algn="l" pos="3181320"/>
                <a:tab algn="l" pos="4095720"/>
                <a:tab algn="l" pos="5010120"/>
                <a:tab algn="l" pos="5924520"/>
                <a:tab algn="l" pos="6838920"/>
                <a:tab algn="l" pos="7753320"/>
                <a:tab algn="l" pos="8667720"/>
                <a:tab algn="l" pos="9582120"/>
                <a:tab algn="l" pos="10134720"/>
                <a:tab algn="l" pos="105156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 Bold"/>
                <a:ea typeface="Times New Roman Bold"/>
              </a:rPr>
              <a:t>Bradycardia</a:t>
            </a: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w heart rate &lt; 60/minute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56040" indent="-250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38120"/>
                <a:tab algn="l" pos="1352520"/>
                <a:tab algn="l" pos="2266920"/>
                <a:tab algn="l" pos="3181320"/>
                <a:tab algn="l" pos="4095720"/>
                <a:tab algn="l" pos="5010120"/>
                <a:tab algn="l" pos="5924520"/>
                <a:tab algn="l" pos="6838920"/>
                <a:tab algn="l" pos="7753320"/>
                <a:tab algn="l" pos="8667720"/>
                <a:tab algn="l" pos="9582120"/>
                <a:tab algn="l" pos="101347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s: sleep, rest, overdose of certain drugs, hypoxia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523520" y="260316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515600"/>
              </a:tabLst>
            </a:pPr>
            <a:r>
              <a:rPr b="0" lang="en-US" sz="4800" spc="-1" strike="noStrike">
                <a:solidFill>
                  <a:srgbClr val="002d99"/>
                </a:solidFill>
                <a:latin typeface="Times New Roman Bold"/>
                <a:ea typeface="Times New Roman Bold"/>
              </a:rPr>
              <a:t>Temperature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515600"/>
              </a:tabLst>
            </a:pPr>
            <a:r>
              <a:rPr b="0" lang="en-US" sz="4800" spc="-1" strike="noStrike">
                <a:solidFill>
                  <a:srgbClr val="002d99"/>
                </a:solidFill>
                <a:latin typeface="Times New Roman Bold"/>
                <a:ea typeface="Times New Roman Bold"/>
              </a:rPr>
              <a:t>Sites to Measure Body Temperature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486080" y="2018880"/>
            <a:ext cx="89532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740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Ora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740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Axillary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740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Tympanic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740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&amp; Rectal temperature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515600"/>
              </a:tabLst>
            </a:pPr>
            <a:r>
              <a:rPr b="0" lang="en-US" sz="4800" spc="-1" strike="noStrike">
                <a:solidFill>
                  <a:srgbClr val="002d99"/>
                </a:solidFill>
                <a:latin typeface="Times New Roman Bold"/>
                <a:ea typeface="Times New Roman Bold"/>
              </a:rPr>
              <a:t>Equipment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75880" y="2171880"/>
            <a:ext cx="9334440" cy="396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740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 swab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marL="88740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mometer (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ury ,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 and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mpanic)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4554360" y="6137280"/>
            <a:ext cx="7566120" cy="18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515600"/>
              </a:tabLst>
            </a:pPr>
            <a:r>
              <a:rPr b="0" lang="en-US" sz="4800" spc="-1" strike="noStrike">
                <a:solidFill>
                  <a:srgbClr val="002d99"/>
                </a:solidFill>
                <a:latin typeface="Times New Roman Bold"/>
                <a:ea typeface="Times New Roman Bold"/>
              </a:rPr>
              <a:t>How to Measure Temperature</a:t>
            </a:r>
            <a:r>
              <a:rPr b="0" lang="en-US" sz="8400" spc="-1" strike="noStrike">
                <a:solidFill>
                  <a:srgbClr val="002d99"/>
                </a:solidFill>
                <a:latin typeface="Times New Roman Bold"/>
                <a:ea typeface="Times New Roman Bold"/>
              </a:rPr>
              <a:t> 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16000" y="2361960"/>
            <a:ext cx="12204720" cy="718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marL="851760" indent="-548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134720"/>
                <a:tab algn="l" pos="10858680"/>
                <a:tab algn="l" pos="11582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In oral temperature remove the thermometer from the storage container and cleanse it from bulb's toward the fingertip 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51760" indent="-548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134720"/>
                <a:tab algn="l" pos="10858680"/>
                <a:tab algn="l" pos="11582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check the thermometer &amp; shake it if the mercury over 35◦c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51760" indent="-548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134720"/>
                <a:tab algn="l" pos="10858680"/>
                <a:tab algn="l" pos="11582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Place the thermometer in the client mouth under the tongue and instruct the client to hold the lips closed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51760" indent="-548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134720"/>
                <a:tab algn="l" pos="10858680"/>
                <a:tab algn="l" pos="11582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Remove the thermometer and read at eye level and rotate slowly until the mercury level is visualized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51760" indent="-548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134720"/>
                <a:tab algn="l" pos="10858680"/>
                <a:tab algn="l" pos="11582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Measures for reuse mercury thermometer, just wash under running water.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63600" indent="-255600">
              <a:lnSpc>
                <a:spcPct val="9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38120"/>
                <a:tab algn="l" pos="1352520"/>
                <a:tab algn="l" pos="2266920"/>
                <a:tab algn="l" pos="3181320"/>
                <a:tab algn="l" pos="4095720"/>
                <a:tab algn="l" pos="5010120"/>
                <a:tab algn="l" pos="5924520"/>
                <a:tab algn="l" pos="6838920"/>
                <a:tab algn="l" pos="7753320"/>
                <a:tab algn="l" pos="8667720"/>
                <a:tab algn="l" pos="9582120"/>
                <a:tab algn="l" pos="101347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Normal body temperature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</a:t>
            </a: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 36.5-37.5◦c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63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38120"/>
                <a:tab algn="l" pos="1352520"/>
                <a:tab algn="l" pos="2266920"/>
                <a:tab algn="l" pos="3181320"/>
                <a:tab algn="l" pos="4095720"/>
                <a:tab algn="l" pos="5010120"/>
                <a:tab algn="l" pos="5924520"/>
                <a:tab algn="l" pos="6838920"/>
                <a:tab algn="l" pos="7753320"/>
                <a:tab algn="l" pos="8667720"/>
                <a:tab algn="l" pos="9582120"/>
                <a:tab algn="l" pos="101347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6360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38120"/>
                <a:tab algn="l" pos="1352520"/>
                <a:tab algn="l" pos="2266920"/>
                <a:tab algn="l" pos="3181320"/>
                <a:tab algn="l" pos="4095720"/>
                <a:tab algn="l" pos="5010120"/>
                <a:tab algn="l" pos="5924520"/>
                <a:tab algn="l" pos="6838920"/>
                <a:tab algn="l" pos="7753320"/>
                <a:tab algn="l" pos="8667720"/>
                <a:tab algn="l" pos="9582120"/>
                <a:tab algn="l" pos="101347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Hypothermi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ow temperature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6360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38120"/>
                <a:tab algn="l" pos="1352520"/>
                <a:tab algn="l" pos="2266920"/>
                <a:tab algn="l" pos="3181320"/>
                <a:tab algn="l" pos="4095720"/>
                <a:tab algn="l" pos="5010120"/>
                <a:tab algn="l" pos="5924520"/>
                <a:tab algn="l" pos="6838920"/>
                <a:tab algn="l" pos="7753320"/>
                <a:tab algn="l" pos="8667720"/>
                <a:tab algn="l" pos="9582120"/>
                <a:tab algn="l" pos="101347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in severe loss of body fluids through excessive vomiting, diarrhea, bleeding, shock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63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38120"/>
                <a:tab algn="l" pos="1352520"/>
                <a:tab algn="l" pos="2266920"/>
                <a:tab algn="l" pos="3181320"/>
                <a:tab algn="l" pos="4095720"/>
                <a:tab algn="l" pos="5010120"/>
                <a:tab algn="l" pos="5924520"/>
                <a:tab algn="l" pos="6838920"/>
                <a:tab algn="l" pos="7753320"/>
                <a:tab algn="l" pos="8667720"/>
                <a:tab algn="l" pos="9582120"/>
                <a:tab algn="l" pos="101347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6360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38120"/>
                <a:tab algn="l" pos="1352520"/>
                <a:tab algn="l" pos="2266920"/>
                <a:tab algn="l" pos="3181320"/>
                <a:tab algn="l" pos="4095720"/>
                <a:tab algn="l" pos="5010120"/>
                <a:tab algn="l" pos="5924520"/>
                <a:tab algn="l" pos="6838920"/>
                <a:tab algn="l" pos="7753320"/>
                <a:tab algn="l" pos="8667720"/>
                <a:tab algn="l" pos="9582120"/>
                <a:tab algn="l" pos="101347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Hyperthermi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high temperatur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6360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38120"/>
                <a:tab algn="l" pos="1352520"/>
                <a:tab algn="l" pos="2266920"/>
                <a:tab algn="l" pos="3181320"/>
                <a:tab algn="l" pos="4095720"/>
                <a:tab algn="l" pos="5010120"/>
                <a:tab algn="l" pos="5924520"/>
                <a:tab algn="l" pos="6838920"/>
                <a:tab algn="l" pos="7753320"/>
                <a:tab algn="l" pos="8667720"/>
                <a:tab algn="l" pos="9582120"/>
                <a:tab algn="l" pos="101347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as a result of infection, heat illness, injuries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69720" y="2158920"/>
            <a:ext cx="10464840" cy="243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515600"/>
              </a:tabLst>
            </a:pPr>
            <a:r>
              <a:rPr b="0" lang="en-US" sz="4800" spc="-1" strike="noStrike">
                <a:solidFill>
                  <a:srgbClr val="002d99"/>
                </a:solidFill>
                <a:latin typeface="Times New Roman Bold"/>
                <a:ea typeface="Times New Roman Bold"/>
              </a:rPr>
              <a:t>Blood pressure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515600"/>
              </a:tabLst>
            </a:pPr>
            <a:r>
              <a:rPr b="0" lang="en-US" sz="4800" spc="-1" strike="noStrike">
                <a:solidFill>
                  <a:srgbClr val="002d99"/>
                </a:solidFill>
                <a:latin typeface="Times New Roman Bold"/>
                <a:ea typeface="Times New Roman Bold"/>
              </a:rPr>
              <a:t>Equipment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75880" y="2196720"/>
            <a:ext cx="10464840" cy="3822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740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 Bold"/>
              <a:buChar char="•"/>
              <a:tabLst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134720"/>
                <a:tab algn="l" pos="105156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 Bold"/>
                <a:ea typeface="Times New Roman Bold"/>
                <a:hlinkClick r:id="rId1"/>
              </a:rPr>
              <a:t>Sphygmomanometer</a:t>
            </a: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740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 Bold"/>
              <a:buChar char="•"/>
              <a:tabLst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1347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Stethoscope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740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 Bold"/>
              <a:buChar char="•"/>
              <a:tabLst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1347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Cuff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7491240" y="977760"/>
            <a:ext cx="4434120" cy="600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8696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515600"/>
              </a:tabLst>
            </a:pPr>
            <a:r>
              <a:rPr b="0" lang="en-US" sz="4800" spc="-1" strike="noStrike">
                <a:solidFill>
                  <a:srgbClr val="002d99"/>
                </a:solidFill>
                <a:latin typeface="Times New Roman Bold"/>
                <a:ea typeface="Times New Roman 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11360" y="1790640"/>
            <a:ext cx="11214000" cy="8026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74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134720"/>
                <a:tab algn="l" pos="10858680"/>
              </a:tabLst>
            </a:pPr>
            <a:endParaRPr b="0" lang="en-US" sz="19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134720"/>
                <a:tab algn="l" pos="108586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After completion of this practical lecture, you will be able to: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134720"/>
                <a:tab algn="l" pos="1085868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740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134720"/>
                <a:tab algn="l" pos="108586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how to take vital signs.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marL="88740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134720"/>
                <a:tab algn="l" pos="108586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e the correct procedure to take a temperature, pulse, respiration, and blood pressure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740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134720"/>
                <a:tab algn="l" pos="108586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normal ranges for Adult Vital Sign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134720"/>
                <a:tab algn="l" pos="1085868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134720"/>
                <a:tab algn="l" pos="1085868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515600"/>
              </a:tabLst>
            </a:pPr>
            <a:r>
              <a:rPr b="0" lang="en-US" sz="4800" spc="-1" strike="noStrike">
                <a:solidFill>
                  <a:srgbClr val="002d99"/>
                </a:solidFill>
                <a:latin typeface="Times New Roman Bold"/>
                <a:ea typeface="Times New Roman Bold"/>
              </a:rPr>
              <a:t>How to Measure Blood Pressure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7720" y="1942920"/>
            <a:ext cx="11354040" cy="693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740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13472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Open the mercury, make sure that the cuff, pump &amp; tubes are functioning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740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13472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Apply the cuff on forearm correctly &amp; put the stethoscope over the site of brachial artery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740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13472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Clean the earpieces with alcohol &amp; insert it into the ear correctly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740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13472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Close the pump &amp; elevate the mercury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740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13472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Release the valve of the cuff carefully &amp; note in the mercury line the first soun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740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13472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Continue to deflate the cuff gradually, noting the point at which sound disappear or changed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740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134720"/>
                <a:tab algn="l" pos="1085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Remove the cuff from the arm &amp; fold it then close the mercury tank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1269720" y="583920"/>
            <a:ext cx="10464840" cy="6832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63600" indent="-25560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38120"/>
                <a:tab algn="l" pos="1352520"/>
                <a:tab algn="l" pos="2266920"/>
                <a:tab algn="l" pos="3181320"/>
                <a:tab algn="l" pos="4095720"/>
                <a:tab algn="l" pos="5010120"/>
                <a:tab algn="l" pos="5924520"/>
                <a:tab algn="l" pos="6838920"/>
                <a:tab algn="l" pos="7753320"/>
                <a:tab algn="l" pos="8667720"/>
                <a:tab algn="l" pos="9582120"/>
                <a:tab algn="l" pos="1013472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Normal blood pressur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38120"/>
                <a:tab algn="l" pos="1352520"/>
                <a:tab algn="l" pos="2266920"/>
                <a:tab algn="l" pos="3181320"/>
                <a:tab algn="l" pos="4095720"/>
                <a:tab algn="l" pos="5010120"/>
                <a:tab algn="l" pos="5924520"/>
                <a:tab algn="l" pos="6838920"/>
                <a:tab algn="l" pos="7753320"/>
                <a:tab algn="l" pos="8667720"/>
                <a:tab algn="l" pos="9582120"/>
                <a:tab algn="l" pos="1013472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0/80 – 100/70.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363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38120"/>
                <a:tab algn="l" pos="1352520"/>
                <a:tab algn="l" pos="2266920"/>
                <a:tab algn="l" pos="3181320"/>
                <a:tab algn="l" pos="4095720"/>
                <a:tab algn="l" pos="5010120"/>
                <a:tab algn="l" pos="5924520"/>
                <a:tab algn="l" pos="6838920"/>
                <a:tab algn="l" pos="7753320"/>
                <a:tab algn="l" pos="8667720"/>
                <a:tab algn="l" pos="9582120"/>
                <a:tab algn="l" pos="1013472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38120"/>
                <a:tab algn="l" pos="1352520"/>
                <a:tab algn="l" pos="2266920"/>
                <a:tab algn="l" pos="3181320"/>
                <a:tab algn="l" pos="4095720"/>
                <a:tab algn="l" pos="5010120"/>
                <a:tab algn="l" pos="5924520"/>
                <a:tab algn="l" pos="6838920"/>
                <a:tab algn="l" pos="7753320"/>
                <a:tab algn="l" pos="8667720"/>
                <a:tab algn="l" pos="9582120"/>
                <a:tab algn="l" pos="101347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Hypertens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high blood pressure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38120"/>
                <a:tab algn="l" pos="1352520"/>
                <a:tab algn="l" pos="2266920"/>
                <a:tab algn="l" pos="3181320"/>
                <a:tab algn="l" pos="4095720"/>
                <a:tab algn="l" pos="5010120"/>
                <a:tab algn="l" pos="5924520"/>
                <a:tab algn="l" pos="6838920"/>
                <a:tab algn="l" pos="7753320"/>
                <a:tab algn="l" pos="8667720"/>
                <a:tab algn="l" pos="9582120"/>
                <a:tab algn="l" pos="101347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in atherosclerosis, obesity, increasing age,exercise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63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38120"/>
                <a:tab algn="l" pos="1352520"/>
                <a:tab algn="l" pos="2266920"/>
                <a:tab algn="l" pos="3181320"/>
                <a:tab algn="l" pos="4095720"/>
                <a:tab algn="l" pos="5010120"/>
                <a:tab algn="l" pos="5924520"/>
                <a:tab algn="l" pos="6838920"/>
                <a:tab algn="l" pos="7753320"/>
                <a:tab algn="l" pos="8667720"/>
                <a:tab algn="l" pos="9582120"/>
                <a:tab algn="l" pos="1013472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38120"/>
                <a:tab algn="l" pos="1352520"/>
                <a:tab algn="l" pos="2266920"/>
                <a:tab algn="l" pos="3181320"/>
                <a:tab algn="l" pos="4095720"/>
                <a:tab algn="l" pos="5010120"/>
                <a:tab algn="l" pos="5924520"/>
                <a:tab algn="l" pos="6838920"/>
                <a:tab algn="l" pos="7753320"/>
                <a:tab algn="l" pos="8667720"/>
                <a:tab algn="l" pos="9582120"/>
                <a:tab algn="l" pos="101347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Hypotens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low blood pressure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38120"/>
                <a:tab algn="l" pos="1352520"/>
                <a:tab algn="l" pos="2266920"/>
                <a:tab algn="l" pos="3181320"/>
                <a:tab algn="l" pos="4095720"/>
                <a:tab algn="l" pos="5010120"/>
                <a:tab algn="l" pos="5924520"/>
                <a:tab algn="l" pos="6838920"/>
                <a:tab algn="l" pos="7753320"/>
                <a:tab algn="l" pos="8667720"/>
                <a:tab algn="l" pos="9582120"/>
                <a:tab algn="l" pos="101347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in fluid loss in vomiting, diarrhea, shock, bleeding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515600"/>
              </a:tabLst>
            </a:pPr>
            <a:r>
              <a:rPr b="0" lang="en-US" sz="4800" spc="-1" strike="noStrike">
                <a:solidFill>
                  <a:srgbClr val="002d99"/>
                </a:solidFill>
                <a:latin typeface="Times New Roman Bold"/>
                <a:ea typeface="Times New Roman Bold"/>
              </a:rPr>
              <a:t>After Completing any Procedure: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69720" y="18792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740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1347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h Hand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740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1347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740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1347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rt abnormal reading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740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1347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n and put away equipmen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515600"/>
              </a:tabLst>
            </a:pPr>
            <a:r>
              <a:rPr b="0" lang="en-US" sz="8400" spc="-1" strike="noStrike">
                <a:solidFill>
                  <a:srgbClr val="002d99"/>
                </a:solidFill>
                <a:latin typeface="Times New Roman Bold"/>
                <a:ea typeface="Times New Roman Bold"/>
              </a:rPr>
              <a:t>Summary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740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 Bold"/>
              <a:buChar char="•"/>
              <a:tabLst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1347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In this  practical lecture we have discuss the following: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740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 Bold"/>
              <a:buChar char="•"/>
              <a:tabLst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1347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how to take vital signs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740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 Bold"/>
              <a:buChar char="•"/>
              <a:tabLst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1347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e the correct procedure to take a temperature, pulse, respiration, and blood pressure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740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 Bold"/>
              <a:buChar char="•"/>
              <a:tabLst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1347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the normal ranges for Adult Vital Signs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963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515600"/>
              </a:tabLst>
            </a:pPr>
            <a:r>
              <a:rPr b="1" lang="en-US" sz="4200" spc="-1" strike="noStrike">
                <a:solidFill>
                  <a:srgbClr val="002d99"/>
                </a:solidFill>
                <a:latin typeface="Helvetica Neue"/>
                <a:ea typeface="Helvetica Neue"/>
              </a:rPr>
              <a:t>References</a:t>
            </a:r>
            <a:br>
              <a:rPr sz="4200"/>
            </a:br>
            <a:br>
              <a:rPr sz="42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Helvetica Neue"/>
                <a:ea typeface="Helvetica Neue"/>
                <a:hlinkClick r:id="rId1"/>
              </a:rPr>
              <a:t>http://www.cmhcm.org/provider/</a:t>
            </a: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entrain/Training_Units/Measuring_Vital_Signs.pdf</a:t>
            </a:r>
            <a:br>
              <a:rPr sz="3600"/>
            </a:br>
            <a:br>
              <a:rPr sz="36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Helvetica Neue"/>
                <a:ea typeface="Helvetica Neue"/>
                <a:hlinkClick r:id="rId2"/>
              </a:rPr>
              <a:t>http://www.waybuilder.net/sweethaven/medtech/vitals/default.asp?iNum=0301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http://www.nursingtimes.net/nursing-practice/clinical-zones/management/measuring-body-temperature/5051350.article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5156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5156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5156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5156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5156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5156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5156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31640" y="1739520"/>
            <a:ext cx="11303280" cy="7975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74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134720"/>
                <a:tab algn="l" pos="1085868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88740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134720"/>
                <a:tab algn="l" pos="108586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equipment clean and read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740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134720"/>
                <a:tab algn="l" pos="108586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h hand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740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134720"/>
                <a:tab algn="l" pos="108586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pers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740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134720"/>
                <a:tab algn="l" pos="108586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e yourself if necessar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740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134720"/>
                <a:tab algn="l" pos="108586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 to a private or quiet area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740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134720"/>
                <a:tab algn="l" pos="108586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ain the procedu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740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134720"/>
                <a:tab algn="l" pos="108586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 your result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"/>
          <p:cNvSpPr/>
          <p:nvPr/>
        </p:nvSpPr>
        <p:spPr>
          <a:xfrm>
            <a:off x="1893960" y="1079640"/>
            <a:ext cx="89535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2d99"/>
                </a:solidFill>
                <a:latin typeface="Times New Roman Bold"/>
                <a:ea typeface="Times New Roman Bold"/>
              </a:rPr>
              <a:t>Before beginning any procedure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64800" y="292068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515600"/>
              </a:tabLst>
            </a:pPr>
            <a:r>
              <a:rPr b="0" lang="en-US" sz="6400" spc="-1" strike="noStrike">
                <a:solidFill>
                  <a:srgbClr val="002d99"/>
                </a:solidFill>
                <a:latin typeface="Times New Roman Bold"/>
                <a:ea typeface="Times New Roman Bold"/>
              </a:rPr>
              <a:t>Respiration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02960" y="18540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515600"/>
              </a:tabLst>
            </a:pPr>
            <a:r>
              <a:rPr b="0" lang="en-US" sz="4200" spc="-1" strike="noStrike">
                <a:solidFill>
                  <a:srgbClr val="002d99"/>
                </a:solidFill>
                <a:latin typeface="Times New Roman Bold"/>
                <a:ea typeface="Times New Roman Bold"/>
              </a:rPr>
              <a:t>Equipment</a:t>
            </a:r>
            <a:r>
              <a:rPr b="0" lang="en-US" sz="4200" spc="-1" strike="noStrike">
                <a:solidFill>
                  <a:srgbClr val="002d99"/>
                </a:solidFill>
                <a:latin typeface="Times New Roman"/>
                <a:ea typeface="Times New Roman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44240" y="3619080"/>
            <a:ext cx="10464840" cy="290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740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1347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 watch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5816520" y="3397320"/>
            <a:ext cx="540396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53720" y="786960"/>
            <a:ext cx="10464840" cy="1359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515600"/>
              </a:tabLst>
            </a:pPr>
            <a:r>
              <a:rPr b="1" lang="en-US" sz="4800" spc="-1" strike="noStrike">
                <a:solidFill>
                  <a:srgbClr val="002d99"/>
                </a:solidFill>
                <a:latin typeface="Arial"/>
                <a:ea typeface="Arial"/>
              </a:rPr>
              <a:t>How to Take Respiration Rate</a:t>
            </a:r>
            <a:br>
              <a:rPr sz="48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5156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5156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5156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31280" y="1714680"/>
            <a:ext cx="11696760" cy="803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740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134720"/>
                <a:tab algn="l" pos="10858680"/>
                <a:tab algn="l" pos="1158228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740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134720"/>
                <a:tab algn="l" pos="10858680"/>
                <a:tab algn="l" pos="11582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irations may b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ed by watching the number of times a person’s chest rises and falls in one minute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740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134720"/>
                <a:tab algn="l" pos="10858680"/>
                <a:tab algn="l" pos="11582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may want to place your fingers on the persons wrist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740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134720"/>
                <a:tab algn="l" pos="10858680"/>
                <a:tab algn="l" pos="11582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may also be counted by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cing the hand on the chest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740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134720"/>
                <a:tab algn="l" pos="10858680"/>
                <a:tab algn="l" pos="11582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ormal adult rate i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-16 respirations per minute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740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134720"/>
                <a:tab algn="l" pos="10858680"/>
                <a:tab algn="l" pos="11582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 persons respirations for 60 seconds (inhale + exhale =1 breath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740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134720"/>
                <a:tab algn="l" pos="10858680"/>
                <a:tab algn="l" pos="11582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 respiration rate and any abnormal findings or irregularities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1879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515600"/>
              </a:tabLst>
            </a:pPr>
            <a:r>
              <a:rPr b="0" lang="en-US" sz="4800" spc="-1" strike="noStrike">
                <a:solidFill>
                  <a:srgbClr val="002d99"/>
                </a:solidFill>
                <a:latin typeface="Times New Roman Bold"/>
                <a:ea typeface="Times New Roman Bold"/>
              </a:rPr>
              <a:t>Abnormal findings: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69720" y="1854000"/>
            <a:ext cx="1046484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341640" indent="-24012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38120"/>
                <a:tab algn="l" pos="1352520"/>
                <a:tab algn="l" pos="2266920"/>
                <a:tab algn="l" pos="3181320"/>
                <a:tab algn="l" pos="4095720"/>
                <a:tab algn="l" pos="5010120"/>
                <a:tab algn="l" pos="5924520"/>
                <a:tab algn="l" pos="6838920"/>
                <a:tab algn="l" pos="7753320"/>
                <a:tab algn="l" pos="8667720"/>
                <a:tab algn="l" pos="9582120"/>
                <a:tab algn="l" pos="101347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Hyperventilation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respiratory rate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41640" indent="-24012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38120"/>
                <a:tab algn="l" pos="1352520"/>
                <a:tab algn="l" pos="2266920"/>
                <a:tab algn="l" pos="3181320"/>
                <a:tab algn="l" pos="4095720"/>
                <a:tab algn="l" pos="5010120"/>
                <a:tab algn="l" pos="5924520"/>
                <a:tab algn="l" pos="6838920"/>
                <a:tab algn="l" pos="7753320"/>
                <a:tab algn="l" pos="8667720"/>
                <a:tab algn="l" pos="9582120"/>
                <a:tab algn="l" pos="101347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during exercise, infection, emotional stress, shock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41640" indent="-24012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38120"/>
                <a:tab algn="l" pos="1352520"/>
                <a:tab algn="l" pos="2266920"/>
                <a:tab algn="l" pos="3181320"/>
                <a:tab algn="l" pos="4095720"/>
                <a:tab algn="l" pos="5010120"/>
                <a:tab algn="l" pos="5924520"/>
                <a:tab algn="l" pos="6838920"/>
                <a:tab algn="l" pos="7753320"/>
                <a:tab algn="l" pos="8667720"/>
                <a:tab algn="l" pos="9582120"/>
                <a:tab algn="l" pos="101347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Hypoventilation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d respiratory rate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41640" indent="-24012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38120"/>
                <a:tab algn="l" pos="1352520"/>
                <a:tab algn="l" pos="2266920"/>
                <a:tab algn="l" pos="3181320"/>
                <a:tab algn="l" pos="4095720"/>
                <a:tab algn="l" pos="5010120"/>
                <a:tab algn="l" pos="5924520"/>
                <a:tab algn="l" pos="6838920"/>
                <a:tab algn="l" pos="7753320"/>
                <a:tab algn="l" pos="8667720"/>
                <a:tab algn="l" pos="9582120"/>
                <a:tab algn="l" pos="101347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s during sleep, overdose of certain drugs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41640" indent="-24012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38120"/>
                <a:tab algn="l" pos="1352520"/>
                <a:tab algn="l" pos="2266920"/>
                <a:tab algn="l" pos="3181320"/>
                <a:tab algn="l" pos="4095720"/>
                <a:tab algn="l" pos="5010120"/>
                <a:tab algn="l" pos="5924520"/>
                <a:tab algn="l" pos="6838920"/>
                <a:tab algn="l" pos="7753320"/>
                <a:tab algn="l" pos="8667720"/>
                <a:tab algn="l" pos="9582120"/>
                <a:tab algn="l" pos="101347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Apnoea: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ssation of breathing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68560" y="2971440"/>
            <a:ext cx="1046448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515600"/>
              </a:tabLst>
            </a:pPr>
            <a:r>
              <a:rPr b="0" lang="en-US" sz="8400" spc="-1" strike="noStrike">
                <a:solidFill>
                  <a:srgbClr val="002d99"/>
                </a:solidFill>
                <a:latin typeface="Times New Roman Bold"/>
                <a:ea typeface="Times New Roman Bold"/>
              </a:rPr>
              <a:t>Puls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  <a:tab algn="l" pos="10515600"/>
              </a:tabLst>
            </a:pPr>
            <a:r>
              <a:rPr b="0" lang="en-US" sz="4200" spc="-1" strike="noStrike">
                <a:solidFill>
                  <a:srgbClr val="002d99"/>
                </a:solidFill>
                <a:latin typeface="Times New Roman Bold"/>
                <a:ea typeface="Times New Roman Bold"/>
              </a:rPr>
              <a:t>Equipmen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64800" y="2070000"/>
            <a:ext cx="10464840" cy="3416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740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61920"/>
                <a:tab algn="l" pos="1876320"/>
                <a:tab algn="l" pos="2790720"/>
                <a:tab algn="l" pos="3705120"/>
                <a:tab algn="l" pos="4619520"/>
                <a:tab algn="l" pos="5533920"/>
                <a:tab algn="l" pos="6448320"/>
                <a:tab algn="l" pos="7362720"/>
                <a:tab algn="l" pos="8277120"/>
                <a:tab algn="l" pos="9191520"/>
                <a:tab algn="l" pos="10105920"/>
                <a:tab algn="l" pos="101347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 watc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5257800" y="2933640"/>
            <a:ext cx="6299280" cy="341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