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34.jpeg" ContentType="image/jpeg"/>
  <Override PartName="/ppt/media/image23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74.png" ContentType="image/png"/>
  <Override PartName="/ppt/media/image61.jpeg" ContentType="image/jpeg"/>
  <Override PartName="/ppt/media/image4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32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6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B96F-D9C9-453D-9F36-2479F74F2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3ECD-2CF4-472B-985B-2E2EEF58E3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193F-1A0D-4A1A-9DE2-B040ED05D5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BA31-1AD8-4405-98F4-D692C0C7EB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8447-FB5B-43F7-BC20-125D85B1EB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AFD8-12B5-4590-BB71-B7EAED602D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2C0B-29D6-4DFA-BEAF-C5DCC6C93D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BEF1-0E81-4493-9511-2008895813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C3F6-75DA-4287-88CE-F9268754E2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5887-D511-4A39-9C56-A439DE967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B463-5787-4D34-B7B3-26BE1F35E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4D9A-340F-48F2-B50B-2734245038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FE56-D8D8-41E0-A197-EA1A83241E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C4D4-E143-4364-937C-3D89E4A4D4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348A-FBBA-45F0-9EA3-D980D6CD1D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B382-0A3E-4C9D-8939-5B9E13BA06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687E-DAF8-4C72-A8E3-1F78EAEEE3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B03B-5DB6-41A8-A94B-F599B3C60A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1E5A-C4FB-487F-A50D-A8AF8C65B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022-47FD-4ABA-8652-65888B3E5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5862-1C45-41CA-87DF-88B9DB22DC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AC51-DA79-4889-9E16-A6E5436C8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AB9A-0801-4BF6-A968-73E6243011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2AD8-DCD7-479E-BCED-F3D2D8290A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C60-430A-4FDA-9044-582FD19A81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5E07-6E78-4DF5-AE7B-6855D0C320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E63E-5367-422C-AB0B-00B2B12CFB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069-351B-4C2B-BE37-B786038121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4E80-FFC2-4295-B11F-2F0F5C1BA2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EB34-435C-4F93-B32A-05549E25E8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0137-AB5A-4DF2-AC20-8CD58E6980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47BA-168E-4620-9BB3-AA07787585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582D-2D8B-4EEC-847A-5C30C8B744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93E1-77B4-4AC2-A119-B55DE027B1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FA6F-1FC6-4594-AC2A-29E2E09B8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51A3-3FE1-4CA5-BF72-8098D5991F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1768-18A4-4AAC-BEB7-66CBFD1911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3AD8-7545-4A1A-9BD2-256016597C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F607-7AF6-444F-BF69-CC1DAEB5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16D3-24B6-4133-8033-A514F9DC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C901-6ECC-4FC7-A29D-D6AB329E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F04E-4EDC-4100-9FFB-BE946469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59D6-ABFF-4331-8D47-CDBD26EF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AA2C-CF4F-49D6-A5CD-65BD9884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BB7C-9EC6-4132-8898-155D84C5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60CC-F939-4F91-AC5E-AEBC2754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4276-0EC7-490D-88D5-6B3BBA27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6839-E566-416F-B05C-B869250C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28EA-4B3C-4DDD-9E43-96AC9382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2EF0-3E25-4146-AF33-E64C0AA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3BD8-23F8-4900-9A0C-E7582316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EF50-3146-4763-A8EA-BD400D3A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4503-691E-4911-971A-1CB52F49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F8EF-57D6-416B-ACCE-8EEA058E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2504-8F65-46E8-B098-7F5989F1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BF40-E855-4126-9D86-E5E833A1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1A1A-262B-4E38-9BA7-76E5F279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0919-85BE-474B-B6C2-364F61BE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B650-00BD-459A-9AD2-38ACBE0F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3D37-21E4-4CCF-A1DB-0A7F77BF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41F2-8939-478D-8957-B794BAD8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2106-9D7F-421D-B405-BB9E4384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CA53-0C77-48B5-B2EB-500DCF2CE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30FB-6FC6-45DC-A563-44975B1EF6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368440" y="2654280"/>
            <a:ext cx="4600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itamin B5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Pantothenic Acid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6" descr="http://s2.hubimg.com/u/2809753_f260.jpg"/>
          <p:cNvPicPr/>
          <p:nvPr/>
        </p:nvPicPr>
        <p:blipFill>
          <a:blip r:embed="rId1"/>
          <a:stretch/>
        </p:blipFill>
        <p:spPr>
          <a:xfrm>
            <a:off x="6400800" y="434340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http://thumbs.ifood.tv/files/imagecache/th-250x220/images/editor/images/Mushrooms(1).jpg"/>
          <p:cNvPicPr/>
          <p:nvPr/>
        </p:nvPicPr>
        <p:blipFill>
          <a:blip r:embed="rId2"/>
          <a:stretch/>
        </p:blipFill>
        <p:spPr>
          <a:xfrm>
            <a:off x="6400800" y="380880"/>
            <a:ext cx="2381400" cy="20955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12" descr="http://sphotos-a.xx.fbcdn.net/hphotos-prn1/c20.0.403.403/p403x403/552684_397601813641111_126990515_n.jpg"/>
          <p:cNvPicPr/>
          <p:nvPr/>
        </p:nvPicPr>
        <p:blipFill>
          <a:blip r:embed="rId3"/>
          <a:stretch/>
        </p:blipFill>
        <p:spPr>
          <a:xfrm>
            <a:off x="228600" y="409680"/>
            <a:ext cx="2438280" cy="21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http://chowtimes.com/wp-content/uploads/2011/11/Pomegranate-Salad-with-Nuts-10.jpg"/>
          <p:cNvPicPr/>
          <p:nvPr/>
        </p:nvPicPr>
        <p:blipFill>
          <a:blip r:embed="rId4"/>
          <a:stretch/>
        </p:blipFill>
        <p:spPr>
          <a:xfrm>
            <a:off x="228600" y="41911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0" descr="http://www.globalherbalsupplies.com/vitamin_information/images/vitamin_b_pyridoxine.gif"/>
          <p:cNvPicPr/>
          <p:nvPr/>
        </p:nvPicPr>
        <p:blipFill>
          <a:blip r:embed="rId1"/>
          <a:stretch/>
        </p:blipFill>
        <p:spPr>
          <a:xfrm>
            <a:off x="585720" y="60336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605960" y="26668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yridoxo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22" descr="The chemical structure of pyridoxamine"/>
          <p:cNvPicPr/>
          <p:nvPr/>
        </p:nvPicPr>
        <p:blipFill>
          <a:blip r:embed="rId2"/>
          <a:stretch/>
        </p:blipFill>
        <p:spPr>
          <a:xfrm>
            <a:off x="762120" y="3429000"/>
            <a:ext cx="2666880" cy="1962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379520" y="55627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yridoxam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2" descr="http://t2.gstatic.com/images?q=tbn:ANd9GcSdRv1gkmPhtevwwVnr_fgE3RU40wHruHTc-dRNAV6gPmKyWh5g&amp;t=1"/>
          <p:cNvPicPr/>
          <p:nvPr/>
        </p:nvPicPr>
        <p:blipFill>
          <a:blip r:embed="rId3"/>
          <a:stretch/>
        </p:blipFill>
        <p:spPr>
          <a:xfrm>
            <a:off x="4800600" y="53352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5486760" y="25909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Garamond"/>
              </a:rPr>
              <a:t>Pyridox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24" descr="http://www.sigmaaldrich.com/structureimages/34/mfcd00006334.gif"/>
          <p:cNvPicPr/>
          <p:nvPr/>
        </p:nvPicPr>
        <p:blipFill>
          <a:blip r:embed="rId4"/>
          <a:stretch/>
        </p:blipFill>
        <p:spPr>
          <a:xfrm>
            <a:off x="4395960" y="3267000"/>
            <a:ext cx="3321000" cy="4469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330520" y="5562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yridoxic Aci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390680" y="6095880"/>
            <a:ext cx="65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FORMS OF PYRIDOX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6" descr="http://www.clancysofchester.co.uk/calves%20liver.jpg"/>
          <p:cNvPicPr/>
          <p:nvPr/>
        </p:nvPicPr>
        <p:blipFill>
          <a:blip r:embed="rId1"/>
          <a:stretch/>
        </p:blipFill>
        <p:spPr>
          <a:xfrm>
            <a:off x="533520" y="1295280"/>
            <a:ext cx="2133360" cy="141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917640" y="27432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f live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0" descr="http://unsophisticook.com/wp-content/uploads/2010/11/Tips-For-Flavorful-Mashed-Potatoes.jpg"/>
          <p:cNvPicPr/>
          <p:nvPr/>
        </p:nvPicPr>
        <p:blipFill>
          <a:blip r:embed="rId2"/>
          <a:stretch/>
        </p:blipFill>
        <p:spPr>
          <a:xfrm>
            <a:off x="3352680" y="914400"/>
            <a:ext cx="2133720" cy="1447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4043880" y="22860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ato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12" descr="http://fatlossschool.com/wp-content/uploads/2009/10/banana.jpg"/>
          <p:cNvPicPr/>
          <p:nvPr/>
        </p:nvPicPr>
        <p:blipFill>
          <a:blip r:embed="rId3"/>
          <a:stretch/>
        </p:blipFill>
        <p:spPr>
          <a:xfrm>
            <a:off x="6324480" y="1066680"/>
            <a:ext cx="2286000" cy="1457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093080" y="2590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ana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14" descr="http://www.bbcgoodfood.com/content/knowhow/glossary/lentils/image.jpg"/>
          <p:cNvPicPr/>
          <p:nvPr/>
        </p:nvPicPr>
        <p:blipFill>
          <a:blip r:embed="rId4"/>
          <a:stretch/>
        </p:blipFill>
        <p:spPr>
          <a:xfrm>
            <a:off x="457200" y="4583160"/>
            <a:ext cx="2133720" cy="1657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2"/>
          <p:cNvSpPr/>
          <p:nvPr/>
        </p:nvSpPr>
        <p:spPr>
          <a:xfrm>
            <a:off x="1071360" y="62596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ti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16" descr="http://t1.gstatic.com/images?q=tbn:ANd9GcRfucbCe-elQa7sYRQPEjy_ue6oC_sH47RkiYvCGoTI1VmdDUv2iw"/>
          <p:cNvPicPr/>
          <p:nvPr/>
        </p:nvPicPr>
        <p:blipFill>
          <a:blip r:embed="rId5"/>
          <a:stretch/>
        </p:blipFill>
        <p:spPr>
          <a:xfrm>
            <a:off x="3733920" y="266688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http://medias.tresvalles-lodge.com/sitegenic/IMAGE/760972/tres-valles-fly-fishing-lodge-patagonia-argentina-trout.jpg"/>
          <p:cNvPicPr/>
          <p:nvPr/>
        </p:nvPicPr>
        <p:blipFill>
          <a:blip r:embed="rId6"/>
          <a:stretch/>
        </p:blipFill>
        <p:spPr>
          <a:xfrm>
            <a:off x="3657600" y="4495680"/>
            <a:ext cx="2209680" cy="16765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5"/>
          <p:cNvSpPr/>
          <p:nvPr/>
        </p:nvSpPr>
        <p:spPr>
          <a:xfrm>
            <a:off x="4273560" y="6172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20" descr="http://www.gimmesomeoven.com/wp-content/uploads/2010/04/fresh-spinach.jpg"/>
          <p:cNvPicPr/>
          <p:nvPr/>
        </p:nvPicPr>
        <p:blipFill>
          <a:blip r:embed="rId7"/>
          <a:stretch/>
        </p:blipFill>
        <p:spPr>
          <a:xfrm>
            <a:off x="6705720" y="441972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7"/>
          <p:cNvSpPr/>
          <p:nvPr/>
        </p:nvSpPr>
        <p:spPr>
          <a:xfrm>
            <a:off x="7180200" y="61070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2744280" y="15228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B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778840" y="-7632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380880"/>
            <a:ext cx="8305920" cy="62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P is a coenzyme involved in more than 100 metabolic reactions in the body including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 synthes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interconversion of amino acid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version of tryptophan to niac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helps in maintaing blood glucos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norm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ge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aloric intake is low, vitamin B6 help to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 stored carbohydrate to glucose to mainta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 blood sugar leve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pid metabolis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t is important 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sis of lipids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elin sheath surrounding nerve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lso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 of polyunsaturated fatty acids of cel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ran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helps in hemoglobin synthes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xygen transport b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 blood ce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1543320" y="237960"/>
            <a:ext cx="56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B6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09480" y="93816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 disorders: </a:t>
            </a:r>
            <a:r>
              <a:rPr b="0" lang="sv-S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rmatitis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kin inflammation), </a:t>
            </a:r>
            <a:r>
              <a:rPr b="0" lang="sv-S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matitis 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flammation of the mucous lining of any of 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in the mouth)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ssit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s inflamm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 of the tongue )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inful fissures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rac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 the angles of the mouth and on the lip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normal brain-wave patterns, convulsions, and musc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tch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ression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ritability, anxiety, confusion, headache,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omn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5" descr="http://injust10pages.com/z/images/blog_images/diet_and_nutrition/Dermatitis_Herpetiformis.jpg"/>
          <p:cNvPicPr/>
          <p:nvPr/>
        </p:nvPicPr>
        <p:blipFill>
          <a:blip r:embed="rId1"/>
          <a:stretch/>
        </p:blipFill>
        <p:spPr>
          <a:xfrm>
            <a:off x="457200" y="5105520"/>
            <a:ext cx="1600200" cy="1199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690840" y="6324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it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7" descr="http://healmed.ru/health-child/images/stomatitis.jpg"/>
          <p:cNvPicPr/>
          <p:nvPr/>
        </p:nvPicPr>
        <p:blipFill>
          <a:blip r:embed="rId2"/>
          <a:stretch/>
        </p:blipFill>
        <p:spPr>
          <a:xfrm>
            <a:off x="2286000" y="5105520"/>
            <a:ext cx="152388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2519280" y="63244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matiti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www.hxbenefit.com/wp-content/uploads/2011/08/Atrophic-Glossitis.jpg"/>
          <p:cNvPicPr/>
          <p:nvPr/>
        </p:nvPicPr>
        <p:blipFill>
          <a:blip r:embed="rId3"/>
          <a:stretch/>
        </p:blipFill>
        <p:spPr>
          <a:xfrm>
            <a:off x="4038480" y="5105520"/>
            <a:ext cx="1524240" cy="12189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272480" y="62485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ssit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11" descr="http://www.alabamaneurofeedback.com/wp-content/uploads/2012/01/brain1.jpg"/>
          <p:cNvPicPr/>
          <p:nvPr/>
        </p:nvPicPr>
        <p:blipFill>
          <a:blip r:embed="rId4"/>
          <a:stretch/>
        </p:blipFill>
        <p:spPr>
          <a:xfrm>
            <a:off x="5791320" y="5105520"/>
            <a:ext cx="1523880" cy="1218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5723280" y="624852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normal brain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ve patter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13" descr="http://cdn.nurseslabs.com/wp-content/uploads/2010/05/Febrile-Convulsions1.jpg"/>
          <p:cNvPicPr/>
          <p:nvPr/>
        </p:nvPicPr>
        <p:blipFill>
          <a:blip r:embed="rId5"/>
          <a:stretch/>
        </p:blipFill>
        <p:spPr>
          <a:xfrm>
            <a:off x="7620120" y="51814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7701840" y="63244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ul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762120" y="712800"/>
            <a:ext cx="7696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 and decreased antibody produc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sible increased risk of atheroscleros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e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total cholesterol and LDL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 in the blood, and reduced level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L-cholestero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sible increa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of calcium-oxalate kidn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Picture 4" descr="http://kidshealth.org/parent/medical/heart/headers_90906/anemia1.jpg"/>
          <p:cNvPicPr/>
          <p:nvPr/>
        </p:nvPicPr>
        <p:blipFill>
          <a:blip r:embed="rId1"/>
          <a:stretch/>
        </p:blipFill>
        <p:spPr>
          <a:xfrm>
            <a:off x="838080" y="5113440"/>
            <a:ext cx="2286000" cy="125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ttp://www.omnimedicalsearch.com/conditions-diseases/images/atherosclerosis-plaque1.jpg"/>
          <p:cNvPicPr/>
          <p:nvPr/>
        </p:nvPicPr>
        <p:blipFill>
          <a:blip r:embed="rId2"/>
          <a:stretch/>
        </p:blipFill>
        <p:spPr>
          <a:xfrm>
            <a:off x="3505320" y="5105520"/>
            <a:ext cx="2133360" cy="1295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3890520" y="63244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heroscleros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605600" y="63244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m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8" descr="http://www.pilotfriend.com/aeromed/medical/images2/25.jpg"/>
          <p:cNvPicPr/>
          <p:nvPr/>
        </p:nvPicPr>
        <p:blipFill>
          <a:blip r:embed="rId3"/>
          <a:stretch/>
        </p:blipFill>
        <p:spPr>
          <a:xfrm>
            <a:off x="6324480" y="5105520"/>
            <a:ext cx="2133720" cy="1295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6485400" y="63244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dney ston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531360" y="0"/>
            <a:ext cx="78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 B6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457200" y="657360"/>
            <a:ext cx="6781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ing rapid growth r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hildhood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lesence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uring lactation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gnancy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ly increase in vitam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6 require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gh protein intak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vitamin B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der peop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ittle diets intake and l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absorptio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common drugs (including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a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aceptive pi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ophyll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duce vitamin B6 sto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7467480" y="914400"/>
            <a:ext cx="134784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2"/>
          <a:stretch/>
        </p:blipFill>
        <p:spPr>
          <a:xfrm>
            <a:off x="7467480" y="2819520"/>
            <a:ext cx="1447920" cy="885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http://t2.gstatic.com/images?q=tbn:ANd9GcQC0WclQe06SCbBLkNNdGdQjHbJS2YblVLEt1Qm1Lu-V2z3MJYP"/>
          <p:cNvPicPr/>
          <p:nvPr/>
        </p:nvPicPr>
        <p:blipFill>
          <a:blip r:embed="rId3"/>
          <a:stretch/>
        </p:blipFill>
        <p:spPr>
          <a:xfrm>
            <a:off x="7620120" y="426708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http://timesofindia.indiatimes.com/photo/15517055.cms"/>
          <p:cNvPicPr/>
          <p:nvPr/>
        </p:nvPicPr>
        <p:blipFill>
          <a:blip r:embed="rId4"/>
          <a:stretch/>
        </p:blipFill>
        <p:spPr>
          <a:xfrm>
            <a:off x="7467480" y="5638680"/>
            <a:ext cx="1486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380880" y="195120"/>
            <a:ext cx="701064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chroni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estive problem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liver problems, diarrhea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ritab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wel syndrome (po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B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other chronic dis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asthma, coronary he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, diabetes, kidney failure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eumatoid arthritis, and cancer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reast, bladder, and lymp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dividuals with a poor qualit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t or 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adequate B6 intak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cohol consump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promot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struction and loss of vitamin B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bo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www.alpha-1foundation.org/images/411.jpg"/>
          <p:cNvPicPr/>
          <p:nvPr/>
        </p:nvPicPr>
        <p:blipFill>
          <a:blip r:embed="rId1"/>
          <a:stretch/>
        </p:blipFill>
        <p:spPr>
          <a:xfrm>
            <a:off x="7543800" y="380880"/>
            <a:ext cx="1371600" cy="901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assets.inhabitat.com/wp-content/uploads/2010/04/asthma.jpg"/>
          <p:cNvPicPr/>
          <p:nvPr/>
        </p:nvPicPr>
        <p:blipFill>
          <a:blip r:embed="rId2"/>
          <a:stretch/>
        </p:blipFill>
        <p:spPr>
          <a:xfrm>
            <a:off x="7620120" y="2209680"/>
            <a:ext cx="1143000" cy="766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http://t0.gstatic.com/images?q=tbn:ANd9GcTm2zGAyZAfXVbTokUXiWtj5AbMjC0zO5IgjEvB172o2e2wGZWjBd_Tv2drKw"/>
          <p:cNvPicPr/>
          <p:nvPr/>
        </p:nvPicPr>
        <p:blipFill>
          <a:blip r:embed="rId3"/>
          <a:stretch/>
        </p:blipFill>
        <p:spPr>
          <a:xfrm>
            <a:off x="7620120" y="30481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Acute kidney failure"/>
          <p:cNvPicPr/>
          <p:nvPr/>
        </p:nvPicPr>
        <p:blipFill>
          <a:blip r:embed="rId4"/>
          <a:stretch/>
        </p:blipFill>
        <p:spPr>
          <a:xfrm>
            <a:off x="7620120" y="388620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http://3.bp.blogspot.com/-Vv7QrKhybRg/T_5ExJc8dHI/AAAAAAAAAJU/f5NZrAiR9AA/s320/no-drinking.jpg"/>
          <p:cNvPicPr/>
          <p:nvPr/>
        </p:nvPicPr>
        <p:blipFill>
          <a:blip r:embed="rId5"/>
          <a:stretch/>
        </p:blipFill>
        <p:spPr>
          <a:xfrm>
            <a:off x="7734240" y="5562720"/>
            <a:ext cx="1181160" cy="11048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7927920" y="12193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1003680" y="85680"/>
            <a:ext cx="72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B6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685800" y="736560"/>
            <a:ext cx="76201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Treatment and prevention of deficiency and fo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t high risk of deficiency of Vitamin B6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 disorder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ruptions, acne etc.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Reduction of the severity and frequency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onchial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thm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herosclerosis and cardio-vascular diseas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tendency for platelets to clump together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s LDL-cholesterol and raises HD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In certa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one or with iron and vitamin 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In Pregnancy-associated nausea and vomit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914400" y="650880"/>
            <a:ext cx="72388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menstrual syndrom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helps prevention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ngs, edema, acne, and breas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erness characteristic of PM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hriti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helps in reduction of swelling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ammation in the joints of the finger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rve disorder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arpal tunnel syndrom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urs when the median nerve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runs from the forearm in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 of the hand, becomes pressed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eezed at the wrist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ther form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e inflammation and neuropath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232640" y="685800"/>
            <a:ext cx="59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and side effects of vitamin B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457200" y="166536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high doses (1000mg/day) for long time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ipheral nerve  conditions: numbness in hand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fee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es of vitamin B6 not exceeding 500mg/day,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doses for short periods (days to weeks), a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toxic in healthy pers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y high doses of vitamin B6 during lactation ma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 milk produ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21" name="Straight Arrow Connector 4"/>
          <p:cNvCxnSpPr/>
          <p:nvPr/>
        </p:nvCxnSpPr>
        <p:spPr>
          <a:xfrm>
            <a:off x="990720" y="2437920"/>
            <a:ext cx="38160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1679400" y="0"/>
            <a:ext cx="56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5 ( Pantothenic Ac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28600" y="685800"/>
            <a:ext cx="8534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pti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osed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-Pantoic  aci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β-Alan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s found as calcium salt or as alcohol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ntothenol). The biologically active form of Vitam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5 i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enzyme 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oA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04920" y="2370240"/>
            <a:ext cx="4724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A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-10 mg (4 Years and over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5 mg (less than 4 Year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0" descr="http://0.tqn.com/d/chemistry/1/0/i/M/1/pantothenic_acid.jpg"/>
          <p:cNvPicPr/>
          <p:nvPr/>
        </p:nvPicPr>
        <p:blipFill>
          <a:blip r:embed="rId1"/>
          <a:stretch/>
        </p:blipFill>
        <p:spPr>
          <a:xfrm>
            <a:off x="6172200" y="3592440"/>
            <a:ext cx="2666880" cy="109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http://www.chm.bris.ac.uk/webprojects2002/schnepp/pantothenol.jpg"/>
          <p:cNvPicPr/>
          <p:nvPr/>
        </p:nvPicPr>
        <p:blipFill>
          <a:blip r:embed="rId2"/>
          <a:stretch/>
        </p:blipFill>
        <p:spPr>
          <a:xfrm>
            <a:off x="6172200" y="5181480"/>
            <a:ext cx="2743200" cy="11224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9"/>
          <p:cNvSpPr/>
          <p:nvPr/>
        </p:nvSpPr>
        <p:spPr>
          <a:xfrm>
            <a:off x="6776280" y="62596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Garamond"/>
              </a:rPr>
              <a:t>Pantotheno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505560" y="4659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Garamond"/>
              </a:rPr>
              <a:t>Pantothenic aci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09480" y="3365640"/>
            <a:ext cx="4572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ncipal Sources in Fo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 dietary sources of vitamin B5 include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Serving size              m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f liver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a nut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bea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ri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bst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 mel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Avg siz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wer’s Yea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147400" y="0"/>
            <a:ext cx="54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6 –Drug Inter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1000" y="609480"/>
          <a:ext cx="9063000" cy="6018480"/>
        </p:xfrm>
        <a:graphic>
          <a:graphicData uri="http://schemas.openxmlformats.org/drawingml/2006/table">
            <a:tbl>
              <a:tblPr/>
              <a:tblGrid>
                <a:gridCol w="3021120"/>
                <a:gridCol w="3095640"/>
                <a:gridCol w="29462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rug clas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chanism of inter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Hydraz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Iproniazid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Isoniazid, hydralaz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act with pyridoxal and PLP to form a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ydraz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ntibio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Cycloser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acts with PLP to form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nox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-DO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-3,4-dihydroxyphenylalan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acts with PLP to f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etrahydroquino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eriva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Chel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enicill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acts with PLP to f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hiazoli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Ethan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Increased catabolism of PLP, low plasma lev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7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5" name="Picture 9" descr="http://t1.gstatic.com/images?q=tbn:ANd9GcS--HtkYRxCP_9oF0KwMPNAdpkKwly0L-MoQn63VTsl_ulMuD20"/>
          <p:cNvPicPr/>
          <p:nvPr/>
        </p:nvPicPr>
        <p:blipFill>
          <a:blip r:embed="rId1"/>
          <a:stretch/>
        </p:blipFill>
        <p:spPr>
          <a:xfrm>
            <a:off x="685800" y="1371600"/>
            <a:ext cx="267660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http://t2.gstatic.com/images?q=tbn:ANd9GcR-XNVhGkuZIDOJB3O2y_ll3baCFeaINQ0OnYfksFWo2gJ4d_24UQ"/>
          <p:cNvPicPr/>
          <p:nvPr/>
        </p:nvPicPr>
        <p:blipFill>
          <a:blip r:embed="rId2"/>
          <a:stretch/>
        </p:blipFill>
        <p:spPr>
          <a:xfrm>
            <a:off x="838080" y="434340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http://t1.gstatic.com/images?q=tbn:ANd9GcTGhfnwj0oNlTHxJaFJwXRZIe9nR31T0HhIVIcYc2bCa59zRS1W"/>
          <p:cNvPicPr/>
          <p:nvPr/>
        </p:nvPicPr>
        <p:blipFill>
          <a:blip r:embed="rId3"/>
          <a:stretch/>
        </p:blipFill>
        <p:spPr>
          <a:xfrm>
            <a:off x="6019920" y="4343400"/>
            <a:ext cx="274320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http://t1.gstatic.com/images?q=tbn:ANd9GcR2DTqjVOvvCrsI1LyKW6K3vRGj_3wdzZKVX1Xco4-Oh1bc2ERi"/>
          <p:cNvPicPr/>
          <p:nvPr/>
        </p:nvPicPr>
        <p:blipFill>
          <a:blip r:embed="rId4"/>
          <a:stretch/>
        </p:blipFill>
        <p:spPr>
          <a:xfrm>
            <a:off x="5943600" y="1371600"/>
            <a:ext cx="27432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3312360" y="0"/>
            <a:ext cx="40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7 (BIOT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380880" y="906480"/>
            <a:ext cx="5943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Imidazolidinone tetrahydro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ophene-4- valeric ac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tin is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quired f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s that are involved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boxylation reactio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etyl-CoA carboxyl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uvate carboxyl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sm of carbohydrate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pi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mino ac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A: 100- 200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/da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7" descr="http://4.bp.blogspot.com/_z1WKIZdCa_c/SNUMeKMAYXI/AAAAAAAAAXw/UjiSzYlDZQA/s320/800px-Biotin_structure.svg"/>
          <p:cNvPicPr/>
          <p:nvPr/>
        </p:nvPicPr>
        <p:blipFill>
          <a:blip r:embed="rId1"/>
          <a:stretch/>
        </p:blipFill>
        <p:spPr>
          <a:xfrm>
            <a:off x="6477120" y="1219320"/>
            <a:ext cx="2531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032200" y="0"/>
            <a:ext cx="52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ncipal Sources of  Vitamin B7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2" descr="http://www.natures-health-foods.com/images/venetiancalfliveronions.jpg"/>
          <p:cNvPicPr/>
          <p:nvPr/>
        </p:nvPicPr>
        <p:blipFill>
          <a:blip r:embed="rId1"/>
          <a:stretch/>
        </p:blipFill>
        <p:spPr>
          <a:xfrm>
            <a:off x="685800" y="838080"/>
            <a:ext cx="2209680" cy="1712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947520" y="2590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alf live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4" descr="http://www.brecorder.com/images/pic2012/10/soybean.jpg"/>
          <p:cNvPicPr/>
          <p:nvPr/>
        </p:nvPicPr>
        <p:blipFill>
          <a:blip r:embed="rId2"/>
          <a:stretch/>
        </p:blipFill>
        <p:spPr>
          <a:xfrm>
            <a:off x="3581280" y="8380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"/>
          <p:cNvSpPr/>
          <p:nvPr/>
        </p:nvSpPr>
        <p:spPr>
          <a:xfrm>
            <a:off x="3664080" y="25146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oybeans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6" descr="http://www.wheatmontana.com/store/images/Hard-Red-Winter-Wheat.jpg"/>
          <p:cNvPicPr/>
          <p:nvPr/>
        </p:nvPicPr>
        <p:blipFill>
          <a:blip r:embed="rId3"/>
          <a:stretch/>
        </p:blipFill>
        <p:spPr>
          <a:xfrm>
            <a:off x="6477120" y="88416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6740280" y="2514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ole whe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8" descr="http://www.foodsubs.com/Photos/steelcutoats2.jpg"/>
          <p:cNvPicPr/>
          <p:nvPr/>
        </p:nvPicPr>
        <p:blipFill>
          <a:blip r:embed="rId4"/>
          <a:stretch/>
        </p:blipFill>
        <p:spPr>
          <a:xfrm>
            <a:off x="609480" y="4659480"/>
            <a:ext cx="2210040" cy="18237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0"/>
          <p:cNvSpPr/>
          <p:nvPr/>
        </p:nvSpPr>
        <p:spPr>
          <a:xfrm>
            <a:off x="540000" y="6488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at meal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Picture 10" descr="http://i301.photobucket.com/albums/nn69/arronsky/mushrooms-1.jpg"/>
          <p:cNvPicPr/>
          <p:nvPr/>
        </p:nvPicPr>
        <p:blipFill>
          <a:blip r:embed="rId5"/>
          <a:stretch/>
        </p:blipFill>
        <p:spPr>
          <a:xfrm>
            <a:off x="3429000" y="4659480"/>
            <a:ext cx="2209680" cy="18288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2"/>
          <p:cNvSpPr/>
          <p:nvPr/>
        </p:nvSpPr>
        <p:spPr>
          <a:xfrm>
            <a:off x="3784320" y="64119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hroom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3" name="Picture 12" descr="http://www.diwinetaste.com/html/dwt200610/images/Avocado.jpg"/>
          <p:cNvPicPr/>
          <p:nvPr/>
        </p:nvPicPr>
        <p:blipFill>
          <a:blip r:embed="rId6"/>
          <a:stretch/>
        </p:blipFill>
        <p:spPr>
          <a:xfrm>
            <a:off x="6400800" y="465948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4"/>
          <p:cNvSpPr/>
          <p:nvPr/>
        </p:nvSpPr>
        <p:spPr>
          <a:xfrm>
            <a:off x="7179120" y="6411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vocad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Picture 14" descr=" Desktop Wallpaper · Gallery · Miscellaneous &#10; Culinary, best quality Wallpapers - egg and milk"/>
          <p:cNvPicPr/>
          <p:nvPr/>
        </p:nvPicPr>
        <p:blipFill>
          <a:blip r:embed="rId7"/>
          <a:stretch/>
        </p:blipFill>
        <p:spPr>
          <a:xfrm>
            <a:off x="3733920" y="3048120"/>
            <a:ext cx="1726920" cy="12952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6"/>
          <p:cNvSpPr/>
          <p:nvPr/>
        </p:nvSpPr>
        <p:spPr>
          <a:xfrm>
            <a:off x="5348160" y="3429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ilk &amp; Eg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520720" y="7632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457200" y="628560"/>
            <a:ext cx="822960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functions are dependent on a biotin-containing enzym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ucose synthes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e key initial step in  gluconeogenesi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 metabolis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ynthesis and breakdown of fatty acids as well as the essential fatty acid metabolism such as conversion of linoleic acid to various eicosanoid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ino acid metabolis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reakdown of amino acids, such as threonine, isoleucine, and methionine, for use as energy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 division and grow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otin plays an important role in DNA synthesi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833200" y="-5076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tin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838080" y="777960"/>
            <a:ext cx="7772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tin is found in numerous foods and also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sized by intestinal bacteria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is vitamin is r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ies are general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n only after lo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ic therapies which deplet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flora or with anticonvulsant therapy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ssive consumption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w eggs (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otin antagonist)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gg white protei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id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events intestinal absorption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t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1447920" y="1522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TIN  DEFICIENCY SYMPTOMS</a:t>
            </a: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2" name="Picture 2" descr="http://images.yourdictionary.com/images/definitions/lg/exhaustion.jpg"/>
          <p:cNvPicPr/>
          <p:nvPr/>
        </p:nvPicPr>
        <p:blipFill>
          <a:blip r:embed="rId1"/>
          <a:stretch/>
        </p:blipFill>
        <p:spPr>
          <a:xfrm>
            <a:off x="685800" y="1424160"/>
            <a:ext cx="2286000" cy="16761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622080" y="3100320"/>
            <a:ext cx="256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trem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haus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4" name="Picture 4" descr="http://sleepdisorders.dolyan.com/wp-content/uploads/2012/01/Suffering-from-CPAP-Drowsiness-Do-Not-Worry.jpg"/>
          <p:cNvPicPr/>
          <p:nvPr/>
        </p:nvPicPr>
        <p:blipFill>
          <a:blip r:embed="rId2"/>
          <a:stretch/>
        </p:blipFill>
        <p:spPr>
          <a:xfrm>
            <a:off x="3733920" y="1398600"/>
            <a:ext cx="2438280" cy="17524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4425480" y="3151080"/>
            <a:ext cx="15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owsines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Picture 6" descr="http://news.consumerreports.org/a/6a00d83451e0d569e201310fddba63970c-800wi"/>
          <p:cNvPicPr/>
          <p:nvPr/>
        </p:nvPicPr>
        <p:blipFill>
          <a:blip r:embed="rId3"/>
          <a:stretch/>
        </p:blipFill>
        <p:spPr>
          <a:xfrm>
            <a:off x="6781680" y="139860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7247880" y="31510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le pai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8" descr="http://www.buzzle.com/img/articleImages/340080-43628-16.jpg"/>
          <p:cNvPicPr/>
          <p:nvPr/>
        </p:nvPicPr>
        <p:blipFill>
          <a:blip r:embed="rId4"/>
          <a:stretch/>
        </p:blipFill>
        <p:spPr>
          <a:xfrm>
            <a:off x="7237440" y="4267080"/>
            <a:ext cx="1704960" cy="16765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9"/>
          <p:cNvSpPr/>
          <p:nvPr/>
        </p:nvSpPr>
        <p:spPr>
          <a:xfrm>
            <a:off x="7098120" y="5867280"/>
            <a:ext cx="205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s of appetit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0" name="Picture 10" descr="https://encrypted-tbn3.gstatic.com/images?q=tbn:ANd9GcQZxMv6tWe_5RPMHI0Pk1cAnZloU9JIYwwAQ3_YbpgDO9O_iaBvCg"/>
          <p:cNvPicPr/>
          <p:nvPr/>
        </p:nvPicPr>
        <p:blipFill>
          <a:blip r:embed="rId5"/>
          <a:stretch/>
        </p:blipFill>
        <p:spPr>
          <a:xfrm>
            <a:off x="2743200" y="4267080"/>
            <a:ext cx="1981080" cy="17114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1"/>
          <p:cNvSpPr/>
          <p:nvPr/>
        </p:nvSpPr>
        <p:spPr>
          <a:xfrm>
            <a:off x="2977920" y="5943600"/>
            <a:ext cx="149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press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Picture 12" descr="http://www.projectorreviews.com/images-projectors-q2-08/Pro8100_lotr_gandalf_large.jpg"/>
          <p:cNvPicPr/>
          <p:nvPr/>
        </p:nvPicPr>
        <p:blipFill>
          <a:blip r:embed="rId6"/>
          <a:stretch/>
        </p:blipFill>
        <p:spPr>
          <a:xfrm>
            <a:off x="457200" y="4267080"/>
            <a:ext cx="1828800" cy="17272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3"/>
          <p:cNvSpPr/>
          <p:nvPr/>
        </p:nvSpPr>
        <p:spPr>
          <a:xfrm>
            <a:off x="241200" y="5943600"/>
            <a:ext cx="238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rayish skin colo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4" name="Picture 14" descr="http://t1.gstatic.com/images?q=tbn:ANd9GcSxb-B53PFx3MgRjSE153y-c88N8x6RjMUqlPr62f5UkARtRz-V2DDfZxmwWQ"/>
          <p:cNvPicPr/>
          <p:nvPr/>
        </p:nvPicPr>
        <p:blipFill>
          <a:blip r:embed="rId7"/>
          <a:stretch/>
        </p:blipFill>
        <p:spPr>
          <a:xfrm>
            <a:off x="4952880" y="4267080"/>
            <a:ext cx="1947960" cy="16765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6"/>
          <p:cNvSpPr/>
          <p:nvPr/>
        </p:nvSpPr>
        <p:spPr>
          <a:xfrm>
            <a:off x="5414760" y="586728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ir los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468000" y="101520"/>
            <a:ext cx="83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B7 in Prevention and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838080" y="838080"/>
            <a:ext cx="79250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herited syndrom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impaired biotin metabolism in childr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onvulsant therap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otin supplements during chroni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convulsant therapy reduce the risk of biotin deficiency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bet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otin supplements help control blood glucose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rmatologic disorders e.g. Seborrheic dermatosis, acne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her forms of sca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rash can respond to biotin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ly when taken as part of a complete vitamin B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 in conjunction with essential fatty acid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mega-6 and omega-3 fatty acids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ir and nail disord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People with dry, brittle hair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gernails may benefit from biot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2"/>
          <p:cNvSpPr/>
          <p:nvPr/>
        </p:nvSpPr>
        <p:spPr>
          <a:xfrm>
            <a:off x="2057400" y="3049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Garamond"/>
              </a:rPr>
              <a:t>VITAMIN B9 </a:t>
            </a: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(FOLIC ACID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Picture 5" descr="http://www.buzzle.com/img/articleImages/422292-4122-1.jpg"/>
          <p:cNvPicPr/>
          <p:nvPr/>
        </p:nvPicPr>
        <p:blipFill>
          <a:blip r:embed="rId1"/>
          <a:stretch/>
        </p:blipFill>
        <p:spPr>
          <a:xfrm>
            <a:off x="228600" y="1905120"/>
            <a:ext cx="3514680" cy="248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http://photos.demandstudios.com/203/199/fotolia_8829098_XS.jpg"/>
          <p:cNvPicPr/>
          <p:nvPr/>
        </p:nvPicPr>
        <p:blipFill>
          <a:blip r:embed="rId2"/>
          <a:stretch/>
        </p:blipFill>
        <p:spPr>
          <a:xfrm>
            <a:off x="4648320" y="190512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http://www.openarmscpc.org/wp-content/uploads/2011/04/baby-shape-nutritionPregnancy-Nutrition-Facts-Calcium-and-Folate-Are-Essential-for-Proper-Pregnancy-Nutrition.jpg"/>
          <p:cNvPicPr/>
          <p:nvPr/>
        </p:nvPicPr>
        <p:blipFill>
          <a:blip r:embed="rId3"/>
          <a:stretch/>
        </p:blipFill>
        <p:spPr>
          <a:xfrm>
            <a:off x="2819520" y="4495680"/>
            <a:ext cx="320040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2590920" y="152280"/>
            <a:ext cx="4419360" cy="99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48320" y="2895480"/>
            <a:ext cx="4419360" cy="3733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457200" y="121932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water soluble conjugate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teridine base, 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-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inobenzoic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id and glutamic acid or pteroylmonoglutamic aci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80880" y="2732040"/>
            <a:ext cx="403884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folate absorbed from the diet is converted to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form, tetrahydrofolat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F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enzym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5-methyl-THF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major storage form in the bod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~50% in live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eds vitamin B12 to be activ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743200" y="112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A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 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ap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0 – 800 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4724280" y="2895480"/>
            <a:ext cx="45720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 Sources in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ncipal dietary sources of biotin includ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Serving size           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μ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f live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bea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wer’s Yea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at ger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g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Avg siz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ccol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226960" y="-127080"/>
            <a:ext cx="43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04920" y="438120"/>
            <a:ext cx="8686800" cy="61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tothenic acid is a part of CoA that acts as a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cellular carrier for few carbons-group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ists more than 100 pathways of intermediate metabolism including those of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Synthesis of Sterol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olesterol and 7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hydrocholesterol), Fatty acids, and Keto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s such as Pyruvic aci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Energy produc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Synthesis of vitamins A and 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iosynthesis of prote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mino acid by assist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rmation of leucine, arginine,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ioni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essential for the formation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moglob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electron-carrying cytochrome protei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itochondrial respiratory cha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synthesis of the neurotransmitter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etylcholin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1448640" y="533520"/>
            <a:ext cx="676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EMICAL STRUCTURE OF FOLIC ACI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9" name="Picture 2" descr="https://encrypted-tbn2.gstatic.com/images?q=tbn:ANd9GcQgMNIgYbxRsDBLAK7TQ6GLtmjEPj_JMP7OHuJWjawDQ1cggSivGA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521720" y="208080"/>
            <a:ext cx="542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9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04920" y="882720"/>
            <a:ext cx="8381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F derivatives act as coenzymes for C1-transfer (methyl, methylene, formyl or formimino group) during biosynthetic reactions which helps the following functi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on of RBC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its role in creat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the iron containing substance in haemoglobi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on of WBC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 metaboli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t plays a central role in the interconversion of amino acids such as glycine, serine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hionin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synthesis of structural and functional protei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609480" y="522360"/>
            <a:ext cx="777240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on of nucleotides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P, GTP, and d TMP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ic aci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NA and RNA which are essential for growing and dividing cells. Therefore, cells that rapidly turn over and are replaced, such a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cells and cells lining the digestive tra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re particularly dependent on TH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er formation of the brain, spinal cord, and nerve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NS) in the embryo. Closure of the neural tube in the fetus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the 28th day of pregna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cannot be completed without Vitamin B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762120" y="533520"/>
            <a:ext cx="74674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most pronounce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 of folate deficiency on cellular processes is upo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A synthes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ue to an impairment in d TMP synthesis)      arrest of cell cycle of rapidly proliferating cells, particularly, the RBCs       resulted in occurrence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galoblastic anemi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or vitamin B12 deficiency (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normally large immature and dysfunctional erythrocyt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 which causes fatigue, weakness, shortness of breath, decreased ability to concentrate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ments in white bloo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development and leukopenia          reduce immune responses to infection and/or canc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6477120" y="1600200"/>
            <a:ext cx="30528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85" name="Straight Arrow Connector 3"/>
          <p:cNvCxnSpPr/>
          <p:nvPr/>
        </p:nvCxnSpPr>
        <p:spPr>
          <a:xfrm>
            <a:off x="7009920" y="3657600"/>
            <a:ext cx="3056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86" name="Straight Arrow Connector 4"/>
          <p:cNvCxnSpPr/>
          <p:nvPr/>
        </p:nvCxnSpPr>
        <p:spPr>
          <a:xfrm>
            <a:off x="4495320" y="2362320"/>
            <a:ext cx="3819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87" name="Straight Arrow Connector 6"/>
          <p:cNvCxnSpPr/>
          <p:nvPr/>
        </p:nvCxnSpPr>
        <p:spPr>
          <a:xfrm>
            <a:off x="3733560" y="5715000"/>
            <a:ext cx="53388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88" name="Rectangle 7"/>
          <p:cNvSpPr/>
          <p:nvPr/>
        </p:nvSpPr>
        <p:spPr>
          <a:xfrm>
            <a:off x="1400400" y="0"/>
            <a:ext cx="601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ajor Symptoms of Vitamin B9 Deficiency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304920" y="460440"/>
            <a:ext cx="83818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ed cell growth in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stive tract, inflammation of tissues in the mouth, stomac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ntestine  reduced absorption of nutri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fetal growth and development, birth defects such as Neural Tube Defec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TDs) e.g. Spina bifi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2" descr="http://medicalimages.allrefer.com/large/megaloblastic-anemia-view-of-red-blood-cells.jpg"/>
          <p:cNvPicPr/>
          <p:nvPr/>
        </p:nvPicPr>
        <p:blipFill>
          <a:blip r:embed="rId1"/>
          <a:stretch/>
        </p:blipFill>
        <p:spPr>
          <a:xfrm>
            <a:off x="304920" y="3809880"/>
            <a:ext cx="2590560" cy="1905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http://www.umm.edu/graphics/images/en/15220.jpg"/>
          <p:cNvPicPr/>
          <p:nvPr/>
        </p:nvPicPr>
        <p:blipFill>
          <a:blip r:embed="rId2"/>
          <a:stretch/>
        </p:blipFill>
        <p:spPr>
          <a:xfrm>
            <a:off x="3124080" y="3809880"/>
            <a:ext cx="2438640" cy="18464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88440" y="561960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galoblastic anem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670920" y="56386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ucopen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4" name="Picture 8" descr="http://www.daviddarling.info/images/spina_bifida_1.jpg"/>
          <p:cNvPicPr/>
          <p:nvPr/>
        </p:nvPicPr>
        <p:blipFill>
          <a:blip r:embed="rId3"/>
          <a:stretch/>
        </p:blipFill>
        <p:spPr>
          <a:xfrm>
            <a:off x="5867280" y="3809880"/>
            <a:ext cx="3014640" cy="18766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8"/>
          <p:cNvSpPr/>
          <p:nvPr/>
        </p:nvSpPr>
        <p:spPr>
          <a:xfrm>
            <a:off x="5867280" y="5662440"/>
            <a:ext cx="32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ural Tube Defects e.g. Spina Bifida (SB) SB occurs when two sides of the spine fail to close and protect spinal cor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"/>
          <p:cNvSpPr/>
          <p:nvPr/>
        </p:nvSpPr>
        <p:spPr>
          <a:xfrm>
            <a:off x="678600" y="55440"/>
            <a:ext cx="767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9 Deficiency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0880" y="611280"/>
            <a:ext cx="83822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who depend o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ed food and neglect  whole grains and vegetab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k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y chronic diseas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health status such as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oriasis, anemia, infections, cancer, fever, trauma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gery, or burns sharply increase folate requirem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disease interfer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folate metabolism and increases excre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pid growth childhoo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adolescenc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gnancy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p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eres with absorption, impairs conversion to THF, and increases excre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of ascorbic acid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of vitamin B12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s folate metabolism and produces signs of folate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629640" y="152280"/>
            <a:ext cx="75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Folic Acid in Prevention and Therap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457200" y="1049400"/>
            <a:ext cx="807732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hylaxis from birth defect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emental folate (400μg/day) days befor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ion and during early pregnancy reduces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of birth defects, particularly neural tube defects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ft lip and pala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herosclerosi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ate help preventing atherosclerosis (heart attack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peripheral vascular disease) in people 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vated homocysteine (THF with Vitamin B12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oxify homocysteine to methionine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hance immunity in case of infection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380880"/>
            <a:ext cx="8001000" cy="66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cer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ate supplements may also reduce the risk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n cancer in people with inflammatory bowe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s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ate + vitamin A can reduce the risk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rvical dysplasia (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normal changes in the cell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surface of the cervi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rogressing to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rvical cance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ate + vitamin B12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dysplasia in the lungs of smokers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 the risk of lung cance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ychiatric/nervous disorder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ptoms of dementia in elderly people may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by folic acid supplementation. Fol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djunctive therapy with lithium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 of manic- depressive ill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1844280" y="23796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olic Acid – Drug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600200" y="1363680"/>
            <a:ext cx="65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 reduce folate level e.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ir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contraceptive p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ac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convuls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ic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ic acid antagonis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trex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2"/>
          <p:cNvSpPr/>
          <p:nvPr/>
        </p:nvSpPr>
        <p:spPr>
          <a:xfrm>
            <a:off x="205740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2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5" name="Picture 4" descr="http://www.vitaminb12-deficiencysymptoms.com/wp-content/uploads/2010/09/b12richfood.jpg"/>
          <p:cNvPicPr/>
          <p:nvPr/>
        </p:nvPicPr>
        <p:blipFill>
          <a:blip r:embed="rId1"/>
          <a:stretch/>
        </p:blipFill>
        <p:spPr>
          <a:xfrm>
            <a:off x="533520" y="2209680"/>
            <a:ext cx="4876560" cy="405612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7" name="Picture 8" descr="http://t2.gstatic.com/images?q=tbn:ANd9GcSBxUeWnLhzVX8KUN5Nm2sV2YeFGEmnXXuNIlWCTuAcrAHLUKDa"/>
          <p:cNvPicPr/>
          <p:nvPr/>
        </p:nvPicPr>
        <p:blipFill>
          <a:blip r:embed="rId2"/>
          <a:stretch/>
        </p:blipFill>
        <p:spPr>
          <a:xfrm>
            <a:off x="5791320" y="2209680"/>
            <a:ext cx="3124080" cy="40388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1134720" y="1219320"/>
            <a:ext cx="67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balamin, Antipernicious anemia facto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621800" y="0"/>
            <a:ext cx="56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B5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2120" y="60948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esthesi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t is a sensation of tingling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king, or numbness of a person's skin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burning sensation in lower leg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oint and muscle ach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ding of hair col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d immunity: impaired antibody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dache, depression, insomnia, and fatig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7" descr="http://images.humsurfer.com/files/98cfdcd26968a28ea05e945b2099a834"/>
          <p:cNvPicPr/>
          <p:nvPr/>
        </p:nvPicPr>
        <p:blipFill>
          <a:blip r:embed="rId1"/>
          <a:stretch/>
        </p:blipFill>
        <p:spPr>
          <a:xfrm>
            <a:off x="457200" y="51055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64040" y="632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esthesi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8" descr="http://www.bodybuildingestore.com/wp-content/uploads/2012/07/Causes-Of-Aching-Muscles.jpg"/>
          <p:cNvPicPr/>
          <p:nvPr/>
        </p:nvPicPr>
        <p:blipFill>
          <a:blip r:embed="rId2"/>
          <a:stretch/>
        </p:blipFill>
        <p:spPr>
          <a:xfrm>
            <a:off x="2209680" y="5167440"/>
            <a:ext cx="1447920" cy="1184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2292480" y="632448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le ach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4038480" y="5160960"/>
            <a:ext cx="1600200" cy="1163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4424400" y="6248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m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3" descr="http://www.demotivation.us/media/demotivators/thumb/demotivation.us_Insomnia-Why-cant-it-start-in-the-Morning_130037168394.jpg"/>
          <p:cNvPicPr/>
          <p:nvPr/>
        </p:nvPicPr>
        <p:blipFill>
          <a:blip r:embed="rId4"/>
          <a:stretch/>
        </p:blipFill>
        <p:spPr>
          <a:xfrm>
            <a:off x="5943600" y="5105520"/>
            <a:ext cx="1447920" cy="1218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6102000" y="63244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omn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5" descr="http://kozmoz.org/wordpress/wp-content/uploads/image/index/fatigue2.jpg"/>
          <p:cNvPicPr/>
          <p:nvPr/>
        </p:nvPicPr>
        <p:blipFill>
          <a:blip r:embed="rId5"/>
          <a:stretch/>
        </p:blipFill>
        <p:spPr>
          <a:xfrm>
            <a:off x="7620120" y="5105520"/>
            <a:ext cx="1361880" cy="1218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5"/>
          <p:cNvSpPr/>
          <p:nvPr/>
        </p:nvSpPr>
        <p:spPr>
          <a:xfrm>
            <a:off x="7928280" y="62485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ig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3583440" y="22860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457200" y="981000"/>
            <a:ext cx="830592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B12 is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mily of related compoun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ing a cobalt at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balamins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wo dietary forms of vitamin B12 are available and they are known as  methylcobalam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eth yl-B12)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5- deoxyadenosylcobalam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enzyme-B12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tic form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B12 are known a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ydroxy-cobalam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yanocobalam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t occur naturally in foods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 of B12 is very complicated and based on a corrin ring, similar to porphyrin ring found in heme, chlorophyll, and cytochrom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http://media-1.web.britannica.com/eb-media/19/13819-004-23BB55F5.gif"/>
          <p:cNvPicPr/>
          <p:nvPr/>
        </p:nvPicPr>
        <p:blipFill>
          <a:blip r:embed="rId1"/>
          <a:stretch/>
        </p:blipFill>
        <p:spPr>
          <a:xfrm>
            <a:off x="1195560" y="219240"/>
            <a:ext cx="7362720" cy="119538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3632760" y="1001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5385240" y="1001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5421600" y="222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603240" y="222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3478680" y="617220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"/>
          <p:cNvSpPr/>
          <p:nvPr/>
        </p:nvSpPr>
        <p:spPr>
          <a:xfrm>
            <a:off x="685800" y="457200"/>
            <a:ext cx="784872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ral metal ion i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balt (Co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oordinates with nitrogens of corrin ring and that of dimethylbenzimidazole grou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ixth coordination can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CN- (in Cyanocobolamin),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- (in Hydroxycobalamin),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n Methylcobalamin, Me-B12)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xyadenosyl group (Adenosylcobalamin, Ado-B12 = coenzyme-B12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y small amounts of vitamin B12 are stored in our bodies, about 90% of which (2–5 mg) is stored in the liver and is sufficient for 2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228600" y="2057400"/>
            <a:ext cx="4800600" cy="4343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5181480" y="2057400"/>
            <a:ext cx="3962520" cy="4343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228600" y="76320"/>
            <a:ext cx="86868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B12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stinal flora produces the vitamin required for man and animals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12 can be obtained from animal diet on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228600" y="2133720"/>
            <a:ext cx="487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ncipal Sources in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 dietary sources of vitamin B12 include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Serving size      </a:t>
            </a:r>
            <a:r>
              <a:rPr b="1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f live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6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g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Avg siz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large gla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Chee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0.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se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5257800" y="2362320"/>
            <a:ext cx="3886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quired Dai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mount (RD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/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- 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- 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– 1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 – 1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1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304920" y="1905120"/>
            <a:ext cx="8534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B12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food is bound to prote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l of the stomach releases the free vitamin B1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released, vitamin B12 combines wi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ycoprotein intrinsic factor (IF) secreted by the parietal cells of stomac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m a complex which can be absorbed from ileu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851480" y="533520"/>
            <a:ext cx="48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bsorption of vitamin B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304920" y="1062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sential with folic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BCs maturation (it protects against Pernicious anemi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ate metaboli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Vitamin B12 is vital in activation of folate to the active THF. In vitamin B12 deficiency, tissue stores of folate are “trapped” as inactive methylated forms, and a functional folate deficiency resul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 metaboli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ct as coenzyme with THF in the synthesis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hionine from homocyste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297880" y="131760"/>
            <a:ext cx="436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12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685800" y="1009800"/>
            <a:ext cx="7696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vital in fat metabolism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maintain the antioxid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b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taining glutathione in the reduced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rvous syst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is vital i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sis of myelin sheath of neuron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 replic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t is essential with THF in synthesis of nucleic aci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735120" y="0"/>
            <a:ext cx="77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12 Deficienc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28600" y="663480"/>
            <a:ext cx="86868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dery people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ic secretion and intrinsic factor is diminished. Both are required for optimum vitamin B12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suffering from chronic gastrit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trophy of the parietal cells that produce intrinsic facto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stinal disease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chronic enteritis with diarrhea reduce absorption of vitamin B12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disease impair vitamin B12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(as the liver is the site of vitamin B12 storage and the site of production of specific transport protein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ct vegetarian die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evoid of animal product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garette smoking impairs vitamin B12 statu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5" descr="http://www.daviddarling.info/images/pernicious_anemia.jpg"/>
          <p:cNvPicPr/>
          <p:nvPr/>
        </p:nvPicPr>
        <p:blipFill>
          <a:blip r:embed="rId1"/>
          <a:stretch/>
        </p:blipFill>
        <p:spPr>
          <a:xfrm>
            <a:off x="7086600" y="914400"/>
            <a:ext cx="2057400" cy="25909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"/>
          <p:cNvSpPr/>
          <p:nvPr/>
        </p:nvSpPr>
        <p:spPr>
          <a:xfrm>
            <a:off x="1047240" y="0"/>
            <a:ext cx="738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ajor Symptoms of Vitamin B12 Deficienc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04920" y="592200"/>
            <a:ext cx="670536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nicious Anemi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t is a case of megaloblastic anemia caus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rophic gastritis and parietal cell los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haracterized by neuropathy: ease fatigue, weakness, shortness of breath, decreased ability to concentrate, and peripheral nerve damage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urological chang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h as numbness and tingling in the hands and feet (due to diminished myelinatio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iculty in maintaining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ance, depression, confusion, dementia, poor memor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3" name="Picture 7" descr="https://encrypted-tbn1.gstatic.com/images?q=tbn:ANd9GcQOorVL6-NcWnvJ13Y4shWirYKbSJ11z5dExvgg8emlOXxhKuEyFw"/>
          <p:cNvPicPr/>
          <p:nvPr/>
        </p:nvPicPr>
        <p:blipFill>
          <a:blip r:embed="rId2"/>
          <a:stretch/>
        </p:blipFill>
        <p:spPr>
          <a:xfrm>
            <a:off x="7010280" y="38862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https://encrypted-tbn2.gstatic.com/images?q=tbn:ANd9GcQ2_u7f3biXh0UWq8nAqc35JypuvpUDINgmKcNYIOvRWZl8NnrTVQ"/>
          <p:cNvPicPr/>
          <p:nvPr/>
        </p:nvPicPr>
        <p:blipFill>
          <a:blip r:embed="rId3"/>
          <a:stretch/>
        </p:blipFill>
        <p:spPr>
          <a:xfrm>
            <a:off x="7086600" y="533412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914400" y="801720"/>
            <a:ext cx="70866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d platelet produc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crease risk of abnormal bleeding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white blood cel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reduces immune responses to infection and/or cance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cell replica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s to atrophy and inflammation of mucous membranes in the mouth, tongue and GIT, reduced absorption of nutrients, constipation, anorexia, and weight los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293120" y="108252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5 Deficienc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80880" y="1920960"/>
            <a:ext cx="838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tothenic acid is widely prevalent in food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inical deficiency only may occur, usually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ction with other B-vitamin deficiencies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nic illnes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p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ing hypocaloric dieting for weight-lo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606240" y="0"/>
            <a:ext cx="798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B12 in Prevention and Therap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380880" y="609480"/>
            <a:ext cx="838224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 and prevent deficiency conditions and perniciou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mia (a condition in which the body can't make enough healthy red blood cell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combination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folat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megaloblastic anem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psychiatric/nervou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orders e.g. dementia and memory loss, particularly in the elderly peop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helpfu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folat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reven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rapy of atherosclerosis associated with high levels of blood homocystei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helpfu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folat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reduce smoking-induced precancerous cells in the lungs          reducing risk of lung cance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338" name="Straight Arrow Connector 4"/>
          <p:cNvCxnSpPr/>
          <p:nvPr/>
        </p:nvCxnSpPr>
        <p:spPr>
          <a:xfrm>
            <a:off x="5334120" y="5715000"/>
            <a:ext cx="4579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/>
          <p:cNvSpPr/>
          <p:nvPr/>
        </p:nvSpPr>
        <p:spPr>
          <a:xfrm>
            <a:off x="609480" y="4267080"/>
            <a:ext cx="82296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304920" y="642960"/>
            <a:ext cx="8458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tion of peripheral nerve disorder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pathy in diabetics, trigeminal neuralgias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umatic nerve injuri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ge doses (5- 10 g IV)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cobalam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d in cyanide poison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it combine with cyanide ion to form harmles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yanocobal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762120" y="4267080"/>
            <a:ext cx="7848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n pernicious anemia, vitamin B12 should be given as IM injection (100 to 1000 μg of cyanocobalamin for 5 days followed by 100 to 1000 μg each month) till correction of blood pictur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2"/>
          <p:cNvSpPr/>
          <p:nvPr/>
        </p:nvSpPr>
        <p:spPr>
          <a:xfrm>
            <a:off x="2000880" y="131760"/>
            <a:ext cx="538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2 – Drug Interaction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7200" y="762120"/>
            <a:ext cx="82296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Drugs interfere with its absorption such a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coho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-aminosalicylic aci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chici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omyc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yrami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onvulsants (Phenytoin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form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2 blockers includ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metidin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oton pump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s e.g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meprazol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duce secretion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ic acid and pepsin    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 isolation an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-bound (dietary)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12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344" name="Straight Arrow Connector 4"/>
          <p:cNvCxnSpPr/>
          <p:nvPr/>
        </p:nvCxnSpPr>
        <p:spPr>
          <a:xfrm>
            <a:off x="5105520" y="5409720"/>
            <a:ext cx="45792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2"/>
          <p:cNvSpPr/>
          <p:nvPr/>
        </p:nvSpPr>
        <p:spPr>
          <a:xfrm>
            <a:off x="1905120" y="1981080"/>
            <a:ext cx="5181480" cy="358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3214800" y="31240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X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45720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Pantothenic acid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457200" y="457200"/>
            <a:ext cx="670572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crocytic anemia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its role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oglobin synthesis in conjunction 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on supplementatio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pus erythematosus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ium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tothenate, alone or in conjunc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vitamin E can help in treatment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pus erythematosus and othe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immune disorder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redness and fatigu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ose associate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subclinical pantothenic aci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hriti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ntothenic acid deficienci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often found in patien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eoarthritis and rheumatoid arthritis.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case calcium pantothenate can b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dermimages.med.jhmi.edu/images/Lupus_Erythematosus_Subacute_Cutaneous_2_030402.jpg"/>
          <p:cNvPicPr/>
          <p:nvPr/>
        </p:nvPicPr>
        <p:blipFill>
          <a:blip r:embed="rId1"/>
          <a:stretch/>
        </p:blipFill>
        <p:spPr>
          <a:xfrm>
            <a:off x="7238880" y="2133720"/>
            <a:ext cx="1752840" cy="1314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7238160" y="3425760"/>
            <a:ext cx="18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pus erythematos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http://altered-states.net/barry/newsletter180/osteoarthritis3.jpg"/>
          <p:cNvPicPr/>
          <p:nvPr/>
        </p:nvPicPr>
        <p:blipFill>
          <a:blip r:embed="rId2"/>
          <a:stretch/>
        </p:blipFill>
        <p:spPr>
          <a:xfrm>
            <a:off x="7391520" y="5410080"/>
            <a:ext cx="1447560" cy="1157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dreamstime.com/fatigue-tiredness-weariness-lassitude-thumb19191786.jpg"/>
          <p:cNvPicPr/>
          <p:nvPr/>
        </p:nvPicPr>
        <p:blipFill>
          <a:blip r:embed="rId3"/>
          <a:stretch/>
        </p:blipFill>
        <p:spPr>
          <a:xfrm>
            <a:off x="7315200" y="3962520"/>
            <a:ext cx="1523880" cy="106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http://1.bp.blogspot.com/-SJyTliKFIiM/TncuC8bTW7I/AAAAAAAAAFE/9iybKMYa5EA/s1600/Anemia-2.png"/>
          <p:cNvPicPr/>
          <p:nvPr/>
        </p:nvPicPr>
        <p:blipFill>
          <a:blip r:embed="rId4"/>
          <a:stretch/>
        </p:blipFill>
        <p:spPr>
          <a:xfrm>
            <a:off x="7315200" y="533520"/>
            <a:ext cx="1600200" cy="14475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7701120" y="49528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ig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702200" y="648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hrit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685800" y="457200"/>
            <a:ext cx="640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Wound h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trauma 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yslipidem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bnormal amount of lipids e.g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 and/or fat, in the bloo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betic neuropath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dney dise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damage that can occur in peop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 diabete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xapantothenol (vitamin B5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mulation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sed topic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 of burns and itching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2" descr="http://www.sciencephoto.com/image/477334/large/C0142775-Calf_wound_healing_after_artery_surgery-SPL.jpg"/>
          <p:cNvPicPr/>
          <p:nvPr/>
        </p:nvPicPr>
        <p:blipFill>
          <a:blip r:embed="rId1"/>
          <a:stretch/>
        </p:blipFill>
        <p:spPr>
          <a:xfrm>
            <a:off x="7162920" y="685800"/>
            <a:ext cx="1828800" cy="12175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7242120" y="19051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healin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9" descr="http://amriyapharm.com/images/dermatological/larg/l_dexpanthenol_cream.gif"/>
          <p:cNvPicPr/>
          <p:nvPr/>
        </p:nvPicPr>
        <p:blipFill>
          <a:blip r:embed="rId2"/>
          <a:stretch/>
        </p:blipFill>
        <p:spPr>
          <a:xfrm>
            <a:off x="7086600" y="480060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463120" y="2133720"/>
            <a:ext cx="4920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6 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Pyridoxine)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372040" y="-76320"/>
            <a:ext cx="44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6 (Pyridoxi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57200" y="457200"/>
            <a:ext cx="8381880" cy="48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1934, a Hungarian physician, Paul Gyo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ed a substance that was able to cure a sk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in rats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ititis acrodyn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th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ance he named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B6 converted in the body to its major active form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idoxal-5-phosphat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PLP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e activa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dequat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inc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iboflavi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bod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B6 are low (only about 150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) hence  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ady supply of vitamin B6 is essenti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its deficiency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ly it is a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idine derivativ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49400" y="-395280"/>
            <a:ext cx="1314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1828800" y="52117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 – 1.4 mg (Adul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6 mg (Infants less than 1 yea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mg (During pregnancy and lacta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Uhu</dc:creator>
  <dc:description/>
  <dc:language>en-US</dc:language>
  <cp:lastModifiedBy>Mashal Almutairi</cp:lastModifiedBy>
  <dcterms:modified xsi:type="dcterms:W3CDTF">2015-12-09T05:35:58Z</dcterms:modified>
  <cp:revision>4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