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3.jpeg" ContentType="image/jpeg"/>
  <Override PartName="/ppt/media/image34.jpeg" ContentType="image/jpeg"/>
  <Override PartName="/ppt/media/image23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74.png" ContentType="image/png"/>
  <Override PartName="/ppt/media/image61.jpeg" ContentType="image/jpeg"/>
  <Override PartName="/ppt/media/image4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76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32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6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36A2-04A3-457B-AB14-998F18B95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C33C-D6A7-4A6E-888C-A8DD37536F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AC0B-41D0-48A6-B0D3-4910D5BBB8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12FE-DDB4-4D1F-8784-E83FAD510D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3154-0187-4237-B9F0-E0B814EE63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3095-CC46-4F25-94B6-90DADB6F68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F047-3ABF-409A-958C-285A7E6E49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7639-E991-4040-BD54-0EC7241B94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FE3E-FEB9-4E2B-BEA5-C4EDE3C881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CEC4-45D4-4F58-9793-B8A879BD64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AB41-6FF4-4B14-AF5A-1F42F8EA94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270F-67D0-4C9C-8DE4-6595E7882D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51E1-4D8E-4E8B-A812-950E345B78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7FE0-9982-40E3-8D59-25BDCB8C5D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BE1F-41E1-47C1-A944-B62AE62950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BB23-2F5E-43AC-B92C-4309F46889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2D99-0FAF-4B60-9985-3714FC0016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DD68-EB57-4C2B-B40B-2FE1C650FE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BD24-436B-4786-9E86-3ADA9F5C10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F8BF-7D69-4AE4-9906-661D2B10CA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B7D8-550E-469C-818B-B1DDF31011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0538-6397-43AF-B4A8-4BBDC48D46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D5CA-1DA4-49B2-BFC2-A3251382B3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4E19-D6CD-4274-8864-DE0054F037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99A3-BEA7-4799-B886-9633A0C300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C426-F5D0-4A13-9B7B-27342267A6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4298-35C4-44FE-AF5B-7469ACE1F2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9EAE-2BDF-4D79-9B2B-16D627A159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BF72-F792-4037-AB08-80BA5BD577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8D9D-1358-4658-8880-C59EEAC393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E35B-15E2-43F7-B85C-3A4E4B52D7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8AA1-7588-4DA9-ACD5-D1DFAA55A0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3CCF-A6E5-45C4-B64B-80E62CB025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A7EB-C56D-4D9F-AD92-F9E536F7E8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25B3-B1A3-4851-914E-6329073766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54C1-09AC-440E-8E98-498DA080CA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ECD1-6946-46F3-8731-CCBDE686D5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2C15-46E3-4F81-AECC-A15B155FA5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46C1-B8B0-4225-B824-598D0972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D3E9-F6AF-496F-9013-CCE9936A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E7A1-3E64-4B0D-B83B-7A81543C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DFC0F-F3B2-4591-8360-A81719BB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C2F1-716C-4EA0-B657-463BC68C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8B70-0478-459C-BF78-D5B4BD94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9EBC-810E-4502-9E98-F811F2B4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6E64-AB7C-48B4-8307-EB61B054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C3CA-E362-4340-8BA6-4CEABD18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8723-04D3-4F02-BAA5-7DFCCD21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0D86-EE73-4986-9146-B33CE075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2CD2F-BE63-42E3-A412-29419BE6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CCD5-97D9-48B8-9688-E03668A4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0FC9-24A7-4E14-9E88-232C15AF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C4F0-B178-4D11-9511-67E3F40C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4F1A-D885-4F24-952C-AA72057D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DC5B-7C42-4C29-9A03-21BAD4D3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C512-7655-449B-A026-C840121B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AC164-455B-4001-927A-CCBD74F0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7DBE8-F860-4951-B0CC-01C721C0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FCAD-74A0-4F90-843C-18FFEA3C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9D6D8-5071-45BA-A5A1-90BFE701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D6398-46F4-4D60-B430-AAB0F363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4F557-B582-4E48-9DB7-123DA304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A0B0-EA87-40D4-89D7-C9F125E38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E7D4-CB44-4D90-A17E-3473F97831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368440" y="2654280"/>
            <a:ext cx="4600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Vitamin B5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Pantothenic Acid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6" descr="http://s2.hubimg.com/u/2809753_f260.jpg"/>
          <p:cNvPicPr/>
          <p:nvPr/>
        </p:nvPicPr>
        <p:blipFill>
          <a:blip r:embed="rId1"/>
          <a:stretch/>
        </p:blipFill>
        <p:spPr>
          <a:xfrm>
            <a:off x="6400800" y="4343400"/>
            <a:ext cx="2565360" cy="1924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http://thumbs.ifood.tv/files/imagecache/th-250x220/images/editor/images/Mushrooms(1).jpg"/>
          <p:cNvPicPr/>
          <p:nvPr/>
        </p:nvPicPr>
        <p:blipFill>
          <a:blip r:embed="rId2"/>
          <a:stretch/>
        </p:blipFill>
        <p:spPr>
          <a:xfrm>
            <a:off x="6400800" y="380880"/>
            <a:ext cx="2381400" cy="20955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12" descr="http://sphotos-a.xx.fbcdn.net/hphotos-prn1/c20.0.403.403/p403x403/552684_397601813641111_126990515_n.jpg"/>
          <p:cNvPicPr/>
          <p:nvPr/>
        </p:nvPicPr>
        <p:blipFill>
          <a:blip r:embed="rId3"/>
          <a:stretch/>
        </p:blipFill>
        <p:spPr>
          <a:xfrm>
            <a:off x="228600" y="409680"/>
            <a:ext cx="2438280" cy="21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http://chowtimes.com/wp-content/uploads/2011/11/Pomegranate-Salad-with-Nuts-10.jpg"/>
          <p:cNvPicPr/>
          <p:nvPr/>
        </p:nvPicPr>
        <p:blipFill>
          <a:blip r:embed="rId4"/>
          <a:stretch/>
        </p:blipFill>
        <p:spPr>
          <a:xfrm>
            <a:off x="228600" y="4191120"/>
            <a:ext cx="25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0" descr="http://www.globalherbalsupplies.com/vitamin_information/images/vitamin_b_pyridoxine.gif"/>
          <p:cNvPicPr/>
          <p:nvPr/>
        </p:nvPicPr>
        <p:blipFill>
          <a:blip r:embed="rId1"/>
          <a:stretch/>
        </p:blipFill>
        <p:spPr>
          <a:xfrm>
            <a:off x="585720" y="603360"/>
            <a:ext cx="3095640" cy="3876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605960" y="266688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yridoxo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22" descr="The chemical structure of pyridoxamine"/>
          <p:cNvPicPr/>
          <p:nvPr/>
        </p:nvPicPr>
        <p:blipFill>
          <a:blip r:embed="rId2"/>
          <a:stretch/>
        </p:blipFill>
        <p:spPr>
          <a:xfrm>
            <a:off x="762120" y="3429000"/>
            <a:ext cx="2666880" cy="1962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1379520" y="556272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yridoxami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12" descr="http://t2.gstatic.com/images?q=tbn:ANd9GcSdRv1gkmPhtevwwVnr_fgE3RU40wHruHTc-dRNAV6gPmKyWh5g&amp;t=1"/>
          <p:cNvPicPr/>
          <p:nvPr/>
        </p:nvPicPr>
        <p:blipFill>
          <a:blip r:embed="rId3"/>
          <a:stretch/>
        </p:blipFill>
        <p:spPr>
          <a:xfrm>
            <a:off x="4800600" y="533520"/>
            <a:ext cx="2971800" cy="2049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5486760" y="25909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Garamond"/>
              </a:rPr>
              <a:t>Pyridox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24" descr="http://www.sigmaaldrich.com/structureimages/34/mfcd00006334.gif"/>
          <p:cNvPicPr/>
          <p:nvPr/>
        </p:nvPicPr>
        <p:blipFill>
          <a:blip r:embed="rId4"/>
          <a:stretch/>
        </p:blipFill>
        <p:spPr>
          <a:xfrm>
            <a:off x="4395960" y="3267000"/>
            <a:ext cx="3321000" cy="4469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5330520" y="55627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yridoxic Aci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390680" y="6095880"/>
            <a:ext cx="65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FORMS OF PYRIDOX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6" descr="http://www.clancysofchester.co.uk/calves%20liver.jpg"/>
          <p:cNvPicPr/>
          <p:nvPr/>
        </p:nvPicPr>
        <p:blipFill>
          <a:blip r:embed="rId1"/>
          <a:stretch/>
        </p:blipFill>
        <p:spPr>
          <a:xfrm>
            <a:off x="533520" y="1295280"/>
            <a:ext cx="2133360" cy="1419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917640" y="274320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f liver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10" descr="http://unsophisticook.com/wp-content/uploads/2010/11/Tips-For-Flavorful-Mashed-Potatoes.jpg"/>
          <p:cNvPicPr/>
          <p:nvPr/>
        </p:nvPicPr>
        <p:blipFill>
          <a:blip r:embed="rId2"/>
          <a:stretch/>
        </p:blipFill>
        <p:spPr>
          <a:xfrm>
            <a:off x="3352680" y="914400"/>
            <a:ext cx="2133720" cy="14479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4043880" y="22860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ato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12" descr="http://fatlossschool.com/wp-content/uploads/2009/10/banana.jpg"/>
          <p:cNvPicPr/>
          <p:nvPr/>
        </p:nvPicPr>
        <p:blipFill>
          <a:blip r:embed="rId3"/>
          <a:stretch/>
        </p:blipFill>
        <p:spPr>
          <a:xfrm>
            <a:off x="6324480" y="1066680"/>
            <a:ext cx="2286000" cy="1457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"/>
          <p:cNvSpPr/>
          <p:nvPr/>
        </p:nvSpPr>
        <p:spPr>
          <a:xfrm>
            <a:off x="7093080" y="25909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ana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14" descr="http://www.bbcgoodfood.com/content/knowhow/glossary/lentils/image.jpg"/>
          <p:cNvPicPr/>
          <p:nvPr/>
        </p:nvPicPr>
        <p:blipFill>
          <a:blip r:embed="rId4"/>
          <a:stretch/>
        </p:blipFill>
        <p:spPr>
          <a:xfrm>
            <a:off x="457200" y="4583160"/>
            <a:ext cx="2133720" cy="16574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2"/>
          <p:cNvSpPr/>
          <p:nvPr/>
        </p:nvSpPr>
        <p:spPr>
          <a:xfrm>
            <a:off x="1071360" y="62596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ti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16" descr="http://t1.gstatic.com/images?q=tbn:ANd9GcRfucbCe-elQa7sYRQPEjy_ue6oC_sH47RkiYvCGoTI1VmdDUv2iw"/>
          <p:cNvPicPr/>
          <p:nvPr/>
        </p:nvPicPr>
        <p:blipFill>
          <a:blip r:embed="rId5"/>
          <a:stretch/>
        </p:blipFill>
        <p:spPr>
          <a:xfrm>
            <a:off x="3733920" y="266688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http://medias.tresvalles-lodge.com/sitegenic/IMAGE/760972/tres-valles-fly-fishing-lodge-patagonia-argentina-trout.jpg"/>
          <p:cNvPicPr/>
          <p:nvPr/>
        </p:nvPicPr>
        <p:blipFill>
          <a:blip r:embed="rId6"/>
          <a:stretch/>
        </p:blipFill>
        <p:spPr>
          <a:xfrm>
            <a:off x="3657600" y="4495680"/>
            <a:ext cx="2209680" cy="16765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5"/>
          <p:cNvSpPr/>
          <p:nvPr/>
        </p:nvSpPr>
        <p:spPr>
          <a:xfrm>
            <a:off x="4273560" y="6172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ou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20" descr="http://www.gimmesomeoven.com/wp-content/uploads/2010/04/fresh-spinach.jpg"/>
          <p:cNvPicPr/>
          <p:nvPr/>
        </p:nvPicPr>
        <p:blipFill>
          <a:blip r:embed="rId7"/>
          <a:stretch/>
        </p:blipFill>
        <p:spPr>
          <a:xfrm>
            <a:off x="6705720" y="4419720"/>
            <a:ext cx="2209680" cy="17524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7"/>
          <p:cNvSpPr/>
          <p:nvPr/>
        </p:nvSpPr>
        <p:spPr>
          <a:xfrm>
            <a:off x="7180200" y="61070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nac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2744280" y="15228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urces of Vitamin B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2778840" y="-7632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B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57200" y="380880"/>
            <a:ext cx="8305920" cy="62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P is a coenzyme involved in more than 100 metabolic reactions in the body including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in synthesi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interconversion of amino acids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version of tryptophan to niac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helps in maintaing blood glucos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a norma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ge.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aloric intake is low, vitamin B6 help to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 stored carbohydrate to glucose to mainta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 blood sugar leve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pid metabolis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It is important i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thesis of lipids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yelin sheath surrounding nerves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lso 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 of polyunsaturated fatty acids of cel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ran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helps in hemoglobin synthesi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oxygen transport b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 blood cel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1543320" y="237960"/>
            <a:ext cx="56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ymptoms of Vitamin B6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609480" y="938160"/>
            <a:ext cx="8077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kin disorders: </a:t>
            </a:r>
            <a:r>
              <a:rPr b="0" lang="sv-SE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rmatitis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kin inflammation), </a:t>
            </a:r>
            <a:r>
              <a:rPr b="0" lang="sv-SE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matitis 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flammation of the mucous lining of any of t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in the mouth)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ossit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is inflamm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ion of the tongue )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inful fissures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rack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t the angles of the mouth and on the lip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normal brain-wave patterns, convulsions, and muscl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tch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ression,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ritability, anxiety, confusion, headache, a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omn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5" descr="http://injust10pages.com/z/images/blog_images/diet_and_nutrition/Dermatitis_Herpetiformis.jpg"/>
          <p:cNvPicPr/>
          <p:nvPr/>
        </p:nvPicPr>
        <p:blipFill>
          <a:blip r:embed="rId1"/>
          <a:stretch/>
        </p:blipFill>
        <p:spPr>
          <a:xfrm>
            <a:off x="457200" y="5105520"/>
            <a:ext cx="1600200" cy="1199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690840" y="6324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matit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7" descr="http://healmed.ru/health-child/images/stomatitis.jpg"/>
          <p:cNvPicPr/>
          <p:nvPr/>
        </p:nvPicPr>
        <p:blipFill>
          <a:blip r:embed="rId2"/>
          <a:stretch/>
        </p:blipFill>
        <p:spPr>
          <a:xfrm>
            <a:off x="2286000" y="5105520"/>
            <a:ext cx="152388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2519280" y="63244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matiti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www.hxbenefit.com/wp-content/uploads/2011/08/Atrophic-Glossitis.jpg"/>
          <p:cNvPicPr/>
          <p:nvPr/>
        </p:nvPicPr>
        <p:blipFill>
          <a:blip r:embed="rId3"/>
          <a:stretch/>
        </p:blipFill>
        <p:spPr>
          <a:xfrm>
            <a:off x="4038480" y="5105520"/>
            <a:ext cx="1524240" cy="12189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4272480" y="62485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ssit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Picture 11" descr="http://www.alabamaneurofeedback.com/wp-content/uploads/2012/01/brain1.jpg"/>
          <p:cNvPicPr/>
          <p:nvPr/>
        </p:nvPicPr>
        <p:blipFill>
          <a:blip r:embed="rId4"/>
          <a:stretch/>
        </p:blipFill>
        <p:spPr>
          <a:xfrm>
            <a:off x="5791320" y="5105520"/>
            <a:ext cx="1523880" cy="12189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0"/>
          <p:cNvSpPr/>
          <p:nvPr/>
        </p:nvSpPr>
        <p:spPr>
          <a:xfrm>
            <a:off x="5723280" y="624852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normal brain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ve pattern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Picture 13" descr="http://cdn.nurseslabs.com/wp-content/uploads/2010/05/Febrile-Convulsions1.jpg"/>
          <p:cNvPicPr/>
          <p:nvPr/>
        </p:nvPicPr>
        <p:blipFill>
          <a:blip r:embed="rId5"/>
          <a:stretch/>
        </p:blipFill>
        <p:spPr>
          <a:xfrm>
            <a:off x="7620120" y="51814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2"/>
          <p:cNvSpPr/>
          <p:nvPr/>
        </p:nvSpPr>
        <p:spPr>
          <a:xfrm>
            <a:off x="7701840" y="63244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uls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762120" y="712800"/>
            <a:ext cx="76960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emia and decreased antibody produc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sible increased risk of atheroscleros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e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total cholesterol and LDL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esterol in the blood, and reduced level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L-cholestero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sible increas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k of calcium-oxalate kidn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Picture 4" descr="http://kidshealth.org/parent/medical/heart/headers_90906/anemia1.jpg"/>
          <p:cNvPicPr/>
          <p:nvPr/>
        </p:nvPicPr>
        <p:blipFill>
          <a:blip r:embed="rId1"/>
          <a:stretch/>
        </p:blipFill>
        <p:spPr>
          <a:xfrm>
            <a:off x="838080" y="5113440"/>
            <a:ext cx="2286000" cy="1253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http://www.omnimedicalsearch.com/conditions-diseases/images/atherosclerosis-plaque1.jpg"/>
          <p:cNvPicPr/>
          <p:nvPr/>
        </p:nvPicPr>
        <p:blipFill>
          <a:blip r:embed="rId2"/>
          <a:stretch/>
        </p:blipFill>
        <p:spPr>
          <a:xfrm>
            <a:off x="3505320" y="5105520"/>
            <a:ext cx="2133360" cy="12952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3890520" y="632448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heroscleros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605600" y="63244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em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Picture 8" descr="http://www.pilotfriend.com/aeromed/medical/images2/25.jpg"/>
          <p:cNvPicPr/>
          <p:nvPr/>
        </p:nvPicPr>
        <p:blipFill>
          <a:blip r:embed="rId3"/>
          <a:stretch/>
        </p:blipFill>
        <p:spPr>
          <a:xfrm>
            <a:off x="6324480" y="5105520"/>
            <a:ext cx="2133720" cy="12952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6485400" y="632448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dney stone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531360" y="0"/>
            <a:ext cx="789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high risk of vitamin  B6 De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457200" y="657360"/>
            <a:ext cx="6781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ring rapid growth ra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hildhood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lesence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uring lactation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gnancy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ly increase in vitam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6 requirem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gh protein intak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vitamin B6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der peop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ittle diets intake and l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absorptio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common drugs (including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al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aceptive pil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ophyll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educe vitamin B6 stor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7467480" y="914400"/>
            <a:ext cx="1347840" cy="1219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2"/>
          <a:stretch/>
        </p:blipFill>
        <p:spPr>
          <a:xfrm>
            <a:off x="7467480" y="2819520"/>
            <a:ext cx="1447920" cy="885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http://t2.gstatic.com/images?q=tbn:ANd9GcQC0WclQe06SCbBLkNNdGdQjHbJS2YblVLEt1Qm1Lu-V2z3MJYP"/>
          <p:cNvPicPr/>
          <p:nvPr/>
        </p:nvPicPr>
        <p:blipFill>
          <a:blip r:embed="rId3"/>
          <a:stretch/>
        </p:blipFill>
        <p:spPr>
          <a:xfrm>
            <a:off x="7620120" y="426708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http://timesofindia.indiatimes.com/photo/15517055.cms"/>
          <p:cNvPicPr/>
          <p:nvPr/>
        </p:nvPicPr>
        <p:blipFill>
          <a:blip r:embed="rId4"/>
          <a:stretch/>
        </p:blipFill>
        <p:spPr>
          <a:xfrm>
            <a:off x="7467480" y="5638680"/>
            <a:ext cx="1486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380880" y="195120"/>
            <a:ext cx="701064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with chronic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estive problem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liver problems, diarrhea 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ritab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wel syndrome (po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B6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rptio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with other chronic dis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ing asthma, coronary hear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, diabetes, kidney failure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eumatoid arthritis, and cancer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reast, bladder, and lymp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d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dividuals with a poor qualit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t or 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adequate B6 intak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cohol consump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promot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struction and loss of vitamin B6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bod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www.alpha-1foundation.org/images/411.jpg"/>
          <p:cNvPicPr/>
          <p:nvPr/>
        </p:nvPicPr>
        <p:blipFill>
          <a:blip r:embed="rId1"/>
          <a:stretch/>
        </p:blipFill>
        <p:spPr>
          <a:xfrm>
            <a:off x="7543800" y="380880"/>
            <a:ext cx="1371600" cy="901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http://assets.inhabitat.com/wp-content/uploads/2010/04/asthma.jpg"/>
          <p:cNvPicPr/>
          <p:nvPr/>
        </p:nvPicPr>
        <p:blipFill>
          <a:blip r:embed="rId2"/>
          <a:stretch/>
        </p:blipFill>
        <p:spPr>
          <a:xfrm>
            <a:off x="7620120" y="2209680"/>
            <a:ext cx="1143000" cy="766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http://t0.gstatic.com/images?q=tbn:ANd9GcTm2zGAyZAfXVbTokUXiWtj5AbMjC0zO5IgjEvB172o2e2wGZWjBd_Tv2drKw"/>
          <p:cNvPicPr/>
          <p:nvPr/>
        </p:nvPicPr>
        <p:blipFill>
          <a:blip r:embed="rId3"/>
          <a:stretch/>
        </p:blipFill>
        <p:spPr>
          <a:xfrm>
            <a:off x="7620120" y="304812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Acute kidney failure"/>
          <p:cNvPicPr/>
          <p:nvPr/>
        </p:nvPicPr>
        <p:blipFill>
          <a:blip r:embed="rId4"/>
          <a:stretch/>
        </p:blipFill>
        <p:spPr>
          <a:xfrm>
            <a:off x="7620120" y="3886200"/>
            <a:ext cx="1143000" cy="781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http://3.bp.blogspot.com/-Vv7QrKhybRg/T_5ExJc8dHI/AAAAAAAAAJU/f5NZrAiR9AA/s320/no-drinking.jpg"/>
          <p:cNvPicPr/>
          <p:nvPr/>
        </p:nvPicPr>
        <p:blipFill>
          <a:blip r:embed="rId5"/>
          <a:stretch/>
        </p:blipFill>
        <p:spPr>
          <a:xfrm>
            <a:off x="7734240" y="5562720"/>
            <a:ext cx="1181160" cy="11048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7927920" y="12193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v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1003680" y="85680"/>
            <a:ext cx="72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s of Vitamin B6 in Prevention and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685800" y="736560"/>
            <a:ext cx="76201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Treatment and prevention of deficiency and for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at high risk of deficiency of Vitamin B6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kin disorders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ruptions, acne etc.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Reduction of the severity and frequency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onchial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thm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herosclerosis and cardio-vascular diseas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tendency for platelets to clump together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s LDL-cholesterol and raises HD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esterol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In certai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emi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one or with iron and vitamin 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In Pregnancy-associated nausea and vomiting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914400" y="650880"/>
            <a:ext cx="72388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menstrual syndrom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t helps prevention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o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ngs, edema, acne, and breas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derness characteristic of PM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thritis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t helps in reduction of swelling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ammation in the joints of the fingers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rve disorder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carpal tunnel syndrom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curs when the median nerve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runs from the forearm in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 of the hand, becomes pressed 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eezed at the wrist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ther form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ve inflammation and neuropath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1232640" y="685800"/>
            <a:ext cx="59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oxicity and side effects of vitamin B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457200" y="1665360"/>
            <a:ext cx="830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high doses (1000mg/day) for long time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ipheral nerve  conditions: numbness in hand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fee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es of vitamin B6 not exceeding 500mg/day, 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doses for short periods (days to weeks), a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toxic in healthy pers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ry high doses of vitamin B6 during lactation ma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e milk produ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21" name="Straight Arrow Connector 4"/>
          <p:cNvCxnSpPr/>
          <p:nvPr/>
        </p:nvCxnSpPr>
        <p:spPr>
          <a:xfrm>
            <a:off x="990720" y="2437920"/>
            <a:ext cx="38160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1679400" y="0"/>
            <a:ext cx="56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5 ( Pantothenic Aci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28600" y="685800"/>
            <a:ext cx="8534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a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ptid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posed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-Pantoic  aci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β-Alanin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is found as calcium salt or as alcohol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ntothenol). The biologically active form of Vitam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5 i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enzyme 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oA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04920" y="2370240"/>
            <a:ext cx="4724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DA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7-10 mg (4 Years and over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5 mg (less than 4 Year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0" descr="http://0.tqn.com/d/chemistry/1/0/i/M/1/pantothenic_acid.jpg"/>
          <p:cNvPicPr/>
          <p:nvPr/>
        </p:nvPicPr>
        <p:blipFill>
          <a:blip r:embed="rId1"/>
          <a:stretch/>
        </p:blipFill>
        <p:spPr>
          <a:xfrm>
            <a:off x="6172200" y="3592440"/>
            <a:ext cx="2666880" cy="1098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http://www.chm.bris.ac.uk/webprojects2002/schnepp/pantothenol.jpg"/>
          <p:cNvPicPr/>
          <p:nvPr/>
        </p:nvPicPr>
        <p:blipFill>
          <a:blip r:embed="rId2"/>
          <a:stretch/>
        </p:blipFill>
        <p:spPr>
          <a:xfrm>
            <a:off x="6172200" y="5181480"/>
            <a:ext cx="2743200" cy="11224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9"/>
          <p:cNvSpPr/>
          <p:nvPr/>
        </p:nvSpPr>
        <p:spPr>
          <a:xfrm>
            <a:off x="6776280" y="62596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Garamond"/>
              </a:rPr>
              <a:t>Pantotheno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505560" y="46594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Garamond"/>
              </a:rPr>
              <a:t>Pantothenic aci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609480" y="3365640"/>
            <a:ext cx="4572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ncipal Sources in Foo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al dietary sources of vitamin B5 include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Serving size              m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f liver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a nut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 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 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ybea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 ri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bst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er mel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Avg siz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wer’s Yeas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2147400" y="0"/>
            <a:ext cx="544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B6 –Drug Inter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1000" y="609480"/>
          <a:ext cx="9063000" cy="6018480"/>
        </p:xfrm>
        <a:graphic>
          <a:graphicData uri="http://schemas.openxmlformats.org/drawingml/2006/table">
            <a:tbl>
              <a:tblPr/>
              <a:tblGrid>
                <a:gridCol w="3021120"/>
                <a:gridCol w="3095640"/>
                <a:gridCol w="294624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rug class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chanism of inter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Hydraz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Iproniazid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Isoniazid, hydralaz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React with pyridoxal and PLP to form a 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ydraz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Antibio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Cycloser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Reacts with PLP to form 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nox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L-DO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l-3,4-dihydroxyphenylalan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Reacts with PLP to fo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etrahydroquino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Deriva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Chel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Penicill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Reacts with PLP to fo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hiazoli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Alcoh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Ethan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Increased catabolism of PLP, low plasma lev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7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5" name="Picture 9" descr="http://t1.gstatic.com/images?q=tbn:ANd9GcS--HtkYRxCP_9oF0KwMPNAdpkKwly0L-MoQn63VTsl_ulMuD20"/>
          <p:cNvPicPr/>
          <p:nvPr/>
        </p:nvPicPr>
        <p:blipFill>
          <a:blip r:embed="rId1"/>
          <a:stretch/>
        </p:blipFill>
        <p:spPr>
          <a:xfrm>
            <a:off x="685800" y="1371600"/>
            <a:ext cx="267660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http://t2.gstatic.com/images?q=tbn:ANd9GcR-XNVhGkuZIDOJB3O2y_ll3baCFeaINQ0OnYfksFWo2gJ4d_24UQ"/>
          <p:cNvPicPr/>
          <p:nvPr/>
        </p:nvPicPr>
        <p:blipFill>
          <a:blip r:embed="rId2"/>
          <a:stretch/>
        </p:blipFill>
        <p:spPr>
          <a:xfrm>
            <a:off x="838080" y="4343400"/>
            <a:ext cx="2819520" cy="2133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http://t1.gstatic.com/images?q=tbn:ANd9GcTGhfnwj0oNlTHxJaFJwXRZIe9nR31T0HhIVIcYc2bCa59zRS1W"/>
          <p:cNvPicPr/>
          <p:nvPr/>
        </p:nvPicPr>
        <p:blipFill>
          <a:blip r:embed="rId3"/>
          <a:stretch/>
        </p:blipFill>
        <p:spPr>
          <a:xfrm>
            <a:off x="6019920" y="4343400"/>
            <a:ext cx="2743200" cy="214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http://t1.gstatic.com/images?q=tbn:ANd9GcR2DTqjVOvvCrsI1LyKW6K3vRGj_3wdzZKVX1Xco4-Oh1bc2ERi"/>
          <p:cNvPicPr/>
          <p:nvPr/>
        </p:nvPicPr>
        <p:blipFill>
          <a:blip r:embed="rId4"/>
          <a:stretch/>
        </p:blipFill>
        <p:spPr>
          <a:xfrm>
            <a:off x="5943600" y="1371600"/>
            <a:ext cx="27432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3312360" y="0"/>
            <a:ext cx="40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7 (BIOT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380880" y="906480"/>
            <a:ext cx="5943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Imidazolidinone tetrahydro-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ophene-4- valeric aci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tin is 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quired f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zymes that are involved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boxylation reactio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etyl-CoA carboxylas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uvate carboxylas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bolism of carbohydrates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pid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mino aci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DA: 100- 200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/da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Picture 7" descr="http://4.bp.blogspot.com/_z1WKIZdCa_c/SNUMeKMAYXI/AAAAAAAAAXw/UjiSzYlDZQA/s320/800px-Biotin_structure.svg"/>
          <p:cNvPicPr/>
          <p:nvPr/>
        </p:nvPicPr>
        <p:blipFill>
          <a:blip r:embed="rId1"/>
          <a:stretch/>
        </p:blipFill>
        <p:spPr>
          <a:xfrm>
            <a:off x="6477120" y="1219320"/>
            <a:ext cx="2531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2032200" y="0"/>
            <a:ext cx="52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ncipal Sources of  Vitamin B7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Picture 2" descr="http://www.natures-health-foods.com/images/venetiancalfliveronions.jpg"/>
          <p:cNvPicPr/>
          <p:nvPr/>
        </p:nvPicPr>
        <p:blipFill>
          <a:blip r:embed="rId1"/>
          <a:stretch/>
        </p:blipFill>
        <p:spPr>
          <a:xfrm>
            <a:off x="685800" y="838080"/>
            <a:ext cx="2209680" cy="17128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4"/>
          <p:cNvSpPr/>
          <p:nvPr/>
        </p:nvSpPr>
        <p:spPr>
          <a:xfrm>
            <a:off x="947520" y="2590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alf liver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5" name="Picture 4" descr="http://www.brecorder.com/images/pic2012/10/soybean.jpg"/>
          <p:cNvPicPr/>
          <p:nvPr/>
        </p:nvPicPr>
        <p:blipFill>
          <a:blip r:embed="rId2"/>
          <a:stretch/>
        </p:blipFill>
        <p:spPr>
          <a:xfrm>
            <a:off x="3581280" y="83808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6"/>
          <p:cNvSpPr/>
          <p:nvPr/>
        </p:nvSpPr>
        <p:spPr>
          <a:xfrm>
            <a:off x="3664080" y="25146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oybeans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6" descr="http://www.wheatmontana.com/store/images/Hard-Red-Winter-Wheat.jpg"/>
          <p:cNvPicPr/>
          <p:nvPr/>
        </p:nvPicPr>
        <p:blipFill>
          <a:blip r:embed="rId3"/>
          <a:stretch/>
        </p:blipFill>
        <p:spPr>
          <a:xfrm>
            <a:off x="6477120" y="884160"/>
            <a:ext cx="2057400" cy="16462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6740280" y="25146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hole whe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Picture 8" descr="http://www.foodsubs.com/Photos/steelcutoats2.jpg"/>
          <p:cNvPicPr/>
          <p:nvPr/>
        </p:nvPicPr>
        <p:blipFill>
          <a:blip r:embed="rId4"/>
          <a:stretch/>
        </p:blipFill>
        <p:spPr>
          <a:xfrm>
            <a:off x="609480" y="4659480"/>
            <a:ext cx="2210040" cy="18237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0"/>
          <p:cNvSpPr/>
          <p:nvPr/>
        </p:nvSpPr>
        <p:spPr>
          <a:xfrm>
            <a:off x="540000" y="6488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at meal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Picture 10" descr="http://i301.photobucket.com/albums/nn69/arronsky/mushrooms-1.jpg"/>
          <p:cNvPicPr/>
          <p:nvPr/>
        </p:nvPicPr>
        <p:blipFill>
          <a:blip r:embed="rId5"/>
          <a:stretch/>
        </p:blipFill>
        <p:spPr>
          <a:xfrm>
            <a:off x="3429000" y="4659480"/>
            <a:ext cx="2209680" cy="18288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2"/>
          <p:cNvSpPr/>
          <p:nvPr/>
        </p:nvSpPr>
        <p:spPr>
          <a:xfrm>
            <a:off x="3784320" y="64119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hroom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3" name="Picture 12" descr="http://www.diwinetaste.com/html/dwt200610/images/Avocado.jpg"/>
          <p:cNvPicPr/>
          <p:nvPr/>
        </p:nvPicPr>
        <p:blipFill>
          <a:blip r:embed="rId6"/>
          <a:stretch/>
        </p:blipFill>
        <p:spPr>
          <a:xfrm>
            <a:off x="6400800" y="465948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4"/>
          <p:cNvSpPr/>
          <p:nvPr/>
        </p:nvSpPr>
        <p:spPr>
          <a:xfrm>
            <a:off x="7179120" y="6411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vocad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5" name="Picture 14" descr=" Desktop Wallpaper · Gallery · Miscellaneous &#10; Culinary, best quality Wallpapers - egg and milk"/>
          <p:cNvPicPr/>
          <p:nvPr/>
        </p:nvPicPr>
        <p:blipFill>
          <a:blip r:embed="rId7"/>
          <a:stretch/>
        </p:blipFill>
        <p:spPr>
          <a:xfrm>
            <a:off x="3733920" y="3048120"/>
            <a:ext cx="1726920" cy="12952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6"/>
          <p:cNvSpPr/>
          <p:nvPr/>
        </p:nvSpPr>
        <p:spPr>
          <a:xfrm>
            <a:off x="5348160" y="3429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ilk &amp; Egg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2520720" y="76320"/>
            <a:ext cx="44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B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457200" y="628560"/>
            <a:ext cx="8229600" cy="53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functions are dependent on a biotin-containing enzym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ucose synthes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he key initial step in  gluconeogenesi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t metabolis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ynthesis and breakdown of fatty acids as well as the essential fatty acid metabolism such as conversion of linoleic acid to various eicosanoid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ino acid metabolis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reakdown of amino acids, such as threonine, isoleucine, and methionine, for use as energy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ll division and growth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iotin plays an important role in DNA synthesi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2833200" y="-50760"/>
            <a:ext cx="31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iotin De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838080" y="777960"/>
            <a:ext cx="77724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tin is found in numerous foods and also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thesized by intestinal bacteria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c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this vitamin is r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cies are general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n only after lo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biotic therapies which deplet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stinal flora or with anticonvulsant therapy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ssive consumption of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w eggs (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otin antagonist)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gg white protei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vid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revents intestinal absorption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t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1447920" y="1522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IOTIN  DEFICIENCY SYMPTOMS</a:t>
            </a: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2" name="Picture 2" descr="http://images.yourdictionary.com/images/definitions/lg/exhaustion.jpg"/>
          <p:cNvPicPr/>
          <p:nvPr/>
        </p:nvPicPr>
        <p:blipFill>
          <a:blip r:embed="rId1"/>
          <a:stretch/>
        </p:blipFill>
        <p:spPr>
          <a:xfrm>
            <a:off x="685800" y="1424160"/>
            <a:ext cx="2286000" cy="16761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622080" y="3100320"/>
            <a:ext cx="256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trem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haust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4" name="Picture 4" descr="http://sleepdisorders.dolyan.com/wp-content/uploads/2012/01/Suffering-from-CPAP-Drowsiness-Do-Not-Worry.jpg"/>
          <p:cNvPicPr/>
          <p:nvPr/>
        </p:nvPicPr>
        <p:blipFill>
          <a:blip r:embed="rId2"/>
          <a:stretch/>
        </p:blipFill>
        <p:spPr>
          <a:xfrm>
            <a:off x="3733920" y="1398600"/>
            <a:ext cx="2438280" cy="17524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4425480" y="3151080"/>
            <a:ext cx="15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owsines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6" name="Picture 6" descr="http://news.consumerreports.org/a/6a00d83451e0d569e201310fddba63970c-800wi"/>
          <p:cNvPicPr/>
          <p:nvPr/>
        </p:nvPicPr>
        <p:blipFill>
          <a:blip r:embed="rId3"/>
          <a:stretch/>
        </p:blipFill>
        <p:spPr>
          <a:xfrm>
            <a:off x="6781680" y="139860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7247880" y="31510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le pai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8" name="Picture 8" descr="http://www.buzzle.com/img/articleImages/340080-43628-16.jpg"/>
          <p:cNvPicPr/>
          <p:nvPr/>
        </p:nvPicPr>
        <p:blipFill>
          <a:blip r:embed="rId4"/>
          <a:stretch/>
        </p:blipFill>
        <p:spPr>
          <a:xfrm>
            <a:off x="7237440" y="4267080"/>
            <a:ext cx="1704960" cy="16765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9"/>
          <p:cNvSpPr/>
          <p:nvPr/>
        </p:nvSpPr>
        <p:spPr>
          <a:xfrm>
            <a:off x="7098120" y="5867280"/>
            <a:ext cx="205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s of appetit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0" name="Picture 10" descr="https://encrypted-tbn3.gstatic.com/images?q=tbn:ANd9GcQZxMv6tWe_5RPMHI0Pk1cAnZloU9JIYwwAQ3_YbpgDO9O_iaBvCg"/>
          <p:cNvPicPr/>
          <p:nvPr/>
        </p:nvPicPr>
        <p:blipFill>
          <a:blip r:embed="rId5"/>
          <a:stretch/>
        </p:blipFill>
        <p:spPr>
          <a:xfrm>
            <a:off x="2743200" y="4267080"/>
            <a:ext cx="1981080" cy="17114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1"/>
          <p:cNvSpPr/>
          <p:nvPr/>
        </p:nvSpPr>
        <p:spPr>
          <a:xfrm>
            <a:off x="2977920" y="5943600"/>
            <a:ext cx="149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press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2" name="Picture 12" descr="http://www.projectorreviews.com/images-projectors-q2-08/Pro8100_lotr_gandalf_large.jpg"/>
          <p:cNvPicPr/>
          <p:nvPr/>
        </p:nvPicPr>
        <p:blipFill>
          <a:blip r:embed="rId6"/>
          <a:stretch/>
        </p:blipFill>
        <p:spPr>
          <a:xfrm>
            <a:off x="457200" y="4267080"/>
            <a:ext cx="1828800" cy="17272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3"/>
          <p:cNvSpPr/>
          <p:nvPr/>
        </p:nvSpPr>
        <p:spPr>
          <a:xfrm>
            <a:off x="241200" y="5943600"/>
            <a:ext cx="238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rayish skin color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4" name="Picture 14" descr="http://t1.gstatic.com/images?q=tbn:ANd9GcSxb-B53PFx3MgRjSE153y-c88N8x6RjMUqlPr62f5UkARtRz-V2DDfZxmwWQ"/>
          <p:cNvPicPr/>
          <p:nvPr/>
        </p:nvPicPr>
        <p:blipFill>
          <a:blip r:embed="rId7"/>
          <a:stretch/>
        </p:blipFill>
        <p:spPr>
          <a:xfrm>
            <a:off x="4952880" y="4267080"/>
            <a:ext cx="1947960" cy="16765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6"/>
          <p:cNvSpPr/>
          <p:nvPr/>
        </p:nvSpPr>
        <p:spPr>
          <a:xfrm>
            <a:off x="5414760" y="5867280"/>
            <a:ext cx="12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ir los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468000" y="101520"/>
            <a:ext cx="83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s of Vitamin B7 in Prevention and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838080" y="838080"/>
            <a:ext cx="79250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herited syndrom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impaired biotin metabolism in childr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onvulsant therap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iotin supplements during chroni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convulsant therapy reduce the risk of biotin deficiency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bet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iotin supplements help control blood glucose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rmatologic disorders e.g. Seborrheic dermatosis, acne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ther forms of scal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n rash can respond to biotin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ularly when taken as part of a complete vitamin B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 in conjunction with essential fatty acid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mega-6 and omega-3 fatty acids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ir and nail disord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People with dry, brittle hair a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gernails may benefit from biot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2"/>
          <p:cNvSpPr/>
          <p:nvPr/>
        </p:nvSpPr>
        <p:spPr>
          <a:xfrm>
            <a:off x="2057400" y="30492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Garamond"/>
              </a:rPr>
              <a:t>VITAMIN B9 </a:t>
            </a: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(FOLIC ACID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9" name="Picture 5" descr="http://www.buzzle.com/img/articleImages/422292-4122-1.jpg"/>
          <p:cNvPicPr/>
          <p:nvPr/>
        </p:nvPicPr>
        <p:blipFill>
          <a:blip r:embed="rId1"/>
          <a:stretch/>
        </p:blipFill>
        <p:spPr>
          <a:xfrm>
            <a:off x="228600" y="1905120"/>
            <a:ext cx="3514680" cy="2485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http://photos.demandstudios.com/203/199/fotolia_8829098_XS.jpg"/>
          <p:cNvPicPr/>
          <p:nvPr/>
        </p:nvPicPr>
        <p:blipFill>
          <a:blip r:embed="rId2"/>
          <a:stretch/>
        </p:blipFill>
        <p:spPr>
          <a:xfrm>
            <a:off x="4648320" y="1905120"/>
            <a:ext cx="3657600" cy="2441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http://www.openarmscpc.org/wp-content/uploads/2011/04/baby-shape-nutritionPregnancy-Nutrition-Facts-Calcium-and-Folate-Are-Essential-for-Proper-Pregnancy-Nutrition.jpg"/>
          <p:cNvPicPr/>
          <p:nvPr/>
        </p:nvPicPr>
        <p:blipFill>
          <a:blip r:embed="rId3"/>
          <a:stretch/>
        </p:blipFill>
        <p:spPr>
          <a:xfrm>
            <a:off x="2819520" y="4495680"/>
            <a:ext cx="320040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2590920" y="152280"/>
            <a:ext cx="4419360" cy="99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648320" y="2895480"/>
            <a:ext cx="4419360" cy="3733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457200" y="1219320"/>
            <a:ext cx="8153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a water soluble conjugate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teridine base, </a:t>
            </a:r>
            <a:r>
              <a:rPr b="0" i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-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inobenzoic</a:t>
            </a:r>
            <a:r>
              <a:rPr b="0" i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id and glutamic acid or pteroylmonoglutamic aci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80880" y="2732040"/>
            <a:ext cx="403884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f folate absorbed from the diet is converted to th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form, tetrahydrofolat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F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enzym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5-methyl-THF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major storage form in the bod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~50% in liver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: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eds vitamin B12 to be activ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2743200" y="1126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DA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 </a:t>
            </a:r>
            <a:r>
              <a:rPr b="1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d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ap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00 – 800 </a:t>
            </a:r>
            <a:r>
              <a:rPr b="1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d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4724280" y="2895480"/>
            <a:ext cx="457200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al Sources in Fo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incipal dietary sources of biotin include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Serving size           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μ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f liver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ybean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 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wer’s Yeas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at ger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g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Avg siz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nac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ccoli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226960" y="-127080"/>
            <a:ext cx="43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B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304920" y="438120"/>
            <a:ext cx="8686800" cy="61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tothenic acid is a part of CoA that acts as a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acellular carrier for few carbons-group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ssists more than 100 pathways of intermediate metabolism including those of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Synthesis of Sterol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olesterol and 7-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hydrocholesterol), Fatty acids, and Keto-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ids such as Pyruvic aci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Energy produc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Synthesis of vitamins A and 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iosynthesis of prote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mino acid by assist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ormation of leucine, arginine,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ionin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essential for the formation of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moglobi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electron-carrying cytochrome protein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itochondrial respiratory cha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synthesis of the neurotransmitter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etylcholine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1448640" y="533520"/>
            <a:ext cx="676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EMICAL STRUCTURE OF FOLIC ACI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9" name="Picture 2" descr="https://encrypted-tbn2.gstatic.com/images?q=tbn:ANd9GcQgMNIgYbxRsDBLAK7TQ6GLtmjEPj_JMP7OHuJWjawDQ1cggSivGA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1521720" y="208080"/>
            <a:ext cx="542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B9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304920" y="882720"/>
            <a:ext cx="8381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F derivatives act as coenzymes for C1-transfer (methyl, methylene, formyl or formimino group) during biosynthetic reactions which helps the following functi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ion of RBC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its role in creating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the iron containing substance in haemoglobi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ion of WBC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in metabolis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It plays a central role in the interconversion of amino acids such as glycine, serine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hionin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 synthesis of structural and functional protei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609480" y="522360"/>
            <a:ext cx="7772400" cy="58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ion of nucleotides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P, GTP, and d TMP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u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ucleic aci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NA and RNA which are essential for growing and dividing cells. Therefore, cells that rapidly turn over and are replaced, such a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lood cells and cells lining the digestive tra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re particularly dependent on TH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er formation of the brain, spinal cord, and nerve cel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NS) in the embryo. Closure of the neural tube in the fetus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the 28th day of pregna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cannot be completed without Vitamin B9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762120" y="533520"/>
            <a:ext cx="746748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most pronounce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 of folate deficiency on cellular processes is upo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A synthesi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ue to an impairment in d TMP synthesis)      arrest of cell cycle of rapidly proliferating cells, particularly, the RBCs       resulted in occurrence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galoblastic anemia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for vitamin B12 deficiency (characterized b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normally large immature and dysfunctional erythrocyte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    which causes fatigue, weakness, shortness of breath, decreased ability to concentrate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ments in white bloo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 development and leukopenia          reduce immune responses to infection and/or canc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84" name="Straight Arrow Connector 2"/>
          <p:cNvCxnSpPr/>
          <p:nvPr/>
        </p:nvCxnSpPr>
        <p:spPr>
          <a:xfrm>
            <a:off x="6477120" y="1600200"/>
            <a:ext cx="30528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85" name="Straight Arrow Connector 3"/>
          <p:cNvCxnSpPr/>
          <p:nvPr/>
        </p:nvCxnSpPr>
        <p:spPr>
          <a:xfrm>
            <a:off x="7009920" y="3657600"/>
            <a:ext cx="30564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86" name="Straight Arrow Connector 4"/>
          <p:cNvCxnSpPr/>
          <p:nvPr/>
        </p:nvCxnSpPr>
        <p:spPr>
          <a:xfrm>
            <a:off x="4495320" y="2362320"/>
            <a:ext cx="3819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87" name="Straight Arrow Connector 6"/>
          <p:cNvCxnSpPr/>
          <p:nvPr/>
        </p:nvCxnSpPr>
        <p:spPr>
          <a:xfrm>
            <a:off x="3733560" y="5715000"/>
            <a:ext cx="53388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88" name="Rectangle 7"/>
          <p:cNvSpPr/>
          <p:nvPr/>
        </p:nvSpPr>
        <p:spPr>
          <a:xfrm>
            <a:off x="1400400" y="0"/>
            <a:ext cx="601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ajor Symptoms of Vitamin B9 Deficiency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304920" y="460440"/>
            <a:ext cx="83818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ired cell growth in th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gestive tract, inflammation of tissues in the mouth, stomac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intestine  reduced absorption of nutrient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ed fetal growth and development, birth defects such as Neural Tube Defect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TDs) e.g. Spina bifid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0" name="Picture 2" descr="http://medicalimages.allrefer.com/large/megaloblastic-anemia-view-of-red-blood-cells.jpg"/>
          <p:cNvPicPr/>
          <p:nvPr/>
        </p:nvPicPr>
        <p:blipFill>
          <a:blip r:embed="rId1"/>
          <a:stretch/>
        </p:blipFill>
        <p:spPr>
          <a:xfrm>
            <a:off x="304920" y="3809880"/>
            <a:ext cx="2590560" cy="1905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http://www.umm.edu/graphics/images/en/15220.jpg"/>
          <p:cNvPicPr/>
          <p:nvPr/>
        </p:nvPicPr>
        <p:blipFill>
          <a:blip r:embed="rId2"/>
          <a:stretch/>
        </p:blipFill>
        <p:spPr>
          <a:xfrm>
            <a:off x="3124080" y="3809880"/>
            <a:ext cx="2438640" cy="18464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388440" y="5619600"/>
            <a:ext cx="25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galoblastic anem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670920" y="56386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ucopen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4" name="Picture 8" descr="http://www.daviddarling.info/images/spina_bifida_1.jpg"/>
          <p:cNvPicPr/>
          <p:nvPr/>
        </p:nvPicPr>
        <p:blipFill>
          <a:blip r:embed="rId3"/>
          <a:stretch/>
        </p:blipFill>
        <p:spPr>
          <a:xfrm>
            <a:off x="5867280" y="3809880"/>
            <a:ext cx="3014640" cy="18766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8"/>
          <p:cNvSpPr/>
          <p:nvPr/>
        </p:nvSpPr>
        <p:spPr>
          <a:xfrm>
            <a:off x="5867280" y="5662440"/>
            <a:ext cx="32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ural Tube Defects e.g. Spina Bifida (SB) SB occurs when two sides of the spine fail to close and protect spinal cord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1"/>
          <p:cNvSpPr/>
          <p:nvPr/>
        </p:nvSpPr>
        <p:spPr>
          <a:xfrm>
            <a:off x="678600" y="55440"/>
            <a:ext cx="767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High Risk of Vitamin B9 Deficiency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0880" y="611280"/>
            <a:ext cx="83822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who depend o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ed food and neglect  whole grains and vegetabl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oking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y chronic diseas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health status such as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oriasis, anemia, infections, cancer, fever, trauma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gery, or burns sharply increase folate requirement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ver disease interfer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folate metabolism and increases excre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pid growth childhood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adolescenc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gnancy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vy alcohol consump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eres with absorption, impairs conversion to THF, and increases excre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cy of ascorbic acid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cy of vitamin B12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irs folate metabolism and produces signs of folate deficie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1"/>
          <p:cNvSpPr/>
          <p:nvPr/>
        </p:nvSpPr>
        <p:spPr>
          <a:xfrm>
            <a:off x="629640" y="152280"/>
            <a:ext cx="75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s of Folic Acid in Prevention and Therap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457200" y="1049400"/>
            <a:ext cx="8077320" cy="56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hylaxis from birth defects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lemental folate (400μg/day) days befor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ion and during early pregnancy reduces th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k of birth defects, particularly neural tube defects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ft lip and palat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herosclerosis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ate help preventing atherosclerosis (heart attack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peripheral vascular disease) in people with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vated homocysteine (THF with Vitamin B12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oxify homocysteine to methionine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hance immunity in case of infection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380880"/>
            <a:ext cx="8001000" cy="66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ncer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ate supplements may also reduce the risk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n cancer in people with inflammatory bowe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s.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late + vitamin A can reduce the risk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rvical dysplasia (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normal changes in the cell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surface of the cervi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rogressing to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rvical cancer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late + vitamin B12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dysplasia in the lungs of smokers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e the risk of lung cancer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ychiatric/nervous disorder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ptoms of dementia in elderly people may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by folic acid supplementation. Fola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djunctive therapy with lithium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 of manic- depressive illn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1"/>
          <p:cNvSpPr/>
          <p:nvPr/>
        </p:nvSpPr>
        <p:spPr>
          <a:xfrm>
            <a:off x="1844280" y="23796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olic Acid – Drug Intera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1600200" y="1363680"/>
            <a:ext cx="655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 reduce folate level e.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ir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l contraceptive pi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aci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convuls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biotic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lic acid antagonis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trex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2"/>
          <p:cNvSpPr/>
          <p:nvPr/>
        </p:nvSpPr>
        <p:spPr>
          <a:xfrm>
            <a:off x="205740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12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5" name="Picture 4" descr="http://www.vitaminb12-deficiencysymptoms.com/wp-content/uploads/2010/09/b12richfood.jpg"/>
          <p:cNvPicPr/>
          <p:nvPr/>
        </p:nvPicPr>
        <p:blipFill>
          <a:blip r:embed="rId1"/>
          <a:stretch/>
        </p:blipFill>
        <p:spPr>
          <a:xfrm>
            <a:off x="533520" y="2209680"/>
            <a:ext cx="4876560" cy="405612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7" name="Picture 8" descr="http://t2.gstatic.com/images?q=tbn:ANd9GcSBxUeWnLhzVX8KUN5Nm2sV2YeFGEmnXXuNIlWCTuAcrAHLUKDa"/>
          <p:cNvPicPr/>
          <p:nvPr/>
        </p:nvPicPr>
        <p:blipFill>
          <a:blip r:embed="rId2"/>
          <a:stretch/>
        </p:blipFill>
        <p:spPr>
          <a:xfrm>
            <a:off x="5791320" y="2209680"/>
            <a:ext cx="3124080" cy="40388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6"/>
          <p:cNvSpPr/>
          <p:nvPr/>
        </p:nvSpPr>
        <p:spPr>
          <a:xfrm>
            <a:off x="1134720" y="1219320"/>
            <a:ext cx="67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Cobalamin, Antipernicious anemia facto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621800" y="0"/>
            <a:ext cx="56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ymptoms of Vitamin B5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62120" y="609480"/>
            <a:ext cx="73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esthesi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It is a sensation of tingling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cking, or numbness of a person's skin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burning sensation in lower legs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oint and muscle ach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ding of hair col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em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ed immunity: impaired antibody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dache, depression, insomnia, and fatig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7" descr="http://images.humsurfer.com/files/98cfdcd26968a28ea05e945b2099a834"/>
          <p:cNvPicPr/>
          <p:nvPr/>
        </p:nvPicPr>
        <p:blipFill>
          <a:blip r:embed="rId1"/>
          <a:stretch/>
        </p:blipFill>
        <p:spPr>
          <a:xfrm>
            <a:off x="457200" y="51055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464040" y="63244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esthesia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8" descr="http://www.bodybuildingestore.com/wp-content/uploads/2012/07/Causes-Of-Aching-Muscles.jpg"/>
          <p:cNvPicPr/>
          <p:nvPr/>
        </p:nvPicPr>
        <p:blipFill>
          <a:blip r:embed="rId2"/>
          <a:stretch/>
        </p:blipFill>
        <p:spPr>
          <a:xfrm>
            <a:off x="2209680" y="5167440"/>
            <a:ext cx="1447920" cy="11840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2292480" y="632448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cle ache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3"/>
          <a:stretch/>
        </p:blipFill>
        <p:spPr>
          <a:xfrm>
            <a:off x="4038480" y="5160960"/>
            <a:ext cx="1600200" cy="1163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1"/>
          <p:cNvSpPr/>
          <p:nvPr/>
        </p:nvSpPr>
        <p:spPr>
          <a:xfrm>
            <a:off x="4424400" y="6248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em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3" descr="http://www.demotivation.us/media/demotivators/thumb/demotivation.us_Insomnia-Why-cant-it-start-in-the-Morning_130037168394.jpg"/>
          <p:cNvPicPr/>
          <p:nvPr/>
        </p:nvPicPr>
        <p:blipFill>
          <a:blip r:embed="rId4"/>
          <a:stretch/>
        </p:blipFill>
        <p:spPr>
          <a:xfrm>
            <a:off x="5943600" y="5105520"/>
            <a:ext cx="1447920" cy="12189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3"/>
          <p:cNvSpPr/>
          <p:nvPr/>
        </p:nvSpPr>
        <p:spPr>
          <a:xfrm>
            <a:off x="6102000" y="63244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omn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15" descr="http://kozmoz.org/wordpress/wp-content/uploads/image/index/fatigue2.jpg"/>
          <p:cNvPicPr/>
          <p:nvPr/>
        </p:nvPicPr>
        <p:blipFill>
          <a:blip r:embed="rId5"/>
          <a:stretch/>
        </p:blipFill>
        <p:spPr>
          <a:xfrm>
            <a:off x="7620120" y="5105520"/>
            <a:ext cx="1361880" cy="1218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5"/>
          <p:cNvSpPr/>
          <p:nvPr/>
        </p:nvSpPr>
        <p:spPr>
          <a:xfrm>
            <a:off x="7928280" y="624852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igu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3583440" y="228600"/>
            <a:ext cx="23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457200" y="981000"/>
            <a:ext cx="830592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B12 is 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mily of related compound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ing a cobalt atom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balamins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two dietary forms of vitamin B12 are available and they are known as  methylcobalam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eth yl-B12)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5- deoxyadenosylcobalam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enzyme-B12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thetic form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vitamin B12 are known a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ydroxy-cobalam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yanocobalam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ot occur naturally in foods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 of B12 is very complicated and based on a corrin ring, similar to porphyrin ring found in heme, chlorophyll, and cytochrom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http://media-1.web.britannica.com/eb-media/19/13819-004-23BB55F5.gif"/>
          <p:cNvPicPr/>
          <p:nvPr/>
        </p:nvPicPr>
        <p:blipFill>
          <a:blip r:embed="rId1"/>
          <a:stretch/>
        </p:blipFill>
        <p:spPr>
          <a:xfrm>
            <a:off x="1195560" y="219240"/>
            <a:ext cx="7362720" cy="119538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3632760" y="1001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5385240" y="1001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5421600" y="222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3603240" y="222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TextBox 6"/>
          <p:cNvSpPr/>
          <p:nvPr/>
        </p:nvSpPr>
        <p:spPr>
          <a:xfrm>
            <a:off x="3478680" y="6172200"/>
            <a:ext cx="23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B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"/>
          <p:cNvSpPr/>
          <p:nvPr/>
        </p:nvSpPr>
        <p:spPr>
          <a:xfrm>
            <a:off x="685800" y="457200"/>
            <a:ext cx="7848720" cy="62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ntral metal ion i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balt (Co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oordinates with nitrogens of corrin ring and that of dimethylbenzimidazole group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ixth coordination can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CN- (in Cyanocobolamin),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- (in Hydroxycobalamin),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in Methylcobalamin, Me-B12)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oxyadenosyl group (Adenosylcobalamin, Ado-B12 = coenzyme-B12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ry small amounts of vitamin B12 are stored in our bodies, about 90% of which (2–5 mg) is stored in the liver and is sufficient for 2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228600" y="2057400"/>
            <a:ext cx="4800600" cy="4343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5181480" y="2057400"/>
            <a:ext cx="3962520" cy="4343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228600" y="76320"/>
            <a:ext cx="86868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urces of vitamin B12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stinal flora produces the vitamin required for man and animals.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B12 can be obtained from animal diet onl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228600" y="2133720"/>
            <a:ext cx="4876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ncipal Sources in Fo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al dietary sources of vitamin B12 include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Serving size      </a:t>
            </a:r>
            <a:r>
              <a:rPr b="1" lang="el-G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f live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6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g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Avg siz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large gla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0.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Chee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0.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se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5257800" y="2362320"/>
            <a:ext cx="3886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quired Dail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mount (RD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l-G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/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- 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- 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– 1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 – 1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1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304920" y="1905120"/>
            <a:ext cx="8534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B12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food is bound to prote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l of the stomach releases the free vitamin B12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e released, vitamin B12 combines with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ycoprotein intrinsic factor (IF) secreted by the parietal cells of stomac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form a complex which can be absorbed from ileu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1851480" y="533520"/>
            <a:ext cx="48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bsorption of vitamin B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304920" y="1062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sential with folic ac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BCs maturation (it protects against Pernicious anemi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late metabolis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Vitamin B12 is vital in activation of folate to the active THF. In vitamin B12 deficiency, tissue stores of folate are “trapped” as inactive methylated forms, and a functional folate deficiency resul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in metabolis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ct as coenzyme with THF in the synthesis of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hionine from homocystei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2297880" y="131760"/>
            <a:ext cx="436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B12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685800" y="1009800"/>
            <a:ext cx="7696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is vital in fat metabolism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maintain the antioxida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b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intaining glutathione in the reduced for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rvous syst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t is vital i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thesis of myelin sheath of neuron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ll replic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It is essential with THF in synthesis of nucleic aci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735120" y="0"/>
            <a:ext cx="77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High Risk of Vitamin B12 Deficienc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28600" y="663480"/>
            <a:ext cx="868680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dery people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tric secretion and intrinsic factor is diminished. Both are required for optimum vitamin B12 absorp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suffering from chronic gastriti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atrophy of the parietal cells that produce intrinsic factor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stinal disease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chronic enteritis with diarrhea reduce absorption of vitamin B12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ver disease impair vitamin B12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(as the liver is the site of vitamin B12 storage and the site of production of specific transport proteins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ict vegetarian diet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evoid of animal products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garette smoking impairs vitamin B12 statu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5" descr="http://www.daviddarling.info/images/pernicious_anemia.jpg"/>
          <p:cNvPicPr/>
          <p:nvPr/>
        </p:nvPicPr>
        <p:blipFill>
          <a:blip r:embed="rId1"/>
          <a:stretch/>
        </p:blipFill>
        <p:spPr>
          <a:xfrm>
            <a:off x="7086600" y="914400"/>
            <a:ext cx="2057400" cy="25909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"/>
          <p:cNvSpPr/>
          <p:nvPr/>
        </p:nvSpPr>
        <p:spPr>
          <a:xfrm>
            <a:off x="1047240" y="0"/>
            <a:ext cx="738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ajor Symptoms of Vitamin B12 Deficienc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04920" y="592200"/>
            <a:ext cx="670536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nicious Anemi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It is a case of megaloblastic anemia caused b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rophic gastritis and parietal cell los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characterized by neuropathy: ease fatigue, weakness, shortness of breath, decreased ability to concentrate, and peripheral nerve damage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urological chang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h as numbness and tingling in the hands and feet (due to diminished myelination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iculty in maintaining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lance, depression, confusion, dementia, poor memor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3" name="Picture 7" descr="https://encrypted-tbn1.gstatic.com/images?q=tbn:ANd9GcQOorVL6-NcWnvJ13Y4shWirYKbSJ11z5dExvgg8emlOXxhKuEyFw"/>
          <p:cNvPicPr/>
          <p:nvPr/>
        </p:nvPicPr>
        <p:blipFill>
          <a:blip r:embed="rId2"/>
          <a:stretch/>
        </p:blipFill>
        <p:spPr>
          <a:xfrm>
            <a:off x="7010280" y="3886200"/>
            <a:ext cx="1905120" cy="1268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https://encrypted-tbn2.gstatic.com/images?q=tbn:ANd9GcQ2_u7f3biXh0UWq8nAqc35JypuvpUDINgmKcNYIOvRWZl8NnrTVQ"/>
          <p:cNvPicPr/>
          <p:nvPr/>
        </p:nvPicPr>
        <p:blipFill>
          <a:blip r:embed="rId3"/>
          <a:stretch/>
        </p:blipFill>
        <p:spPr>
          <a:xfrm>
            <a:off x="7086600" y="533412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914400" y="801720"/>
            <a:ext cx="70866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ed platelet produc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crease risk of abnormal bleeding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ed white blood cel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reduces immune responses to infection and/or cancer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ed cell replica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s to atrophy and inflammation of mucous membranes in the mouth, tongue and GIT, reduced absorption of nutrients, constipation, anorexia, and weight los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1293120" y="108252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high risk of Vitamin B5 Deficienc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80880" y="1920960"/>
            <a:ext cx="8382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tothenic acid is widely prevalent in foods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linical deficiency only may occur, usually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ction with other B-vitamin deficiencies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ronic illnes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vy alcohol consump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ring hypocaloric dieting for weight-lo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1"/>
          <p:cNvSpPr/>
          <p:nvPr/>
        </p:nvSpPr>
        <p:spPr>
          <a:xfrm>
            <a:off x="606240" y="0"/>
            <a:ext cx="798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s of Vitamin B12 in Prevention and Therap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380880" y="609480"/>
            <a:ext cx="838224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 and prevent deficiency conditions and perniciou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emia (a condition in which the body can't make enough healthy red blood cell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combination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folat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megaloblastic anemi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of psychiatric/nervou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orders e.g. dementia and memory loss, particularly in the elderly peopl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is helpfu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folat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reven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rapy of atherosclerosis associated with high levels of blood homocystein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is helpfu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folat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reduce smoking-induced precancerous cells in the lungs          reducing risk of lung cancer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338" name="Straight Arrow Connector 4"/>
          <p:cNvCxnSpPr/>
          <p:nvPr/>
        </p:nvCxnSpPr>
        <p:spPr>
          <a:xfrm>
            <a:off x="5334120" y="5715000"/>
            <a:ext cx="45792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3"/>
          <p:cNvSpPr/>
          <p:nvPr/>
        </p:nvSpPr>
        <p:spPr>
          <a:xfrm>
            <a:off x="609480" y="4267080"/>
            <a:ext cx="82296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Rectangle 1"/>
          <p:cNvSpPr/>
          <p:nvPr/>
        </p:nvSpPr>
        <p:spPr>
          <a:xfrm>
            <a:off x="304920" y="642960"/>
            <a:ext cx="84582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tion of peripheral nerve disorder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pathy in diabetics, trigeminal neuralgias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umatic nerve injuri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ge doses (5- 10 g IV)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ycobalami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ed in cyanide poison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it combine with cyanide ion to form harmles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yanocobalam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762120" y="4267080"/>
            <a:ext cx="7848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In pernicious anemia, vitamin B12 should be given as IM injection (100 to 1000 μg of cyanocobalamin for 5 days followed by 100 to 1000 μg each month) till correction of blood pictur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2"/>
          <p:cNvSpPr/>
          <p:nvPr/>
        </p:nvSpPr>
        <p:spPr>
          <a:xfrm>
            <a:off x="2000880" y="131760"/>
            <a:ext cx="538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12 – Drug Interaction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457200" y="762120"/>
            <a:ext cx="82296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Drugs interfere with its absorption such as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coho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-aminosalicylic aci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lchicin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omyci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olestyramin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onvulsants (Phenytoin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formi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2 blockers includ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metidine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roton pump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ibitors e.g.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meprazole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duce secretion of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tric acid and pepsin    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e isolation and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sorption of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in-bound (dietary)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12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344" name="Straight Arrow Connector 4"/>
          <p:cNvCxnSpPr/>
          <p:nvPr/>
        </p:nvCxnSpPr>
        <p:spPr>
          <a:xfrm>
            <a:off x="5105520" y="5409720"/>
            <a:ext cx="45792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Oval 2"/>
          <p:cNvSpPr/>
          <p:nvPr/>
        </p:nvSpPr>
        <p:spPr>
          <a:xfrm>
            <a:off x="1905120" y="1981080"/>
            <a:ext cx="5181480" cy="358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TextBox 1"/>
          <p:cNvSpPr/>
          <p:nvPr/>
        </p:nvSpPr>
        <p:spPr>
          <a:xfrm>
            <a:off x="3214800" y="312408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X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457200" y="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s of Pantothenic acid in Prevention and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457200" y="457200"/>
            <a:ext cx="670572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crocytic anemia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its role 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moglobin synthesis in conjunction with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on supplementation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upus erythematosus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cium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tothenate, alone or in conjunc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vitamin E can help in treatment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pus erythematosus and other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immune disorder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iredness and fatigu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those associate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subclinical pantothenic aci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thritis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ntothenic acid deficienci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often found in patient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eoarthritis and rheumatoid arthritis. 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case calcium pantothenate can b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dermimages.med.jhmi.edu/images/Lupus_Erythematosus_Subacute_Cutaneous_2_030402.jpg"/>
          <p:cNvPicPr/>
          <p:nvPr/>
        </p:nvPicPr>
        <p:blipFill>
          <a:blip r:embed="rId1"/>
          <a:stretch/>
        </p:blipFill>
        <p:spPr>
          <a:xfrm>
            <a:off x="7238880" y="2133720"/>
            <a:ext cx="1752840" cy="1314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7238160" y="3425760"/>
            <a:ext cx="182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upus erythematosu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7" descr="http://altered-states.net/barry/newsletter180/osteoarthritis3.jpg"/>
          <p:cNvPicPr/>
          <p:nvPr/>
        </p:nvPicPr>
        <p:blipFill>
          <a:blip r:embed="rId2"/>
          <a:stretch/>
        </p:blipFill>
        <p:spPr>
          <a:xfrm>
            <a:off x="7391520" y="5410080"/>
            <a:ext cx="1447560" cy="1157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http://www.dreamstime.com/fatigue-tiredness-weariness-lassitude-thumb19191786.jpg"/>
          <p:cNvPicPr/>
          <p:nvPr/>
        </p:nvPicPr>
        <p:blipFill>
          <a:blip r:embed="rId3"/>
          <a:stretch/>
        </p:blipFill>
        <p:spPr>
          <a:xfrm>
            <a:off x="7315200" y="3962520"/>
            <a:ext cx="1523880" cy="1068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http://1.bp.blogspot.com/-SJyTliKFIiM/TncuC8bTW7I/AAAAAAAAAFE/9iybKMYa5EA/s1600/Anemia-2.png"/>
          <p:cNvPicPr/>
          <p:nvPr/>
        </p:nvPicPr>
        <p:blipFill>
          <a:blip r:embed="rId4"/>
          <a:stretch/>
        </p:blipFill>
        <p:spPr>
          <a:xfrm>
            <a:off x="7315200" y="533520"/>
            <a:ext cx="1600200" cy="14475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8"/>
          <p:cNvSpPr/>
          <p:nvPr/>
        </p:nvSpPr>
        <p:spPr>
          <a:xfrm>
            <a:off x="7701120" y="49528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tigu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7702200" y="648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thrit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685800" y="457200"/>
            <a:ext cx="6400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Wound heal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trauma 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agement of dyslipidem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bnormal amount of lipids e.g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esterol and/or fat, in the bloo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betic neuropath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dney diseas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damage that can occur in peop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 diabete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xapantothenol (vitamin B5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mulation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used topically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 of burns and itching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2" descr="http://www.sciencephoto.com/image/477334/large/C0142775-Calf_wound_healing_after_artery_surgery-SPL.jpg"/>
          <p:cNvPicPr/>
          <p:nvPr/>
        </p:nvPicPr>
        <p:blipFill>
          <a:blip r:embed="rId1"/>
          <a:stretch/>
        </p:blipFill>
        <p:spPr>
          <a:xfrm>
            <a:off x="7162920" y="685800"/>
            <a:ext cx="1828800" cy="12175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7242120" y="190512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nd healing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9" descr="http://amriyapharm.com/images/dermatological/larg/l_dexpanthenol_cream.gif"/>
          <p:cNvPicPr/>
          <p:nvPr/>
        </p:nvPicPr>
        <p:blipFill>
          <a:blip r:embed="rId2"/>
          <a:stretch/>
        </p:blipFill>
        <p:spPr>
          <a:xfrm>
            <a:off x="7086600" y="4800600"/>
            <a:ext cx="1905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463120" y="2133720"/>
            <a:ext cx="49204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6 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Pyridoxine)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372040" y="-76320"/>
            <a:ext cx="44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6 (Pyridoxin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57200" y="457200"/>
            <a:ext cx="8381880" cy="48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1934, a Hungarian physician, Paul Gyo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ed a substance that was able to cure a sk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 in rats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mititis acrodyn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th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tance he named vitamin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B6 converted in the body to its major active form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idoxal-5-phosphat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PLP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The activa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dequat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zinc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iboflavi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bod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vitamin B6 are low (only about 150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) hence  a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ady supply of vitamin B6 is essentia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its deficiency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ally it is a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idine derivativ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149400" y="-395280"/>
            <a:ext cx="1314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1828800" y="521172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 – 1.4 mg (Adul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6 mg (Infants less than 1 yea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mg (During pregnancy and lactatio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Uhu</dc:creator>
  <dc:description/>
  <dc:language>en-US</dc:language>
  <cp:lastModifiedBy>Mashal Almutairi</cp:lastModifiedBy>
  <dcterms:modified xsi:type="dcterms:W3CDTF">2015-12-09T05:35:58Z</dcterms:modified>
  <cp:revision>4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