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411F-57E6-4436-ADB2-9BB6BF2A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9B69-594E-4768-9751-9D1FB56E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8E9F-A855-406C-8554-7D19C8CC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F122-0613-4002-9779-BB4AB6AD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1806-3F39-49FE-9524-097168F7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C6FD-60C3-4320-8FD0-A12C8C89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C739-46E1-4883-9F9F-65B805FC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7FFA-0AAF-4893-8809-AE947FF4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063D-CE0E-4ED6-A2CA-EA44D25A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D248-756A-407D-BE5F-E47D13C8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BAD-9B70-4C45-BFA8-F67A51B0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BC74-C062-440C-9A75-4D81F2CB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F6BC-FB60-41EC-B4CB-EA01310BC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0040" y="533160"/>
            <a:ext cx="2971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ETR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28600" y="12193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Is a branch of geology, which deals with study of rocks (Petro=rock, Logos=stu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505320" y="198108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15"/>
          <p:cNvGrpSpPr/>
          <p:nvPr/>
        </p:nvGrpSpPr>
        <p:grpSpPr>
          <a:xfrm>
            <a:off x="837720" y="2666880"/>
            <a:ext cx="7239600" cy="990720"/>
            <a:chOff x="837720" y="2666880"/>
            <a:chExt cx="7239600" cy="990720"/>
          </a:xfrm>
        </p:grpSpPr>
        <p:sp>
          <p:nvSpPr>
            <p:cNvPr id="45" name="Line 6"/>
            <p:cNvSpPr/>
            <p:nvPr/>
          </p:nvSpPr>
          <p:spPr>
            <a:xfrm>
              <a:off x="4267080" y="2666880"/>
              <a:ext cx="0" cy="45720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7"/>
            <p:cNvSpPr/>
            <p:nvPr/>
          </p:nvSpPr>
          <p:spPr>
            <a:xfrm flipH="1">
              <a:off x="837720" y="3124080"/>
              <a:ext cx="3429000" cy="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Line 8"/>
            <p:cNvSpPr/>
            <p:nvPr/>
          </p:nvSpPr>
          <p:spPr>
            <a:xfrm>
              <a:off x="838080" y="3124080"/>
              <a:ext cx="0" cy="53352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9"/>
            <p:cNvSpPr/>
            <p:nvPr/>
          </p:nvSpPr>
          <p:spPr>
            <a:xfrm>
              <a:off x="4267080" y="3124080"/>
              <a:ext cx="3810240" cy="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10"/>
            <p:cNvSpPr/>
            <p:nvPr/>
          </p:nvSpPr>
          <p:spPr>
            <a:xfrm>
              <a:off x="8077320" y="3124080"/>
              <a:ext cx="0" cy="45720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11"/>
            <p:cNvSpPr/>
            <p:nvPr/>
          </p:nvSpPr>
          <p:spPr>
            <a:xfrm>
              <a:off x="4267080" y="3124080"/>
              <a:ext cx="0" cy="45720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Rectangle 12"/>
          <p:cNvSpPr/>
          <p:nvPr/>
        </p:nvSpPr>
        <p:spPr>
          <a:xfrm>
            <a:off x="304920" y="3886200"/>
            <a:ext cx="220968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G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Times New Roman"/>
              </a:rPr>
              <a:t>-most abund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Times New Roman"/>
              </a:rPr>
              <a:t>-primary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Times New Roman"/>
              </a:rPr>
              <a:t>-source is magma or l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2895480" y="3733920"/>
            <a:ext cx="2819520" cy="1676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SEDIMENT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Times New Roman"/>
              </a:rPr>
              <a:t>-thin veener above the Sial and Sima in Oceanic and Continental Cru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Times New Roman"/>
              </a:rPr>
              <a:t>-secondary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6095880" y="3809880"/>
            <a:ext cx="281952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ETAMORPH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Times New Roman"/>
              </a:rPr>
              <a:t>-proportion is similar to that of Igneous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Times New Roman"/>
              </a:rPr>
              <a:t>-change of forms of Ig. And Sed. Due to Temprature, Pressure and Chemical Flu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C:\PETROLOGY\volcanic_a-a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648320" y="3573360"/>
            <a:ext cx="4190760" cy="3284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C:\PETROLOGY\aalava flow_large.jpg"/>
          <p:cNvPicPr/>
          <p:nvPr/>
        </p:nvPicPr>
        <p:blipFill>
          <a:blip r:embed="rId2"/>
          <a:stretch/>
        </p:blipFill>
        <p:spPr>
          <a:xfrm>
            <a:off x="0" y="0"/>
            <a:ext cx="5638680" cy="35244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9"/>
          <p:cNvSpPr/>
          <p:nvPr/>
        </p:nvSpPr>
        <p:spPr>
          <a:xfrm>
            <a:off x="5654520" y="228600"/>
            <a:ext cx="348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lock Lav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cc"/>
                </a:solidFill>
                <a:latin typeface="Times New Roman"/>
              </a:rPr>
              <a:t>is less mob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Times New Roman"/>
              </a:rPr>
              <a:t>i.e. more viscous and ha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Times New Roman"/>
              </a:rPr>
              <a:t>Rough and irregular surface. Vesicles are few and irregular in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80880" y="3809880"/>
            <a:ext cx="3810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When cools down it result into angular, chunky texture. This causes the lava to thicken and to break apart as the flow continues to move down slope. Such a texture is referred to a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-a</a:t>
            </a:r>
            <a:r>
              <a:rPr b="1" lang="en-US" sz="1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, probably because of the pain inflicted on a person trying to walk across such a flow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:\PETROLOGY\volcano-lava.jpg"/>
          <p:cNvPicPr/>
          <p:nvPr/>
        </p:nvPicPr>
        <p:blipFill>
          <a:blip r:embed="rId1"/>
          <a:stretch/>
        </p:blipFill>
        <p:spPr>
          <a:xfrm>
            <a:off x="152280" y="0"/>
            <a:ext cx="3810240" cy="6095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C:\PETROLOGY\volcanic_pahoehoe.jpeg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184640" y="3276720"/>
            <a:ext cx="4959360" cy="3300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C:\PETROLOGY\volcano-magma.jpg"/>
          <p:cNvPicPr/>
          <p:nvPr/>
        </p:nvPicPr>
        <p:blipFill>
          <a:blip r:embed="rId3"/>
          <a:stretch/>
        </p:blipFill>
        <p:spPr>
          <a:xfrm>
            <a:off x="4038480" y="0"/>
            <a:ext cx="5105520" cy="3095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609480" y="2590920"/>
            <a:ext cx="306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opy Lava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is more mobile i.e. less viscous, it has a wrinkled but smooth and shiny surface on cool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esicles are more in number, small-spherical in sh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97000" y="270000"/>
            <a:ext cx="48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PYROCLASTS OR PYROCLAST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28600" y="9144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usive igneous rock texture referred to as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yroclast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This texture results from a very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xplosi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ruption, which sends not only lava flying through the air, but also fragments of the volcano itself. All airborne volcanic fragments, referred to as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yroclasts</a:t>
            </a:r>
            <a:r>
              <a:rPr b="0" lang="en-US" sz="1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10" descr="C:\PETROLOGY\vulcano.jpg"/>
          <p:cNvPicPr/>
          <p:nvPr/>
        </p:nvPicPr>
        <p:blipFill>
          <a:blip r:embed="rId1"/>
          <a:stretch/>
        </p:blipFill>
        <p:spPr>
          <a:xfrm>
            <a:off x="1981080" y="2819520"/>
            <a:ext cx="57610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446760" y="533520"/>
            <a:ext cx="84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he rock fragments thrown out during volcanic eruption are cal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yroclast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533520" y="22096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yroclasts come in many sizes: the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mallest are called ash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lightly larger are lapilli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and the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iggest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called blocks or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mb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27400" y="1523880"/>
            <a:ext cx="57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d of shape and size they are catego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7" descr="C:\PETROLOGY\volcanic_pyroclastic_text.jpe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362320" y="3048120"/>
            <a:ext cx="4825800" cy="3619440"/>
          </a:xfrm>
          <a:prstGeom prst="rect">
            <a:avLst/>
          </a:prstGeom>
          <a:ln w="0">
            <a:noFill/>
          </a:ln>
        </p:spPr>
      </p:pic>
      <p:sp>
        <p:nvSpPr>
          <p:cNvPr id="111" name="Line 8"/>
          <p:cNvSpPr/>
          <p:nvPr/>
        </p:nvSpPr>
        <p:spPr>
          <a:xfrm flipV="1">
            <a:off x="1600200" y="5257800"/>
            <a:ext cx="2438280" cy="76320"/>
          </a:xfrm>
          <a:prstGeom prst="line">
            <a:avLst/>
          </a:prstGeom>
          <a:ln w="5724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839520" y="51055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1"/>
          <p:cNvSpPr/>
          <p:nvPr/>
        </p:nvSpPr>
        <p:spPr>
          <a:xfrm flipH="1">
            <a:off x="4190760" y="5410080"/>
            <a:ext cx="3809880" cy="914400"/>
          </a:xfrm>
          <a:prstGeom prst="line">
            <a:avLst/>
          </a:prstGeom>
          <a:ln w="3816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8097840" y="51814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lapi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C:\PETROLOGY\volcanic_bomb_labelled.jpe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828800" y="533520"/>
            <a:ext cx="6095880" cy="40575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" y="4952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A large pyroclasts are known as volcanic bombs. Typical shape with head and a tail. Bombs can result into severe damage if they str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mportance of petrology in civil Eng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It provides an opportunity to interpret the physical properties of individual rocks, likewise: texture, structure, mineral composition, chemical composition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267080" y="274320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762120" y="32767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is helps in knowing the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strength,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durability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, colour, appearance, workability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4343400" y="403848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914400" y="45720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ese properties are very important for CE to know because different rocks are suitable for different purposes and no rock is ideal or best suited for all purp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Granite</a:t>
            </a: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: hard, competent, durable =&gt; suitable for fou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Limestone</a:t>
            </a: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: comparatively soft=&gt; best for flo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Marble</a:t>
            </a: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: soft and attractive=&gt; flooring/sculpturing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Sandstone</a:t>
            </a: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: sculpturing, wall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231840" y="1676520"/>
            <a:ext cx="86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IGNEOUS ROCKS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rocks formed through volcanic action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rocks which are derived from a molten mass “magma or lav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04920" y="28195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OURCE OF IGNEOUS ROCKS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86640" y="3657600"/>
            <a:ext cx="8569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agm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ten mass comprising most abundant element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 – Si, Al, Fe, Ca, Mg, K, H &amp; O. Where the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most abundant amongst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67280" y="5334120"/>
            <a:ext cx="53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Temperature of Magma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1040</a:t>
            </a:r>
            <a:r>
              <a:rPr b="1" lang="en-US" sz="2400" spc="-1" strike="noStrike" baseline="30000">
                <a:solidFill>
                  <a:srgbClr val="ff505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 to 1200</a:t>
            </a:r>
            <a:r>
              <a:rPr b="1" lang="en-US" sz="2400" spc="-1" strike="noStrike" baseline="30000">
                <a:solidFill>
                  <a:srgbClr val="ff505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228600" y="3049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VOLCANO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ff"/>
                </a:solidFill>
                <a:latin typeface="Times New Roman"/>
              </a:rPr>
              <a:t>A gap in the Earth’s Crust where molten rocks and other material escape onto the Earth’s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Times New Roman"/>
              </a:rPr>
              <a:t>Influencing Factors for Magma Flow and Formation of Igneous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Times New Roman"/>
              </a:rPr>
              <a:t>Overlying sedimentary rocks as overburden plays important role in formation of igneous bodies eg: dykes, sills, laccoliths, bysmaliths, phacoliths, lopolith, volcanic necks, batholiths and chonolit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The beddings in the sedimentary rocks facilitates the magma to move through or intrude/inject through the weak pl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http://www.tulane.edu/~sanelson/images/bowen.gif"/>
          <p:cNvPicPr/>
          <p:nvPr/>
        </p:nvPicPr>
        <p:blipFill>
          <a:blip r:embed="rId1"/>
          <a:stretch/>
        </p:blipFill>
        <p:spPr>
          <a:xfrm>
            <a:off x="1600200" y="1371600"/>
            <a:ext cx="6248520" cy="3855960"/>
          </a:xfrm>
          <a:prstGeom prst="rect">
            <a:avLst/>
          </a:prstGeom>
          <a:ln w="9360">
            <a:solidFill>
              <a:srgbClr val="99ff66"/>
            </a:solidFill>
            <a:miter/>
          </a:ln>
        </p:spPr>
      </p:pic>
      <p:sp>
        <p:nvSpPr>
          <p:cNvPr id="69" name="Rectangle 9"/>
          <p:cNvSpPr/>
          <p:nvPr/>
        </p:nvSpPr>
        <p:spPr>
          <a:xfrm>
            <a:off x="2514600" y="533520"/>
            <a:ext cx="4419720" cy="47484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INDS OF IGNEOUS R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2746440" y="380880"/>
            <a:ext cx="3497040" cy="4597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FLUIDITY OF MA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55320" y="1108080"/>
            <a:ext cx="81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uidity or Viscosity of magma depends on content (%) of Sil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16"/>
          <p:cNvGrpSpPr/>
          <p:nvPr/>
        </p:nvGrpSpPr>
        <p:grpSpPr>
          <a:xfrm>
            <a:off x="1447920" y="1676520"/>
            <a:ext cx="5943600" cy="1066680"/>
            <a:chOff x="1447920" y="1676520"/>
            <a:chExt cx="5943600" cy="1066680"/>
          </a:xfrm>
        </p:grpSpPr>
        <p:sp>
          <p:nvSpPr>
            <p:cNvPr id="73" name="Line 8"/>
            <p:cNvSpPr/>
            <p:nvPr/>
          </p:nvSpPr>
          <p:spPr>
            <a:xfrm>
              <a:off x="4191120" y="1676520"/>
              <a:ext cx="0" cy="457200"/>
            </a:xfrm>
            <a:prstGeom prst="line">
              <a:avLst/>
            </a:prstGeom>
            <a:ln w="2844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9"/>
            <p:cNvSpPr/>
            <p:nvPr/>
          </p:nvSpPr>
          <p:spPr>
            <a:xfrm flipH="1">
              <a:off x="1447920" y="2133720"/>
              <a:ext cx="2743200" cy="0"/>
            </a:xfrm>
            <a:prstGeom prst="line">
              <a:avLst/>
            </a:prstGeom>
            <a:ln w="2844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0"/>
            <p:cNvSpPr/>
            <p:nvPr/>
          </p:nvSpPr>
          <p:spPr>
            <a:xfrm>
              <a:off x="1447920" y="2133720"/>
              <a:ext cx="0" cy="533160"/>
            </a:xfrm>
            <a:prstGeom prst="line">
              <a:avLst/>
            </a:prstGeom>
            <a:ln w="2844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4191120" y="2133720"/>
              <a:ext cx="3200400" cy="0"/>
            </a:xfrm>
            <a:prstGeom prst="line">
              <a:avLst/>
            </a:prstGeom>
            <a:ln w="2844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12"/>
            <p:cNvSpPr/>
            <p:nvPr/>
          </p:nvSpPr>
          <p:spPr>
            <a:xfrm>
              <a:off x="7391520" y="2133720"/>
              <a:ext cx="0" cy="609480"/>
            </a:xfrm>
            <a:prstGeom prst="line">
              <a:avLst/>
            </a:prstGeom>
            <a:ln w="2844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Text Box 14"/>
          <p:cNvSpPr/>
          <p:nvPr/>
        </p:nvSpPr>
        <p:spPr>
          <a:xfrm>
            <a:off x="212760" y="2936880"/>
            <a:ext cx="367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ilica 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nown as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cidic ma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re viscous, so do not spreads and piles up at one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5715000" y="289548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ilica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Known as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Basic ma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Less viscous, moves faster and occupies larger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298440" y="4952880"/>
            <a:ext cx="884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66ffff"/>
                </a:solidFill>
                <a:latin typeface="Times New Roman"/>
              </a:rPr>
              <a:t>However, the viscosity of magma is considerably influenc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Times New Roman"/>
              </a:rPr>
              <a:t>temperature too. When temperature is less-more viscous and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Times New Roman"/>
              </a:rPr>
              <a:t>High temperature- less visc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4"/>
          <p:cNvGrpSpPr/>
          <p:nvPr/>
        </p:nvGrpSpPr>
        <p:grpSpPr>
          <a:xfrm>
            <a:off x="914400" y="990720"/>
            <a:ext cx="7238880" cy="990000"/>
            <a:chOff x="914400" y="990720"/>
            <a:chExt cx="7238880" cy="990000"/>
          </a:xfrm>
        </p:grpSpPr>
        <p:sp>
          <p:nvSpPr>
            <p:cNvPr id="82" name="Line 5"/>
            <p:cNvSpPr/>
            <p:nvPr/>
          </p:nvSpPr>
          <p:spPr>
            <a:xfrm>
              <a:off x="4343040" y="990720"/>
              <a:ext cx="0" cy="45684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6"/>
            <p:cNvSpPr/>
            <p:nvPr/>
          </p:nvSpPr>
          <p:spPr>
            <a:xfrm flipH="1">
              <a:off x="914400" y="1447560"/>
              <a:ext cx="3428640" cy="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7"/>
            <p:cNvSpPr/>
            <p:nvPr/>
          </p:nvSpPr>
          <p:spPr>
            <a:xfrm>
              <a:off x="914400" y="1447560"/>
              <a:ext cx="0" cy="53316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8"/>
            <p:cNvSpPr/>
            <p:nvPr/>
          </p:nvSpPr>
          <p:spPr>
            <a:xfrm>
              <a:off x="4343040" y="1447560"/>
              <a:ext cx="3809880" cy="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9"/>
            <p:cNvSpPr/>
            <p:nvPr/>
          </p:nvSpPr>
          <p:spPr>
            <a:xfrm>
              <a:off x="8153280" y="1447560"/>
              <a:ext cx="0" cy="45684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0"/>
            <p:cNvSpPr/>
            <p:nvPr/>
          </p:nvSpPr>
          <p:spPr>
            <a:xfrm>
              <a:off x="4343040" y="1447560"/>
              <a:ext cx="0" cy="45684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11"/>
          <p:cNvSpPr/>
          <p:nvPr/>
        </p:nvSpPr>
        <p:spPr>
          <a:xfrm>
            <a:off x="469440" y="304920"/>
            <a:ext cx="82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BROAD CLASSIFICATION OF IGNEOUS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52280" y="2209680"/>
            <a:ext cx="2667240" cy="1922760"/>
          </a:xfrm>
          <a:prstGeom prst="rect">
            <a:avLst/>
          </a:prstGeom>
          <a:noFill/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olcanic r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Extrusive roc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Lava or Magma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Pyroclastic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3205800" y="2133720"/>
            <a:ext cx="2681640" cy="825480"/>
          </a:xfrm>
          <a:prstGeom prst="rect">
            <a:avLst/>
          </a:prstGeom>
          <a:noFill/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rmediate r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Hypabyssal roc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6629400" y="2286000"/>
            <a:ext cx="2286000" cy="2288520"/>
          </a:xfrm>
          <a:prstGeom prst="rect">
            <a:avLst/>
          </a:prstGeom>
          <a:noFill/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lutonic r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Intrusive roc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dykes, sills, batholiths, laccolith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6553080" y="480060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me comes from Greek god of the underworld - Pluto</a:t>
            </a:r>
            <a:r>
              <a:rPr b="0" lang="en-US" sz="19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828800" y="533520"/>
            <a:ext cx="55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FORMS OF VOLCANIC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228600" y="129528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66ffcc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Times New Roman"/>
                <a:ea typeface="Times New Roman"/>
              </a:rPr>
              <a:t>Extrusive (volcanic) igneous rocks form when molten rock erupts from Earth's interior through a volcano or fissure and cools rapidly at the surface in form of Lava and hence it does not have any specific sha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80880" y="2936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va flow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On eruption lava simply flows on the surface and on the basis of surface appearance, lava flows are described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blocky lava</a:t>
            </a:r>
            <a:r>
              <a:rPr b="0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 and 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ropy lava</a:t>
            </a:r>
            <a:r>
              <a:rPr b="0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0T09:46:01Z</dcterms:created>
  <dc:creator>Unknown User</dc:creator>
  <dc:description/>
  <dc:language>en-US</dc:language>
  <cp:lastModifiedBy>ksu</cp:lastModifiedBy>
  <dcterms:modified xsi:type="dcterms:W3CDTF">2011-10-26T17:29:58Z</dcterms:modified>
  <cp:revision>24</cp:revision>
  <dc:subject/>
  <dc:title>PowerPoint Presentation</dc:title>
</cp:coreProperties>
</file>