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000-DDD4-4725-9493-0D9F2CF7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3F1-DA69-4C25-A602-9480FB1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CE5-1990-4C5F-A718-5EFAE9C1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FC2-14F1-4F8B-8F6E-7EE28DBD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9EC-268D-4931-BD3C-7D6A66A2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5EA-01C1-4E64-A280-3D6BE64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C78-D375-4058-A72B-3C6AE547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6C6-E847-47F0-8CE8-9081084B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6F3-0BFA-4D88-B5AB-36690F60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0FB-4FB1-4672-9EBB-872E729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6A9-4CEC-455F-A358-467C393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189-516C-41A4-B963-3AF7278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09C-BBAD-40BD-AD1F-84E3BE0D5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5331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ETR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860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s a branch of geology, which deals with study of rocks (Petro=rock, Logos=stu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505320" y="19810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837720" y="2666880"/>
            <a:ext cx="7239600" cy="990720"/>
            <a:chOff x="837720" y="2666880"/>
            <a:chExt cx="7239600" cy="990720"/>
          </a:xfrm>
        </p:grpSpPr>
        <p:sp>
          <p:nvSpPr>
            <p:cNvPr id="45" name="Line 6"/>
            <p:cNvSpPr/>
            <p:nvPr/>
          </p:nvSpPr>
          <p:spPr>
            <a:xfrm>
              <a:off x="4267080" y="26668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7"/>
            <p:cNvSpPr/>
            <p:nvPr/>
          </p:nvSpPr>
          <p:spPr>
            <a:xfrm flipH="1">
              <a:off x="837720" y="3124080"/>
              <a:ext cx="342900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838080" y="3124080"/>
              <a:ext cx="0" cy="53352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4267080" y="3124080"/>
              <a:ext cx="38102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807732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426708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12"/>
          <p:cNvSpPr/>
          <p:nvPr/>
        </p:nvSpPr>
        <p:spPr>
          <a:xfrm>
            <a:off x="304920" y="3886200"/>
            <a:ext cx="2209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most ab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im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ource is magma or l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895480" y="3733920"/>
            <a:ext cx="281952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thin veener above the Sial and Sima in Oceanic and Continental Cru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econd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095880" y="3809880"/>
            <a:ext cx="281952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oportion is similar to that of Igneous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change of forms of Ig. And Sed. Due to Temprature, Pressure and Chemical Flu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:\PETROLOGY\volcanic_a-a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8320" y="3573360"/>
            <a:ext cx="419076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PETROLOGY\aalava flow_large.jpg"/>
          <p:cNvPicPr/>
          <p:nvPr/>
        </p:nvPicPr>
        <p:blipFill>
          <a:blip r:embed="rId2"/>
          <a:stretch/>
        </p:blipFill>
        <p:spPr>
          <a:xfrm>
            <a:off x="0" y="0"/>
            <a:ext cx="5638680" cy="352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5654520" y="228600"/>
            <a:ext cx="34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ck Lav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s less mo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.e. more viscous and h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Rough and irregular surface. Vesicles are few and irregular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80880" y="3809880"/>
            <a:ext cx="381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When cools down it result into angular, chunky texture. This causes the lava to thicken and to break apart as the flow continues to move down slope. Such a texture is referred to a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probably because of the pain inflicted on a person trying to walk across such a flo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PETROLOGY\volcano-lava.jpg"/>
          <p:cNvPicPr/>
          <p:nvPr/>
        </p:nvPicPr>
        <p:blipFill>
          <a:blip r:embed="rId1"/>
          <a:stretch/>
        </p:blipFill>
        <p:spPr>
          <a:xfrm>
            <a:off x="152280" y="0"/>
            <a:ext cx="3810240" cy="609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PETROLOGY\volcanic_pahoehoe.jpe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184640" y="3276720"/>
            <a:ext cx="4959360" cy="33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PETROLOGY\volcano-magma.jpg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309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09480" y="2590920"/>
            <a:ext cx="306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py Lava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is more mobile i.e. less viscous, it has a wrinkled but smooth and shiny surface on coo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sicles are more in number, small-spherical in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97000" y="270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PYROCLASTS OR PYROCLA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28600" y="9144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usive igneous rock texture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texture results from a ver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plos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ruption, which sends not only lava flying through the air, but also fragments of the volcano itself. All airborne volcanic fragments,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</a:t>
            </a:r>
            <a:r>
              <a:rPr b="0" lang="en-US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C:\PETROLOGY\vulcano.jpg"/>
          <p:cNvPicPr/>
          <p:nvPr/>
        </p:nvPicPr>
        <p:blipFill>
          <a:blip r:embed="rId1"/>
          <a:stretch/>
        </p:blipFill>
        <p:spPr>
          <a:xfrm>
            <a:off x="1981080" y="2819520"/>
            <a:ext cx="576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46760" y="533520"/>
            <a:ext cx="84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rock fragments thrown out during volcanic eruption are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yroclas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33520" y="2209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 come in many sizes: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mallest are called ash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ightly larger are lapilli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and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gest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alled blocks or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mb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27400" y="1523880"/>
            <a:ext cx="57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f shape and size they are categ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C:\PETROLOGY\volcanic_pyroclastic_text.jpe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62320" y="3048120"/>
            <a:ext cx="4825800" cy="3619440"/>
          </a:xfrm>
          <a:prstGeom prst="rect">
            <a:avLst/>
          </a:prstGeom>
          <a:ln w="0">
            <a:noFill/>
          </a:ln>
        </p:spPr>
      </p:pic>
      <p:sp>
        <p:nvSpPr>
          <p:cNvPr id="111" name="Line 8"/>
          <p:cNvSpPr/>
          <p:nvPr/>
        </p:nvSpPr>
        <p:spPr>
          <a:xfrm flipV="1">
            <a:off x="1600200" y="5257800"/>
            <a:ext cx="2438280" cy="76320"/>
          </a:xfrm>
          <a:prstGeom prst="line">
            <a:avLst/>
          </a:prstGeom>
          <a:ln w="572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39520" y="5105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190760" y="5410080"/>
            <a:ext cx="3809880" cy="91440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8097840" y="51814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ap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:\PETROLOGY\volcanic_bomb_labelled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28800" y="533520"/>
            <a:ext cx="6095880" cy="4057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" y="4952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 large pyroclasts are known as volcanic bombs. Typical shape with head and a tail. Bombs can result into severe damage if they str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mportance of petrology in civil Eng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It provides an opportunity to interpret the physical properties of individual rocks, likewise: texture, structure, mineral composition, chemical composition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267080" y="27432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212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s helps in knowing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trength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rability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, colour, appearance, workabilit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34340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1440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se properties are very important for CE to know because different rocks are suitable for different purposes and no rock is ideal or best suited for all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Granit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hard, competent, durable =&gt; suitable for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Lime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comparatively soft=&gt; best for flo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Marbl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oft and attractive=&gt; flooring/sculpturing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Sand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culpturing, wall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31840" y="16765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IGNEOUS ROCK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formed through volcanic action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which are derived from a molten mass “magma or lav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2819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URCE OF IGNEOUS ROCKS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86640" y="3657600"/>
            <a:ext cx="8569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ag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ten mass comprising most abundant eleme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 – Si, Al, Fe, Ca, Mg, K, H &amp; O. Where th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ost abundant amongs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67280" y="5334120"/>
            <a:ext cx="53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emperature of Magm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04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to 120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8600" y="304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VOLCANO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ff"/>
                </a:solidFill>
                <a:latin typeface="Times New Roman"/>
              </a:rPr>
              <a:t>A gap in the Earth’s Crust where molten rocks and other material escape onto the Earth’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nfluencing Factors for Magma Flow and Form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Overlying sedimentary rocks as overburden plays important role in formation of igneous bodies eg: dykes, sills, laccoliths, bysmaliths, phacoliths, lopolith, volcanic necks, batholiths and chonoli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The beddings in the sedimentary rocks facilitates the magma to move through or intrude/inject through the weak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://www.tulane.edu/~sanelson/images/bowen.gif"/>
          <p:cNvPicPr/>
          <p:nvPr/>
        </p:nvPicPr>
        <p:blipFill>
          <a:blip r:embed="rId1"/>
          <a:stretch/>
        </p:blipFill>
        <p:spPr>
          <a:xfrm>
            <a:off x="1600200" y="1371600"/>
            <a:ext cx="6248520" cy="385596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69" name="Rectangle 9"/>
          <p:cNvSpPr/>
          <p:nvPr/>
        </p:nvSpPr>
        <p:spPr>
          <a:xfrm>
            <a:off x="2514600" y="533520"/>
            <a:ext cx="4419720" cy="474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INDS OF IGNEOUS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746440" y="380880"/>
            <a:ext cx="349704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LUIDITY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55320" y="11080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idity or Viscosity of magma depends on content (%) of Si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1447920" y="1676520"/>
            <a:ext cx="5943600" cy="1066680"/>
            <a:chOff x="1447920" y="1676520"/>
            <a:chExt cx="5943600" cy="1066680"/>
          </a:xfrm>
        </p:grpSpPr>
        <p:sp>
          <p:nvSpPr>
            <p:cNvPr id="73" name="Line 8"/>
            <p:cNvSpPr/>
            <p:nvPr/>
          </p:nvSpPr>
          <p:spPr>
            <a:xfrm>
              <a:off x="4191120" y="1676520"/>
              <a:ext cx="0" cy="45720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1447920" y="2133720"/>
              <a:ext cx="27432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1447920" y="2133720"/>
              <a:ext cx="0" cy="53316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4191120" y="2133720"/>
              <a:ext cx="32004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7391520" y="2133720"/>
              <a:ext cx="0" cy="60948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212760" y="293688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cid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e viscous, so do not spreads and piles up at on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715000" y="2895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as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ess viscous, moves faster and occupies larger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98440" y="4952880"/>
            <a:ext cx="88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owever, the viscosity of magma is considerably influenc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temperature too. When temperature is less-more viscous an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igh temperature- less visc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"/>
          <p:cNvGrpSpPr/>
          <p:nvPr/>
        </p:nvGrpSpPr>
        <p:grpSpPr>
          <a:xfrm>
            <a:off x="914400" y="990720"/>
            <a:ext cx="7238880" cy="990000"/>
            <a:chOff x="914400" y="990720"/>
            <a:chExt cx="7238880" cy="990000"/>
          </a:xfrm>
        </p:grpSpPr>
        <p:sp>
          <p:nvSpPr>
            <p:cNvPr id="82" name="Line 5"/>
            <p:cNvSpPr/>
            <p:nvPr/>
          </p:nvSpPr>
          <p:spPr>
            <a:xfrm>
              <a:off x="4343040" y="99072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914400" y="1447560"/>
              <a:ext cx="34286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914400" y="1447560"/>
              <a:ext cx="0" cy="53316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4343040" y="1447560"/>
              <a:ext cx="380988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9"/>
            <p:cNvSpPr/>
            <p:nvPr/>
          </p:nvSpPr>
          <p:spPr>
            <a:xfrm>
              <a:off x="815328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434304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11"/>
          <p:cNvSpPr/>
          <p:nvPr/>
        </p:nvSpPr>
        <p:spPr>
          <a:xfrm>
            <a:off x="469440" y="304920"/>
            <a:ext cx="82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ROAD CLASSIFIC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52280" y="2209680"/>
            <a:ext cx="2667240" cy="192276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x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ava or Magma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205800" y="2133720"/>
            <a:ext cx="2681640" cy="82548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mediate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Hypabyssal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629400" y="2286000"/>
            <a:ext cx="2286000" cy="228852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uto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dykes, sills, batholiths, laccolith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553080" y="48006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me comes from Greek god of the underworld - Pluto</a:t>
            </a:r>
            <a:r>
              <a:rPr b="0" lang="en-US" sz="1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828800" y="53352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ORMS OF VOLCANIC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28600" y="12952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6ff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Extrusive (volcanic) igneous rocks form when molten rock erupts from Earth's interior through a volcano or fissure and cools rapidly at the surface in form of Lava and hence it does not have any specific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293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va flow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On eruption lava simply flows on the surface and on the basis of surface appearance, lava flows are described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block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op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9:46:01Z</dcterms:created>
  <dc:creator>Unknown User</dc:creator>
  <dc:description/>
  <dc:language>en-US</dc:language>
  <cp:lastModifiedBy>ksu</cp:lastModifiedBy>
  <dcterms:modified xsi:type="dcterms:W3CDTF">2011-10-26T17:29:58Z</dcterms:modified>
  <cp:revision>24</cp:revision>
  <dc:subject/>
  <dc:title>PowerPoint Presentation</dc:title>
</cp:coreProperties>
</file>