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378-0E20-41E6-94B2-A973AC81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1EB-1794-4CF5-830D-0D5C8A39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06A-6181-4F18-9C9B-5F8BA830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6EB-3264-40F0-9A6C-4C17D854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5494-04E4-428E-9093-6253B24F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0953-2B19-41E8-935A-9D995844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224F-FC70-46A6-A377-8B2E0CCD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191E-B64C-4AAC-A96C-1B92E0EA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295F-8790-4B2B-9CAC-21544936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0281-E0AC-48B2-94AF-B3FC0263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0424-91F5-4EF5-B9E3-11B1F891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32B-E6CE-4F30-A227-010FDF85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8115-0E15-418D-97ED-5F3A2B20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219C-F83F-42D5-9D97-AE3ACD7D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0435-B3F0-4392-8866-F46A30E3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CD1F-740B-4A15-AD35-13D9DA0D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5076-6111-4653-A30A-CEE94B10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CD3-64F3-4F1F-AAF4-DF447F48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AAC-566D-4941-A77F-F23EDE44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293-56B1-460B-B90D-85968F06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1F7-C13C-43EE-A318-A1A616AF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443-3C70-48CC-A4B7-0192DF23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9A4-2D34-4576-A7E6-5CA1554C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7EC-C285-4C8D-B061-608BD96A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D3C3-EE01-4FBE-A96C-B3D4B275C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0066cc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026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027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028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029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030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31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032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033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34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035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036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037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038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039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040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041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042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043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044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045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1046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1047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048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049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050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051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1052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1053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1054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1055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1056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057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058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059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060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061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062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1063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064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065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066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067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068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1069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1070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1071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072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073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1074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75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076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077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78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079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080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081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082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083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084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085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086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087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088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089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090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091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092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093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094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095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096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097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098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099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100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101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102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103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104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105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106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107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108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109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110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111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112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113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114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115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A213-E3BE-49ED-AD3D-C58199D62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lcanism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nic Feature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and Types of Volcanic Activity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usive Eruption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sive Eruption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no Forecasting and Pla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12_T03"/>
          <p:cNvPicPr/>
          <p:nvPr/>
        </p:nvPicPr>
        <p:blipFill>
          <a:blip r:embed="rId1"/>
          <a:stretch/>
        </p:blipFill>
        <p:spPr>
          <a:xfrm>
            <a:off x="-92160" y="-371520"/>
            <a:ext cx="932832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7" descr="pl-XII-flow-1"/>
          <p:cNvPicPr/>
          <p:nvPr/>
        </p:nvPicPr>
        <p:blipFill>
          <a:blip r:embed="rId1"/>
          <a:stretch/>
        </p:blipFill>
        <p:spPr>
          <a:xfrm>
            <a:off x="1066680" y="259092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pl-XII-flow-2"/>
          <p:cNvPicPr/>
          <p:nvPr/>
        </p:nvPicPr>
        <p:blipFill>
          <a:blip r:embed="rId2"/>
          <a:stretch/>
        </p:blipFill>
        <p:spPr>
          <a:xfrm>
            <a:off x="3352680" y="2590920"/>
            <a:ext cx="1600200" cy="1407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pl-XII-flow-3"/>
          <p:cNvPicPr/>
          <p:nvPr/>
        </p:nvPicPr>
        <p:blipFill>
          <a:blip r:embed="rId3"/>
          <a:stretch/>
        </p:blipFill>
        <p:spPr>
          <a:xfrm>
            <a:off x="5410080" y="2666880"/>
            <a:ext cx="1752840" cy="1384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pl-XII-flow-4"/>
          <p:cNvPicPr/>
          <p:nvPr/>
        </p:nvPicPr>
        <p:blipFill>
          <a:blip r:embed="rId4"/>
          <a:stretch/>
        </p:blipFill>
        <p:spPr>
          <a:xfrm>
            <a:off x="1066680" y="4419720"/>
            <a:ext cx="1752840" cy="1454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pl-XII-flow-5"/>
          <p:cNvPicPr/>
          <p:nvPr/>
        </p:nvPicPr>
        <p:blipFill>
          <a:blip r:embed="rId5"/>
          <a:stretch/>
        </p:blipFill>
        <p:spPr>
          <a:xfrm>
            <a:off x="3352680" y="4495680"/>
            <a:ext cx="1981440" cy="1703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pl-XII-flow-6"/>
          <p:cNvPicPr/>
          <p:nvPr/>
        </p:nvPicPr>
        <p:blipFill>
          <a:blip r:embed="rId6"/>
          <a:stretch/>
        </p:blipFill>
        <p:spPr>
          <a:xfrm>
            <a:off x="5867280" y="4572000"/>
            <a:ext cx="2133720" cy="18558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4"/>
          <p:cNvSpPr/>
          <p:nvPr/>
        </p:nvSpPr>
        <p:spPr>
          <a:xfrm>
            <a:off x="379440" y="1281240"/>
            <a:ext cx="82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ee ardente: pyroclastic flow, of searing superheated gas and incandescent volcanic ash and du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379800" y="1662120"/>
            <a:ext cx="78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Pelee, on the Carribean island of Martinique, 1902 eruption. All but 2 of the more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,000 people in the town of St. Pierre were kill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4"/>
          <p:cNvSpPr/>
          <p:nvPr/>
        </p:nvSpPr>
        <p:spPr>
          <a:xfrm>
            <a:off x="16200" y="3587760"/>
            <a:ext cx="89985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a century ago, on August 26,1883, the island volcano of Krakatau ("Krakatoa") in Indones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virtually unknown volcanic island with a history of violent volcanic activity, exploded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astating fury. The eruption was one of the most catastrophic natural disasters in recorded his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effects were experienced on a global scale. Fine ashes from the eruption were carried by upp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winds as far away as New York City. The explosion was heard more than 3000 miles awa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canic dust blew into the upper atmosphere affecting incoming solar radiation and the earth'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for several years.  A series of large tsunami waves generated by the main explosion, s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ching a height of nearly 40 meters (more than 120 feet) above sea level, killed more than 36,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ople in the coastal towns and villages along the Sunda Strait on Java and Sumatra islan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unami waves were recorded or observed throughout the Indian Ocean, the Pacific Ocean,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n West Coast, South America, and even as far away as the English Chann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krakatau_map"/>
          <p:cNvPicPr/>
          <p:nvPr/>
        </p:nvPicPr>
        <p:blipFill>
          <a:blip r:embed="rId1"/>
          <a:stretch/>
        </p:blipFill>
        <p:spPr>
          <a:xfrm>
            <a:off x="152280" y="0"/>
            <a:ext cx="2818080" cy="3343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krakatau_5a"/>
          <p:cNvPicPr/>
          <p:nvPr/>
        </p:nvPicPr>
        <p:blipFill>
          <a:blip r:embed="rId2"/>
          <a:stretch/>
        </p:blipFill>
        <p:spPr>
          <a:xfrm>
            <a:off x="4267080" y="152280"/>
            <a:ext cx="3600720" cy="24004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7"/>
          <p:cNvSpPr/>
          <p:nvPr/>
        </p:nvSpPr>
        <p:spPr>
          <a:xfrm>
            <a:off x="3722760" y="2957400"/>
            <a:ext cx="36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RAKATAU: World’s largest explos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Volcanic Setting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5" descr="FG12_29"/>
          <p:cNvPicPr/>
          <p:nvPr/>
        </p:nvPicPr>
        <p:blipFill>
          <a:blip r:embed="rId1"/>
          <a:srcRect l="0" t="12000" r="0" b="30000"/>
          <a:stretch/>
        </p:blipFill>
        <p:spPr>
          <a:xfrm>
            <a:off x="0" y="1828800"/>
            <a:ext cx="91440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Shield and Composite Volcanoe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31" name="Picture 7" descr="FG12_29"/>
          <p:cNvPicPr/>
          <p:nvPr/>
        </p:nvPicPr>
        <p:blipFill>
          <a:blip r:embed="rId1"/>
          <a:srcRect l="0" t="28800" r="0" b="28800"/>
          <a:stretch/>
        </p:blipFill>
        <p:spPr>
          <a:xfrm>
            <a:off x="0" y="2028960"/>
            <a:ext cx="9144000" cy="29066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FFUSIVE ERUPTION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at hots spots, spreading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ly comes directly to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 lava; low viscosity, very mafic, flows easily, gases escape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shields, flood ba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12_27"/>
          <p:cNvPicPr/>
          <p:nvPr/>
        </p:nvPicPr>
        <p:blipFill>
          <a:blip r:embed="rId1"/>
          <a:stretch/>
        </p:blipFill>
        <p:spPr>
          <a:xfrm>
            <a:off x="914400" y="152280"/>
            <a:ext cx="739152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12_33"/>
          <p:cNvPicPr/>
          <p:nvPr/>
        </p:nvPicPr>
        <p:blipFill>
          <a:blip r:embed="rId1"/>
          <a:stretch/>
        </p:blipFill>
        <p:spPr>
          <a:xfrm>
            <a:off x="0" y="914400"/>
            <a:ext cx="9347040" cy="49957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2275920" y="598500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 BA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12_26"/>
          <p:cNvPicPr/>
          <p:nvPr/>
        </p:nvPicPr>
        <p:blipFill>
          <a:blip r:embed="rId1"/>
          <a:stretch/>
        </p:blipFill>
        <p:spPr>
          <a:xfrm>
            <a:off x="380880" y="0"/>
            <a:ext cx="8423280" cy="69325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2199600" y="4405320"/>
            <a:ext cx="243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bia River basalt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425320" y="189072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site Vol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XPLOSIVE ERUPTION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 at subduction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ma low temp (800 degrees C), high viscosity, does not flow easilty, more felsic mineralogy, gases trapped, hard to predict explo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composite volcanoes, cinder cones, calderas, aerial bombs, nuee ardente gas flows, very de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omposite Volcanoe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44" name="Picture 6" descr="FG12_34a"/>
          <p:cNvPicPr/>
          <p:nvPr/>
        </p:nvPicPr>
        <p:blipFill>
          <a:blip r:embed="rId1"/>
          <a:srcRect l="0" t="15600" r="0" b="19200"/>
          <a:stretch/>
        </p:blipFill>
        <p:spPr>
          <a:xfrm>
            <a:off x="0" y="167652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5:31:29Z</dcterms:created>
  <dc:creator>Charles E. Thomsen</dc:creator>
  <dc:description/>
  <dc:language>en-US</dc:language>
  <cp:lastModifiedBy>Dell</cp:lastModifiedBy>
  <cp:lastPrinted>2009-04-22T19:24:48Z</cp:lastPrinted>
  <dcterms:modified xsi:type="dcterms:W3CDTF">2011-10-06T00:32:01Z</dcterms:modified>
  <cp:revision>13</cp:revision>
  <dc:subject/>
  <dc:title>PowerPoint Presentation</dc:title>
</cp:coreProperties>
</file>