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EDA5-E887-452D-A90B-47A50C5C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5043-38DB-4EA4-9028-AAC854DA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F091-C8E6-417F-95BD-810E94F8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3950-EEFC-4D68-BFB9-634F0BE9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5AEA-6E76-4B37-A82F-A232E0D5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479C-4F43-41D9-9A72-67455B04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342A-7F1B-4A1E-9116-7E9F124D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3AE3-254A-45DB-A7B8-1B02C07B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ED02-C718-492D-A511-F6554EEF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98F8-ABEE-43A3-B187-964E7A5E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E395-01D6-4265-832B-0C7A9801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A5E-3DE8-443B-8EE8-196FEE53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708F-3CBC-423A-B5BC-12458E9B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58D2-5230-403A-9C8F-91E39E93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4A32-A5C5-44AD-BDCB-41512D2F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372D-1924-4EC2-9DB2-260A1E51C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87E7-4403-43CA-9874-67AC3023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AF8D-C82F-4E19-873A-D9314E34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63C5-B594-47F3-A49F-B0BC6CE2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D0CB-01A1-4862-A085-A0298744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84FA-45C9-46E0-9C09-E27B45BC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BF8C-BCEF-40B9-9F58-844D9655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8DAF-184B-4558-93D2-C12A835D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9027-FA4A-4777-8B30-7861B602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CBD5-92A8-4C87-A898-84A9E9C86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>
                  <a:gd name="textAreaLeft" fmla="*/ 0 w 7696080"/>
                  <a:gd name="textAreaRight" fmla="*/ 7696440 w 76960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0066cc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>
                      <a:gd name="textAreaLeft" fmla="*/ 0 w 41040"/>
                      <a:gd name="textAreaRight" fmla="*/ 41400 w 410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84040"/>
                      <a:gd name="textAreaBottom" fmla="*/ 284400 h 284040"/>
                    </a:gdLst>
                    <a:ahLst/>
                    <a:rect l="textAreaLeft" t="textAreaTop" r="textAreaRight" b="textAreaBottom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>
                      <a:gd name="textAreaLeft" fmla="*/ 0 w 666720"/>
                      <a:gd name="textAreaRight" fmla="*/ 667080 w 666720"/>
                      <a:gd name="textAreaTop" fmla="*/ 0 h 448920"/>
                      <a:gd name="textAreaBottom" fmla="*/ 449280 h 448920"/>
                    </a:gdLst>
                    <a:ahLst/>
                    <a:rect l="textAreaLeft" t="textAreaTop" r="textAreaRight" b="textAreaBottom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>
                      <a:gd name="textAreaLeft" fmla="*/ 0 w 24120"/>
                      <a:gd name="textAreaRight" fmla="*/ 24480 w 2412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>
                      <a:gd name="textAreaLeft" fmla="*/ 0 w 115920"/>
                      <a:gd name="textAreaRight" fmla="*/ 116280 w 115920"/>
                      <a:gd name="textAreaTop" fmla="*/ 0 h 52200"/>
                      <a:gd name="textAreaBottom" fmla="*/ 52560 h 52200"/>
                    </a:gdLst>
                    <a:ahLst/>
                    <a:rect l="textAreaLeft" t="textAreaTop" r="textAreaRight" b="textAreaBottom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28080"/>
                      <a:gd name="textAreaBottom" fmla="*/ 28440 h 28080"/>
                    </a:gdLst>
                    <a:ahLst/>
                    <a:rect l="textAreaLeft" t="textAreaTop" r="textAreaRight" b="textAreaBottom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>
                      <a:gd name="textAreaLeft" fmla="*/ 0 w 325440"/>
                      <a:gd name="textAreaRight" fmla="*/ 325800 w 325440"/>
                      <a:gd name="textAreaTop" fmla="*/ 0 h 64800"/>
                      <a:gd name="textAreaBottom" fmla="*/ 65160 h 64800"/>
                    </a:gdLst>
                    <a:ahLst/>
                    <a:rect l="textAreaLeft" t="textAreaTop" r="textAreaRight" b="textAreaBottom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>
                      <a:gd name="textAreaLeft" fmla="*/ 0 w 692280"/>
                      <a:gd name="textAreaRight" fmla="*/ 692640 w 69228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86760"/>
                      <a:gd name="textAreaBottom" fmla="*/ 86760 h 8676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>
                      <a:gd name="textAreaLeft" fmla="*/ 0 w 127080"/>
                      <a:gd name="textAreaRight" fmla="*/ 127440 w 127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>
                      <a:gd name="textAreaLeft" fmla="*/ 0 w 551160"/>
                      <a:gd name="textAreaRight" fmla="*/ 551520 w 55116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>
                      <a:gd name="textAreaLeft" fmla="*/ 0 w 687600"/>
                      <a:gd name="textAreaRight" fmla="*/ 687960 w 68760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640"/>
                      <a:gd name="textAreaBottom" fmla="*/ 351000 h 35064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>
                      <a:gd name="textAreaLeft" fmla="*/ 0 w 63720"/>
                      <a:gd name="textAreaRight" fmla="*/ 64080 w 6372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>
                      <a:gd name="textAreaLeft" fmla="*/ 0 w 695160"/>
                      <a:gd name="textAreaRight" fmla="*/ 695520 w 69516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87120"/>
                      <a:gd name="textAreaBottom" fmla="*/ 87480 h 8712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>
                      <a:gd name="textAreaLeft" fmla="*/ 0 w 93960"/>
                      <a:gd name="textAreaRight" fmla="*/ 94320 w 939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>
                      <a:gd name="textAreaLeft" fmla="*/ 0 w 550800"/>
                      <a:gd name="textAreaRight" fmla="*/ 551160 w 55080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>
                      <a:gd name="textAreaLeft" fmla="*/ 0 w 687240"/>
                      <a:gd name="textAreaRight" fmla="*/ 687600 w 68724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280"/>
                      <a:gd name="textAreaBottom" fmla="*/ 350640 h 35028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9d90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earth"/>
            <p:cNvPicPr/>
            <p:nvPr/>
          </p:nvPicPr>
          <p:blipFill>
            <a:blip r:embed="rId5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026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1027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1028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1029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>
                  <a:gd name="textAreaLeft" fmla="*/ 0 w 9144000"/>
                  <a:gd name="textAreaRight" fmla="*/ 9144360 w 9144000"/>
                  <a:gd name="textAreaTop" fmla="*/ 0 h 1638000"/>
                  <a:gd name="textAreaBottom" fmla="*/ 1638360 h 16380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030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1031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032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033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34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035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>
                    <a:gd name="textAreaLeft" fmla="*/ 0 w 103320"/>
                    <a:gd name="textAreaRight" fmla="*/ 103680 w 1033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036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037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>
                    <a:gd name="textAreaLeft" fmla="*/ 0 w 561960"/>
                    <a:gd name="textAreaRight" fmla="*/ 562320 w 561960"/>
                    <a:gd name="textAreaTop" fmla="*/ 0 h 361800"/>
                    <a:gd name="textAreaBottom" fmla="*/ 362160 h 361800"/>
                  </a:gdLst>
                  <a:ahLst/>
                  <a:rect l="textAreaLeft" t="textAreaTop" r="textAreaRight" b="textAreaBottom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038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039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040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041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042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043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1044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>
                    <a:gd name="textAreaLeft" fmla="*/ 0 w 453960"/>
                    <a:gd name="textAreaRight" fmla="*/ 454320 w 45396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1045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1046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1047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1048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1049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1050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1051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225360"/>
                    <a:gd name="textAreaBottom" fmla="*/ 225720 h 225360"/>
                  </a:gdLst>
                  <a:ahLst/>
                  <a:rect l="textAreaLeft" t="textAreaTop" r="textAreaRight" b="textAreaBottom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1052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>
                    <a:gd name="textAreaLeft" fmla="*/ 0 w 51120"/>
                    <a:gd name="textAreaRight" fmla="*/ 51480 w 51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1053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1054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>
                    <a:gd name="textAreaLeft" fmla="*/ 0 w 1112760"/>
                    <a:gd name="textAreaRight" fmla="*/ 1113120 w 111276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1055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>
                    <a:gd name="textAreaLeft" fmla="*/ 0 w 1562040"/>
                    <a:gd name="textAreaRight" fmla="*/ 1562400 w 1562040"/>
                    <a:gd name="textAreaTop" fmla="*/ 0 h 1098720"/>
                    <a:gd name="textAreaBottom" fmla="*/ 1099080 h 1098720"/>
                  </a:gdLst>
                  <a:ahLst/>
                  <a:rect l="textAreaLeft" t="textAreaTop" r="textAreaRight" b="textAreaBottom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1056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1057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1058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1059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1060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1061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1062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1063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1064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>
                    <a:gd name="textAreaLeft" fmla="*/ 0 w 708120"/>
                    <a:gd name="textAreaRight" fmla="*/ 708120 w 70812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1065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>
                    <a:gd name="textAreaLeft" fmla="*/ 0 w 66600"/>
                    <a:gd name="textAreaRight" fmla="*/ 66600 w 6660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1066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>
                    <a:gd name="textAreaLeft" fmla="*/ 0 w 1622520"/>
                    <a:gd name="textAreaRight" fmla="*/ 1622880 w 1622520"/>
                    <a:gd name="textAreaTop" fmla="*/ 0 h 590760"/>
                    <a:gd name="textAreaBottom" fmla="*/ 591120 h 590760"/>
                  </a:gdLst>
                  <a:ahLst/>
                  <a:rect l="textAreaLeft" t="textAreaTop" r="textAreaRight" b="textAreaBottom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1067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212760"/>
                    <a:gd name="textAreaBottom" fmla="*/ 213120 h 212760"/>
                  </a:gdLst>
                  <a:ahLst/>
                  <a:rect l="textAreaLeft" t="textAreaTop" r="textAreaRight" b="textAreaBottom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1068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133560"/>
                    <a:gd name="textAreaBottom" fmla="*/ 133920 h 133560"/>
                  </a:gdLst>
                  <a:ahLst/>
                  <a:rect l="textAreaLeft" t="textAreaTop" r="textAreaRight" b="textAreaBottom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1069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>
                    <a:gd name="textAreaLeft" fmla="*/ 0 w 297000"/>
                    <a:gd name="textAreaRight" fmla="*/ 297360 w 297000"/>
                    <a:gd name="textAreaTop" fmla="*/ 0 h 279360"/>
                    <a:gd name="textAreaBottom" fmla="*/ 279720 h 279360"/>
                  </a:gdLst>
                  <a:ahLst/>
                  <a:rect l="textAreaLeft" t="textAreaTop" r="textAreaRight" b="textAreaBottom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1070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>
                    <a:gd name="textAreaLeft" fmla="*/ 0 w 22320"/>
                    <a:gd name="textAreaRight" fmla="*/ 22320 w 2232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1071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>
                    <a:gd name="textAreaLeft" fmla="*/ 0 w 1290600"/>
                    <a:gd name="textAreaRight" fmla="*/ 1290960 w 1290600"/>
                    <a:gd name="textAreaTop" fmla="*/ 0 h 733320"/>
                    <a:gd name="textAreaBottom" fmla="*/ 733680 h 733320"/>
                  </a:gdLst>
                  <a:ahLst/>
                  <a:rect l="textAreaLeft" t="textAreaTop" r="textAreaRight" b="textAreaBottom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1072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1073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1074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75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>
                    <a:gd name="textAreaLeft" fmla="*/ 0 w 1611360"/>
                    <a:gd name="textAreaRight" fmla="*/ 1611720 w 1611360"/>
                    <a:gd name="textAreaTop" fmla="*/ 0 h 1374840"/>
                    <a:gd name="textAreaBottom" fmla="*/ 1375200 h 1374840"/>
                  </a:gdLst>
                  <a:ahLst/>
                  <a:rect l="textAreaLeft" t="textAreaTop" r="textAreaRight" b="textAreaBottom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1076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>
                    <a:gd name="textAreaLeft" fmla="*/ 0 w 606240"/>
                    <a:gd name="textAreaRight" fmla="*/ 606600 w 606240"/>
                    <a:gd name="textAreaTop" fmla="*/ 0 h 857160"/>
                    <a:gd name="textAreaBottom" fmla="*/ 857520 h 857160"/>
                  </a:gdLst>
                  <a:ahLst/>
                  <a:rect l="textAreaLeft" t="textAreaTop" r="textAreaRight" b="textAreaBottom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1077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078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079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>
                    <a:gd name="textAreaLeft" fmla="*/ 0 w 91800"/>
                    <a:gd name="textAreaRight" fmla="*/ 92160 w 9180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080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>
                    <a:gd name="textAreaLeft" fmla="*/ 0 w 1096920"/>
                    <a:gd name="textAreaRight" fmla="*/ 1097280 w 1096920"/>
                    <a:gd name="textAreaTop" fmla="*/ 0 h 903600"/>
                    <a:gd name="textAreaBottom" fmla="*/ 903960 h 903600"/>
                  </a:gdLst>
                  <a:ahLst/>
                  <a:rect l="textAreaLeft" t="textAreaTop" r="textAreaRight" b="textAreaBottom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081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>
                    <a:gd name="textAreaLeft" fmla="*/ 0 w 2200320"/>
                    <a:gd name="textAreaRight" fmla="*/ 2200680 w 2200320"/>
                    <a:gd name="textAreaTop" fmla="*/ 0 h 368640"/>
                    <a:gd name="textAreaBottom" fmla="*/ 369000 h 368640"/>
                  </a:gdLst>
                  <a:ahLst/>
                  <a:rect l="textAreaLeft" t="textAreaTop" r="textAreaRight" b="textAreaBottom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1082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083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084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1085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1086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d90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087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1088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089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090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091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092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093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094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095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096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097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098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9d9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099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1100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101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102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103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104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105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106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107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108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109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110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111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112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113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114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00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115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602D-8FB3-4F4C-A494-3B2E177C8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olcanism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canic Features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and Types of Volcanic Activity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usive Eruptions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osive Eruptions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cano Forecasting and Plan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4" descr="12_T03"/>
          <p:cNvPicPr/>
          <p:nvPr/>
        </p:nvPicPr>
        <p:blipFill>
          <a:blip r:embed="rId1"/>
          <a:stretch/>
        </p:blipFill>
        <p:spPr>
          <a:xfrm>
            <a:off x="-92160" y="-371520"/>
            <a:ext cx="9328320" cy="76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7" descr="pl-XII-flow-1"/>
          <p:cNvPicPr/>
          <p:nvPr/>
        </p:nvPicPr>
        <p:blipFill>
          <a:blip r:embed="rId1"/>
          <a:stretch/>
        </p:blipFill>
        <p:spPr>
          <a:xfrm>
            <a:off x="1066680" y="2590920"/>
            <a:ext cx="1676520" cy="14256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pl-XII-flow-2"/>
          <p:cNvPicPr/>
          <p:nvPr/>
        </p:nvPicPr>
        <p:blipFill>
          <a:blip r:embed="rId2"/>
          <a:stretch/>
        </p:blipFill>
        <p:spPr>
          <a:xfrm>
            <a:off x="3352680" y="2590920"/>
            <a:ext cx="1600200" cy="1407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pl-XII-flow-3"/>
          <p:cNvPicPr/>
          <p:nvPr/>
        </p:nvPicPr>
        <p:blipFill>
          <a:blip r:embed="rId3"/>
          <a:stretch/>
        </p:blipFill>
        <p:spPr>
          <a:xfrm>
            <a:off x="5410080" y="2666880"/>
            <a:ext cx="1752840" cy="13845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pl-XII-flow-4"/>
          <p:cNvPicPr/>
          <p:nvPr/>
        </p:nvPicPr>
        <p:blipFill>
          <a:blip r:embed="rId4"/>
          <a:stretch/>
        </p:blipFill>
        <p:spPr>
          <a:xfrm>
            <a:off x="1066680" y="4419720"/>
            <a:ext cx="1752840" cy="14540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pl-XII-flow-5"/>
          <p:cNvPicPr/>
          <p:nvPr/>
        </p:nvPicPr>
        <p:blipFill>
          <a:blip r:embed="rId5"/>
          <a:stretch/>
        </p:blipFill>
        <p:spPr>
          <a:xfrm>
            <a:off x="3352680" y="4495680"/>
            <a:ext cx="1981440" cy="17035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2" descr="pl-XII-flow-6"/>
          <p:cNvPicPr/>
          <p:nvPr/>
        </p:nvPicPr>
        <p:blipFill>
          <a:blip r:embed="rId6"/>
          <a:stretch/>
        </p:blipFill>
        <p:spPr>
          <a:xfrm>
            <a:off x="5867280" y="4572000"/>
            <a:ext cx="2133720" cy="18558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14"/>
          <p:cNvSpPr/>
          <p:nvPr/>
        </p:nvSpPr>
        <p:spPr>
          <a:xfrm>
            <a:off x="379440" y="1281240"/>
            <a:ext cx="82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uee ardente: pyroclastic flow, of searing superheated gas and incandescent volcanic ash and du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5"/>
          <p:cNvSpPr/>
          <p:nvPr/>
        </p:nvSpPr>
        <p:spPr>
          <a:xfrm>
            <a:off x="379800" y="1662120"/>
            <a:ext cx="78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unt Pelee, on the Carribean island of Martinique, 1902 eruption. All but 2 of the more th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,000 people in the town of St. Pierre were kill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4"/>
          <p:cNvSpPr/>
          <p:nvPr/>
        </p:nvSpPr>
        <p:spPr>
          <a:xfrm>
            <a:off x="16200" y="3587760"/>
            <a:ext cx="89985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ver a century ago, on August 26,1883, the island volcano of Krakatau ("Krakatoa") in Indonesi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virtually unknown volcanic island with a history of violent volcanic activity, exploded wi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vastating fury. The eruption was one of the most catastrophic natural disasters in recorded his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effects were experienced on a global scale. Fine ashes from the eruption were carried by upp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vel winds as far away as New York City. The explosion was heard more than 3000 miles awa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olcanic dust blew into the upper atmosphere affecting incoming solar radiation and the earth'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ather for several years.  A series of large tsunami waves generated by the main explosion, so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aching a height of nearly 40 meters (more than 120 feet) above sea level, killed more than 36,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ople in the coastal towns and villages along the Sunda Strait on Java and Sumatra islan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sunami waves were recorded or observed throughout the Indian Ocean, the Pacific Ocean,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erican West Coast, South America, and even as far away as the English Chann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5" descr="krakatau_map"/>
          <p:cNvPicPr/>
          <p:nvPr/>
        </p:nvPicPr>
        <p:blipFill>
          <a:blip r:embed="rId1"/>
          <a:stretch/>
        </p:blipFill>
        <p:spPr>
          <a:xfrm>
            <a:off x="152280" y="0"/>
            <a:ext cx="2818080" cy="33433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krakatau_5a"/>
          <p:cNvPicPr/>
          <p:nvPr/>
        </p:nvPicPr>
        <p:blipFill>
          <a:blip r:embed="rId2"/>
          <a:stretch/>
        </p:blipFill>
        <p:spPr>
          <a:xfrm>
            <a:off x="4267080" y="152280"/>
            <a:ext cx="3600720" cy="240048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7"/>
          <p:cNvSpPr/>
          <p:nvPr/>
        </p:nvSpPr>
        <p:spPr>
          <a:xfrm>
            <a:off x="3722760" y="2957400"/>
            <a:ext cx="36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RAKATAU: World’s largest explos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Volcanic Settings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2160" y="6521400"/>
            <a:ext cx="12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 12.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5" descr="FG12_29"/>
          <p:cNvPicPr/>
          <p:nvPr/>
        </p:nvPicPr>
        <p:blipFill>
          <a:blip r:embed="rId1"/>
          <a:srcRect l="0" t="12000" r="0" b="30000"/>
          <a:stretch/>
        </p:blipFill>
        <p:spPr>
          <a:xfrm>
            <a:off x="0" y="1828800"/>
            <a:ext cx="91440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Shield and Composite Volcanoes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31" name="Picture 7" descr="FG12_29"/>
          <p:cNvPicPr/>
          <p:nvPr/>
        </p:nvPicPr>
        <p:blipFill>
          <a:blip r:embed="rId1"/>
          <a:srcRect l="0" t="28800" r="0" b="28800"/>
          <a:stretch/>
        </p:blipFill>
        <p:spPr>
          <a:xfrm>
            <a:off x="0" y="2028960"/>
            <a:ext cx="9144000" cy="290664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10"/>
          <p:cNvSpPr/>
          <p:nvPr/>
        </p:nvSpPr>
        <p:spPr>
          <a:xfrm>
            <a:off x="2160" y="6521400"/>
            <a:ext cx="12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 12.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FFUSIVE ERUPTIONS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at hots spots, spreading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tly comes directly to 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t lava; low viscosity, very mafic, flows easily, gases escape eas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s shields, flood basa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12_27"/>
          <p:cNvPicPr/>
          <p:nvPr/>
        </p:nvPicPr>
        <p:blipFill>
          <a:blip r:embed="rId1"/>
          <a:stretch/>
        </p:blipFill>
        <p:spPr>
          <a:xfrm>
            <a:off x="914400" y="152280"/>
            <a:ext cx="739152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12_33"/>
          <p:cNvPicPr/>
          <p:nvPr/>
        </p:nvPicPr>
        <p:blipFill>
          <a:blip r:embed="rId1"/>
          <a:stretch/>
        </p:blipFill>
        <p:spPr>
          <a:xfrm>
            <a:off x="0" y="914400"/>
            <a:ext cx="9347040" cy="49957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5"/>
          <p:cNvSpPr/>
          <p:nvPr/>
        </p:nvSpPr>
        <p:spPr>
          <a:xfrm>
            <a:off x="2275920" y="598500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OD BA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12_26"/>
          <p:cNvPicPr/>
          <p:nvPr/>
        </p:nvPicPr>
        <p:blipFill>
          <a:blip r:embed="rId1"/>
          <a:stretch/>
        </p:blipFill>
        <p:spPr>
          <a:xfrm>
            <a:off x="380880" y="0"/>
            <a:ext cx="8423280" cy="693252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2199600" y="4405320"/>
            <a:ext cx="2430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bia River basalt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2425320" y="189072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osite Volc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XPLOSIVE ERUPTIONS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 at subduction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ma low temp (800 degrees C), high viscosity, does not flow easilty, more felsic mineralogy, gases trapped, hard to predict explo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s composite volcanoes, cinder cones, calderas, aerial bombs, nuee ardente gas flows, very destru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Composite Volcanoes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44" name="Picture 6" descr="FG12_34a"/>
          <p:cNvPicPr/>
          <p:nvPr/>
        </p:nvPicPr>
        <p:blipFill>
          <a:blip r:embed="rId1"/>
          <a:srcRect l="0" t="15600" r="0" b="19200"/>
          <a:stretch/>
        </p:blipFill>
        <p:spPr>
          <a:xfrm>
            <a:off x="0" y="1676520"/>
            <a:ext cx="9144000" cy="447192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160" y="6521400"/>
            <a:ext cx="12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 12.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1T15:31:29Z</dcterms:created>
  <dc:creator>Charles E. Thomsen</dc:creator>
  <dc:description/>
  <dc:language>en-US</dc:language>
  <cp:lastModifiedBy>Dell</cp:lastModifiedBy>
  <cp:lastPrinted>2009-04-22T19:24:48Z</cp:lastPrinted>
  <dcterms:modified xsi:type="dcterms:W3CDTF">2011-10-06T00:32:01Z</dcterms:modified>
  <cp:revision>13</cp:revision>
  <dc:subject/>
  <dc:title>PowerPoint Presentation</dc:title>
</cp:coreProperties>
</file>