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E8B-907F-4D96-B7EC-983BB44B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F9A-6D6D-4217-829A-0B232FD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252-48A4-49F6-BC78-CA478A5A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2A2-EFAA-4EA8-BEE7-C2748F3B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8AE-CEFB-4F32-8734-90D917F3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8CA0-9CDD-4195-88DD-CC120A29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FF28-9B78-4388-A66D-EAB325F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6C5-EC9B-4F1C-BC61-4F8794C3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3C6F-A782-47FA-91E6-D6341ADA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1CE1-0CF7-4FFF-B8DF-05EEA241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EFBD-4279-4C06-9331-FEB32973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B5A-DE6D-4478-9771-51DD7DC2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3F05-69A0-40FA-B442-9413E39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70CF-C0AA-48F4-B42E-3B7A116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C4DF-8824-43ED-947A-5938C68A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00EC-37C9-401E-BA7B-930AC85A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5E3-F148-4DD1-9FF1-C2CFA512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92B-DB23-4245-B51E-E9FA627E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280-BEC3-4576-80CE-B540DB3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4C1-56A6-475E-BC51-FB3C6DE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F35D-093C-42CF-94B4-EF7ABB69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170-D873-4563-B149-A48E886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66C-819A-465F-BCD8-498A82E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79D-943C-454C-9934-C85FC8F8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8AAD-2D3B-4580-9BFD-5550A6587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026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027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028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029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030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31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32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33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34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035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36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37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038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039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040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041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042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043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044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045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1046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047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048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049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050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051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052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053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1054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1055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056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57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058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59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60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61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62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63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64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5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66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67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68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069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070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071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072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073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074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75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76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77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78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79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80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81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82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83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4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5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86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087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088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089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090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91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092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093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094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095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096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097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098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99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100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101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102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103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104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5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106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107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108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109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110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111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112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113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14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115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7B8-2373-44F1-88EE-DCC541B1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canism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ic Feature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and Types of Volcanic Activity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o Forecasting and Pla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12_T03"/>
          <p:cNvPicPr/>
          <p:nvPr/>
        </p:nvPicPr>
        <p:blipFill>
          <a:blip r:embed="rId1"/>
          <a:stretch/>
        </p:blipFill>
        <p:spPr>
          <a:xfrm>
            <a:off x="-92160" y="-371520"/>
            <a:ext cx="93283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l-XII-flow-1"/>
          <p:cNvPicPr/>
          <p:nvPr/>
        </p:nvPicPr>
        <p:blipFill>
          <a:blip r:embed="rId1"/>
          <a:stretch/>
        </p:blipFill>
        <p:spPr>
          <a:xfrm>
            <a:off x="1066680" y="259092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pl-XII-flow-2"/>
          <p:cNvPicPr/>
          <p:nvPr/>
        </p:nvPicPr>
        <p:blipFill>
          <a:blip r:embed="rId2"/>
          <a:stretch/>
        </p:blipFill>
        <p:spPr>
          <a:xfrm>
            <a:off x="3352680" y="25909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l-XII-flow-3"/>
          <p:cNvPicPr/>
          <p:nvPr/>
        </p:nvPicPr>
        <p:blipFill>
          <a:blip r:embed="rId3"/>
          <a:stretch/>
        </p:blipFill>
        <p:spPr>
          <a:xfrm>
            <a:off x="5410080" y="2666880"/>
            <a:ext cx="1752840" cy="138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pl-XII-flow-4"/>
          <p:cNvPicPr/>
          <p:nvPr/>
        </p:nvPicPr>
        <p:blipFill>
          <a:blip r:embed="rId4"/>
          <a:stretch/>
        </p:blipFill>
        <p:spPr>
          <a:xfrm>
            <a:off x="1066680" y="4419720"/>
            <a:ext cx="1752840" cy="1454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pl-XII-flow-5"/>
          <p:cNvPicPr/>
          <p:nvPr/>
        </p:nvPicPr>
        <p:blipFill>
          <a:blip r:embed="rId5"/>
          <a:stretch/>
        </p:blipFill>
        <p:spPr>
          <a:xfrm>
            <a:off x="3352680" y="4495680"/>
            <a:ext cx="1981440" cy="170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pl-XII-flow-6"/>
          <p:cNvPicPr/>
          <p:nvPr/>
        </p:nvPicPr>
        <p:blipFill>
          <a:blip r:embed="rId6"/>
          <a:stretch/>
        </p:blipFill>
        <p:spPr>
          <a:xfrm>
            <a:off x="5867280" y="4572000"/>
            <a:ext cx="2133720" cy="18558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4"/>
          <p:cNvSpPr/>
          <p:nvPr/>
        </p:nvSpPr>
        <p:spPr>
          <a:xfrm>
            <a:off x="379440" y="1281240"/>
            <a:ext cx="82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ee ardente: pyroclastic flow, of searing superheated gas and incandescent volcanic ash and d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79800" y="1662120"/>
            <a:ext cx="78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Pelee, on the Carribean island of Martinique, 1902 eruption. All but 2 of the more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,000 people in the town of St. Pierre were ki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16200" y="3587760"/>
            <a:ext cx="8998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a century ago, on August 26,1883, the island volcano of Krakatau ("Krakatoa") in Indones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virtually unknown volcanic island with a history of violent volcanic activity, exploded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astating fury. The eruption was one of the most catastrophic natural disasters in recorded his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ffects were experienced on a global scale. Fine ashes from the eruption were carried by up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winds as far away as New York City. The explosion was heard more than 3000 miles a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canic dust blew into the upper atmosphere affecting incoming solar radiation and the earth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for several years.  A series of large tsunami waves generated by the main explosion, s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ching a height of nearly 40 meters (more than 120 feet) above sea level, killed more than 36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ople in the coastal towns and villages along the Sunda Strait on Java and Sumatra isla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unami waves were recorded or observed throughout the Indian Ocean, the Pacific Ocean,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n West Coast, South America, and even as far away as the English Chan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krakatau_map"/>
          <p:cNvPicPr/>
          <p:nvPr/>
        </p:nvPicPr>
        <p:blipFill>
          <a:blip r:embed="rId1"/>
          <a:stretch/>
        </p:blipFill>
        <p:spPr>
          <a:xfrm>
            <a:off x="152280" y="0"/>
            <a:ext cx="2818080" cy="334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krakatau_5a"/>
          <p:cNvPicPr/>
          <p:nvPr/>
        </p:nvPicPr>
        <p:blipFill>
          <a:blip r:embed="rId2"/>
          <a:stretch/>
        </p:blipFill>
        <p:spPr>
          <a:xfrm>
            <a:off x="4267080" y="152280"/>
            <a:ext cx="3600720" cy="2400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3722760" y="2957400"/>
            <a:ext cx="36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RAKATAU: World’s largest explos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Volcanic Setting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FG12_29"/>
          <p:cNvPicPr/>
          <p:nvPr/>
        </p:nvPicPr>
        <p:blipFill>
          <a:blip r:embed="rId1"/>
          <a:srcRect l="0" t="12000" r="0" b="30000"/>
          <a:stretch/>
        </p:blipFill>
        <p:spPr>
          <a:xfrm>
            <a:off x="0" y="1828800"/>
            <a:ext cx="9144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Shield and 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Picture 7" descr="FG12_29"/>
          <p:cNvPicPr/>
          <p:nvPr/>
        </p:nvPicPr>
        <p:blipFill>
          <a:blip r:embed="rId1"/>
          <a:srcRect l="0" t="28800" r="0" b="28800"/>
          <a:stretch/>
        </p:blipFill>
        <p:spPr>
          <a:xfrm>
            <a:off x="0" y="2028960"/>
            <a:ext cx="9144000" cy="2906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FFU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t hots spots, spreading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ly comes directly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 lava; low viscosity, very mafic, flows easily, gases escape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shields, flood ba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12_27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2_33"/>
          <p:cNvPicPr/>
          <p:nvPr/>
        </p:nvPicPr>
        <p:blipFill>
          <a:blip r:embed="rId1"/>
          <a:stretch/>
        </p:blipFill>
        <p:spPr>
          <a:xfrm>
            <a:off x="0" y="914400"/>
            <a:ext cx="9347040" cy="4995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2275920" y="59850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BA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12_26"/>
          <p:cNvPicPr/>
          <p:nvPr/>
        </p:nvPicPr>
        <p:blipFill>
          <a:blip r:embed="rId1"/>
          <a:stretch/>
        </p:blipFill>
        <p:spPr>
          <a:xfrm>
            <a:off x="380880" y="0"/>
            <a:ext cx="842328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2199600" y="4405320"/>
            <a:ext cx="243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bia River basal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425320" y="18907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site Vol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XPLO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at subduction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ma low temp (800 degrees C), high viscosity, does not flow easilty, more felsic mineralogy, gases trapped, hard to predict explo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composite volcanoes, cinder cones, calderas, aerial bombs, nuee ardente gas flows, very 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Picture 6" descr="FG12_34a"/>
          <p:cNvPicPr/>
          <p:nvPr/>
        </p:nvPicPr>
        <p:blipFill>
          <a:blip r:embed="rId1"/>
          <a:srcRect l="0" t="15600" r="0" b="19200"/>
          <a:stretch/>
        </p:blipFill>
        <p:spPr>
          <a:xfrm>
            <a:off x="0" y="167652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5:31:29Z</dcterms:created>
  <dc:creator>Charles E. Thomsen</dc:creator>
  <dc:description/>
  <dc:language>en-US</dc:language>
  <cp:lastModifiedBy>Dell</cp:lastModifiedBy>
  <cp:lastPrinted>2009-04-22T19:24:48Z</cp:lastPrinted>
  <dcterms:modified xsi:type="dcterms:W3CDTF">2011-10-06T00:32:01Z</dcterms:modified>
  <cp:revision>13</cp:revision>
  <dc:subject/>
  <dc:title>PowerPoint Presentation</dc:title>
</cp:coreProperties>
</file>