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553F-5144-40D3-8536-DB729F4DF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26B-5E11-41D1-BFD2-9E4DFE2D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814-A41D-4A64-8508-FFD1FCF7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99D2-7C18-4962-A631-8DE79AF5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67F0-0F19-4A81-8073-E9A6480A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09A-0331-4961-A209-DA7AD159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215-A78D-46C1-98C6-0342013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34A-9F5F-43C2-BDFF-14853F57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F45-0BBA-41E9-873C-7011CFC7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457-A85D-40BA-9A8F-2437FC1E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C85-8610-44A1-95C9-0B2ECD0C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4E6-7743-4061-BCEE-2329B90F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188-CC6B-4A40-A7DE-6ABF698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358-CADF-4C55-82A8-57CAF6BB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E13-282A-4F89-91D6-75E57412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4A7-97A5-4007-BFE7-F27EC759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0B0-3B91-453D-8A37-6D0A0389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7" descr="E:\Proxima\PowerPoint Templates\2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42E-9C56-4695-B88E-B05A2BA1A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0" y="1371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3e4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OZIER &amp; ER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s </a:t>
            </a:r>
            <a:r>
              <a:rPr b="0" i="1" lang="en-US" sz="3200" spc="-1" strike="noStrike">
                <a:solidFill>
                  <a:srgbClr val="66a1cb"/>
                </a:solidFill>
                <a:latin typeface="Arial"/>
                <a:ea typeface="Arial"/>
              </a:rPr>
              <a:t>of</a:t>
            </a:r>
            <a:r>
              <a:rPr b="0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NUR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5002200" y="29671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487d"/>
                </a:solidFill>
                <a:latin typeface="Arial"/>
              </a:rPr>
              <a:t>CHAPTER</a:t>
            </a:r>
            <a:r>
              <a:rPr b="0" lang="en-US" sz="2400" spc="-1" strike="noStrike">
                <a:solidFill>
                  <a:srgbClr val="3e48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333440" y="129528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s, Process, an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erman_cvr2b.jpg"/>
          <p:cNvPicPr/>
          <p:nvPr/>
        </p:nvPicPr>
        <p:blipFill>
          <a:blip r:embed="rId3"/>
          <a:stretch/>
        </p:blipFill>
        <p:spPr>
          <a:xfrm>
            <a:off x="609480" y="1828800"/>
            <a:ext cx="3353040" cy="434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228600" y="3886200"/>
            <a:ext cx="8610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and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523880" y="2468520"/>
            <a:ext cx="5410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487d"/>
                </a:solidFill>
                <a:latin typeface="Arial"/>
              </a:rPr>
              <a:t>Chapter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87d"/>
                </a:solidFill>
                <a:latin typeface="Arial"/>
              </a:rPr>
              <a:t>Dr. Wajed Hataml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ques in 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ve and deductive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ng facts from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the credibility of informatio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ing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titudes that Foster 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-m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ectual cou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titudes that Foster Critical Thinking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 and Nur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 underlies each step of the nursing process, problem-solving process, and decision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urs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, rational method of planning and providing individualized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-Solv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the nature of a problem and suggests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tuation contributes to the nurse’s body of knowledge for problem solving in similar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(is the understanding or learning of things without the conscious uses of reasoning (sixth sen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-Mak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s the critical thinking process for choosing the best action to met the desired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best actions to meet a desired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value decisions (keep client information confident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management decisions (take clean linens in at the same time as giving med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-Making Proc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best actions to meet a desired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decisions (bathe clients before visiting h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decisions (most urgent and ones that can be deleg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s of Decision ma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i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ed to b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ed to be pre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ed to be avoi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the criteria( set prior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altern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altern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(placed into 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80" y="-4680"/>
            <a:ext cx="9140760" cy="138096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1219320" y="1506600"/>
            <a:ext cx="62960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significance of developing critical-thinking abilities in order to practice safe, effective, and professional nursing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ways of demonstrating critical thinking in clinical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skills and attitudes of 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ing Critical Thinking Attitudes and Ski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ting dissonance and ambig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environments that support 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ind map for critical thinking in nursing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University of New Mexico College of Nursing. Retrieved from http://hsc.unm.edu/consg/critical/what_ct.s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AAGMLXE0.jpg" descr="AAGMLXE0"/>
          <p:cNvPicPr/>
          <p:nvPr/>
        </p:nvPicPr>
        <p:blipFill>
          <a:blip r:embed="rId1"/>
          <a:stretch/>
        </p:blipFill>
        <p:spPr>
          <a:xfrm>
            <a:off x="1773360" y="1066680"/>
            <a:ext cx="55990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x 10-5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s of Concept Ma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box_10_05.jpg" descr="box_10_05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Types of concept maps: A, hierarchical; B, spider; C, flowchart; D,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AAJMJIT0.jpg" descr="AAJMJIT0"/>
          <p:cNvPicPr/>
          <p:nvPr/>
        </p:nvPicPr>
        <p:blipFill>
          <a:blip r:embed="rId1"/>
          <a:stretch/>
        </p:blipFill>
        <p:spPr>
          <a:xfrm>
            <a:off x="460440" y="1917720"/>
            <a:ext cx="822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 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relationships among critical thinking, the problem-solving process, and the decision-making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GIN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79246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e48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k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is nursing care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e48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know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e48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vailable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ical thinking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intellectually disciplined process of actively and skillfully conceptualizing, Appling, analyzing, synthesizing and / or evaluation information gathering from or generated by, observation, experience, reflection, reasoning or communication as guide to belief and actio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ntional higher level reaso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component of professional accountability and quality nursing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d from a triad of professional, socioeconomic, and ethical/moral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80" y="-4680"/>
            <a:ext cx="9140760" cy="138096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ity is a major component in critical think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s the thinking that results in the development of new idea and products. And is the ability to develop and implement new and bett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inical reasoning and clinical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actice safe and effective nursing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rove clin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rease errors in clinical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 Ski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ing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6:20:23Z</dcterms:created>
  <dc:creator>James Ramsey</dc:creator>
  <dc:description/>
  <dc:language>en-US</dc:language>
  <cp:lastModifiedBy>Mutazz</cp:lastModifiedBy>
  <dcterms:modified xsi:type="dcterms:W3CDTF">2011-11-18T09:09:15Z</dcterms:modified>
  <cp:revision>9</cp:revision>
  <dc:subject/>
  <dc:title>PowerPoint Presentation</dc:title>
</cp:coreProperties>
</file>