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B4B23-595A-4480-84A9-5DEEB49994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60381-F983-43A8-8D5B-7B7D3F692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D9E09-A4E9-41A3-A820-F2F00CA017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8F4C8-3BFB-42B9-9A67-98E5BC6B4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7D0B9-BB86-4D56-90E9-B7578FD362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2880" y="0"/>
            <a:ext cx="914076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2880" y="0"/>
            <a:ext cx="914076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2880" y="0"/>
            <a:ext cx="914076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2880" y="0"/>
            <a:ext cx="914076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BFBC-E049-4852-A8A5-F08BEA52F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B3E3-CA75-4ADB-A8BC-145A080BD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39BE-E153-4967-A3BD-0DBB7B899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ABD3-55EC-4D99-9827-F0D00AFEB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5A6E-9CB6-4CBE-9661-A1307E2FB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2880" y="0"/>
            <a:ext cx="914076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D67E-DD31-48C3-B9C1-A9B740E59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CC5C-A7F1-4ACD-8E4A-A88C6393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A284-1DE2-4FBE-B578-A90F4F86A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163D-E473-4C34-9039-2FE5D362E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8E94-D91A-4003-A8D8-EFB693F96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E55B-0B5B-42EE-9285-3013687ED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658F-A08E-42F8-8DC0-1EDCB589E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880" y="0"/>
            <a:ext cx="914076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880" y="0"/>
            <a:ext cx="914076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2880" y="0"/>
            <a:ext cx="914076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880" y="0"/>
            <a:ext cx="914076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80" y="0"/>
            <a:ext cx="914076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2880" y="0"/>
            <a:ext cx="914076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2880" y="0"/>
            <a:ext cx="914076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2880" y="0"/>
            <a:ext cx="914076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3e48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9" descr="pearson_logo"/>
          <p:cNvPicPr/>
          <p:nvPr/>
        </p:nvPicPr>
        <p:blipFill>
          <a:blip r:embed="rId2"/>
          <a:stretch/>
        </p:blipFill>
        <p:spPr>
          <a:xfrm>
            <a:off x="76320" y="6477120"/>
            <a:ext cx="799920" cy="304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6019920" y="6437160"/>
            <a:ext cx="3047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2012 by Pearson Education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53"/>
          <p:cNvSpPr/>
          <p:nvPr/>
        </p:nvSpPr>
        <p:spPr>
          <a:xfrm>
            <a:off x="3240" y="6400800"/>
            <a:ext cx="9140760" cy="0"/>
          </a:xfrm>
          <a:prstGeom prst="line">
            <a:avLst/>
          </a:prstGeom>
          <a:ln w="28440">
            <a:solidFill>
              <a:srgbClr val="3e48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7"/>
          <p:cNvSpPr/>
          <p:nvPr/>
        </p:nvSpPr>
        <p:spPr>
          <a:xfrm>
            <a:off x="851040" y="6437160"/>
            <a:ext cx="5397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Kozier &amp; Erb’s Fundamentals of Nursing: Concepts, Process, and Practice,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Ninth E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drey Berman • Shirlee Sny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3e48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3e48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3e48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7" descr="E:\Proxima\PowerPoint Templates\2.bmp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3e48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348AE-CF61-45F5-8A7C-9F86E3347C3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14"/>
          <p:cNvSpPr/>
          <p:nvPr/>
        </p:nvSpPr>
        <p:spPr>
          <a:xfrm>
            <a:off x="0" y="13716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I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1"/>
          <p:cNvSpPr/>
          <p:nvPr/>
        </p:nvSpPr>
        <p:spPr>
          <a:xfrm>
            <a:off x="3240" y="0"/>
            <a:ext cx="9140760" cy="1600200"/>
          </a:xfrm>
          <a:prstGeom prst="rect">
            <a:avLst/>
          </a:prstGeom>
          <a:solidFill>
            <a:srgbClr val="3e48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KOZIER &amp; ERB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damentals </a:t>
            </a:r>
            <a:r>
              <a:rPr b="0" i="1" lang="en-US" sz="3200" spc="-1" strike="noStrike">
                <a:solidFill>
                  <a:srgbClr val="66a1cb"/>
                </a:solidFill>
                <a:latin typeface="Arial"/>
                <a:ea typeface="Arial"/>
              </a:rPr>
              <a:t>of</a:t>
            </a:r>
            <a:r>
              <a:rPr b="0" lang="en-US" sz="4800" spc="-1" strike="noStrike">
                <a:solidFill>
                  <a:srgbClr val="66a1cb"/>
                </a:solidFill>
                <a:latin typeface="Arial"/>
                <a:ea typeface="Arial"/>
              </a:rPr>
              <a:t> </a:t>
            </a:r>
            <a:r>
              <a:rPr b="1" lang="en-US" sz="4800" spc="-1" strike="noStrike">
                <a:solidFill>
                  <a:srgbClr val="66a1cb"/>
                </a:solidFill>
                <a:latin typeface="Arial"/>
                <a:ea typeface="Arial"/>
              </a:rPr>
              <a:t>NURS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4"/>
          <p:cNvSpPr/>
          <p:nvPr/>
        </p:nvSpPr>
        <p:spPr>
          <a:xfrm>
            <a:off x="5002200" y="2967120"/>
            <a:ext cx="17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487d"/>
                </a:solidFill>
                <a:latin typeface="Arial"/>
              </a:rPr>
              <a:t>CHAPTER</a:t>
            </a:r>
            <a:r>
              <a:rPr b="0" lang="en-US" sz="2400" spc="-1" strike="noStrike">
                <a:solidFill>
                  <a:srgbClr val="3e487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4"/>
          <p:cNvSpPr/>
          <p:nvPr/>
        </p:nvSpPr>
        <p:spPr>
          <a:xfrm>
            <a:off x="1333440" y="1295280"/>
            <a:ext cx="6477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cepts, Process, and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6019920" y="6437160"/>
            <a:ext cx="3047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2012 by Pearson Education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pearson_logo"/>
          <p:cNvPicPr/>
          <p:nvPr/>
        </p:nvPicPr>
        <p:blipFill>
          <a:blip r:embed="rId2"/>
          <a:stretch/>
        </p:blipFill>
        <p:spPr>
          <a:xfrm>
            <a:off x="76320" y="6477120"/>
            <a:ext cx="799920" cy="304560"/>
          </a:xfrm>
          <a:prstGeom prst="rect">
            <a:avLst/>
          </a:prstGeom>
          <a:ln w="0">
            <a:noFill/>
          </a:ln>
        </p:spPr>
      </p:pic>
      <p:sp>
        <p:nvSpPr>
          <p:cNvPr id="48" name="Line 53"/>
          <p:cNvSpPr/>
          <p:nvPr/>
        </p:nvSpPr>
        <p:spPr>
          <a:xfrm>
            <a:off x="3240" y="6400800"/>
            <a:ext cx="9140760" cy="0"/>
          </a:xfrm>
          <a:prstGeom prst="line">
            <a:avLst/>
          </a:prstGeom>
          <a:ln w="28440">
            <a:solidFill>
              <a:srgbClr val="3e48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7" descr="berman_cvr2b.jpg"/>
          <p:cNvPicPr/>
          <p:nvPr/>
        </p:nvPicPr>
        <p:blipFill>
          <a:blip r:embed="rId3"/>
          <a:stretch/>
        </p:blipFill>
        <p:spPr>
          <a:xfrm>
            <a:off x="609480" y="1828800"/>
            <a:ext cx="3353040" cy="43401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50" name="Text Box 47"/>
          <p:cNvSpPr/>
          <p:nvPr/>
        </p:nvSpPr>
        <p:spPr>
          <a:xfrm>
            <a:off x="851040" y="6437160"/>
            <a:ext cx="5397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Kozier &amp; Erb’s Fundamentals of Nursing: Concepts, Process, and Practice,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Ninth E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drey Berman • Shirlee Sny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3e48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3e48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3e48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3e48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3e48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3e48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3e48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3e48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228600" y="3886200"/>
            <a:ext cx="861048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e487d"/>
                </a:solidFill>
                <a:latin typeface="Arial"/>
              </a:rPr>
              <a:t>Critical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e487d"/>
                </a:solidFill>
                <a:latin typeface="Arial"/>
              </a:rPr>
              <a:t>and Nur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e487d"/>
                </a:solidFill>
                <a:latin typeface="Arial"/>
              </a:rPr>
              <a:t>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6"/>
          <p:cNvSpPr/>
          <p:nvPr/>
        </p:nvSpPr>
        <p:spPr>
          <a:xfrm>
            <a:off x="1523880" y="2468520"/>
            <a:ext cx="54104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e487d"/>
                </a:solidFill>
                <a:latin typeface="Arial"/>
              </a:rPr>
              <a:t>Chapter 1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487d"/>
                </a:solidFill>
                <a:latin typeface="Arial"/>
              </a:rPr>
              <a:t>Dr. Wajed Hatamle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chniques in Critical Think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itical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ctive and deductive reas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ing valid in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iating facts from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ng the credibility of information 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rifying 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gnizing assum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ttitudes that Foster Critical Think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en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r-minded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lectual cou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ttitudes that Foster Critical Thinking (cont'd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io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ritical Thinking and Nurs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itical thinking underlies each step of the nursing process, problem-solving process, and decision-making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Nursing Proc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atic, rational method of planning and providing individualized 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no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blem-Solving Proc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rify the nature of a problem and suggests possible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situation contributes to the nurse’s body of knowledge for problem solving in similar sit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ly used approa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al and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uition(is the understanding or learning of things without the conscious uses of reasoning (sixth sense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cision-Making Proc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sion mak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is the critical thinking process for choosing the best action to met the desired 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ing the best actions to meet a desired 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value decisions (keep client information confidenti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management decisions (take clean linens in at the same time as giving medica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cision-Making Process (cont'd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ing the best actions to meet a desired 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ing decisions (bathe clients before visiting hou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ority decisions (most urgent and ones that can be delegat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eps of Decision mak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prior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the criter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need to be achiev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need to be preserv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need to be avoid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 the criteria( set priorit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k alternativ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e altern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 (placed into ac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the out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880" y="-4680"/>
            <a:ext cx="9140760" cy="138096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2" descr=""/>
          <p:cNvPicPr/>
          <p:nvPr/>
        </p:nvPicPr>
        <p:blipFill>
          <a:blip r:embed="rId2"/>
          <a:stretch/>
        </p:blipFill>
        <p:spPr>
          <a:xfrm>
            <a:off x="1219320" y="1506600"/>
            <a:ext cx="6296040" cy="46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rning Outcom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3e48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the significance of developing critical-thinking abilities in order to practice safe, effective, and professional nursing c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3e48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ore ways of demonstrating critical thinking in clinical pract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3e48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the skills and attitudes of critical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veloping Critical Thinking Attitudes and Skil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f-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lerating dissonance and ambigu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environments that support critical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0-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Mind map for critical thinking in nursing.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 University of New Mexico College of Nursing. Retrieved from http://hsc.unm.edu/consg/critical/what_ct.s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0" name="AAGMLXE0.jpg" descr="AAGMLXE0"/>
          <p:cNvPicPr/>
          <p:nvPr/>
        </p:nvPicPr>
        <p:blipFill>
          <a:blip r:embed="rId1"/>
          <a:stretch/>
        </p:blipFill>
        <p:spPr>
          <a:xfrm>
            <a:off x="1773360" y="1066680"/>
            <a:ext cx="5599080" cy="50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6858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ox 10-5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ypes of Concept Map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2" name="box_10_05.jpg" descr="box_10_05"/>
          <p:cNvPicPr/>
          <p:nvPr/>
        </p:nvPicPr>
        <p:blipFill>
          <a:blip r:embed="rId1"/>
          <a:stretch/>
        </p:blipFill>
        <p:spPr>
          <a:xfrm>
            <a:off x="228600" y="609480"/>
            <a:ext cx="8686800" cy="520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0-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Types of concept maps: A, hierarchical; B, spider; C, flowchart; D, system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4" name="AAJMJIT0.jpg" descr="AAJMJIT0"/>
          <p:cNvPicPr/>
          <p:nvPr/>
        </p:nvPicPr>
        <p:blipFill>
          <a:blip r:embed="rId1"/>
          <a:stretch/>
        </p:blipFill>
        <p:spPr>
          <a:xfrm>
            <a:off x="460440" y="1917720"/>
            <a:ext cx="8226360" cy="33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rning Outcomes  (cont'd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3e487d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the relationships among critical thinking, the problem-solving process, and the decision-making proces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EGIN WITH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761760" y="2438280"/>
            <a:ext cx="792468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3e48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I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ally kno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bout this nursing care situ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3e48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I know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3e48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p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available to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ritical thinking: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intellectually disciplined process of actively and skillfully conceptualizing, Appling, analyzing, synthesizing and / or evaluation information gathering from or generated by, observation, experience, reflection, reasoning or communication as guide to belief and action”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ritical Think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ntentional higher level reasoning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sential component of professional accountability and quality nursing 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ed from a triad of professional, socioeconomic, and ethical/moral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2880" y="-4680"/>
            <a:ext cx="9140760" cy="138096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eativity is a major component in critical thinking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eativ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is the thinking that results in the development of new idea and products. And is the ability to develop and implement new and better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ritical Think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linical reasoning and clinical decision mak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practice safe and effective nursing ca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improve clinical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a1c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rease errors in clinical jud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solidFill>
            <a:srgbClr val="3e487d"/>
          </a:solidFill>
          <a:ln w="9360">
            <a:solidFill>
              <a:srgbClr val="3e48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ritical Thinking Skil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z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ying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rimin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 see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cal reas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ic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e487d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orming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2T16:20:23Z</dcterms:created>
  <dc:creator>James Ramsey</dc:creator>
  <dc:description/>
  <dc:language>en-US</dc:language>
  <cp:lastModifiedBy>Mutazz</cp:lastModifiedBy>
  <dcterms:modified xsi:type="dcterms:W3CDTF">2011-11-18T09:09:15Z</dcterms:modified>
  <cp:revision>9</cp:revision>
  <dc:subject/>
  <dc:title>PowerPoint Presentation</dc:title>
</cp:coreProperties>
</file>