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8CEAC-6A59-4477-A08E-2303EAAEF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284C8-268B-4806-8003-00EB7AC24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FB87B-3EF9-4056-B8C4-1F2E2865E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05005-8060-40BD-838A-4A21306B1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5EF86-C132-4354-918E-8E47EF95A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1B967-6673-47F9-8FA2-EB0C90B41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95A89-C6B4-4CE1-9243-17FDAD711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47F89-A9E8-430F-9EFD-7D9DBB53D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DAFD2-051B-4D37-BFF5-E7C766073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9CFAA-7AEB-4D87-A19A-C27E890E8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A26E1-5C63-4C2A-95F9-8C6AB7F54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0D1A1-7997-434E-9698-5E1C56E34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3E383-34E9-46AD-B485-27AA459E1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32A93-E612-4773-A06A-1DA360803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5DD4B-9159-48DF-A0F9-99F530F73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9155A-3576-4C77-B3C6-BD4D5BE52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70573-088D-41DF-A59C-B6E42D599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29F79-7A24-4C21-A3F2-6B1CA49D5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C9627-8149-4685-A64A-9574D8D57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35200-E3F5-4254-9F89-7380D3A2A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9F198-0695-45F6-845D-8A92FB5CF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55569-6929-4ABE-ABF7-9645D223A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99207-C69B-41EE-A2DB-D59DD1D8F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F0C4A-037D-47CF-93BB-71157D1A4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1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16854-E2C8-4E23-AE8E-7C1B456A45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10"/>
          <p:cNvGrpSpPr/>
          <p:nvPr/>
        </p:nvGrpSpPr>
        <p:grpSpPr>
          <a:xfrm>
            <a:off x="-1035000" y="1552680"/>
            <a:ext cx="10179000" cy="5305320"/>
            <a:chOff x="-1035000" y="1552680"/>
            <a:chExt cx="10179000" cy="5305320"/>
          </a:xfrm>
        </p:grpSpPr>
        <p:sp>
          <p:nvSpPr>
            <p:cNvPr id="45" name="Freeform 3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Arc 4"/>
            <p:cNvSpPr/>
            <p:nvPr/>
          </p:nvSpPr>
          <p:spPr>
            <a:xfrm>
              <a:off x="-1035000" y="1552680"/>
              <a:ext cx="6726240" cy="5305320"/>
            </a:xfrm>
            <a:custGeom>
              <a:avLst/>
              <a:gdLst/>
              <a:ahLst/>
              <a:rect l="l" t="t" r="r" b="b"/>
              <a:pathLst>
                <a:path fill="none" w="21600" h="21231">
                  <a:moveTo>
                    <a:pt x="3976" y="0"/>
                  </a:moveTo>
                  <a:cubicBezTo>
                    <a:pt x="14194" y="1914"/>
                    <a:pt x="21600" y="10835"/>
                    <a:pt x="21600" y="21231"/>
                  </a:cubicBezTo>
                </a:path>
                <a:path stroke="0" w="21600" h="21231">
                  <a:moveTo>
                    <a:pt x="3976" y="0"/>
                  </a:moveTo>
                  <a:cubicBezTo>
                    <a:pt x="14194" y="1914"/>
                    <a:pt x="21600" y="10835"/>
                    <a:pt x="21600" y="21231"/>
                  </a:cubicBezTo>
                  <a:lnTo>
                    <a:pt x="0" y="21231"/>
                  </a:lnTo>
                  <a:lnTo>
                    <a:pt x="3976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B07C0-D320-4B8D-B663-0853AB4910B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Warthin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’</a:t>
            </a: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 Tumor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Histopatholog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umor specimen from both the right and left parotid glands revealed a identical and classical, microscopic  picture of  warthin’s tumo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Warthin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’</a:t>
            </a: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 Tumor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SCU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Warthin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’</a:t>
            </a: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 Tumor -Featur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arthin’s tumor occurs almost exclusively in the vicinity of the paroti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ccurrence in the first three decades is unusua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Warthin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’</a:t>
            </a: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 Tumor- Featur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 has a characteristic lymphoid componen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 is located in the parotid and periparotid lymph nodes in 99% of cas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Male preponderance of 1.5: 1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Warthins Tumor - Featur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 algn="just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ilateral involvement that may or may not be simultaneous in 10% of cas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 algn="just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nilateral multi-focal involvemen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 algn="just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igher prevalence in whites than in other rac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Warthin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’</a:t>
            </a: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 Tumor - Featur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 is multifocal in 12% of cas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st common location is the inferior pole of the superficial lobe of the parotid, next to the angle of the mandibl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moking - a possible cause?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though the tumor is still common in men than in women, there is a dramatic decrease in male prevalence from a high of 8: 1 in the 1950’s to a low of 1.5: 1 in the 1980’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cause for this striking increase in women  is now suggested to be associated with the increased prevalence of smoking in wome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moking -  a possible cause?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re are suggestions that tobacco smoke, by irritating ductal epithelium, may initiate the development of this tumo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Aids in diagnosi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eoperative diagnosis  has been greatly aided by scanning of the parotid gland with technetium pertecnetat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umors that appear as hot spots are almost always warthin’s tumor or oncocytoma’s. Most other neoplasms show either normal uptake or appear as cold nodul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Recurrence after surger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though it is a completely benign tumor, recurrences have been explained by incomplete excision and multicentricity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Warthin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’</a:t>
            </a: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 Tumor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arthin’s tumor is second most common benign salivary gland tumor and is exceeded in number only by the pleomorphic adenom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s tumor is also commonly referred to as Adenolymphoma, or Papillary cystadenoma lymphomatosu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Is malignant transformation possible?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 few reports of malignant transformation of warthin’s tumor have been publishe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Treatmen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treatment of choice consists of surgical excision, obtaining adequate normal tissue at the margi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superficial parotidectomy is performed whenever the multicentric tumor is found in the superficial lobes of the parotid glan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Thank You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ase presenta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50 year old Saudi male patient came to our department with a bilateral swelling of his parotid glands of one year dur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 indicated that the swelling was  painless, slow growing, with no obvious precipitating event before it’s occurrenc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Relevant medical histor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 was a Type-II diabetic patient, who received regular oral hypoglycemic drug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 was a heavy Smoker, with H/O smoking for the past 30 year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nical examina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painless discrete, soft to firm swelling was found in the lower pole of the parotid gland next to the angle of the mandible  on both the  sid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welling on the right side measured about 3.5 x 3 cm, and the one on the left side was about 3cm x 2.5c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.T.Scan examina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.T. Scan  with contrast examination showed two well defined round hyperdense solid looking nodules in the superficial compartment of both the right and left  parotid gland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Nuclear medicine examina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tumor in relation to the right and left parotid glands scanned “hot” with technetium 99m pertechnetat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.N.A.C. examina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fine needle aspiration biopsy(F.N.A.C) of the tumor provided a diagnosis of Warthin’s tumo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urger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nder General anesthesia bilateral superficial parotidectomies was performe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umor was completely excised with no damage to the facial nerve on both sid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6T20:40:21Z</dcterms:created>
  <dc:creator>DR.Narayanan</dc:creator>
  <dc:description/>
  <dc:language>en-US</dc:language>
  <cp:lastModifiedBy>Hesham Almoallim</cp:lastModifiedBy>
  <dcterms:modified xsi:type="dcterms:W3CDTF">2015-10-02T14:07:29Z</dcterms:modified>
  <cp:revision>34</cp:revision>
  <dc:subject/>
  <dc:title>Warthin’s Tumor: Case Report</dc:title>
</cp:coreProperties>
</file>