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F70-044D-464B-B4B6-C7C6D9E8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11B-9374-4F3D-8EE1-596E23FA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D98-0279-4598-929B-CA8902E0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2FF-273B-4FE1-A267-3651A210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6D9F-0794-470B-8007-4038ABFF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2E56-3D15-4018-9C69-38679C96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9415-F76E-43FF-AD79-5DF872F2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AE6-0324-4CD1-9A96-3467D0D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2AE5-E387-4049-AB27-FB1A43E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CEF1-6DEB-4635-BCA3-256A7FB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C13-2B61-4820-8902-084A1A02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C6D-4929-44EE-9BD5-DA9CB6C6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A1E1-1136-415A-9BF1-A06046F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688-F698-4D59-BECD-689ECFDF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E0CD-C833-45D8-BA6B-FDC17A67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7FE5-7D33-435F-80DE-8DC967A4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2EA-EDC8-41EA-912B-C37430A5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FF3-F060-4DBF-9237-480E475A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1C0-A08F-406E-9785-CFE9074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01E-7235-4B01-A78E-AE0052D8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AA1-6515-4DA3-9ECF-14DA1AF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C62-A0DD-487C-A958-B6CB1A0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3B1-3A1A-4650-AAE2-D9FF3C3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5DE-BC0E-4701-9D55-F8ED605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79CD-A3B5-4A77-9A7F-10937EA7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6E44-1A44-45A1-AD8B-AB8D4D93C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path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mor specimen from both the right and left parotid glands revealed a identical and classical, microscopic  picture of  warthin’s tum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 -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thin’s tumor occurs almost exclusively in the vicinity of the parot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rence in the first three decades is unus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- 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a characteristic lymphoid compon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cated in the parotid and periparotid lymph nodes in 99% of c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le preponderance of 1.5: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s Tumor - 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ateral involvement that may or may not be simultaneous in 10% of c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multi-focal involv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prevalence in whites than in other r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 - 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multifocal in 12% of c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location is the inferior pole of the superficial lobe of the parotid, next to the angle of the mand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moking - a possible cau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the tumor is still common in men than in women, there is a dramatic decrease in male prevalence from a high of 8: 1 in the 1950’s to a low of 1.5: 1 in the 1980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use for this striking increase in women  is now suggested to be associated with the increased prevalence of smoking in wo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moking -  a possible cau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uggestions that tobacco smoke, by irritating ductal epithelium, may initiate the development of this tum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ids in dia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operative diagnosis  has been greatly aided by scanning of the parotid gland with technetium pertecnet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mors that appear as hot spots are almost always warthin’s tumor or oncocytoma’s. Most other neoplasms show either normal uptake or appear as cold nodu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urrence after surg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it is a completely benign tumor, recurrences have been explained by incomplete excision and multicentric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thin’s tumor is second most common benign salivary gland tumor and is exceeded in number only by the pleomorphic aden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umor is also commonly referred to as Adenolymphoma, or Papillary cystadenoma lymphomatos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 malignant transformation possi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 few reports of malignant transformation of warthin’s tumor have been publis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atment of choice consists of surgical excision, obtaining adequate normal tissue at the marg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perficial parotidectomy is performed whenever the multicentric tumor is found in the superficial lobes of the parotid g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se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50 year old Saudi male patient came to our department with a bilateral swelling of his parotid glands of one year du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indicated that the swelling was  painless, slow growing, with no obvious precipitating event before it’s occurr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levant medical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Type-II diabetic patient, who received regular oral hypoglycemic dru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heavy Smoker, with H/O smoking for the past 30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nical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inless discrete, soft to firm swelling was found in the lower pole of the parotid gland next to the angle of the mandible  on both the  si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 on the right side measured about 3.5 x 3 cm, and the one on the left side was about 3cm x 2.5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.T.Scan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T. Scan  with contrast examination showed two well defined round hyperdense solid looking nodules in the superficial compartment of both the right and left  parotid gla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uclear medicine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umor in relation to the right and left parotid glands scanned “hot” with technetium 99m pertechnet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.N.A.C.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ine needle aspiration biopsy(F.N.A.C) of the tumor provided a diagnosis of Warthin’s tum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rg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General anesthesia bilateral superficial parotidectomies was perfor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mor was completely excised with no damage to the facial nerve on both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20:40:21Z</dcterms:created>
  <dc:creator>DR.Narayanan</dc:creator>
  <dc:description/>
  <dc:language>en-US</dc:language>
  <cp:lastModifiedBy>Hesham Almoallim</cp:lastModifiedBy>
  <dcterms:modified xsi:type="dcterms:W3CDTF">2015-10-02T14:07:29Z</dcterms:modified>
  <cp:revision>34</cp:revision>
  <dc:subject/>
  <dc:title>Warthin’s Tumor: Case Report</dc:title>
</cp:coreProperties>
</file>