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32E9-E0BA-477F-A216-FAE9AB091D7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9421-6E37-44A3-BC67-58FBC406B7AE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1484-3794-480D-B1B1-77A9255FA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5EAA-25CB-4A79-858E-017923438A7E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57E7-489A-41E9-924D-5E85AAD21163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46CF-4B31-400A-A77C-4BF0DFD47DEF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6E3E-BD4D-40B3-9C79-393D47EDF467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8293-8444-43EA-87C6-93787B69D0F8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8578-7DB8-4D4F-A67C-33409E11E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C0E9-2B66-4073-B8CF-2BCF04B3C154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4AAC-BF7A-4050-8031-D72DAD69D2C5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D80C-703A-44AB-840A-935F5BDF2B28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29B3-1856-4690-95D9-349F57B12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1754-6313-4A14-AD5C-90EF44E77B4E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558F-FE29-4E04-8C13-F45E98B586EA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DCC4-C059-40BF-B593-34D7741D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BA3-5BAE-4153-9ED6-5741AF80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58C3-A180-4649-819B-5BCF455B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6917-1D04-4B24-9FB9-88C1B617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5D38-EC54-40EB-B9C9-55D7A4E3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E948-975F-47C2-98D1-AB30B4FE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B5A7-33A9-4166-B557-F02032D7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22DA-C12E-4904-95F2-E57610E4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F344-4EF0-4AA8-9C85-86D1A028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B08D-60B1-4C14-B10D-A575302E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ED34-B2BB-4CEC-9401-2AA5CB9D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9C4B-1055-4239-9A5A-FF8ED2A7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9976-72DD-443B-9EF1-CB10F98D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6E25-61E2-4EFC-B852-7431AA4B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816B-466F-4B30-84CE-E0327AEB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16D7-805C-4B4E-B032-0094126D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7A53-18C0-4962-85D6-327FFEC8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DE22-74F2-451B-A528-07090A3C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1731-CCCF-4B06-835A-F086DF65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A369-43BD-4D7F-8122-455061F3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0393-C592-4C17-B4A1-80A328A2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9EA-4B33-48DF-83DE-5998807F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C3A-0DBA-4186-BDDB-D6730FDF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A04-1D68-4ADF-A0A0-C096F7F2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6AC5-C905-43E8-AE52-21BCBC18A9A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F76C-F9D1-4F7E-833E-A103283B7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al 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 Microbiology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PN test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.col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E. coli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re found in intestine, their </a:t>
            </a: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bility to survive for brief periods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utside the body makes them an ideal indicator organism to test environmental samples for fecal contamination. Indicator organisms indicate that water received contamination of intestinal origi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E. coli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re Gram negative bacterium that is commonly found in the lower intestine of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warm-blooded animal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ile other coliforms(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Calibri"/>
              </a:rPr>
              <a:t>Enterobacter, Klebsiella)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n be found on plants and in soil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Multiple </a:t>
            </a:r>
            <a:br>
              <a:rPr sz="3600"/>
            </a:br>
            <a:r>
              <a:rPr b="0" lang="ar-SA" sz="3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Tube Fermentation Techniqu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to determine Most Probable number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55480" y="2308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s a specified number of test tubes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cally predict the number of organisms present (based on the expected population of organisms in the sampl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bes may also contain an inverted inner vial (Durham tube) for gas collec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209680" y="380880"/>
            <a:ext cx="58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2274840" y="3657600"/>
            <a:ext cx="648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ltiple Tube Fermentation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dilution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oculate multiple tubes (3 or 5) of media with water samp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ub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5 C 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4.5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 positive growth tub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Most-Probable-Number (MPN) table to estimate dens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ing for Tap Water S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Diagram 3" descr=""/>
          <p:cNvPicPr/>
          <p:nvPr/>
        </p:nvPicPr>
        <p:blipFill>
          <a:blip r:embed="rId1"/>
          <a:stretch/>
        </p:blipFill>
        <p:spPr>
          <a:xfrm>
            <a:off x="1590840" y="2236680"/>
            <a:ext cx="6138720" cy="41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Tube Fermentation Techniq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Content Placeholder 3" descr=""/>
          <p:cNvPicPr/>
          <p:nvPr/>
        </p:nvPicPr>
        <p:blipFill>
          <a:blip r:embed="rId1"/>
          <a:stretch/>
        </p:blipFill>
        <p:spPr>
          <a:xfrm>
            <a:off x="450720" y="1603440"/>
            <a:ext cx="8242560" cy="45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umptiv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Content Placeholder 3" descr=""/>
          <p:cNvPicPr/>
          <p:nvPr/>
        </p:nvPicPr>
        <p:blipFill>
          <a:blip r:embed="rId1"/>
          <a:stretch/>
        </p:blipFill>
        <p:spPr>
          <a:xfrm>
            <a:off x="444600" y="1573200"/>
            <a:ext cx="8321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umptiv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Content Placeholder 3" descr="Presumptive.jpg"/>
          <p:cNvPicPr/>
          <p:nvPr/>
        </p:nvPicPr>
        <p:blipFill>
          <a:blip r:embed="rId1"/>
          <a:stretch/>
        </p:blipFill>
        <p:spPr>
          <a:xfrm>
            <a:off x="0" y="1500120"/>
            <a:ext cx="5699160" cy="4740480"/>
          </a:xfrm>
          <a:prstGeom prst="rect">
            <a:avLst/>
          </a:prstGeom>
          <a:ln w="0">
            <a:noFill/>
          </a:ln>
        </p:spPr>
      </p:pic>
      <p:pic>
        <p:nvPicPr>
          <p:cNvPr id="127" name="Content Placeholder 4" descr="103_0507.JPG"/>
          <p:cNvPicPr/>
          <p:nvPr/>
        </p:nvPicPr>
        <p:blipFill>
          <a:blip r:embed="rId2"/>
          <a:stretch/>
        </p:blipFill>
        <p:spPr>
          <a:xfrm>
            <a:off x="5786280" y="2071800"/>
            <a:ext cx="307188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firmatory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Content Placeholder 3" descr=""/>
          <p:cNvPicPr/>
          <p:nvPr/>
        </p:nvPicPr>
        <p:blipFill>
          <a:blip r:embed="rId1"/>
          <a:stretch/>
        </p:blipFill>
        <p:spPr>
          <a:xfrm>
            <a:off x="487440" y="1274760"/>
            <a:ext cx="8242200" cy="508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Calibri"/>
              </a:rPr>
              <a:t>BG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PH" sz="4400" spc="-1" strike="noStrike">
                <a:solidFill>
                  <a:srgbClr val="000000"/>
                </a:solidFill>
                <a:latin typeface="Calibri"/>
              </a:rPr>
              <a:t> med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ontent Placeholder 4" descr="confirmatory test.jpg"/>
          <p:cNvPicPr/>
          <p:nvPr/>
        </p:nvPicPr>
        <p:blipFill>
          <a:blip r:embed="rId1"/>
          <a:stretch/>
        </p:blipFill>
        <p:spPr>
          <a:xfrm>
            <a:off x="428760" y="3786120"/>
            <a:ext cx="8229600" cy="2527200"/>
          </a:xfrm>
          <a:prstGeom prst="rect">
            <a:avLst/>
          </a:prstGeom>
          <a:ln w="0">
            <a:noFill/>
          </a:ln>
        </p:spPr>
      </p:pic>
      <p:sp>
        <p:nvSpPr>
          <p:cNvPr id="13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D288-0EB7-4704-A4BE-3AFA1FCA670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71680" y="15001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ptone: a source of nitrogen, vitamins and minera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tose: fermentable carbon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 gall (bile) and brilliant green: inhibitor of gram-positive bacteria and most gram-negative bacteria except coli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fuchsin and erioglaucine: pH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opotassium phosphate: buffering 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firmatory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38120" y="1981080"/>
            <a:ext cx="4210200" cy="31575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3344760" y="571500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coli vs E. aerog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4648320" y="1969920"/>
            <a:ext cx="36576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Very essential factor needed by man (us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cooking, drinking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Open and widely accessible, making i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ceptible to contamination by chemical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bacterial path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Once contaminated, it would be harmful f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 consump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MViC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5867280" y="2362320"/>
            <a:ext cx="2062440" cy="2638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3429000" y="2438280"/>
            <a:ext cx="1994040" cy="2590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3"/>
          <a:stretch/>
        </p:blipFill>
        <p:spPr>
          <a:xfrm>
            <a:off x="1176480" y="2133720"/>
            <a:ext cx="1884240" cy="28954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1295280" y="5257800"/>
            <a:ext cx="731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dole +     VP-    MR+      Citrat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eted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Content Placeholder 3" descr=""/>
          <p:cNvPicPr/>
          <p:nvPr/>
        </p:nvPicPr>
        <p:blipFill>
          <a:blip r:embed="rId1"/>
          <a:stretch/>
        </p:blipFill>
        <p:spPr>
          <a:xfrm>
            <a:off x="444600" y="1590840"/>
            <a:ext cx="8254800" cy="45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ding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umptive tes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+ ve tube is given a value of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–ve tube is given a value of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 result of 3 tubes of 10ml Ds Mac broth ,then 3 tubes of 1ml Ss Mac broth, then 3 tubes of 0.1 ml Ss Mac bro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value of 3 Numbers e.g. 1 0 3   look it in MPN table ,the index is 8 coliforms /100ml of wa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confirmed ,then it should be repor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PN 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22FC-B9E8-40E4-9924-E7162DAD799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811E-D7AA-40C5-8870-78C7F071D039}" type="slidenum">
              <a:rPr b="0" lang="fr-C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57120" y="768240"/>
          <a:ext cx="8358120" cy="6126120"/>
        </p:xfrm>
        <a:graphic>
          <a:graphicData uri="http://schemas.openxmlformats.org/drawingml/2006/table">
            <a:tbl>
              <a:tblPr/>
              <a:tblGrid>
                <a:gridCol w="2089080"/>
                <a:gridCol w="2089440"/>
                <a:gridCol w="2090520"/>
                <a:gridCol w="20890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mL tubes 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-mL  tubes 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1 mL tubes pos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PN/100 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808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808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rections for 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tle is pre-steriliz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not rinse bottle .It contains sodium thiosulfate to neutralize the bactericidal effect of chlor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collecting tap water allow water to run or pumped out for several minutes to provide a representative sample from sour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ke , river select a good place to obtain sample , and extend bottle away from bo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st volume is 100ml , 50 ml is O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ample should be tested as soon as possible .If not possible it should be refrigerated until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Water Quality Stand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inking and swimming pool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coliforms contamination acceptabl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less than 3 coliforms /100ml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reational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100- 20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al coliforms /100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h and wildlife habit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500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al coliforms/100 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al 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 Microbiology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  <a:ea typeface="Times New Roman"/>
              </a:rPr>
              <a:t>Membrane filtration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mbrane Filter Method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ter water through a 0.45 or 0.47 μm membrane filter(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acterial cells can not pa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roug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ce membrane on selective media(EM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ub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5 C total Coli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4.5 C fecal Coli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 colon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572000" y="4214880"/>
            <a:ext cx="30067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F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membrane filtration"/>
          <p:cNvPicPr/>
          <p:nvPr/>
        </p:nvPicPr>
        <p:blipFill>
          <a:blip r:embed="rId1"/>
          <a:stretch/>
        </p:blipFill>
        <p:spPr>
          <a:xfrm>
            <a:off x="506520" y="1214280"/>
            <a:ext cx="81309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F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9" descr="MF1"/>
          <p:cNvPicPr/>
          <p:nvPr/>
        </p:nvPicPr>
        <p:blipFill>
          <a:blip r:embed="rId1"/>
          <a:stretch/>
        </p:blipFill>
        <p:spPr>
          <a:xfrm>
            <a:off x="324000" y="3573360"/>
            <a:ext cx="2011320" cy="2822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MF2"/>
          <p:cNvPicPr/>
          <p:nvPr/>
        </p:nvPicPr>
        <p:blipFill>
          <a:blip r:embed="rId2"/>
          <a:stretch/>
        </p:blipFill>
        <p:spPr>
          <a:xfrm>
            <a:off x="2643120" y="3643200"/>
            <a:ext cx="1785960" cy="282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MF3"/>
          <p:cNvPicPr/>
          <p:nvPr/>
        </p:nvPicPr>
        <p:blipFill>
          <a:blip r:embed="rId3"/>
          <a:stretch/>
        </p:blipFill>
        <p:spPr>
          <a:xfrm>
            <a:off x="4572000" y="3573360"/>
            <a:ext cx="1994040" cy="2822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MF4"/>
          <p:cNvPicPr/>
          <p:nvPr/>
        </p:nvPicPr>
        <p:blipFill>
          <a:blip r:embed="rId4"/>
          <a:stretch/>
        </p:blipFill>
        <p:spPr>
          <a:xfrm>
            <a:off x="6804000" y="3573360"/>
            <a:ext cx="1987560" cy="28227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500040" y="1571760"/>
            <a:ext cx="728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 water through a 0.45 μm membrane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membrane on selective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u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 C total Coli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.5 C fecal Coli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 colo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1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 Borne Dise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any illness caused by drinking water contaminated by human or animal faeces, which contain pathogenic microorg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vale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eveloping countries, 4/5 of all the illnesses are caused by these, with diarrhea being the leading cause of childhood dea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Arial Black"/>
              </a:rPr>
              <a:t>Membrane filtration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762120" y="2133720"/>
            <a:ext cx="7543440" cy="2514600"/>
            <a:chOff x="762120" y="2133720"/>
            <a:chExt cx="7543440" cy="2514600"/>
          </a:xfrm>
        </p:grpSpPr>
        <p:pic>
          <p:nvPicPr>
            <p:cNvPr id="171" name="Picture 5" descr="D:\Clinical diagnostic Micro-302\Detection of MO in  food and water\coliform tests_files\coliform-3.jpeg"/>
            <p:cNvPicPr/>
            <p:nvPr/>
          </p:nvPicPr>
          <p:blipFill>
            <a:blip r:embed="rId1"/>
            <a:stretch/>
          </p:blipFill>
          <p:spPr>
            <a:xfrm>
              <a:off x="762120" y="2133720"/>
              <a:ext cx="3435480" cy="25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6" descr="D:\Clinical diagnostic Micro-302\Detection of MO in  food and water\coliform tests_files\coliform-5.jpeg"/>
            <p:cNvPicPr/>
            <p:nvPr/>
          </p:nvPicPr>
          <p:blipFill>
            <a:blip r:embed="rId2"/>
            <a:stretch/>
          </p:blipFill>
          <p:spPr>
            <a:xfrm>
              <a:off x="4869720" y="2133720"/>
              <a:ext cx="343584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Rectangle 7"/>
          <p:cNvSpPr/>
          <p:nvPr/>
        </p:nvSpPr>
        <p:spPr>
          <a:xfrm>
            <a:off x="609480" y="160020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0504d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liform bacteria produce colonies with a characteris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1f3e00"/>
                </a:solidFill>
                <a:latin typeface="Tahoma"/>
              </a:rPr>
              <a:t>" green metallic sheen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uality lim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ess than 1 Coliform /100ml of water , the water is po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tion lim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4 coliforms/100ml of water, it means that the water company must take immediate action to remedy the problems that are responsible for the presence of coliforms in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mbrane filtration method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ordia New"/>
              </a:rPr>
              <a:t>Advantag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More than 100ml samples can be te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Effective and acceptable technique</a:t>
            </a:r>
            <a:r>
              <a:rPr b="0" lang="th-TH" sz="2800" spc="-1" strike="noStrike">
                <a:solidFill>
                  <a:srgbClr val="000000"/>
                </a:solidFill>
                <a:latin typeface="Calibri"/>
                <a:ea typeface="Cordia New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Used to monitor drinking water in government laboratories</a:t>
            </a:r>
            <a:r>
              <a:rPr b="0" lang="th-TH" sz="2800" spc="-1" strike="noStrike">
                <a:solidFill>
                  <a:srgbClr val="000000"/>
                </a:solidFill>
                <a:latin typeface="Calibri"/>
                <a:ea typeface="Cordia New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Rap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er chance of conta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accu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PN </a:t>
            </a:r>
            <a:r>
              <a:rPr b="0" lang="en-US" sz="4400" spc="-1" strike="noStrike">
                <a:solidFill>
                  <a:srgbClr val="c00000"/>
                </a:solidFill>
                <a:latin typeface="Calibri"/>
                <a:ea typeface="Cordia New"/>
              </a:rPr>
              <a:t>Advantag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It is relatively simple and chea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It is the method of choice for determining fecal coliform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ordia New"/>
              </a:rPr>
              <a:t>densiti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and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ordia New"/>
              </a:rPr>
              <a:t>tim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 of conta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PN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bor intensive -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Large amount of glasswar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Its lack of precision, large err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ill requires survival and culture of organisms in la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 F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t suitable for turbid or waste  wa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acc6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perform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ost Probable Numb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PN) technique for testing the potability of different water samp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nterpret results of water analyses using the MPN 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e familiar with common water-borne diseases and their causative ag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ter Borne Dise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0000"/>
                </a:solidFill>
                <a:uFillTx/>
                <a:latin typeface="Calibri"/>
              </a:rPr>
              <a:t>Bacterial infec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-  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Botulis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-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-  Campylobacteriosi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-  Cholera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-  Chronic granulomatous diseas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-  Diarrheal disease due to 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E. coli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-  Dysenter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y 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igella/Salmon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-  Legionellosi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-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-  Leptospirosi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-  Otitis externa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Swimmer's Ear"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-  Typhoid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lmonella typhi bacter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2920" y="1499760"/>
            <a:ext cx="403884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Viral infection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patitis A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flammation and necrosis of li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rwalk-type viru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cute gastroenter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otaviru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cute gastroenteritis, especially in child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teroviruses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any types affect intestines and upper respiratory 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oviru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infects intestines and upper respiratory 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s when testing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erous water borne path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 pathogen numbers may be too low to be detected in a reasonable sized water 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olation and detection of some pathogens can take several days, weeks, or mon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ence of one particular pathogen does not rule out the presence of ano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cator Organism Con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28840"/>
            <a:ext cx="77724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dely used in determination and estimation of water contamination correlated to the presence of pathogens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y us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ulation large enough to isolate in small water samples (100 m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fe, not culturing  pathog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terial-Indicator Organis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071720"/>
            <a:ext cx="4329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alibri"/>
                <a:ea typeface="Times New Roman"/>
              </a:rPr>
              <a:t>Characteristics of a Useful Indic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ful for all water ty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ways present when pathogens are pre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present in the absence of the patho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related with degree of pol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easily detectable than a patho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rvive longer than the patho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dangerous to work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000400" y="1143000"/>
            <a:ext cx="41432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Calibri"/>
                <a:ea typeface="Times New Roman"/>
              </a:rPr>
              <a:t>Common Grou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liform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 recent fecal contamin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lifo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cal colifo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scherichia c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reptococ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ecal streptococ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nterococ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ore Form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 indication of old fecal contamin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lostridium perfring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iform Group (Total Colifor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500120"/>
            <a:ext cx="4572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nterobacteriace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ultative anaero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m neg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spore for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 sha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rment gluc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 gas and acid within 48 h at 35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rment lact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29080" y="1499760"/>
            <a:ext cx="4029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oliforms gen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teroba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lebsiel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itroba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scherich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 commonly found contaminants in wa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share similar morphological , biochemical characteristic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8:28:29Z</dcterms:created>
  <dc:creator>ksu</dc:creator>
  <dc:description/>
  <dc:language>en-US</dc:language>
  <cp:lastModifiedBy>Welcome</cp:lastModifiedBy>
  <dcterms:modified xsi:type="dcterms:W3CDTF">2016-09-01T23:37:04Z</dcterms:modified>
  <cp:revision>75</cp:revision>
  <dc:subject/>
  <dc:title>Slide 1</dc:title>
</cp:coreProperties>
</file>