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B45E-F2B8-46C4-80F3-EAD5BC702A3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C981-8774-4719-9EE6-93CBA0C5CDA1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E644-3906-42B0-B838-2AA180E07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DC22-F6A6-4745-9A3A-1BA8BEC01517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4101-0798-423D-A3CE-D7EA9E5353B2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C4AE-7D65-48A7-A4C5-305C3C5908D1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7DEC-6FF2-461B-BCAE-F24A79456FCD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45F2-82B5-4B94-A972-6F6737CBF628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B9D8-CFEF-4E6A-9C6C-B0AD8515A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D4B2-C027-4BF1-9D69-AC62D1791CEB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70CE-33EC-4C52-BF50-CF307B3F6FE0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9714-ABF3-4877-A679-23826F8F950A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7296-ED06-41E3-B196-6F8612103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6875-CBCE-464C-B9FB-4C036264693C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F3B3-16F2-4CEF-BA65-1DA3ECB184F4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D84-E3EE-4258-8556-760A3962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BE4-AD7A-4D41-A6B6-09621135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4BD-D693-45D5-A265-E3EDF839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A26B-3972-4170-A959-7A6210E7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847D-CFC0-4FC5-AD03-592E001D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E37B-9FC6-4F55-96C2-DA8D8C41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B247-EAFA-41E2-91E1-E3AEBB2A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3581-F2A4-41BB-8B30-65BA55B5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78C7-507F-40FF-BE8A-6ACC01D7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38DE-AA30-4C0F-A367-62A97A47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1E7D-D8A4-4E7C-A687-9739827A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47F-D039-440F-84D5-94151B0E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AE12-166C-453A-BBCC-3775675F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0A7E-221B-41B9-BC2C-092948BE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1B8A-D076-46BA-8006-95EA43CD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546A-BF49-4316-8F1B-879277C2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F75A-CD4B-4A95-BF30-BE695149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559E-87A5-4B0F-B4F9-859F716C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7096-B329-4F5C-9E6C-7A349AC5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F8BD-68C5-4903-8270-EA0AF233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6325-9A18-415F-9855-48CCE8A5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8C40-6668-49D3-9E67-C0B39C9A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47B-E16B-4F88-AB81-AE97C599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D4CD-2205-49EB-AB8E-AC0FC87F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62DD-1F03-456B-ADA0-A514D543673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FF6F-E80E-4BFC-B7A7-76D275D87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al 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 Microbiology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PN test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.col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E. coli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re found in intestine, their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bility to survive for brief periods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utside the body makes them an ideal indicator organism to test environmental samples for fecal contamination. Indicator organisms indicate that water received contamination of intestinal origi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E. coli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re Gram negative bacterium that is commonly found in the lower intestine of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warm-blooded animal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ile other coliforms(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Enterobacter, Klebsiella)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n be found on plants and in soil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Multiple </a:t>
            </a:r>
            <a:br>
              <a:rPr sz="3600"/>
            </a:br>
            <a:r>
              <a:rPr b="0" lang="ar-SA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Tube Fermentation Techniqu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to determine Most Probable number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55480" y="2308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s a specified number of test tubes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cally predict the number of organisms present (based on the expected population of organisms in the sampl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bes may also contain an inverted inner vial (Durham tube) for gas collec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209680" y="380880"/>
            <a:ext cx="58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2274840" y="3657600"/>
            <a:ext cx="648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ple Tube Fermentation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dilution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oculate multiple tubes (3 or 5) of media with water samp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ub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5 C 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4.5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 positive growth tub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Most-Probable-Number (MPN) table to estimate dens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ing for Tap Water S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Diagram 3" descr=""/>
          <p:cNvPicPr/>
          <p:nvPr/>
        </p:nvPicPr>
        <p:blipFill>
          <a:blip r:embed="rId1"/>
          <a:stretch/>
        </p:blipFill>
        <p:spPr>
          <a:xfrm>
            <a:off x="1590840" y="2236680"/>
            <a:ext cx="6138720" cy="41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Tube Fermentation Techniq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Content Placeholder 3" descr=""/>
          <p:cNvPicPr/>
          <p:nvPr/>
        </p:nvPicPr>
        <p:blipFill>
          <a:blip r:embed="rId1"/>
          <a:stretch/>
        </p:blipFill>
        <p:spPr>
          <a:xfrm>
            <a:off x="450720" y="1603440"/>
            <a:ext cx="8242560" cy="45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umptiv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Content Placeholder 3" descr=""/>
          <p:cNvPicPr/>
          <p:nvPr/>
        </p:nvPicPr>
        <p:blipFill>
          <a:blip r:embed="rId1"/>
          <a:stretch/>
        </p:blipFill>
        <p:spPr>
          <a:xfrm>
            <a:off x="444600" y="1573200"/>
            <a:ext cx="8321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umptiv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Content Placeholder 3" descr="Presumptive.jpg"/>
          <p:cNvPicPr/>
          <p:nvPr/>
        </p:nvPicPr>
        <p:blipFill>
          <a:blip r:embed="rId1"/>
          <a:stretch/>
        </p:blipFill>
        <p:spPr>
          <a:xfrm>
            <a:off x="0" y="1500120"/>
            <a:ext cx="5699160" cy="4740480"/>
          </a:xfrm>
          <a:prstGeom prst="rect">
            <a:avLst/>
          </a:prstGeom>
          <a:ln w="0">
            <a:noFill/>
          </a:ln>
        </p:spPr>
      </p:pic>
      <p:pic>
        <p:nvPicPr>
          <p:cNvPr id="127" name="Content Placeholder 4" descr="103_0507.JPG"/>
          <p:cNvPicPr/>
          <p:nvPr/>
        </p:nvPicPr>
        <p:blipFill>
          <a:blip r:embed="rId2"/>
          <a:stretch/>
        </p:blipFill>
        <p:spPr>
          <a:xfrm>
            <a:off x="5786280" y="2071800"/>
            <a:ext cx="307188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firmatory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Content Placeholder 3" descr=""/>
          <p:cNvPicPr/>
          <p:nvPr/>
        </p:nvPicPr>
        <p:blipFill>
          <a:blip r:embed="rId1"/>
          <a:stretch/>
        </p:blipFill>
        <p:spPr>
          <a:xfrm>
            <a:off x="487440" y="1274760"/>
            <a:ext cx="8242200" cy="50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Calibri"/>
              </a:rPr>
              <a:t>BG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PH" sz="4400" spc="-1" strike="noStrike">
                <a:solidFill>
                  <a:srgbClr val="000000"/>
                </a:solidFill>
                <a:latin typeface="Calibri"/>
              </a:rPr>
              <a:t> med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ontent Placeholder 4" descr="confirmatory test.jpg"/>
          <p:cNvPicPr/>
          <p:nvPr/>
        </p:nvPicPr>
        <p:blipFill>
          <a:blip r:embed="rId1"/>
          <a:stretch/>
        </p:blipFill>
        <p:spPr>
          <a:xfrm>
            <a:off x="428760" y="3786120"/>
            <a:ext cx="8229600" cy="2527200"/>
          </a:xfrm>
          <a:prstGeom prst="rect">
            <a:avLst/>
          </a:prstGeom>
          <a:ln w="0">
            <a:noFill/>
          </a:ln>
        </p:spPr>
      </p:pic>
      <p:sp>
        <p:nvSpPr>
          <p:cNvPr id="13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9C90-9F3E-4302-B32B-B6AA53B7451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71680" y="1500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ptone: a source of nitrogen, vitamins and minera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tose: fermentable carbon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 gall (bile) and brilliant green: inhibitor of gram-positive bacteria and most gram-negative bacteria except coli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fuchsin and erioglaucine: pH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opotassium phosphate: buffering 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firmatory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38120" y="1981080"/>
            <a:ext cx="4210200" cy="31575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3344760" y="571500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coli vs E. aerog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4648320" y="1969920"/>
            <a:ext cx="36576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Very essential factor needed by man (us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cooking, drinking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Open and widely accessible, making i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ceptible to contamination by chemical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bacterial path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Once contaminated, it would be harmful f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 consump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MViC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5867280" y="2362320"/>
            <a:ext cx="2062440" cy="2638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3429000" y="2438280"/>
            <a:ext cx="1994040" cy="2590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3"/>
          <a:stretch/>
        </p:blipFill>
        <p:spPr>
          <a:xfrm>
            <a:off x="1176480" y="2133720"/>
            <a:ext cx="1884240" cy="28954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1295280" y="5257800"/>
            <a:ext cx="731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dole +     VP-    MR+      Citrat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ted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Content Placeholder 3" descr=""/>
          <p:cNvPicPr/>
          <p:nvPr/>
        </p:nvPicPr>
        <p:blipFill>
          <a:blip r:embed="rId1"/>
          <a:stretch/>
        </p:blipFill>
        <p:spPr>
          <a:xfrm>
            <a:off x="444600" y="1590840"/>
            <a:ext cx="8254800" cy="45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ding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umptive tes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+ ve tube is given a value of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–ve tube is given a value of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result of 3 tubes of 10ml Ds Mac broth ,then 3 tubes of 1ml Ss Mac broth, then 3 tubes of 0.1 ml Ss Mac bro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value of 3 Numbers e.g. 1 0 3   look it in MPN table ,the index is 8 coliforms /100ml of wa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confirmed ,then it should be repor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PN 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A23C-FCE0-406E-9976-531F05137F5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7CEE-2E5C-4E86-A3FC-5336483D493A}" type="slidenum">
              <a:rPr b="0" lang="fr-C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57120" y="768240"/>
          <a:ext cx="8358120" cy="6126120"/>
        </p:xfrm>
        <a:graphic>
          <a:graphicData uri="http://schemas.openxmlformats.org/drawingml/2006/table">
            <a:tbl>
              <a:tblPr/>
              <a:tblGrid>
                <a:gridCol w="2089080"/>
                <a:gridCol w="2089440"/>
                <a:gridCol w="2090520"/>
                <a:gridCol w="20890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mL tubes 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-mL  tubes 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1 mL tubes 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PN/100 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808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rections for 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tle is pre-steriliz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t rinse bottle .It contains sodium thiosulfate to neutralize the bactericidal effect of chlor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collecting tap water allow water to run or pumped out for several minutes to provide a representative sample from sour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ke , river select a good place to obtain sample , and extend bottle away from bo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st volume is 100ml , 50 ml is O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ample should be tested as soon as possible .If not possible it should be refrigerated until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Water Quality Stand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inking and swimming pool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coliforms contamination acceptabl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less than 3 coliforms /100ml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reational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100- 20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al coliforms /100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h and wildlife habit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500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al coliforms/100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al 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 Microbiology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  <a:ea typeface="Times New Roman"/>
              </a:rPr>
              <a:t>Membrane filtration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mbrane Filter Method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ter water through a 0.45 or 0.47 μm membrane filter(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acterial cells can not pa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roug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ce membrane on selective media(EM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ub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5 C total Coli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4.5 C fecal Coli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 colon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572000" y="4214880"/>
            <a:ext cx="30067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F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membrane filtration"/>
          <p:cNvPicPr/>
          <p:nvPr/>
        </p:nvPicPr>
        <p:blipFill>
          <a:blip r:embed="rId1"/>
          <a:stretch/>
        </p:blipFill>
        <p:spPr>
          <a:xfrm>
            <a:off x="506520" y="1214280"/>
            <a:ext cx="81309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F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9" descr="MF1"/>
          <p:cNvPicPr/>
          <p:nvPr/>
        </p:nvPicPr>
        <p:blipFill>
          <a:blip r:embed="rId1"/>
          <a:stretch/>
        </p:blipFill>
        <p:spPr>
          <a:xfrm>
            <a:off x="324000" y="3573360"/>
            <a:ext cx="2011320" cy="2822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MF2"/>
          <p:cNvPicPr/>
          <p:nvPr/>
        </p:nvPicPr>
        <p:blipFill>
          <a:blip r:embed="rId2"/>
          <a:stretch/>
        </p:blipFill>
        <p:spPr>
          <a:xfrm>
            <a:off x="2643120" y="3643200"/>
            <a:ext cx="1785960" cy="282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MF3"/>
          <p:cNvPicPr/>
          <p:nvPr/>
        </p:nvPicPr>
        <p:blipFill>
          <a:blip r:embed="rId3"/>
          <a:stretch/>
        </p:blipFill>
        <p:spPr>
          <a:xfrm>
            <a:off x="4572000" y="3573360"/>
            <a:ext cx="1994040" cy="2822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MF4"/>
          <p:cNvPicPr/>
          <p:nvPr/>
        </p:nvPicPr>
        <p:blipFill>
          <a:blip r:embed="rId4"/>
          <a:stretch/>
        </p:blipFill>
        <p:spPr>
          <a:xfrm>
            <a:off x="6804000" y="3573360"/>
            <a:ext cx="1987560" cy="28227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500040" y="1571760"/>
            <a:ext cx="728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 water through a 0.45 μm membrane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membrane on selective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u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C total Coli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.5 C fecal Coli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colo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1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 Borne Dise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any illness caused by drinking water contaminated by human or animal faeces, which contain pathogenic microorg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val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eveloping countries, 4/5 of all the illnesses are caused by these, with diarrhea being the leading cause of childhood dea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Arial Black"/>
              </a:rPr>
              <a:t>Membrane filtration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762120" y="2133720"/>
            <a:ext cx="7543440" cy="2514600"/>
            <a:chOff x="762120" y="2133720"/>
            <a:chExt cx="7543440" cy="2514600"/>
          </a:xfrm>
        </p:grpSpPr>
        <p:pic>
          <p:nvPicPr>
            <p:cNvPr id="171" name="Picture 5" descr="D:\Clinical diagnostic Micro-302\Detection of MO in  food and water\coliform tests_files\coliform-3.jpeg"/>
            <p:cNvPicPr/>
            <p:nvPr/>
          </p:nvPicPr>
          <p:blipFill>
            <a:blip r:embed="rId1"/>
            <a:stretch/>
          </p:blipFill>
          <p:spPr>
            <a:xfrm>
              <a:off x="762120" y="2133720"/>
              <a:ext cx="3435480" cy="25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6" descr="D:\Clinical diagnostic Micro-302\Detection of MO in  food and water\coliform tests_files\coliform-5.jpeg"/>
            <p:cNvPicPr/>
            <p:nvPr/>
          </p:nvPicPr>
          <p:blipFill>
            <a:blip r:embed="rId2"/>
            <a:stretch/>
          </p:blipFill>
          <p:spPr>
            <a:xfrm>
              <a:off x="4869720" y="2133720"/>
              <a:ext cx="343584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Rectangle 7"/>
          <p:cNvSpPr/>
          <p:nvPr/>
        </p:nvSpPr>
        <p:spPr>
          <a:xfrm>
            <a:off x="609480" y="160020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liform bacteria produce colonies with a characteris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1f3e00"/>
                </a:solidFill>
                <a:latin typeface="Tahoma"/>
              </a:rPr>
              <a:t>" green metallic sheen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uality lim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ess than 1 Coliform /100ml of water , the water is po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tion lim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4 coliforms/100ml of water, it means that the water company must take immediate action to remedy the problems that are responsible for the presence of coliforms in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mbrane filtration method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ordia New"/>
              </a:rPr>
              <a:t>Advantag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More than 100ml samples can be te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Effective and acceptable technique</a:t>
            </a:r>
            <a:r>
              <a:rPr b="0" lang="th-TH" sz="2800" spc="-1" strike="noStrike">
                <a:solidFill>
                  <a:srgbClr val="000000"/>
                </a:solidFill>
                <a:latin typeface="Calibri"/>
                <a:ea typeface="Cordia New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Used to monitor drinking water in government laboratories</a:t>
            </a:r>
            <a:r>
              <a:rPr b="0" lang="th-TH" sz="2800" spc="-1" strike="noStrike">
                <a:solidFill>
                  <a:srgbClr val="000000"/>
                </a:solidFill>
                <a:latin typeface="Calibri"/>
                <a:ea typeface="Cordia New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Rap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er chance of conta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accu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PN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Cordia New"/>
              </a:rPr>
              <a:t>Advantag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It is relatively simple and chea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It is the method of choice for determining fecal coliform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ordia New"/>
              </a:rPr>
              <a:t>densiti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a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ordia New"/>
              </a:rPr>
              <a:t>tim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 of conta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PN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bor intensive -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Large amount of glasswar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Its lack of precision, large err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ill requires survival and culture of organisms in la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 F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t suitable for turbid or waste  wa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acc6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perform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ost Probable Numb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PN) technique for testing the potability of different water samp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nterpret results of water analyses using the MPN 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e familiar with common water-borne diseases and their causative ag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 Borne Dise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0000"/>
                </a:solidFill>
                <a:uFillTx/>
                <a:latin typeface="Calibri"/>
              </a:rPr>
              <a:t>Bacterial infec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-  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Botulis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-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-  Campylobacteriosi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-  Cholera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-  Chronic granulomatous diseas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-  Diarrheal disease due to 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E. coli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-  Dysenter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y 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igella/Salmon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-  Legionellosi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-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-  Leptospirosi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-  Otitis externa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Swimmer's Ear"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-  Typhoid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lmonella typhi bacter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2920" y="1499760"/>
            <a:ext cx="403884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Viral infection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patitis A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flammation and necrosis of li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rwalk-type viru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cute gastroenter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otaviru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cute gastroenteritis, especially in child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teroviruses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any types affect intestines and upper respiratory 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oviru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infects intestines and upper respiratory 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s when testing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erous water borne path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 pathogen numbers may be too low to be detected in a reasonable sized water 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olation and detection of some pathogens can take several days, weeks, or mon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ence of one particular pathogen does not rule out the presence of ano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cator Organism Con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77724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dely used in determination and estimation of water contamination correlated to the presence of pathogens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y us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ulation large enough to isolate in small water samples (100 m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fe, not culturing  pathog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terial-Indicator Org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071720"/>
            <a:ext cx="4329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alibri"/>
                <a:ea typeface="Times New Roman"/>
              </a:rPr>
              <a:t>Characteristics of a Useful Indic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ful for all water ty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ways present when pathogens are pre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present in the absence of the patho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related with degree of pol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easily detectable than a patho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rvive longer than the patho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dangerous to work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000400" y="1143000"/>
            <a:ext cx="41432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alibri"/>
                <a:ea typeface="Times New Roman"/>
              </a:rPr>
              <a:t>Common Grou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liform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 recent fecal contamin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lifo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cal colifo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scherichia c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reptococ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ecal streptococ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nterococ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ore Form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 indication of old fecal contamin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lostridium perfring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iform Group (Total Colifor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500120"/>
            <a:ext cx="4572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nterobacteriace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ultative anaero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m neg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spore for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 sha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rment gluc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 gas and acid within 48 h at 35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rment lact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29080" y="1499760"/>
            <a:ext cx="4029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oliforms gen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teroba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lebsiel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itroba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scherich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 commonly found contaminants in wa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share similar morphological , biochemical characteristic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8:28:29Z</dcterms:created>
  <dc:creator>ksu</dc:creator>
  <dc:description/>
  <dc:language>en-US</dc:language>
  <cp:lastModifiedBy>Welcome</cp:lastModifiedBy>
  <dcterms:modified xsi:type="dcterms:W3CDTF">2016-09-01T23:37:04Z</dcterms:modified>
  <cp:revision>75</cp:revision>
  <dc:subject/>
  <dc:title>Slide 1</dc:title>
</cp:coreProperties>
</file>