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6F00-A2F8-436E-AAF6-19E87D4B6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74B2-931C-47E3-91D0-70DF4C028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B6A4-8DB2-4EB3-8AF1-37CD23931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9100-C44B-4F21-96B1-AEE58A059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3284-6654-4F9A-8E18-1B436C0B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ED49-D6C9-466B-9C6E-6C7E7E9D7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CA66-7044-4526-89CE-E747EAC50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702F-C6B0-4CB7-9B6F-D733391B1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79FB-3A0A-4A60-8A86-3DF78289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48F7-6789-4787-8A53-CB842036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0B83-8268-40D6-8E5C-4DDA68BD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4A95-EEF7-4FD0-9795-27F4F6EB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F199-DCFB-405F-87A5-B52A6E21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9714-ACD7-4214-9661-4CCB64A7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FD47-B3EB-453C-8EAA-E0D3FEEA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5A4C-5883-4D53-B318-6260052E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8B2D-BD45-4C62-9AFD-F94ACF51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1E2D-B89E-4F0C-99D4-8265BEE0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B120-378B-47E4-A88D-FA8624D1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083E-579B-4CD8-BE7F-1CD9E103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4DA-9E02-4AE4-A838-BFEA5EABD0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D0D7-83B8-442B-A34A-8C77DDBD37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484360" y="163440"/>
            <a:ext cx="4897440" cy="45972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Damped harmonic oscil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36"/>
          <p:cNvSpPr/>
          <p:nvPr/>
        </p:nvSpPr>
        <p:spPr>
          <a:xfrm>
            <a:off x="179280" y="620640"/>
            <a:ext cx="6265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Real oscillators are always damped. The damped oscillator shown in the figure consists of a mass </a:t>
            </a:r>
            <a:r>
              <a:rPr b="0" i="1" lang="pl-PL" sz="2000" spc="-1" strike="noStrike">
                <a:solidFill>
                  <a:srgbClr val="2f2b2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, a spring of constant </a:t>
            </a:r>
            <a:r>
              <a:rPr b="0" i="1" lang="pl-PL" sz="2000" spc="-1" strike="noStrike">
                <a:solidFill>
                  <a:srgbClr val="2f2b2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 and a vane submarged in a liquid. The liquid exerts a damping force which in many cases is proportional to the velocity (with opposite sign)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   </a:t>
            </a:r>
            <a:r>
              <a:rPr b="0" i="1" lang="pl-PL" sz="20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 – damping constant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2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In this case the equation of motion can be written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After rearrangemen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5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58" descr="F15_15"/>
          <p:cNvPicPr/>
          <p:nvPr/>
        </p:nvPicPr>
        <p:blipFill>
          <a:blip r:embed="rId1"/>
          <a:srcRect l="0" t="0" r="0" b="14500"/>
          <a:stretch/>
        </p:blipFill>
        <p:spPr>
          <a:xfrm>
            <a:off x="6588000" y="888840"/>
            <a:ext cx="2409840" cy="3116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8" name="Text Box 60"/>
          <p:cNvSpPr/>
          <p:nvPr/>
        </p:nvSpPr>
        <p:spPr>
          <a:xfrm>
            <a:off x="6946920" y="3987720"/>
            <a:ext cx="18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f2b20"/>
                </a:solidFill>
                <a:latin typeface="Arial"/>
              </a:rPr>
              <a:t>Figure from HRW,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1"/>
              <p:cNvSpPr txBox="1"/>
              <p:nvPr/>
            </p:nvSpPr>
            <p:spPr>
              <a:xfrm>
                <a:off x="684360" y="2276640"/>
                <a:ext cx="93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63"/>
              <p:cNvSpPr txBox="1"/>
              <p:nvPr/>
            </p:nvSpPr>
            <p:spPr>
              <a:xfrm>
                <a:off x="684360" y="3213000"/>
                <a:ext cx="143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6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5"/>
              <p:cNvSpPr txBox="1"/>
              <p:nvPr/>
            </p:nvSpPr>
            <p:spPr>
              <a:xfrm>
                <a:off x="684360" y="4076640"/>
                <a:ext cx="1871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8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73"/>
          <p:cNvSpPr/>
          <p:nvPr/>
        </p:nvSpPr>
        <p:spPr>
          <a:xfrm>
            <a:off x="337680" y="4508640"/>
            <a:ext cx="7922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Introducing the substitutions: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         one g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The solution of (25) for a small damping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(2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where 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9"/>
              <p:cNvSpPr txBox="1"/>
              <p:nvPr/>
            </p:nvSpPr>
            <p:spPr>
              <a:xfrm>
                <a:off x="3492360" y="4581360"/>
                <a:ext cx="701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7"/>
              <p:cNvSpPr txBox="1"/>
              <p:nvPr/>
            </p:nvSpPr>
            <p:spPr>
              <a:xfrm>
                <a:off x="4667400" y="4581360"/>
                <a:ext cx="528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1"/>
              <p:cNvSpPr txBox="1"/>
              <p:nvPr/>
            </p:nvSpPr>
            <p:spPr>
              <a:xfrm>
                <a:off x="828720" y="4983120"/>
                <a:ext cx="1725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γ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74"/>
              <p:cNvSpPr txBox="1"/>
              <p:nvPr/>
            </p:nvSpPr>
            <p:spPr>
              <a:xfrm>
                <a:off x="890640" y="5877000"/>
                <a:ext cx="14572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6"/>
              <p:cNvSpPr txBox="1"/>
              <p:nvPr/>
            </p:nvSpPr>
            <p:spPr>
              <a:xfrm>
                <a:off x="1042920" y="6308640"/>
                <a:ext cx="1295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9C63-25A6-4C6D-AE7A-946190B18E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15920" y="260280"/>
            <a:ext cx="83437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DDE7-F973-425F-9A1D-2806C53C12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0520" y="189000"/>
            <a:ext cx="834408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911F-F7A2-44D9-A5B9-2E536D67A0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905040" y="809640"/>
            <a:ext cx="73339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ED64-0356-4E48-9620-DC60D8926F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4280" y="115920"/>
            <a:ext cx="834408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148-A3D1-4540-BE3D-B5A87C67C4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492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6416-2C72-4863-9672-E659EE66F8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5648400" cy="57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68360" y="1373040"/>
            <a:ext cx="7467480" cy="1047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2195640" y="2473200"/>
            <a:ext cx="2771640" cy="524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734364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1403280" y="3811680"/>
            <a:ext cx="2486160" cy="409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6"/>
          <a:stretch/>
        </p:blipFill>
        <p:spPr>
          <a:xfrm>
            <a:off x="1403280" y="4307040"/>
            <a:ext cx="5219640" cy="5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7"/>
          <a:stretch/>
        </p:blipFill>
        <p:spPr>
          <a:xfrm>
            <a:off x="425520" y="5100480"/>
            <a:ext cx="731520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8"/>
          <a:stretch/>
        </p:blipFill>
        <p:spPr>
          <a:xfrm>
            <a:off x="2344680" y="5575320"/>
            <a:ext cx="34765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86BF-1330-4F6E-A1DC-A36F61AC834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998640" y="1290600"/>
            <a:ext cx="5734080" cy="723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2"/>
          <a:stretch/>
        </p:blipFill>
        <p:spPr>
          <a:xfrm>
            <a:off x="949320" y="2155680"/>
            <a:ext cx="3390840" cy="276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3"/>
          <a:stretch/>
        </p:blipFill>
        <p:spPr>
          <a:xfrm>
            <a:off x="895320" y="3156120"/>
            <a:ext cx="4772160" cy="94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"/>
          <p:cNvPicPr/>
          <p:nvPr/>
        </p:nvPicPr>
        <p:blipFill>
          <a:blip r:embed="rId4"/>
          <a:stretch/>
        </p:blipFill>
        <p:spPr>
          <a:xfrm>
            <a:off x="3281400" y="2658960"/>
            <a:ext cx="1923840" cy="505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5"/>
          <a:stretch/>
        </p:blipFill>
        <p:spPr>
          <a:xfrm>
            <a:off x="855720" y="4243320"/>
            <a:ext cx="7429320" cy="1324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6"/>
          <a:stretch/>
        </p:blipFill>
        <p:spPr>
          <a:xfrm>
            <a:off x="3554280" y="5756400"/>
            <a:ext cx="19717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E8D-55D1-495D-9C9A-FDE5DCCDE6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828720" y="1314360"/>
            <a:ext cx="7486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021B-74EF-4491-8463-2C7CC5CFCB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9996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F096-B4FB-4B41-9A1F-123ACBBDAA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9996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981F-3FA6-421F-8247-64014CAE30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484360" y="92160"/>
            <a:ext cx="4897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Damped harmonic oscillator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79280" y="655560"/>
            <a:ext cx="626580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Solution (26) can be regarded as a cosine function with a time dependent amplitude                   . Time t =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τ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after which the amplitude decreases e</a:t>
            </a:r>
            <a:r>
              <a:rPr b="0" lang="pl-PL" sz="2000" spc="-1" strike="noStrike" baseline="30000">
                <a:solidFill>
                  <a:srgbClr val="2f2b20"/>
                </a:solidFill>
                <a:latin typeface="Times New Roman"/>
                <a:ea typeface="Times New Roman"/>
              </a:rPr>
              <a:t>1/2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times is called the average lifetime of oscillations or the time of relax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The angular frequency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of the damped oscillator is less than that of undamped oscillator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2f2b2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. For the small damping, i.e. for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2f2b2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</a:rPr>
              <a:t>&gt;&gt; </a:t>
            </a:r>
            <a:r>
              <a:rPr b="0" lang="el-GR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, solution (26) can be approximated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2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2"/>
          <p:cNvSpPr/>
          <p:nvPr/>
        </p:nvSpPr>
        <p:spPr>
          <a:xfrm>
            <a:off x="5867280" y="4819680"/>
            <a:ext cx="216072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f2b20"/>
                </a:solidFill>
                <a:latin typeface="Arial"/>
              </a:rPr>
              <a:t>The amplitude for the damped oscillator decreases exponentially with ti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68" descr="04701"/>
          <p:cNvPicPr/>
          <p:nvPr/>
        </p:nvPicPr>
        <p:blipFill>
          <a:blip r:embed="rId1"/>
          <a:stretch/>
        </p:blipFill>
        <p:spPr>
          <a:xfrm>
            <a:off x="468360" y="4030560"/>
            <a:ext cx="4824360" cy="252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Object 70"/>
              <p:cNvSpPr txBox="1"/>
              <p:nvPr/>
            </p:nvSpPr>
            <p:spPr>
              <a:xfrm>
                <a:off x="3203640" y="1039680"/>
                <a:ext cx="10080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72"/>
              <p:cNvSpPr txBox="1"/>
              <p:nvPr/>
            </p:nvSpPr>
            <p:spPr>
              <a:xfrm>
                <a:off x="468360" y="1987560"/>
                <a:ext cx="3527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τ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t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τ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    for 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6"/>
              <p:cNvSpPr txBox="1"/>
              <p:nvPr/>
            </p:nvSpPr>
            <p:spPr>
              <a:xfrm>
                <a:off x="679320" y="3500280"/>
                <a:ext cx="1559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AF8-C624-4431-AE34-5100386A1D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996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F45E-4425-4CC0-9032-9F0250BB89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99960" y="299880"/>
            <a:ext cx="83440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948A-DD68-4850-AEA5-06659E5ACF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905040" y="657360"/>
            <a:ext cx="733392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69E1-17FE-4A68-80FD-D0BB5AAAA9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1214280" y="614520"/>
            <a:ext cx="6715440" cy="5628960"/>
            <a:chOff x="1214280" y="614520"/>
            <a:chExt cx="6715440" cy="562896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tretch/>
          </p:blipFill>
          <p:spPr>
            <a:xfrm>
              <a:off x="1214280" y="614520"/>
              <a:ext cx="6715440" cy="56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2"/>
            <a:stretch/>
          </p:blipFill>
          <p:spPr>
            <a:xfrm>
              <a:off x="1215720" y="635040"/>
              <a:ext cx="809640" cy="56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EBD2-1801-497C-9E4B-0F7D648348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1"/>
          <p:cNvGrpSpPr/>
          <p:nvPr/>
        </p:nvGrpSpPr>
        <p:grpSpPr>
          <a:xfrm>
            <a:off x="743040" y="476280"/>
            <a:ext cx="7657920" cy="5905440"/>
            <a:chOff x="743040" y="476280"/>
            <a:chExt cx="7657920" cy="5905440"/>
          </a:xfrm>
        </p:grpSpPr>
        <p:pic>
          <p:nvPicPr>
            <p:cNvPr id="162" name="Picture 2" descr=""/>
            <p:cNvPicPr/>
            <p:nvPr/>
          </p:nvPicPr>
          <p:blipFill>
            <a:blip r:embed="rId1"/>
            <a:stretch/>
          </p:blipFill>
          <p:spPr>
            <a:xfrm>
              <a:off x="743040" y="476280"/>
              <a:ext cx="7657920" cy="590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" descr=""/>
            <p:cNvPicPr/>
            <p:nvPr/>
          </p:nvPicPr>
          <p:blipFill>
            <a:blip r:embed="rId2"/>
            <a:stretch/>
          </p:blipFill>
          <p:spPr>
            <a:xfrm>
              <a:off x="7591320" y="5661360"/>
              <a:ext cx="809640" cy="56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CB2B-2755-4308-8105-F1575C582D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Group 1"/>
          <p:cNvGrpSpPr/>
          <p:nvPr/>
        </p:nvGrpSpPr>
        <p:grpSpPr>
          <a:xfrm>
            <a:off x="108000" y="299880"/>
            <a:ext cx="8343720" cy="6258240"/>
            <a:chOff x="108000" y="299880"/>
            <a:chExt cx="8343720" cy="6258240"/>
          </a:xfrm>
        </p:grpSpPr>
        <p:pic>
          <p:nvPicPr>
            <p:cNvPr id="166" name="Picture 2" descr=""/>
            <p:cNvPicPr/>
            <p:nvPr/>
          </p:nvPicPr>
          <p:blipFill>
            <a:blip r:embed="rId1"/>
            <a:stretch/>
          </p:blipFill>
          <p:spPr>
            <a:xfrm>
              <a:off x="108000" y="299880"/>
              <a:ext cx="8343720" cy="62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" descr=""/>
            <p:cNvPicPr/>
            <p:nvPr/>
          </p:nvPicPr>
          <p:blipFill>
            <a:blip r:embed="rId2"/>
            <a:stretch/>
          </p:blipFill>
          <p:spPr>
            <a:xfrm>
              <a:off x="7591680" y="5661360"/>
              <a:ext cx="809640" cy="56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2956-6819-48B9-9799-D6C4B30EBB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"/>
          <p:cNvGrpSpPr/>
          <p:nvPr/>
        </p:nvGrpSpPr>
        <p:grpSpPr>
          <a:xfrm>
            <a:off x="108000" y="115920"/>
            <a:ext cx="8343720" cy="6257880"/>
            <a:chOff x="108000" y="115920"/>
            <a:chExt cx="8343720" cy="6257880"/>
          </a:xfrm>
        </p:grpSpPr>
        <p:pic>
          <p:nvPicPr>
            <p:cNvPr id="170" name="Picture 2" descr=""/>
            <p:cNvPicPr/>
            <p:nvPr/>
          </p:nvPicPr>
          <p:blipFill>
            <a:blip r:embed="rId1"/>
            <a:stretch/>
          </p:blipFill>
          <p:spPr>
            <a:xfrm>
              <a:off x="108000" y="115920"/>
              <a:ext cx="8343720" cy="625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3" descr=""/>
            <p:cNvPicPr/>
            <p:nvPr/>
          </p:nvPicPr>
          <p:blipFill>
            <a:blip r:embed="rId2"/>
            <a:stretch/>
          </p:blipFill>
          <p:spPr>
            <a:xfrm>
              <a:off x="7591680" y="5660640"/>
              <a:ext cx="809640" cy="56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7901-61AC-4E70-8AE6-4E3A228675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TextBox 1" descr=""/>
          <p:cNvPicPr/>
          <p:nvPr/>
        </p:nvPicPr>
        <p:blipFill>
          <a:blip r:embed="rId1"/>
          <a:stretch/>
        </p:blipFill>
        <p:spPr>
          <a:xfrm>
            <a:off x="1262160" y="981000"/>
            <a:ext cx="352908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4A3C-F953-4333-AD9D-4BA0B953D7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4343400" cy="32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3243240" y="2509920"/>
            <a:ext cx="26575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BD00-9F7F-408D-ADB2-34F2E3CF95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484360" y="92160"/>
            <a:ext cx="4897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Damped harmonic oscillator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36"/>
          <p:cNvSpPr/>
          <p:nvPr/>
        </p:nvSpPr>
        <p:spPr>
          <a:xfrm>
            <a:off x="336600" y="692280"/>
            <a:ext cx="62658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ergy losses for the damped oscill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2"/>
          <p:cNvSpPr/>
          <p:nvPr/>
        </p:nvSpPr>
        <p:spPr>
          <a:xfrm>
            <a:off x="4441680" y="2201760"/>
            <a:ext cx="216072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f2b20"/>
                </a:solidFill>
                <a:latin typeface="Arial"/>
              </a:rPr>
              <a:t>The amplitude for the damped oscillator decreases exponentially with tim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6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2"/>
          <p:cNvSpPr/>
          <p:nvPr/>
        </p:nvSpPr>
        <p:spPr>
          <a:xfrm>
            <a:off x="159120" y="4292640"/>
            <a:ext cx="7841880" cy="2289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or the oscillator with a small damping one obtains for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average power of losses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2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refore the average power of losses is related to the average energy 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29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8" descr="04701"/>
          <p:cNvPicPr/>
          <p:nvPr/>
        </p:nvPicPr>
        <p:blipFill>
          <a:blip r:embed="rId1"/>
          <a:stretch/>
        </p:blipFill>
        <p:spPr>
          <a:xfrm>
            <a:off x="1187280" y="1413000"/>
            <a:ext cx="2463840" cy="252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Object 78"/>
              <p:cNvSpPr txBox="1"/>
              <p:nvPr/>
            </p:nvSpPr>
            <p:spPr>
              <a:xfrm>
                <a:off x="684360" y="4632480"/>
                <a:ext cx="15080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0"/>
              <p:cNvSpPr txBox="1"/>
              <p:nvPr/>
            </p:nvSpPr>
            <p:spPr>
              <a:xfrm>
                <a:off x="1209600" y="5354640"/>
                <a:ext cx="26211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82"/>
              <p:cNvSpPr txBox="1"/>
              <p:nvPr/>
            </p:nvSpPr>
            <p:spPr>
              <a:xfrm>
                <a:off x="468360" y="6215040"/>
                <a:ext cx="1152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FBA5-DE57-4F68-8788-0B1131B9C3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204840" y="189000"/>
            <a:ext cx="8543880" cy="5394240"/>
            <a:chOff x="204840" y="189000"/>
            <a:chExt cx="8543880" cy="5394240"/>
          </a:xfrm>
        </p:grpSpPr>
        <p:grpSp>
          <p:nvGrpSpPr>
            <p:cNvPr id="83" name="Group 2"/>
            <p:cNvGrpSpPr/>
            <p:nvPr/>
          </p:nvGrpSpPr>
          <p:grpSpPr>
            <a:xfrm>
              <a:off x="204840" y="189000"/>
              <a:ext cx="8543880" cy="5394240"/>
              <a:chOff x="204840" y="189000"/>
              <a:chExt cx="8543880" cy="5394240"/>
            </a:xfrm>
          </p:grpSpPr>
          <p:pic>
            <p:nvPicPr>
              <p:cNvPr id="8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204840" y="189000"/>
                <a:ext cx="8543880" cy="539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8046000" y="470880"/>
                <a:ext cx="64080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Picture 4" descr=""/>
            <p:cNvPicPr/>
            <p:nvPr/>
          </p:nvPicPr>
          <p:blipFill>
            <a:blip r:embed="rId3"/>
            <a:stretch/>
          </p:blipFill>
          <p:spPr>
            <a:xfrm>
              <a:off x="4113000" y="4071240"/>
              <a:ext cx="671400" cy="35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AA2E-6E45-4705-80F6-DAA57F2CBA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484360" y="92160"/>
            <a:ext cx="4897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Damped harmonic oscillator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179280" y="655560"/>
            <a:ext cx="8713800" cy="4667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oscillating system with damping one introduces the dimentionless factor, called quality factor Q, defined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ow damping one obtains from the last equation substituting for power of losses from (10.29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ying the last result to the electrical oscillator L,R,C, and introducing the analogous quant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btains for the quality fac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70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9"/>
              <p:cNvSpPr txBox="1"/>
              <p:nvPr/>
            </p:nvSpPr>
            <p:spPr>
              <a:xfrm>
                <a:off x="414360" y="1316160"/>
                <a:ext cx="3979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ored</m:t>
                        </m:r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y lost in one cycle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ω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Rectangle 74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3"/>
              <p:cNvSpPr txBox="1"/>
              <p:nvPr/>
            </p:nvSpPr>
            <p:spPr>
              <a:xfrm>
                <a:off x="447840" y="2637000"/>
                <a:ext cx="1244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75"/>
              <p:cNvSpPr txBox="1"/>
              <p:nvPr/>
            </p:nvSpPr>
            <p:spPr>
              <a:xfrm>
                <a:off x="611280" y="3846600"/>
                <a:ext cx="8650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77"/>
              <p:cNvSpPr txBox="1"/>
              <p:nvPr/>
            </p:nvSpPr>
            <p:spPr>
              <a:xfrm>
                <a:off x="1979640" y="3824280"/>
                <a:ext cx="936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9"/>
              <p:cNvSpPr txBox="1"/>
              <p:nvPr/>
            </p:nvSpPr>
            <p:spPr>
              <a:xfrm>
                <a:off x="611280" y="4687920"/>
                <a:ext cx="7207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81"/>
          <p:cNvSpPr/>
          <p:nvPr/>
        </p:nvSpPr>
        <p:spPr>
          <a:xfrm>
            <a:off x="451080" y="5418000"/>
            <a:ext cx="520992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2f2b20"/>
                </a:solidFill>
                <a:uFillTx/>
                <a:latin typeface="Times New Roman"/>
              </a:rPr>
              <a:t>Examples of quality factors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resonance radio circuit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several hundre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violin string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10</a:t>
            </a:r>
            <a:r>
              <a:rPr b="0" lang="pl-PL" sz="1600" spc="-1" strike="noStrike" baseline="30000">
                <a:solidFill>
                  <a:srgbClr val="2f2b2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microwave resonator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10</a:t>
            </a:r>
            <a:r>
              <a:rPr b="0" lang="pl-PL" sz="1600" spc="-1" strike="noStrike" baseline="30000">
                <a:solidFill>
                  <a:srgbClr val="2f2b2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excited atom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l-PL" sz="1600" spc="-1" strike="noStrike">
                <a:solidFill>
                  <a:srgbClr val="2f2b20"/>
                </a:solidFill>
                <a:latin typeface="Times New Roman"/>
              </a:rPr>
              <a:t>10</a:t>
            </a:r>
            <a:r>
              <a:rPr b="0" lang="pl-PL" sz="1600" spc="-1" strike="noStrike" baseline="30000">
                <a:solidFill>
                  <a:srgbClr val="2f2b2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B3EA-92C7-4FF3-BF2D-AA0E43A3BB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835280" y="92160"/>
            <a:ext cx="5689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10.7. The driven oscillator with dam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36"/>
          <p:cNvSpPr/>
          <p:nvPr/>
        </p:nvSpPr>
        <p:spPr>
          <a:xfrm>
            <a:off x="231840" y="655560"/>
            <a:ext cx="8713800" cy="1313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mped oscillator responds to a periodic driving force. In this case on the right side of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q.(10.24) we introduce the driving force F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5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1"/>
              <p:cNvSpPr txBox="1"/>
              <p:nvPr/>
            </p:nvSpPr>
            <p:spPr>
              <a:xfrm>
                <a:off x="900000" y="1341360"/>
                <a:ext cx="2159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0" name="Picture 74" descr="F15_15"/>
          <p:cNvPicPr/>
          <p:nvPr/>
        </p:nvPicPr>
        <p:blipFill>
          <a:blip r:embed="rId1"/>
          <a:stretch/>
        </p:blipFill>
        <p:spPr>
          <a:xfrm>
            <a:off x="6359400" y="2421000"/>
            <a:ext cx="2519640" cy="3809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75"/>
          <p:cNvSpPr/>
          <p:nvPr/>
        </p:nvSpPr>
        <p:spPr>
          <a:xfrm>
            <a:off x="6172200" y="4292640"/>
            <a:ext cx="2971800" cy="19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7"/>
          <p:cNvSpPr/>
          <p:nvPr/>
        </p:nvSpPr>
        <p:spPr>
          <a:xfrm>
            <a:off x="7637400" y="236376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78"/>
          <p:cNvSpPr/>
          <p:nvPr/>
        </p:nvSpPr>
        <p:spPr>
          <a:xfrm>
            <a:off x="6846840" y="1778040"/>
            <a:ext cx="9144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b20"/>
                </a:solidFill>
                <a:latin typeface="Times New Roman"/>
              </a:rPr>
              <a:t>Moving 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79"/>
          <p:cNvSpPr/>
          <p:nvPr/>
        </p:nvSpPr>
        <p:spPr>
          <a:xfrm>
            <a:off x="7837560" y="223524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80"/>
          <p:cNvSpPr/>
          <p:nvPr/>
        </p:nvSpPr>
        <p:spPr>
          <a:xfrm>
            <a:off x="6203880" y="4437000"/>
            <a:ext cx="2940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f2b20"/>
                </a:solidFill>
                <a:latin typeface="Times New Roman"/>
              </a:rPr>
              <a:t>The system is driven by a moving support that oscillates at an arbitrary angular frequency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ω</a:t>
            </a:r>
            <a:r>
              <a:rPr b="0" lang="pl-PL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. The natural frequency of a freely oscillating system is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ω</a:t>
            </a:r>
            <a:r>
              <a:rPr b="0" lang="pl-PL" sz="1800" spc="-1" strike="noStrike" baseline="-25000">
                <a:solidFill>
                  <a:srgbClr val="2f2b2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2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84"/>
          <p:cNvSpPr/>
          <p:nvPr/>
        </p:nvSpPr>
        <p:spPr>
          <a:xfrm>
            <a:off x="4481640" y="28785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231480" y="1989000"/>
            <a:ext cx="5828760" cy="4873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ubstituting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nd              one obtains from (10.3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3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Let the driving force be                     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n the solution of eq.(10.34) takes the 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3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here the amplitude x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is given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35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nd the phase angle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.35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81"/>
              <p:cNvSpPr txBox="1"/>
              <p:nvPr/>
            </p:nvSpPr>
            <p:spPr>
              <a:xfrm>
                <a:off x="900000" y="2330280"/>
                <a:ext cx="669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3"/>
              <p:cNvSpPr txBox="1"/>
              <p:nvPr/>
            </p:nvSpPr>
            <p:spPr>
              <a:xfrm>
                <a:off x="2124000" y="2328840"/>
                <a:ext cx="71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6"/>
              <p:cNvSpPr txBox="1"/>
              <p:nvPr/>
            </p:nvSpPr>
            <p:spPr>
              <a:xfrm>
                <a:off x="892080" y="2936880"/>
                <a:ext cx="2167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β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88"/>
              <p:cNvSpPr txBox="1"/>
              <p:nvPr/>
            </p:nvSpPr>
            <p:spPr>
              <a:xfrm>
                <a:off x="2771640" y="3625920"/>
                <a:ext cx="1295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9"/>
              <p:cNvSpPr txBox="1"/>
              <p:nvPr/>
            </p:nvSpPr>
            <p:spPr>
              <a:xfrm>
                <a:off x="900000" y="4292640"/>
                <a:ext cx="1656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1"/>
              <p:cNvSpPr txBox="1"/>
              <p:nvPr/>
            </p:nvSpPr>
            <p:spPr>
              <a:xfrm>
                <a:off x="915840" y="5040360"/>
                <a:ext cx="2216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0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94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93"/>
              <p:cNvSpPr txBox="1"/>
              <p:nvPr/>
            </p:nvSpPr>
            <p:spPr>
              <a:xfrm>
                <a:off x="900000" y="6021360"/>
                <a:ext cx="1703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βω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992-3CA8-4277-A979-E628481FC5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835280" y="92160"/>
            <a:ext cx="5689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The driven oscillator with damping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468360" y="692280"/>
            <a:ext cx="5276880" cy="4488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sis of solution (10.35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ing frequency much lower than the natural frequency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&lt;&lt;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is ca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resonance – the condition at wh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amplitude of a displacement (or velocity, or power) of oscillations is maxim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amplitude x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is not generally maximu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    is minim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5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72"/>
          <p:cNvSpPr/>
          <p:nvPr/>
        </p:nvSpPr>
        <p:spPr>
          <a:xfrm>
            <a:off x="4481640" y="28785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86"/>
          <p:cNvSpPr/>
          <p:nvPr/>
        </p:nvSpPr>
        <p:spPr>
          <a:xfrm>
            <a:off x="5867280" y="3236760"/>
            <a:ext cx="3203640" cy="134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Amplitude of the driven oscillations as a function of the driving force frequency for varying damp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(b</a:t>
            </a:r>
            <a:r>
              <a:rPr b="0" i="1" lang="pl-PL" sz="1600" spc="-1" strike="noStrike" baseline="-25000">
                <a:solidFill>
                  <a:srgbClr val="2f2b20"/>
                </a:solidFill>
                <a:latin typeface="Times New Roman"/>
              </a:rPr>
              <a:t>1</a:t>
            </a: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&lt;b</a:t>
            </a:r>
            <a:r>
              <a:rPr b="0" i="1" lang="pl-PL" sz="16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&lt;b</a:t>
            </a:r>
            <a:r>
              <a:rPr b="0" i="1" lang="pl-PL" sz="1600" spc="-1" strike="noStrike" baseline="-25000">
                <a:solidFill>
                  <a:srgbClr val="2f2b20"/>
                </a:solidFill>
                <a:latin typeface="Times New Roman"/>
              </a:rPr>
              <a:t>3</a:t>
            </a: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). Smaller damping gives taller and narrower resonance pea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87"/>
              <p:cNvSpPr txBox="1"/>
              <p:nvPr/>
            </p:nvSpPr>
            <p:spPr>
              <a:xfrm>
                <a:off x="755640" y="1959120"/>
                <a:ext cx="136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89"/>
              <p:cNvSpPr txBox="1"/>
              <p:nvPr/>
            </p:nvSpPr>
            <p:spPr>
              <a:xfrm>
                <a:off x="2206800" y="3789360"/>
                <a:ext cx="1501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1"/>
              <p:cNvSpPr txBox="1"/>
              <p:nvPr/>
            </p:nvSpPr>
            <p:spPr>
              <a:xfrm>
                <a:off x="755640" y="4437000"/>
                <a:ext cx="8650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93"/>
              <p:cNvSpPr txBox="1"/>
              <p:nvPr/>
            </p:nvSpPr>
            <p:spPr>
              <a:xfrm>
                <a:off x="2297160" y="4365720"/>
                <a:ext cx="1900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97"/>
          <p:cNvSpPr/>
          <p:nvPr/>
        </p:nvSpPr>
        <p:spPr>
          <a:xfrm>
            <a:off x="468360" y="5084640"/>
            <a:ext cx="8373960" cy="1618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us the condition for minimum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hat yield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99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98"/>
              <p:cNvSpPr txBox="1"/>
              <p:nvPr/>
            </p:nvSpPr>
            <p:spPr>
              <a:xfrm>
                <a:off x="1908000" y="6093000"/>
                <a:ext cx="1417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5" name="Rectangle 10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00"/>
              <p:cNvSpPr txBox="1"/>
              <p:nvPr/>
            </p:nvSpPr>
            <p:spPr>
              <a:xfrm>
                <a:off x="3995640" y="6137280"/>
                <a:ext cx="863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5"/>
              <p:cNvSpPr txBox="1"/>
              <p:nvPr/>
            </p:nvSpPr>
            <p:spPr>
              <a:xfrm>
                <a:off x="826920" y="5499000"/>
                <a:ext cx="4562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d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Picture 104" descr="rezonans"/>
          <p:cNvPicPr/>
          <p:nvPr/>
        </p:nvPicPr>
        <p:blipFill>
          <a:blip r:embed="rId1"/>
          <a:stretch/>
        </p:blipFill>
        <p:spPr>
          <a:xfrm>
            <a:off x="5869080" y="836640"/>
            <a:ext cx="32400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2103-3CD7-4E46-B338-21DA90CE6E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835280" y="92160"/>
            <a:ext cx="5689440" cy="82548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 Unicode MS"/>
              </a:rPr>
              <a:t>The driven oscillator with damping, c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3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252360" y="692280"/>
            <a:ext cx="8640720" cy="5666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velocity of the driven damped oscillations can be calculated by differen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f eq.( 10.35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10.3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he amplitude of a velocity is then given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rom (10.37) it follows that the amplitude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a velocity is maximum exactly for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rom the analogy between oscillating mechanic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ystem and electrical circu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ne obtains that the maxim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f electrical current amplitu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(resonance) is for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ω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4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5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63"/>
          <p:cNvSpPr/>
          <p:nvPr/>
        </p:nvSpPr>
        <p:spPr>
          <a:xfrm>
            <a:off x="4481640" y="28785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7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78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8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85"/>
              <p:cNvSpPr txBox="1"/>
              <p:nvPr/>
            </p:nvSpPr>
            <p:spPr>
              <a:xfrm>
                <a:off x="1835280" y="1125360"/>
                <a:ext cx="2089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87"/>
              <p:cNvSpPr txBox="1"/>
              <p:nvPr/>
            </p:nvSpPr>
            <p:spPr>
              <a:xfrm>
                <a:off x="395280" y="2138400"/>
                <a:ext cx="46306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m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p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p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sSup>
                                                  <m:e>
                                                    <m:r>
                                                      <m:t xml:space="preserve">0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ω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Rectangle 92"/>
          <p:cNvSpPr/>
          <p:nvPr/>
        </p:nvSpPr>
        <p:spPr>
          <a:xfrm>
            <a:off x="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91"/>
              <p:cNvSpPr txBox="1"/>
              <p:nvPr/>
            </p:nvSpPr>
            <p:spPr>
              <a:xfrm>
                <a:off x="324000" y="5084640"/>
                <a:ext cx="15840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t xml:space="preserve">q</m:t>
                          </m:r>
                        </m:e>
                      </m:mr>
                      <m:mr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q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m</m:t>
                          </m:r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t xml:space="preserve">L</m:t>
                          </m:r>
                        </m:e>
                      </m:mr>
                      <m:mr>
                        <m:e>
                          <m:r>
                            <m:t xml:space="preserve">k</m:t>
                          </m:r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mr>
                      <m:mr>
                        <m:e>
                          <m:r>
                            <m:t xml:space="preserve">b</m:t>
                          </m:r>
                        </m:e>
                        <m:e>
                          <m:r>
                            <m:t xml:space="preserve">→</m:t>
                          </m:r>
                        </m:e>
                        <m:e>
                          <m:r>
                            <m:t xml:space="preserve">R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6" name="Text Box 93"/>
          <p:cNvSpPr/>
          <p:nvPr/>
        </p:nvSpPr>
        <p:spPr>
          <a:xfrm>
            <a:off x="5653080" y="4797360"/>
            <a:ext cx="295128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2f2b20"/>
                </a:solidFill>
                <a:latin typeface="Times New Roman"/>
              </a:rPr>
              <a:t>Amplitude of a current in a resonance electrical circuit for a varying supply voltage frequenc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95" descr="res-current"/>
          <p:cNvPicPr/>
          <p:nvPr/>
        </p:nvPicPr>
        <p:blipFill>
          <a:blip r:embed="rId1"/>
          <a:stretch/>
        </p:blipFill>
        <p:spPr>
          <a:xfrm>
            <a:off x="5435640" y="2093760"/>
            <a:ext cx="3351240" cy="25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1540-85C4-4AA2-9A58-E4E7EB89DF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981080" cy="4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352680" y="811080"/>
            <a:ext cx="2438640" cy="96228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422280" y="1924200"/>
            <a:ext cx="7924680" cy="4168800"/>
            <a:chOff x="422280" y="1924200"/>
            <a:chExt cx="7924680" cy="4168800"/>
          </a:xfrm>
        </p:grpSpPr>
        <p:pic>
          <p:nvPicPr>
            <p:cNvPr id="91" name="Picture 3" descr=""/>
            <p:cNvPicPr/>
            <p:nvPr/>
          </p:nvPicPr>
          <p:blipFill>
            <a:blip r:embed="rId3"/>
            <a:stretch/>
          </p:blipFill>
          <p:spPr>
            <a:xfrm>
              <a:off x="422280" y="1924200"/>
              <a:ext cx="7924680" cy="21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4"/>
            <a:stretch/>
          </p:blipFill>
          <p:spPr>
            <a:xfrm>
              <a:off x="5292000" y="1989360"/>
              <a:ext cx="50400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5"/>
            <a:stretch/>
          </p:blipFill>
          <p:spPr>
            <a:xfrm>
              <a:off x="467280" y="4083840"/>
              <a:ext cx="7372440" cy="20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"/>
            <p:cNvPicPr/>
            <p:nvPr/>
          </p:nvPicPr>
          <p:blipFill>
            <a:blip r:embed="rId6"/>
            <a:stretch/>
          </p:blipFill>
          <p:spPr>
            <a:xfrm>
              <a:off x="3492000" y="5078520"/>
              <a:ext cx="504000" cy="22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3209-395E-41CB-8951-A71127D348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909720" y="1504800"/>
            <a:ext cx="7334280" cy="4445280"/>
            <a:chOff x="909720" y="1504800"/>
            <a:chExt cx="7334280" cy="4445280"/>
          </a:xfrm>
        </p:grpSpPr>
        <p:grpSp>
          <p:nvGrpSpPr>
            <p:cNvPr id="97" name="Group 2"/>
            <p:cNvGrpSpPr/>
            <p:nvPr/>
          </p:nvGrpSpPr>
          <p:grpSpPr>
            <a:xfrm>
              <a:off x="909720" y="1504800"/>
              <a:ext cx="7334280" cy="4445280"/>
              <a:chOff x="909720" y="1504800"/>
              <a:chExt cx="7334280" cy="4445280"/>
            </a:xfrm>
          </p:grpSpPr>
          <p:pic>
            <p:nvPicPr>
              <p:cNvPr id="98" name="Picture 2" descr=""/>
              <p:cNvPicPr/>
              <p:nvPr/>
            </p:nvPicPr>
            <p:blipFill>
              <a:blip r:embed="rId1"/>
              <a:srcRect l="0" t="0" r="0" b="13958"/>
              <a:stretch/>
            </p:blipFill>
            <p:spPr>
              <a:xfrm>
                <a:off x="909720" y="1504800"/>
                <a:ext cx="7324560" cy="331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0920" y="4869720"/>
                <a:ext cx="2161800" cy="32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214440" y="5454720"/>
                <a:ext cx="27144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740000" y="3926880"/>
                <a:ext cx="504000" cy="22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" name="Rectangle 3"/>
            <p:cNvSpPr/>
            <p:nvPr/>
          </p:nvSpPr>
          <p:spPr>
            <a:xfrm>
              <a:off x="3708360" y="3789360"/>
              <a:ext cx="1727280" cy="5047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89F-51A6-4527-BFC0-9790C085AF0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48656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403280" y="907920"/>
            <a:ext cx="1081080" cy="2890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284720" y="907920"/>
            <a:ext cx="1295280" cy="2890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684360" y="2803680"/>
            <a:ext cx="733428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07C2-BECE-4119-A450-21BEDA70EF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036880" y="333360"/>
            <a:ext cx="4838760" cy="250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11280" y="2851200"/>
            <a:ext cx="7400880" cy="21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1400040" y="5013360"/>
            <a:ext cx="634392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tretch/>
        </p:blipFill>
        <p:spPr>
          <a:xfrm>
            <a:off x="468360" y="5649840"/>
            <a:ext cx="46861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5EC4-8F1A-4D32-A10C-E20A0CFD4DA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334280" cy="131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53960" y="2276640"/>
            <a:ext cx="741996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5FF8-7C0E-4B7E-A737-459E3F69640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16200" y="1700280"/>
            <a:ext cx="5695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8:55:41Z</dcterms:created>
  <dc:creator>KEAGH</dc:creator>
  <dc:description/>
  <dc:language>en-US</dc:language>
  <cp:lastModifiedBy>Norah Hamad Alonizan</cp:lastModifiedBy>
  <dcterms:modified xsi:type="dcterms:W3CDTF">2015-02-22T07:31:43Z</dcterms:modified>
  <cp:revision>437</cp:revision>
  <dc:subject/>
  <dc:title>Prezentacja programu PowerPoint</dc:title>
</cp:coreProperties>
</file>