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0793-789D-4114-8F72-42AEBFB5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29BB-506F-4A69-88D5-A857A9B46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2137-D4B7-4257-8B5A-D27512081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B14-FB0B-45CE-BF23-D1A89C66CC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0BC-F597-41A9-899C-A0E1EBF4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2A1-E9A6-45CC-97E4-4B5238C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B27-98B0-4084-A90C-1719CA62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FE5-C47A-44A7-9BD3-A85A1229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BC32-7DBE-41B7-8F70-D8532A1E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094-90E4-40E2-BDF5-3BDDE2A2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F175-39E0-4C3A-80D6-589B36AC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D49-A3CC-44D4-8A66-7B19E5A9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BDC-A358-4D69-A773-C499CB56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F3EF-6FB3-47AB-B232-B60E3ED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882-13DF-4FC6-B60D-215BB529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A5FD-CD1E-49AE-9616-210432D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5610-90FF-44DA-83A4-FC20177A4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alsultan1@ksu.edu.sa" TargetMode="External"/><Relationship Id="rId2" Type="http://schemas.openxmlformats.org/officeDocument/2006/relationships/hyperlink" Target="http://fac.ksu.edu.sa/kalsultan1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GC 211:Data Structures</a:t>
            </a:r>
            <a:br>
              <a:rPr sz="6000"/>
            </a:br>
            <a:br>
              <a:rPr sz="4000"/>
            </a:b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Week#1: Overview &amp; Review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ome slides are borrowed from Mr. Mohammad Alqahtan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5735520"/>
            <a:ext cx="859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PMingLiU"/>
              </a:rPr>
              <a:t>There are many, but we named a few. We’ll learn these data structures in great detai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9"/>
          <p:cNvGrpSpPr/>
          <p:nvPr/>
        </p:nvGrpSpPr>
        <p:grpSpPr>
          <a:xfrm>
            <a:off x="1905120" y="1279440"/>
            <a:ext cx="6705360" cy="533520"/>
            <a:chOff x="1905120" y="1279440"/>
            <a:chExt cx="6705360" cy="533520"/>
          </a:xfrm>
        </p:grpSpPr>
        <p:sp>
          <p:nvSpPr>
            <p:cNvPr id="68" name="Rectangle 3"/>
            <p:cNvSpPr/>
            <p:nvPr/>
          </p:nvSpPr>
          <p:spPr>
            <a:xfrm>
              <a:off x="19051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"/>
            <p:cNvSpPr/>
            <p:nvPr/>
          </p:nvSpPr>
          <p:spPr>
            <a:xfrm>
              <a:off x="25146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31240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37339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"/>
            <p:cNvSpPr/>
            <p:nvPr/>
          </p:nvSpPr>
          <p:spPr>
            <a:xfrm>
              <a:off x="43434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"/>
            <p:cNvSpPr/>
            <p:nvPr/>
          </p:nvSpPr>
          <p:spPr>
            <a:xfrm>
              <a:off x="49528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9"/>
            <p:cNvSpPr/>
            <p:nvPr/>
          </p:nvSpPr>
          <p:spPr>
            <a:xfrm>
              <a:off x="55627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0"/>
            <p:cNvSpPr/>
            <p:nvPr/>
          </p:nvSpPr>
          <p:spPr>
            <a:xfrm>
              <a:off x="61722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1"/>
            <p:cNvSpPr/>
            <p:nvPr/>
          </p:nvSpPr>
          <p:spPr>
            <a:xfrm>
              <a:off x="678168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2"/>
            <p:cNvSpPr/>
            <p:nvPr/>
          </p:nvSpPr>
          <p:spPr>
            <a:xfrm>
              <a:off x="739152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3"/>
            <p:cNvSpPr/>
            <p:nvPr/>
          </p:nvSpPr>
          <p:spPr>
            <a:xfrm>
              <a:off x="8001000" y="1279440"/>
              <a:ext cx="609480" cy="53352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50"/>
          <p:cNvGrpSpPr/>
          <p:nvPr/>
        </p:nvGrpSpPr>
        <p:grpSpPr>
          <a:xfrm>
            <a:off x="1981080" y="2346480"/>
            <a:ext cx="6553440" cy="533160"/>
            <a:chOff x="1981080" y="2346480"/>
            <a:chExt cx="6553440" cy="533160"/>
          </a:xfrm>
        </p:grpSpPr>
        <p:sp>
          <p:nvSpPr>
            <p:cNvPr id="80" name="Rectangle 14"/>
            <p:cNvSpPr/>
            <p:nvPr/>
          </p:nvSpPr>
          <p:spPr>
            <a:xfrm>
              <a:off x="198108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259056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297144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358128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396216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57200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495288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556272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2"/>
            <p:cNvSpPr/>
            <p:nvPr/>
          </p:nvSpPr>
          <p:spPr>
            <a:xfrm>
              <a:off x="594360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655344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4"/>
            <p:cNvSpPr/>
            <p:nvPr/>
          </p:nvSpPr>
          <p:spPr>
            <a:xfrm>
              <a:off x="693432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7544160" y="2651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6"/>
            <p:cNvSpPr/>
            <p:nvPr/>
          </p:nvSpPr>
          <p:spPr>
            <a:xfrm>
              <a:off x="7925040" y="2346480"/>
              <a:ext cx="609480" cy="533160"/>
            </a:xfrm>
            <a:prstGeom prst="rect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1"/>
          <p:cNvGrpSpPr/>
          <p:nvPr/>
        </p:nvGrpSpPr>
        <p:grpSpPr>
          <a:xfrm>
            <a:off x="1828800" y="3413160"/>
            <a:ext cx="2133720" cy="1447920"/>
            <a:chOff x="1828800" y="3413160"/>
            <a:chExt cx="2133720" cy="1447920"/>
          </a:xfrm>
        </p:grpSpPr>
        <p:sp>
          <p:nvSpPr>
            <p:cNvPr id="94" name="Oval 27"/>
            <p:cNvSpPr/>
            <p:nvPr/>
          </p:nvSpPr>
          <p:spPr>
            <a:xfrm>
              <a:off x="2743200" y="341316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2286000" y="394668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1828800" y="448020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 flipH="1">
              <a:off x="2514600" y="36417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1"/>
            <p:cNvSpPr/>
            <p:nvPr/>
          </p:nvSpPr>
          <p:spPr>
            <a:xfrm flipH="1">
              <a:off x="2057400" y="425160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3200400" y="394668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3657960" y="448020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4"/>
            <p:cNvSpPr/>
            <p:nvPr/>
          </p:nvSpPr>
          <p:spPr>
            <a:xfrm>
              <a:off x="3048120" y="37177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5"/>
            <p:cNvSpPr/>
            <p:nvPr/>
          </p:nvSpPr>
          <p:spPr>
            <a:xfrm>
              <a:off x="3505320" y="417528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2514600" y="4556520"/>
              <a:ext cx="304560" cy="30456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"/>
            <p:cNvSpPr/>
            <p:nvPr/>
          </p:nvSpPr>
          <p:spPr>
            <a:xfrm>
              <a:off x="2514600" y="425160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2"/>
          <p:cNvGrpSpPr/>
          <p:nvPr/>
        </p:nvGrpSpPr>
        <p:grpSpPr>
          <a:xfrm>
            <a:off x="4419720" y="3565440"/>
            <a:ext cx="3429000" cy="838440"/>
            <a:chOff x="4419720" y="3565440"/>
            <a:chExt cx="3429000" cy="838440"/>
          </a:xfrm>
        </p:grpSpPr>
        <p:sp>
          <p:nvSpPr>
            <p:cNvPr id="106" name="AutoShape 38"/>
            <p:cNvSpPr/>
            <p:nvPr/>
          </p:nvSpPr>
          <p:spPr>
            <a:xfrm>
              <a:off x="4952880" y="3565440"/>
              <a:ext cx="2362320" cy="838440"/>
            </a:xfrm>
            <a:prstGeom prst="flowChartMagneticDrum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9"/>
            <p:cNvSpPr/>
            <p:nvPr/>
          </p:nvSpPr>
          <p:spPr>
            <a:xfrm>
              <a:off x="4419720" y="40226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0"/>
            <p:cNvSpPr/>
            <p:nvPr/>
          </p:nvSpPr>
          <p:spPr>
            <a:xfrm>
              <a:off x="6934320" y="4022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53"/>
          <p:cNvGrpSpPr/>
          <p:nvPr/>
        </p:nvGrpSpPr>
        <p:grpSpPr>
          <a:xfrm>
            <a:off x="8381880" y="3146400"/>
            <a:ext cx="1676520" cy="1638360"/>
            <a:chOff x="8381880" y="3146400"/>
            <a:chExt cx="1676520" cy="1638360"/>
          </a:xfrm>
        </p:grpSpPr>
        <p:sp>
          <p:nvSpPr>
            <p:cNvPr id="110" name="AutoShape 41"/>
            <p:cNvSpPr/>
            <p:nvPr/>
          </p:nvSpPr>
          <p:spPr>
            <a:xfrm>
              <a:off x="8686440" y="3580920"/>
              <a:ext cx="1219320" cy="1203840"/>
            </a:xfrm>
            <a:prstGeom prst="flowChartMagneticDisk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2"/>
            <p:cNvSpPr/>
            <p:nvPr/>
          </p:nvSpPr>
          <p:spPr>
            <a:xfrm>
              <a:off x="8381880" y="3224160"/>
              <a:ext cx="723960" cy="557280"/>
            </a:xfrm>
            <a:custGeom>
              <a:avLst/>
              <a:gdLst>
                <a:gd name="textAreaLeft" fmla="*/ 0 w 723960"/>
                <a:gd name="textAreaRight" fmla="*/ 724320 w 72396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456" h="400">
                  <a:moveTo>
                    <a:pt x="0" y="16"/>
                  </a:moveTo>
                  <a:cubicBezTo>
                    <a:pt x="156" y="8"/>
                    <a:pt x="312" y="0"/>
                    <a:pt x="384" y="64"/>
                  </a:cubicBezTo>
                  <a:cubicBezTo>
                    <a:pt x="456" y="128"/>
                    <a:pt x="424" y="344"/>
                    <a:pt x="432" y="4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3"/>
            <p:cNvSpPr/>
            <p:nvPr/>
          </p:nvSpPr>
          <p:spPr>
            <a:xfrm>
              <a:off x="9347040" y="3146400"/>
              <a:ext cx="711360" cy="635400"/>
            </a:xfrm>
            <a:custGeom>
              <a:avLst/>
              <a:gdLst>
                <a:gd name="textAreaLeft" fmla="*/ 0 w 711360"/>
                <a:gd name="textAreaRight" fmla="*/ 711720 w 711360"/>
                <a:gd name="textAreaTop" fmla="*/ 0 h 635400"/>
                <a:gd name="textAreaBottom" fmla="*/ 635760 h 635400"/>
              </a:gdLst>
              <a:ahLst/>
              <a:rect l="textAreaLeft" t="textAreaTop" r="textAreaRight" b="textAreaBottom"/>
              <a:pathLst>
                <a:path w="448" h="456">
                  <a:moveTo>
                    <a:pt x="64" y="456"/>
                  </a:moveTo>
                  <a:cubicBezTo>
                    <a:pt x="32" y="300"/>
                    <a:pt x="0" y="144"/>
                    <a:pt x="64" y="72"/>
                  </a:cubicBezTo>
                  <a:cubicBezTo>
                    <a:pt x="128" y="0"/>
                    <a:pt x="384" y="32"/>
                    <a:pt x="448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44"/>
          <p:cNvSpPr/>
          <p:nvPr/>
        </p:nvSpPr>
        <p:spPr>
          <a:xfrm>
            <a:off x="8754480" y="1355760"/>
            <a:ext cx="101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5"/>
          <p:cNvSpPr/>
          <p:nvPr/>
        </p:nvSpPr>
        <p:spPr>
          <a:xfrm>
            <a:off x="8736480" y="2346480"/>
            <a:ext cx="176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Linked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6"/>
          <p:cNvSpPr/>
          <p:nvPr/>
        </p:nvSpPr>
        <p:spPr>
          <a:xfrm>
            <a:off x="2394000" y="5089680"/>
            <a:ext cx="82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7"/>
          <p:cNvSpPr/>
          <p:nvPr/>
        </p:nvSpPr>
        <p:spPr>
          <a:xfrm>
            <a:off x="5241240" y="4861080"/>
            <a:ext cx="108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8865720" y="4937040"/>
            <a:ext cx="947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  <a:ea typeface="PMingLiU"/>
              </a:rPr>
              <a:t>St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le 1"/>
          <p:cNvSpPr/>
          <p:nvPr/>
        </p:nvSpPr>
        <p:spPr>
          <a:xfrm>
            <a:off x="2209680" y="142920"/>
            <a:ext cx="7772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s of 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39520" y="188640"/>
            <a:ext cx="7248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Need for Data Structur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26828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e da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: to facilitat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da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Iss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nd desig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priate data type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 is the main motivation to learn and understand data structu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2e75b6"/>
                </a:solidFill>
                <a:latin typeface="Times New Roman"/>
                <a:ea typeface="Times New Roman"/>
              </a:rPr>
              <a:t>(Demonstrate using class room example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er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ing each data element exactly once so that certain items in the data may be proces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r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ing the location of the data element (key) in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a new data element to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98640" y="1155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Data Structure Operation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52480" y="1142640"/>
            <a:ext cx="822960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a data element from the stru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the data elements in a logical order (ascending/descend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data elements from two or more data structures into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lgorithm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809360" y="1214280"/>
            <a:ext cx="87152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nite set of instructions which accomplish a particular ta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thod or process to solve a probl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s input of a problem to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= Input + Process +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546a"/>
                </a:solidFill>
                <a:latin typeface="Times New Roman"/>
                <a:ea typeface="Times New Roman"/>
              </a:rPr>
              <a:t>Algorithm development is an art – it needs practice, practice and only practic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a Good 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</a:t>
            </a: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063520" y="1214280"/>
            <a:ext cx="813564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corr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finite (in terms of time and s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terminat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unambigu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tep is nex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must be space and time effici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gram is an instance of an algorithm, written in some specific programming langu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1425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Simple Algorithm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38080" y="1213920"/>
            <a:ext cx="8786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: Find maximum of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 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=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t max =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 &gt; max 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c &gt; max t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ax = 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splay ma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er is very important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velopment: Basic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809360" y="1341000"/>
            <a:ext cx="8534520" cy="49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identif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put is requir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inpu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eps are required to transform input into out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st crucial b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s problem solving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oblem can be solved in many different w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olution, amongst the different possible solutions is optima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w to express an algorithm?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809360" y="1125000"/>
            <a:ext cx="8715240" cy="516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equence of steps to solve a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5800" indent="-6858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a way to express this sequence of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language (NL) is an obvious choice, but not a good choice.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Ls are notoriously ambiguous (uncle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ing language (PL) is another choice, but again not a good choice. Why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hm should be PL in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some balanc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PL independe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clar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ode provides the right bal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Pseudo-code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809360" y="1197000"/>
            <a:ext cx="871524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ode is a short hand way of describing a computer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her than using the specific syntax of a computer language, more general wording is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mixture of NL and PL expressions, in a systematic w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pseudo-code, it is easier for a non-programmer to understand the general workings of the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Overvie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tructor inform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hulud Alsult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fice: building #26, lab: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kalsultan1@ksu.edu.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urse homepag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fac.ksu.edu.sa/kalsultan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09360" y="4251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seudo-code: General Guideline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809360" y="142884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Ls construct that are consistent with modern high level languages, e.g. C++, Java,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ppropriate comments for c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simple and prec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809360" y="1428840"/>
            <a:ext cx="8715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mathematical symbols ar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ft arrow sign (←) as the assignment operator in assignment statements (equivalent to the = operator in J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 sign (=) as the equality relation in Boolean expressions (equivalent to the "= =" relation in Jav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2462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← 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← Sum +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final value of su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structu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-then-else logi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ue-actions 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lse-actions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indentation to indicate what actions should be included in the true-actions and false-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rks &gt; 50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Congratulation, you are passed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Sorry, you are failed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7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 if marks are equal to 75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indentation to indicate what actions should be included in the loop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nter &lt; 5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wh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 if counter is initialised to 0, 7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riable-increment-definition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unter ← 0; counter &lt; 5; counter ← counter + 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ps (Repet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-condition lo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loop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on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246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 “Welcome to CS204!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← counter 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r &lt;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ll be the output, if counter was initialised to 10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dy of a post-condition loop must execute at least o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decla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_type method_name (parameter_list) method_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669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.method (ar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calculator.sum(num1, num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retur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2240" indent="-255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nteger num1, integer num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←  num1 + num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ul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794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onents of Pseudo-code (cont.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252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* Multiple line comments go here. *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Single line comments go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eople prefer braces {}, for com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[i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present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cell in the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ells of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elled arra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dexed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0]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1] (consistent with Jav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54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38080" y="142920"/>
            <a:ext cx="8715240" cy="62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gorithm Design: Practice 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809360" y="1052280"/>
            <a:ext cx="87152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6664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1: Determining even/odd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 divisible by 2 is considered an even number, while a number which is not divisible by 2 is considered an odd number. Write pseudo-code to display first N odd/even numb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6664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2: Computing Weekly 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09720" indent="-343080"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pay depends on the pay rate and the number of hours worked per week. However, if you work more than 40 hours, you get paid time-and-a-half for all hours worked over 40. Write the pseudo-code to compute gross pay given pay rate and hours work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Cour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familiar with problem solv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develop (and implement) algorith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trace algorith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ble to select appropriate data structures and algorithms for given problem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en/ Odd Number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←0; num&lt;=range; num←num+1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% 2 = 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um is 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num is o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38080" y="142560"/>
            <a:ext cx="87152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puting weekly wages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809360" y="1268280"/>
            <a:ext cx="8715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hours_worked, pay_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hours_worked &lt;= 40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_pay ← pay_rate x hours_wor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asic_pay ← pay_rate x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_time ← hours_worked – 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ver_time_pay ← 1.5 x pay_rate x over_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ross_pay ← basic_pay + over_time_p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gross_p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Java Programming Basic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62" name="Content Placeholder 3" descr=""/>
          <p:cNvPicPr/>
          <p:nvPr/>
        </p:nvPicPr>
        <p:blipFill>
          <a:blip r:embed="rId1"/>
          <a:stretch/>
        </p:blipFill>
        <p:spPr>
          <a:xfrm>
            <a:off x="1706400" y="1566720"/>
            <a:ext cx="906012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ole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olean value: true or fal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-bit Unicode charac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se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-bit signed two’s complement integ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2-bit floating- point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4-bit floating- point numb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opics to be cover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damentals of data structures and algorith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c and dynamic data structur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earching and sorting algorith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data typ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s and que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Textbook and Reference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Book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&amp; Algorithms in JAV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on), by M. Goodrich &amp; R. Tamassia, John Wiley &amp; Sons, inc.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ead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s and Problem Solving with JAVA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ion), by Mark Allen Weiss, Addison Wesley, 2006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slides and handou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Grading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policy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14720" y="1943280"/>
          <a:ext cx="8127720" cy="3535200"/>
        </p:xfrm>
        <a:graphic>
          <a:graphicData uri="http://schemas.openxmlformats.org/drawingml/2006/table">
            <a:tbl>
              <a:tblPr/>
              <a:tblGrid>
                <a:gridCol w="4871880"/>
                <a:gridCol w="3255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rse Assessment 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d-term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d-term exa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izz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rk, participation &amp; Tutor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 Light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requisi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ariables and express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thods (functions or procedures 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cision structures( like if-statements and switch-statemen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teration structures (for-loops and while-loops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ection of facts from which conclusion may be draw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Data: Temperature 35°C;  Conclusion: It is h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ual: For example, your name (Aly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eric: For example, your ID (09025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: For example, your vo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: For example, your voice and pic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is data structure?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cular way of storing and organizing data in a computer so that it can be used efficiently and effective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ructure is the logical or mathematical model of a particular organization of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oup of data elements grouped together under one nam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n array of inte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01:48:50Z</dcterms:created>
  <dc:creator>K AlSultan</dc:creator>
  <dc:description/>
  <dc:language>en-US</dc:language>
  <cp:lastModifiedBy>K AlSultan</cp:lastModifiedBy>
  <dcterms:modified xsi:type="dcterms:W3CDTF">2015-02-09T21:07:34Z</dcterms:modified>
  <cp:revision>17</cp:revision>
  <dc:subject/>
  <dc:title>Introduction</dc:title>
</cp:coreProperties>
</file>