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DAD-5565-4304-842D-E8CD7D27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4A3F-9EAD-430D-B5C1-55EA725CB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E541-570F-4778-88E4-31A15AA9B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53C-114D-4A96-A41D-6A2148464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8AC-D837-4AE6-9AA9-CA699AC1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B21-41D3-4BC3-A8FF-679C33C7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800-7825-4CB5-813A-FD6DA15B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C2F-4F54-407D-ADD5-8ECE6D8A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758-1DE8-4163-ADE2-8D1D72E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B1D-9674-454F-9B06-7F53A65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F90-F5E6-41C4-9EFF-89F352F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FA1-FF0C-4F54-9F88-FCEB575F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E38-2A29-4322-83EA-0BBA0D5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4A6-40AA-4820-AD65-8340223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F32-62B7-4623-8A58-9324C14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F14-4B0D-4663-A0A7-A20C863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ED8D-079C-42EE-A8E4-486704B65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alsultan1@ksu.edu.sa" TargetMode="External"/><Relationship Id="rId2" Type="http://schemas.openxmlformats.org/officeDocument/2006/relationships/hyperlink" Target="http://fac.ksu.edu.sa/kalsultan1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GC 211:Data Structures</a:t>
            </a:r>
            <a:br>
              <a:rPr sz="6000"/>
            </a:b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Week#1: Overview &amp; Review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slides are borrowed from Mr. Mohammad Alqahtan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68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80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94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106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110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Linked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2209680" y="1429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da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ss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priate data type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09360" y="1214280"/>
            <a:ext cx="87152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63520" y="1214280"/>
            <a:ext cx="81356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38080" y="1213920"/>
            <a:ext cx="878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809360" y="1125000"/>
            <a:ext cx="871524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some balan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cla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09360" y="1197000"/>
            <a:ext cx="87152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tructor inform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hulud Alsul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e: building #26, lab: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kalsultan1@ksu.edu.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urse homep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fac.ksu.edu.sa/kalsultan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9360" y="4251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809360" y="142884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809360" y="142884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_type method_name (parameter_list) method_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09360" y="1052280"/>
            <a:ext cx="87152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6664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Cour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Java Programming Basic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value: true or fal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-bit Unicode charac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-bit floating- point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-bit floating- point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data structures and algorith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and dynamic data struc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earching and sorting algorith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data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s and que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extbook and Reference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Book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&amp; Algorithms in JAV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on), by M. Goodrich &amp; R. Tamassia, John Wiley &amp; Sons, inc.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ead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and Problem Solving with JAV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on), by Mark Allen Weiss, Addison Wesley, 20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slides and hando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Grad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policy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14720" y="1943280"/>
          <a:ext cx="8127720" cy="3535200"/>
        </p:xfrm>
        <a:graphic>
          <a:graphicData uri="http://schemas.openxmlformats.org/drawingml/2006/table">
            <a:tbl>
              <a:tblPr/>
              <a:tblGrid>
                <a:gridCol w="4871880"/>
                <a:gridCol w="325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Assessment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d-term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d-term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z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, participation &amp; Tutor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requisi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s and express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 (functions or procedures 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ision structures( like if-statements and switch-statem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eration structures (for-loops and while-loops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K AlSultan</cp:lastModifiedBy>
  <dcterms:modified xsi:type="dcterms:W3CDTF">2015-02-09T21:07:34Z</dcterms:modified>
  <cp:revision>17</cp:revision>
  <dc:subject/>
  <dc:title>Introduction</dc:title>
</cp:coreProperties>
</file>