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28576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667C27CE-0094-43A2-B24D-5CD1090184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0831-8EFA-4477-B5C7-0CD3E4F5CAC1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FDDB-7C9E-4841-8594-34A03E614729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AB1C-42EB-4D24-B282-C17985E9C923}" type="slidenum">
              <a:rPr b="0" i="1" lang="en-C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i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5E8-3AD2-460A-9189-DDD3A6D5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34D-B82B-41D8-9B07-7E88EF45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E047C8-C30C-46DF-991B-11E3465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91D06-1C51-4139-B80D-4785616C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EF02F-B5E3-4D97-9A1B-F0A2C30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152FD0-0430-4126-880D-3FA8394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F7C89E-1E55-4AE1-9613-38426C7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A40A69-6B4E-47B2-B100-8C9F7D8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73A3B-C951-478E-ACA5-F4313E2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F8917-3398-48D5-AC6B-FAA8F788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A142C9-FC3D-4BF4-AA6E-3DF611B3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0D2020-E3CE-4FC4-B0B6-A7D1DD21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FBD-E06B-40DE-B7AE-6F8A08EE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59A47A-EC76-4BF7-838D-8761DB4D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62DDB9-9B22-4EDF-ADF3-E2C15C4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FD2ED0-E591-4C34-879D-4CA88EEC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CB548-13DB-46DA-93AD-9B57B21C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D212FD-8E5F-48D6-AB43-8D3C3487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0125CD-F49D-47C1-BC53-6F34360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A2344E-3F8B-4AC5-B15C-7BE88B2F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86CD3F-BDB1-47E2-BCBD-1D2C9A86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A7629B-A96B-40F2-B242-89AC126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9255DF-76A3-48DB-939D-705326BF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621-7FA6-4989-B33B-CB68F988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B43945-6EC0-41D5-BFD7-EAD96726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6CA8F-F253-42BA-9D19-7D7D619E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08EF-55EE-48F3-BAAE-4CF1A7D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FFCC1-AC1A-4C61-8E6A-3209C63F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313FF-F4E2-4304-AB20-E3E63748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281A4-0AFA-454C-B7A9-891D2DBD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0B4E4-6A61-41AB-9307-1F2B2C0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431E1-8072-48C6-B6EC-87F1389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4BBA9-FD99-4AAA-9353-44D8A718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B359F-FA81-484C-8760-6D70EE0A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08531-4AE9-469E-A7DC-F694107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40E52-EF63-400F-8B20-61564A6C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DDB49-0CB9-4F25-843D-1BE75EE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6D37C-D814-41A5-B446-AC3696EC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FC92BD-3CBE-49A1-A616-B6D3BF25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0D01D-AEA9-4D37-9971-76F370F8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C0A45-4C85-495A-8E3B-47D07331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2FC81-FB39-4CC6-8662-0300F1C3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BF6273-348F-49E7-BCC4-769159E0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02361-0DB8-4117-B763-B278B62C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25E5E-06D9-437D-BFEC-BB3C03B7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D2E58-7C25-4D38-BA9B-C0BE81D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B116-A257-4211-BF36-59454E5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C4FDC-FDAC-43CF-A207-C1BF949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E7042-2CFF-4CA1-9DE7-FCA66FD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581A1-2398-43C3-8671-FBF1E589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ED143-8D6D-4B16-9B5E-24B0D515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25EB-0E41-476F-A6FE-FF40E881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4DAB-2DE8-43F4-A814-EC55870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D5411-C884-4AE7-B587-2AB98B3E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AF573-55E6-4EDF-9CAC-E9BF6004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19EB8-F135-4AF0-8D5D-BC56D4A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C0E-13CE-4C33-A431-4040796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FCDB5-541E-473E-871C-547912B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144E8-FD12-42B2-AA5E-90E41C36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5021-EEF6-4C4F-86C8-936B1069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1A52D-1387-45C9-AD62-8463753B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A9FF3-F4E5-4EA2-99DB-89A007B8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B667A-3E3A-405D-BF7E-5255C6DE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DE958-C3BE-4F1C-984A-CAC8995F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3E529-3466-4416-84AF-6C7DF804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80A8F7-C199-4064-B03E-A847F22B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0F87F-9762-4644-A028-FE71ADC6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BE5-F86B-4382-BE40-25EBDC5C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27B34-9F2D-4383-BD90-269F555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0FC2F-2D39-4E56-8126-BB7DB2DA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D89F4-777B-4156-A3F6-01A7F48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F8264F-7740-49D0-979B-DA4D9A4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8C24BF-315B-47FB-B5EA-622E6C7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21300-FA80-447E-8A44-92987393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65114-8B3F-421E-88D1-0D9067ED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290D1-F07F-43C2-B7CB-BB3C24FF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B1C0-9EFC-4608-8AEC-8764A1ED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E45B-E13E-40E4-A97C-6ECB4045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4683-A151-4046-BCB6-D16ACFAD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A02CC-E732-48D7-BA10-4FDD95B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6A539-93B1-408A-BFFB-BD966DEE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0D9D-18F0-4E46-81E6-BAEF5E9B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E252C-0BD7-4B02-9A93-D7B93BFF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0D81-C76D-4D6F-81BE-FB38A437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FE0F6-006A-4F60-8E15-D6D69FD2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95405-8DAB-417E-843D-084454AF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4B27-47F8-4F23-AA0E-5804D200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11E7D-FD18-4DA2-BDF0-2B7775B8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E475D-115C-41A5-BFD3-EE343348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705-7401-4A32-A41D-226B2E63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94A5-71B7-4171-B919-712D4435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16DB-FE3C-441F-92F7-7566BDC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E4E9-7671-4BB9-82F7-4C02175D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AF18-8890-448F-B504-013EC397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1ED2-9A96-448B-B6C4-C1B30F2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1D009-FBFA-4CDF-8986-AE51F601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5A68-A95E-4F84-A4B1-236B4B47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FE87-466A-4F61-819A-7469827B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D28C-5E49-4E26-B624-D4286D16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19CE5-12D0-481F-9763-8ACDA41D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B140-58FB-4D44-AC33-110359B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EEBB0-1783-4CD7-8CE4-0440DF6B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F380D-C75A-4519-B0C2-29D0FAE5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B2F3C9-16B8-4235-B95B-0945C2E5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3EC5D3-2C8D-4944-B4F0-C20DCB88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9DDB7-788A-4943-A9AC-D8583B5C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338B49-8469-46BF-866F-F7DBB8CD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5E4A6-7CF4-47D7-B9EE-6A005FB8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4AAEF-A25D-4561-91BD-B4812993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4AC188-ACCE-4E9C-A22A-DBB1F9EB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4A178F-C9FA-4601-AC08-BB099E46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C33-35B4-4129-A9B4-26D4A66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BCC38-C642-4268-9722-FD67B481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02FE6-7C94-4E30-B542-A31FDA38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E06733-020D-4402-B0D2-4326D9A3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B9DA7-DF4B-4E97-92CC-080F7A76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5E86-1A7E-4D9A-8551-12D2E947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313E2-FACB-4944-8F93-1DFEEA3C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59457-6FBC-43F9-B59B-31B2247C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72953-0BDA-4C7D-A234-CE72AB9D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FA760-299C-4A25-AD40-3C1399B4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B783A-ECEB-486C-BEC9-BC2DDEA2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C47-0DEA-423A-AC18-7451C665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67AD-BB69-4677-A3CE-4E2078EA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F828-0515-4E06-AC26-13EE8DAB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47021-BC74-41DC-ABE0-32BC80C9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5E89-B1B4-4EB2-B622-6C166F6C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08368-296C-4064-8FE6-5D705DF0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19AC-6FC0-4FFF-A4BB-B0BFF634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CBBB5-C688-40D2-BAC1-55F2EC5D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494F-2CED-47A2-9443-E12167EE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346F1-9360-4449-B773-C1DF3D3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5D5AF-2C24-4F2D-8E1B-8F9A299D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415-6FD0-4D04-BF6A-8C4ABEC9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BCD7F-C267-4ACD-ACEE-F1F7461D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B1022-FEC3-46D6-AB2C-902B86CA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59291-EFB9-4404-9AD7-0D5D597E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0AC3A-AD1F-408E-9A45-162E6563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237F-9B93-4C66-AAC2-706F1CA3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C0796-DB30-4DAD-8122-7B386C15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977B1-649D-4D4A-BF57-A082BD26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3918D4-964D-429B-94EC-8A9AA644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6AB4EA-82B8-4839-89CD-8503930B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D353C-138E-4A2D-9E5E-4FFD6773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C6B3F97-BDCD-43D7-94F4-DD09090DE82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484CE688-668A-46F4-83E2-3AF80836C217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3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859E238D-9DB2-4AFE-8AB4-C98A56347A1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0301A5D8-3E6E-435C-B76B-68C954F02DF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1-</a:t>
            </a:r>
            <a:fld id="{11274D97-3BB4-42AD-9DA4-10E448A2DC5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5402BEA3-BB50-4DEB-A62F-FF0B4F1525A3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ED962EE2-7EDC-4B89-9B90-0AADA2C52B6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4F30F5C7-F9E8-4AEB-BD2E-0FBB8566C5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9BA9F339-4771-4D14-9DA1-6BCECEE34AB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dt" idx="1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772E9A4F-ED81-4119-82E8-F3737822318D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042AF86E-B24E-4455-967D-43296D578956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6FB0CF4-61F7-409D-BADA-35FFA023F5A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3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d26"/>
                </a:solidFill>
                <a:latin typeface="Constantia"/>
              </a:rPr>
              <a:t>Frequency Distribution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d26"/>
                </a:solidFill>
                <a:latin typeface="Constantia"/>
              </a:rPr>
              <a:t>Dr. Wajed Hatamleh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03" name="Title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54040"/>
          </a:xfrm>
          <a:prstGeom prst="rect">
            <a:avLst/>
          </a:prstGeom>
          <a:ln w="0">
            <a:noFill/>
          </a:ln>
        </p:spPr>
      </p:pic>
      <p:sp>
        <p:nvSpPr>
          <p:cNvPr id="50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1-</a:t>
            </a:r>
            <a:fld id="{92A637B2-C307-4B4F-BA01-AECD6E5582A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have not been summarized in any way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are also called </a:t>
            </a:r>
            <a:r>
              <a:rPr b="1" lang="en-US" sz="3000" spc="-1" strike="noStrike" u="sng">
                <a:solidFill>
                  <a:srgbClr val="444d26"/>
                </a:solidFill>
                <a:uFillTx/>
                <a:latin typeface="Constantia"/>
              </a:rPr>
              <a:t>raw data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44d26"/>
                </a:solidFill>
                <a:latin typeface="Constantia"/>
              </a:rPr>
              <a:t>have been organized into a frequency distribution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552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01AC96AF-A858-4D09-BE05-4A02F7EBF71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4" name="Rectangle 4" descr=""/>
          <p:cNvPicPr/>
          <p:nvPr/>
        </p:nvPicPr>
        <p:blipFill>
          <a:blip r:embed="rId1"/>
          <a:stretch/>
        </p:blipFill>
        <p:spPr>
          <a:xfrm>
            <a:off x="774720" y="208080"/>
            <a:ext cx="7358040" cy="138888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F96E5052-7486-49ED-A4E8-95B0C752F1D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9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5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Group 60"/>
          <p:cNvGrpSpPr/>
          <p:nvPr/>
        </p:nvGrpSpPr>
        <p:grpSpPr>
          <a:xfrm>
            <a:off x="1904400" y="2209680"/>
            <a:ext cx="2631960" cy="3557880"/>
            <a:chOff x="1904400" y="2209680"/>
            <a:chExt cx="2631960" cy="3557880"/>
          </a:xfrm>
        </p:grpSpPr>
        <p:grpSp>
          <p:nvGrpSpPr>
            <p:cNvPr id="563" name="Group 15"/>
            <p:cNvGrpSpPr/>
            <p:nvPr/>
          </p:nvGrpSpPr>
          <p:grpSpPr>
            <a:xfrm>
              <a:off x="1904400" y="2209680"/>
              <a:ext cx="379440" cy="3557880"/>
              <a:chOff x="1904400" y="2209680"/>
              <a:chExt cx="379440" cy="3557880"/>
            </a:xfrm>
          </p:grpSpPr>
          <p:sp>
            <p:nvSpPr>
              <p:cNvPr id="564" name="Rectangle 5"/>
              <p:cNvSpPr/>
              <p:nvPr/>
            </p:nvSpPr>
            <p:spPr>
              <a:xfrm>
                <a:off x="190440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Rectangle 6"/>
              <p:cNvSpPr/>
              <p:nvPr/>
            </p:nvSpPr>
            <p:spPr>
              <a:xfrm>
                <a:off x="190440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Rectangle 7"/>
              <p:cNvSpPr/>
              <p:nvPr/>
            </p:nvSpPr>
            <p:spPr>
              <a:xfrm>
                <a:off x="190440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Rectangle 8"/>
              <p:cNvSpPr/>
              <p:nvPr/>
            </p:nvSpPr>
            <p:spPr>
              <a:xfrm>
                <a:off x="190440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Rectangle 9"/>
              <p:cNvSpPr/>
              <p:nvPr/>
            </p:nvSpPr>
            <p:spPr>
              <a:xfrm>
                <a:off x="190440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Rectangle 10"/>
              <p:cNvSpPr/>
              <p:nvPr/>
            </p:nvSpPr>
            <p:spPr>
              <a:xfrm>
                <a:off x="190440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Rectangle 11"/>
              <p:cNvSpPr/>
              <p:nvPr/>
            </p:nvSpPr>
            <p:spPr>
              <a:xfrm>
                <a:off x="190440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Rectangle 12"/>
              <p:cNvSpPr/>
              <p:nvPr/>
            </p:nvSpPr>
            <p:spPr>
              <a:xfrm>
                <a:off x="190440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Rectangle 13"/>
              <p:cNvSpPr/>
              <p:nvPr/>
            </p:nvSpPr>
            <p:spPr>
              <a:xfrm>
                <a:off x="190440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Rectangle 14"/>
              <p:cNvSpPr/>
              <p:nvPr/>
            </p:nvSpPr>
            <p:spPr>
              <a:xfrm>
                <a:off x="190440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7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Group 26"/>
            <p:cNvGrpSpPr/>
            <p:nvPr/>
          </p:nvGrpSpPr>
          <p:grpSpPr>
            <a:xfrm>
              <a:off x="2467800" y="2209680"/>
              <a:ext cx="379440" cy="3557880"/>
              <a:chOff x="2467800" y="2209680"/>
              <a:chExt cx="379440" cy="3557880"/>
            </a:xfrm>
          </p:grpSpPr>
          <p:sp>
            <p:nvSpPr>
              <p:cNvPr id="575" name="Rectangle 16"/>
              <p:cNvSpPr/>
              <p:nvPr/>
            </p:nvSpPr>
            <p:spPr>
              <a:xfrm>
                <a:off x="246780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Rectangle 17"/>
              <p:cNvSpPr/>
              <p:nvPr/>
            </p:nvSpPr>
            <p:spPr>
              <a:xfrm>
                <a:off x="246780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Rectangle 18"/>
              <p:cNvSpPr/>
              <p:nvPr/>
            </p:nvSpPr>
            <p:spPr>
              <a:xfrm>
                <a:off x="246780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Rectangle 19"/>
              <p:cNvSpPr/>
              <p:nvPr/>
            </p:nvSpPr>
            <p:spPr>
              <a:xfrm>
                <a:off x="246780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Rectangle 20"/>
              <p:cNvSpPr/>
              <p:nvPr/>
            </p:nvSpPr>
            <p:spPr>
              <a:xfrm>
                <a:off x="246780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Rectangle 21"/>
              <p:cNvSpPr/>
              <p:nvPr/>
            </p:nvSpPr>
            <p:spPr>
              <a:xfrm>
                <a:off x="246780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Rectangle 22"/>
              <p:cNvSpPr/>
              <p:nvPr/>
            </p:nvSpPr>
            <p:spPr>
              <a:xfrm>
                <a:off x="246780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Rectangle 23"/>
              <p:cNvSpPr/>
              <p:nvPr/>
            </p:nvSpPr>
            <p:spPr>
              <a:xfrm>
                <a:off x="246780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Rectangle 24"/>
              <p:cNvSpPr/>
              <p:nvPr/>
            </p:nvSpPr>
            <p:spPr>
              <a:xfrm>
                <a:off x="246780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Rectangle 25"/>
              <p:cNvSpPr/>
              <p:nvPr/>
            </p:nvSpPr>
            <p:spPr>
              <a:xfrm>
                <a:off x="246780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37"/>
            <p:cNvGrpSpPr/>
            <p:nvPr/>
          </p:nvGrpSpPr>
          <p:grpSpPr>
            <a:xfrm>
              <a:off x="3030120" y="2209680"/>
              <a:ext cx="379440" cy="3557880"/>
              <a:chOff x="3030120" y="2209680"/>
              <a:chExt cx="379440" cy="3557880"/>
            </a:xfrm>
          </p:grpSpPr>
          <p:sp>
            <p:nvSpPr>
              <p:cNvPr id="586" name="Rectangle 27"/>
              <p:cNvSpPr/>
              <p:nvPr/>
            </p:nvSpPr>
            <p:spPr>
              <a:xfrm>
                <a:off x="30301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Rectangle 28"/>
              <p:cNvSpPr/>
              <p:nvPr/>
            </p:nvSpPr>
            <p:spPr>
              <a:xfrm>
                <a:off x="30301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Rectangle 29"/>
              <p:cNvSpPr/>
              <p:nvPr/>
            </p:nvSpPr>
            <p:spPr>
              <a:xfrm>
                <a:off x="30301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Rectangle 30"/>
              <p:cNvSpPr/>
              <p:nvPr/>
            </p:nvSpPr>
            <p:spPr>
              <a:xfrm>
                <a:off x="30301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Rectangle 31"/>
              <p:cNvSpPr/>
              <p:nvPr/>
            </p:nvSpPr>
            <p:spPr>
              <a:xfrm>
                <a:off x="30301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Rectangle 32"/>
              <p:cNvSpPr/>
              <p:nvPr/>
            </p:nvSpPr>
            <p:spPr>
              <a:xfrm>
                <a:off x="30301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Rectangle 33"/>
              <p:cNvSpPr/>
              <p:nvPr/>
            </p:nvSpPr>
            <p:spPr>
              <a:xfrm>
                <a:off x="30301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Rectangle 34"/>
              <p:cNvSpPr/>
              <p:nvPr/>
            </p:nvSpPr>
            <p:spPr>
              <a:xfrm>
                <a:off x="30301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Rectangle 35"/>
              <p:cNvSpPr/>
              <p:nvPr/>
            </p:nvSpPr>
            <p:spPr>
              <a:xfrm>
                <a:off x="30301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Rectangle 36"/>
              <p:cNvSpPr/>
              <p:nvPr/>
            </p:nvSpPr>
            <p:spPr>
              <a:xfrm>
                <a:off x="30301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48"/>
            <p:cNvGrpSpPr/>
            <p:nvPr/>
          </p:nvGrpSpPr>
          <p:grpSpPr>
            <a:xfrm>
              <a:off x="3593520" y="2209680"/>
              <a:ext cx="379440" cy="3557880"/>
              <a:chOff x="3593520" y="2209680"/>
              <a:chExt cx="379440" cy="3557880"/>
            </a:xfrm>
          </p:grpSpPr>
          <p:sp>
            <p:nvSpPr>
              <p:cNvPr id="597" name="Rectangle 38"/>
              <p:cNvSpPr/>
              <p:nvPr/>
            </p:nvSpPr>
            <p:spPr>
              <a:xfrm>
                <a:off x="35935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Rectangle 39"/>
              <p:cNvSpPr/>
              <p:nvPr/>
            </p:nvSpPr>
            <p:spPr>
              <a:xfrm>
                <a:off x="35935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Rectangle 40"/>
              <p:cNvSpPr/>
              <p:nvPr/>
            </p:nvSpPr>
            <p:spPr>
              <a:xfrm>
                <a:off x="35935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Rectangle 41"/>
              <p:cNvSpPr/>
              <p:nvPr/>
            </p:nvSpPr>
            <p:spPr>
              <a:xfrm>
                <a:off x="35935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Rectangle 42"/>
              <p:cNvSpPr/>
              <p:nvPr/>
            </p:nvSpPr>
            <p:spPr>
              <a:xfrm>
                <a:off x="35935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Rectangle 43"/>
              <p:cNvSpPr/>
              <p:nvPr/>
            </p:nvSpPr>
            <p:spPr>
              <a:xfrm>
                <a:off x="35935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Rectangle 44"/>
              <p:cNvSpPr/>
              <p:nvPr/>
            </p:nvSpPr>
            <p:spPr>
              <a:xfrm>
                <a:off x="35935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Rectangle 45"/>
              <p:cNvSpPr/>
              <p:nvPr/>
            </p:nvSpPr>
            <p:spPr>
              <a:xfrm>
                <a:off x="35935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Rectangle 46"/>
              <p:cNvSpPr/>
              <p:nvPr/>
            </p:nvSpPr>
            <p:spPr>
              <a:xfrm>
                <a:off x="35935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47"/>
              <p:cNvSpPr/>
              <p:nvPr/>
            </p:nvSpPr>
            <p:spPr>
              <a:xfrm>
                <a:off x="35935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59"/>
            <p:cNvGrpSpPr/>
            <p:nvPr/>
          </p:nvGrpSpPr>
          <p:grpSpPr>
            <a:xfrm>
              <a:off x="4156920" y="2209680"/>
              <a:ext cx="379440" cy="3557880"/>
              <a:chOff x="4156920" y="2209680"/>
              <a:chExt cx="379440" cy="3557880"/>
            </a:xfrm>
          </p:grpSpPr>
          <p:sp>
            <p:nvSpPr>
              <p:cNvPr id="608" name="Rectangle 49"/>
              <p:cNvSpPr/>
              <p:nvPr/>
            </p:nvSpPr>
            <p:spPr>
              <a:xfrm>
                <a:off x="4156920" y="22096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Rectangle 50"/>
              <p:cNvSpPr/>
              <p:nvPr/>
            </p:nvSpPr>
            <p:spPr>
              <a:xfrm>
                <a:off x="4156920" y="25714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Rectangle 51"/>
              <p:cNvSpPr/>
              <p:nvPr/>
            </p:nvSpPr>
            <p:spPr>
              <a:xfrm>
                <a:off x="4156920" y="2933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Rectangle 52"/>
              <p:cNvSpPr/>
              <p:nvPr/>
            </p:nvSpPr>
            <p:spPr>
              <a:xfrm>
                <a:off x="4156920" y="32936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Rectangle 53"/>
              <p:cNvSpPr/>
              <p:nvPr/>
            </p:nvSpPr>
            <p:spPr>
              <a:xfrm>
                <a:off x="4156920" y="36558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2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Rectangle 54"/>
              <p:cNvSpPr/>
              <p:nvPr/>
            </p:nvSpPr>
            <p:spPr>
              <a:xfrm>
                <a:off x="4156920" y="4017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Rectangle 55"/>
              <p:cNvSpPr/>
              <p:nvPr/>
            </p:nvSpPr>
            <p:spPr>
              <a:xfrm>
                <a:off x="4156920" y="43797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Rectangle 56"/>
              <p:cNvSpPr/>
              <p:nvPr/>
            </p:nvSpPr>
            <p:spPr>
              <a:xfrm>
                <a:off x="4156920" y="47415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Rectangle 57"/>
              <p:cNvSpPr/>
              <p:nvPr/>
            </p:nvSpPr>
            <p:spPr>
              <a:xfrm>
                <a:off x="4156920" y="51037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6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Rectangle 58"/>
              <p:cNvSpPr/>
              <p:nvPr/>
            </p:nvSpPr>
            <p:spPr>
              <a:xfrm>
                <a:off x="4156920" y="54655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a5b592"/>
                    </a:solidFill>
                    <a:latin typeface="Arial"/>
                  </a:rPr>
                  <a:t>5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8" name="Rectangle 61"/>
          <p:cNvSpPr/>
          <p:nvPr/>
        </p:nvSpPr>
        <p:spPr>
          <a:xfrm>
            <a:off x="5105520" y="2362320"/>
            <a:ext cx="304776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Ages of a Sample of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Nurses Managers from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Times New Roman"/>
              </a:rPr>
              <a:t>KFH, KSA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Class Interval</a:t>
            </a: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	</a:t>
            </a:r>
            <a:r>
              <a:rPr b="1" lang="en-US" sz="2800" spc="-1" strike="noStrike" u="sng">
                <a:solidFill>
                  <a:srgbClr val="444d26"/>
                </a:solidFill>
                <a:uFillTx/>
                <a:latin typeface="Constantia"/>
              </a:rPr>
              <a:t>Frequenc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20-under 3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30-under 4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40-under 5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50-under 6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60-under 7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ctr" pos="1486080"/>
                <a:tab algn="ctr" pos="360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70-under 80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DD0E0BAB-C757-4E84-99F1-D0C3556D14AE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Rectangle 4" descr=""/>
          <p:cNvPicPr/>
          <p:nvPr/>
        </p:nvPicPr>
        <p:blipFill>
          <a:blip r:embed="rId1"/>
          <a:stretch/>
        </p:blipFill>
        <p:spPr>
          <a:xfrm>
            <a:off x="774720" y="133200"/>
            <a:ext cx="7558200" cy="209232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6803648-B73D-4ECF-9B00-AB6927EF605B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Group 60"/>
          <p:cNvGrpSpPr/>
          <p:nvPr/>
        </p:nvGrpSpPr>
        <p:grpSpPr>
          <a:xfrm>
            <a:off x="1121760" y="2173320"/>
            <a:ext cx="2631960" cy="3557880"/>
            <a:chOff x="1121760" y="2173320"/>
            <a:chExt cx="2631960" cy="3557880"/>
          </a:xfrm>
        </p:grpSpPr>
        <p:grpSp>
          <p:nvGrpSpPr>
            <p:cNvPr id="631" name="Group 15"/>
            <p:cNvGrpSpPr/>
            <p:nvPr/>
          </p:nvGrpSpPr>
          <p:grpSpPr>
            <a:xfrm>
              <a:off x="1121760" y="2173320"/>
              <a:ext cx="379440" cy="3557880"/>
              <a:chOff x="1121760" y="2173320"/>
              <a:chExt cx="379440" cy="3557880"/>
            </a:xfrm>
          </p:grpSpPr>
          <p:sp>
            <p:nvSpPr>
              <p:cNvPr id="632" name="Rectangle 5"/>
              <p:cNvSpPr/>
              <p:nvPr/>
            </p:nvSpPr>
            <p:spPr>
              <a:xfrm>
                <a:off x="112176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Rectangle 6"/>
              <p:cNvSpPr/>
              <p:nvPr/>
            </p:nvSpPr>
            <p:spPr>
              <a:xfrm>
                <a:off x="112176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Rectangle 7"/>
              <p:cNvSpPr/>
              <p:nvPr/>
            </p:nvSpPr>
            <p:spPr>
              <a:xfrm>
                <a:off x="112176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Rectangle 8"/>
              <p:cNvSpPr/>
              <p:nvPr/>
            </p:nvSpPr>
            <p:spPr>
              <a:xfrm>
                <a:off x="112176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Rectangle 9"/>
              <p:cNvSpPr/>
              <p:nvPr/>
            </p:nvSpPr>
            <p:spPr>
              <a:xfrm>
                <a:off x="112176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Rectangle 10"/>
              <p:cNvSpPr/>
              <p:nvPr/>
            </p:nvSpPr>
            <p:spPr>
              <a:xfrm>
                <a:off x="112176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Rectangle 11"/>
              <p:cNvSpPr/>
              <p:nvPr/>
            </p:nvSpPr>
            <p:spPr>
              <a:xfrm>
                <a:off x="112176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Rectangle 12"/>
              <p:cNvSpPr/>
              <p:nvPr/>
            </p:nvSpPr>
            <p:spPr>
              <a:xfrm>
                <a:off x="112176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Rectangle 13"/>
              <p:cNvSpPr/>
              <p:nvPr/>
            </p:nvSpPr>
            <p:spPr>
              <a:xfrm>
                <a:off x="112176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Rectangle 14"/>
              <p:cNvSpPr/>
              <p:nvPr/>
            </p:nvSpPr>
            <p:spPr>
              <a:xfrm>
                <a:off x="112176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6"/>
            <p:cNvGrpSpPr/>
            <p:nvPr/>
          </p:nvGrpSpPr>
          <p:grpSpPr>
            <a:xfrm>
              <a:off x="1685160" y="2173320"/>
              <a:ext cx="379440" cy="3557880"/>
              <a:chOff x="1685160" y="2173320"/>
              <a:chExt cx="379440" cy="3557880"/>
            </a:xfrm>
          </p:grpSpPr>
          <p:sp>
            <p:nvSpPr>
              <p:cNvPr id="643" name="Rectangle 16"/>
              <p:cNvSpPr/>
              <p:nvPr/>
            </p:nvSpPr>
            <p:spPr>
              <a:xfrm>
                <a:off x="168516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Rectangle 17"/>
              <p:cNvSpPr/>
              <p:nvPr/>
            </p:nvSpPr>
            <p:spPr>
              <a:xfrm>
                <a:off x="168516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Rectangle 18"/>
              <p:cNvSpPr/>
              <p:nvPr/>
            </p:nvSpPr>
            <p:spPr>
              <a:xfrm>
                <a:off x="168516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Rectangle 19"/>
              <p:cNvSpPr/>
              <p:nvPr/>
            </p:nvSpPr>
            <p:spPr>
              <a:xfrm>
                <a:off x="168516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Rectangle 20"/>
              <p:cNvSpPr/>
              <p:nvPr/>
            </p:nvSpPr>
            <p:spPr>
              <a:xfrm>
                <a:off x="168516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Rectangle 21"/>
              <p:cNvSpPr/>
              <p:nvPr/>
            </p:nvSpPr>
            <p:spPr>
              <a:xfrm>
                <a:off x="168516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Rectangle 22"/>
              <p:cNvSpPr/>
              <p:nvPr/>
            </p:nvSpPr>
            <p:spPr>
              <a:xfrm>
                <a:off x="168516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Rectangle 23"/>
              <p:cNvSpPr/>
              <p:nvPr/>
            </p:nvSpPr>
            <p:spPr>
              <a:xfrm>
                <a:off x="168516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24"/>
              <p:cNvSpPr/>
              <p:nvPr/>
            </p:nvSpPr>
            <p:spPr>
              <a:xfrm>
                <a:off x="168516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25"/>
              <p:cNvSpPr/>
              <p:nvPr/>
            </p:nvSpPr>
            <p:spPr>
              <a:xfrm>
                <a:off x="168516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37"/>
            <p:cNvGrpSpPr/>
            <p:nvPr/>
          </p:nvGrpSpPr>
          <p:grpSpPr>
            <a:xfrm>
              <a:off x="2247120" y="2173320"/>
              <a:ext cx="379440" cy="3557880"/>
              <a:chOff x="2247120" y="2173320"/>
              <a:chExt cx="379440" cy="3557880"/>
            </a:xfrm>
          </p:grpSpPr>
          <p:sp>
            <p:nvSpPr>
              <p:cNvPr id="654" name="Rectangle 27"/>
              <p:cNvSpPr/>
              <p:nvPr/>
            </p:nvSpPr>
            <p:spPr>
              <a:xfrm>
                <a:off x="224712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28"/>
              <p:cNvSpPr/>
              <p:nvPr/>
            </p:nvSpPr>
            <p:spPr>
              <a:xfrm>
                <a:off x="224712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29"/>
              <p:cNvSpPr/>
              <p:nvPr/>
            </p:nvSpPr>
            <p:spPr>
              <a:xfrm>
                <a:off x="224712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30"/>
              <p:cNvSpPr/>
              <p:nvPr/>
            </p:nvSpPr>
            <p:spPr>
              <a:xfrm>
                <a:off x="224712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Rectangle 31"/>
              <p:cNvSpPr/>
              <p:nvPr/>
            </p:nvSpPr>
            <p:spPr>
              <a:xfrm>
                <a:off x="224712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Rectangle 32"/>
              <p:cNvSpPr/>
              <p:nvPr/>
            </p:nvSpPr>
            <p:spPr>
              <a:xfrm>
                <a:off x="224712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33"/>
              <p:cNvSpPr/>
              <p:nvPr/>
            </p:nvSpPr>
            <p:spPr>
              <a:xfrm>
                <a:off x="224712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8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34"/>
              <p:cNvSpPr/>
              <p:nvPr/>
            </p:nvSpPr>
            <p:spPr>
              <a:xfrm>
                <a:off x="224712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35"/>
              <p:cNvSpPr/>
              <p:nvPr/>
            </p:nvSpPr>
            <p:spPr>
              <a:xfrm>
                <a:off x="224712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36"/>
              <p:cNvSpPr/>
              <p:nvPr/>
            </p:nvSpPr>
            <p:spPr>
              <a:xfrm>
                <a:off x="224712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48"/>
            <p:cNvGrpSpPr/>
            <p:nvPr/>
          </p:nvGrpSpPr>
          <p:grpSpPr>
            <a:xfrm>
              <a:off x="2810880" y="2173320"/>
              <a:ext cx="379440" cy="3557880"/>
              <a:chOff x="2810880" y="2173320"/>
              <a:chExt cx="379440" cy="3557880"/>
            </a:xfrm>
          </p:grpSpPr>
          <p:sp>
            <p:nvSpPr>
              <p:cNvPr id="665" name="Rectangle 38"/>
              <p:cNvSpPr/>
              <p:nvPr/>
            </p:nvSpPr>
            <p:spPr>
              <a:xfrm>
                <a:off x="281088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39"/>
              <p:cNvSpPr/>
              <p:nvPr/>
            </p:nvSpPr>
            <p:spPr>
              <a:xfrm>
                <a:off x="281088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Rectangle 40"/>
              <p:cNvSpPr/>
              <p:nvPr/>
            </p:nvSpPr>
            <p:spPr>
              <a:xfrm>
                <a:off x="281088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Rectangle 41"/>
              <p:cNvSpPr/>
              <p:nvPr/>
            </p:nvSpPr>
            <p:spPr>
              <a:xfrm>
                <a:off x="281088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42"/>
              <p:cNvSpPr/>
              <p:nvPr/>
            </p:nvSpPr>
            <p:spPr>
              <a:xfrm>
                <a:off x="281088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43"/>
              <p:cNvSpPr/>
              <p:nvPr/>
            </p:nvSpPr>
            <p:spPr>
              <a:xfrm>
                <a:off x="281088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44"/>
              <p:cNvSpPr/>
              <p:nvPr/>
            </p:nvSpPr>
            <p:spPr>
              <a:xfrm>
                <a:off x="281088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45"/>
              <p:cNvSpPr/>
              <p:nvPr/>
            </p:nvSpPr>
            <p:spPr>
              <a:xfrm>
                <a:off x="281088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6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46"/>
              <p:cNvSpPr/>
              <p:nvPr/>
            </p:nvSpPr>
            <p:spPr>
              <a:xfrm>
                <a:off x="281088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47"/>
              <p:cNvSpPr/>
              <p:nvPr/>
            </p:nvSpPr>
            <p:spPr>
              <a:xfrm>
                <a:off x="281088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9"/>
            <p:cNvGrpSpPr/>
            <p:nvPr/>
          </p:nvGrpSpPr>
          <p:grpSpPr>
            <a:xfrm>
              <a:off x="3374280" y="2173320"/>
              <a:ext cx="379440" cy="3557880"/>
              <a:chOff x="3374280" y="2173320"/>
              <a:chExt cx="379440" cy="3557880"/>
            </a:xfrm>
          </p:grpSpPr>
          <p:sp>
            <p:nvSpPr>
              <p:cNvPr id="676" name="Rectangle 49"/>
              <p:cNvSpPr/>
              <p:nvPr/>
            </p:nvSpPr>
            <p:spPr>
              <a:xfrm>
                <a:off x="3374280" y="21733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7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50"/>
              <p:cNvSpPr/>
              <p:nvPr/>
            </p:nvSpPr>
            <p:spPr>
              <a:xfrm>
                <a:off x="3374280" y="253512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Rectangle 51"/>
              <p:cNvSpPr/>
              <p:nvPr/>
            </p:nvSpPr>
            <p:spPr>
              <a:xfrm>
                <a:off x="3374280" y="28972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9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Rectangle 52"/>
              <p:cNvSpPr/>
              <p:nvPr/>
            </p:nvSpPr>
            <p:spPr>
              <a:xfrm>
                <a:off x="3374280" y="325908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Rectangle 53"/>
              <p:cNvSpPr/>
              <p:nvPr/>
            </p:nvSpPr>
            <p:spPr>
              <a:xfrm>
                <a:off x="3374280" y="361944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Rectangle 54"/>
              <p:cNvSpPr/>
              <p:nvPr/>
            </p:nvSpPr>
            <p:spPr>
              <a:xfrm>
                <a:off x="3374280" y="39816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Rectangle 55"/>
              <p:cNvSpPr/>
              <p:nvPr/>
            </p:nvSpPr>
            <p:spPr>
              <a:xfrm>
                <a:off x="3374280" y="43434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Rectangle 56"/>
              <p:cNvSpPr/>
              <p:nvPr/>
            </p:nvSpPr>
            <p:spPr>
              <a:xfrm>
                <a:off x="3374280" y="470520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Rectangle 57"/>
              <p:cNvSpPr/>
              <p:nvPr/>
            </p:nvSpPr>
            <p:spPr>
              <a:xfrm>
                <a:off x="3374280" y="50673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Rectangle 58"/>
              <p:cNvSpPr/>
              <p:nvPr/>
            </p:nvSpPr>
            <p:spPr>
              <a:xfrm>
                <a:off x="3374280" y="5429160"/>
                <a:ext cx="379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0" i="1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6" name="Oval 61"/>
          <p:cNvSpPr/>
          <p:nvPr/>
        </p:nvSpPr>
        <p:spPr>
          <a:xfrm>
            <a:off x="1092240" y="5435640"/>
            <a:ext cx="406440" cy="330120"/>
          </a:xfrm>
          <a:prstGeom prst="ellipse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Oval 62"/>
          <p:cNvSpPr/>
          <p:nvPr/>
        </p:nvSpPr>
        <p:spPr>
          <a:xfrm>
            <a:off x="2235240" y="3606840"/>
            <a:ext cx="406440" cy="330120"/>
          </a:xfrm>
          <a:prstGeom prst="ellipse">
            <a:avLst/>
          </a:prstGeom>
          <a:noFill/>
          <a:ln w="507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Oval 63"/>
          <p:cNvSpPr/>
          <p:nvPr/>
        </p:nvSpPr>
        <p:spPr>
          <a:xfrm>
            <a:off x="4292640" y="4140360"/>
            <a:ext cx="1549440" cy="482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35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Times New Roman"/>
              </a:rPr>
              <a:t>Smalles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Line 64"/>
          <p:cNvSpPr/>
          <p:nvPr/>
        </p:nvSpPr>
        <p:spPr>
          <a:xfrm flipH="1" flipV="1">
            <a:off x="2565360" y="3784680"/>
            <a:ext cx="1727280" cy="660240"/>
          </a:xfrm>
          <a:prstGeom prst="line">
            <a:avLst/>
          </a:prstGeom>
          <a:ln w="50760">
            <a:solidFill>
              <a:srgbClr val="f35b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Oval 65"/>
          <p:cNvSpPr/>
          <p:nvPr/>
        </p:nvSpPr>
        <p:spPr>
          <a:xfrm>
            <a:off x="4292640" y="4978440"/>
            <a:ext cx="1549440" cy="4824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Times New Roman"/>
              </a:rPr>
              <a:t>Largest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Line 66"/>
          <p:cNvSpPr/>
          <p:nvPr/>
        </p:nvSpPr>
        <p:spPr>
          <a:xfrm flipH="1">
            <a:off x="1498320" y="5283360"/>
            <a:ext cx="2793960" cy="253800"/>
          </a:xfrm>
          <a:prstGeom prst="line">
            <a:avLst/>
          </a:prstGeom>
          <a:ln w="507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2" name="Object 67"/>
          <p:cNvGraphicFramePr/>
          <p:nvPr/>
        </p:nvGraphicFramePr>
        <p:xfrm>
          <a:off x="3973680" y="2146320"/>
          <a:ext cx="4076640" cy="13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3" name="Object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73680" y="2146320"/>
                    <a:ext cx="4076640" cy="1387440"/>
                  </a:xfrm>
                  <a:prstGeom prst="rect">
                    <a:avLst/>
                  </a:prstGeom>
                  <a:ln w="50760">
                    <a:solidFill>
                      <a:srgbClr val="f6bf6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990720" y="1371600"/>
            <a:ext cx="7162560" cy="36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Constantia"/>
              </a:rPr>
              <a:t>The number of classes should be between 5 and 15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Fewer than 5 classes cause excessive summarization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More than 15 classes leave too much detail.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4d26"/>
                </a:solidFill>
                <a:latin typeface="Constantia"/>
              </a:rPr>
              <a:t>Class Width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Divide the range by the number of classes for an approximate class width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Round up to a convenient number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69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4E553508-D82C-40A6-95BD-944523AE4E7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Rectangle 4" descr=""/>
          <p:cNvPicPr/>
          <p:nvPr/>
        </p:nvPicPr>
        <p:blipFill>
          <a:blip r:embed="rId1"/>
          <a:stretch/>
        </p:blipFill>
        <p:spPr>
          <a:xfrm>
            <a:off x="146160" y="133200"/>
            <a:ext cx="8619840" cy="1298880"/>
          </a:xfrm>
          <a:prstGeom prst="rect">
            <a:avLst/>
          </a:prstGeom>
          <a:ln w="0">
            <a:noFill/>
          </a:ln>
        </p:spPr>
      </p:pic>
      <p:sp>
        <p:nvSpPr>
          <p:cNvPr id="6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6"/>
              <p:cNvSpPr txBox="1"/>
              <p:nvPr/>
            </p:nvSpPr>
            <p:spPr>
              <a:xfrm>
                <a:off x="1638360" y="5000760"/>
                <a:ext cx="5410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pproximate Class Width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 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lass Width =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454B5B92-D801-468D-997B-F5502141A026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3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Object 5"/>
              <p:cNvSpPr txBox="1"/>
              <p:nvPr/>
            </p:nvSpPr>
            <p:spPr>
              <a:xfrm>
                <a:off x="936720" y="2328840"/>
                <a:ext cx="732924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ss Midpoint 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eginning class endpoint+ending class endpoin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 + 4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Object 6"/>
              <p:cNvSpPr txBox="1"/>
              <p:nvPr/>
            </p:nvSpPr>
            <p:spPr>
              <a:xfrm>
                <a:off x="947880" y="4309920"/>
                <a:ext cx="577044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ss Midpoint = class beginning point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lass widt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0 +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 3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990720" y="129492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Relativ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3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2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.06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 .0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975"/>
              </a:spcBef>
              <a:tabLst>
                <a:tab algn="l" pos="0"/>
                <a:tab algn="ctr" pos="914400"/>
                <a:tab algn="ctr" pos="3600360"/>
                <a:tab algn="r" pos="3886200"/>
                <a:tab algn="ctr" pos="5943600"/>
                <a:tab algn="dec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F0D2EF4F-0A7B-4E88-82EE-3E4CF037745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4" name="Object 6"/>
          <p:cNvGraphicFramePr/>
          <p:nvPr/>
        </p:nvGraphicFramePr>
        <p:xfrm>
          <a:off x="5638680" y="2362320"/>
          <a:ext cx="838440" cy="68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2362320"/>
                    <a:ext cx="83844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Line 7"/>
          <p:cNvSpPr/>
          <p:nvPr/>
        </p:nvSpPr>
        <p:spPr>
          <a:xfrm>
            <a:off x="5181480" y="2514600"/>
            <a:ext cx="406440" cy="25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Line 8"/>
          <p:cNvSpPr/>
          <p:nvPr/>
        </p:nvSpPr>
        <p:spPr>
          <a:xfrm flipV="1">
            <a:off x="5029200" y="3048120"/>
            <a:ext cx="685800" cy="2311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Arc 9"/>
          <p:cNvSpPr/>
          <p:nvPr/>
        </p:nvSpPr>
        <p:spPr>
          <a:xfrm>
            <a:off x="6553080" y="2438280"/>
            <a:ext cx="584280" cy="203400"/>
          </a:xfrm>
          <a:custGeom>
            <a:avLst/>
            <a:gdLst>
              <a:gd name="textAreaLeft" fmla="*/ 0 w 584280"/>
              <a:gd name="textAreaRight" fmla="*/ 584640 w 584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600"/>
                </a:moveTo>
                <a:cubicBezTo>
                  <a:pt x="0" y="9693"/>
                  <a:pt x="9634" y="32"/>
                  <a:pt x="21541" y="0"/>
                </a:cubicBezTo>
              </a:path>
              <a:path stroke="0" w="21600" h="21600">
                <a:moveTo>
                  <a:pt x="0" y="21600"/>
                </a:moveTo>
                <a:cubicBezTo>
                  <a:pt x="0" y="9693"/>
                  <a:pt x="9634" y="32"/>
                  <a:pt x="21541" y="0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9" name="Object 10"/>
          <p:cNvGraphicFramePr/>
          <p:nvPr/>
        </p:nvGraphicFramePr>
        <p:xfrm>
          <a:off x="5715000" y="3352680"/>
          <a:ext cx="838080" cy="681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0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8380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Arc 11"/>
          <p:cNvSpPr/>
          <p:nvPr/>
        </p:nvSpPr>
        <p:spPr>
          <a:xfrm>
            <a:off x="4876920" y="2971800"/>
            <a:ext cx="812520" cy="584280"/>
          </a:xfrm>
          <a:custGeom>
            <a:avLst/>
            <a:gdLst>
              <a:gd name="textAreaLeft" fmla="*/ 0 w 812520"/>
              <a:gd name="textAreaRight" fmla="*/ 812880 w 8125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50760">
            <a:solidFill>
              <a:srgbClr val="66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Line 12"/>
          <p:cNvSpPr/>
          <p:nvPr/>
        </p:nvSpPr>
        <p:spPr>
          <a:xfrm flipV="1">
            <a:off x="5029200" y="4038120"/>
            <a:ext cx="736560" cy="14734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Arc 13"/>
          <p:cNvSpPr/>
          <p:nvPr/>
        </p:nvSpPr>
        <p:spPr>
          <a:xfrm>
            <a:off x="6553080" y="2971800"/>
            <a:ext cx="736560" cy="533520"/>
          </a:xfrm>
          <a:custGeom>
            <a:avLst/>
            <a:gdLst>
              <a:gd name="textAreaLeft" fmla="*/ 0 w 736560"/>
              <a:gd name="textAreaRight" fmla="*/ 736920 w 736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fill="none" w="21600" h="21599">
                <a:moveTo>
                  <a:pt x="21600" y="0"/>
                </a:moveTo>
                <a:cubicBezTo>
                  <a:pt x="21600" y="11844"/>
                  <a:pt x="12061" y="21479"/>
                  <a:pt x="217" y="21598"/>
                </a:cubicBezTo>
              </a:path>
              <a:path stroke="0" w="21600" h="21599">
                <a:moveTo>
                  <a:pt x="21600" y="0"/>
                </a:moveTo>
                <a:cubicBezTo>
                  <a:pt x="21600" y="11844"/>
                  <a:pt x="12061" y="21479"/>
                  <a:pt x="217" y="21598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50760">
            <a:solidFill>
              <a:srgbClr val="66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990720" y="152352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60000"/>
              </a:lnSpc>
              <a:spcBef>
                <a:spcPts val="6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5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ctr" pos="914400"/>
                <a:tab algn="ctr" pos="3200400"/>
                <a:tab algn="r" pos="3429000"/>
                <a:tab algn="ctr" pos="6172200"/>
                <a:tab algn="r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5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DF2D8A0-73F4-48A0-9803-DD230680684D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7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0" name="Object 6"/>
          <p:cNvGraphicFramePr/>
          <p:nvPr/>
        </p:nvGraphicFramePr>
        <p:xfrm>
          <a:off x="5562720" y="2819520"/>
          <a:ext cx="1071360" cy="35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2819520"/>
                    <a:ext cx="107136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Line 7"/>
          <p:cNvSpPr/>
          <p:nvPr/>
        </p:nvSpPr>
        <p:spPr>
          <a:xfrm>
            <a:off x="6705720" y="2971800"/>
            <a:ext cx="457200" cy="0"/>
          </a:xfrm>
          <a:prstGeom prst="line">
            <a:avLst/>
          </a:prstGeom>
          <a:ln w="25560">
            <a:solidFill>
              <a:srgbClr val="f3a4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8"/>
          <p:cNvSpPr/>
          <p:nvPr/>
        </p:nvSpPr>
        <p:spPr>
          <a:xfrm>
            <a:off x="4741920" y="3017880"/>
            <a:ext cx="660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Arc 10"/>
          <p:cNvSpPr/>
          <p:nvPr/>
        </p:nvSpPr>
        <p:spPr>
          <a:xfrm>
            <a:off x="6786720" y="2637000"/>
            <a:ext cx="520560" cy="215640"/>
          </a:xfrm>
          <a:custGeom>
            <a:avLst/>
            <a:gdLst>
              <a:gd name="textAreaLeft" fmla="*/ 0 w 520560"/>
              <a:gd name="textAreaRight" fmla="*/ 520920 w 520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25560">
            <a:solidFill>
              <a:srgbClr val="cc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5" name="Object 11"/>
          <p:cNvGraphicFramePr/>
          <p:nvPr/>
        </p:nvGraphicFramePr>
        <p:xfrm>
          <a:off x="5486400" y="3276720"/>
          <a:ext cx="1246320" cy="318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6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86400" y="3276720"/>
                    <a:ext cx="124632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7" name="Line 12"/>
          <p:cNvSpPr/>
          <p:nvPr/>
        </p:nvSpPr>
        <p:spPr>
          <a:xfrm>
            <a:off x="4753080" y="3459240"/>
            <a:ext cx="66024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3"/>
          <p:cNvSpPr/>
          <p:nvPr/>
        </p:nvSpPr>
        <p:spPr>
          <a:xfrm>
            <a:off x="6810480" y="3459240"/>
            <a:ext cx="355320" cy="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Arc 14"/>
          <p:cNvSpPr/>
          <p:nvPr/>
        </p:nvSpPr>
        <p:spPr>
          <a:xfrm>
            <a:off x="6797520" y="3078000"/>
            <a:ext cx="520920" cy="216000"/>
          </a:xfrm>
          <a:custGeom>
            <a:avLst/>
            <a:gdLst>
              <a:gd name="textAreaLeft" fmla="*/ 0 w 520920"/>
              <a:gd name="textAreaRight" fmla="*/ 521280 w 5209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lnTo>
                  <a:pt x="21600" y="0"/>
                </a:lnTo>
                <a:close/>
              </a:path>
            </a:pathLst>
          </a:custGeom>
          <a:noFill/>
          <a:ln cap="rnd"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 txBox="1"/>
          <p:nvPr/>
        </p:nvSpPr>
        <p:spPr>
          <a:xfrm>
            <a:off x="380880" y="2209320"/>
            <a:ext cx="876312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Midpoint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3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4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6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0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9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 .0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88422E01-BE96-492A-BF9E-71B1A101AC3E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3" name="Rectangle 4" descr=""/>
          <p:cNvPicPr/>
          <p:nvPr/>
        </p:nvPicPr>
        <p:blipFill>
          <a:blip r:embed="rId1"/>
          <a:stretch/>
        </p:blipFill>
        <p:spPr>
          <a:xfrm>
            <a:off x="195120" y="341280"/>
            <a:ext cx="8570880" cy="151128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 txBox="1"/>
          <p:nvPr/>
        </p:nvSpPr>
        <p:spPr>
          <a:xfrm>
            <a:off x="228600" y="16765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                            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Cumulative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Relativ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Class Interval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Frequenc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0-under 3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1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0-under 4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8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3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24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4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0-under 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5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7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-under 6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1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2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9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60-under 7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06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49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.9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70-under 80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 1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	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Constantia"/>
              </a:rPr>
              <a:t>.02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ctr" pos="914400"/>
                <a:tab algn="ctr" pos="2743200"/>
                <a:tab algn="r" pos="2971800"/>
                <a:tab algn="ctr" pos="4343400"/>
                <a:tab algn="ctr" pos="5943600"/>
                <a:tab algn="dec" pos="6172200"/>
                <a:tab algn="ctr" pos="7772400"/>
                <a:tab algn="r" pos="828684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Total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50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1.00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C9708B2-D946-4A71-8C0E-2F7FB410E481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9" name="Rectangle 4" descr=""/>
          <p:cNvPicPr/>
          <p:nvPr/>
        </p:nvPicPr>
        <p:blipFill>
          <a:blip r:embed="rId1"/>
          <a:stretch/>
        </p:blipFill>
        <p:spPr>
          <a:xfrm>
            <a:off x="-158760" y="133200"/>
            <a:ext cx="9229680" cy="152424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Recognize the difference between grouped and 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Construct a frequency distribu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Construct a histogra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EEDB08D1-7CFE-4EBF-83B0-4604A4F3F562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9" name="Rectangle 4" descr=""/>
          <p:cNvPicPr/>
          <p:nvPr/>
        </p:nvPicPr>
        <p:blipFill>
          <a:blip r:embed="rId1"/>
          <a:stretch/>
        </p:blipFill>
        <p:spPr>
          <a:xfrm>
            <a:off x="738360" y="208080"/>
            <a:ext cx="7394400" cy="14317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295280" y="101520"/>
            <a:ext cx="6599520" cy="7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fac9"/>
                </a:solidFill>
                <a:latin typeface="Constantia"/>
              </a:rPr>
              <a:t>Frequency Distribution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a5b592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609480" y="2332080"/>
            <a:ext cx="88362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efac9"/>
                </a:solidFill>
                <a:latin typeface="Arial"/>
              </a:rPr>
              <a:t>Another example</a:t>
            </a:r>
            <a:endParaRPr b="0" i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6" name="Picture 6" descr="T2_01"/>
          <p:cNvPicPr/>
          <p:nvPr/>
        </p:nvPicPr>
        <p:blipFill>
          <a:blip r:embed="rId1"/>
          <a:stretch/>
        </p:blipFill>
        <p:spPr>
          <a:xfrm>
            <a:off x="231840" y="1482840"/>
            <a:ext cx="8680320" cy="426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8" name="Picture 11" descr="T2_02"/>
          <p:cNvPicPr/>
          <p:nvPr/>
        </p:nvPicPr>
        <p:blipFill>
          <a:blip r:embed="rId1"/>
          <a:stretch/>
        </p:blipFill>
        <p:spPr>
          <a:xfrm>
            <a:off x="3216240" y="1514520"/>
            <a:ext cx="2749680" cy="3997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0" y="1143000"/>
            <a:ext cx="8400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85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800" spc="-1" strike="noStrike">
                <a:solidFill>
                  <a:srgbClr val="444d26"/>
                </a:solidFill>
                <a:latin typeface="Constantia"/>
              </a:rPr>
              <a:t>are the smallest numbers that can actually belong to different class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1079640" y="-109440"/>
            <a:ext cx="7381800" cy="107316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4"/>
          <p:cNvSpPr/>
          <p:nvPr/>
        </p:nvSpPr>
        <p:spPr>
          <a:xfrm>
            <a:off x="952560" y="7048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4" name="Picture 21" descr="T2_02_2"/>
          <p:cNvPicPr/>
          <p:nvPr/>
        </p:nvPicPr>
        <p:blipFill>
          <a:blip r:embed="rId2"/>
          <a:stretch/>
        </p:blipFill>
        <p:spPr>
          <a:xfrm>
            <a:off x="2787480" y="2543040"/>
            <a:ext cx="3586320" cy="3391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151920" y="1123920"/>
            <a:ext cx="84013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e the smallest numbers that can actually belong to different clas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7" name="Rectangle 32" descr=""/>
          <p:cNvPicPr/>
          <p:nvPr/>
        </p:nvPicPr>
        <p:blipFill>
          <a:blip r:embed="rId1"/>
          <a:stretch/>
        </p:blipFill>
        <p:spPr>
          <a:xfrm>
            <a:off x="785880" y="-30240"/>
            <a:ext cx="7383240" cy="107316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9" name="Group 30"/>
          <p:cNvGrpSpPr/>
          <p:nvPr/>
        </p:nvGrpSpPr>
        <p:grpSpPr>
          <a:xfrm>
            <a:off x="426600" y="2259000"/>
            <a:ext cx="8094960" cy="3638520"/>
            <a:chOff x="426600" y="2259000"/>
            <a:chExt cx="8094960" cy="3638520"/>
          </a:xfrm>
        </p:grpSpPr>
        <p:sp>
          <p:nvSpPr>
            <p:cNvPr id="770" name="Rectangle 12"/>
            <p:cNvSpPr/>
            <p:nvPr/>
          </p:nvSpPr>
          <p:spPr>
            <a:xfrm>
              <a:off x="426600" y="3747960"/>
              <a:ext cx="22755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ower 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imi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71" name="Picture 29" descr="T2_02_2"/>
            <p:cNvPicPr/>
            <p:nvPr/>
          </p:nvPicPr>
          <p:blipFill>
            <a:blip r:embed="rId2"/>
            <a:stretch/>
          </p:blipFill>
          <p:spPr>
            <a:xfrm>
              <a:off x="4673520" y="2259000"/>
              <a:ext cx="38480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Line 7"/>
            <p:cNvSpPr/>
            <p:nvPr/>
          </p:nvSpPr>
          <p:spPr>
            <a:xfrm flipV="1">
              <a:off x="2838600" y="3511080"/>
              <a:ext cx="2273040" cy="660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Line 8"/>
            <p:cNvSpPr/>
            <p:nvPr/>
          </p:nvSpPr>
          <p:spPr>
            <a:xfrm flipV="1">
              <a:off x="2793960" y="3949200"/>
              <a:ext cx="2235240" cy="24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Line 9"/>
            <p:cNvSpPr/>
            <p:nvPr/>
          </p:nvSpPr>
          <p:spPr>
            <a:xfrm>
              <a:off x="2755800" y="4191120"/>
              <a:ext cx="227340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Line 10"/>
            <p:cNvSpPr/>
            <p:nvPr/>
          </p:nvSpPr>
          <p:spPr>
            <a:xfrm>
              <a:off x="2819520" y="4191120"/>
              <a:ext cx="2197080" cy="63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Line 11"/>
            <p:cNvSpPr/>
            <p:nvPr/>
          </p:nvSpPr>
          <p:spPr>
            <a:xfrm>
              <a:off x="2876400" y="4172040"/>
              <a:ext cx="2140200" cy="114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247680" y="1047600"/>
            <a:ext cx="8400960" cy="85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re the largest numbers that can actually belong to different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9" name="Rectangle 2" descr=""/>
          <p:cNvPicPr/>
          <p:nvPr/>
        </p:nvPicPr>
        <p:blipFill>
          <a:blip r:embed="rId1"/>
          <a:stretch/>
        </p:blipFill>
        <p:spPr>
          <a:xfrm>
            <a:off x="792000" y="12600"/>
            <a:ext cx="7382160" cy="10731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6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Group 30"/>
          <p:cNvGrpSpPr/>
          <p:nvPr/>
        </p:nvGrpSpPr>
        <p:grpSpPr>
          <a:xfrm>
            <a:off x="758880" y="2143080"/>
            <a:ext cx="7661160" cy="3638520"/>
            <a:chOff x="758880" y="2143080"/>
            <a:chExt cx="7661160" cy="3638520"/>
          </a:xfrm>
        </p:grpSpPr>
        <p:sp>
          <p:nvSpPr>
            <p:cNvPr id="784" name="Rectangle 12"/>
            <p:cNvSpPr/>
            <p:nvPr/>
          </p:nvSpPr>
          <p:spPr>
            <a:xfrm>
              <a:off x="758880" y="3348000"/>
              <a:ext cx="22557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Upper 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4d26"/>
                  </a:solidFill>
                  <a:latin typeface="Arial"/>
                </a:rPr>
                <a:t>Limi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85" name="Picture 29" descr="T2_02_2"/>
            <p:cNvPicPr/>
            <p:nvPr/>
          </p:nvPicPr>
          <p:blipFill>
            <a:blip r:embed="rId2"/>
            <a:stretch/>
          </p:blipFill>
          <p:spPr>
            <a:xfrm>
              <a:off x="4572000" y="2143080"/>
              <a:ext cx="384804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Line 7"/>
            <p:cNvSpPr/>
            <p:nvPr/>
          </p:nvSpPr>
          <p:spPr>
            <a:xfrm flipV="1">
              <a:off x="3111480" y="3346560"/>
              <a:ext cx="250200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>
              <a:off x="3130560" y="3645000"/>
              <a:ext cx="2482920" cy="139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3156120" y="3683160"/>
              <a:ext cx="2482560" cy="53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3130560" y="3689280"/>
              <a:ext cx="2502000" cy="10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>
              <a:off x="3200400" y="3720960"/>
              <a:ext cx="2463840" cy="145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133200" y="118116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2500"/>
              </a:spcBef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0" lang="en-US" sz="4000" spc="-1" strike="noStrike">
                <a:solidFill>
                  <a:srgbClr val="444d26"/>
                </a:solidFill>
                <a:latin typeface="Constantia"/>
              </a:rPr>
              <a:t>are the numbers used to separate classes, but without the gaps created by class limit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2500"/>
              </a:spcBef>
              <a:spcAft>
                <a:spcPts val="2500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2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749160" y="37846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tangle 7"/>
          <p:cNvSpPr/>
          <p:nvPr/>
        </p:nvSpPr>
        <p:spPr>
          <a:xfrm>
            <a:off x="214596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44d26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95400" y="99036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mber separating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Rectangle 6"/>
          <p:cNvSpPr/>
          <p:nvPr/>
        </p:nvSpPr>
        <p:spPr>
          <a:xfrm>
            <a:off x="212220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Group 32"/>
          <p:cNvGrpSpPr/>
          <p:nvPr/>
        </p:nvGrpSpPr>
        <p:grpSpPr>
          <a:xfrm>
            <a:off x="2286000" y="2224080"/>
            <a:ext cx="4538520" cy="3777840"/>
            <a:chOff x="2286000" y="2224080"/>
            <a:chExt cx="4538520" cy="3777840"/>
          </a:xfrm>
        </p:grpSpPr>
        <p:pic>
          <p:nvPicPr>
            <p:cNvPr id="803" name="Picture 31" descr="T2_02_3"/>
            <p:cNvPicPr/>
            <p:nvPr/>
          </p:nvPicPr>
          <p:blipFill>
            <a:blip r:embed="rId1"/>
            <a:stretch/>
          </p:blipFill>
          <p:spPr>
            <a:xfrm>
              <a:off x="2317680" y="2224080"/>
              <a:ext cx="4506840" cy="37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Rectangle 14"/>
            <p:cNvSpPr/>
            <p:nvPr/>
          </p:nvSpPr>
          <p:spPr>
            <a:xfrm>
              <a:off x="2286000" y="2895480"/>
              <a:ext cx="129528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- 0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95400" y="990360"/>
            <a:ext cx="8858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mber separating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Rectangle 4"/>
          <p:cNvSpPr/>
          <p:nvPr/>
        </p:nvSpPr>
        <p:spPr>
          <a:xfrm>
            <a:off x="609480" y="31240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2145960" y="81000"/>
            <a:ext cx="49042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ass Boundar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Group 34"/>
          <p:cNvGrpSpPr/>
          <p:nvPr/>
        </p:nvGrpSpPr>
        <p:grpSpPr>
          <a:xfrm>
            <a:off x="252720" y="2124000"/>
            <a:ext cx="8675280" cy="3954240"/>
            <a:chOff x="252720" y="2124000"/>
            <a:chExt cx="8675280" cy="3954240"/>
          </a:xfrm>
        </p:grpSpPr>
        <p:pic>
          <p:nvPicPr>
            <p:cNvPr id="811" name="Picture 33" descr="T2_02_3"/>
            <p:cNvPicPr/>
            <p:nvPr/>
          </p:nvPicPr>
          <p:blipFill>
            <a:blip r:embed="rId1"/>
            <a:stretch/>
          </p:blipFill>
          <p:spPr>
            <a:xfrm>
              <a:off x="4191120" y="2124000"/>
              <a:ext cx="4736880" cy="39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6"/>
            <p:cNvSpPr/>
            <p:nvPr/>
          </p:nvSpPr>
          <p:spPr>
            <a:xfrm>
              <a:off x="252720" y="3908520"/>
              <a:ext cx="24170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Boundaries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29"/>
            <p:cNvSpPr/>
            <p:nvPr/>
          </p:nvSpPr>
          <p:spPr>
            <a:xfrm>
              <a:off x="4267080" y="2971800"/>
              <a:ext cx="9684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- 0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399.</a:t>
              </a: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99.5</a:t>
              </a:r>
              <a:endParaRPr b="0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7"/>
            <p:cNvSpPr/>
            <p:nvPr/>
          </p:nvSpPr>
          <p:spPr>
            <a:xfrm flipV="1">
              <a:off x="2463840" y="3416400"/>
              <a:ext cx="213372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Line 8"/>
            <p:cNvSpPr/>
            <p:nvPr/>
          </p:nvSpPr>
          <p:spPr>
            <a:xfrm flipV="1">
              <a:off x="2470320" y="3809880"/>
              <a:ext cx="2101680" cy="52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Line 9"/>
            <p:cNvSpPr/>
            <p:nvPr/>
          </p:nvSpPr>
          <p:spPr>
            <a:xfrm>
              <a:off x="2444760" y="4343400"/>
              <a:ext cx="20829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Line 10"/>
            <p:cNvSpPr/>
            <p:nvPr/>
          </p:nvSpPr>
          <p:spPr>
            <a:xfrm>
              <a:off x="2470320" y="4349880"/>
              <a:ext cx="2063520" cy="45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Line 11"/>
            <p:cNvSpPr/>
            <p:nvPr/>
          </p:nvSpPr>
          <p:spPr>
            <a:xfrm>
              <a:off x="2470320" y="4349880"/>
              <a:ext cx="2044440" cy="9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Line 12"/>
            <p:cNvSpPr/>
            <p:nvPr/>
          </p:nvSpPr>
          <p:spPr>
            <a:xfrm>
              <a:off x="2495520" y="4362480"/>
              <a:ext cx="2019240" cy="146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 txBox="1"/>
          <p:nvPr/>
        </p:nvSpPr>
        <p:spPr>
          <a:xfrm>
            <a:off x="95400" y="9903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points of the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2339640" y="81000"/>
            <a:ext cx="4468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Midpoin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990720" y="205740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ass midpoints can be found by adding the lower class limit to the upper class limit and dividing the sum by two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0" y="1371600"/>
            <a:ext cx="8763120" cy="403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8e58b6"/>
                </a:solidFill>
                <a:latin typeface="Constantia"/>
              </a:rPr>
              <a:t>Descriptive Statistics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mmarize or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describe</a:t>
            </a:r>
            <a:r>
              <a:rPr b="0" i="1" lang="en-US" sz="2600" spc="-1" strike="noStrike">
                <a:solidFill>
                  <a:srgbClr val="8e58b6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important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racteristics of a known set of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opulation dat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500"/>
              </a:spcBef>
              <a:spcAft>
                <a:spcPts val="1500"/>
              </a:spcAft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8e58b6"/>
                </a:solidFill>
                <a:latin typeface="Constantia"/>
              </a:rPr>
              <a:t>Inferential Statistics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use sample data to make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inferences (or 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8e58b6"/>
                </a:solidFill>
                <a:latin typeface="Constantia"/>
              </a:rPr>
              <a:t>generalizations)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about a populat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16F4008-418E-4090-B246-8BC27B65F0CB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952560" y="88920"/>
            <a:ext cx="724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279f"/>
                </a:solidFill>
                <a:latin typeface="Arial"/>
              </a:rPr>
              <a:t>Overview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 txBox="1"/>
          <p:nvPr/>
        </p:nvSpPr>
        <p:spPr>
          <a:xfrm>
            <a:off x="95400" y="990360"/>
            <a:ext cx="885816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ctr"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dpoints of the class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7" name="Group 37"/>
          <p:cNvGrpSpPr/>
          <p:nvPr/>
        </p:nvGrpSpPr>
        <p:grpSpPr>
          <a:xfrm>
            <a:off x="306720" y="1965240"/>
            <a:ext cx="8478360" cy="3511800"/>
            <a:chOff x="306720" y="1965240"/>
            <a:chExt cx="8478360" cy="3511800"/>
          </a:xfrm>
        </p:grpSpPr>
        <p:pic>
          <p:nvPicPr>
            <p:cNvPr id="828" name="Picture 34" descr="T2_02_4"/>
            <p:cNvPicPr/>
            <p:nvPr/>
          </p:nvPicPr>
          <p:blipFill>
            <a:blip r:embed="rId1"/>
            <a:stretch/>
          </p:blipFill>
          <p:spPr>
            <a:xfrm>
              <a:off x="4017960" y="1965240"/>
              <a:ext cx="4767120" cy="35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Rectangle 7"/>
            <p:cNvSpPr/>
            <p:nvPr/>
          </p:nvSpPr>
          <p:spPr>
            <a:xfrm>
              <a:off x="306720" y="3105000"/>
              <a:ext cx="185796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Midpoint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0" name="Group 29"/>
            <p:cNvGrpSpPr/>
            <p:nvPr/>
          </p:nvGrpSpPr>
          <p:grpSpPr>
            <a:xfrm>
              <a:off x="1981080" y="3200400"/>
              <a:ext cx="3130560" cy="1828800"/>
              <a:chOff x="1981080" y="3200400"/>
              <a:chExt cx="3130560" cy="1828800"/>
            </a:xfrm>
          </p:grpSpPr>
          <p:sp>
            <p:nvSpPr>
              <p:cNvPr id="831" name="Line 8"/>
              <p:cNvSpPr/>
              <p:nvPr/>
            </p:nvSpPr>
            <p:spPr>
              <a:xfrm>
                <a:off x="1981080" y="3517920"/>
                <a:ext cx="3092400" cy="120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Line 9"/>
              <p:cNvSpPr/>
              <p:nvPr/>
            </p:nvSpPr>
            <p:spPr>
              <a:xfrm flipV="1">
                <a:off x="1981080" y="3200400"/>
                <a:ext cx="3111480" cy="317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Line 10"/>
              <p:cNvSpPr/>
              <p:nvPr/>
            </p:nvSpPr>
            <p:spPr>
              <a:xfrm>
                <a:off x="2000160" y="3537000"/>
                <a:ext cx="3111480" cy="577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Line 11"/>
              <p:cNvSpPr/>
              <p:nvPr/>
            </p:nvSpPr>
            <p:spPr>
              <a:xfrm>
                <a:off x="2000160" y="3517920"/>
                <a:ext cx="309240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Line 13"/>
              <p:cNvSpPr/>
              <p:nvPr/>
            </p:nvSpPr>
            <p:spPr>
              <a:xfrm>
                <a:off x="1981080" y="3517920"/>
                <a:ext cx="3111480" cy="1511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6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124080"/>
            <a:ext cx="83822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2339640" y="81000"/>
            <a:ext cx="44683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Midpoint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3314880" y="2508120"/>
            <a:ext cx="2166840" cy="41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Text Box 31"/>
          <p:cNvSpPr/>
          <p:nvPr/>
        </p:nvSpPr>
        <p:spPr>
          <a:xfrm>
            <a:off x="4915080" y="2990880"/>
            <a:ext cx="1066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1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2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3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44d26"/>
                </a:solidFill>
                <a:latin typeface="Arial"/>
              </a:rPr>
              <a:t>449.5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Rectangle 32"/>
          <p:cNvSpPr/>
          <p:nvPr/>
        </p:nvSpPr>
        <p:spPr>
          <a:xfrm>
            <a:off x="5086440" y="3009960"/>
            <a:ext cx="704880" cy="2266920"/>
          </a:xfrm>
          <a:prstGeom prst="rect">
            <a:avLst/>
          </a:prstGeom>
          <a:noFill/>
          <a:ln w="12600">
            <a:solidFill>
              <a:srgbClr val="8e58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132840" y="971640"/>
            <a:ext cx="8858520" cy="104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1437"/>
              </a:spcBef>
              <a:spcAft>
                <a:spcPts val="1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is the difference between two consecutive lower class limits or two consecutive lower class boundaries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2884320" y="81000"/>
            <a:ext cx="33804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lass Width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5" name="Group 44"/>
          <p:cNvGrpSpPr/>
          <p:nvPr/>
        </p:nvGrpSpPr>
        <p:grpSpPr>
          <a:xfrm>
            <a:off x="848520" y="2160720"/>
            <a:ext cx="7312680" cy="3555720"/>
            <a:chOff x="848520" y="2160720"/>
            <a:chExt cx="7312680" cy="3555720"/>
          </a:xfrm>
        </p:grpSpPr>
        <p:pic>
          <p:nvPicPr>
            <p:cNvPr id="846" name="Picture 43" descr="T2_02_3"/>
            <p:cNvPicPr/>
            <p:nvPr/>
          </p:nvPicPr>
          <p:blipFill>
            <a:blip r:embed="rId1"/>
            <a:stretch/>
          </p:blipFill>
          <p:spPr>
            <a:xfrm>
              <a:off x="3890880" y="2160720"/>
              <a:ext cx="4270320" cy="35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Rectangle 7"/>
            <p:cNvSpPr/>
            <p:nvPr/>
          </p:nvSpPr>
          <p:spPr>
            <a:xfrm>
              <a:off x="848520" y="3521160"/>
              <a:ext cx="137772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Class 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ff"/>
                  </a:solidFill>
                  <a:latin typeface="Arial"/>
                </a:rPr>
                <a:t>Width</a:t>
              </a:r>
              <a:endParaRPr b="0" i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8" name="Group 30"/>
            <p:cNvGrpSpPr/>
            <p:nvPr/>
          </p:nvGrpSpPr>
          <p:grpSpPr>
            <a:xfrm>
              <a:off x="2463840" y="3365640"/>
              <a:ext cx="1739880" cy="1790640"/>
              <a:chOff x="2463840" y="3365640"/>
              <a:chExt cx="1739880" cy="1790640"/>
            </a:xfrm>
          </p:grpSpPr>
          <p:sp>
            <p:nvSpPr>
              <p:cNvPr id="849" name="Line 8"/>
              <p:cNvSpPr/>
              <p:nvPr/>
            </p:nvSpPr>
            <p:spPr>
              <a:xfrm flipV="1">
                <a:off x="2463840" y="3365640"/>
                <a:ext cx="1701720" cy="660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Line 9"/>
              <p:cNvSpPr/>
              <p:nvPr/>
            </p:nvSpPr>
            <p:spPr>
              <a:xfrm flipV="1">
                <a:off x="2482920" y="3803400"/>
                <a:ext cx="1682640" cy="222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Line 10"/>
              <p:cNvSpPr/>
              <p:nvPr/>
            </p:nvSpPr>
            <p:spPr>
              <a:xfrm>
                <a:off x="2482920" y="4025880"/>
                <a:ext cx="1644480" cy="21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Line 11"/>
              <p:cNvSpPr/>
              <p:nvPr/>
            </p:nvSpPr>
            <p:spPr>
              <a:xfrm>
                <a:off x="2501640" y="4025880"/>
                <a:ext cx="1683000" cy="673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Line 12"/>
              <p:cNvSpPr/>
              <p:nvPr/>
            </p:nvSpPr>
            <p:spPr>
              <a:xfrm>
                <a:off x="2482920" y="4025880"/>
                <a:ext cx="1720800" cy="1130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4" name="Text Box 39"/>
            <p:cNvSpPr/>
            <p:nvPr/>
          </p:nvSpPr>
          <p:spPr>
            <a:xfrm>
              <a:off x="4095720" y="3124080"/>
              <a:ext cx="723960" cy="22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i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 txBox="1"/>
          <p:nvPr/>
        </p:nvSpPr>
        <p:spPr>
          <a:xfrm>
            <a:off x="244440" y="1886040"/>
            <a:ext cx="8724960" cy="4626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arge data sets can be summarize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 gain some insight into the nature of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t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5000"/>
              </a:lnSpc>
              <a:spcBef>
                <a:spcPts val="1463"/>
              </a:spcBef>
              <a:spcAft>
                <a:spcPts val="1624"/>
              </a:spcAft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.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ave a basis for constructing graph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6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177840" y="138240"/>
            <a:ext cx="880596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asons for Constructing 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-360" y="890640"/>
            <a:ext cx="90550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1. 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ecide on the number of classes (should be between 5 and 20) 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2. 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Calculate (round up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9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244440" y="2971800"/>
            <a:ext cx="889956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point:  Begin by choosing a lower limit of the first cla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4.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the lower limit of the first class and class width, proc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the lower class limits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  the lower class limits in a vertical column and  proce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the upper class limits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6"/>
              </a:spcBef>
              <a:spcAft>
                <a:spcPts val="901"/>
              </a:spcAft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hrough the data set putting a tally in the appropriate clas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data value.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1289520" y="127080"/>
            <a:ext cx="657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Constructing A  Frequency Tabl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Rectangle 6"/>
          <p:cNvSpPr/>
          <p:nvPr/>
        </p:nvSpPr>
        <p:spPr>
          <a:xfrm>
            <a:off x="947880" y="1947960"/>
            <a:ext cx="2319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ass width  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Rectangle 7"/>
          <p:cNvSpPr/>
          <p:nvPr/>
        </p:nvSpPr>
        <p:spPr>
          <a:xfrm>
            <a:off x="3276720" y="1847880"/>
            <a:ext cx="516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est value) – (lowest value)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Rectangle 8"/>
          <p:cNvSpPr/>
          <p:nvPr/>
        </p:nvSpPr>
        <p:spPr>
          <a:xfrm>
            <a:off x="4471920" y="2305080"/>
            <a:ext cx="285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9"/>
          <p:cNvSpPr/>
          <p:nvPr/>
        </p:nvSpPr>
        <p:spPr>
          <a:xfrm>
            <a:off x="3714840" y="2286000"/>
            <a:ext cx="4481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Rectangle 1026"/>
          <p:cNvSpPr/>
          <p:nvPr/>
        </p:nvSpPr>
        <p:spPr>
          <a:xfrm>
            <a:off x="1423440" y="131760"/>
            <a:ext cx="63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lative Frequency Distributio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9" name="Group 1031"/>
          <p:cNvGrpSpPr/>
          <p:nvPr/>
        </p:nvGrpSpPr>
        <p:grpSpPr>
          <a:xfrm>
            <a:off x="820440" y="2790720"/>
            <a:ext cx="7545600" cy="1087200"/>
            <a:chOff x="820440" y="2790720"/>
            <a:chExt cx="7545600" cy="1087200"/>
          </a:xfrm>
        </p:grpSpPr>
        <p:sp>
          <p:nvSpPr>
            <p:cNvPr id="870" name="Rectangle 1027"/>
            <p:cNvSpPr/>
            <p:nvPr/>
          </p:nvSpPr>
          <p:spPr>
            <a:xfrm>
              <a:off x="820440" y="3076560"/>
              <a:ext cx="3534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relative frequency =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Rectangle 1028"/>
            <p:cNvSpPr/>
            <p:nvPr/>
          </p:nvSpPr>
          <p:spPr>
            <a:xfrm>
              <a:off x="4865760" y="2790720"/>
              <a:ext cx="28713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class frequency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Rectangle 1029"/>
            <p:cNvSpPr/>
            <p:nvPr/>
          </p:nvSpPr>
          <p:spPr>
            <a:xfrm>
              <a:off x="4429440" y="3362400"/>
              <a:ext cx="39366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</a:rPr>
                <a:t>sum of all frequencies</a:t>
              </a:r>
              <a:endParaRPr b="0" i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1030"/>
            <p:cNvSpPr/>
            <p:nvPr/>
          </p:nvSpPr>
          <p:spPr>
            <a:xfrm>
              <a:off x="4540320" y="3282840"/>
              <a:ext cx="374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1429920" y="133200"/>
            <a:ext cx="63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Relative Frequency Distribution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Rectangle 17"/>
          <p:cNvSpPr/>
          <p:nvPr/>
        </p:nvSpPr>
        <p:spPr>
          <a:xfrm>
            <a:off x="6912000" y="2158920"/>
            <a:ext cx="175896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1/40 = 28%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12/40 = 40%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Rectangle 19"/>
          <p:cNvSpPr/>
          <p:nvPr/>
        </p:nvSpPr>
        <p:spPr>
          <a:xfrm>
            <a:off x="450360" y="5267160"/>
            <a:ext cx="272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otal Frequency = 40</a:t>
            </a:r>
            <a:endParaRPr b="0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8" name="Picture 34" descr="T2_03"/>
          <p:cNvPicPr/>
          <p:nvPr/>
        </p:nvPicPr>
        <p:blipFill>
          <a:blip r:embed="rId1"/>
          <a:stretch/>
        </p:blipFill>
        <p:spPr>
          <a:xfrm>
            <a:off x="3905280" y="1530360"/>
            <a:ext cx="2933640" cy="458316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5" descr="T2_02_2"/>
          <p:cNvPicPr/>
          <p:nvPr/>
        </p:nvPicPr>
        <p:blipFill>
          <a:blip r:embed="rId2"/>
          <a:stretch/>
        </p:blipFill>
        <p:spPr>
          <a:xfrm>
            <a:off x="476280" y="2155680"/>
            <a:ext cx="3102120" cy="2934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2112480" y="93600"/>
            <a:ext cx="492552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79f"/>
                </a:solidFill>
                <a:latin typeface="Arial"/>
              </a:rPr>
              <a:t>Cumulative Frequency 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279f"/>
                </a:solidFill>
                <a:latin typeface="Arial"/>
              </a:rPr>
              <a:t>Distribution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4649760" y="6126120"/>
            <a:ext cx="128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4"/>
          <p:cNvSpPr/>
          <p:nvPr/>
        </p:nvSpPr>
        <p:spPr>
          <a:xfrm>
            <a:off x="825480" y="6126120"/>
            <a:ext cx="216684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Rectangle 5"/>
          <p:cNvSpPr/>
          <p:nvPr/>
        </p:nvSpPr>
        <p:spPr>
          <a:xfrm>
            <a:off x="7489080" y="4280040"/>
            <a:ext cx="13748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umulative</a:t>
            </a: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5" name="Group 35"/>
          <p:cNvGrpSpPr/>
          <p:nvPr/>
        </p:nvGrpSpPr>
        <p:grpSpPr>
          <a:xfrm>
            <a:off x="7040520" y="3762360"/>
            <a:ext cx="446040" cy="1550880"/>
            <a:chOff x="7040520" y="3762360"/>
            <a:chExt cx="446040" cy="1550880"/>
          </a:xfrm>
        </p:grpSpPr>
        <p:sp>
          <p:nvSpPr>
            <p:cNvPr id="886" name="Freeform 6"/>
            <p:cNvSpPr/>
            <p:nvPr/>
          </p:nvSpPr>
          <p:spPr>
            <a:xfrm>
              <a:off x="7284960" y="4465800"/>
              <a:ext cx="201600" cy="71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7" h="60">
                  <a:moveTo>
                    <a:pt x="0" y="0"/>
                  </a:moveTo>
                  <a:lnTo>
                    <a:pt x="127" y="60"/>
                  </a:lnTo>
                </a:path>
              </a:pathLst>
            </a:custGeom>
            <a:noFill/>
            <a:ln w="50760">
              <a:solidFill>
                <a:srgbClr val="8e58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7" name="Group 34"/>
            <p:cNvGrpSpPr/>
            <p:nvPr/>
          </p:nvGrpSpPr>
          <p:grpSpPr>
            <a:xfrm>
              <a:off x="7040520" y="3762360"/>
              <a:ext cx="434880" cy="1550880"/>
              <a:chOff x="7040520" y="3762360"/>
              <a:chExt cx="434880" cy="1550880"/>
            </a:xfrm>
          </p:grpSpPr>
          <p:sp>
            <p:nvSpPr>
              <p:cNvPr id="888" name="Freeform 7"/>
              <p:cNvSpPr/>
              <p:nvPr/>
            </p:nvSpPr>
            <p:spPr>
              <a:xfrm>
                <a:off x="7288200" y="4537440"/>
                <a:ext cx="187200" cy="5976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118" h="50">
                    <a:moveTo>
                      <a:pt x="0" y="50"/>
                    </a:moveTo>
                    <a:lnTo>
                      <a:pt x="118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Freeform 8"/>
              <p:cNvSpPr/>
              <p:nvPr/>
            </p:nvSpPr>
            <p:spPr>
              <a:xfrm>
                <a:off x="7273800" y="3825720"/>
                <a:ext cx="6480" cy="6627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662760"/>
                  <a:gd name="textAreaBottom" fmla="*/ 663120 h 662760"/>
                </a:gdLst>
                <a:ahLst/>
                <a:rect l="textAreaLeft" t="textAreaTop" r="textAreaRight" b="textAreaBottom"/>
                <a:pathLst>
                  <a:path w="4" h="554">
                    <a:moveTo>
                      <a:pt x="0" y="554"/>
                    </a:moveTo>
                    <a:lnTo>
                      <a:pt x="4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Line 9"/>
              <p:cNvSpPr/>
              <p:nvPr/>
            </p:nvSpPr>
            <p:spPr>
              <a:xfrm flipV="1">
                <a:off x="7278480" y="4580640"/>
                <a:ext cx="0" cy="692640"/>
              </a:xfrm>
              <a:prstGeom prst="line">
                <a:avLst/>
              </a:prstGeom>
              <a:ln w="50760">
                <a:solidFill>
                  <a:srgbClr val="8e58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Freeform 10"/>
              <p:cNvSpPr/>
              <p:nvPr/>
            </p:nvSpPr>
            <p:spPr>
              <a:xfrm>
                <a:off x="7045200" y="3762360"/>
                <a:ext cx="243000" cy="7164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53" h="60">
                    <a:moveTo>
                      <a:pt x="153" y="60"/>
                    </a:moveTo>
                    <a:lnTo>
                      <a:pt x="0" y="0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Freeform 11"/>
              <p:cNvSpPr/>
              <p:nvPr/>
            </p:nvSpPr>
            <p:spPr>
              <a:xfrm>
                <a:off x="7040520" y="5247360"/>
                <a:ext cx="239760" cy="6588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151" h="55">
                    <a:moveTo>
                      <a:pt x="151" y="0"/>
                    </a:moveTo>
                    <a:lnTo>
                      <a:pt x="0" y="55"/>
                    </a:lnTo>
                  </a:path>
                </a:pathLst>
              </a:custGeom>
              <a:noFill/>
              <a:ln w="50760">
                <a:solidFill>
                  <a:srgbClr val="8e58b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893" name="Picture 38" descr="T2_02_2"/>
          <p:cNvPicPr/>
          <p:nvPr/>
        </p:nvPicPr>
        <p:blipFill>
          <a:blip r:embed="rId1"/>
          <a:stretch/>
        </p:blipFill>
        <p:spPr>
          <a:xfrm>
            <a:off x="185760" y="2098800"/>
            <a:ext cx="2995560" cy="28321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39" descr="T2_04"/>
          <p:cNvPicPr/>
          <p:nvPr/>
        </p:nvPicPr>
        <p:blipFill>
          <a:blip r:embed="rId2"/>
          <a:stretch/>
        </p:blipFill>
        <p:spPr>
          <a:xfrm>
            <a:off x="3392640" y="1623960"/>
            <a:ext cx="3660480" cy="381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week 2 DR. Wajed Hatamleh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6" name="Rectangle 2050" descr=""/>
          <p:cNvPicPr/>
          <p:nvPr/>
        </p:nvPicPr>
        <p:blipFill>
          <a:blip r:embed="rId1"/>
          <a:stretch/>
        </p:blipFill>
        <p:spPr>
          <a:xfrm>
            <a:off x="847800" y="0"/>
            <a:ext cx="7265880" cy="101124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2051"/>
          <p:cNvSpPr/>
          <p:nvPr/>
        </p:nvSpPr>
        <p:spPr>
          <a:xfrm>
            <a:off x="306360" y="6097680"/>
            <a:ext cx="23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Rectangle 2052"/>
          <p:cNvSpPr/>
          <p:nvPr/>
        </p:nvSpPr>
        <p:spPr>
          <a:xfrm>
            <a:off x="3929040" y="6021360"/>
            <a:ext cx="128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Rectangle 2053"/>
          <p:cNvSpPr/>
          <p:nvPr/>
        </p:nvSpPr>
        <p:spPr>
          <a:xfrm>
            <a:off x="7027920" y="6046920"/>
            <a:ext cx="1285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0" name="Picture 2104" descr="T2_02"/>
          <p:cNvPicPr/>
          <p:nvPr/>
        </p:nvPicPr>
        <p:blipFill>
          <a:blip r:embed="rId2"/>
          <a:stretch/>
        </p:blipFill>
        <p:spPr>
          <a:xfrm>
            <a:off x="262080" y="1741320"/>
            <a:ext cx="2385720" cy="346572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105" descr="T2_03"/>
          <p:cNvPicPr/>
          <p:nvPr/>
        </p:nvPicPr>
        <p:blipFill>
          <a:blip r:embed="rId3"/>
          <a:stretch/>
        </p:blipFill>
        <p:spPr>
          <a:xfrm>
            <a:off x="2997360" y="1490760"/>
            <a:ext cx="2385720" cy="372564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106" descr="T2_04"/>
          <p:cNvPicPr/>
          <p:nvPr/>
        </p:nvPicPr>
        <p:blipFill>
          <a:blip r:embed="rId4"/>
          <a:stretch/>
        </p:blipFill>
        <p:spPr>
          <a:xfrm>
            <a:off x="5692680" y="1814400"/>
            <a:ext cx="3245040" cy="3381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Footer Placeholder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D2AF8318-D992-46C8-91BE-E809A06FEB4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336600" y="82440"/>
            <a:ext cx="847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279f"/>
                </a:solidFill>
                <a:latin typeface="Arial"/>
              </a:rPr>
              <a:t>Recap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4"/>
          <p:cNvSpPr/>
          <p:nvPr/>
        </p:nvSpPr>
        <p:spPr>
          <a:xfrm>
            <a:off x="343080" y="1219320"/>
            <a:ext cx="85532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In this Section we have discussed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Important characteristics of dat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Procedures for constructing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Relative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3a44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444d26"/>
                </a:solidFill>
                <a:latin typeface="Arial"/>
              </a:rPr>
              <a:t>Cumulative frequency distribution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3C51491D-3191-4EB7-911B-F86B6E3D3D72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2"/>
          <p:cNvSpPr/>
          <p:nvPr/>
        </p:nvSpPr>
        <p:spPr>
          <a:xfrm>
            <a:off x="838080" y="9907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table that lists data values along with their counts is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n olgive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frequency distribution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cumulative table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A histogram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Oval 3"/>
          <p:cNvSpPr/>
          <p:nvPr/>
        </p:nvSpPr>
        <p:spPr>
          <a:xfrm>
            <a:off x="606600" y="3257640"/>
            <a:ext cx="5289480" cy="7174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228600" y="130176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200" spc="-1" strike="noStrike">
                <a:solidFill>
                  <a:srgbClr val="444d26"/>
                </a:solidFill>
                <a:latin typeface="Constantia"/>
              </a:rPr>
              <a:t>1. </a:t>
            </a: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Center:  A representative or average value that indicates where the middle of the data set is located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2. Variation:  A measure of the amount that the values vary among themselv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3. Distribution:  The nature or shape of the distribution of data (such as bell-shaped, uniform, or skewed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4. Outliers:  Sample values that lie very far away from the vast majority of other sample valu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200" spc="-1" strike="noStrike">
                <a:solidFill>
                  <a:srgbClr val="444d26"/>
                </a:solidFill>
                <a:latin typeface="Constantia"/>
              </a:rPr>
              <a:t>5. Time:  Changing characteristics of the data over time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0" name="Slide Number Placeholder 7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FD8D85B2-1F4D-431A-AF24-58088A9EA0EA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990720" y="6858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5"/>
          <p:cNvSpPr/>
          <p:nvPr/>
        </p:nvSpPr>
        <p:spPr>
          <a:xfrm>
            <a:off x="533520" y="3352680"/>
            <a:ext cx="83818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84240" y="128520"/>
            <a:ext cx="8980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Important Characteristics of Dat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87CFDDFE-A5D0-4AFF-BD26-9BF5A50997ED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4"/>
          <p:cNvSpPr/>
          <p:nvPr/>
        </p:nvSpPr>
        <p:spPr>
          <a:xfrm>
            <a:off x="914400" y="9907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smallest numbers that can actually belong to different classes a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Upp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Class boundarie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Midpoin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Low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lide Number Placeholder 3"/>
          <p:cNvSpPr/>
          <p:nvPr/>
        </p:nvSpPr>
        <p:spPr>
          <a:xfrm>
            <a:off x="762120" y="62485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Slide 2- </a:t>
            </a:r>
            <a:fld id="{D9DD68D0-2AB2-4E1B-8999-CCB4E603AF42}" type="slidenum">
              <a:rPr b="0" i="1" lang="en-US" sz="8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Footer Placeholder 4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Text Box 2"/>
          <p:cNvSpPr/>
          <p:nvPr/>
        </p:nvSpPr>
        <p:spPr>
          <a:xfrm>
            <a:off x="914400" y="9907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The smallest numbers that can actually belong to different classes are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Upp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Class boundarie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Midpoin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444d2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44d26"/>
                </a:solidFill>
                <a:latin typeface="Times New Roman"/>
              </a:rPr>
              <a:t>Lower class limits.</a:t>
            </a:r>
            <a:endParaRPr b="0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Oval 3"/>
          <p:cNvSpPr/>
          <p:nvPr/>
        </p:nvSpPr>
        <p:spPr>
          <a:xfrm>
            <a:off x="752400" y="4538520"/>
            <a:ext cx="4032360" cy="7477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990720" y="2107800"/>
            <a:ext cx="7162560" cy="36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n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have not been summarized in any way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are also called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raw data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Grouped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have been organized into a frequency distribution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B4DCB93-CC4A-4D11-A43C-E4C333B764FD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Footer Placeholder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Rectangle 4" descr=""/>
          <p:cNvPicPr/>
          <p:nvPr/>
        </p:nvPicPr>
        <p:blipFill>
          <a:blip r:embed="rId1"/>
          <a:stretch/>
        </p:blipFill>
        <p:spPr>
          <a:xfrm>
            <a:off x="774720" y="208080"/>
            <a:ext cx="7358040" cy="13888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9D2B8FC7-DEEC-4941-8ECA-DE4882F1A86E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Footer Placeholder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4" name="Rectangle 2" descr=""/>
          <p:cNvPicPr/>
          <p:nvPr/>
        </p:nvPicPr>
        <p:blipFill>
          <a:blip r:embed="rId1"/>
          <a:stretch/>
        </p:blipFill>
        <p:spPr>
          <a:xfrm>
            <a:off x="-195120" y="0"/>
            <a:ext cx="9369360" cy="1620720"/>
          </a:xfrm>
          <a:prstGeom prst="rect">
            <a:avLst/>
          </a:prstGeom>
          <a:ln w="0">
            <a:noFill/>
          </a:ln>
        </p:spPr>
      </p:pic>
      <p:sp>
        <p:nvSpPr>
          <p:cNvPr id="535" name="AutoShape 3"/>
          <p:cNvSpPr txBox="1"/>
          <p:nvPr/>
        </p:nvSpPr>
        <p:spPr>
          <a:xfrm>
            <a:off x="846000" y="1447920"/>
            <a:ext cx="77630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52  59  32  61  74  48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2438280" y="5200560"/>
            <a:ext cx="46483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? ? ? ? ? ? ?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7" name="WordArt 5"/>
          <p:cNvSpPr txBox="1"/>
          <p:nvPr/>
        </p:nvSpPr>
        <p:spPr>
          <a:xfrm>
            <a:off x="838080" y="3295800"/>
            <a:ext cx="77724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66  46  70  61  53  40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56840" y="2119320"/>
            <a:ext cx="85345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That’s what a frequency distribution is for—to help impose order on the dat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A </a:t>
            </a:r>
            <a:r>
              <a:rPr b="1" lang="en-US" sz="2600" spc="-1" strike="noStrike" u="sng">
                <a:solidFill>
                  <a:srgbClr val="444d26"/>
                </a:solidFill>
                <a:uFillTx/>
                <a:latin typeface="Constantia"/>
                <a:ea typeface="Times New Roman"/>
              </a:rPr>
              <a:t>frequency distribution</a:t>
            </a:r>
            <a:r>
              <a:rPr b="1" lang="en-US" sz="2600" spc="-1" strike="noStrike">
                <a:solidFill>
                  <a:srgbClr val="444d26"/>
                </a:solidFill>
                <a:latin typeface="Constantia"/>
                <a:ea typeface="Times New Roman"/>
              </a:rPr>
              <a:t> is a systematic arrangement of data values, with a count of how many times each value occurred in a datas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3BDE2C5D-8AB0-43F5-B429-8CCD1F6C2412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ooter Placeholder 5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Rectangle 2" descr=""/>
          <p:cNvPicPr/>
          <p:nvPr/>
        </p:nvPicPr>
        <p:blipFill>
          <a:blip r:embed="rId1"/>
          <a:stretch/>
        </p:blipFill>
        <p:spPr>
          <a:xfrm>
            <a:off x="-231840" y="0"/>
            <a:ext cx="9375840" cy="1652760"/>
          </a:xfrm>
          <a:prstGeom prst="rect">
            <a:avLst/>
          </a:prstGeom>
          <a:ln w="0">
            <a:noFill/>
          </a:ln>
        </p:spPr>
      </p:pic>
      <p:sp>
        <p:nvSpPr>
          <p:cNvPr id="542" name="WordArt 4"/>
          <p:cNvSpPr txBox="1"/>
          <p:nvPr/>
        </p:nvSpPr>
        <p:spPr>
          <a:xfrm>
            <a:off x="3124080" y="152388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ELP!!</a:t>
            </a:r>
            <a:endParaRPr b="0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258840" y="1506600"/>
            <a:ext cx="8400960" cy="42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When working with large data sets, it is often helpful to organize and summarize data by constructing a table called a frequency distribu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buClr>
                <a:srgbClr val="f3a447"/>
              </a:buClr>
              <a:buSzPct val="15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5000"/>
              </a:lnSpc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1B17E970-61BB-4D9B-A73D-54AE7ADA7663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Foot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457200" y="177840"/>
            <a:ext cx="8166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Key Concept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15440" y="1066680"/>
            <a:ext cx="8542440" cy="489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 algn="just">
              <a:lnSpc>
                <a:spcPct val="120000"/>
              </a:lnSpc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d26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Frequency Distribution (or Frequency Table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44d26"/>
                </a:solidFill>
                <a:latin typeface="Constantia"/>
              </a:rPr>
              <a:t>	</a:t>
            </a:r>
            <a:r>
              <a:rPr b="1" lang="en-US" sz="2800" spc="-1" strike="noStrike">
                <a:solidFill>
                  <a:srgbClr val="444d26"/>
                </a:solidFill>
                <a:latin typeface="Constantia"/>
              </a:rPr>
              <a:t>lists data values (either individually or by groups of intervals), along with their corresponding frequencies or count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2-</a:t>
            </a:r>
            <a:fld id="{B8B7EE04-1D31-4196-A9F3-DAEF7CB18768}" type="slidenum">
              <a:rPr b="0" i="1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i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7696080" y="6248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efac9"/>
                </a:solidFill>
                <a:latin typeface="Times New Roman"/>
              </a:rPr>
              <a:t>Dr. Wajed Hatamleh week 2</a:t>
            </a:r>
            <a:endParaRPr b="0" i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57200" y="177840"/>
            <a:ext cx="81662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Times New Roman"/>
              </a:rPr>
              <a:t>Definition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7T20:29:06Z</dcterms:created>
  <dc:creator>Aaron Brown</dc:creator>
  <dc:description>abrown@astate.edu</dc:description>
  <dc:language>en-US</dc:language>
  <cp:lastModifiedBy>Mutazz</cp:lastModifiedBy>
  <dcterms:modified xsi:type="dcterms:W3CDTF">2011-09-24T06:10:54Z</dcterms:modified>
  <cp:revision>37</cp:revision>
  <dc:subject/>
  <dc:title>Chapter 2</dc:title>
</cp:coreProperties>
</file>