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28576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638CEF0C-791F-4D71-96DD-1DFE8D90BF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7791-3685-4CD6-A7B0-FF3CE3D011EF}" type="slidenum"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76A1-2F7F-4C22-8AC5-B10B21B11338}" type="slidenum"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1EAF-17A5-41A5-95FB-ACDD2FCF4C60}" type="slidenum"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C58-14E7-41EE-81F4-C29B8964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FBB-F5E0-4539-AAFA-EE675CD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913D4E-6A11-479B-969F-73A86DBC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FEF9ED-9792-4F95-A99D-790A6B2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86C9CC-6C32-4BA6-99D1-951FCC8D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822916-0624-49D2-8DFC-D13DECD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3B28F-522B-4030-BB36-FC27ECC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739259-5D8C-48D7-959E-8C4E332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4DC532-40A9-48C4-AF39-265EE86B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A77BC6-6BEB-436B-80AF-A8F6A88C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4CBDA-5A47-412A-84A5-27ECDB56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C3614-D99D-4EA2-9F05-2C094EA4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C8D-219D-4927-A71A-5A934684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FEF4E-909B-4186-A106-80529440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090BF5-AB05-4878-ABD4-7E7C3B11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C061A2-5414-412C-BFF6-1D3BEB38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A5AD5C-3A6B-43EE-B827-2BAF00E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A4258A-1F3F-4692-BED9-8A605CB8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5B78F7-57CA-4E78-911E-D2093676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101F99-3303-4E96-9B3C-E6F68A2D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F563DD-2FE7-4A48-B1E9-776DD7D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B41A0B-F21E-454A-A7F8-4DEDEC0D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F47170-02B6-4D86-B652-F33C3A77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C6F-0AE1-4C91-A5C1-B740DBB3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F4846D-6EA7-4431-8DDB-B848F361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CA71E-CA39-4A0D-958D-5A5B88D5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445A1-B005-4C59-B194-D9CB2B35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91996-1A29-40CC-8D65-40E83D92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415C4-D13D-4BD9-8012-5F06F9DD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86194-9E9A-4848-9144-1CE9E19B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8E6C5-7046-42D2-8B39-165A3FF0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1553E-5819-4E96-BD1F-27A5BFE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AC199-990D-49A1-A8CF-BC8F84A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30FC4-5903-463E-9554-873537E2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73BA1-CE22-4E99-B30B-7247EDEE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81676-E749-41A2-BEE4-574D26A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09EB4-AB0E-4F8F-87B7-76AFC8D1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A6579-6E0E-460F-AC24-FF8FC0A2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193BF-488E-47EA-9AD7-E57ADED1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B5CE8-A0C4-4521-9AE3-69E14AFC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885C7-617C-46E7-A970-3DD07078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6FDD0-AFFA-4A95-A810-87E11C1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616E2-FA63-4D56-8AC3-B7E02E9D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BB1FB-3057-4232-A1E1-54697546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52AC6-3C1C-4B5C-B003-A988AB4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4EC0C-B15A-470B-8F87-AADC0447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03BF4-4CE6-4ACD-8779-40B816CA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8A9A3-5B2D-4A72-A1EB-1A72FAAB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4DB6A-4E4F-4056-BE36-C9CAA865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2235-A723-4C9F-A6C2-996C1658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5AAD8-E11D-41D8-9083-97FFE5D7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F9A08-476F-4B58-B616-EA488A3E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8020E-8804-4AD3-BB44-6397227F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32852-83A0-4BE6-87E6-38A1F43A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F7712-4E2C-44C9-AA55-2DAA93C1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C37DE-B23F-48FA-846C-B920FC1D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7D0-621B-4AE5-88D4-68AA7107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1DD41-A97A-4ECE-8F5C-ED5B1A20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54441-C26A-4251-A737-A17FEAD9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3A1EF-C70A-4817-AD4D-DA1A38E0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052B0-BD4B-4DE8-889A-CBA3DBDA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DC6DE-5E33-4909-B6CB-351D9BB4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F7E84-107F-40BC-87BB-F2C250D2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2E9C7-15E7-4441-BF01-BD87784F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1D104-ADE8-4CFD-976E-3017C7FA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AB552-1E74-4706-AEE9-169B3EFC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95F6E-79C5-4EEE-9ECA-48D3FF7B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FE5-42F7-4D5E-9625-DE15ADE0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FEC42-027B-4331-A211-C2743C45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65E71-8CEA-4DDD-88D2-FC565E7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A4DED-EAAC-4A2D-A783-118E88A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DE11F-176B-421B-8DF3-A09D2409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66E60-030E-4693-ADF8-553D1F92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88433-865D-42DE-8B2B-8EC93522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4AD7F-04A0-474A-9005-9D2469AB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8DDE-3297-416E-B67E-B3E216F9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A5BB-9D4E-40B7-A6AF-3749C1BD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C9EAA-0D10-4413-B20C-7D789BFD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2CE-1F61-4698-9667-75E55519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5DD7-9D51-4842-AB6C-ABC66105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09A02-4FAB-43AB-B252-3AA66DB0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DC679-561D-4A7E-A9A5-51F2B443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1D74A-1ACF-4176-AFBB-6A48DCA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0761-B225-449E-A4B4-4628E8CD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13D2-77D4-455E-BB71-B0666F0A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6A45-E7D5-4A6B-BE62-B01D666A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23C96-8111-4530-8A59-F45180C6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03E9-4E7A-498B-8248-07C0E7FC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91AF6-912F-4502-A75C-EDBDA547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E1A-5AF7-4AD7-A97C-64F3400F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C42B-6261-4011-A2EA-B387F14F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AB22-A0B4-421C-83F1-9EF6FB47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72C35-9A00-48F5-8BE9-6180EB9D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2A87-BD76-4B4B-96F0-4828B9E2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C1F57-55A9-4803-9606-E574876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33A20-9265-42E5-80E5-55855180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D79F-1030-40B2-BA7C-A056818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BF84-D87F-4A24-9998-4473434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C3168-8228-4885-BB01-4D41BA6E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5B61D-1755-44DE-A2D3-0C798890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10E-E79D-48E1-AAEC-18FF42C2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BE8A8-EE39-4E29-A8A9-3C4BE488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B74ED-EE14-4416-BC17-8E91D637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1AE130-DF29-46C3-82AC-84EBF096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6AE0E-0BB8-4FAA-9319-A8325030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E72256-77E0-4102-9F5F-08B22E72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9990BF-5298-4583-93FC-F9915764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F4BDAB-6F53-40E1-85FB-846CB695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F73813-C8F6-436B-A026-4468DC74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3FD36-FF3C-4ED3-A81D-5FDA43CE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7A3449-C5DA-45FA-848B-B73EADF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6CB-1BCD-4BD4-9726-3D5EA51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B39B45-299A-4D0C-A030-03921AB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58529-17C0-4999-A4AE-3000FDB6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300142-8A46-4E54-940C-9ADF9C7E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B8A1D-C87A-4180-83E4-7BD2CF29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F2D6-0719-4348-B7F0-4CBFFD3F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1B9C7-0B96-4B7E-A654-7D145412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F17F-4BAD-4496-B5E5-3D80659E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BCC33-C26F-4714-AD23-D771AD66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F338-0EFA-4B39-B463-5BB34B5D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B7871-2CF1-4A67-8033-281765C9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AC6-0540-4EB1-973A-094B0F3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1A07-B249-447F-B4C2-68CB706D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69F9-92E8-4B22-BDB5-0432D82E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33487-CBEC-44D6-B4C6-1187E48F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6B3D4-4726-4A0F-9F28-13B849C8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53611-33F0-48F4-876D-1B2732A3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FB292-2B87-4064-B1AA-331761E4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A2E14-9184-4344-BBC7-0E8977D6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A27F7-8631-4A41-9900-54BF71A6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E6EB-10DF-451D-9B52-A8AE8EFD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DBBA1-A34F-4012-A16C-294741C3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CEB-AC62-4159-A811-B5FE790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D871-3504-4E05-B05A-CAD451AC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12913-A85D-4543-8964-6904B77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40516-9125-4FDC-A0E7-39551D3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7A703-094C-421A-B6A7-A760A96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DE9F1-ED92-48CF-A99E-1DA9C740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BB415-6464-419F-86A1-CCEF8546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3A761-3C3D-4888-905C-74583E05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81EE11-8BBE-424C-A543-DFFEFC30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A71FDD-DD5E-45D8-A5AC-DF2F8366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BE5AF-6CE7-4843-BE48-6ED5021A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3C20341C-12AB-4755-A3A1-D773A67B961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BE31D4DB-241C-4BA1-95BC-9CF4EEF428E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3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08093219-A03D-4BD9-A61E-DE2B083878E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2BE701B0-D8AE-4E73-97F1-6024B78174C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1-</a:t>
            </a:r>
            <a:fld id="{71DF78A5-8058-4878-BE0F-EC43DFFA962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38FC459-D646-4530-96B0-6D80DD7F77E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C151175D-40F4-49A5-B281-9969666FF6A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C7CC14F7-9754-428B-BAD0-D558B445222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2FE9C2B4-9D47-4D78-B6C1-2CE3CE0BF9B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A6F8DF53-999A-4337-919A-54F5710AAE0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527B04B2-42CB-4935-AD53-3ACCE2A6337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D1467701-985E-4DF3-9059-5343E0C48BF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4d26"/>
                </a:solidFill>
                <a:latin typeface="Constantia"/>
              </a:rPr>
              <a:t>Frequency Distribution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4d26"/>
                </a:solidFill>
                <a:latin typeface="Constantia"/>
              </a:rPr>
              <a:t>Dr. Wajed Hatamleh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03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54040"/>
          </a:xfrm>
          <a:prstGeom prst="rect">
            <a:avLst/>
          </a:prstGeom>
          <a:ln w="0">
            <a:noFill/>
          </a:ln>
        </p:spPr>
      </p:pic>
      <p:sp>
        <p:nvSpPr>
          <p:cNvPr id="504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1-</a:t>
            </a:r>
            <a:fld id="{FFC38AEC-7444-447D-B9BE-0647BB3F3A9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990720" y="210780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Un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44d26"/>
                </a:solidFill>
                <a:latin typeface="Constantia"/>
              </a:rPr>
              <a:t>have not been summarized in any way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44d26"/>
                </a:solidFill>
                <a:latin typeface="Constantia"/>
              </a:rPr>
              <a:t>are also called </a:t>
            </a:r>
            <a:r>
              <a:rPr b="1" lang="en-US" sz="3000" spc="-1" strike="noStrike" u="sng">
                <a:solidFill>
                  <a:srgbClr val="444d26"/>
                </a:solidFill>
                <a:uFillTx/>
                <a:latin typeface="Constantia"/>
              </a:rPr>
              <a:t>raw data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44d26"/>
                </a:solidFill>
                <a:latin typeface="Constantia"/>
              </a:rPr>
              <a:t>have been organized into a frequency distribution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30BA0690-764D-4646-91AA-632ADB1E407D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Rectangle 4" descr=""/>
          <p:cNvPicPr/>
          <p:nvPr/>
        </p:nvPicPr>
        <p:blipFill>
          <a:blip r:embed="rId1"/>
          <a:stretch/>
        </p:blipFill>
        <p:spPr>
          <a:xfrm>
            <a:off x="774720" y="208080"/>
            <a:ext cx="7358040" cy="13888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C01681EA-ED77-4E72-8D07-8DF031271AB4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Group 60"/>
          <p:cNvGrpSpPr/>
          <p:nvPr/>
        </p:nvGrpSpPr>
        <p:grpSpPr>
          <a:xfrm>
            <a:off x="1904400" y="2209680"/>
            <a:ext cx="2631960" cy="3557880"/>
            <a:chOff x="1904400" y="2209680"/>
            <a:chExt cx="2631960" cy="3557880"/>
          </a:xfrm>
        </p:grpSpPr>
        <p:grpSp>
          <p:nvGrpSpPr>
            <p:cNvPr id="563" name="Group 15"/>
            <p:cNvGrpSpPr/>
            <p:nvPr/>
          </p:nvGrpSpPr>
          <p:grpSpPr>
            <a:xfrm>
              <a:off x="1904400" y="2209680"/>
              <a:ext cx="379440" cy="3557880"/>
              <a:chOff x="1904400" y="2209680"/>
              <a:chExt cx="379440" cy="3557880"/>
            </a:xfrm>
          </p:grpSpPr>
          <p:sp>
            <p:nvSpPr>
              <p:cNvPr id="564" name="Rectangle 5"/>
              <p:cNvSpPr/>
              <p:nvPr/>
            </p:nvSpPr>
            <p:spPr>
              <a:xfrm>
                <a:off x="190440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Rectangle 6"/>
              <p:cNvSpPr/>
              <p:nvPr/>
            </p:nvSpPr>
            <p:spPr>
              <a:xfrm>
                <a:off x="190440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Rectangle 7"/>
              <p:cNvSpPr/>
              <p:nvPr/>
            </p:nvSpPr>
            <p:spPr>
              <a:xfrm>
                <a:off x="190440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8"/>
              <p:cNvSpPr/>
              <p:nvPr/>
            </p:nvSpPr>
            <p:spPr>
              <a:xfrm>
                <a:off x="190440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Rectangle 9"/>
              <p:cNvSpPr/>
              <p:nvPr/>
            </p:nvSpPr>
            <p:spPr>
              <a:xfrm>
                <a:off x="190440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Rectangle 10"/>
              <p:cNvSpPr/>
              <p:nvPr/>
            </p:nvSpPr>
            <p:spPr>
              <a:xfrm>
                <a:off x="190440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Rectangle 11"/>
              <p:cNvSpPr/>
              <p:nvPr/>
            </p:nvSpPr>
            <p:spPr>
              <a:xfrm>
                <a:off x="190440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12"/>
              <p:cNvSpPr/>
              <p:nvPr/>
            </p:nvSpPr>
            <p:spPr>
              <a:xfrm>
                <a:off x="190440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13"/>
              <p:cNvSpPr/>
              <p:nvPr/>
            </p:nvSpPr>
            <p:spPr>
              <a:xfrm>
                <a:off x="190440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6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Rectangle 14"/>
              <p:cNvSpPr/>
              <p:nvPr/>
            </p:nvSpPr>
            <p:spPr>
              <a:xfrm>
                <a:off x="190440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7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26"/>
            <p:cNvGrpSpPr/>
            <p:nvPr/>
          </p:nvGrpSpPr>
          <p:grpSpPr>
            <a:xfrm>
              <a:off x="2467800" y="2209680"/>
              <a:ext cx="379440" cy="3557880"/>
              <a:chOff x="2467800" y="2209680"/>
              <a:chExt cx="379440" cy="3557880"/>
            </a:xfrm>
          </p:grpSpPr>
          <p:sp>
            <p:nvSpPr>
              <p:cNvPr id="575" name="Rectangle 16"/>
              <p:cNvSpPr/>
              <p:nvPr/>
            </p:nvSpPr>
            <p:spPr>
              <a:xfrm>
                <a:off x="246780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Rectangle 17"/>
              <p:cNvSpPr/>
              <p:nvPr/>
            </p:nvSpPr>
            <p:spPr>
              <a:xfrm>
                <a:off x="246780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Rectangle 18"/>
              <p:cNvSpPr/>
              <p:nvPr/>
            </p:nvSpPr>
            <p:spPr>
              <a:xfrm>
                <a:off x="246780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Rectangle 19"/>
              <p:cNvSpPr/>
              <p:nvPr/>
            </p:nvSpPr>
            <p:spPr>
              <a:xfrm>
                <a:off x="246780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Rectangle 20"/>
              <p:cNvSpPr/>
              <p:nvPr/>
            </p:nvSpPr>
            <p:spPr>
              <a:xfrm>
                <a:off x="246780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Rectangle 21"/>
              <p:cNvSpPr/>
              <p:nvPr/>
            </p:nvSpPr>
            <p:spPr>
              <a:xfrm>
                <a:off x="246780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22"/>
              <p:cNvSpPr/>
              <p:nvPr/>
            </p:nvSpPr>
            <p:spPr>
              <a:xfrm>
                <a:off x="246780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Rectangle 23"/>
              <p:cNvSpPr/>
              <p:nvPr/>
            </p:nvSpPr>
            <p:spPr>
              <a:xfrm>
                <a:off x="246780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Rectangle 24"/>
              <p:cNvSpPr/>
              <p:nvPr/>
            </p:nvSpPr>
            <p:spPr>
              <a:xfrm>
                <a:off x="246780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Rectangle 25"/>
              <p:cNvSpPr/>
              <p:nvPr/>
            </p:nvSpPr>
            <p:spPr>
              <a:xfrm>
                <a:off x="246780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7"/>
            <p:cNvGrpSpPr/>
            <p:nvPr/>
          </p:nvGrpSpPr>
          <p:grpSpPr>
            <a:xfrm>
              <a:off x="3030120" y="2209680"/>
              <a:ext cx="379440" cy="3557880"/>
              <a:chOff x="3030120" y="2209680"/>
              <a:chExt cx="379440" cy="3557880"/>
            </a:xfrm>
          </p:grpSpPr>
          <p:sp>
            <p:nvSpPr>
              <p:cNvPr id="586" name="Rectangle 27"/>
              <p:cNvSpPr/>
              <p:nvPr/>
            </p:nvSpPr>
            <p:spPr>
              <a:xfrm>
                <a:off x="303012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Rectangle 28"/>
              <p:cNvSpPr/>
              <p:nvPr/>
            </p:nvSpPr>
            <p:spPr>
              <a:xfrm>
                <a:off x="303012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Rectangle 29"/>
              <p:cNvSpPr/>
              <p:nvPr/>
            </p:nvSpPr>
            <p:spPr>
              <a:xfrm>
                <a:off x="303012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30"/>
              <p:cNvSpPr/>
              <p:nvPr/>
            </p:nvSpPr>
            <p:spPr>
              <a:xfrm>
                <a:off x="303012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31"/>
              <p:cNvSpPr/>
              <p:nvPr/>
            </p:nvSpPr>
            <p:spPr>
              <a:xfrm>
                <a:off x="303012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32"/>
              <p:cNvSpPr/>
              <p:nvPr/>
            </p:nvSpPr>
            <p:spPr>
              <a:xfrm>
                <a:off x="303012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Rectangle 33"/>
              <p:cNvSpPr/>
              <p:nvPr/>
            </p:nvSpPr>
            <p:spPr>
              <a:xfrm>
                <a:off x="303012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Rectangle 34"/>
              <p:cNvSpPr/>
              <p:nvPr/>
            </p:nvSpPr>
            <p:spPr>
              <a:xfrm>
                <a:off x="303012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Rectangle 35"/>
              <p:cNvSpPr/>
              <p:nvPr/>
            </p:nvSpPr>
            <p:spPr>
              <a:xfrm>
                <a:off x="303012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Rectangle 36"/>
              <p:cNvSpPr/>
              <p:nvPr/>
            </p:nvSpPr>
            <p:spPr>
              <a:xfrm>
                <a:off x="303012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48"/>
            <p:cNvGrpSpPr/>
            <p:nvPr/>
          </p:nvGrpSpPr>
          <p:grpSpPr>
            <a:xfrm>
              <a:off x="3593520" y="2209680"/>
              <a:ext cx="379440" cy="3557880"/>
              <a:chOff x="3593520" y="2209680"/>
              <a:chExt cx="379440" cy="3557880"/>
            </a:xfrm>
          </p:grpSpPr>
          <p:sp>
            <p:nvSpPr>
              <p:cNvPr id="597" name="Rectangle 38"/>
              <p:cNvSpPr/>
              <p:nvPr/>
            </p:nvSpPr>
            <p:spPr>
              <a:xfrm>
                <a:off x="359352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39"/>
              <p:cNvSpPr/>
              <p:nvPr/>
            </p:nvSpPr>
            <p:spPr>
              <a:xfrm>
                <a:off x="359352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40"/>
              <p:cNvSpPr/>
              <p:nvPr/>
            </p:nvSpPr>
            <p:spPr>
              <a:xfrm>
                <a:off x="359352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41"/>
              <p:cNvSpPr/>
              <p:nvPr/>
            </p:nvSpPr>
            <p:spPr>
              <a:xfrm>
                <a:off x="359352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Rectangle 42"/>
              <p:cNvSpPr/>
              <p:nvPr/>
            </p:nvSpPr>
            <p:spPr>
              <a:xfrm>
                <a:off x="359352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Rectangle 43"/>
              <p:cNvSpPr/>
              <p:nvPr/>
            </p:nvSpPr>
            <p:spPr>
              <a:xfrm>
                <a:off x="359352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Rectangle 44"/>
              <p:cNvSpPr/>
              <p:nvPr/>
            </p:nvSpPr>
            <p:spPr>
              <a:xfrm>
                <a:off x="359352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6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Rectangle 45"/>
              <p:cNvSpPr/>
              <p:nvPr/>
            </p:nvSpPr>
            <p:spPr>
              <a:xfrm>
                <a:off x="359352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Rectangle 46"/>
              <p:cNvSpPr/>
              <p:nvPr/>
            </p:nvSpPr>
            <p:spPr>
              <a:xfrm>
                <a:off x="359352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47"/>
              <p:cNvSpPr/>
              <p:nvPr/>
            </p:nvSpPr>
            <p:spPr>
              <a:xfrm>
                <a:off x="359352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59"/>
            <p:cNvGrpSpPr/>
            <p:nvPr/>
          </p:nvGrpSpPr>
          <p:grpSpPr>
            <a:xfrm>
              <a:off x="4156920" y="2209680"/>
              <a:ext cx="379440" cy="3557880"/>
              <a:chOff x="4156920" y="2209680"/>
              <a:chExt cx="379440" cy="3557880"/>
            </a:xfrm>
          </p:grpSpPr>
          <p:sp>
            <p:nvSpPr>
              <p:cNvPr id="608" name="Rectangle 49"/>
              <p:cNvSpPr/>
              <p:nvPr/>
            </p:nvSpPr>
            <p:spPr>
              <a:xfrm>
                <a:off x="415692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50"/>
              <p:cNvSpPr/>
              <p:nvPr/>
            </p:nvSpPr>
            <p:spPr>
              <a:xfrm>
                <a:off x="415692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Rectangle 51"/>
              <p:cNvSpPr/>
              <p:nvPr/>
            </p:nvSpPr>
            <p:spPr>
              <a:xfrm>
                <a:off x="415692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Rectangle 52"/>
              <p:cNvSpPr/>
              <p:nvPr/>
            </p:nvSpPr>
            <p:spPr>
              <a:xfrm>
                <a:off x="415692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Rectangle 53"/>
              <p:cNvSpPr/>
              <p:nvPr/>
            </p:nvSpPr>
            <p:spPr>
              <a:xfrm>
                <a:off x="415692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Rectangle 54"/>
              <p:cNvSpPr/>
              <p:nvPr/>
            </p:nvSpPr>
            <p:spPr>
              <a:xfrm>
                <a:off x="415692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Rectangle 55"/>
              <p:cNvSpPr/>
              <p:nvPr/>
            </p:nvSpPr>
            <p:spPr>
              <a:xfrm>
                <a:off x="415692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Rectangle 56"/>
              <p:cNvSpPr/>
              <p:nvPr/>
            </p:nvSpPr>
            <p:spPr>
              <a:xfrm>
                <a:off x="415692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Rectangle 57"/>
              <p:cNvSpPr/>
              <p:nvPr/>
            </p:nvSpPr>
            <p:spPr>
              <a:xfrm>
                <a:off x="415692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6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58"/>
              <p:cNvSpPr/>
              <p:nvPr/>
            </p:nvSpPr>
            <p:spPr>
              <a:xfrm>
                <a:off x="415692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Rectangle 61"/>
          <p:cNvSpPr/>
          <p:nvPr/>
        </p:nvSpPr>
        <p:spPr>
          <a:xfrm>
            <a:off x="5105520" y="2362320"/>
            <a:ext cx="304776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Times New Roman"/>
              </a:rPr>
              <a:t>Ages of a Sample of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Times New Roman"/>
              </a:rPr>
              <a:t>Nurses Managers from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Times New Roman"/>
              </a:rPr>
              <a:t>KFH, KSA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990720" y="210780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44d26"/>
                </a:solidFill>
                <a:uFillTx/>
                <a:latin typeface="Constantia"/>
              </a:rPr>
              <a:t>Class Interval</a:t>
            </a:r>
            <a:r>
              <a:rPr b="1" lang="en-US" sz="2800" spc="-1" strike="noStrike" u="sng">
                <a:solidFill>
                  <a:srgbClr val="444d26"/>
                </a:solidFill>
                <a:uFillTx/>
                <a:latin typeface="Constantia"/>
              </a:rPr>
              <a:t>	</a:t>
            </a:r>
            <a:r>
              <a:rPr b="1" lang="en-US" sz="2800" spc="-1" strike="noStrike" u="sng">
                <a:solidFill>
                  <a:srgbClr val="444d26"/>
                </a:solidFill>
                <a:uFillTx/>
                <a:latin typeface="Constantia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20-under 3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30-under 4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40-under 5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50-under 6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60-under 7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70-under 8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E65F5F37-4E96-4FB4-9191-263F341F90B6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Rectangle 4" descr=""/>
          <p:cNvPicPr/>
          <p:nvPr/>
        </p:nvPicPr>
        <p:blipFill>
          <a:blip r:embed="rId1"/>
          <a:stretch/>
        </p:blipFill>
        <p:spPr>
          <a:xfrm>
            <a:off x="774720" y="133200"/>
            <a:ext cx="7558200" cy="20923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D8D9E1F9-9724-4DEC-BB84-B170CDCBE176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Group 60"/>
          <p:cNvGrpSpPr/>
          <p:nvPr/>
        </p:nvGrpSpPr>
        <p:grpSpPr>
          <a:xfrm>
            <a:off x="1121760" y="2173320"/>
            <a:ext cx="2631960" cy="3557880"/>
            <a:chOff x="1121760" y="2173320"/>
            <a:chExt cx="2631960" cy="3557880"/>
          </a:xfrm>
        </p:grpSpPr>
        <p:grpSp>
          <p:nvGrpSpPr>
            <p:cNvPr id="631" name="Group 15"/>
            <p:cNvGrpSpPr/>
            <p:nvPr/>
          </p:nvGrpSpPr>
          <p:grpSpPr>
            <a:xfrm>
              <a:off x="1121760" y="2173320"/>
              <a:ext cx="379440" cy="3557880"/>
              <a:chOff x="1121760" y="2173320"/>
              <a:chExt cx="379440" cy="3557880"/>
            </a:xfrm>
          </p:grpSpPr>
          <p:sp>
            <p:nvSpPr>
              <p:cNvPr id="632" name="Rectangle 5"/>
              <p:cNvSpPr/>
              <p:nvPr/>
            </p:nvSpPr>
            <p:spPr>
              <a:xfrm>
                <a:off x="112176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Rectangle 6"/>
              <p:cNvSpPr/>
              <p:nvPr/>
            </p:nvSpPr>
            <p:spPr>
              <a:xfrm>
                <a:off x="112176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Rectangle 7"/>
              <p:cNvSpPr/>
              <p:nvPr/>
            </p:nvSpPr>
            <p:spPr>
              <a:xfrm>
                <a:off x="112176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Rectangle 8"/>
              <p:cNvSpPr/>
              <p:nvPr/>
            </p:nvSpPr>
            <p:spPr>
              <a:xfrm>
                <a:off x="112176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9"/>
              <p:cNvSpPr/>
              <p:nvPr/>
            </p:nvSpPr>
            <p:spPr>
              <a:xfrm>
                <a:off x="112176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Rectangle 10"/>
              <p:cNvSpPr/>
              <p:nvPr/>
            </p:nvSpPr>
            <p:spPr>
              <a:xfrm>
                <a:off x="112176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Rectangle 11"/>
              <p:cNvSpPr/>
              <p:nvPr/>
            </p:nvSpPr>
            <p:spPr>
              <a:xfrm>
                <a:off x="112176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Rectangle 12"/>
              <p:cNvSpPr/>
              <p:nvPr/>
            </p:nvSpPr>
            <p:spPr>
              <a:xfrm>
                <a:off x="112176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Rectangle 13"/>
              <p:cNvSpPr/>
              <p:nvPr/>
            </p:nvSpPr>
            <p:spPr>
              <a:xfrm>
                <a:off x="112176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Rectangle 14"/>
              <p:cNvSpPr/>
              <p:nvPr/>
            </p:nvSpPr>
            <p:spPr>
              <a:xfrm>
                <a:off x="112176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6"/>
            <p:cNvGrpSpPr/>
            <p:nvPr/>
          </p:nvGrpSpPr>
          <p:grpSpPr>
            <a:xfrm>
              <a:off x="1685160" y="2173320"/>
              <a:ext cx="379440" cy="3557880"/>
              <a:chOff x="1685160" y="2173320"/>
              <a:chExt cx="379440" cy="3557880"/>
            </a:xfrm>
          </p:grpSpPr>
          <p:sp>
            <p:nvSpPr>
              <p:cNvPr id="643" name="Rectangle 16"/>
              <p:cNvSpPr/>
              <p:nvPr/>
            </p:nvSpPr>
            <p:spPr>
              <a:xfrm>
                <a:off x="168516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Rectangle 17"/>
              <p:cNvSpPr/>
              <p:nvPr/>
            </p:nvSpPr>
            <p:spPr>
              <a:xfrm>
                <a:off x="168516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Rectangle 18"/>
              <p:cNvSpPr/>
              <p:nvPr/>
            </p:nvSpPr>
            <p:spPr>
              <a:xfrm>
                <a:off x="168516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Rectangle 19"/>
              <p:cNvSpPr/>
              <p:nvPr/>
            </p:nvSpPr>
            <p:spPr>
              <a:xfrm>
                <a:off x="168516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Rectangle 20"/>
              <p:cNvSpPr/>
              <p:nvPr/>
            </p:nvSpPr>
            <p:spPr>
              <a:xfrm>
                <a:off x="168516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Rectangle 21"/>
              <p:cNvSpPr/>
              <p:nvPr/>
            </p:nvSpPr>
            <p:spPr>
              <a:xfrm>
                <a:off x="168516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Rectangle 22"/>
              <p:cNvSpPr/>
              <p:nvPr/>
            </p:nvSpPr>
            <p:spPr>
              <a:xfrm>
                <a:off x="168516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Rectangle 23"/>
              <p:cNvSpPr/>
              <p:nvPr/>
            </p:nvSpPr>
            <p:spPr>
              <a:xfrm>
                <a:off x="168516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24"/>
              <p:cNvSpPr/>
              <p:nvPr/>
            </p:nvSpPr>
            <p:spPr>
              <a:xfrm>
                <a:off x="168516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25"/>
              <p:cNvSpPr/>
              <p:nvPr/>
            </p:nvSpPr>
            <p:spPr>
              <a:xfrm>
                <a:off x="168516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37"/>
            <p:cNvGrpSpPr/>
            <p:nvPr/>
          </p:nvGrpSpPr>
          <p:grpSpPr>
            <a:xfrm>
              <a:off x="2247120" y="2173320"/>
              <a:ext cx="379440" cy="3557880"/>
              <a:chOff x="2247120" y="2173320"/>
              <a:chExt cx="379440" cy="3557880"/>
            </a:xfrm>
          </p:grpSpPr>
          <p:sp>
            <p:nvSpPr>
              <p:cNvPr id="654" name="Rectangle 27"/>
              <p:cNvSpPr/>
              <p:nvPr/>
            </p:nvSpPr>
            <p:spPr>
              <a:xfrm>
                <a:off x="224712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28"/>
              <p:cNvSpPr/>
              <p:nvPr/>
            </p:nvSpPr>
            <p:spPr>
              <a:xfrm>
                <a:off x="224712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29"/>
              <p:cNvSpPr/>
              <p:nvPr/>
            </p:nvSpPr>
            <p:spPr>
              <a:xfrm>
                <a:off x="224712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30"/>
              <p:cNvSpPr/>
              <p:nvPr/>
            </p:nvSpPr>
            <p:spPr>
              <a:xfrm>
                <a:off x="224712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Rectangle 31"/>
              <p:cNvSpPr/>
              <p:nvPr/>
            </p:nvSpPr>
            <p:spPr>
              <a:xfrm>
                <a:off x="224712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Rectangle 32"/>
              <p:cNvSpPr/>
              <p:nvPr/>
            </p:nvSpPr>
            <p:spPr>
              <a:xfrm>
                <a:off x="224712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33"/>
              <p:cNvSpPr/>
              <p:nvPr/>
            </p:nvSpPr>
            <p:spPr>
              <a:xfrm>
                <a:off x="224712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34"/>
              <p:cNvSpPr/>
              <p:nvPr/>
            </p:nvSpPr>
            <p:spPr>
              <a:xfrm>
                <a:off x="224712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35"/>
              <p:cNvSpPr/>
              <p:nvPr/>
            </p:nvSpPr>
            <p:spPr>
              <a:xfrm>
                <a:off x="224712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36"/>
              <p:cNvSpPr/>
              <p:nvPr/>
            </p:nvSpPr>
            <p:spPr>
              <a:xfrm>
                <a:off x="224712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48"/>
            <p:cNvGrpSpPr/>
            <p:nvPr/>
          </p:nvGrpSpPr>
          <p:grpSpPr>
            <a:xfrm>
              <a:off x="2810880" y="2173320"/>
              <a:ext cx="379440" cy="3557880"/>
              <a:chOff x="2810880" y="2173320"/>
              <a:chExt cx="379440" cy="3557880"/>
            </a:xfrm>
          </p:grpSpPr>
          <p:sp>
            <p:nvSpPr>
              <p:cNvPr id="665" name="Rectangle 38"/>
              <p:cNvSpPr/>
              <p:nvPr/>
            </p:nvSpPr>
            <p:spPr>
              <a:xfrm>
                <a:off x="281088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39"/>
              <p:cNvSpPr/>
              <p:nvPr/>
            </p:nvSpPr>
            <p:spPr>
              <a:xfrm>
                <a:off x="281088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Rectangle 40"/>
              <p:cNvSpPr/>
              <p:nvPr/>
            </p:nvSpPr>
            <p:spPr>
              <a:xfrm>
                <a:off x="281088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Rectangle 41"/>
              <p:cNvSpPr/>
              <p:nvPr/>
            </p:nvSpPr>
            <p:spPr>
              <a:xfrm>
                <a:off x="281088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42"/>
              <p:cNvSpPr/>
              <p:nvPr/>
            </p:nvSpPr>
            <p:spPr>
              <a:xfrm>
                <a:off x="281088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43"/>
              <p:cNvSpPr/>
              <p:nvPr/>
            </p:nvSpPr>
            <p:spPr>
              <a:xfrm>
                <a:off x="281088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44"/>
              <p:cNvSpPr/>
              <p:nvPr/>
            </p:nvSpPr>
            <p:spPr>
              <a:xfrm>
                <a:off x="281088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45"/>
              <p:cNvSpPr/>
              <p:nvPr/>
            </p:nvSpPr>
            <p:spPr>
              <a:xfrm>
                <a:off x="281088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46"/>
              <p:cNvSpPr/>
              <p:nvPr/>
            </p:nvSpPr>
            <p:spPr>
              <a:xfrm>
                <a:off x="281088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47"/>
              <p:cNvSpPr/>
              <p:nvPr/>
            </p:nvSpPr>
            <p:spPr>
              <a:xfrm>
                <a:off x="281088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9"/>
            <p:cNvGrpSpPr/>
            <p:nvPr/>
          </p:nvGrpSpPr>
          <p:grpSpPr>
            <a:xfrm>
              <a:off x="3374280" y="2173320"/>
              <a:ext cx="379440" cy="3557880"/>
              <a:chOff x="3374280" y="2173320"/>
              <a:chExt cx="379440" cy="3557880"/>
            </a:xfrm>
          </p:grpSpPr>
          <p:sp>
            <p:nvSpPr>
              <p:cNvPr id="676" name="Rectangle 49"/>
              <p:cNvSpPr/>
              <p:nvPr/>
            </p:nvSpPr>
            <p:spPr>
              <a:xfrm>
                <a:off x="337428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Rectangle 50"/>
              <p:cNvSpPr/>
              <p:nvPr/>
            </p:nvSpPr>
            <p:spPr>
              <a:xfrm>
                <a:off x="337428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Rectangle 51"/>
              <p:cNvSpPr/>
              <p:nvPr/>
            </p:nvSpPr>
            <p:spPr>
              <a:xfrm>
                <a:off x="337428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Rectangle 52"/>
              <p:cNvSpPr/>
              <p:nvPr/>
            </p:nvSpPr>
            <p:spPr>
              <a:xfrm>
                <a:off x="337428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53"/>
              <p:cNvSpPr/>
              <p:nvPr/>
            </p:nvSpPr>
            <p:spPr>
              <a:xfrm>
                <a:off x="337428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Rectangle 54"/>
              <p:cNvSpPr/>
              <p:nvPr/>
            </p:nvSpPr>
            <p:spPr>
              <a:xfrm>
                <a:off x="337428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Rectangle 55"/>
              <p:cNvSpPr/>
              <p:nvPr/>
            </p:nvSpPr>
            <p:spPr>
              <a:xfrm>
                <a:off x="337428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Rectangle 56"/>
              <p:cNvSpPr/>
              <p:nvPr/>
            </p:nvSpPr>
            <p:spPr>
              <a:xfrm>
                <a:off x="337428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Rectangle 57"/>
              <p:cNvSpPr/>
              <p:nvPr/>
            </p:nvSpPr>
            <p:spPr>
              <a:xfrm>
                <a:off x="337428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Rectangle 58"/>
              <p:cNvSpPr/>
              <p:nvPr/>
            </p:nvSpPr>
            <p:spPr>
              <a:xfrm>
                <a:off x="337428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6" name="Oval 61"/>
          <p:cNvSpPr/>
          <p:nvPr/>
        </p:nvSpPr>
        <p:spPr>
          <a:xfrm>
            <a:off x="1092240" y="5435640"/>
            <a:ext cx="406440" cy="33012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2235240" y="3606840"/>
            <a:ext cx="406440" cy="330120"/>
          </a:xfrm>
          <a:prstGeom prst="ellipse">
            <a:avLst/>
          </a:prstGeom>
          <a:noFill/>
          <a:ln w="507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4292640" y="4140360"/>
            <a:ext cx="1549440" cy="4824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Times New Roman"/>
              </a:rPr>
              <a:t>Smalles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64"/>
          <p:cNvSpPr/>
          <p:nvPr/>
        </p:nvSpPr>
        <p:spPr>
          <a:xfrm flipH="1" flipV="1">
            <a:off x="2565360" y="3784680"/>
            <a:ext cx="1727280" cy="660240"/>
          </a:xfrm>
          <a:prstGeom prst="line">
            <a:avLst/>
          </a:prstGeom>
          <a:ln w="50760">
            <a:solidFill>
              <a:srgbClr val="f35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Oval 65"/>
          <p:cNvSpPr/>
          <p:nvPr/>
        </p:nvSpPr>
        <p:spPr>
          <a:xfrm>
            <a:off x="4292640" y="4978440"/>
            <a:ext cx="1549440" cy="4824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Times New Roman"/>
              </a:rPr>
              <a:t>Larges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Line 66"/>
          <p:cNvSpPr/>
          <p:nvPr/>
        </p:nvSpPr>
        <p:spPr>
          <a:xfrm flipH="1">
            <a:off x="1498320" y="5283360"/>
            <a:ext cx="2793960" cy="25380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2" name="Object 67"/>
          <p:cNvGraphicFramePr/>
          <p:nvPr/>
        </p:nvGraphicFramePr>
        <p:xfrm>
          <a:off x="3973680" y="2146320"/>
          <a:ext cx="407664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3" name="Object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73680" y="2146320"/>
                    <a:ext cx="4076640" cy="1387440"/>
                  </a:xfrm>
                  <a:prstGeom prst="rect">
                    <a:avLst/>
                  </a:prstGeom>
                  <a:ln w="50760">
                    <a:solidFill>
                      <a:srgbClr val="f6bf6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990720" y="1371600"/>
            <a:ext cx="7162560" cy="36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Constantia"/>
              </a:rPr>
              <a:t>The number of classes should be between 5 and 15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Fewer than 5 classes cause excessive summarization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More than 15 classes leave too much detail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Constantia"/>
              </a:rPr>
              <a:t>Class Wid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Divide the range by the number of classes for an approximate class width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Round up to a convenient number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917F5792-A4C4-4A1A-8D96-ADE22EC945D0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Rectangle 4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619840" cy="129888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6"/>
              <p:cNvSpPr txBox="1"/>
              <p:nvPr/>
            </p:nvSpPr>
            <p:spPr>
              <a:xfrm>
                <a:off x="1638360" y="5000760"/>
                <a:ext cx="5410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roximate Class Width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lass Width =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28E699E1-04CE-4B15-9635-707E641946AB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3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5"/>
              <p:cNvSpPr txBox="1"/>
              <p:nvPr/>
            </p:nvSpPr>
            <p:spPr>
              <a:xfrm>
                <a:off x="936720" y="2328840"/>
                <a:ext cx="73292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ss Midpoint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eginning class endpoint+ending class endpoin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 + 4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6"/>
              <p:cNvSpPr txBox="1"/>
              <p:nvPr/>
            </p:nvSpPr>
            <p:spPr>
              <a:xfrm>
                <a:off x="947880" y="4309920"/>
                <a:ext cx="577044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ss Midpoint = class beginning point +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lass wid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30 +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990720" y="129492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Relati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Class Interval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20-under 3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1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30-under 4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8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3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40-under 5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50-under 6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60-under 7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0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70-under 80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 .0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otal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.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76720C04-FFFD-49BB-B2D1-C1D3623B6732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4" name="Object 6"/>
          <p:cNvGraphicFramePr/>
          <p:nvPr/>
        </p:nvGraphicFramePr>
        <p:xfrm>
          <a:off x="5638680" y="2362320"/>
          <a:ext cx="838440" cy="68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362320"/>
                    <a:ext cx="83844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Line 7"/>
          <p:cNvSpPr/>
          <p:nvPr/>
        </p:nvSpPr>
        <p:spPr>
          <a:xfrm>
            <a:off x="5181480" y="2514600"/>
            <a:ext cx="406440" cy="25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Line 8"/>
          <p:cNvSpPr/>
          <p:nvPr/>
        </p:nvSpPr>
        <p:spPr>
          <a:xfrm flipV="1">
            <a:off x="5029200" y="3048120"/>
            <a:ext cx="685800" cy="2311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Arc 9"/>
          <p:cNvSpPr/>
          <p:nvPr/>
        </p:nvSpPr>
        <p:spPr>
          <a:xfrm>
            <a:off x="6553080" y="2438280"/>
            <a:ext cx="584280" cy="203400"/>
          </a:xfrm>
          <a:custGeom>
            <a:avLst/>
            <a:gdLst>
              <a:gd name="textAreaLeft" fmla="*/ 0 w 584280"/>
              <a:gd name="textAreaRight" fmla="*/ 584640 w 584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93"/>
                  <a:pt x="9634" y="32"/>
                  <a:pt x="21541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93"/>
                  <a:pt x="9634" y="32"/>
                  <a:pt x="21541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9" name="Object 10"/>
          <p:cNvGraphicFramePr/>
          <p:nvPr/>
        </p:nvGraphicFramePr>
        <p:xfrm>
          <a:off x="5715000" y="3352680"/>
          <a:ext cx="838080" cy="6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8380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Arc 11"/>
          <p:cNvSpPr/>
          <p:nvPr/>
        </p:nvSpPr>
        <p:spPr>
          <a:xfrm>
            <a:off x="4876920" y="2971800"/>
            <a:ext cx="812520" cy="584280"/>
          </a:xfrm>
          <a:custGeom>
            <a:avLst/>
            <a:gdLst>
              <a:gd name="textAreaLeft" fmla="*/ 0 w 812520"/>
              <a:gd name="textAreaRight" fmla="*/ 812880 w 8125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66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Line 12"/>
          <p:cNvSpPr/>
          <p:nvPr/>
        </p:nvSpPr>
        <p:spPr>
          <a:xfrm flipV="1">
            <a:off x="5029200" y="4038120"/>
            <a:ext cx="736560" cy="1473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Arc 13"/>
          <p:cNvSpPr/>
          <p:nvPr/>
        </p:nvSpPr>
        <p:spPr>
          <a:xfrm>
            <a:off x="6553080" y="2971800"/>
            <a:ext cx="736560" cy="533520"/>
          </a:xfrm>
          <a:custGeom>
            <a:avLst/>
            <a:gdLst>
              <a:gd name="textAreaLeft" fmla="*/ 0 w 736560"/>
              <a:gd name="textAreaRight" fmla="*/ 736920 w 736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599">
                <a:moveTo>
                  <a:pt x="21600" y="0"/>
                </a:moveTo>
                <a:cubicBezTo>
                  <a:pt x="21600" y="11844"/>
                  <a:pt x="12061" y="21479"/>
                  <a:pt x="217" y="21598"/>
                </a:cubicBezTo>
              </a:path>
              <a:path stroke="0" w="21600" h="21599">
                <a:moveTo>
                  <a:pt x="21600" y="0"/>
                </a:moveTo>
                <a:cubicBezTo>
                  <a:pt x="21600" y="11844"/>
                  <a:pt x="12061" y="21479"/>
                  <a:pt x="217" y="21598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66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990720" y="152352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umulativ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Class Interval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0-under 3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0-under 4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0-under 5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0-under 6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60-under 7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70-under 80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Total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C7306986-FB54-4081-9A62-6ED4BA730191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0" name="Object 6"/>
          <p:cNvGraphicFramePr/>
          <p:nvPr/>
        </p:nvGraphicFramePr>
        <p:xfrm>
          <a:off x="5562720" y="2819520"/>
          <a:ext cx="1071360" cy="35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819520"/>
                    <a:ext cx="107136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Line 7"/>
          <p:cNvSpPr/>
          <p:nvPr/>
        </p:nvSpPr>
        <p:spPr>
          <a:xfrm>
            <a:off x="6705720" y="2971800"/>
            <a:ext cx="457200" cy="0"/>
          </a:xfrm>
          <a:prstGeom prst="line">
            <a:avLst/>
          </a:prstGeom>
          <a:ln w="2556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8"/>
          <p:cNvSpPr/>
          <p:nvPr/>
        </p:nvSpPr>
        <p:spPr>
          <a:xfrm>
            <a:off x="4741920" y="30178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Arc 10"/>
          <p:cNvSpPr/>
          <p:nvPr/>
        </p:nvSpPr>
        <p:spPr>
          <a:xfrm>
            <a:off x="6786720" y="2637000"/>
            <a:ext cx="520560" cy="215640"/>
          </a:xfrm>
          <a:custGeom>
            <a:avLst/>
            <a:gdLst>
              <a:gd name="textAreaLeft" fmla="*/ 0 w 520560"/>
              <a:gd name="textAreaRight" fmla="*/ 520920 w 520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25560">
            <a:solidFill>
              <a:srgbClr val="cc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5" name="Object 11"/>
          <p:cNvGraphicFramePr/>
          <p:nvPr/>
        </p:nvGraphicFramePr>
        <p:xfrm>
          <a:off x="5486400" y="3276720"/>
          <a:ext cx="1246320" cy="31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6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3276720"/>
                    <a:ext cx="12463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Line 12"/>
          <p:cNvSpPr/>
          <p:nvPr/>
        </p:nvSpPr>
        <p:spPr>
          <a:xfrm>
            <a:off x="4753080" y="3459240"/>
            <a:ext cx="6602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13"/>
          <p:cNvSpPr/>
          <p:nvPr/>
        </p:nvSpPr>
        <p:spPr>
          <a:xfrm>
            <a:off x="6810480" y="345924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Arc 14"/>
          <p:cNvSpPr/>
          <p:nvPr/>
        </p:nvSpPr>
        <p:spPr>
          <a:xfrm>
            <a:off x="6797520" y="3078000"/>
            <a:ext cx="520920" cy="216000"/>
          </a:xfrm>
          <a:custGeom>
            <a:avLst/>
            <a:gdLst>
              <a:gd name="textAreaLeft" fmla="*/ 0 w 520920"/>
              <a:gd name="textAreaRight" fmla="*/ 521280 w 520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0880" y="22093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Relative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Class Interval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Midpoint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0-under 3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1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0-under 4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8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3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4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0-under 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2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5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-under 6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2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0-under 7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0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70-under 80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7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  .0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Total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.0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4A2A3F95-7EF0-4BE7-AF52-3AB3E636A951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3" name="Rectangle 4" descr=""/>
          <p:cNvPicPr/>
          <p:nvPr/>
        </p:nvPicPr>
        <p:blipFill>
          <a:blip r:embed="rId1"/>
          <a:stretch/>
        </p:blipFill>
        <p:spPr>
          <a:xfrm>
            <a:off x="195120" y="341280"/>
            <a:ext cx="8570880" cy="151128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228600" y="16765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Relative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Cumulative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Relativ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Class Interval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0-under 3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1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1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0-under 4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8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3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4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48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0-under 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2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7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-under 6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2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9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0-under 7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0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9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98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70-under 80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.0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.0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Total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.0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33D7451B-5729-41F9-94FF-09379DE8D544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9" name="Rectangle 4" descr=""/>
          <p:cNvPicPr/>
          <p:nvPr/>
        </p:nvPicPr>
        <p:blipFill>
          <a:blip r:embed="rId1"/>
          <a:stretch/>
        </p:blipFill>
        <p:spPr>
          <a:xfrm>
            <a:off x="-158760" y="133200"/>
            <a:ext cx="9229680" cy="15242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990720" y="210780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Recognize the difference between grouped and un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Construct a frequency distribu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Construct a hist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D9AD7BD2-DA45-43D4-B240-9AD3642DA011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9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295280" y="101520"/>
            <a:ext cx="659952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fac9"/>
                </a:solidFill>
                <a:latin typeface="Constantia"/>
              </a:rPr>
              <a:t>Frequency Distribution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b592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609480" y="2332080"/>
            <a:ext cx="8836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efac9"/>
                </a:solidFill>
                <a:latin typeface="Arial"/>
              </a:rPr>
              <a:t>Another example</a:t>
            </a:r>
            <a:endParaRPr b="0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Picture 6" descr="T2_01"/>
          <p:cNvPicPr/>
          <p:nvPr/>
        </p:nvPicPr>
        <p:blipFill>
          <a:blip r:embed="rId1"/>
          <a:stretch/>
        </p:blipFill>
        <p:spPr>
          <a:xfrm>
            <a:off x="231840" y="1482840"/>
            <a:ext cx="8680320" cy="42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8" name="Picture 11" descr="T2_02"/>
          <p:cNvPicPr/>
          <p:nvPr/>
        </p:nvPicPr>
        <p:blipFill>
          <a:blip r:embed="rId1"/>
          <a:stretch/>
        </p:blipFill>
        <p:spPr>
          <a:xfrm>
            <a:off x="3216240" y="1514520"/>
            <a:ext cx="2749680" cy="399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0" y="1143000"/>
            <a:ext cx="8400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85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444d26"/>
                </a:solidFill>
                <a:latin typeface="Constantia"/>
              </a:rPr>
              <a:t>are the smallest numbers that can actually belong to different class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1" name="Rectangle 2" descr=""/>
          <p:cNvPicPr/>
          <p:nvPr/>
        </p:nvPicPr>
        <p:blipFill>
          <a:blip r:embed="rId1"/>
          <a:stretch/>
        </p:blipFill>
        <p:spPr>
          <a:xfrm>
            <a:off x="1079640" y="-109440"/>
            <a:ext cx="7381800" cy="107316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4"/>
          <p:cNvSpPr/>
          <p:nvPr/>
        </p:nvSpPr>
        <p:spPr>
          <a:xfrm>
            <a:off x="952560" y="7048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4" name="Picture 21" descr="T2_02_2"/>
          <p:cNvPicPr/>
          <p:nvPr/>
        </p:nvPicPr>
        <p:blipFill>
          <a:blip r:embed="rId2"/>
          <a:stretch/>
        </p:blipFill>
        <p:spPr>
          <a:xfrm>
            <a:off x="2787480" y="2543040"/>
            <a:ext cx="3586320" cy="339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51920" y="1123920"/>
            <a:ext cx="8401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5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e the smallest numbers that can actually belong to different cla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Rectangle 32" descr=""/>
          <p:cNvPicPr/>
          <p:nvPr/>
        </p:nvPicPr>
        <p:blipFill>
          <a:blip r:embed="rId1"/>
          <a:stretch/>
        </p:blipFill>
        <p:spPr>
          <a:xfrm>
            <a:off x="785880" y="-30240"/>
            <a:ext cx="7383240" cy="107316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Group 30"/>
          <p:cNvGrpSpPr/>
          <p:nvPr/>
        </p:nvGrpSpPr>
        <p:grpSpPr>
          <a:xfrm>
            <a:off x="426600" y="2259000"/>
            <a:ext cx="8094960" cy="3638520"/>
            <a:chOff x="426600" y="2259000"/>
            <a:chExt cx="8094960" cy="3638520"/>
          </a:xfrm>
        </p:grpSpPr>
        <p:sp>
          <p:nvSpPr>
            <p:cNvPr id="770" name="Rectangle 12"/>
            <p:cNvSpPr/>
            <p:nvPr/>
          </p:nvSpPr>
          <p:spPr>
            <a:xfrm>
              <a:off x="426600" y="3747960"/>
              <a:ext cx="22755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4d26"/>
                  </a:solidFill>
                  <a:latin typeface="Arial"/>
                </a:rPr>
                <a:t>Lower Clas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4d26"/>
                  </a:solidFill>
                  <a:latin typeface="Arial"/>
                </a:rPr>
                <a:t>Limit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71" name="Picture 29" descr="T2_02_2"/>
            <p:cNvPicPr/>
            <p:nvPr/>
          </p:nvPicPr>
          <p:blipFill>
            <a:blip r:embed="rId2"/>
            <a:stretch/>
          </p:blipFill>
          <p:spPr>
            <a:xfrm>
              <a:off x="4673520" y="2259000"/>
              <a:ext cx="384804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Line 7"/>
            <p:cNvSpPr/>
            <p:nvPr/>
          </p:nvSpPr>
          <p:spPr>
            <a:xfrm flipV="1">
              <a:off x="2838600" y="3511080"/>
              <a:ext cx="2273040" cy="66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8"/>
            <p:cNvSpPr/>
            <p:nvPr/>
          </p:nvSpPr>
          <p:spPr>
            <a:xfrm flipV="1">
              <a:off x="2793960" y="3949200"/>
              <a:ext cx="2235240" cy="24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9"/>
            <p:cNvSpPr/>
            <p:nvPr/>
          </p:nvSpPr>
          <p:spPr>
            <a:xfrm>
              <a:off x="2755800" y="4191120"/>
              <a:ext cx="227340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10"/>
            <p:cNvSpPr/>
            <p:nvPr/>
          </p:nvSpPr>
          <p:spPr>
            <a:xfrm>
              <a:off x="2819520" y="4191120"/>
              <a:ext cx="2197080" cy="63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11"/>
            <p:cNvSpPr/>
            <p:nvPr/>
          </p:nvSpPr>
          <p:spPr>
            <a:xfrm>
              <a:off x="2876400" y="4172040"/>
              <a:ext cx="2140200" cy="114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247680" y="1047600"/>
            <a:ext cx="840096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5000"/>
              </a:lnSpc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the largest numbers that can actually belong to different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Rectangle 2" descr=""/>
          <p:cNvPicPr/>
          <p:nvPr/>
        </p:nvPicPr>
        <p:blipFill>
          <a:blip r:embed="rId1"/>
          <a:stretch/>
        </p:blipFill>
        <p:spPr>
          <a:xfrm>
            <a:off x="792000" y="12600"/>
            <a:ext cx="7382160" cy="10731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Group 30"/>
          <p:cNvGrpSpPr/>
          <p:nvPr/>
        </p:nvGrpSpPr>
        <p:grpSpPr>
          <a:xfrm>
            <a:off x="758880" y="2143080"/>
            <a:ext cx="7661160" cy="3638520"/>
            <a:chOff x="758880" y="2143080"/>
            <a:chExt cx="7661160" cy="3638520"/>
          </a:xfrm>
        </p:grpSpPr>
        <p:sp>
          <p:nvSpPr>
            <p:cNvPr id="784" name="Rectangle 12"/>
            <p:cNvSpPr/>
            <p:nvPr/>
          </p:nvSpPr>
          <p:spPr>
            <a:xfrm>
              <a:off x="758880" y="3348000"/>
              <a:ext cx="22557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4d26"/>
                  </a:solidFill>
                  <a:latin typeface="Arial"/>
                </a:rPr>
                <a:t>Upper Clas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4d26"/>
                  </a:solidFill>
                  <a:latin typeface="Arial"/>
                </a:rPr>
                <a:t>Limit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85" name="Picture 29" descr="T2_02_2"/>
            <p:cNvPicPr/>
            <p:nvPr/>
          </p:nvPicPr>
          <p:blipFill>
            <a:blip r:embed="rId2"/>
            <a:stretch/>
          </p:blipFill>
          <p:spPr>
            <a:xfrm>
              <a:off x="4572000" y="2143080"/>
              <a:ext cx="384804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Line 7"/>
            <p:cNvSpPr/>
            <p:nvPr/>
          </p:nvSpPr>
          <p:spPr>
            <a:xfrm flipV="1">
              <a:off x="3111480" y="3346560"/>
              <a:ext cx="250200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3130560" y="3645000"/>
              <a:ext cx="248292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3156120" y="3683160"/>
              <a:ext cx="2482560" cy="53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3130560" y="3689280"/>
              <a:ext cx="2502000" cy="10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>
              <a:off x="3200400" y="3720960"/>
              <a:ext cx="2463840" cy="145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133200" y="118116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0" lang="en-US" sz="4000" spc="-1" strike="noStrike">
                <a:solidFill>
                  <a:srgbClr val="444d26"/>
                </a:solidFill>
                <a:latin typeface="Constantia"/>
              </a:rPr>
              <a:t>are the numbers used to separate classes, but without the gaps created by class limi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2500"/>
              </a:spcBef>
              <a:spcAft>
                <a:spcPts val="2500"/>
              </a:spcAft>
              <a:buClr>
                <a:srgbClr val="f3a447"/>
              </a:buClr>
              <a:buSzPct val="15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2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749160" y="3784680"/>
            <a:ext cx="83822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2145960" y="81000"/>
            <a:ext cx="4904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44d26"/>
                </a:solidFill>
                <a:latin typeface="Arial"/>
              </a:rPr>
              <a:t>Class Boundar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95400" y="990360"/>
            <a:ext cx="8858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mber separating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6"/>
          <p:cNvSpPr/>
          <p:nvPr/>
        </p:nvSpPr>
        <p:spPr>
          <a:xfrm>
            <a:off x="2122200" y="81000"/>
            <a:ext cx="4904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 Boundar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Group 32"/>
          <p:cNvGrpSpPr/>
          <p:nvPr/>
        </p:nvGrpSpPr>
        <p:grpSpPr>
          <a:xfrm>
            <a:off x="2286000" y="2224080"/>
            <a:ext cx="4538520" cy="3777840"/>
            <a:chOff x="2286000" y="2224080"/>
            <a:chExt cx="4538520" cy="3777840"/>
          </a:xfrm>
        </p:grpSpPr>
        <p:pic>
          <p:nvPicPr>
            <p:cNvPr id="803" name="Picture 31" descr="T2_02_3"/>
            <p:cNvPicPr/>
            <p:nvPr/>
          </p:nvPicPr>
          <p:blipFill>
            <a:blip r:embed="rId1"/>
            <a:stretch/>
          </p:blipFill>
          <p:spPr>
            <a:xfrm>
              <a:off x="2317680" y="2224080"/>
              <a:ext cx="4506840" cy="37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Rectangle 14"/>
            <p:cNvSpPr/>
            <p:nvPr/>
          </p:nvSpPr>
          <p:spPr>
            <a:xfrm>
              <a:off x="2286000" y="2895480"/>
              <a:ext cx="129528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- 0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4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95400" y="990360"/>
            <a:ext cx="8858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mber separating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609480" y="3124080"/>
            <a:ext cx="83822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2145960" y="81000"/>
            <a:ext cx="4904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ass Boundar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34"/>
          <p:cNvGrpSpPr/>
          <p:nvPr/>
        </p:nvGrpSpPr>
        <p:grpSpPr>
          <a:xfrm>
            <a:off x="252720" y="2124000"/>
            <a:ext cx="8675280" cy="3954240"/>
            <a:chOff x="252720" y="2124000"/>
            <a:chExt cx="8675280" cy="3954240"/>
          </a:xfrm>
        </p:grpSpPr>
        <p:pic>
          <p:nvPicPr>
            <p:cNvPr id="811" name="Picture 33" descr="T2_02_3"/>
            <p:cNvPicPr/>
            <p:nvPr/>
          </p:nvPicPr>
          <p:blipFill>
            <a:blip r:embed="rId1"/>
            <a:stretch/>
          </p:blipFill>
          <p:spPr>
            <a:xfrm>
              <a:off x="4191120" y="2124000"/>
              <a:ext cx="4736880" cy="39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Rectangle 6"/>
            <p:cNvSpPr/>
            <p:nvPr/>
          </p:nvSpPr>
          <p:spPr>
            <a:xfrm>
              <a:off x="252720" y="3908520"/>
              <a:ext cx="24170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Boundaries</a:t>
              </a:r>
              <a:endParaRPr b="0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Rectangle 29"/>
            <p:cNvSpPr/>
            <p:nvPr/>
          </p:nvSpPr>
          <p:spPr>
            <a:xfrm>
              <a:off x="4267080" y="2971800"/>
              <a:ext cx="9684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- 0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99.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4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7"/>
            <p:cNvSpPr/>
            <p:nvPr/>
          </p:nvSpPr>
          <p:spPr>
            <a:xfrm flipV="1">
              <a:off x="2463840" y="3416400"/>
              <a:ext cx="213372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8"/>
            <p:cNvSpPr/>
            <p:nvPr/>
          </p:nvSpPr>
          <p:spPr>
            <a:xfrm flipV="1">
              <a:off x="2470320" y="3809880"/>
              <a:ext cx="210168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9"/>
            <p:cNvSpPr/>
            <p:nvPr/>
          </p:nvSpPr>
          <p:spPr>
            <a:xfrm>
              <a:off x="2444760" y="4343400"/>
              <a:ext cx="20829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10"/>
            <p:cNvSpPr/>
            <p:nvPr/>
          </p:nvSpPr>
          <p:spPr>
            <a:xfrm>
              <a:off x="2470320" y="4349880"/>
              <a:ext cx="2063520" cy="45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11"/>
            <p:cNvSpPr/>
            <p:nvPr/>
          </p:nvSpPr>
          <p:spPr>
            <a:xfrm>
              <a:off x="2470320" y="4349880"/>
              <a:ext cx="2044440" cy="9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12"/>
            <p:cNvSpPr/>
            <p:nvPr/>
          </p:nvSpPr>
          <p:spPr>
            <a:xfrm>
              <a:off x="2495520" y="4362480"/>
              <a:ext cx="2019240" cy="146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95400" y="9903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points of the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2339640" y="81000"/>
            <a:ext cx="4468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 Midpoin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990720" y="205740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ss midpoints can be found by adding the lower class limit to the upper class limit and dividing the sum by two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0" y="1371600"/>
            <a:ext cx="8763120" cy="403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8e58b6"/>
                </a:solidFill>
                <a:latin typeface="Constantia"/>
              </a:rPr>
              <a:t>Descriptive Statistics 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5000"/>
              </a:lnSpc>
              <a:spcBef>
                <a:spcPts val="3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mmarize or 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describe</a:t>
            </a:r>
            <a:r>
              <a:rPr b="0" i="1" lang="en-US" sz="2600" spc="-1" strike="noStrike">
                <a:solidFill>
                  <a:srgbClr val="8e58b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important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haracteristics of a known set of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pulation dat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8e58b6"/>
                </a:solidFill>
                <a:latin typeface="Constantia"/>
              </a:rPr>
              <a:t>Inferential Statistics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se sample data to make 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inferences (or 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generalizations)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bout a popul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ED79F40F-401E-42D9-ACBB-EDEC3E538C13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952560" y="88920"/>
            <a:ext cx="724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279f"/>
                </a:solidFill>
                <a:latin typeface="Arial"/>
              </a:rPr>
              <a:t>Overview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95400" y="9903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points of the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7" name="Group 37"/>
          <p:cNvGrpSpPr/>
          <p:nvPr/>
        </p:nvGrpSpPr>
        <p:grpSpPr>
          <a:xfrm>
            <a:off x="306720" y="1965240"/>
            <a:ext cx="8478360" cy="3511800"/>
            <a:chOff x="306720" y="1965240"/>
            <a:chExt cx="8478360" cy="3511800"/>
          </a:xfrm>
        </p:grpSpPr>
        <p:pic>
          <p:nvPicPr>
            <p:cNvPr id="828" name="Picture 34" descr="T2_02_4"/>
            <p:cNvPicPr/>
            <p:nvPr/>
          </p:nvPicPr>
          <p:blipFill>
            <a:blip r:embed="rId1"/>
            <a:stretch/>
          </p:blipFill>
          <p:spPr>
            <a:xfrm>
              <a:off x="4017960" y="1965240"/>
              <a:ext cx="4767120" cy="35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Rectangle 7"/>
            <p:cNvSpPr/>
            <p:nvPr/>
          </p:nvSpPr>
          <p:spPr>
            <a:xfrm>
              <a:off x="306720" y="3105000"/>
              <a:ext cx="18579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Clas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Midpoint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0" name="Group 29"/>
            <p:cNvGrpSpPr/>
            <p:nvPr/>
          </p:nvGrpSpPr>
          <p:grpSpPr>
            <a:xfrm>
              <a:off x="1981080" y="3200400"/>
              <a:ext cx="3130560" cy="1828800"/>
              <a:chOff x="1981080" y="3200400"/>
              <a:chExt cx="3130560" cy="1828800"/>
            </a:xfrm>
          </p:grpSpPr>
          <p:sp>
            <p:nvSpPr>
              <p:cNvPr id="831" name="Line 8"/>
              <p:cNvSpPr/>
              <p:nvPr/>
            </p:nvSpPr>
            <p:spPr>
              <a:xfrm>
                <a:off x="1981080" y="3517920"/>
                <a:ext cx="30924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Line 9"/>
              <p:cNvSpPr/>
              <p:nvPr/>
            </p:nvSpPr>
            <p:spPr>
              <a:xfrm flipV="1">
                <a:off x="1981080" y="3200400"/>
                <a:ext cx="3111480" cy="317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Line 10"/>
              <p:cNvSpPr/>
              <p:nvPr/>
            </p:nvSpPr>
            <p:spPr>
              <a:xfrm>
                <a:off x="2000160" y="3537000"/>
                <a:ext cx="3111480" cy="57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Line 11"/>
              <p:cNvSpPr/>
              <p:nvPr/>
            </p:nvSpPr>
            <p:spPr>
              <a:xfrm>
                <a:off x="2000160" y="3517920"/>
                <a:ext cx="309240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Line 13"/>
              <p:cNvSpPr/>
              <p:nvPr/>
            </p:nvSpPr>
            <p:spPr>
              <a:xfrm>
                <a:off x="1981080" y="3517920"/>
                <a:ext cx="3111480" cy="1511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6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124080"/>
            <a:ext cx="83822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2339640" y="81000"/>
            <a:ext cx="4468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 Midpoin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Rectangle 12"/>
          <p:cNvSpPr/>
          <p:nvPr/>
        </p:nvSpPr>
        <p:spPr>
          <a:xfrm>
            <a:off x="3314880" y="2508120"/>
            <a:ext cx="216684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31"/>
          <p:cNvSpPr/>
          <p:nvPr/>
        </p:nvSpPr>
        <p:spPr>
          <a:xfrm>
            <a:off x="4915080" y="2990880"/>
            <a:ext cx="1066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1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2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3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4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Rectangle 32"/>
          <p:cNvSpPr/>
          <p:nvPr/>
        </p:nvSpPr>
        <p:spPr>
          <a:xfrm>
            <a:off x="5086440" y="3009960"/>
            <a:ext cx="704880" cy="2266920"/>
          </a:xfrm>
          <a:prstGeom prst="rect">
            <a:avLst/>
          </a:prstGeom>
          <a:noFill/>
          <a:ln w="12600">
            <a:solidFill>
              <a:srgbClr val="8e5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132840" y="971640"/>
            <a:ext cx="885852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1437"/>
              </a:spcBef>
              <a:spcAft>
                <a:spcPts val="1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is the difference between two consecutive lower class limits or two consecutive lower class boundaries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2884320" y="81000"/>
            <a:ext cx="3380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 Widt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5" name="Group 44"/>
          <p:cNvGrpSpPr/>
          <p:nvPr/>
        </p:nvGrpSpPr>
        <p:grpSpPr>
          <a:xfrm>
            <a:off x="848520" y="2160720"/>
            <a:ext cx="7312680" cy="3555720"/>
            <a:chOff x="848520" y="2160720"/>
            <a:chExt cx="7312680" cy="3555720"/>
          </a:xfrm>
        </p:grpSpPr>
        <p:pic>
          <p:nvPicPr>
            <p:cNvPr id="846" name="Picture 43" descr="T2_02_3"/>
            <p:cNvPicPr/>
            <p:nvPr/>
          </p:nvPicPr>
          <p:blipFill>
            <a:blip r:embed="rId1"/>
            <a:stretch/>
          </p:blipFill>
          <p:spPr>
            <a:xfrm>
              <a:off x="3890880" y="2160720"/>
              <a:ext cx="4270320" cy="35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Rectangle 7"/>
            <p:cNvSpPr/>
            <p:nvPr/>
          </p:nvSpPr>
          <p:spPr>
            <a:xfrm>
              <a:off x="848520" y="3521160"/>
              <a:ext cx="13777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Class </a:t>
              </a:r>
              <a:endParaRPr b="0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Width</a:t>
              </a:r>
              <a:endParaRPr b="0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8" name="Group 30"/>
            <p:cNvGrpSpPr/>
            <p:nvPr/>
          </p:nvGrpSpPr>
          <p:grpSpPr>
            <a:xfrm>
              <a:off x="2463840" y="3365640"/>
              <a:ext cx="1739880" cy="1790640"/>
              <a:chOff x="2463840" y="3365640"/>
              <a:chExt cx="1739880" cy="1790640"/>
            </a:xfrm>
          </p:grpSpPr>
          <p:sp>
            <p:nvSpPr>
              <p:cNvPr id="849" name="Line 8"/>
              <p:cNvSpPr/>
              <p:nvPr/>
            </p:nvSpPr>
            <p:spPr>
              <a:xfrm flipV="1">
                <a:off x="2463840" y="3365640"/>
                <a:ext cx="1701720" cy="66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Line 9"/>
              <p:cNvSpPr/>
              <p:nvPr/>
            </p:nvSpPr>
            <p:spPr>
              <a:xfrm flipV="1">
                <a:off x="2482920" y="3803400"/>
                <a:ext cx="1682640" cy="222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Line 10"/>
              <p:cNvSpPr/>
              <p:nvPr/>
            </p:nvSpPr>
            <p:spPr>
              <a:xfrm>
                <a:off x="2482920" y="4025880"/>
                <a:ext cx="164448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Line 11"/>
              <p:cNvSpPr/>
              <p:nvPr/>
            </p:nvSpPr>
            <p:spPr>
              <a:xfrm>
                <a:off x="2501640" y="4025880"/>
                <a:ext cx="1683000" cy="67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Line 12"/>
              <p:cNvSpPr/>
              <p:nvPr/>
            </p:nvSpPr>
            <p:spPr>
              <a:xfrm>
                <a:off x="2482920" y="4025880"/>
                <a:ext cx="1720800" cy="1130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4" name="Text Box 39"/>
            <p:cNvSpPr/>
            <p:nvPr/>
          </p:nvSpPr>
          <p:spPr>
            <a:xfrm>
              <a:off x="4095720" y="3124080"/>
              <a:ext cx="723960" cy="22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244440" y="1886040"/>
            <a:ext cx="8724960" cy="4626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72880" indent="-272880">
              <a:lnSpc>
                <a:spcPct val="95000"/>
              </a:lnSpc>
              <a:spcBef>
                <a:spcPts val="1463"/>
              </a:spcBef>
              <a:spcAft>
                <a:spcPts val="1624"/>
              </a:spcAft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rge data sets can be summarize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5000"/>
              </a:lnSpc>
              <a:spcBef>
                <a:spcPts val="1463"/>
              </a:spcBef>
              <a:spcAft>
                <a:spcPts val="1624"/>
              </a:spcAft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 gain some insight into the nature of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t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5000"/>
              </a:lnSpc>
              <a:spcBef>
                <a:spcPts val="1463"/>
              </a:spcBef>
              <a:spcAft>
                <a:spcPts val="1624"/>
              </a:spcAft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ve a basis for constructing grap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177840" y="138240"/>
            <a:ext cx="8805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Reasons for Constructing 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-360" y="890640"/>
            <a:ext cx="9055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1.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ecide on the number of classes (should be between 5 and 20) 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.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culate (round up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9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244440" y="2971800"/>
            <a:ext cx="889956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6"/>
              </a:spcBef>
              <a:spcAft>
                <a:spcPts val="9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oint:  Begin by choosing a lower limit of the first cla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6"/>
              </a:spcBef>
              <a:spcAft>
                <a:spcPts val="9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lower limit of the first class and class width, proc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the lower class limits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6"/>
              </a:spcBef>
              <a:spcAft>
                <a:spcPts val="9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 the lower class limits in a vertical column and  proc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the upper class limits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6"/>
              </a:spcBef>
              <a:spcAft>
                <a:spcPts val="9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through the data set putting a tally in the appropriate clas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data value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1289520" y="127080"/>
            <a:ext cx="657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Constructing A  Frequency Table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Rectangle 6"/>
          <p:cNvSpPr/>
          <p:nvPr/>
        </p:nvSpPr>
        <p:spPr>
          <a:xfrm>
            <a:off x="947880" y="1947960"/>
            <a:ext cx="231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 width 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3276720" y="1847880"/>
            <a:ext cx="516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ghest value) – (lowest value)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Rectangle 8"/>
          <p:cNvSpPr/>
          <p:nvPr/>
        </p:nvSpPr>
        <p:spPr>
          <a:xfrm>
            <a:off x="4471920" y="2305080"/>
            <a:ext cx="285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ber of classes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9"/>
          <p:cNvSpPr/>
          <p:nvPr/>
        </p:nvSpPr>
        <p:spPr>
          <a:xfrm>
            <a:off x="3714840" y="2286000"/>
            <a:ext cx="4481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Rectangle 1026"/>
          <p:cNvSpPr/>
          <p:nvPr/>
        </p:nvSpPr>
        <p:spPr>
          <a:xfrm>
            <a:off x="1423440" y="131760"/>
            <a:ext cx="63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Relative Frequency Distributio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9" name="Group 1031"/>
          <p:cNvGrpSpPr/>
          <p:nvPr/>
        </p:nvGrpSpPr>
        <p:grpSpPr>
          <a:xfrm>
            <a:off x="820440" y="2790720"/>
            <a:ext cx="7545600" cy="1087200"/>
            <a:chOff x="820440" y="2790720"/>
            <a:chExt cx="7545600" cy="1087200"/>
          </a:xfrm>
        </p:grpSpPr>
        <p:sp>
          <p:nvSpPr>
            <p:cNvPr id="870" name="Rectangle 1027"/>
            <p:cNvSpPr/>
            <p:nvPr/>
          </p:nvSpPr>
          <p:spPr>
            <a:xfrm>
              <a:off x="820440" y="3076560"/>
              <a:ext cx="3534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relative frequency =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Rectangle 1028"/>
            <p:cNvSpPr/>
            <p:nvPr/>
          </p:nvSpPr>
          <p:spPr>
            <a:xfrm>
              <a:off x="4865760" y="2790720"/>
              <a:ext cx="2871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class frequency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Rectangle 1029"/>
            <p:cNvSpPr/>
            <p:nvPr/>
          </p:nvSpPr>
          <p:spPr>
            <a:xfrm>
              <a:off x="4429440" y="3362400"/>
              <a:ext cx="393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sum of all frequencie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1030"/>
            <p:cNvSpPr/>
            <p:nvPr/>
          </p:nvSpPr>
          <p:spPr>
            <a:xfrm>
              <a:off x="4540320" y="3282840"/>
              <a:ext cx="3746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1429920" y="133200"/>
            <a:ext cx="63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Relative Frequency Distributio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Rectangle 17"/>
          <p:cNvSpPr/>
          <p:nvPr/>
        </p:nvSpPr>
        <p:spPr>
          <a:xfrm>
            <a:off x="6912000" y="2158920"/>
            <a:ext cx="175896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11/40 = 28%</a:t>
            </a: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12/40 = 40%</a:t>
            </a: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Rectangle 19"/>
          <p:cNvSpPr/>
          <p:nvPr/>
        </p:nvSpPr>
        <p:spPr>
          <a:xfrm>
            <a:off x="450360" y="5267160"/>
            <a:ext cx="272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Frequency = 40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8" name="Picture 34" descr="T2_03"/>
          <p:cNvPicPr/>
          <p:nvPr/>
        </p:nvPicPr>
        <p:blipFill>
          <a:blip r:embed="rId1"/>
          <a:stretch/>
        </p:blipFill>
        <p:spPr>
          <a:xfrm>
            <a:off x="3905280" y="1530360"/>
            <a:ext cx="2933640" cy="45831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5" descr="T2_02_2"/>
          <p:cNvPicPr/>
          <p:nvPr/>
        </p:nvPicPr>
        <p:blipFill>
          <a:blip r:embed="rId2"/>
          <a:stretch/>
        </p:blipFill>
        <p:spPr>
          <a:xfrm>
            <a:off x="476280" y="2155680"/>
            <a:ext cx="3102120" cy="293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2112480" y="93600"/>
            <a:ext cx="492552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279f"/>
                </a:solidFill>
                <a:latin typeface="Arial"/>
              </a:rPr>
              <a:t>Cumulative Frequency </a:t>
            </a: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279f"/>
                </a:solidFill>
                <a:latin typeface="Arial"/>
              </a:rPr>
              <a:t>Distribution</a:t>
            </a: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4649760" y="6126120"/>
            <a:ext cx="128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825480" y="6126120"/>
            <a:ext cx="2166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Rectangle 5"/>
          <p:cNvSpPr/>
          <p:nvPr/>
        </p:nvSpPr>
        <p:spPr>
          <a:xfrm>
            <a:off x="7489080" y="4280040"/>
            <a:ext cx="1374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umulative</a:t>
            </a:r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5" name="Group 35"/>
          <p:cNvGrpSpPr/>
          <p:nvPr/>
        </p:nvGrpSpPr>
        <p:grpSpPr>
          <a:xfrm>
            <a:off x="7040520" y="3762360"/>
            <a:ext cx="446040" cy="1550880"/>
            <a:chOff x="7040520" y="3762360"/>
            <a:chExt cx="446040" cy="1550880"/>
          </a:xfrm>
        </p:grpSpPr>
        <p:sp>
          <p:nvSpPr>
            <p:cNvPr id="886" name="Freeform 6"/>
            <p:cNvSpPr/>
            <p:nvPr/>
          </p:nvSpPr>
          <p:spPr>
            <a:xfrm>
              <a:off x="7284960" y="4465800"/>
              <a:ext cx="201600" cy="71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27" h="60">
                  <a:moveTo>
                    <a:pt x="0" y="0"/>
                  </a:moveTo>
                  <a:lnTo>
                    <a:pt x="127" y="60"/>
                  </a:lnTo>
                </a:path>
              </a:pathLst>
            </a:custGeom>
            <a:noFill/>
            <a:ln w="50760">
              <a:solidFill>
                <a:srgbClr val="8e58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7" name="Group 34"/>
            <p:cNvGrpSpPr/>
            <p:nvPr/>
          </p:nvGrpSpPr>
          <p:grpSpPr>
            <a:xfrm>
              <a:off x="7040520" y="3762360"/>
              <a:ext cx="434880" cy="1550880"/>
              <a:chOff x="7040520" y="3762360"/>
              <a:chExt cx="434880" cy="1550880"/>
            </a:xfrm>
          </p:grpSpPr>
          <p:sp>
            <p:nvSpPr>
              <p:cNvPr id="888" name="Freeform 7"/>
              <p:cNvSpPr/>
              <p:nvPr/>
            </p:nvSpPr>
            <p:spPr>
              <a:xfrm>
                <a:off x="7288200" y="4537440"/>
                <a:ext cx="187200" cy="597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18" h="50">
                    <a:moveTo>
                      <a:pt x="0" y="50"/>
                    </a:moveTo>
                    <a:lnTo>
                      <a:pt x="118" y="0"/>
                    </a:lnTo>
                  </a:path>
                </a:pathLst>
              </a:custGeom>
              <a:noFill/>
              <a:ln w="50760">
                <a:solidFill>
                  <a:srgbClr val="8e58b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8"/>
              <p:cNvSpPr/>
              <p:nvPr/>
            </p:nvSpPr>
            <p:spPr>
              <a:xfrm>
                <a:off x="7273800" y="3825720"/>
                <a:ext cx="6480" cy="662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62760"/>
                  <a:gd name="textAreaBottom" fmla="*/ 663120 h 662760"/>
                </a:gdLst>
                <a:ahLst/>
                <a:rect l="textAreaLeft" t="textAreaTop" r="textAreaRight" b="textAreaBottom"/>
                <a:pathLst>
                  <a:path w="4" h="554">
                    <a:moveTo>
                      <a:pt x="0" y="554"/>
                    </a:moveTo>
                    <a:lnTo>
                      <a:pt x="4" y="0"/>
                    </a:lnTo>
                  </a:path>
                </a:pathLst>
              </a:custGeom>
              <a:noFill/>
              <a:ln w="50760">
                <a:solidFill>
                  <a:srgbClr val="8e58b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Line 9"/>
              <p:cNvSpPr/>
              <p:nvPr/>
            </p:nvSpPr>
            <p:spPr>
              <a:xfrm flipV="1">
                <a:off x="7278480" y="4580640"/>
                <a:ext cx="0" cy="692640"/>
              </a:xfrm>
              <a:prstGeom prst="line">
                <a:avLst/>
              </a:prstGeom>
              <a:ln w="50760">
                <a:solidFill>
                  <a:srgbClr val="8e58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Freeform 10"/>
              <p:cNvSpPr/>
              <p:nvPr/>
            </p:nvSpPr>
            <p:spPr>
              <a:xfrm>
                <a:off x="7045200" y="3762360"/>
                <a:ext cx="243000" cy="7164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153" h="60">
                    <a:moveTo>
                      <a:pt x="153" y="60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8e58b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Freeform 11"/>
              <p:cNvSpPr/>
              <p:nvPr/>
            </p:nvSpPr>
            <p:spPr>
              <a:xfrm>
                <a:off x="7040520" y="5247360"/>
                <a:ext cx="239760" cy="6588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51" h="55">
                    <a:moveTo>
                      <a:pt x="151" y="0"/>
                    </a:moveTo>
                    <a:lnTo>
                      <a:pt x="0" y="55"/>
                    </a:lnTo>
                  </a:path>
                </a:pathLst>
              </a:custGeom>
              <a:noFill/>
              <a:ln w="50760">
                <a:solidFill>
                  <a:srgbClr val="8e58b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93" name="Picture 38" descr="T2_02_2"/>
          <p:cNvPicPr/>
          <p:nvPr/>
        </p:nvPicPr>
        <p:blipFill>
          <a:blip r:embed="rId1"/>
          <a:stretch/>
        </p:blipFill>
        <p:spPr>
          <a:xfrm>
            <a:off x="185760" y="2098800"/>
            <a:ext cx="2995560" cy="28321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39" descr="T2_04"/>
          <p:cNvPicPr/>
          <p:nvPr/>
        </p:nvPicPr>
        <p:blipFill>
          <a:blip r:embed="rId2"/>
          <a:stretch/>
        </p:blipFill>
        <p:spPr>
          <a:xfrm>
            <a:off x="3392640" y="1623960"/>
            <a:ext cx="3660480" cy="38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6" name="Rectangle 2050" descr=""/>
          <p:cNvPicPr/>
          <p:nvPr/>
        </p:nvPicPr>
        <p:blipFill>
          <a:blip r:embed="rId1"/>
          <a:stretch/>
        </p:blipFill>
        <p:spPr>
          <a:xfrm>
            <a:off x="847800" y="0"/>
            <a:ext cx="7265880" cy="101124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2051"/>
          <p:cNvSpPr/>
          <p:nvPr/>
        </p:nvSpPr>
        <p:spPr>
          <a:xfrm>
            <a:off x="306360" y="6097680"/>
            <a:ext cx="23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Rectangle 2052"/>
          <p:cNvSpPr/>
          <p:nvPr/>
        </p:nvSpPr>
        <p:spPr>
          <a:xfrm>
            <a:off x="3929040" y="6021360"/>
            <a:ext cx="128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Rectangle 2053"/>
          <p:cNvSpPr/>
          <p:nvPr/>
        </p:nvSpPr>
        <p:spPr>
          <a:xfrm>
            <a:off x="7027920" y="6046920"/>
            <a:ext cx="128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0" name="Picture 2104" descr="T2_02"/>
          <p:cNvPicPr/>
          <p:nvPr/>
        </p:nvPicPr>
        <p:blipFill>
          <a:blip r:embed="rId2"/>
          <a:stretch/>
        </p:blipFill>
        <p:spPr>
          <a:xfrm>
            <a:off x="262080" y="1741320"/>
            <a:ext cx="2385720" cy="34657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105" descr="T2_03"/>
          <p:cNvPicPr/>
          <p:nvPr/>
        </p:nvPicPr>
        <p:blipFill>
          <a:blip r:embed="rId3"/>
          <a:stretch/>
        </p:blipFill>
        <p:spPr>
          <a:xfrm>
            <a:off x="2997360" y="1490760"/>
            <a:ext cx="2385720" cy="37256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106" descr="T2_04"/>
          <p:cNvPicPr/>
          <p:nvPr/>
        </p:nvPicPr>
        <p:blipFill>
          <a:blip r:embed="rId4"/>
          <a:stretch/>
        </p:blipFill>
        <p:spPr>
          <a:xfrm>
            <a:off x="5692680" y="1814400"/>
            <a:ext cx="3245040" cy="338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Footer Placeholder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C31CE321-0791-45A8-A53A-B9876C7C4804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36600" y="82440"/>
            <a:ext cx="847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9f"/>
                </a:solidFill>
                <a:latin typeface="Arial"/>
              </a:rPr>
              <a:t>Recap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343080" y="1219320"/>
            <a:ext cx="85532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In this Section we have discussed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Important characteristics of data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Procedures for constructing 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Relative 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Cumulative 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3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Slide 2- </a:t>
            </a:r>
            <a:fld id="{32A75C10-01B5-459F-8B7B-02B097BDF2C5}" type="slidenum"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Foot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2"/>
          <p:cNvSpPr/>
          <p:nvPr/>
        </p:nvSpPr>
        <p:spPr>
          <a:xfrm>
            <a:off x="838080" y="9907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 table that lists data values along with their counts i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n olgive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 frequency distribution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 cumulative table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 histogram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val 3"/>
          <p:cNvSpPr/>
          <p:nvPr/>
        </p:nvSpPr>
        <p:spPr>
          <a:xfrm>
            <a:off x="606600" y="3257640"/>
            <a:ext cx="5289480" cy="7174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228600" y="13017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444d26"/>
                </a:solidFill>
                <a:latin typeface="Constantia"/>
              </a:rPr>
              <a:t>1. </a:t>
            </a: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Center:  A representative or average value that indicates where the middle of the data set is loca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2. Variation:  A measure of the amount that the values vary among themselv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3. Distribution:  The nature or shape of the distribution of data (such as bell-shaped, uniform, or skewed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4. Outliers:  Sample values that lie very far away from the vast majority of other sample valu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5. Time:  Changing characteristics of the data over tim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0" name="Slide Number Placeholder 7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AD4D3E0F-1B54-4BB6-8AB8-F02BD1E2DEB5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84240" y="128520"/>
            <a:ext cx="8980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Important Characteristics of Data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3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Slide 2- </a:t>
            </a:r>
            <a:fld id="{310127CC-0C20-4685-BFA8-694157696FF5}" type="slidenum"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Foot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914400" y="9907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smallest numbers that can actually belong to different classes ar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Upper class limi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Class boundarie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Midpoin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Lower class limi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3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Slide 2- </a:t>
            </a:r>
            <a:fld id="{24F67610-98C0-4D58-BA1D-1D3D1CC9F7CA}" type="slidenum"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Foot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Text Box 2"/>
          <p:cNvSpPr/>
          <p:nvPr/>
        </p:nvSpPr>
        <p:spPr>
          <a:xfrm>
            <a:off x="914400" y="9907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The smallest numbers that can actually belong to different classes ar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Upper class limi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Class boundarie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Midpoin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Lower class limi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val 3"/>
          <p:cNvSpPr/>
          <p:nvPr/>
        </p:nvSpPr>
        <p:spPr>
          <a:xfrm>
            <a:off x="752400" y="4538520"/>
            <a:ext cx="4032360" cy="747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990720" y="210780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have not been summarized in any way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are also call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nstantia"/>
              </a:rPr>
              <a:t>raw data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have been organized into a frequency distribution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DE7DD1C-1E7A-4235-8A1C-B03104016893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Rectangle 4" descr=""/>
          <p:cNvPicPr/>
          <p:nvPr/>
        </p:nvPicPr>
        <p:blipFill>
          <a:blip r:embed="rId1"/>
          <a:stretch/>
        </p:blipFill>
        <p:spPr>
          <a:xfrm>
            <a:off x="774720" y="208080"/>
            <a:ext cx="7358040" cy="138888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1FFCDA8-65F6-4956-959B-9BDB189B6BE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4" name="Rectangl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9369360" cy="162072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 txBox="1"/>
          <p:nvPr/>
        </p:nvSpPr>
        <p:spPr>
          <a:xfrm>
            <a:off x="846000" y="1447920"/>
            <a:ext cx="77630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2  59  32  61  74  48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2438280" y="5200560"/>
            <a:ext cx="4648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 ? ? ? ? ? ?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7" name="WordArt 5"/>
          <p:cNvSpPr txBox="1"/>
          <p:nvPr/>
        </p:nvSpPr>
        <p:spPr>
          <a:xfrm>
            <a:off x="838080" y="3295800"/>
            <a:ext cx="77724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6  46  70  61  53  40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6840" y="2119320"/>
            <a:ext cx="85345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  <a:ea typeface="Times New Roman"/>
              </a:rPr>
              <a:t>That’s what a frequency distribution is for—to help impose order on the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  <a:ea typeface="Times New Roman"/>
              </a:rPr>
              <a:t>A </a:t>
            </a:r>
            <a:r>
              <a:rPr b="1" lang="en-US" sz="2600" spc="-1" strike="noStrike" u="sng">
                <a:solidFill>
                  <a:srgbClr val="444d26"/>
                </a:solidFill>
                <a:uFillTx/>
                <a:latin typeface="Constantia"/>
                <a:ea typeface="Times New Roman"/>
              </a:rPr>
              <a:t>frequency distribution</a:t>
            </a:r>
            <a:r>
              <a:rPr b="1" lang="en-US" sz="2600" spc="-1" strike="noStrike">
                <a:solidFill>
                  <a:srgbClr val="444d26"/>
                </a:solidFill>
                <a:latin typeface="Constantia"/>
                <a:ea typeface="Times New Roman"/>
              </a:rPr>
              <a:t> is a systematic arrangement of data values, with a count of how many times each value occurred in a datas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E3BFE26E-7677-41C3-87E5-AF4D7E7C77C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ooter Placeholder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9375840" cy="1652760"/>
          </a:xfrm>
          <a:prstGeom prst="rect">
            <a:avLst/>
          </a:prstGeom>
          <a:ln w="0">
            <a:noFill/>
          </a:ln>
        </p:spPr>
      </p:pic>
      <p:sp>
        <p:nvSpPr>
          <p:cNvPr id="542" name="WordArt 4"/>
          <p:cNvSpPr txBox="1"/>
          <p:nvPr/>
        </p:nvSpPr>
        <p:spPr>
          <a:xfrm>
            <a:off x="3124080" y="152388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!!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258840" y="1506600"/>
            <a:ext cx="8400960" cy="42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f3a447"/>
              </a:buClr>
              <a:buSzPct val="15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When working with large data sets, it is often helpful to organize and summarize data by constructing a table called a frequency distribu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f3a447"/>
              </a:buClr>
              <a:buSzPct val="15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B4FD5C7B-A4E1-49B1-9D47-38505329710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457200" y="177840"/>
            <a:ext cx="81662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Key Concep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15440" y="1066680"/>
            <a:ext cx="8542440" cy="489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d26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Frequency Distribution (or Frequency Table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lists data values (either individually or by groups of intervals), along with their corresponding frequencies or cou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3EB5D0FD-9065-4AE6-BA6C-D1609D1BF692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77840"/>
            <a:ext cx="81662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Defini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7T20:29:06Z</dcterms:created>
  <dc:creator>Aaron Brown</dc:creator>
  <dc:description>abrown@astate.edu</dc:description>
  <dc:language>en-US</dc:language>
  <cp:lastModifiedBy>Mutazz</cp:lastModifiedBy>
  <dcterms:modified xsi:type="dcterms:W3CDTF">2011-09-24T06:10:54Z</dcterms:modified>
  <cp:revision>37</cp:revision>
  <dc:subject/>
  <dc:title>Chapter 2</dc:title>
</cp:coreProperties>
</file>