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28.jpeg" ContentType="image/jpeg"/>
  <Override PartName="/ppt/media/image33.jpeg" ContentType="image/jpeg"/>
  <Override PartName="/ppt/media/image37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E48E-45B9-44C4-9FD0-1CF685B7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identifies and describes the four basic types of system units and system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ty processors are designed to handle spec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ing and manipulating 2-D and 3-D graphic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s large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ach is called paralle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cards (and rea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cards that have an embedded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tore 80 times the information stored on the magnetic strip of a regular credit c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M (Random-access mem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c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high-speed, temporary holding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process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rily holds data and programs being processed by the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atile - when power shuts off, contents of RAM are empt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 - flash RAM can retain data when power disrupted, used in high end portable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he (pronounced:  “cash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in RAM set aside to store information frequently ac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high-speed, temporary holding area for parts of programs 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faster processing results for the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 (Read-only memo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volatile; CPU retrieves programs written on the ROM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user does not go in and change information on 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rm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OS (complementary metal-oxide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flexibility and expandability fo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is the holding area for data, instructions, and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d on chips connected to the system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commonly used units of measurement ar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ga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ga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s speed of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chronizes operations inside the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ed in gigahertz, or millions of cyc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the clock speed, the faster the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slots provide an open archite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cards provide network connections, PC/TV combinations, and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pen architecture allows users to expand and update thei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 to meet these needs, expansion cards, are inserted into the expansion s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sed architecture card relies on a proprietary add-on, often at more expensive 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ards – known as graphics cards; connect the system board to the monitor; convert internal electronic signals to video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cards – convert electronic signals to audio signals and accept audio input from micro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 cards – allow distant computers to communicate with each other by converting computer electronic signals to travel over phone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adapter cards (NICs or Network Interface Cards) - connect system unit to a cable attached to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 turner cards (television boards, video recorder cards, video capture cards) - PC/TV combination cards led to high audio quality systems called hom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 tuner converts video signal for viewing on computer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cards - credit card-sized expansion cards for portable computers, also known as PCMCIA (Personal Computer Memory Card International Association)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lines provide data pathways that connect various system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s line is also called 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thway for bits representing data and instru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uter has two basic categories of b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– connects the CPU to memory on the system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– connects the CPU to slots on the system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termines whether or not new devices can be easily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y Standard Architecture (ISA) – developed for IBM PC 8 bits then expanded to 16 bits, although slow, still widely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Component Interconnect (PCI) – originally for video demands of GUI (graphical user interfaces); widely used to connect CPU, memory, and expansion boards; either 32 or 64 bit, more than twenty times faster than an 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ed Graphics Port (AGP), over twice as fast as PCI bus; dedicated to acceleration of graphics and 3-D animations; closer to CPU and faster access for video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serial bus (USB) – gradually replacing serial and parallel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than AGP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ersion is US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s are connecting sockets on the outside of 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common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– data transported one bit at a time; mouse, keyboard, modem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– for external devices needing lots of data over short distances, like printers, scanners, external Zip dr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(universal serial bus) – gradually replacing serial and parallel ports; can connect multiple devices; faster tha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ire also known as High Performance Serial Bus (HPSB) – for high-speed printers and video cameras; as fast as US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s are used to connect exterior devices to the system unit via the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 (DC) powers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 computers have a power supply unit located within the 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book computers use AC adapters that are located outside the system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bernaut Corp is currently marketing a personal wearable computer called PO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ce is described as a personal multimedia appli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6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basic types of system units (chas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 – electronic components and selected secondary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book – components, secondary devices, and inpu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A – electronic components, secondary storage, input/outpu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 – supports the use of a stylus or pen to input commands and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ble table PC – notebook computer with monitor that swivels/fo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te tablet PC – similar to notebook but monitor is attached to the system unit and does not have an integrated key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oices recognize analog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only recognize digital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/off st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nary system consists of two digits – 0 a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0 or 1 is called a bit – short for binary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 are combined into groups of eight bits called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character = bit; eight bits = 1 byte or one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this information helps understand what takes place when data entered into computer – why it takes “so long” for the data to get trans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basic schemes of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 – primarily 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CDIC – primarily mainframe and su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code – to handle languages with large numbers of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nary coding scheme shows how characters are represented on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press on a key on the keyboard, a character is automatically converted into a series of electronic pul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mportant to computer specialist as well to help track down errors and other types o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s all system components and allows input and output devices to communicate with 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names: main board; mother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in the system unit, consists of a large flat circuit board with sockets and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s contain numerous circuits etched on a small wafer of layers of silicon and other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microprocessor chip and has two components - the control unit and the arithmetic-logic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C and CISC are two types of microprocessor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s flow between memory and Arithmetic-Logic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s flow between CPU and I/O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thmetic-Logic Unit - 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rocessor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is the number of bits that can be accessed at one time by the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er computers process data and instructions in millionths of a second – micro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r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seconds – 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oseconds – super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 – Intel’s Pentium processors use this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C – used in powerful work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AC4A-675D-4C53-8CC2-A33AD954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2188-02BF-4EB8-8FFC-6F7C5251C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22FA-EF9B-4CE4-9335-89B8A64B6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034F-5ED2-4A5C-B701-4F2698D69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302C-EECF-4EB0-B5FD-756AB324E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0240-A9F4-4520-BA31-D45DFABDE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A0BC-C886-4F62-A8BE-D041EF73C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659B-1979-4911-97CE-92E4CE88F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3699-1932-4216-B112-6D0C8F8D3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7AA6-5145-433E-9382-7815B0C5F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296-A1DC-4791-B9C8-BBD3A4DC2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BCC7-2736-473E-9B28-BA8B12E41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705360" y="647712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6-</a:t>
            </a:r>
            <a:fld id="{7BD9C521-DF51-4407-9950-C788DB6B5F2F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308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6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49240" y="1522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3048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THE SYSTEM UNI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pecialty Processor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raphics coprocessors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arallel processors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mart ca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09880" y="3505320"/>
            <a:ext cx="3200400" cy="2133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76C7-013D-45A5-AB9E-388B2386B813}" type="slidenum">
              <a:t>10</a:t>
            </a:fld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emor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lding area for data, instructions, and informatio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memory c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AM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– holds programs and data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OM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– fixed start-up instruction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MO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flexible start-up instru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248520" y="2895480"/>
            <a:ext cx="2361960" cy="1368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4D66-5E1E-487D-983D-D285713B260E}" type="slidenum">
              <a:t>11</a:t>
            </a:fld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emory Capacit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2057400"/>
          <a:ext cx="8534520" cy="3786120"/>
        </p:xfrm>
        <a:graphic>
          <a:graphicData uri="http://schemas.openxmlformats.org/drawingml/2006/table">
            <a:tbl>
              <a:tblPr/>
              <a:tblGrid>
                <a:gridCol w="3907080"/>
                <a:gridCol w="46274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 Rounded MT Bold"/>
                          <a:ea typeface="Times New Roman"/>
                        </a:rPr>
                        <a:t>Uni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 Rounded MT Bold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gabyte (M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billion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igabyte (G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million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erabyte (T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trillion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9932-6911-4DBC-B08E-A94B7F73AA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Clock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ortant measurement indicating speed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cated on a small chi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duces electrical bea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ynchronizes oper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xpressed in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igahertz (GHz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(billions of beats per secon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aster clock speed, faster compu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248520" y="2209680"/>
            <a:ext cx="2163600" cy="2362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622A-6C7F-45EB-94A4-D34FC02638F7}" type="slidenum">
              <a:t>13</a:t>
            </a:fld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xpansion Slots and Card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ow for new devices to be add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en archite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lots provide for expan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Expansion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are also called 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lug-in 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ntroller c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dapter c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face card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4800600" y="3809880"/>
            <a:ext cx="2876400" cy="2048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CD07-66AF-432A-8489-191BC70089C5}" type="slidenum">
              <a:t>14</a:t>
            </a:fld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only Used Expansion Card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Video cards (graphics card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ound ca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dem cards (internal modem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Network interface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NI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V tuner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C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(PCMCIA card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172200" y="4460760"/>
            <a:ext cx="2070000" cy="156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889760" y="2666880"/>
            <a:ext cx="917640" cy="14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29200" y="59436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serting a PC card into a notebo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5480" y="33289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Modem Card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D7FA-EF39-4288-A8ED-8BD3193E5D74}" type="slidenum">
              <a:t>15</a:t>
            </a:fld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lug and Play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t of hardware and software standards developed by Intel, Microsoft, and oth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ing devices that are able to configure themselves when install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BBB0-D90C-4812-ACFA-95D2C30AC1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us Li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 parts of the CPU to each other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 roadway for traveling b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easured 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us wid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re lanes, faster traffi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basic catego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ystem bu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xpansion bus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9D10-EB7C-4232-AD2D-E8EC1905DF6D}" type="slidenum">
              <a:t>17</a:t>
            </a:fld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s of Expansion Bus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dustry Standard Architectur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ISA)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eripheral Component Interconnec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PCI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Accelerated Graphics Por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AGP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Universal serial bu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USB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FireWire buses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705720" y="3048120"/>
            <a:ext cx="1608120" cy="2428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250320" y="53341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Bus Pathway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528D-B870-48BB-86CE-27D4EB4A9796}" type="slidenum">
              <a:t>18</a:t>
            </a:fld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ireWire Bus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gh performance serial bus (HPSB) – operate much like the USB buses and perform at speeds comparable to US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d with digital camcorders &amp; video editing 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867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1A34-9EA4-4682-8680-1D385292CE5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four basic types of system un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how a computer uses binary co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major system unit 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system boards, microprocessors, and memo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function of the system clock, expansion slots, boards, and bus lin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ports, cables, and power supp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4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DC9A-EE51-4CB2-BB1F-39475268C7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r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ocket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for connecting external devic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ur common p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e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USB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Fire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abl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are used to connect exterior devices to the system via the p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705720" y="1066680"/>
            <a:ext cx="1912680" cy="403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151040" y="51786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Port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9F4C-C9D0-4E06-A87E-643561CDFB7F}" type="slidenum">
              <a:t>20</a:t>
            </a:fld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wer Suppl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s require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rect curr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D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C power provided by converting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alternating curr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AC) from wall outlets or batteri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ktop computers use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ower supply un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ebooks and handhelds use AC adap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9480" y="4572000"/>
            <a:ext cx="8086680" cy="1671480"/>
            <a:chOff x="609480" y="4572000"/>
            <a:chExt cx="8086680" cy="167148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609480" y="4572000"/>
              <a:ext cx="1908360" cy="15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6"/>
            <a:stretch/>
          </p:blipFill>
          <p:spPr>
            <a:xfrm>
              <a:off x="5943600" y="4572000"/>
              <a:ext cx="2752560" cy="16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14400" y="5715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AC adapter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6200" y="4876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Power Supply Unit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1986-5C16-4160-9F16-0AE46B111B2D}" type="slidenum">
              <a:t>21</a:t>
            </a:fld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Xybernaut Corporatio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earable compu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lled PO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cludes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indows 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ireless pointing de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-mounted displ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P3 play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bridged Windows Office progra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380880" y="20574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0BCF-EFB9-48DA-9F91-734D3153E6A1}" type="slidenum">
              <a:t>22</a:t>
            </a:fld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four basic types of system uni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two basic components of the CP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at are the differences and similarities between the three types of memor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five expansion cards and describe the function of each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and describe four standard por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823760" cy="10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B89A-2DC5-48B7-814A-A12E68EF21B4}" type="slidenum">
              <a:t>23</a:t>
            </a:fld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0" dur="1" fill="hold"/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Unit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esk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Noteboo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ablet P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Handhe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105520" y="2286000"/>
            <a:ext cx="1620720" cy="128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048120" y="5105520"/>
            <a:ext cx="1676160" cy="111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724280" y="36576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3048120" y="2057400"/>
            <a:ext cx="17240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6095880" y="41148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010280" y="4572000"/>
            <a:ext cx="811440" cy="12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10044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2CF6-E359-42C6-ACC9-0A94C3FD2BDB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lectronic Data and Instruc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 and instructions are represented electronically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s recognize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gital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sig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Binary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yt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800600" y="3352680"/>
            <a:ext cx="3666960" cy="2872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7D09-4AF9-4632-9940-CEEDD6C57D8E}" type="slidenum">
              <a:t>4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inary Coding Schem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state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ff/on electrical sta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aracters represented by 0s and 1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ree types of coding sche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SCI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- American Standard Code for Information Exchan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BCDI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- Extended Binary Coded Decimal Interchange Cod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nicod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handles languages with large numbers of charac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77D5-A0B5-4009-9C37-4001FF44B477}" type="slidenum">
              <a:t>5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447920"/>
            <a:ext cx="853416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inary Co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4920" y="1523880"/>
          <a:ext cx="8534160" cy="44956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Co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Us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C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icrocomputer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2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CD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arge Computer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nico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national Languages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8C89-3A64-4658-AF26-86BDD16BCC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Board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s all 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ows communication between devic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ain board or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therboa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ircuit board                                                  electronic 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ock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lo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us lin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5638680" y="2743200"/>
            <a:ext cx="259092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7162920" y="5105520"/>
            <a:ext cx="1038240" cy="1028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CC52-9548-444F-87C3-F1BA1E726A41}" type="slidenum">
              <a:t>7</a:t>
            </a:fld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processor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entral Processing Uni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CPU )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basic component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ntrol unit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rithmetic-logic un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429000" y="4572000"/>
            <a:ext cx="194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019920" y="2362320"/>
            <a:ext cx="2292120" cy="1725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E01E-D9ED-48AD-8628-C9482897FA9A}" type="slidenum">
              <a:t>8</a:t>
            </a:fld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processor Chip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p capacities are expressed in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ord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siz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ypes of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icroprocessor c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ISC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hips: Complex instruction se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mputer chip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st widely used desig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Used by Int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RISC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hips: Reduced instruction set computer chi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Uses fewer instruc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sign is simpler and less costly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Used by the PowerP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477120" y="2666880"/>
            <a:ext cx="1600200" cy="1495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CA0C-1128-4C1C-9D62-D62A304BBBE4}" type="slidenum">
              <a:t>9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19T17:51:49Z</dcterms:modified>
  <cp:revision>196</cp:revision>
  <dc:subject/>
  <dc:title>PowerPoint Presentation</dc:title>
</cp:coreProperties>
</file>