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30.png" ContentType="image/png"/>
  <Override PartName="/ppt/media/image1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28.jpeg" ContentType="image/jpeg"/>
  <Override PartName="/ppt/media/image33.jpeg" ContentType="image/jpeg"/>
  <Override PartName="/ppt/media/image37.wmf" ContentType="image/x-wmf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4C29-A80F-4C99-9FEB-84B614592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identifies and describes the four basic types of system units and system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ty processors are designed to handle spec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ying and manipulating 2-D and 3-D graphic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s large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ach is called paralle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cards (and read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cards that have an embedded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tore 80 times the information stored on the magnetic strip of a regular credit c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M (Random-access mem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c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high-speed, temporary holding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process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rily holds data and programs being processed by the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atile - when power shuts off, contents of RAM are empt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 - flash RAM can retain data when power disrupted, used in high end portable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he (pronounced:  “cash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in RAM set aside to store information frequently ac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high-speed, temporary holding area for parts of programs an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faster processing results for the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 (Read-only memor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volatile; CPU retrieves programs written on the ROM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user does not go in and change information on 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rm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OS (complementary metal-oxide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flexibility and expandability fo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is the holding area for data, instructions, and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d on chips connected to the system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commonly used units of measurement ar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ga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ga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a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s speed of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chronizes operations inside the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ed in gigahertz, or millions of cyc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the clock speed, the faster the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on slots provide an open archite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on cards provide network connections, PC/TV combinations, and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pen architecture allows users to expand and update thei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s to meet these needs, expansion cards, are inserted into the expansion s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sed architecture card relies on a proprietary add-on, often at more expensive p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cards – known as graphics cards; connect the system board to the monitor; convert internal electronic signals to video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cards – convert electronic signals to audio signals and accept audio input from micro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m cards – allow distant computers to communicate with each other by converting computer electronic signals to travel over phone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adapter cards (NICs or Network Interface Cards) - connect system unit to a cable attached to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 turner cards (television boards, video recorder cards, video capture cards) - PC/TV combination cards led to high audio quality systems called hom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 tuner converts video signal for viewing on computer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cards - credit card-sized expansion cards for portable computers, also known as PCMCIA (Personal Computer Memory Card International Association)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 lines provide data pathways that connect various system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s line is also called 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thway for bits representing data and instru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uter has two basic categories of b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– connects the CPU to memory on the system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on – connects the CPU to slots on the system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termines whether or not new devices can be easily ad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y Standard Architecture (ISA) – developed for IBM PC 8 bits then expanded to 16 bits, although slow, still widely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Component Interconnect (PCI) – originally for video demands of GUI (graphical user interfaces); widely used to connect CPU, memory, and expansion boards; either 32 or 64 bit, more than twenty times faster than an 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ed Graphics Port (AGP), over twice as fast as PCI bus; dedicated to acceleration of graphics and 3-D animations; closer to CPU and faster access for video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serial bus (USB) – gradually replacing serial and parallel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than AGP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ersion is USB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s are connecting sockets on the outside of system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common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 – data transported one bit at a time; mouse, keyboard, modem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– for external devices needing lots of data over short distances, like printers, scanners, external Zip dr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(universal serial bus) – gradually replacing serial and parallel ports; can connect multiple devices; faster tha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Wire also known as High Performance Serial Bus (HPSB) – for high-speed printers and video cameras; as fast as USB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s are used to connect exterior devices to the system unit via the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urrent (DC) powers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 computers have a power supply unit located within the system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book computers use AC adapters that are located outside the system 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bernaut Corp is currently marketing a personal wearable computer called PO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ce is described as a personal multimedia appli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6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basic types of system units (chas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 – electronic components and selected secondary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book – components, secondary devices, and input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A – electronic components, secondary storage, input/output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t PC – supports the use of a stylus or pen to input commands and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ble table PC – notebook computer with monitor that swivels/fo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te tablet PC – similar to notebook but monitor is attached to the system unit and does not have an integrated key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voices recognize analog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only recognize digital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/off st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nary system consists of two digits – 0 an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0 or 1 is called a bit – short for binary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 are combined into groups of eight bits called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character = bit; eight bits = 1 byte or one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ing this information helps understand what takes place when data entered into computer – why it takes “so long” for the data to get trans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basic schemes of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 – primarily desk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BCDIC – primarily mainframe and su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code – to handle languages with large numbers of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nary coding scheme shows how characters are represented on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press on a key on the keyboard, a character is automatically converted into a series of electronic pul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mportant to computer specialist as well to help track down errors and other types o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s all system components and allows input and output devices to communicate with system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names: main board; mother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in the system unit, consists of a large flat circuit board with sockets and 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s contain numerous circuits etched on a small wafer of layers of silicon and other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the microprocessor chip and has two components - the control unit and the arithmetic-logic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C and CISC are two types of microprocessor 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s flow between memory and Arithmetic-Logic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s flow between CPU and I/O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thmetic-Logic Unit - 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 of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th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processor 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is the number of bits that can be accessed at one time by the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er computers process data and instructions in millionths of a second – micro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r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oseconds – micro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oseconds – super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C – Intel’s Pentium processors use this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C – used in powerful work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BA05-174B-4E8B-A2E8-813EB3DE4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01E1-B0E5-463F-9DA9-01CE55B57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1B7E-CD3F-4B63-8E3B-CEB81D932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D149-2816-4C78-B727-8C55F221D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DAF8-E1B6-4762-A3B2-54116D603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508B-899A-4B4F-AD2D-E01A8B4C4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B3AE-B522-42AB-9E86-A714325CD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2AA8-0912-4D7E-AB0D-A6DB938C8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AD36-96E8-4618-B8C8-9BA2F4914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17B8-AE49-43FF-AEB2-8C6920B8C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E423-7F0F-4213-8BD8-BBDEDD112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3E92-6DD5-42A9-9AD4-BCAF267B0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705360" y="647712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6-</a:t>
            </a:r>
            <a:fld id="{73717C8B-C3A9-451E-8033-479CAEE1EBAC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55308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5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6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1200">
            <a:off x="6249240" y="15224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81480" y="3048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afff"/>
                </a:solidFill>
                <a:latin typeface="Arial"/>
              </a:rPr>
              <a:t>THE SYSTEM UNI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3680" y="263520"/>
            <a:ext cx="460836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pecialty Processor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Graphics coprocessors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arallel processors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mart car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809880" y="3505320"/>
            <a:ext cx="3200400" cy="2133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15F6-F65E-4D26-A11F-2FB801DF8C5C}" type="slidenum">
              <a:t>10</a:t>
            </a:fld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emory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lding area for data, instructions, and informatio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memory chip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AM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– holds programs and data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OM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– fixed start-up instructions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MO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flexible start-up instruc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6248520" y="2895480"/>
            <a:ext cx="2361960" cy="1368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A2CF-7F7D-4355-8247-C64BD3CF5589}" type="slidenum">
              <a:t>11</a:t>
            </a:fld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emory Capacity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2057400"/>
          <a:ext cx="8534520" cy="3786120"/>
        </p:xfrm>
        <a:graphic>
          <a:graphicData uri="http://schemas.openxmlformats.org/drawingml/2006/table">
            <a:tbl>
              <a:tblPr/>
              <a:tblGrid>
                <a:gridCol w="3907080"/>
                <a:gridCol w="46274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 Rounded MT Bold"/>
                          <a:ea typeface="Times New Roman"/>
                        </a:rPr>
                        <a:t>Uni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 Rounded MT Bold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egabyte (MB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billion by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igabyte (GB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million by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erabyte (TB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trillion by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49CA-30CA-4A70-89C8-90D20836FF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ystem Clock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mportant measurement indicating speed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cated on a small chi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duces electrical bea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ynchronizes oper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xpressed in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gigahertz (GHz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(billions of beats per second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aster clock speed, faster compu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248520" y="2209680"/>
            <a:ext cx="2163600" cy="2362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5A2D-F1E6-45E6-A2D7-B3C6657174B8}" type="slidenum">
              <a:t>13</a:t>
            </a:fld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Expansion Slots and Card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llow for new devices to be add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en architec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lots provide for expan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Expansion card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are also called 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lug-in bo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ntroller c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dapter c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face card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4800600" y="3809880"/>
            <a:ext cx="2876400" cy="2048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AF94-0A24-415B-9C3E-81B5A2FAC1B9}" type="slidenum">
              <a:t>14</a:t>
            </a:fld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monly Used Expansion Card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Video cards (graphics card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ound car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odem cards (internal modem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Network interface card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NIC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V tuner card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C card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(PCMCIA card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6172200" y="4460760"/>
            <a:ext cx="2070000" cy="1567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7889760" y="2666880"/>
            <a:ext cx="917640" cy="14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29200" y="594360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Inserting a PC card into a notebo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5480" y="33289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Modem Card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A1E7-9AD9-4807-9C88-F23325F16AEB}" type="slidenum">
              <a:t>15</a:t>
            </a:fld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lug and Play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t of hardware and software standards developed by Intel, Microsoft, and oth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reating devices that are able to configure themselves when install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B7F5-CFA5-43E4-930A-D692931F2B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us Lin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nect parts of the CPU to each other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ata roadway for traveling bi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easured a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us widt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re lanes, faster traffi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basic categor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ystem bu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xpansion bus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5ABD-80C1-4F89-A4AF-F94F40B2A3CB}" type="slidenum">
              <a:t>17</a:t>
            </a:fld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ypes of Expansion Bus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Industry Standard Architectur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ISA)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eripheral Component Interconnec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PCI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Accelerated Graphics Por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AGP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Universal serial bu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USB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6" action="ppaction://hlinksldjump"/>
              </a:rPr>
              <a:t>FireWire buses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705720" y="3048120"/>
            <a:ext cx="1608120" cy="2428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250320" y="53341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Bus Pathway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69CF-2F0C-412B-9C13-E9E4A049FE79}" type="slidenum">
              <a:t>18</a:t>
            </a:fld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FireWire Bus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igh performance serial bus (HPSB) – operate much like the USB buses and perform at speeds comparable to USB 2.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sed with digital camcorders &amp; video editing 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5867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DE4E-F126-40F0-9256-0274BAE4E2D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four basic types of system uni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how a computer uses binary co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major system unit compon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system boards, microprocessors, and memor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function of the system clock, expansion slots, boards, and bus lin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ports, cables, and power supp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4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078C-7A7A-498B-849F-BE57DF308A1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ort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71500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ocket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for connecting external devic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our common por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er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arall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USB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FireWi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abl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are used to connect exterior devices to the system via the por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6705720" y="1066680"/>
            <a:ext cx="1912680" cy="4038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151040" y="51786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Port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FDB0-3859-4AD1-92B7-1CEAB6913B13}" type="slidenum">
              <a:t>20</a:t>
            </a:fld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ower Supply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puters require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rect curren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DC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C power provided by converting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alternating curren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AC) from wall outlets or batteri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ktop computers use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ower supply uni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otebooks and handhelds use AC adap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09480" y="4572000"/>
            <a:ext cx="8086680" cy="1671480"/>
            <a:chOff x="609480" y="4572000"/>
            <a:chExt cx="8086680" cy="1671480"/>
          </a:xfrm>
        </p:grpSpPr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609480" y="4572000"/>
              <a:ext cx="1908360" cy="15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6"/>
            <a:stretch/>
          </p:blipFill>
          <p:spPr>
            <a:xfrm>
              <a:off x="5943600" y="4572000"/>
              <a:ext cx="2752560" cy="16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914400" y="57150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AC adapter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86200" y="4876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Power Supply Unit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9461-0DC0-477B-9FB4-F54F519D1EAC}" type="slidenum">
              <a:t>21</a:t>
            </a:fld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 Look to the Future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Xybernaut Corporation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earable compu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alled POM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cludes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indows 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ireless pointing dev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ead-mounted displ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P3 play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bridged Windows Office program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380880" y="20574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8E84-8CBB-446C-B02F-A425DDF5120A}" type="slidenum">
              <a:t>22</a:t>
            </a:fld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four basic types of system uni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two basic components of the CP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hat are the differences and similarities between the three types of memory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y five expansion cards and describe the function of each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y and describe four standard por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7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705720" y="457200"/>
            <a:ext cx="1823760" cy="10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69B7-1386-499D-AAAA-404F68806FF0}" type="slidenum">
              <a:t>23</a:t>
            </a:fld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0" dur="1" fill="hold"/>
                                  <p:tgtEl>
                                    <p:spTgt spid="2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ystem Unit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cro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eskt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Noteboo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ablet P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Handhe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105520" y="2286000"/>
            <a:ext cx="1620720" cy="1281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048120" y="5105520"/>
            <a:ext cx="1676160" cy="111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4724280" y="36576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3048120" y="2057400"/>
            <a:ext cx="1724040" cy="85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6095880" y="4114800"/>
            <a:ext cx="16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7010280" y="4572000"/>
            <a:ext cx="811440" cy="12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10044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BD23-CF96-409D-82E1-646CBD4AB43C}" type="slidenum">
              <a:t>3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Electronic Data and Instruction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ata and instructions are represented electronically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puters recognize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gital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signa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Binary syst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yt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4800600" y="3352680"/>
            <a:ext cx="3666960" cy="2872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7A35-002A-403A-B903-D8AE1EAA655A}" type="slidenum">
              <a:t>4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inary Coding Schem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state syst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ff/on electrical sta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aracters represented by 0s and 1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ree types of coding schem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SCII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- American Standard Code for Information Exchan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BCDI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- Extended Binary Coded Decimal Interchange Cod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nicod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handles languages with large numbers of charac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82AD-29D7-43E4-967E-75DD2608B21D}" type="slidenum">
              <a:t>5</a:t>
            </a:fld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447920"/>
            <a:ext cx="8534160" cy="4724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inary Co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04920" y="1523880"/>
          <a:ext cx="8534160" cy="44956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Co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Us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SCI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icrocomputer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2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CDI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arge Computer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nicod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national Languages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E7EE-417E-41D6-8ACE-610EA74152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ystem Board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nects all compon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llows communication between devic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ain board or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otherboa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ircuit board                                                  electronic compon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ock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lo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us lin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5638680" y="2743200"/>
            <a:ext cx="2590920" cy="2124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7162920" y="5105520"/>
            <a:ext cx="1038240" cy="1028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1867-18BF-4F9D-9F3E-C1F467F15A43}" type="slidenum">
              <a:t>7</a:t>
            </a:fld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croprocessor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entral Processing Uni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CPU )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basic component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ntrol unit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rithmetic-logic un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429000" y="4572000"/>
            <a:ext cx="194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019920" y="2362320"/>
            <a:ext cx="2292120" cy="1725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A6F7-D1BB-4F86-99DD-E3E2DF2519C8}" type="slidenum">
              <a:t>8</a:t>
            </a:fld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croprocessor Chip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p capacities are expressed in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ord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siz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ypes of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icroprocessor chi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ISC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chips: Complex instruction se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mputer chip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st widely used desig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Used by Int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RISC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chips: Reduced instruction set computer chi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Uses fewer instruc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sign is simpler and less costly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Used by the PowerP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477120" y="2666880"/>
            <a:ext cx="1600200" cy="1495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96CA-0168-4EBB-8940-A07C3CA569D8}" type="slidenum">
              <a:t>9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MHE</cp:lastModifiedBy>
  <dcterms:modified xsi:type="dcterms:W3CDTF">2005-01-19T17:51:49Z</dcterms:modified>
  <cp:revision>196</cp:revision>
  <dc:subject/>
  <dc:title>PowerPoint Presentation</dc:title>
</cp:coreProperties>
</file>