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1266840" y="726840"/>
            <a:ext cx="478296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263 of Elementary Statistics,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2960" cy="35859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7720" y="66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7720" y="66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7720" y="66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7720" y="66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7720" y="66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7720" y="66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7720" y="66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747720" y="66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7720" y="66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7720" y="66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7720" y="66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4479840" y="3108240"/>
            <a:ext cx="4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"/>
          <p:cNvSpPr/>
          <p:nvPr/>
        </p:nvSpPr>
        <p:spPr>
          <a:xfrm>
            <a:off x="4479840" y="3108240"/>
            <a:ext cx="4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4191120" y="3098880"/>
            <a:ext cx="48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7720" y="66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0" y="0"/>
            <a:ext cx="299880" cy="68738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" descr="Untitled-3"/>
          <p:cNvPicPr/>
          <p:nvPr/>
        </p:nvPicPr>
        <p:blipFill>
          <a:blip r:embed="rId2"/>
          <a:stretch/>
        </p:blipFill>
        <p:spPr>
          <a:xfrm>
            <a:off x="7932600" y="6251400"/>
            <a:ext cx="578160" cy="5781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4"/>
          <p:cNvSpPr/>
          <p:nvPr/>
        </p:nvSpPr>
        <p:spPr>
          <a:xfrm>
            <a:off x="7896240" y="6278400"/>
            <a:ext cx="1547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lid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2DB1E21-07A3-4C97-BE88-773B96DB4DEF}" type="slidenum">
              <a:rPr b="1" lang="en-US" sz="1600" spc="-1" strike="noStrike">
                <a:solidFill>
                  <a:srgbClr val="db0125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ftr" idx="1"/>
          </p:nvPr>
        </p:nvSpPr>
        <p:spPr>
          <a:xfrm>
            <a:off x="380520" y="641016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7 Pearson Education, Inc Publishing as Pearson Addison-Wesle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6"/>
          <p:cNvSpPr/>
          <p:nvPr/>
        </p:nvSpPr>
        <p:spPr>
          <a:xfrm>
            <a:off x="668160" y="1871640"/>
            <a:ext cx="7823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7"/>
          <p:cNvSpPr/>
          <p:nvPr/>
        </p:nvSpPr>
        <p:spPr>
          <a:xfrm>
            <a:off x="871560" y="1843200"/>
            <a:ext cx="7750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Lecture 6&amp;7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S 2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Wajed Hatamle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0360" y="1301760"/>
            <a:ext cx="8525160" cy="43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z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Dista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long horizontal scale of the standard normal distribution; refer to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ftmost column and top row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A-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Reg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nder the curve;  refer to the values in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d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able A-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25240" y="155520"/>
            <a:ext cx="8119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Using Table A-2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028"/>
          <p:cNvSpPr/>
          <p:nvPr/>
        </p:nvSpPr>
        <p:spPr>
          <a:xfrm>
            <a:off x="2575080" y="4664160"/>
            <a:ext cx="107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29"/>
          <p:cNvSpPr/>
          <p:nvPr/>
        </p:nvSpPr>
        <p:spPr>
          <a:xfrm>
            <a:off x="419040" y="2027160"/>
            <a:ext cx="848376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rmometers have an average (mean) reading of 0 degrees and a standard deviation of 1 degree for freezing water, and if one thermometer is randomly selected, find the probability that, at the freezing point of water, the reading is less than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.5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egrees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8800" y="91800"/>
            <a:ext cx="784872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- Thermometers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3"/>
          <p:cNvSpPr/>
          <p:nvPr/>
        </p:nvSpPr>
        <p:spPr>
          <a:xfrm>
            <a:off x="3355920" y="1698480"/>
            <a:ext cx="23270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(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&lt; 1.58)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3692880" y="54388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igure 5-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7" descr="5_06"/>
          <p:cNvPicPr/>
          <p:nvPr/>
        </p:nvPicPr>
        <p:blipFill>
          <a:blip r:embed="rId1"/>
          <a:stretch/>
        </p:blipFill>
        <p:spPr>
          <a:xfrm>
            <a:off x="1630440" y="2698920"/>
            <a:ext cx="5871960" cy="2565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5840" y="66600"/>
            <a:ext cx="784836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- Con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3240" y="66240"/>
            <a:ext cx="784872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Look at Table A-2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03" name="Group 31"/>
          <p:cNvGrpSpPr/>
          <p:nvPr/>
        </p:nvGrpSpPr>
        <p:grpSpPr>
          <a:xfrm>
            <a:off x="431640" y="934920"/>
            <a:ext cx="8331480" cy="5253120"/>
            <a:chOff x="431640" y="934920"/>
            <a:chExt cx="8331480" cy="5253120"/>
          </a:xfrm>
        </p:grpSpPr>
        <p:pic>
          <p:nvPicPr>
            <p:cNvPr id="104" name="Picture 30" descr="TaA_2con"/>
            <p:cNvPicPr/>
            <p:nvPr/>
          </p:nvPicPr>
          <p:blipFill>
            <a:blip r:embed="rId1"/>
            <a:stretch/>
          </p:blipFill>
          <p:spPr>
            <a:xfrm>
              <a:off x="431640" y="934920"/>
              <a:ext cx="8331480" cy="52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Oval 29"/>
            <p:cNvSpPr/>
            <p:nvPr/>
          </p:nvSpPr>
          <p:spPr>
            <a:xfrm>
              <a:off x="7277040" y="4533840"/>
              <a:ext cx="623880" cy="378000"/>
            </a:xfrm>
            <a:prstGeom prst="ellipse">
              <a:avLst/>
            </a:prstGeom>
            <a:noFill/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028"/>
          <p:cNvSpPr/>
          <p:nvPr/>
        </p:nvSpPr>
        <p:spPr>
          <a:xfrm>
            <a:off x="2774880" y="1812960"/>
            <a:ext cx="35161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 (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&lt; 1.58) = 0.942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29" descr="5_06"/>
          <p:cNvPicPr/>
          <p:nvPr/>
        </p:nvPicPr>
        <p:blipFill>
          <a:blip r:embed="rId1"/>
          <a:stretch/>
        </p:blipFill>
        <p:spPr>
          <a:xfrm>
            <a:off x="1860480" y="2563920"/>
            <a:ext cx="5257800" cy="2297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31"/>
          <p:cNvSpPr/>
          <p:nvPr/>
        </p:nvSpPr>
        <p:spPr>
          <a:xfrm>
            <a:off x="3691080" y="4962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igure 5-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9880" y="91800"/>
            <a:ext cx="784872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- con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95360" y="4991040"/>
            <a:ext cx="864864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The probability that the chosen thermometer will measure freezing water less than 1.58 degrees is 0.942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971800" y="1592280"/>
            <a:ext cx="35161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 (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&lt; 1.58) = 0.942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5_06"/>
          <p:cNvPicPr/>
          <p:nvPr/>
        </p:nvPicPr>
        <p:blipFill>
          <a:blip r:embed="rId1"/>
          <a:stretch/>
        </p:blipFill>
        <p:spPr>
          <a:xfrm>
            <a:off x="1879560" y="2571840"/>
            <a:ext cx="5257800" cy="22971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569880" y="91800"/>
            <a:ext cx="784872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- con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4"/>
          <p:cNvSpPr/>
          <p:nvPr/>
        </p:nvSpPr>
        <p:spPr>
          <a:xfrm>
            <a:off x="2833560" y="1476360"/>
            <a:ext cx="35161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 (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&lt; 1.58) = 0.942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7" descr="5_06"/>
          <p:cNvPicPr/>
          <p:nvPr/>
        </p:nvPicPr>
        <p:blipFill>
          <a:blip r:embed="rId1"/>
          <a:stretch/>
        </p:blipFill>
        <p:spPr>
          <a:xfrm>
            <a:off x="1881360" y="2570040"/>
            <a:ext cx="5257800" cy="22971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80800" y="4911480"/>
            <a:ext cx="84200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94.29% of the thermometers have readings less than 1.58 deg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569880" y="92160"/>
            <a:ext cx="78487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- con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6600" y="808200"/>
            <a:ext cx="86932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thermometers have an average (mean) reading of 0 degrees and a standard deviation of 1 degree for freezing water, and if one thermometer is randomly selected, find the probability that it reads (at the freezing point of water) above 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  <a:ea typeface="Arial"/>
              </a:rPr>
              <a:t>–</a:t>
            </a:r>
            <a:r>
              <a:rPr b="1" lang="en-US" sz="2600" spc="-1" strike="noStrike">
                <a:solidFill>
                  <a:srgbClr val="fc0128"/>
                </a:solidFill>
                <a:latin typeface="Arial"/>
              </a:rPr>
              <a:t>1.2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degrees.  </a:t>
            </a:r>
            <a:r>
              <a:rPr b="1" lang="en-US" sz="2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5790960"/>
            <a:ext cx="883908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he probability that the chosen thermometer with a reading ab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-1.23 degrees is 0.89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575080" y="4664160"/>
            <a:ext cx="107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2759040" y="2979720"/>
            <a:ext cx="3668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 (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1.23) = 0.89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8" descr="5_07"/>
          <p:cNvPicPr/>
          <p:nvPr/>
        </p:nvPicPr>
        <p:blipFill>
          <a:blip r:embed="rId1"/>
          <a:stretch/>
        </p:blipFill>
        <p:spPr>
          <a:xfrm>
            <a:off x="2043000" y="3541680"/>
            <a:ext cx="5034240" cy="22208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9"/>
          <p:cNvSpPr/>
          <p:nvPr/>
        </p:nvSpPr>
        <p:spPr>
          <a:xfrm>
            <a:off x="566640" y="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- co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2617920" y="3575160"/>
            <a:ext cx="107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786040" y="1730520"/>
            <a:ext cx="36684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 (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1.23) = 0.89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5_07"/>
          <p:cNvPicPr/>
          <p:nvPr/>
        </p:nvPicPr>
        <p:blipFill>
          <a:blip r:embed="rId1"/>
          <a:stretch/>
        </p:blipFill>
        <p:spPr>
          <a:xfrm>
            <a:off x="1973160" y="2646360"/>
            <a:ext cx="5034240" cy="2220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5920" y="5102280"/>
            <a:ext cx="8496000" cy="80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89.07% of the thermometers have readings above </a:t>
            </a: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–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1.23 degr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569880" y="92160"/>
            <a:ext cx="78487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- con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5_08"/>
          <p:cNvPicPr/>
          <p:nvPr/>
        </p:nvPicPr>
        <p:blipFill>
          <a:blip r:embed="rId1"/>
          <a:stretch/>
        </p:blipFill>
        <p:spPr>
          <a:xfrm>
            <a:off x="762120" y="2190600"/>
            <a:ext cx="5181480" cy="32781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1800" y="1010880"/>
            <a:ext cx="861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ometer is randomly selected. Find the probability that it reads (at the freezing point of water) between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.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.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grees.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2575080" y="4664160"/>
            <a:ext cx="107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5084640" y="2209680"/>
            <a:ext cx="383076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&lt;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.00) = 0.022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&lt; 1.50) = 0.933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 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.00 &lt;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&lt; 1.50) 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0.9332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0.0228 = 0.91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71440" y="5529240"/>
            <a:ext cx="86616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bability that the chosen thermometer has a reading betwee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.00 and 1.50 degrees is 0.91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595440" y="92160"/>
            <a:ext cx="7848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- co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125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Normal Probability Distributions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09480" y="1828800"/>
            <a:ext cx="83822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c0128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c0128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he Standard Normal Distrib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3  Applications of Normal Distrib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8" descr="5_08"/>
          <p:cNvPicPr/>
          <p:nvPr/>
        </p:nvPicPr>
        <p:blipFill>
          <a:blip r:embed="rId1"/>
          <a:stretch/>
        </p:blipFill>
        <p:spPr>
          <a:xfrm>
            <a:off x="762120" y="2190600"/>
            <a:ext cx="5181480" cy="3278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2280" y="5486400"/>
            <a:ext cx="880128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If many thermometers are selected and tested at the freezing point of water, then 91.04% of them will read between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  <a:ea typeface="Arial"/>
              </a:rPr>
              <a:t>–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2.00 and 1.50 degr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575080" y="4664160"/>
            <a:ext cx="10731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5084640" y="2209680"/>
            <a:ext cx="383076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&lt;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.00) = 0.022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&lt; 1.50) = 0.933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 (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.00 &lt;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&lt; 1.50) =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0.9332 </a:t>
            </a:r>
            <a:r>
              <a:rPr b="1" lang="en-US" sz="2400" spc="-1" strike="noStrike">
                <a:solidFill>
                  <a:srgbClr val="fc0128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0.0228 = 0.91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9"/>
          <p:cNvSpPr/>
          <p:nvPr/>
        </p:nvSpPr>
        <p:spPr>
          <a:xfrm>
            <a:off x="361800" y="1011240"/>
            <a:ext cx="862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ometer is randomly selected. Find the probability that it reads (at the freezing point of water) between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–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.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.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grees.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45840" y="193680"/>
            <a:ext cx="784836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- Modified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37600" y="1378080"/>
            <a:ext cx="882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ctr">
              <a:lnSpc>
                <a:spcPct val="9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P(</a:t>
            </a:r>
            <a:r>
              <a:rPr b="1" i="1" lang="en-US" sz="40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 &lt; </a:t>
            </a:r>
            <a:r>
              <a:rPr b="1" i="1" lang="en-US" sz="40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 &lt; </a:t>
            </a:r>
            <a:r>
              <a:rPr b="1" i="1" lang="en-US" sz="4000" spc="-1" strike="noStrike">
                <a:solidFill>
                  <a:srgbClr val="fc0128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tes the probability that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ore is betwe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P(</a:t>
            </a:r>
            <a:r>
              <a:rPr b="1" i="1" lang="en-US" sz="40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 &gt; </a:t>
            </a:r>
            <a:r>
              <a:rPr b="1" i="1" lang="en-US" sz="40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tes the probability that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ore is greater th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P(</a:t>
            </a:r>
            <a:r>
              <a:rPr b="1" i="1" lang="en-US" sz="40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 &lt; </a:t>
            </a:r>
            <a:r>
              <a:rPr b="1" i="1" lang="en-US" sz="4000" spc="-1" strike="noStrike">
                <a:solidFill>
                  <a:srgbClr val="fc0128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5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notes the probability that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ore is less th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79320" y="158760"/>
            <a:ext cx="77724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Not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320" y="343080"/>
            <a:ext cx="895968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inding a 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z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Score When Given a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robability Using Table A-2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7280" y="1930320"/>
            <a:ext cx="810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. Draw a bell-shaped curve, draw the centerline, and identify the region under the curve that corresponds to the given probability.  If that region is not a cumulative region from the left, work instead with a known region that is a cumulative region from the left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sing the cumulative area from the left, locate the closest probability in the </a:t>
            </a:r>
            <a:r>
              <a:rPr b="1" lang="en-US" sz="2500" spc="-1" strike="noStrike">
                <a:solidFill>
                  <a:srgbClr val="fc0128"/>
                </a:solidFill>
                <a:latin typeface="Arial"/>
              </a:rPr>
              <a:t>bod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of Table A-2 and identify the corresponding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cor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55" descr="5_10"/>
          <p:cNvPicPr/>
          <p:nvPr/>
        </p:nvPicPr>
        <p:blipFill>
          <a:blip r:embed="rId1"/>
          <a:stretch/>
        </p:blipFill>
        <p:spPr>
          <a:xfrm>
            <a:off x="1216080" y="1968480"/>
            <a:ext cx="6181560" cy="2700360"/>
          </a:xfrm>
          <a:prstGeom prst="rect">
            <a:avLst/>
          </a:prstGeom>
          <a:ln w="0">
            <a:noFill/>
          </a:ln>
        </p:spPr>
      </p:pic>
      <p:sp>
        <p:nvSpPr>
          <p:cNvPr id="146" name="Line 2050"/>
          <p:cNvSpPr/>
          <p:nvPr/>
        </p:nvSpPr>
        <p:spPr>
          <a:xfrm flipH="1">
            <a:off x="6800400" y="2844720"/>
            <a:ext cx="622440" cy="90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051"/>
          <p:cNvSpPr/>
          <p:nvPr/>
        </p:nvSpPr>
        <p:spPr>
          <a:xfrm>
            <a:off x="727200" y="241200"/>
            <a:ext cx="754056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inding 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Score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When Given Probabiliti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57"/>
          <p:cNvSpPr/>
          <p:nvPr/>
        </p:nvSpPr>
        <p:spPr>
          <a:xfrm>
            <a:off x="6396480" y="2494080"/>
            <a:ext cx="16369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5% or 0.0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058"/>
          <p:cNvSpPr/>
          <p:nvPr/>
        </p:nvSpPr>
        <p:spPr>
          <a:xfrm>
            <a:off x="917640" y="4800600"/>
            <a:ext cx="36928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ore will be posi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059"/>
          <p:cNvSpPr/>
          <p:nvPr/>
        </p:nvSpPr>
        <p:spPr>
          <a:xfrm>
            <a:off x="3081600" y="5711760"/>
            <a:ext cx="3330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Figure 5-10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the 9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1" descr="5_10"/>
          <p:cNvPicPr/>
          <p:nvPr/>
        </p:nvPicPr>
        <p:blipFill>
          <a:blip r:embed="rId1"/>
          <a:stretch/>
        </p:blipFill>
        <p:spPr>
          <a:xfrm>
            <a:off x="1216080" y="1968480"/>
            <a:ext cx="6181560" cy="2700360"/>
          </a:xfrm>
          <a:prstGeom prst="rect">
            <a:avLst/>
          </a:prstGeom>
          <a:ln w="0">
            <a:noFill/>
          </a:ln>
        </p:spPr>
      </p:pic>
      <p:sp>
        <p:nvSpPr>
          <p:cNvPr id="152" name="Line 20"/>
          <p:cNvSpPr/>
          <p:nvPr/>
        </p:nvSpPr>
        <p:spPr>
          <a:xfrm flipH="1">
            <a:off x="6800400" y="2844720"/>
            <a:ext cx="622440" cy="90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1"/>
          <p:cNvSpPr/>
          <p:nvPr/>
        </p:nvSpPr>
        <p:spPr>
          <a:xfrm>
            <a:off x="434880" y="241200"/>
            <a:ext cx="812484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inding 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Score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When Given Probabilities - co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3081600" y="5711760"/>
            <a:ext cx="3330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Figure 5-10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the 95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 flipV="1">
            <a:off x="5889600" y="46180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5330880" y="4818240"/>
            <a:ext cx="10731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1.64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6396480" y="2494080"/>
            <a:ext cx="16369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5% or 0.0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3"/>
          <p:cNvSpPr/>
          <p:nvPr/>
        </p:nvSpPr>
        <p:spPr>
          <a:xfrm>
            <a:off x="917640" y="4800600"/>
            <a:ext cx="36928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ore will be posi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0" descr="5_11_3"/>
          <p:cNvPicPr/>
          <p:nvPr/>
        </p:nvPicPr>
        <p:blipFill>
          <a:blip r:embed="rId1"/>
          <a:stretch/>
        </p:blipFill>
        <p:spPr>
          <a:xfrm>
            <a:off x="1104840" y="1790640"/>
            <a:ext cx="6896160" cy="28861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9"/>
          <p:cNvSpPr/>
          <p:nvPr/>
        </p:nvSpPr>
        <p:spPr>
          <a:xfrm>
            <a:off x="2052360" y="5791320"/>
            <a:ext cx="5140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Figure 5-1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the Bottom 2.5% and Upper 2.5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754560" y="4724280"/>
            <a:ext cx="7708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ore will be negative and the other posi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1"/>
          <p:cNvSpPr/>
          <p:nvPr/>
        </p:nvSpPr>
        <p:spPr>
          <a:xfrm>
            <a:off x="422280" y="241200"/>
            <a:ext cx="81504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inding 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Score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When Given Probabilities - co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2052360" y="5791320"/>
            <a:ext cx="5140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Figure 5-1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the Bottom 2.5% and Upper 2.5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754560" y="4724280"/>
            <a:ext cx="7708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ore will be negative and the other posi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5_11_4"/>
          <p:cNvPicPr/>
          <p:nvPr/>
        </p:nvPicPr>
        <p:blipFill>
          <a:blip r:embed="rId1"/>
          <a:stretch/>
        </p:blipFill>
        <p:spPr>
          <a:xfrm>
            <a:off x="1104840" y="1790640"/>
            <a:ext cx="6896160" cy="29242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447840" y="241200"/>
            <a:ext cx="808668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inding 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Score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When Given Probabilities - co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2052360" y="5791320"/>
            <a:ext cx="5140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Figure 5-1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ing the Bottom 2.5% and Upper 2.5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754560" y="4724280"/>
            <a:ext cx="7708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ore will be negative and the other posi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473040" y="241200"/>
            <a:ext cx="804852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inding </a:t>
            </a:r>
            <a:r>
              <a:rPr b="1" i="1" lang="en-US" sz="4000" spc="-1" strike="noStrike">
                <a:solidFill>
                  <a:srgbClr val="008000"/>
                </a:solidFill>
                <a:latin typeface="Arial"/>
              </a:rPr>
              <a:t>z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Score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When Given Probabilities - co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5_11_5"/>
          <p:cNvPicPr/>
          <p:nvPr/>
        </p:nvPicPr>
        <p:blipFill>
          <a:blip r:embed="rId1"/>
          <a:stretch/>
        </p:blipFill>
        <p:spPr>
          <a:xfrm>
            <a:off x="1104840" y="1790640"/>
            <a:ext cx="689616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324080" y="254160"/>
            <a:ext cx="6524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eca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563400" y="1809720"/>
            <a:ext cx="8163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is section we have discusse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sity curv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ship between area and proba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normal distribu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ing Table A-2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4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9" descr="j0387616"/>
            <p:cNvPicPr/>
            <p:nvPr/>
          </p:nvPicPr>
          <p:blipFill>
            <a:blip r:embed="rId1"/>
            <a:srcRect l="7010" t="10000" r="7010" b="7500"/>
            <a:stretch/>
          </p:blipFill>
          <p:spPr>
            <a:xfrm>
              <a:off x="2631960" y="266760"/>
              <a:ext cx="3692520" cy="496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Rectangle 6"/>
          <p:cNvSpPr/>
          <p:nvPr/>
        </p:nvSpPr>
        <p:spPr>
          <a:xfrm>
            <a:off x="1295280" y="685800"/>
            <a:ext cx="65534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-3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plications of Normal Distribu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9" descr="j0387616"/>
            <p:cNvPicPr/>
            <p:nvPr/>
          </p:nvPicPr>
          <p:blipFill>
            <a:blip r:embed="rId1"/>
            <a:srcRect l="7010" t="10000" r="7010" b="7500"/>
            <a:stretch/>
          </p:blipFill>
          <p:spPr>
            <a:xfrm>
              <a:off x="2631960" y="266760"/>
              <a:ext cx="3692520" cy="496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Rectangle 6"/>
          <p:cNvSpPr/>
          <p:nvPr/>
        </p:nvSpPr>
        <p:spPr>
          <a:xfrm>
            <a:off x="1295280" y="1066680"/>
            <a:ext cx="655344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-1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1311120" y="254160"/>
            <a:ext cx="6524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Key Concep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608040" y="1639800"/>
            <a:ext cx="81849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section presents methods for working with normal distributions that are not standard.  That is, the mean is not 0 or the standard deviation is not 1, or bot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key concept is that we can use a simple conversion that allows us to standardize any normal distribution so that the same methods of the previous section can be us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onversion Formula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180" name="Group 10"/>
          <p:cNvGrpSpPr/>
          <p:nvPr/>
        </p:nvGrpSpPr>
        <p:grpSpPr>
          <a:xfrm>
            <a:off x="1554840" y="1851120"/>
            <a:ext cx="5283360" cy="1317960"/>
            <a:chOff x="1554840" y="1851120"/>
            <a:chExt cx="5283360" cy="1317960"/>
          </a:xfrm>
        </p:grpSpPr>
        <p:sp>
          <p:nvSpPr>
            <p:cNvPr id="181" name="Rectangle 4"/>
            <p:cNvSpPr/>
            <p:nvPr/>
          </p:nvSpPr>
          <p:spPr>
            <a:xfrm>
              <a:off x="1554840" y="2396880"/>
              <a:ext cx="1909800" cy="5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Formula 5-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5"/>
            <p:cNvGrpSpPr/>
            <p:nvPr/>
          </p:nvGrpSpPr>
          <p:grpSpPr>
            <a:xfrm>
              <a:off x="4194360" y="1851120"/>
              <a:ext cx="2643840" cy="1317960"/>
              <a:chOff x="4194360" y="1851120"/>
              <a:chExt cx="2643840" cy="1317960"/>
            </a:xfrm>
          </p:grpSpPr>
          <p:sp>
            <p:nvSpPr>
              <p:cNvPr id="183" name="Rectangle 6"/>
              <p:cNvSpPr/>
              <p:nvPr/>
            </p:nvSpPr>
            <p:spPr>
              <a:xfrm>
                <a:off x="5320080" y="1851120"/>
                <a:ext cx="1518120" cy="74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c0128"/>
                    </a:solidFill>
                    <a:latin typeface="Arial"/>
                  </a:rPr>
                  <a:t>x</a:t>
                </a:r>
                <a:r>
                  <a:rPr b="1" lang="en-US" sz="4800" spc="-1" strike="noStrike">
                    <a:solidFill>
                      <a:srgbClr val="fc0128"/>
                    </a:solidFill>
                    <a:latin typeface="Arial"/>
                  </a:rPr>
                  <a:t> </a:t>
                </a:r>
                <a:r>
                  <a:rPr b="1" lang="en-US" sz="4800" spc="-1" strike="noStrike">
                    <a:solidFill>
                      <a:srgbClr val="fc0128"/>
                    </a:solidFill>
                    <a:latin typeface="Arial"/>
                    <a:ea typeface="Arial"/>
                  </a:rPr>
                  <a:t>–</a:t>
                </a:r>
                <a:r>
                  <a:rPr b="1" lang="en-US" sz="4800" spc="-1" strike="noStrike">
                    <a:solidFill>
                      <a:srgbClr val="fc0128"/>
                    </a:solidFill>
                    <a:latin typeface="Arial"/>
                  </a:rPr>
                  <a:t> </a:t>
                </a:r>
                <a:r>
                  <a:rPr b="1" i="1" lang="en-US" sz="4400" spc="-1" strike="noStrike">
                    <a:solidFill>
                      <a:srgbClr val="fc0128"/>
                    </a:solidFill>
                    <a:latin typeface="Arial"/>
                  </a:rPr>
                  <a:t>µ</a:t>
                </a:r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7"/>
              <p:cNvSpPr/>
              <p:nvPr/>
            </p:nvSpPr>
            <p:spPr>
              <a:xfrm>
                <a:off x="5603760" y="2422440"/>
                <a:ext cx="635040" cy="74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c0128"/>
                    </a:solidFill>
                    <a:latin typeface="Symbol"/>
                    <a:ea typeface="Symbol"/>
                  </a:rPr>
                  <a:t></a:t>
                </a:r>
                <a:endParaRPr b="1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8"/>
              <p:cNvSpPr/>
              <p:nvPr/>
            </p:nvSpPr>
            <p:spPr>
              <a:xfrm>
                <a:off x="5389200" y="2604960"/>
                <a:ext cx="1212840" cy="0"/>
              </a:xfrm>
              <a:prstGeom prst="line">
                <a:avLst/>
              </a:prstGeom>
              <a:ln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9"/>
              <p:cNvSpPr/>
              <p:nvPr/>
            </p:nvSpPr>
            <p:spPr>
              <a:xfrm>
                <a:off x="4194360" y="2232000"/>
                <a:ext cx="934200" cy="74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fc0128"/>
                    </a:solidFill>
                    <a:latin typeface="Arial"/>
                  </a:rPr>
                  <a:t>z</a:t>
                </a:r>
                <a:r>
                  <a:rPr b="1" i="1" lang="en-US" sz="4800" spc="-1" strike="noStrike">
                    <a:solidFill>
                      <a:srgbClr val="fc0128"/>
                    </a:solidFill>
                    <a:latin typeface="Times New Roman"/>
                  </a:rPr>
                  <a:t> </a:t>
                </a:r>
                <a:r>
                  <a:rPr b="1" lang="en-US" sz="4000" spc="-1" strike="noStrike">
                    <a:solidFill>
                      <a:srgbClr val="fc0128"/>
                    </a:solidFill>
                    <a:latin typeface="Arial"/>
                  </a:rPr>
                  <a:t>=</a:t>
                </a:r>
                <a:endParaRPr b="1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Text Box 12"/>
          <p:cNvSpPr/>
          <p:nvPr/>
        </p:nvSpPr>
        <p:spPr>
          <a:xfrm>
            <a:off x="1800360" y="412272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Round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 scores to 2 decimal pl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37"/>
          <p:cNvGrpSpPr/>
          <p:nvPr/>
        </p:nvGrpSpPr>
        <p:grpSpPr>
          <a:xfrm>
            <a:off x="511200" y="2654280"/>
            <a:ext cx="5031360" cy="2924280"/>
            <a:chOff x="511200" y="2654280"/>
            <a:chExt cx="5031360" cy="2924280"/>
          </a:xfrm>
        </p:grpSpPr>
        <p:pic>
          <p:nvPicPr>
            <p:cNvPr id="189" name="Picture 34" descr="5_12a"/>
            <p:cNvPicPr/>
            <p:nvPr/>
          </p:nvPicPr>
          <p:blipFill>
            <a:blip r:embed="rId1"/>
            <a:stretch/>
          </p:blipFill>
          <p:spPr>
            <a:xfrm>
              <a:off x="511200" y="2654280"/>
              <a:ext cx="3171600" cy="21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Rectangle 15"/>
            <p:cNvSpPr/>
            <p:nvPr/>
          </p:nvSpPr>
          <p:spPr>
            <a:xfrm>
              <a:off x="4003200" y="5184720"/>
              <a:ext cx="1539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Figure 6-1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160" y="171360"/>
            <a:ext cx="80262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onverting  to a Standard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Normal Distribu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1333440"/>
            <a:ext cx="9131400" cy="441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160720" y="5310360"/>
            <a:ext cx="3110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303720" y="5310360"/>
            <a:ext cx="3110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3813120" y="5310360"/>
            <a:ext cx="3110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1523880" y="5310360"/>
            <a:ext cx="387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888840" y="5310360"/>
            <a:ext cx="387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254160" y="5310360"/>
            <a:ext cx="387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7202520" y="5253120"/>
            <a:ext cx="1693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6194520" y="6240600"/>
            <a:ext cx="156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2619360" y="3594240"/>
            <a:ext cx="173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7280280" y="3481560"/>
            <a:ext cx="18003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6861240" y="4784760"/>
            <a:ext cx="92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1658880" y="5653080"/>
            <a:ext cx="169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38"/>
          <p:cNvGrpSpPr/>
          <p:nvPr/>
        </p:nvGrpSpPr>
        <p:grpSpPr>
          <a:xfrm>
            <a:off x="3502080" y="2590920"/>
            <a:ext cx="5371560" cy="2162160"/>
            <a:chOff x="3502080" y="2590920"/>
            <a:chExt cx="5371560" cy="2162160"/>
          </a:xfrm>
        </p:grpSpPr>
        <p:pic>
          <p:nvPicPr>
            <p:cNvPr id="206" name="Picture 35" descr="5_12b"/>
            <p:cNvPicPr/>
            <p:nvPr/>
          </p:nvPicPr>
          <p:blipFill>
            <a:blip r:embed="rId2"/>
            <a:stretch/>
          </p:blipFill>
          <p:spPr>
            <a:xfrm>
              <a:off x="5684760" y="2590920"/>
              <a:ext cx="318888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AutoShape 2"/>
            <p:cNvSpPr/>
            <p:nvPr/>
          </p:nvSpPr>
          <p:spPr>
            <a:xfrm>
              <a:off x="3502080" y="2619360"/>
              <a:ext cx="2220840" cy="1206360"/>
            </a:xfrm>
            <a:prstGeom prst="rightArrow">
              <a:avLst>
                <a:gd name="adj1" fmla="val 50000"/>
                <a:gd name="adj2" fmla="val 94101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23"/>
            <p:cNvGrpSpPr/>
            <p:nvPr/>
          </p:nvGrpSpPr>
          <p:grpSpPr>
            <a:xfrm>
              <a:off x="3689640" y="2840040"/>
              <a:ext cx="1551960" cy="816480"/>
              <a:chOff x="3689640" y="2840040"/>
              <a:chExt cx="1551960" cy="816480"/>
            </a:xfrm>
          </p:grpSpPr>
          <p:sp>
            <p:nvSpPr>
              <p:cNvPr id="209" name="Rectangle 24"/>
              <p:cNvSpPr/>
              <p:nvPr/>
            </p:nvSpPr>
            <p:spPr>
              <a:xfrm>
                <a:off x="4375800" y="2840040"/>
                <a:ext cx="8658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–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25"/>
              <p:cNvSpPr/>
              <p:nvPr/>
            </p:nvSpPr>
            <p:spPr>
              <a:xfrm>
                <a:off x="4390560" y="3279600"/>
                <a:ext cx="812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26"/>
              <p:cNvSpPr/>
              <p:nvPr/>
            </p:nvSpPr>
            <p:spPr>
              <a:xfrm>
                <a:off x="4566240" y="3201840"/>
                <a:ext cx="3657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27"/>
              <p:cNvSpPr/>
              <p:nvPr/>
            </p:nvSpPr>
            <p:spPr>
              <a:xfrm>
                <a:off x="3689640" y="3049560"/>
                <a:ext cx="5972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z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955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fe load for a water taxi was found to be 3500 pounds.  The mean weight of a passenger was assumed to be 140 pounds.  Assume the worst case that all passengers are men.  Assume also that the weights of the men are normally distributed with a mean of 172 pounds and standard deviation of 29 pounds.  If one man is randomly selected, what is the probability he weighs less than 174 pou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69280" cy="118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– Weights of                 Water Taxi Passengers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6928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- cont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216" name="Group 24"/>
          <p:cNvGrpSpPr/>
          <p:nvPr/>
        </p:nvGrpSpPr>
        <p:grpSpPr>
          <a:xfrm>
            <a:off x="5027040" y="1523880"/>
            <a:ext cx="3342240" cy="892800"/>
            <a:chOff x="5027040" y="1523880"/>
            <a:chExt cx="3342240" cy="892800"/>
          </a:xfrm>
        </p:grpSpPr>
        <p:sp>
          <p:nvSpPr>
            <p:cNvPr id="217" name="Rectangle 12"/>
            <p:cNvSpPr/>
            <p:nvPr/>
          </p:nvSpPr>
          <p:spPr>
            <a:xfrm>
              <a:off x="5027040" y="1695240"/>
              <a:ext cx="767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z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5620320" y="1523880"/>
              <a:ext cx="1536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74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17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>
              <a:off x="5634000" y="1963440"/>
              <a:ext cx="1536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5"/>
            <p:cNvSpPr/>
            <p:nvPr/>
          </p:nvSpPr>
          <p:spPr>
            <a:xfrm>
              <a:off x="6115320" y="1962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7160760" y="1695240"/>
              <a:ext cx="120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 0.07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25"/>
          <p:cNvGrpSpPr/>
          <p:nvPr/>
        </p:nvGrpSpPr>
        <p:grpSpPr>
          <a:xfrm>
            <a:off x="747360" y="1603440"/>
            <a:ext cx="1436040" cy="759240"/>
            <a:chOff x="747360" y="1603440"/>
            <a:chExt cx="1436040" cy="759240"/>
          </a:xfrm>
        </p:grpSpPr>
        <p:sp>
          <p:nvSpPr>
            <p:cNvPr id="223" name="Rectangle 17"/>
            <p:cNvSpPr/>
            <p:nvPr/>
          </p:nvSpPr>
          <p:spPr>
            <a:xfrm>
              <a:off x="747360" y="1908000"/>
              <a:ext cx="143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8"/>
            <p:cNvSpPr/>
            <p:nvPr/>
          </p:nvSpPr>
          <p:spPr>
            <a:xfrm>
              <a:off x="953640" y="1603440"/>
              <a:ext cx="1112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 17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Picture 27" descr="06_13"/>
          <p:cNvPicPr/>
          <p:nvPr/>
        </p:nvPicPr>
        <p:blipFill>
          <a:blip r:embed="rId1"/>
          <a:stretch/>
        </p:blipFill>
        <p:spPr>
          <a:xfrm>
            <a:off x="662040" y="2308320"/>
            <a:ext cx="7673760" cy="33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6928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- con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7" name="Rectangle 15"/>
          <p:cNvSpPr/>
          <p:nvPr/>
        </p:nvSpPr>
        <p:spPr>
          <a:xfrm>
            <a:off x="4717800" y="1924200"/>
            <a:ext cx="4077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 (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&lt; 174 lb.) = P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&lt; 0.0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0.527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747360" y="1603440"/>
            <a:ext cx="1436040" cy="759240"/>
            <a:chOff x="747360" y="1603440"/>
            <a:chExt cx="1436040" cy="759240"/>
          </a:xfrm>
        </p:grpSpPr>
        <p:sp>
          <p:nvSpPr>
            <p:cNvPr id="229" name="Rectangle 17"/>
            <p:cNvSpPr/>
            <p:nvPr/>
          </p:nvSpPr>
          <p:spPr>
            <a:xfrm>
              <a:off x="747360" y="1908000"/>
              <a:ext cx="143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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8"/>
            <p:cNvSpPr/>
            <p:nvPr/>
          </p:nvSpPr>
          <p:spPr>
            <a:xfrm>
              <a:off x="953640" y="1603440"/>
              <a:ext cx="1112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 17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Picture 21" descr="06_13"/>
          <p:cNvPicPr/>
          <p:nvPr/>
        </p:nvPicPr>
        <p:blipFill>
          <a:blip r:embed="rId1"/>
          <a:stretch/>
        </p:blipFill>
        <p:spPr>
          <a:xfrm>
            <a:off x="662040" y="2308320"/>
            <a:ext cx="7673760" cy="33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09320" y="1565280"/>
            <a:ext cx="8381880" cy="422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008000"/>
              </a:buClr>
              <a:buFont typeface="Arial"/>
              <a:buChar char=" 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on’t confus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scores and are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 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ore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istan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ong the horizontal scale, but are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g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der the  normal curve.  Table A-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cores in the left column and across the t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w, but areas are found in the body of th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49"/>
              </a:spcBef>
              <a:buClr>
                <a:srgbClr val="008000"/>
              </a:buClr>
              <a:buFont typeface="Arial"/>
              <a:buChar char=" 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hoose the correct (right/left) side of the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950"/>
              </a:spcBef>
              <a:buClr>
                <a:srgbClr val="008000"/>
              </a:buClr>
              <a:buFont typeface="Arial"/>
              <a:buChar char=" 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A z score must b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ega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never it is locat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ef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lf of the normal distribution.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61"/>
              </a:spcBef>
              <a:buClr>
                <a:srgbClr val="008000"/>
              </a:buClr>
              <a:buFont typeface="Arial"/>
              <a:buChar char=" 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Areas (or probabilities) are positive or zero value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ey are never negative.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762120" y="203040"/>
            <a:ext cx="75484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Cautions to Keep in Mi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9360" y="453600"/>
            <a:ext cx="8610480" cy="82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Procedure for Finding Values </a:t>
            </a:r>
            <a:br>
              <a:rPr sz="4000"/>
            </a:b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Using Table A-2 and Formula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4360" y="17175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42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tch a normal distribution curve, enter the given probability or percentage in the appropriate region of the graph, and identify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(s) being sou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2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able A-2 to fin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core corresponding to the cumulative left area bounded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Refer to th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od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able A-2 to find the closest area, then identify the corresponding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co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2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Formula 6-2, enter the values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re found in step 2, then solve for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2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Another form of Formula 6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2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(If </a:t>
            </a:r>
            <a:r>
              <a:rPr b="1" i="1" lang="en-US" sz="2000" spc="-1" strike="noStrike">
                <a:solidFill>
                  <a:srgbClr val="00279f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 is located to the left of the mean, be sure that it is a negative number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4200" indent="0">
              <a:lnSpc>
                <a:spcPct val="80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 to the sketch of the curve to verify that the solution makes sense in the context of the graph and the context of the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043" descr="06_15"/>
          <p:cNvPicPr/>
          <p:nvPr/>
        </p:nvPicPr>
        <p:blipFill>
          <a:blip r:embed="rId1"/>
          <a:stretch/>
        </p:blipFill>
        <p:spPr>
          <a:xfrm>
            <a:off x="915840" y="2881440"/>
            <a:ext cx="7159680" cy="3173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91960" y="75960"/>
            <a:ext cx="8623440" cy="95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– Lightest and Heavies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8" name="Text Box 1042"/>
          <p:cNvSpPr/>
          <p:nvPr/>
        </p:nvSpPr>
        <p:spPr>
          <a:xfrm>
            <a:off x="711360" y="1292400"/>
            <a:ext cx="79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data from the previous example to determine what weight separates the lightest 99.5% from the heaviest 0.5%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056" descr="06_15"/>
          <p:cNvPicPr/>
          <p:nvPr/>
        </p:nvPicPr>
        <p:blipFill>
          <a:blip r:embed="rId1"/>
          <a:stretch/>
        </p:blipFill>
        <p:spPr>
          <a:xfrm>
            <a:off x="915840" y="2881440"/>
            <a:ext cx="7159680" cy="3173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2054"/>
          <p:cNvSpPr/>
          <p:nvPr/>
        </p:nvSpPr>
        <p:spPr>
          <a:xfrm>
            <a:off x="2895480" y="1600200"/>
            <a:ext cx="3965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x = </a:t>
            </a:r>
            <a:r>
              <a:rPr b="1" i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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z</a:t>
            </a:r>
            <a:r>
              <a:rPr b="1" i="1" lang="en-US" sz="2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●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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= 172 + (2.575 </a:t>
            </a:r>
            <a:r>
              <a:rPr b="1" lang="en-US" sz="2400" spc="-1" strike="noStrike">
                <a:solidFill>
                  <a:srgbClr val="fc0128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2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= 246.675 (247 round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91960" y="253800"/>
            <a:ext cx="8623440" cy="121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–                                   Lightest and Heaviest - con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1004400"/>
            <a:ext cx="7772400" cy="44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focus i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 random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901"/>
              </a:spcBef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324080" y="254160"/>
            <a:ext cx="6524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799280" y="5943600"/>
            <a:ext cx="163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igure 5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5"/>
          <p:cNvSpPr/>
          <p:nvPr/>
        </p:nvSpPr>
        <p:spPr>
          <a:xfrm>
            <a:off x="6029640" y="53611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Formula 5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700600" y="3475080"/>
            <a:ext cx="2826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5257800" y="3833640"/>
            <a:ext cx="353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5700600" y="3475080"/>
            <a:ext cx="2826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4"/>
          <p:cNvSpPr/>
          <p:nvPr/>
        </p:nvSpPr>
        <p:spPr>
          <a:xfrm>
            <a:off x="5410080" y="3986280"/>
            <a:ext cx="3542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5"/>
          <p:cNvSpPr/>
          <p:nvPr/>
        </p:nvSpPr>
        <p:spPr>
          <a:xfrm>
            <a:off x="5470560" y="4114800"/>
            <a:ext cx="16574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=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8"/>
          <p:cNvSpPr/>
          <p:nvPr/>
        </p:nvSpPr>
        <p:spPr>
          <a:xfrm>
            <a:off x="6765840" y="4343400"/>
            <a:ext cx="124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9"/>
          <p:cNvSpPr/>
          <p:nvPr/>
        </p:nvSpPr>
        <p:spPr>
          <a:xfrm>
            <a:off x="7223040" y="4387680"/>
            <a:ext cx="784440" cy="260640"/>
          </a:xfrm>
          <a:custGeom>
            <a:avLst/>
            <a:gdLst>
              <a:gd name="textAreaLeft" fmla="*/ 0 w 784440"/>
              <a:gd name="textAreaRight" fmla="*/ 784800 w 78444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494" h="164">
                <a:moveTo>
                  <a:pt x="0" y="96"/>
                </a:moveTo>
                <a:lnTo>
                  <a:pt x="24" y="51"/>
                </a:lnTo>
                <a:lnTo>
                  <a:pt x="45" y="163"/>
                </a:lnTo>
                <a:lnTo>
                  <a:pt x="83" y="0"/>
                </a:lnTo>
                <a:lnTo>
                  <a:pt x="49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9"/>
          <p:cNvSpPr/>
          <p:nvPr/>
        </p:nvSpPr>
        <p:spPr>
          <a:xfrm>
            <a:off x="7070400" y="3429000"/>
            <a:ext cx="24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5"/>
          <p:cNvSpPr/>
          <p:nvPr/>
        </p:nvSpPr>
        <p:spPr>
          <a:xfrm>
            <a:off x="6918480" y="4267080"/>
            <a:ext cx="165420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3"/>
          <p:cNvSpPr/>
          <p:nvPr/>
        </p:nvSpPr>
        <p:spPr>
          <a:xfrm>
            <a:off x="7147440" y="357012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4"/>
          <p:cNvSpPr/>
          <p:nvPr/>
        </p:nvSpPr>
        <p:spPr>
          <a:xfrm>
            <a:off x="7299360" y="3809880"/>
            <a:ext cx="4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6"/>
          <p:cNvSpPr/>
          <p:nvPr/>
        </p:nvSpPr>
        <p:spPr>
          <a:xfrm flipH="1">
            <a:off x="7146720" y="38862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7"/>
          <p:cNvSpPr/>
          <p:nvPr/>
        </p:nvSpPr>
        <p:spPr>
          <a:xfrm>
            <a:off x="7527960" y="3575160"/>
            <a:ext cx="4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9"/>
          <p:cNvSpPr/>
          <p:nvPr/>
        </p:nvSpPr>
        <p:spPr>
          <a:xfrm>
            <a:off x="6842880" y="3581280"/>
            <a:ext cx="4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3"/>
          <p:cNvSpPr/>
          <p:nvPr/>
        </p:nvSpPr>
        <p:spPr>
          <a:xfrm>
            <a:off x="6689880" y="3962520"/>
            <a:ext cx="5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4"/>
          <p:cNvSpPr/>
          <p:nvPr/>
        </p:nvSpPr>
        <p:spPr>
          <a:xfrm>
            <a:off x="6761160" y="37339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6"/>
          <p:cNvSpPr/>
          <p:nvPr/>
        </p:nvSpPr>
        <p:spPr>
          <a:xfrm flipH="1">
            <a:off x="6776640" y="402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7" descr="5_01"/>
          <p:cNvPicPr/>
          <p:nvPr/>
        </p:nvPicPr>
        <p:blipFill>
          <a:blip r:embed="rId1"/>
          <a:stretch/>
        </p:blipFill>
        <p:spPr>
          <a:xfrm>
            <a:off x="1181160" y="3124080"/>
            <a:ext cx="3162240" cy="26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9" descr="06_15"/>
          <p:cNvPicPr/>
          <p:nvPr/>
        </p:nvPicPr>
        <p:blipFill>
          <a:blip r:embed="rId1"/>
          <a:stretch/>
        </p:blipFill>
        <p:spPr>
          <a:xfrm>
            <a:off x="915840" y="2881440"/>
            <a:ext cx="7159680" cy="31734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6"/>
          <p:cNvSpPr/>
          <p:nvPr/>
        </p:nvSpPr>
        <p:spPr>
          <a:xfrm>
            <a:off x="1736640" y="1692360"/>
            <a:ext cx="56070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The weight of 247 pounds separates the lightest 99.5% from the heaviest 0.5%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15520" y="2948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Example –                                  Lightest and Heaviest - cont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1324080" y="254160"/>
            <a:ext cx="6524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Reca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506520" y="1809720"/>
            <a:ext cx="85802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0644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  <a:tab algn="l" pos="8367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is section we have discusse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40644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  <a:tab algn="l" pos="8367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-standard normal distribu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40644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  <a:tab algn="l" pos="8367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rting to a standard normal distribu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406440"/>
                <a:tab algn="l" pos="797040"/>
                <a:tab algn="l" pos="1195560"/>
                <a:tab algn="l" pos="1593720"/>
                <a:tab algn="l" pos="1992240"/>
                <a:tab algn="l" pos="2390760"/>
                <a:tab algn="l" pos="2789280"/>
                <a:tab algn="l" pos="3187800"/>
                <a:tab algn="l" pos="3586320"/>
                <a:tab algn="l" pos="3984480"/>
                <a:tab algn="l" pos="4383000"/>
                <a:tab algn="l" pos="4781520"/>
                <a:tab algn="l" pos="5180040"/>
                <a:tab algn="l" pos="5578560"/>
                <a:tab algn="l" pos="5977080"/>
                <a:tab algn="l" pos="6375240"/>
                <a:tab algn="l" pos="6773760"/>
                <a:tab algn="l" pos="7172280"/>
                <a:tab algn="l" pos="7570800"/>
                <a:tab algn="l" pos="7969320"/>
                <a:tab algn="l" pos="8367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dures for finding values using Table A-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1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9" descr="j0387616"/>
            <p:cNvPicPr/>
            <p:nvPr/>
          </p:nvPicPr>
          <p:blipFill>
            <a:blip r:embed="rId1"/>
            <a:srcRect l="7010" t="10000" r="7010" b="7500"/>
            <a:stretch/>
          </p:blipFill>
          <p:spPr>
            <a:xfrm>
              <a:off x="2631960" y="266760"/>
              <a:ext cx="3692520" cy="496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Rectangle 6"/>
          <p:cNvSpPr/>
          <p:nvPr/>
        </p:nvSpPr>
        <p:spPr>
          <a:xfrm>
            <a:off x="1295280" y="635040"/>
            <a:ext cx="65534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ion -2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tandard Normal Distrib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4040" y="240840"/>
            <a:ext cx="7772400" cy="62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Definition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85720" y="1217520"/>
            <a:ext cx="802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tandard normal distribu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distribution with mean equ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 and standard deviation equal to 1,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otal area under its densit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ve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l to 1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5_05"/>
          <p:cNvPicPr/>
          <p:nvPr/>
        </p:nvPicPr>
        <p:blipFill>
          <a:blip r:embed="rId1"/>
          <a:stretch/>
        </p:blipFill>
        <p:spPr>
          <a:xfrm>
            <a:off x="2028960" y="3649680"/>
            <a:ext cx="5105160" cy="25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1324080" y="254160"/>
            <a:ext cx="65246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Key Concep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841320" y="1206360"/>
            <a:ext cx="775008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ection presents the standard normal distribution which has three propert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bell-shap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mean equal to 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standard deviation equal to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xtremely important to develop the skill to find areas (or probabilities or relative frequencies) corresponding to various regions under the graph of the standard normal distribu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2200" y="149400"/>
            <a:ext cx="81201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Finding Probabilities - Table A-2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3840" y="1676520"/>
            <a:ext cx="820260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ide back cover of text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spcAft>
                <a:spcPts val="1800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mulas and Tables 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1800"/>
              </a:spcBef>
              <a:spcAft>
                <a:spcPts val="1800"/>
              </a:spcAft>
              <a:buClr>
                <a:srgbClr val="00ae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051" descr="TaA_02"/>
          <p:cNvPicPr/>
          <p:nvPr/>
        </p:nvPicPr>
        <p:blipFill>
          <a:blip r:embed="rId1"/>
          <a:stretch/>
        </p:blipFill>
        <p:spPr>
          <a:xfrm>
            <a:off x="395280" y="981000"/>
            <a:ext cx="8190000" cy="5178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63400" y="155520"/>
            <a:ext cx="81201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Table A-2 - Example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5T10:28:29Z</dcterms:created>
  <dc:creator>Addison-Wesley</dc:creator>
  <dc:description/>
  <dc:language>en-US</dc:language>
  <cp:lastModifiedBy>Mutazz</cp:lastModifiedBy>
  <cp:lastPrinted>2003-05-09T23:44:41Z</cp:lastPrinted>
  <dcterms:modified xsi:type="dcterms:W3CDTF">2011-10-14T10:36:57Z</dcterms:modified>
  <cp:revision>488</cp:revision>
  <dc:subject/>
  <dc:title>4-5 The Poisson Distribution</dc:title>
</cp:coreProperties>
</file>