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20.jpeg" ContentType="image/jpeg"/>
  <Override PartName="/ppt/media/image30.png" ContentType="image/png"/>
  <Override PartName="/ppt/media/image37.jpeg" ContentType="image/jpeg"/>
  <Override PartName="/ppt/media/image9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34.wmf" ContentType="image/x-wmf"/>
  <Override PartName="/ppt/media/image46.jpeg" ContentType="image/jpeg"/>
  <Override PartName="/ppt/media/image47.wmf" ContentType="image/x-wmf"/>
  <Override PartName="/ppt/media/image4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18.png" ContentType="image/png"/>
  <Override PartName="/ppt/media/image28.jpeg" ContentType="image/jpeg"/>
  <Override PartName="/ppt/media/image5.png" ContentType="image/png"/>
  <Override PartName="/ppt/media/image3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8EFC-BBD6-42EB-9362-903B3081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is book is to help the student become computer lite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ent in computer–related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is to be valuable immediately to a potential emplo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 gives an overview of an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ystem consist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 – uses satellite orbiting 22,000 miles above the earth as microwave relay st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link is sending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ink refers to receiv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weather can disrupt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 are becoming popular in automobiles to provide navig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 analog – telephone signals; continuous electron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 digital – computer signals; presence or absence of an electronic pulse;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m – modulator-demod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nds apart from the computer is typically connected with a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ilt into the computer system uni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card – credit card-size expansion board that is inserted into portable computers; telephone cable connects the modem to the telephone wall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modem may be external, internal, or a PC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use cab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s are sent through the 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telephone lines and conventional modems use a dial-up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popular, but many are using other types of conn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, T2, T3, and T4 leased lines – do not require conventional modems and provide very high capacity and is expensive—mainly used by corporations not typical end user; T1 lines provide a speed of 1.5 mbps (mega bits per second) which is over 26 times as fast as a conventional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– uses existing telephone lines to provide high-speed connections; uses DSL mod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 modems – Cable connections reach 90% of homes in America but not all cable companies support cable modems pres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/air connection services – Uses just what it says—satellite and air connections; older satellites couldn’t upload and dial up was still used for the process; but newer satellites are two-way satellites capable of handling both uploading and downloading; available almost anywhere but slower than 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technical matters affect data commun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s bandwidth – bits-per-second (bps) transmission capability of a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band –  also known 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gra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ndwid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standard phone line; too slow for many types of transmissions – especially high-quality video; typical speeds are 56 to 96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band – with special leased lines to connect minicomputers and mainframes as well as to transmit data over long distances (for larger computer systems); not typically used by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band – used for high-capacity transmissions (DSL, cable, satellite connections); specialized high-speed devices; effectively transmits high-quality video and other communication needs; typically 1.5 mbps; higher speeds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 for exchanging data between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tial features of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sending and receiving devices (IP address); Internet unique numb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atting – allows message to be broken into packets so easier to transmit over Internet through various interconnected networks; allows message to be reassembled at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uter network is a communication system that connects two or more computers so that they can exchange information and share resour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y device connected to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node that requests and uses resources available from other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node that shares resources with other nodes; dedicated servers specialize in performing specific tasks—could be an application server, communication server, database server, file server, printer server, or 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 – the center or central node for other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interface cards (NIC) – connects the computer to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operating system (NOS) – software to control and coordinate activities between computers on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processing - computing power located and shared at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compu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rge centralized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manager – a computer specialist; network administ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7720" y="4267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s networks differ in geographical size. Three important ty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and devices linked in close proximity to each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ed by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use a bus form of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gateways, LANs can be connected to other LANs or any other type of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Networks – LANs are now being commonly used by individuals in home/apartments; allow different computers to share resources including a common Internet connection; can be connected by various means including a wireless LAN (WLAN) that uses radio frequencies to connect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networking includes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frequency, telephone lines, electric wiring, cables, NIC/adapter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MANs (metropolitan area network)– also known as a regional network; span distances up to 1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linking nodes and resources within the geographical bounds of a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phones can extend the reach of a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WANs (wide area networ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wide and worldwid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icrowave relays and satellites to reach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is the widest W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 are connections of two or more computers that work together to exchange information and shar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twork architecture describes how the network is arranged and how the resources are coordinated and sha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architecture also describes how a computer network is configured and what strategies ar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ology – network arrangement or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compu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rge centralized computer, usually a mainfr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– nodes are connected to a single computer called a network 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ommunications pass through the hub/host computer; each connecting device is asked (“polled”) whether it has a message to send and then each device is in turn allowed to send it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as a time-shar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 network – each device handles its own communications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ost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connecting cable called a bus or back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s efficient as star, but it is low cost and widely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evice connected to two others forming a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entral files server o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 passed around ring until reach correct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sed to link mainframes—especially over wide geographic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n decentralized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possibl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stributed data process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can perform processing tasks on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lso share programs, data, and other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calle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ybri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several computers linked to central host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omputers can server as hosts to other computers (unlike star net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at top could be mainframe; computers below could be minis; then “down” to mic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n centralized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: ways of coordinating the sharing of information and resources in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networ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ized host, usually a main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re usually terminals with little or no processin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ation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/server network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ful computer coordinates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erver provides access to centralized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ly used on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network system -Bus top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have equal authority and act as both servers and 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de could obtain files from another node and provide files to another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nutella is a widely used peer-to-peer network system for sharing all kinds of files including music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net – Intranets use browsers, Web sites, and Web pages like the public Internet; typically include e-mail, mailing lists, newsgroups, and FTP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t – Purpose is to increase efficiency and reduce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walls – Organizational firewalls include a proxy server that is a gatekeeper; all communications between the outside world and an organization must pass through the proxy server where the source and content of each communication is evaluated; end users have many of the same concerns regarding security as organizations and can use firewalls as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yota and Sony are collaborating on a "smart" c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9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give examples of communication devices that they use da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vity is a concept related to using computer networks to link people and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mputers. minicomputers, and mainframes can all be 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rev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mobile or wireless de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olution is the support of more than just the wireless teleph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devices can and will connect to one another without any physical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systems that transmit data from one location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systems can be wired or wirel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ing and receiving devices – computer or a specialized communication 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channel – carries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devices – act as an interface between sending and receiving de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mission specifications – rules and procedures that coordinate the sending and receiving de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s are essential to a communic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rr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phone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xial c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er-optic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cast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phone lines – consists of twisted pair cable; slowest; being phased out by more advanced and reliable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xial cable – single solid copper core; 80 times transmission of twisted pair; television and computer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er optic – 26,000 times capacity of twisted pair cable; more secure and reliable; best over limited distances; lighter, more reliable, and less expensive than coaxial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connections do not use a solid substance to connect; uses the air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wireless conne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waves used over short di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called line of sight commun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and receiving devices must be in clear view of one an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towers called transceiv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enabled devices follow a standard known as Wi-FI (wireless fide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high-frequency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line of s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short di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used for distances up to 33 feet (not line of s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067D-75BD-4B6F-B0F3-129D3A11D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B641-D648-4A87-916E-4BBFA2E94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2590-4A49-4AF6-94FC-EED2BBCDC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E84A-979E-458B-B92D-EEB07BE3E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89A4-E9E6-41E7-92C8-7AC52F301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9D20-5FFA-4440-A284-6F4A9F3E2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3D2A-7C58-4138-A8D4-0B2A36354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EB24-91CE-4FF5-8DEA-6550FBA24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0268-5D28-4809-B7F4-3D328809A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6C85-9690-4464-9E16-F3D394541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B2A6-2890-4C63-9A60-4BE9D2DBE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0999-ED70-49EE-9BD5-ADC0C06C5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82000" y="6324480"/>
            <a:ext cx="188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9-</a:t>
            </a:r>
            <a:fld id="{AF565450-8060-4790-B3A2-970359A4120C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55308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5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2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7.jpe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4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9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1200">
            <a:off x="6249240" y="1522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48320" y="30481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afff"/>
                </a:solidFill>
                <a:latin typeface="Arial"/>
              </a:rPr>
              <a:t>COMMUNICATIONS AND NETWORK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3680" y="263520"/>
            <a:ext cx="426060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ireless Connections - Satellit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atelli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plink/Downlink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Global Positioning System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Global positioning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etwork of 24 satellit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wned by the Defense Departmen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Global positioning system (GP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vices used to determine lo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vides navigational supp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6477120" y="4800600"/>
            <a:ext cx="2374920" cy="1565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238880" y="2133720"/>
            <a:ext cx="1562400" cy="2342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19520" y="58672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6D92-6A11-43F9-BC56-AA9A9AB4EE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nnection Device Signal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sign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nalo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igit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3517920" cy="3720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43920" y="6600960"/>
            <a:ext cx="86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 24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58A2-E750-41D3-B2EE-0B3D3AE64908}" type="slidenum">
              <a:t>11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nnection Device Typ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mod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xter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C Car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rel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3920" y="6600960"/>
            <a:ext cx="86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 24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4876920" y="2133720"/>
            <a:ext cx="223812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3048120" y="2971800"/>
            <a:ext cx="1780920" cy="1209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5715000" y="3886200"/>
            <a:ext cx="1476360" cy="102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962520" y="4876920"/>
            <a:ext cx="1419120" cy="130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84F5-F6B5-4CD1-8865-CFFFF23166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nnection Servic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al-Up servi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eased lines – T1, T2, T3 and T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igital subscriber line (DSL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s existing phone li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ne type widely used is ADS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able mode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s existing TV cabl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vides speeds as fast as DSL at a lower co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atellite/air connection servic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even times faster than dial-u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lower than DSL &amp; cable mode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065A-560B-4F54-A844-1FB95367AD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ypical User Connection Costs &amp; Speed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1600200"/>
          <a:ext cx="8534160" cy="472428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Typ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Spee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Seconds to Get Images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ial-up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$1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 kbp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.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S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5 mbp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ble Modem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5 mbp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atellite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0 kbp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.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8D44-1256-4EC6-9B89-8ADC802F73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andwidth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easurement of the capacity of the chann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ategori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Low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andwidth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oiceba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edium band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roadba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d for high capacity transmis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d by DSL, cable, and satelli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C10D-8162-450C-9F67-DE24AFA75475}" type="slidenum">
              <a:t>15</a:t>
            </a:fld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otocol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t of communication ru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tandard for Internet: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CP/IP (Transmission control protocol/Internet protocol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dentifies devic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formats informatio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657600" y="4800600"/>
            <a:ext cx="4952880" cy="1506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6AB6-215B-43DB-8E07-65BEEC694D8A}" type="slidenum">
              <a:t>16</a:t>
            </a:fld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etwork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computer network is a communication syst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nects two or more compu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llows information exchang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048120" y="4038480"/>
            <a:ext cx="2560680" cy="1792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A06A-0E03-4F17-A746-82DAF60092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etwork  Term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95680" cy="449604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u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Network interface cards (NIC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Network operating system (NO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Distributed process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ost comput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Network manag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2952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990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Computer Networks Connect Compu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4986360" y="1752480"/>
            <a:ext cx="415764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13C2-5B58-48F6-BE4D-3480A6D4BA8E}" type="slidenum">
              <a:t>18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etwork Typ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Local area network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Home network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etropolitan                                                            area network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Wide area network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4038480" y="2514600"/>
            <a:ext cx="4624560" cy="32511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03AB-333E-4D1A-81E1-B1AB289CBBD2}" type="slidenum">
              <a:t>19</a:t>
            </a:fld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647960" cy="50292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scuss connectivity, the wireless revolution, and communication syste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cribe physical and wireless communications channe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scuss connection devices, including modems, T1, DSL, cable modem, and satellite connec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cribe data transmission factors, including bandwidths and protoco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scuss network and key network terminolog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876920" y="1523880"/>
            <a:ext cx="2790720" cy="1838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477120" y="3352680"/>
            <a:ext cx="2133360" cy="193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876920" y="4724280"/>
            <a:ext cx="1866960" cy="1400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3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40B5-D58A-4C47-9A2A-D4C57A641E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etwork Architectu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describes how a network is arrang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rrangement is called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op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network top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St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Bu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R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Hierarch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3505320" y="4343400"/>
            <a:ext cx="4406760" cy="917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5A55-BD3D-4078-AB4D-58DBD2721357}" type="slidenum">
              <a:t>20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tar Network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maller computers linked to a central un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entral unit is called the network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hub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trol is maintained by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oll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647960" y="1599840"/>
            <a:ext cx="4190760" cy="4724280"/>
          </a:xfrm>
          <a:prstGeom prst="rect">
            <a:avLst/>
          </a:prstGeom>
          <a:ln w="3240">
            <a:solidFill>
              <a:srgbClr val="006699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876920" y="1981080"/>
            <a:ext cx="3581280" cy="4154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5943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0DF7-E4A3-4A24-8370-3C282D113BB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us Network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2860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ch device handles its own communication 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e is no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host compu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as a common connecting cable called a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ackb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1600200" y="4572000"/>
            <a:ext cx="591984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B44B-277B-40DD-95C3-8126FE81DE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Ring Network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267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ch device is connected to two other devi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 central file server or compu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ful in a decentralized environmen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647960" y="1599840"/>
            <a:ext cx="4190760" cy="4267080"/>
          </a:xfrm>
          <a:prstGeom prst="rect">
            <a:avLst/>
          </a:prstGeom>
          <a:ln w="3240">
            <a:solidFill>
              <a:srgbClr val="006699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800600" y="1981080"/>
            <a:ext cx="3743280" cy="3432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6095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46D6-EC14-43AE-8F20-81CFAF8148D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ierarchical Network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1911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veral computers linked to a central h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uters are hosts to other compu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ful in centralized organization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060880" y="2136600"/>
            <a:ext cx="3365640" cy="365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1FC5-0040-4050-978C-104823C4794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trateg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1907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trategy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is a way of coordinating the sharing of information and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mon network strate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Termin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lient/serv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eer-to-pe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5486400" y="1371600"/>
            <a:ext cx="329580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6934320" y="3048120"/>
            <a:ext cx="1695240" cy="2962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4114800" y="4419720"/>
            <a:ext cx="2867040" cy="207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CB46-FC60-466D-95DE-385D8B1E9E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nternets and Extranet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562360" cy="5410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ran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ivate network within an organiz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vides information to employe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xtran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ivate network that connects organiz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d to allow suppliers and others acces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Firewa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ecurity system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tects against external threat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0"/>
          <a:stretch/>
        </p:blipFill>
        <p:spPr>
          <a:xfrm>
            <a:off x="5791320" y="1828800"/>
            <a:ext cx="3352680" cy="29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51ED-1DEA-4DD6-8BA7-6340707BC7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 Look to the Future</a:t>
            </a:r>
            <a:br>
              <a:rPr sz="40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Wireless Robotic Car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od car (Personalization on Demand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redicts and respon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igned to learn and adapt to an individual's driving needs and habit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724280" y="3962520"/>
            <a:ext cx="3505320" cy="2125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5C9A-43FA-4019-9B13-E1A5B8F6D5D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and discuss connectivity, the wireless revolution, and communication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and describe the various physical and wireless communication channel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the standard Internet protocol and discuss its essential featur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and discuss the four principal network topolog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and discuss the three most common network strateg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7238880" y="393840"/>
            <a:ext cx="1671840" cy="9842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6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579F-8B4C-4639-B135-BB13C96F2DB4}" type="slidenum">
              <a:t>28</a:t>
            </a:fld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0" dur="1" fill="hold"/>
                                  <p:tgtEl>
                                    <p:spTgt spid="2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57200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cribe different types of networks, including local area, metropolitan area, and wide area networ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cribe network architectures, including configurations and strateg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cribe organizational uses of Internet technologies, including intranets, extranets, and firewa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029200" y="2057400"/>
            <a:ext cx="3733920" cy="3494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3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3FE2-3B9D-4565-A860-D06769DB5B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munication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05440" cy="3586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52578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ocess of sharing data, programs, and information between two or more compu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6FA6-1FF5-4FB1-9A2A-59247DB5F9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munications Today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909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umerous applications depend on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mmunicatio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systems—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-mail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stant messaging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IM),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net telephon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lectronic commer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nnectivity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s computer networks to link people and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oing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reles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as been the most dramatic chan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581280" y="3809880"/>
            <a:ext cx="5197680" cy="2778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31F1-0806-42EA-AD5C-067C112821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munication System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6668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our basic elemen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ending and receiving devi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mmunication chann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nection devi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ata transmission specific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57200" y="4038480"/>
            <a:ext cx="8372520" cy="236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E444-2355-4BB8-B635-2CBC31D776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munication Channel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hannels carry data from one computer to another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categories of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mmunication channe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Physical connectio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Wireless conne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7315200" y="3581280"/>
            <a:ext cx="1409760" cy="1755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4572000" y="4724280"/>
            <a:ext cx="1752480" cy="1252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5943600" y="3657600"/>
            <a:ext cx="1165320" cy="1752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6781680" y="4761000"/>
            <a:ext cx="1866960" cy="162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92BC-F043-4112-B495-EE0DA071628F}" type="slidenum">
              <a:t>7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hysical Connection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elephone lines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axial cable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Fiber-optic cabl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419720" y="4952880"/>
            <a:ext cx="1676160" cy="835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114800" y="1676520"/>
            <a:ext cx="1305000" cy="116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5257800" y="2971800"/>
            <a:ext cx="1609560" cy="1432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A343-2AED-4186-BB53-515110334E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ireless Connections -</a:t>
            </a:r>
            <a:br>
              <a:rPr sz="40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nfrared, Broadcast Radio, Microwave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6479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frar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oadcast rad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i-FI (wireless fidelity)/802.1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icrowa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Bluetoo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5586480" y="1752480"/>
            <a:ext cx="272736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Microwave dis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5F14-0EBD-439A-915C-419105E8840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MHE</cp:lastModifiedBy>
  <dcterms:modified xsi:type="dcterms:W3CDTF">2005-01-19T18:08:13Z</dcterms:modified>
  <cp:revision>202</cp:revision>
  <dc:subject/>
  <dc:title>PowerPoint Presentation</dc:title>
</cp:coreProperties>
</file>