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20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34.wmf" ContentType="image/x-wmf"/>
  <Override PartName="/ppt/media/image46.jpeg" ContentType="image/jpeg"/>
  <Override PartName="/ppt/media/image47.wmf" ContentType="image/x-wmf"/>
  <Override PartName="/ppt/media/image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7F67-2F1D-4A41-8602-204F5439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book is to help the student become computer lit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ent in computer–related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is to be valuable immediately to a potential em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 gives an overview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onsist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ellite – uses satellite orbiting 22,000 miles above the earth as microwave relay s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ink is sending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ink refers to receiv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weather can disrupt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are becoming popular in automobiles to provide navig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analog – telephone signals; continuous electron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digital – computer signals; presence or absence of an electronic pulse;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 – modulator-de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s apart from the computer is typically connected with 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ilt into the computer system uni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rd – credit card-size expansion board that is inserted into portable computers; telephone cable connects the modem to the telephone wall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odem may be external, internal, or a PC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use cab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s are sent through the 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telephone lines and conventional modems use a dial-up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popular, but many are using other types of conn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, T2, T3, and T4 leased lines – do not require conventional modems and provide very high capacity and is expensive—mainly used by corporations not typical end user; T1 lines provide a speed of 1.5 mbps (mega bits per second) which is over 26 times as fast as a conventional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– uses existing telephone lines to provide high-speed connections; uses DSL mod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 modems – Cable connections reach 90% of homes in America but not all cable companies support cable modems pres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/air connection services – Uses just what it says—satellite and air connections; older satellites couldn’t upload and dial up was still used for the process; but newer satellites are two-way satellites capable of handling both uploading and downloading; available almost anywhere but slower than 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technical matters affect data 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bandwidth – bits-per-second (bps) transmission capability of a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band –  also known 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gr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ndwid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standard phone line; too slow for many types of transmissions – especially high-quality video; typical speeds are 56 to 96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band – with special leased lines to connect minicomputers and mainframes as well as to transmit data over long distances (for larger computer systems); not typically used by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– used for high-capacity transmissions (DSL, cable, satellite connections); specialized high-speed devices; effectively transmits high-quality video and other communication needs; typically 1.5 mbps; higher speeds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exchanging data between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features of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sending and receiving devices (IP address); Internet unique numb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atting – allows message to be broken into packets so easier to transmit over Internet through various interconnected networks; allows message to be reassembled at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uter network is a communication system that connects two or more computers so that they can exchange information and share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y device connected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ode that requests and uses resources available from other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ode that shares resources with other nodes; dedicated servers specialize in performing specific tasks—could be an application server, communication server, database server, file server, printer server, 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 – the center or central node for other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interface cards (NIC) – connects the computer to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operating system (NOS) – software to control and coordinate activities between computers o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processing - computing power located and shared at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mpu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centralize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manager – a computer specialist; network administ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7720" y="4267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networks differ in geographical size. Three important ty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and devices linked in close proximity to eac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by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use a bus form of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gateways, LANs can be connected to other LANs or any other type of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Networks – LANs are now being commonly used by individuals in home/apartments; allow different computers to share resources including a common Internet connection; can be connected by various means including a wireless LAN (WLAN) that uses radio frequencies to connect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networking includes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frequency, telephone lines, electric wiring, cables, NIC/adapter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MANs (metropolitan area network)– also known as a regional network; span distances up to 1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linking nodes and resources within the geographical bounds of a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phones can extend the reach of a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WANs (wide area networ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wide and worldwid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icrowave relays and satellites to reach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is the widest W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re connections of two or more computers that work together to exchange information and shar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work architecture describes how the network is arranged and how the resources are coordinated and sha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architecture also describes how a computer network is configured and what strategies ar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ology – network arrangement or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mpu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centralized computer, usually a mainfr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– nodes are connected to a single computer called a network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mmunications pass through the hub/host computer; each connecting device is asked (“polled”) whether it has a message to send and then each device is in turn allowed to send it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as a time-shar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network – each device handles its own communications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ost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connecting cable called a bus or back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efficient as star, but it is low cost and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evice connected to two others forming a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entral files server o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 passed around ring until reach correct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sed to link mainframes—especially over wide geographic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n decentralized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possibl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tributed data process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can perform processing tasks on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lso share programs, data, and othe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bri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several computers linked to central host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mputers can server as hosts to other computers (unlike star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at top could be mainframe; computers below could be minis; then “down” to mic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n centralized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ways of coordinating the sharing of information and resources i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networ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ized host, usually a 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re usually terminals with little or no process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ation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/server network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 computer coordinates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erver provides access to centralize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ly used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network system -Bus top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have equal authority and act as both servers and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could obtain files from another node and provide files to another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nutella is a widely used peer-to-peer network system for sharing all kinds of files including music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net – Intranets use browsers, Web sites, and Web pages like the public Internet; typically include e-mail, mailing lists, newsgroups, and FTP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t – Purpose is to increase efficiency and redu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– Organizational firewalls include a proxy server that is a gatekeeper; all communications between the outside world and an organization must pass through the proxy server where the source and content of each communication is evaluated; end users have many of the same concerns regarding security as organizations and can use firewalls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yota and Sony are collaborating on a "smart" c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9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give examples of communication devices that they use da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ity is a concept related to using computer networks to link people an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. minicomputers, and mainframes can all be 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rev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mobile or wireless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olution is the support of more than just the wireless teleph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devices can and will connect to one another without any physical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systems that transmit data from one location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systems can be wired or 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ing and receiving devices – computer or a specialized communication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channel – carries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devices – act as an interface between sending and receiving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mission specifications – rules and procedures that coordinate the sending and receiving de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s are essential to a commun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r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e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xial 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-optic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cas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phone lines – consists of twisted pair cable; slowest; being phased out by more advanced and reliabl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xial cable – single solid copper core; 80 times transmission of twisted pair; television and comp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 optic – 26,000 times capacity of twisted pair cable; more secure and reliable; best over limited distances; lighter, more reliable, and less expensive than coaxial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connections do not use a solid substance to connect; uses the air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wireless conne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waves used over short di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called line of sight 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devices must be in clear view of one an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wers called transce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enabled devices follow a standard known as Wi-FI (wireless fide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high-frequency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line of s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hort di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used for distances up to 33 feet (not line of s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4CF7-B0F7-4A61-BA62-DA8439BD2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FE72-85AC-4F73-AC62-1DC4A1135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7655-806B-4A4D-8455-08FE2FA79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5ECE-0103-46F1-B7F3-323936786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F82D-6E42-4238-955B-67649E653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8A5F-C4A3-4FF1-A32E-923218F66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9DB1-DFDE-413E-BCD6-E5C880D78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F550-77F6-4A49-A7D0-2C30AB671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0169-E61B-4C55-AA81-F070595BD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0904-6A3B-4AB6-AFBC-112465C5B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5DE8-DA48-4EFD-9F43-1580A2C5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D70C-7A23-4B36-A11D-4B2C90B3B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82000" y="6324480"/>
            <a:ext cx="188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9-</a:t>
            </a:r>
            <a:fld id="{486FC250-953A-4820-AFB8-2F0C4E1FD12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308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7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9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49240" y="1522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3048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COMMUNICATIONS AND NETWORK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26060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reless Connections - Satellit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atelli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plink/Downlin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lobal Positioning System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lobal positioning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twork of 24 satellit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wned by the Defense 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Global positioning system (GP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vices used to determine lo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vides navigational supp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477120" y="4800600"/>
            <a:ext cx="2374920" cy="156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238880" y="2133720"/>
            <a:ext cx="1562400" cy="2342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19520" y="5867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AE3B-90FB-41AD-84A9-927F712912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Device Signa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sig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nalo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g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3517920" cy="3720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43920" y="6600960"/>
            <a:ext cx="86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 2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421F-9FF0-4795-AAB3-2873F88DE0F7}" type="slidenum">
              <a:t>11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Device Typ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mod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C Car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3920" y="6600960"/>
            <a:ext cx="86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 2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876920" y="2133720"/>
            <a:ext cx="223812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3048120" y="2971800"/>
            <a:ext cx="17809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715000" y="3886200"/>
            <a:ext cx="1476360" cy="102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962520" y="4876920"/>
            <a:ext cx="1419120" cy="130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C9F4-08F8-4C16-BD2E-30BA0327B9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on Servic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l-Up ser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eased lines – T1, T2, T3 and T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gital subscriber line (DSL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s existing phone li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e type widely used is ADS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able mode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s existing TV c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vides speeds as fast as DSL at a lower co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atellite/air connection servic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ven times faster than dial-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lower than DSL &amp; cable mod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2957-FCD4-4261-948E-74FD57D0D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ypical User Connection Costs &amp; Speed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1600200"/>
          <a:ext cx="8534160" cy="47242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Spe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Seconds to Get Images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al-up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1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 k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.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S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5 m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ble Modem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5 m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atellit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0 kbp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A128-C5D7-40A8-8417-F1528C87BD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andwidth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asurement of the capacity of the chan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tegor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ow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ndwidth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iceba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dium ban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roadba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for high capacity transmi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by DSL, cable, and satelli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D897-3BCF-4163-A5BC-53C2C253FB40}" type="slidenum">
              <a:t>15</a:t>
            </a:fld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tocol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t of communication r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andard for Internet: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CP/IP (Transmission control protocol/Internet protocol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dentifies devic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formats inform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657600" y="4800600"/>
            <a:ext cx="4952880" cy="1506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0393-B3FD-438F-8626-9069D772ADEC}" type="slidenum">
              <a:t>16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mputer network is a communication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nects two or more 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ows information exchang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048120" y="4038480"/>
            <a:ext cx="2560680" cy="179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D113-30DD-4776-AB9E-D7D4C6B767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 Ter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95680" cy="449604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interface cards (NIC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operating system (NO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istributed proces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ost compu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Network manag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295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990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omputer Networks Connect Compu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4986360" y="1752480"/>
            <a:ext cx="415764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CFDF-65B4-4510-A851-7E6E03B37C4A}" type="slidenum">
              <a:t>18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Typ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Local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ome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etropolitan                                                           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Wide area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038480" y="2514600"/>
            <a:ext cx="4624560" cy="3251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DF09-ECB8-4B4E-95D6-25D5FE03999B}" type="slidenum">
              <a:t>19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647960" cy="5029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connectivity, the wireless revolution, and communication syste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physical and wireless communications chann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connection devices, including modems, T1, DSL, cable modem, and satellite connec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data transmission factors, including bandwidths and protoco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scuss network and key network terminolog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76920" y="1523880"/>
            <a:ext cx="2790720" cy="183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477120" y="3352680"/>
            <a:ext cx="2133360" cy="193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876920" y="4724280"/>
            <a:ext cx="1866960" cy="1400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3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BFAB-7051-4975-81A7-4669A8636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etwork Architectu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describes how a network is arrang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rangement is calle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op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es of network top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t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B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3505320" y="4343400"/>
            <a:ext cx="4406760" cy="917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E1D4-EC85-4822-8819-8E30C1C49D57}" type="slidenum">
              <a:t>20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tar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er computers linked to a central un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 unit is called the network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ub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rol is maintained by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l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647960" y="1599840"/>
            <a:ext cx="4190760" cy="4724280"/>
          </a:xfrm>
          <a:prstGeom prst="rect">
            <a:avLst/>
          </a:prstGeom>
          <a:ln w="3240">
            <a:solidFill>
              <a:srgbClr val="006699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876920" y="1981080"/>
            <a:ext cx="3581280" cy="4154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5943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B23A-E54F-4839-BC2B-7AFE16A08E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us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ch device handles its own communication 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is no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ost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s a common connecting cable called a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ckb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600200" y="4572000"/>
            <a:ext cx="59198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2AC9-7BA6-4EF1-BEDB-7799EF72182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Ring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267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ch device is connected to two other de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 central file server or compu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ful in a decentralized environ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647960" y="1599840"/>
            <a:ext cx="4190760" cy="4267080"/>
          </a:xfrm>
          <a:prstGeom prst="rect">
            <a:avLst/>
          </a:prstGeom>
          <a:ln w="3240">
            <a:solidFill>
              <a:srgbClr val="006699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3743280" cy="3432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6095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B49F-14DD-4F81-85FB-A5F3B004AB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ierarchical Network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1911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veral computers linked to a central h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s are hosts to other compu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ful in centralized organization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060880" y="2136600"/>
            <a:ext cx="336564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2AF6-BAEA-4206-A6F5-917E086CA8B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1907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trategy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is a way of coordinating the sharing of information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mon network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ermi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lient/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eer-to-pe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5486400" y="1371600"/>
            <a:ext cx="329580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6934320" y="3048120"/>
            <a:ext cx="1695240" cy="2962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4114800" y="4419720"/>
            <a:ext cx="2867040" cy="20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5022-7681-40E4-919C-0B23B6C5C3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ternets and Extrane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4100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ran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ivate network within an organ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vides information to employe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xtran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ivate network that connects organiz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d to allow suppliers and others acces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irewa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curity syste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tects against external threat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5791320" y="1828800"/>
            <a:ext cx="335268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5CC5-DC7C-4330-8450-925B73D423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ireless Robotic Ca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d car (Personalization on Deman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edicts and resp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igned to learn and adapt to an individual's driving needs and habit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3505320" cy="212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B64A-1948-47DC-8B37-378A335E6F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connectivity, the wireless revolution, and communica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and describe the various physical and wireless communication channe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the standard Internet protocol and discuss its essential featur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the four principal network topolo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and discuss the three most common network strate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7238880" y="393840"/>
            <a:ext cx="1671840" cy="984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6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B7B3-A0FB-4ED8-802B-38887D645EBE}" type="slidenum">
              <a:t>28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2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different types of networks, including local area, metropolitan area, and wide area networ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network architectures, including configurations and strateg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cribe organizational uses of Internet technologies, including intranets, extranets, and firewa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029200" y="2057400"/>
            <a:ext cx="3733920" cy="3494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3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68F7-71E5-4E7A-B143-68569276C8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05440" cy="3586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52578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ocess of sharing data, programs, and information between two or more compu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C19D-F34C-4136-A21C-E907F6C74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s Today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umerous applications depend on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systems—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-mail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stant messaging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IM),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 telephon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lectronic commer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onnectivit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s computer networks to link people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oing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s been the most dramatic chan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5197680" cy="2778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9E92-3F85-4F78-AAA6-3AACD13F7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 Syste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6668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r basic elemen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nding and receiving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mmunication cha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nection devi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ata transmission specific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57200" y="4038480"/>
            <a:ext cx="8372520" cy="236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FAE5-0E6E-4EFD-8205-46AC5E35D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munication Channel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hannels carry data from one computer to anoth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categories of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munication channe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Physical connec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ireless conn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315200" y="3581280"/>
            <a:ext cx="1409760" cy="1755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1752480" cy="1252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943600" y="3657600"/>
            <a:ext cx="1165320" cy="175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781680" y="4761000"/>
            <a:ext cx="1866960" cy="16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3DDF-C966-4539-B1F3-C3B058FB783A}" type="slidenum">
              <a:t>7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hysical Connection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elephone line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axial cable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iber-optic cabl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419720" y="495288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114800" y="1676520"/>
            <a:ext cx="1305000" cy="116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257800" y="2971800"/>
            <a:ext cx="1609560" cy="143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72F2-AE72-4BC5-9154-99F86553A5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reless Connections -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frared, Broadcast Radio, Microwav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64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frar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oadcast ra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i-FI (wireless fidelity)/802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icrowa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586480" y="1752480"/>
            <a:ext cx="272736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-24120" y="6600960"/>
            <a:ext cx="829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Microwave di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D4A3-08A8-498A-A247-FC3469E400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19T18:08:13Z</dcterms:modified>
  <cp:revision>202</cp:revision>
  <dc:subject/>
  <dc:title>PowerPoint Presentation</dc:title>
</cp:coreProperties>
</file>