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C09-2B18-4C37-8258-C8F70D28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520-3423-4283-84AC-8CB2F3D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CEA-1BC9-4199-916C-115E8631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B7E-315B-4840-9EB3-6E0E7741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E2E-14E1-4818-BC0F-9FAE1677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D18-0457-4874-8BFF-F5DB3DE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C57-968C-4A3F-8B3F-EBF8A73A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036-6E4A-4A0E-A250-8DFA2A03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5CF-6A0F-4C2D-81F9-32D91D25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9EF-3D2C-4127-A459-0C455FE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E8D-4E87-4F8B-8002-76CFC6E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8FF-5E88-4E56-B7C4-DA3D9C7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2B04-1C7C-4D57-B5AF-21022BBE5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0916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C 211:Data Structures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eek 2: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Algorithm Analysis Tool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des are borrowed from Mr. Mohammad Alqahta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74440" y="115560"/>
            <a:ext cx="87138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ic Time Complexit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809720" y="907920"/>
            <a:ext cx="87152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her than counting the exact number of primitive operations, we approximate the runtime of an algorithm as a function of data size –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s A, B, C and D (previous slide) belong to different complexit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ll not cover complexity classes in detail – they will be covered in Algorithm Analysis course, in a later s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ll briefly discuss seven basic functions which are often used in 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74440" y="115560"/>
            <a:ext cx="87138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n Basic Func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809720" y="907920"/>
            <a:ext cx="87152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fun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ic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ic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log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linear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 log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9224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Algorithmic Runtim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981000"/>
            <a:ext cx="8436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orst-case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s the </a:t>
            </a:r>
            <a:r>
              <a:rPr b="0" lang="en-GB" sz="2400" spc="-1" strike="noStrike">
                <a:solidFill>
                  <a:srgbClr val="5b9bd5"/>
                </a:solidFill>
                <a:latin typeface="Times New Roman"/>
                <a:ea typeface="宋体"/>
              </a:rPr>
              <a:t>maxim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umber of primitive operation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worst case can occur fairly o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in searching a database for a particular piece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-case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the </a:t>
            </a:r>
            <a:r>
              <a:rPr b="0" lang="en-GB" sz="2400" spc="-1" strike="noStrike">
                <a:solidFill>
                  <a:srgbClr val="5b9bd5"/>
                </a:solidFill>
                <a:latin typeface="Times New Roman"/>
                <a:ea typeface="Times New Roman"/>
              </a:rPr>
              <a:t>minim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mber of primitive operation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ing a value in a list, where the value is at the first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rting a list of values, where values are already in desired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erage-case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efficiency </a:t>
            </a:r>
            <a:r>
              <a:rPr b="0" lang="en-US" sz="2400" spc="-1" strike="noStrike">
                <a:solidFill>
                  <a:srgbClr val="5b9bd5"/>
                </a:solidFill>
                <a:latin typeface="Times New Roman"/>
                <a:ea typeface="Times New Roman"/>
              </a:rPr>
              <a:t>avera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ll possible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ybe difficult to define what “average”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214200"/>
            <a:ext cx="9144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ity Class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809720" y="990720"/>
            <a:ext cx="8715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 execution time of algorithm A is a quadratic function of n (i.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+ bn +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 execution time of algorithm B is a linear function of n (i.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 +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 execution time of algorithm C is a an exponential function of n (i.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large problems higher order terms dominate the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hree algorithms belong to three different “complexity cla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Big-O and Function Growth Ra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4440" y="90792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a convention O-notation (also called Big-Oh) to represent different complexity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ment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g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” means that the growth rate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GB" sz="2800" spc="-1" strike="noStrike">
                <a:solidFill>
                  <a:srgbClr val="5b9bd5"/>
                </a:solidFill>
                <a:latin typeface="Times New Roman"/>
                <a:ea typeface="Times New Roman"/>
              </a:rPr>
              <a:t>no mo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the growth rate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n upper boun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i.e. maximum number of primitive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use the big-O notation to rank functions according to their growth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9524880" y="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C631-1E31-4848-BFB7-673D7A9CA7B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67160" y="33300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g-O: Functions Ranking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5867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linea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ic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ic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1371600"/>
            <a:ext cx="1828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9bd5"/>
                </a:solidFill>
                <a:latin typeface="Times New Roman"/>
                <a:ea typeface="Arial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157560" y="1981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68240" y="-360"/>
            <a:ext cx="879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if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just one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stest growing term (dominates the run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stant coefficients are k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coefficients affected by machines, languages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tic behavior  (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ts large) is determined entirely by the dominating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n) = 10 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0n + 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 = 1,000, then  T(n) = 10,001,040,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is 0.01% if we drop all but the 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the dominating)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Big Oh: Some Exampl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– 3n =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 + 4n = O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 10n + 3 =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 10n + 3 = 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Big O: More Exampl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(n) = 7n – 2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n - 2 is O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Find c &gt; 0 and n0 ≥ 1 such that 7n-2 ≤ c•n for n ≥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true for c = 7 and n0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 n = 1, 7-2 ≤ 7; at n = 2, 14 – 2 ≤ 14, and so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(n) = 3 log n + 5;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 log n + 5 is O(log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c &gt; 0 and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≥ 1 such that 3 log n + 5 ≤ c•log n for n ≥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true for c = 8 and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Interpreting Big-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7480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ess than or equal 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a constant factor and in the asymptotic sense as n approaching infinity (n→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-O notation gives an upper bound on the growth rate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-O notation allows u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e constant factors and lower order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the main components of a function that effect the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ing constants and lower order terms does not change the “complexity class” – it’s very important to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Analysis: Motivation 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03520" y="1052280"/>
            <a:ext cx="8821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oblem, many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f the several algorithms should I choo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algorithm analysis to answer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riting a working program is not good en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ogram may be inefficien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program runs on a large data set, then the running time becomes an iss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Asymptotic Algorithm Analysi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10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the running time in big-O no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tic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worst-case number of primi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executed as a function of the input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 this function with big-O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arrayMax executes at most 7n − 2primitive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arrayMax runs in O(n)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Practice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10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 the following functions in terms of Big-O notation (a, b and c are consta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a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bn +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n log n +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 log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b log n +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 Analysis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03520" y="1052280"/>
            <a:ext cx="8821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ology to predict the resources that the algorithm requ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memo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ational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’ll focus on computationa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does not mean memory is not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ly, there is a trade-off between the two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pace-time trade-off is a common te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Analyse Algorithms?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03520" y="1052280"/>
            <a:ext cx="8821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algorithms as programs and run them on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good approach, though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nly for a limited set of test in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comparisons due to the experiment environments (need the same computers, same operating systems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implementation and execution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an approach which allows us to avoid experimental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Analyse Algorithms?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47880" y="1052280"/>
            <a:ext cx="8569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tic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methodology for analysing the running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s all possible in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algorithms in a way that is independent from the hardware and software enviro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s an algorithm without implementing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only primitive operations used in an 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each algorithm with a fun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characterises the running time of the algorithm as a function of the input siz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approximation of the total number of primitive oper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47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Operation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47880" y="90756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mputations performed by an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peration corresponding to a low-level instruction with a constant executio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ly independent from the programm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an expression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ing a value to a variable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←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two numbers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&lt;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ing into an array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a method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calculator.sum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ing from a metho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38080" y="213840"/>
            <a:ext cx="871524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nting Primitive Operation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3160" y="134100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umber of primitive operations execu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unning time of an algorith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function of the input siz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lgorithm ArrayMax(A, n)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Max ←A[0]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(1 +1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←1;i&lt;n; i←i+1 do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n-1: (1 + n+2(n- 1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[i]&gt;currentMax th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n − 1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Max ←A[i]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n − 1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urrentMax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:  7n −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6800" y="214200"/>
            <a:ext cx="878688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Efficiency: Growth Ra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881360" y="990720"/>
            <a:ext cx="8786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gorithm’s time requirements can be expressed as a function of (problem) inpu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ize depends on the particular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search problem, the problem size is the number of elements in the search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sorting problem, the problem size is the number of elements in the give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quickly the time of an algorithm grows as a function of problem size -- this is often called an algorithm’s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800" y="304920"/>
            <a:ext cx="8786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Growth Ra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95560" y="2571840"/>
            <a:ext cx="8215200" cy="3786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809720" y="928800"/>
            <a:ext cx="814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lgorithm is the most efficient? [The one with the growth rate Log N.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3:45:11Z</dcterms:created>
  <dc:creator>K AlSultan</dc:creator>
  <dc:description/>
  <dc:language>en-US</dc:language>
  <cp:lastModifiedBy>K AlSultan</cp:lastModifiedBy>
  <dcterms:modified xsi:type="dcterms:W3CDTF">2015-02-09T21:06:20Z</dcterms:modified>
  <cp:revision>6</cp:revision>
  <dc:subject/>
  <dc:title>Week 3</dc:title>
</cp:coreProperties>
</file>