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BF6C-724B-4839-9D7B-7904C504D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3017-AD9F-4D76-9BB1-D80AB7B9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9440-4485-447A-BB26-3ECAEC0D6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F251-86D8-4229-9D25-05DC8AED0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FAA1-9017-44C9-9718-4F785C7A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9460-9A46-4CD4-B1A9-73D95E22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15F5-E8E6-4499-A791-5FB595B9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D7DE-8A97-4AB7-A0FF-832DFEB1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A27F-7129-4EE1-B6EC-7BEF098F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0DFA-178E-40C3-89CC-95B3A345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752F-107D-4070-8016-F13679CC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55C3-C56B-4D05-AB4B-63D50179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43686-A32A-429D-962B-7DA55BF239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0916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C 211:Data Structures</a:t>
            </a:r>
            <a:br>
              <a:rPr sz="4800"/>
            </a:br>
            <a:br>
              <a:rPr sz="4800"/>
            </a:b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Week 2: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 Algorithm Analysis Tool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lides are borrowed from Mr. Mohammad Alqahtan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74440" y="115560"/>
            <a:ext cx="87138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gorithmic Time Complexity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1809720" y="907920"/>
            <a:ext cx="871524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her than counting the exact number of primitive operations, we approximate the runtime of an algorithm as a function of data size – time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hms A, B, C and D (previous slide) belong to different complexity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’ll not cover complexity classes in detail – they will be covered in Algorithm Analysis course, in a later seme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’ll briefly discuss seven basic functions which are often used in complexity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74440" y="115560"/>
            <a:ext cx="87138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ven Basic Function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809720" y="907920"/>
            <a:ext cx="871524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ant 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f(n) =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ar functi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f(n) =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dratic 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f(n) = n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bic 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f(n) = n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f(n) = log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linear 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f(n) = n log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nential 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f(n) = 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92240" y="442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Algorithmic Runtim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81080" y="981000"/>
            <a:ext cx="84362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Worst-case running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easures the </a:t>
            </a:r>
            <a:r>
              <a:rPr b="0" lang="en-GB" sz="2400" spc="-1" strike="noStrike">
                <a:solidFill>
                  <a:srgbClr val="5b9bd5"/>
                </a:solidFill>
                <a:latin typeface="Times New Roman"/>
                <a:ea typeface="宋体"/>
              </a:rPr>
              <a:t>maximu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number of primitive operations execu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he worst case can occur fairly o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e.g. in searching a database for a particular piece of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est-case running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s the </a:t>
            </a:r>
            <a:r>
              <a:rPr b="0" lang="en-GB" sz="2400" spc="-1" strike="noStrike">
                <a:solidFill>
                  <a:srgbClr val="5b9bd5"/>
                </a:solidFill>
                <a:latin typeface="Times New Roman"/>
                <a:ea typeface="Times New Roman"/>
              </a:rPr>
              <a:t>minimu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umber of primitive operations execu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inding a value in a list, where the value is at the first pos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orting a list of values, where values are already in desired or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verage-case running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 efficiency </a:t>
            </a:r>
            <a:r>
              <a:rPr b="0" lang="en-US" sz="2400" spc="-1" strike="noStrike">
                <a:solidFill>
                  <a:srgbClr val="5b9bd5"/>
                </a:solidFill>
                <a:latin typeface="Times New Roman"/>
                <a:ea typeface="Times New Roman"/>
              </a:rPr>
              <a:t>averag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all possible inpu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maybe difficult to define what “average” me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214200"/>
            <a:ext cx="914400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lexity Classe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1809720" y="990720"/>
            <a:ext cx="87152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 the execution time of algorithm A is a quadratic function of n (i.e.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a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urier New"/>
                <a:ea typeface="Courier New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+ bn + 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 the execution time of algorithm B is a linear function of n (i.e.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an +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 the execution time of algorithm C is a an exponential function of n (i.e.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a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large problems higher order terms dominate the 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three algorithms belong to three different “complexity class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9224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Big-O and Function Growth Rat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74440" y="90792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use a convention O-notation (also called Big-Oh) to represent different complexity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atement “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n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(g(n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” means that the growth rate of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n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</a:t>
            </a:r>
            <a:r>
              <a:rPr b="0" lang="en-GB" sz="2800" spc="-1" strike="noStrike">
                <a:solidFill>
                  <a:srgbClr val="5b9bd5"/>
                </a:solidFill>
                <a:latin typeface="Times New Roman"/>
                <a:ea typeface="Times New Roman"/>
              </a:rPr>
              <a:t>no mor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 the growth rate of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(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(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is an upper bound 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(n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 i.e. maximum number of primitive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an use the big-O notation to rank functions according to their growth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3"/>
          <p:cNvSpPr/>
          <p:nvPr/>
        </p:nvSpPr>
        <p:spPr>
          <a:xfrm>
            <a:off x="9524880" y="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AF7F-685B-47A2-9414-7A0D0578BCFC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67160" y="33300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g-O: Functions Ranking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586728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(1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ant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(log n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(n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ar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(n log n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linear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dratic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bic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(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nential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2286000" y="1371600"/>
            <a:ext cx="18288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9bd5"/>
                </a:solidFill>
                <a:latin typeface="Times New Roman"/>
                <a:ea typeface="Arial"/>
              </a:rPr>
              <a:t>B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Arial"/>
              </a:rPr>
              <a:t>WO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>
            <a:off x="3157560" y="1981080"/>
            <a:ext cx="0" cy="3200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68240" y="-360"/>
            <a:ext cx="879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mplification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8108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just one te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astest growing term (dominates the runtim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constant coefficients are ke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ant coefficients affected by machines, languages, et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ptotic behavior  (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ets large) is determined entirely by the dominating te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(n) = 10 n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n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40n + 8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 = 1,000, then  T(n) = 10,001,040,8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 is 0.01% if we drop all but the  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the dominating) te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8108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Big Oh: Some Exampl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– 3n = 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 + 4n = O(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+ 10n + 3 = O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+ 10n + 3 = O(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8108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Big O: More Exampl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8108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(n) = 7n – 2;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n - 2 is O(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?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Find c &gt; 0 and n0 ≥ 1 such that 7n-2 ≤ c•n for n ≥ n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is is true for c = 7 and n0 =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t n = 1, 7-2 ≤ 7; at n = 2, 14 – 2 ≤ 14, and so 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(n) = 3 log n + 5;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 log n + 5 is O(log 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?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ind c &gt; 0 and n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≥ 1 such that 3 log n + 5 ≤ c•log n for n ≥ n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is is true for c = 8 and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81080" y="43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Interpreting Big-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1774800" y="765000"/>
            <a:ext cx="87138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n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less than or equal to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(n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p to a constant factor and in the asymptotic sense as n approaching infinity (n→∞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ig-O notation gives an upper bound on the growth rate of a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ig-O notation allows u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nore constant factors and lower order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the main components of a function that effect the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noring constants and lower order terms does not change the “complexity class” – it’s very important to rem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38080" y="142920"/>
            <a:ext cx="8715240" cy="62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gorithm Analysis: Motivation 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703520" y="1052280"/>
            <a:ext cx="882144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-255600" algn="just">
              <a:lnSpc>
                <a:spcPct val="80000"/>
              </a:lnSpc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oblem can be solved in many different w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55600" algn="just">
              <a:lnSpc>
                <a:spcPct val="8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problem, many algorith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of the several algorithms should I choo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55600" algn="just">
              <a:lnSpc>
                <a:spcPct val="8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use algorithm analysis to answer this ques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Writing a working program is not good enoug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The program may be inefficient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If the program runs on a large data set, then the running time becomes an iss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0" algn="just">
              <a:lnSpc>
                <a:spcPct val="8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8108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Asymptotic Algorithm Analysi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8108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s the running time in big-O no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mptotic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the worst-case number of primi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s executed as a function of the input si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ress this function with big-O no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hm arrayMax executes at most 7n − 2primitive oper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hm arrayMax runs in O(n)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8108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Practice: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8108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ress the following functions in terms of Big-O notation (a, b and c are constan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n) = a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  <a:ea typeface="Courier New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+ bn +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n)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  <a:ea typeface="Courier New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+ n log n +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n) = n log 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+ b log n +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38080" y="142920"/>
            <a:ext cx="8715240" cy="62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is Algorithm Analysis?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03520" y="1052280"/>
            <a:ext cx="882144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-255600" algn="just">
              <a:lnSpc>
                <a:spcPct val="80000"/>
              </a:lnSpc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thodology to predict the resources that the algorithm requi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55600" algn="just">
              <a:lnSpc>
                <a:spcPct val="8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mputer memor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55600" algn="just">
              <a:lnSpc>
                <a:spcPct val="8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mputational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80000"/>
              </a:lnSpc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e’ll focus on computational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55600" algn="just">
              <a:lnSpc>
                <a:spcPct val="8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t does not mean memory is not importa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55600" algn="just">
              <a:lnSpc>
                <a:spcPct val="8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Generally, there is a trade-off between the two f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pace-time trade-off is a common te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0" algn="just">
              <a:lnSpc>
                <a:spcPct val="8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38080" y="142920"/>
            <a:ext cx="8715240" cy="62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w to Analyse Algorithms?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703520" y="1052280"/>
            <a:ext cx="882144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-255600" algn="just">
              <a:lnSpc>
                <a:spcPct val="80000"/>
              </a:lnSpc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al 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55600" algn="just">
              <a:lnSpc>
                <a:spcPct val="8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algorithms as programs and run them on compu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55600" algn="just">
              <a:lnSpc>
                <a:spcPct val="8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a good approach, though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 only for a limited set of test inpu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icult comparisons due to the experiment environments (need the same computers, same operating systems, etc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 implementation and execution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55600" algn="just">
              <a:lnSpc>
                <a:spcPct val="8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need an approach which allows us to avoid experimental stud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38080" y="142920"/>
            <a:ext cx="8715240" cy="62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w to Analyse Algorithms? 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47880" y="1052280"/>
            <a:ext cx="856944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-255600" algn="just">
              <a:lnSpc>
                <a:spcPct val="80000"/>
              </a:lnSpc>
              <a:spcBef>
                <a:spcPts val="1001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retical 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methodology for analysing the running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s all possible inpu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algorithms in a way that is independent from the hardware and software enviro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ses an algorithm without implementing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nt only primitive operations used in an algorith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each algorithm with a function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n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at characterises the running time of the algorithm as a function of the input siz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good approximation of the total number of primitive opera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38080" y="142560"/>
            <a:ext cx="8715240" cy="47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itive Operations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847880" y="907560"/>
            <a:ext cx="8569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computations performed by an algorith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operation corresponding to a low-level instruction with a constant execution 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ly independent from the programming langu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an expression (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+ 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ing a value to a variable (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←5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ng two numbers (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&lt; 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xing into an array (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ing a method (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ycalculator.sum(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ing from a metho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38080" y="213840"/>
            <a:ext cx="8715240" cy="62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unting Primitive Operations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703160" y="1341000"/>
            <a:ext cx="8785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number of primitive operations execu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running time of an algorithm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function of the input siz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lgorithm ArrayMax(A, n)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urrentMax ←A[0]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: (1 +1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i←1;i&lt;n; i←i+1 do </a:t>
            </a:r>
            <a:r>
              <a:rPr b="0" lang="pt-B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n-1: (1 + n+2(n- 1)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A[i]&gt;currentMax then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(n − 1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urrentMax ←A[i]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(n − 1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i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f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currentMax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:  7n − 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6800" y="214200"/>
            <a:ext cx="878688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gorithm Efficiency: Growth Rat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1881360" y="990720"/>
            <a:ext cx="878652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lgorithm’s time requirements can be expressed as a function of (problem) input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 size depends on the particular 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 search problem, the problem size is the number of elements in the search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 sorting problem, the problem size is the number of elements in the given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quickly the time of an algorithm grows as a function of problem size -- this is often called an algorithm’s growth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6800" y="304920"/>
            <a:ext cx="8786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gorithm Growth Rat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095560" y="2571840"/>
            <a:ext cx="8215200" cy="37861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1809720" y="928800"/>
            <a:ext cx="814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algorithm is the most efficient? [The one with the growth rate Log N.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8T03:45:11Z</dcterms:created>
  <dc:creator>K AlSultan</dc:creator>
  <dc:description/>
  <dc:language>en-US</dc:language>
  <cp:lastModifiedBy>K AlSultan</cp:lastModifiedBy>
  <dcterms:modified xsi:type="dcterms:W3CDTF">2015-02-09T21:06:20Z</dcterms:modified>
  <cp:revision>6</cp:revision>
  <dc:subject/>
  <dc:title>Week 3</dc:title>
</cp:coreProperties>
</file>