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55FAC-051C-4108-AE71-8BBE0BD9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D63D1-B460-4C86-8E56-639AE91B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46052-B3AE-4C75-B415-844DAF72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4BCE2-EA9F-4FA9-A683-9566E12D6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6DBEE-0A70-4549-8B7A-614D80B7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F22D9-9493-4100-8BF2-BE47BCFDF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1AECB-09BE-439B-8596-FEADAC34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9FC5D-A4E5-4497-B2A7-51524C7F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33659-65E2-41EC-9AB5-76FFFFB0B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132CE-B62C-4C38-8E0B-16131354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46466-1B52-4E7C-86CA-C503AAEF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0243B-3817-4D81-9538-A76E3B54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79F5E-6DA7-4F9B-967F-638548B9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4AB03-9348-4CCA-AA7D-09379AC5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C3EF0-3512-4E7E-9139-6A80BB3A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4AC22-DB8A-4173-BB6E-298825E9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E703F-AFF2-4148-B86A-9ABFDBF8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E815B-4923-43EF-B6A3-BB1F40A1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BF253-681D-43FB-8DB4-15F6203C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44D03-4912-4698-A8E0-681BEC6F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D4F2A-EF31-4227-838D-62B8D58D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E082B-33DD-47D3-A0B3-A0F7F069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5F22B-699D-442D-98B0-8BCB3F9B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762A8-F664-4320-A0D1-7FE1552C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D29E0-1B77-4C66-9B68-8547AAAD5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09EC7-6EDF-474A-BD0C-0394B016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0CF5B-2CC6-4C97-A4C3-124A2762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CB766-0BD3-47E4-93EE-14D052CE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B0926-1C66-458B-A181-0037546F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05D02-29C4-44C5-B9CD-4C13B3D5D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03B75-9DEA-40F1-A17C-9B45ACF4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C7EFD-50B6-471F-A4B5-9C167A166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5C74D-40EB-426F-A20E-1DE267CA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BD50-4D30-4D8C-8747-859F9BCF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EA19-2CF4-46B3-ABCD-3C10C8E24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E29F-39EE-411C-BBCD-396273C51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1139-4D66-4AEB-99E5-A6AEE13F7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C64A-C5AA-4DAE-ACBD-061EEF629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C566-83A1-49D6-A865-B9032C289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250F-322B-4F43-86B6-15BE2FF87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7982-A6E6-49E8-A0C9-E1084CCFE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615B-0034-44D7-897D-F2FD32B29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04DB-3239-46BE-A62B-BDF63AF0E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416B-8B21-40AB-A47F-654574287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60A1-D3BC-4D51-976E-19727A260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4CF9-C5C2-40A1-903A-B9ABB3254DA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8B4-1B6F-4858-8810-A75166B28B0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uccess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important for success of system developmen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 Standish Group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8% of system development projects success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2% of projects canceled, completed late, completed over budget, and/or limited in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project requires careful planning, control, and exec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982-12F6-47BB-A2F8-82E73AE6C3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nitiation and the Project Plann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forces to star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opport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 to dir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nitiation co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IS strategic plan (top-down) prioritized by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weighted 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ment managers or process managers (bottom-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to outside forces (HIPA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DFF-8FF5-4B6E-B44A-0ED1DD9DA4C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Project Planning Phase 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273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4767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C04-8B9B-4F4D-B13D-72B92B7756B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usines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trategic plan docu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 key us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list of expected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business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pected system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cope in terms of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ystem scop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proof of concept prototype (we will not do thi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ontext diagram (we will not do thi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0A1-6CA9-4E31-B8FE-E1C40762B55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the Projec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work breakdown structure (W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of tasks and duration required fo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outline for research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BS is foundation for project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ERT/CP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sts in assigning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ritical pa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Gantt cha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racking GANTT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764-D433-43DE-B195-EF2F2CCFFA7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PERT/CPM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E2B-F964-4B0D-A165-C159C1593BA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tt Chart for Entire Proj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overlapping ph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2280" y="849240"/>
            <a:ext cx="88394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D41-300E-4D07-B003-236C9ECE825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ing Project Fea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 of funds (cash flow, long-term capi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and cultural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cal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D7E7-F0F0-4FA1-8270-968AE523063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760-B957-4593-858E-2A47D94E633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ost/benefit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project development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operational costs afte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financial benefits based on annual savings and increased reven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using table of costs and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et present value (NPV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ayback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return on investment (RO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22D-7ABF-4536-B6E5-F0FE7024660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AP1"/>
          <p:cNvPicPr/>
          <p:nvPr/>
        </p:nvPicPr>
        <p:blipFill>
          <a:blip r:embed="rId1"/>
          <a:stretch/>
        </p:blipFill>
        <p:spPr>
          <a:xfrm>
            <a:off x="2971800" y="1600200"/>
            <a:ext cx="3481560" cy="14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776160" y="3048120"/>
            <a:ext cx="783432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resent value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 from now based on a discount rate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P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m of PVs across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value of mon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94E-2C8D-47D1-BA89-10E91EA26F2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Projec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or chang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xecu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rojec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quir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9C9-FD91-4714-935E-CC7F74E3F97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etail for Salar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ge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F4D-0577-494A-A1AA-B19AA0C3302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velopment Cost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443B-3156-4F19-AA05-028918E5B6B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Annual Operating Co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280" y="1752480"/>
          <a:ext cx="883944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8394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B4D-AE56-4D7E-8563-5FAAA85587E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Benefit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18C-055C-445F-A775-38BE818CD6C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Cost Benefit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52280" y="1233360"/>
            <a:ext cx="88394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1BD8-4C2D-48AD-9B30-F0C593D8F3A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s in Economic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Intangible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be measured i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levels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satisf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develop in-house expert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Intangible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be measured i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employee mo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produ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customers or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C948-5D06-4BC0-8642-A5B606961D8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and Cultur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any has ow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system must fit into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related issues for potential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of computer compe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phob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ived loss of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 in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r of job change or employment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ersal of established work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225-740D-4759-B390-D453708EBF6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ystem stretch state-of-the-art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n-house expertise presently exist for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 outside vendor need to b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or hiring more experienced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ring consul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ing scope and projec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3DC-9C8B-4148-9BA4-8048D7D9999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needed without comple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deadlines may not be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ve realistic assumptions and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 completion date 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 interim milestones to periodically reassess completion d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 experienced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 proper allocation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DD6D-8718-4C74-8E9A-2FFA9B255B9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member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ski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, equipment, and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taff tim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6A7-CE85-4979-8B19-ABD6C583F7F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Projec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ystem requiremen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rom upp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and detailed projec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work schedules and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7002-1882-4E1A-857E-76B5CE18751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ing and Launching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source plan for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request specific technica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request specific use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he project team into work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preliminary training and team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staffing question: “Are the resources available, trained, and ready to star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D772-6EF8-4852-A9E4-6C8D0BAD77C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ing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defined, risks identified, project is feasible, schedule developed, team members identified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ight committee finalized, meet to give go-ahead,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nnouncement made to all involved parties with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launch question: “Are we ready to start?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C57-DC75-4236-A1C9-936E5A12FED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t SDLC project planning p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hroughout each SDLC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ng and directing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 planned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edetermined schedule and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re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, time, cost, quality, human resources, communications, risk,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nit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ystem needs are identified and prioritized in strategic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ning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problem (investigation and sc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project schedule (W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project feasibility (evaluate ri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project (know people’s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project (executive formal appr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D7E-CD79-4838-9765-DC14D733DBA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and directing people to achieve a planned result within budget and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r failure of project depends on skills of the 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inning of proj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lan and organ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proj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and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 are both internal and 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CCA-F7DD-41D6-AAF8-CAD048F9497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ject tasks and build a work breakdow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projec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and train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team members t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activities of team members and sub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roject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control project deliverables and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e quality of project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007-601A-4BAB-8EC5-4E4D13B4B50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 project’s status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good working relationships with those who identify the needed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ople who will use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irectly with the client (the project’s sponsor)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resource needs and obtai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39A-7705-4E21-B5D7-88F5741750B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MB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functions included i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cope of work done by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detailed schedule of all project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progress of project against milest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initial cost/benefit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FABA-6F9F-48D9-8EFA-232BA297963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quality plan and control activities for each projec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ruit and hire project team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, motivate, team 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stakeholders and their communic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team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1520" y="1980720"/>
            <a:ext cx="40021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0F7-1218-4648-8A9D-A0E3AE8C097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review risks for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plans to reduce these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e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requests for proposals (RF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bids, write contracts, monito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1520" y="1980720"/>
            <a:ext cx="40021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5-02-21T12:35:37Z</dcterms:modified>
  <cp:revision>330</cp:revision>
  <dc:subject>Systems Analysis and Design</dc:subject>
  <dc:title>Chapter 3</dc:title>
</cp:coreProperties>
</file>