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81240" y="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8124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FE6F47-FA0A-41A0-ACA5-03A8EA352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53BC37-6098-4A0E-BE58-FD92F10F6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EE4D7A-5D77-4BA2-A5E8-123BDE109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CA690D-A290-42AA-9F8B-B9303791F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BF58FD-2DC0-4F5D-980E-FD029B5EB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A4D8BA-9600-4EDB-ADF3-621DFC30A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4C85B0-9BF5-4E64-A236-40C0EC99A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166908-3C41-475E-B87F-1EB12877E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0A23BA-7393-4D9E-978C-EC5E19607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DB3F67-B7E6-49DA-84D3-A6F984C7F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55D8FD-0C68-4419-BAE6-555EC8378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8CA680-79B9-484E-B510-F39019CC9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93760" y="70488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10D44-7E3E-4081-BBB2-1D49135ED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6785F3-501B-49E7-AF20-B0CDC72EB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B4E871-E7F9-429F-A2D8-9BFF3369E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08495-FAD1-4C41-9D8C-7E7AE8A73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8F70A9-4658-45A7-88F3-093B30C4B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D4B0DA-2DB1-4A22-8161-C5CDB3B9F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CB4153-6F02-4463-B0DE-B53311685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D5B534-0B63-47B3-8F25-0FEF1E57E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C6FC6E-AAAA-4A9F-9746-B4719F50A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0E85C8-5332-4775-80EA-5F580FCA9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80E2F3-EA10-4F4E-9F50-C4297D293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FD7587-6981-4DAC-A3F8-5D13AD856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4937A6-2DDB-4A7A-BC09-BDC31F5FD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52BD40-529B-4CAE-9C6E-B6FA29E03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A1C242-29B8-459E-8915-423779A35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E33AAD-FE9E-49D1-9743-E6D98B09B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883FED-A5FA-40B6-9C2E-5139C5138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57D2F7-BBB9-4583-A91C-3847E9142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1EA73-A999-4ABB-A3CB-29FCF6ACF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173FFD-1DC0-4358-9E0E-B3B3499C2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B24C4A-1B84-43E5-98B5-8B8ADAB19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3092-7B33-4D06-9655-546198AAD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98B1-11DD-42A0-BAF8-D1AD59D3B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F0CC5-DB16-41F7-BD5B-F9048D656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C4E8-BA85-45CD-9F72-A95AB29785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DD71-C341-4DCC-B433-50837A77AF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D433-961A-4DA0-88E3-5BD90D618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1BECC-D193-4930-84A7-62F1014C4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9671-DB61-4829-99A5-AC167E124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78269-16BF-4D63-B837-BEC27CF6C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1BB1-6BA1-4328-90FE-ED713F8D9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E179-94F5-4A00-B75B-314E86CCF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0200-6AF8-4261-82DA-9FA255DE9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Object 5"/>
          <p:cNvGraphicFramePr/>
          <p:nvPr/>
        </p:nvGraphicFramePr>
        <p:xfrm>
          <a:off x="8458200" y="0"/>
          <a:ext cx="6858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0"/>
                    <a:ext cx="685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Text Box 6"/>
          <p:cNvSpPr/>
          <p:nvPr/>
        </p:nvSpPr>
        <p:spPr>
          <a:xfrm>
            <a:off x="8610480" y="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099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E475-BCC7-40A3-B5C6-BA29DD59A31D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17C1-7D82-4D11-8194-29C24D9B9FC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Success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ment important for success of system developmen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0 Standish Group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95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28% of system development projects successf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95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2% of projects canceled, completed late, completed over budget, and/or limited in function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project requires careful planning, control, and exec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F93A-5A17-4C7D-AD84-3526C21A4C6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Initiation and the Project Planning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ing forces to start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d to opportu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lv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orm to dir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initiation come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-term IS strategic plan (top-down) prioritized by </a:t>
            </a:r>
            <a:r>
              <a:rPr b="0" lang="en-US" sz="2200" spc="-1" strike="noStrike">
                <a:solidFill>
                  <a:srgbClr val="0099cc"/>
                </a:solidFill>
                <a:latin typeface="Arial"/>
              </a:rPr>
              <a:t>weighted sc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artment managers or process managers (bottom-u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 to outside forces (HIPA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3CA7-9A6E-4E2D-9E0C-0759EAF41F2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of the Project Planning Phase and Their Key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2738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647676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31BD-5DEA-478F-850B-AFDE45BFA92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business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strategic plan docum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lt key us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list of expected </a:t>
            </a:r>
            <a:r>
              <a:rPr b="0" lang="en-US" sz="2200" spc="-1" strike="noStrike">
                <a:solidFill>
                  <a:srgbClr val="0099cc"/>
                </a:solidFill>
                <a:latin typeface="Arial"/>
              </a:rPr>
              <a:t>business bene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expected system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scope in terms of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ystem scop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proof of concept prototype (we will not do this in MIS 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ontext diagram (we will not do this in MIS 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D3C7-33DD-447E-A8A2-05D1DADB2A6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ing the Project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work breakdown structure (W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 of tasks and duration required for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o outline for research pa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BS is foundation for project sche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PERT/CP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ists in assigning ta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Critical pa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Gantt char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tracking GANTT ch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B819-4397-4EB6-B2C6-02284BC7514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PERT/CPM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9917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11F7-BAE4-43A3-9547-9C4A404582E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ntt Chart for Entire Proj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th overlapping ph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52280" y="849240"/>
            <a:ext cx="883944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7B05-9700-44B9-A68F-EE36CF43F89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ing Project Fea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fea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st/benefit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rces of funds (cash flow, long-term capi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and cultural fea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ical fea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ea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fea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395C-A65A-4D0E-828A-81FDC15D757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A93D-5574-4A7C-A51E-DDE5107898C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Cost/benefit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imate project development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imate operational costs after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imate financial benefits based on annual savings and increased reven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e using table of costs and bene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net present value (NPV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payback 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return on investment (RO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DB5D-0ECE-4AB6-8E60-02B2235295C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Present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CAP1"/>
          <p:cNvPicPr/>
          <p:nvPr/>
        </p:nvPicPr>
        <p:blipFill>
          <a:blip r:embed="rId1"/>
          <a:stretch/>
        </p:blipFill>
        <p:spPr>
          <a:xfrm>
            <a:off x="2971800" y="1600200"/>
            <a:ext cx="3481560" cy="1490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776160" y="3048120"/>
            <a:ext cx="7834320" cy="32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present value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llar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ears from now based on a discount rate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P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um of PVs across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 value of mon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564C-34BD-4F5B-A951-82F3AC098F3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Project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or chang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user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executiv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technic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project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lear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require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BC53-346D-4419-8F69-CE58F178D9C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Detail for Salari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ages for RM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gure 3-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8394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F751-F6CF-40C8-A9E2-AB9C8130CE8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Development Costs for RM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gure 3-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83944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C2EC-CA65-4276-AA3C-B4A19B9D80F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Annual Operating Co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RM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gure 3-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3"/>
          <p:cNvGraphicFramePr/>
          <p:nvPr/>
        </p:nvGraphicFramePr>
        <p:xfrm>
          <a:off x="152280" y="1752480"/>
          <a:ext cx="883944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883944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1E1F-D68D-45E6-A946-188DB1E002F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Benefits for RM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gure 3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4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83944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9B69-A879-402F-B17F-F624E235E03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MO Cost Benefit Analy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gure 3-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152280" y="1233360"/>
            <a:ext cx="8839440" cy="51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0A1C-5633-4486-8BEA-13DCF9323BF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angibles in Economic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Intangible benef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not be measured in dol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levels of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er satisf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viv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to develop in-house expert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Intangible co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not be measured in dol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d employee mor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t produ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t customers or s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DAA3-310D-4D59-8F2F-5B603D58BB4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and Cultural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ompany has own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system must fit into cul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related issues for potential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level of computer compet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phob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ceived loss of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ft in po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ar of job change or employment lo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ersal of established work proced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7D12-B8DE-40E2-AA0A-F4D72D411819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ical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system stretch state-of-the-art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n-house expertise presently exist for develop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an outside vendor need to be invol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 inclu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 or hiring more experienced employ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ring consult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ing scope and project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7F41-30B4-4E09-A740-80243B40DEF3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s needed without comple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deadlines may not be real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ive realistic assumptions and estim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mend completion date flexi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ign interim milestones to periodically reassess completion dat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olve experienced person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age proper allocation of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D91F-8D9B-4A47-A424-58D42B729F0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member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ski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s, equipment, and 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taff time and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7B6C-767D-4E51-A105-D5AFB4155B0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Project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ystem requirement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 user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rom uppe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ough and detailed project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stic work schedules and mile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A853-18D9-4932-BC72-84C2ACAAACD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ffing and Launching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resource plan for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request specific technical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request specific user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he project team into work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preliminary training and team building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staffing question: “Are the resources available, trained, and ready to start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A597-D039-4D27-A623-201697170DC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ing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defined, risks identified, project is feasible, schedule developed, team members identified and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sight committee finalized, meet to give go-ahead,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announcement made to all involved parties within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launch question: “Are we ready to start?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76A3-7C5F-4F61-928C-729AC924DA2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management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t SDLC project planning ph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hroughout each SDLC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ing and directing othe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ieve planned resu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redetermined schedule and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are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, time, cost, quality, human resources, communications, risk,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initi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system needs are identified and prioritized in strategic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planning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problem (investigation and sc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 project schedule (W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 project feasibility (evaluate ris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ff project (know people’s ski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project (executive formal approv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EC1C-BB16-436F-B259-A8DB09B13E4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the Project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and directing people to achieve a planned result within budget and 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or failure of project depends on skills of the project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5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ginning of projec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lan and organ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5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ing projec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 and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ilities are both internal and ex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64FD-9E84-47D0-B6C5-6A2E0672B81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roject tasks and build a work breakdow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the project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ruit and train team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team members to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activities of team members and sub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project r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and control project deliverables and 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e quality of project 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E9C3-D6B8-4FF9-BFED-18C2757A6F6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the project’s status and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good working relationships with those who identify the needed syste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eople who will use th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directly with the client (the project’s sponsor) and other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resource needs and obtain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76FB-8395-40F9-A7FC-8CEBFA3AFB1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Management Body of Knowled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MB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functions included in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scope of work done by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 detailed schedule of all project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 progress of project against milest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initial cost/benefit analys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 expen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343F-6D8D-46DC-9B38-9BE5CCBC412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Management Body of Knowledge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 quality plan and control activities for each project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ruit and hire project team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, motivate, team bui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s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stakeholders and their communic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 team commun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1520" y="1980720"/>
            <a:ext cx="4002120" cy="462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091D-2F38-4896-B7B5-6C216F13A57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Management Body of Knowledge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review risks for fail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plans to reduce these ri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uremen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requests for proposals (RFP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e bids, write contracts, monito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41520" y="1980720"/>
            <a:ext cx="4002120" cy="462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15:36:56Z</dcterms:created>
  <dc:creator>Jeff Hedrington</dc:creator>
  <dc:description/>
  <dc:language>en-US</dc:language>
  <cp:lastModifiedBy>A</cp:lastModifiedBy>
  <cp:lastPrinted>2002-03-03T02:56:24Z</cp:lastPrinted>
  <dcterms:modified xsi:type="dcterms:W3CDTF">2015-02-21T12:35:37Z</dcterms:modified>
  <cp:revision>330</cp:revision>
  <dc:subject>Systems Analysis and Design</dc:subject>
  <dc:title>Chapter 3</dc:title>
</cp:coreProperties>
</file>