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39A53-B776-4518-8EB9-BAF6960CF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AA4E0-37F5-46BA-9DFB-3C49E3D97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C68C5-8A32-45E9-AB11-DE73459DD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FD348D-F79F-4E3D-9F9F-2E125B093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E8A77E-9A82-472F-906F-44801EF90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BFB22-1ABD-4C20-9008-04317C7E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3ECFA-F4AA-4763-A737-68DAA05A4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42C9B2-F7E7-49F1-AA20-B927BE9B5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5980C-2253-4BBA-AEDF-B6186E37D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E8702-925B-4DAD-84A0-7D178DD22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DB329-2E23-49B7-BADD-31D7E97FB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32181-E310-4179-8835-25250763A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22055-A4AC-498D-8400-60CE57DDF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5C914-97E0-4130-8789-B7FA58674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70B8F-9191-4A63-802C-09E94E88F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B7AE0-40F3-4D68-A3B9-A51769AF6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85D203-51B1-47E5-938E-F4B7FB8A2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A79995-2D6D-4FF4-847C-D331F2528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6C01A-018F-44E7-A33B-56578349D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73C60-F018-4F04-8180-EC0DED2EA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5D9B9-A97C-4C2C-A042-1AA3F20D6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D3AB35-4838-4949-BE02-87B62EB25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52E5F-685E-4810-99DD-C37FD5D3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BE61C-FD81-4ADF-AB1E-C1131AF8F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BBE82-4122-4EC2-B4DE-A8F013514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F5E52E-D329-4945-B258-FB44D6DD2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8233E-44F5-455E-B160-14A342874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1F4B5F-0ED3-4541-981C-EBA4ADB1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C5732-056E-4DAB-967C-C708E830B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3204A-512E-48E7-ABEA-D681D80D7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6AB25-1984-4920-8B52-759F474B0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24B361-3245-4383-A8B4-8FE9B3754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C849B-14D1-43DB-9ECE-49A8762A0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9A322-AA19-4D97-B097-D1CF50801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1B0D4-A443-4B05-9FBB-7BDFD56DD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C5CF7-3295-4B83-A15C-DB5295B06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701A-789A-454C-A180-572DC6C3A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3112-6BF4-40FD-BCA2-2597D825A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AF1A-311B-4D84-BEE6-B606D6C76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5B46-402B-4084-A411-3EDD62D5F9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5865-B95F-4F6B-8490-5E53AC32D5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1522-044F-4269-B2DA-288EC1283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19DD-2DF9-4CF4-A5DA-8C0DC3CEE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BF3A-1FA6-4B6E-AF99-1180FBA23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6467-1E9C-44F5-B428-257DD04EA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0366-79E2-4292-87EE-24B51A4CB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D10D-A800-49FA-82F5-46EA09496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0E59-E863-4CFD-9215-401AD28A1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9CB2-B94C-48B6-910C-EE6F8E1C6FB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136F-3CB1-4517-AAAD-1418669F148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for Successful Requirement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mpar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nything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ttention to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E06B-1EB2-400A-A242-50B80775A66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is the process of systematically selecting representative elements of a population. We use sampling to make assumptions of the population as a wh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mp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ed up data gath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effect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 b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C6E1-DEF3-4A32-AC90-6B639004F64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ign a good sample, analysts ne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data to b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opulation to be samp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type of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the sample size (not cove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D38E-8CEF-42DE-BC85-07B04EA71E4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-Find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existing reports, forms, and procedur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 and discuss processes with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and document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prot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and collect 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joint application design (JAD)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vend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1FE5-C747-42D7-976D-0675C3E576F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xisting Reports, Form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ocedur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External industry-wide professional organizations and trade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Existing business documents and procedure descriptions within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business rules, discrepancies, and redundanc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autious of outdated 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 preliminary understanding of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s guidelines/visual cues to guide inter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EBC0-5AF5-4E9F-AEBF-0464E557B0C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Interviews and Discussions with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way to understand business functions an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nsuming and resource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quire multiple session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all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all processing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eet with individuals or group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detailed questions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B8FF-2A68-4BDB-B025-95D92C2D887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Checklist to Prepare for User Intervi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69A4-05B3-4A9C-9619-E65D9E0AD01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ng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he Interview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Application Design (J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BC1D-01DA-46FE-BFB1-A7D02C1B2CD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ypes – Open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e at 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erviewe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new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resting for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ponta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ing is easier for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 them when not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4720" y="1066680"/>
            <a:ext cx="4228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sult in too much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lose control of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may take too mu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 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 that objectives are l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2D80-AA6A-47AD-B8D2-8158C304FAD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ypes – Closed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116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ompare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ver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lots of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only releva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22840" y="1371600"/>
            <a:ext cx="4116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 to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main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 to build rapport with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2EA2-5BF2-4E4A-A93E-1E2B0B1DC55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activities of the systems analysis life cycl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effect of business process reengineering on activities of the analysis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difference between functional and nonfunctional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kind of information that is required to develop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ystem requirements through review of documentation, interviews, observation, prototypes, questionnaires, vendor research, and joint application desig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need for validation of system requirements to ensure accuracy and completeness and the use of a structured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58E6-309E-446E-A65E-36F7659968F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ypes –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get more meaning out of an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either open or closed-en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that you are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0B3F-7291-4D79-8B16-EF79D8DE7D3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lead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double-barrel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mbiguity, especially in closed-en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st questions befor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0391-2E7D-4A57-A259-B5B5F66B69F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mi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with a specific question and close with a general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warm up the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reluctant interview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ne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with a general question and close with a specific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, non-threatening way to start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hen interviewee feels emotional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-shap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combination of the two approache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strengths of two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interviewee’s interest by using a variety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29F3-C1FE-4525-928C-21B75056852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a Record of the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an Audio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ccurate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listen and respond more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better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ake interviewee nerv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locate messages on long 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(need to transcribe ta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0160" y="1066680"/>
            <a:ext cx="4533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interviewer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nterest in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s prep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e vital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e stops when notes are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attention to facts and little attention to feelings and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009F-F3DA-4EDA-A424-C47C10CF580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ing the Interview (my sugg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ke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 interviewee how you will work (note taking, recor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open-ended questions to warm-up interview and get a feeling of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all questions in 45 min to 1 hour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back to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if something was no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and g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B429-9CFB-4F9D-9793-C6E595B039C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he Interview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report as soon as possibly after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main points of the interview and your own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report with the respondent at a follow-up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E811-6620-4B5C-9681-989E6BE890A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ystem capabilities and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ies system must perform (use cas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procedures and business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ed in analysis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Non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environment or performance objec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bility, reliability, and security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A35F-D57F-44D5-906A-58B9A037BEF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and Collect Questi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nd specific information from a large number of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insight int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well suited for gathering detail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losed-ended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 person answering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Open-ended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ourage discussion and e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5C34-DDE4-4EF5-913D-84659AB8D05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Joint Application Design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dites investigation of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s to compress fact-finding, modeling, policy formation, and verification activities into shorter tim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actor is to have all important stakeholder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CB0F-D4E5-44D5-83D6-4CA4B731529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Application Desig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leader trained in group dynamics and JAD group fac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able business and system users and policy ma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taff representatives to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and network config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ng enviro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0F14-9506-4AB7-A5EF-D434FD33C82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alysis Phase in More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d non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for feasibility and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evalu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recommendations with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990720" y="3606840"/>
            <a:ext cx="70102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05C7-8786-4E33-8850-E6F82E16F13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Application Design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in special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 interrup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off-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head projector, white board, flip charts, work 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support (lapto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support systems (G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FD3B-23A8-486D-9607-71383B039C1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AD Fac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4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1"/>
          <a:stretch/>
        </p:blipFill>
        <p:spPr>
          <a:xfrm>
            <a:off x="457200" y="1155600"/>
            <a:ext cx="83059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2FCD-2F26-458C-AB72-2EB1401D0FF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rototy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etitive process in which analysts and users build a rudimentary version of an information system based on 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ing is good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s are unclear about their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ystem affects a relatively small number of us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s are compl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between users and analysts needs to be strength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id application development tools are avail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027E-8CFE-4D5F-BCFD-5D86FCCCD8D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Prot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working model of a larger, more complex system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y, design, evolving proto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sh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model to provide “look and fee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d to accomplish single obj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and modified rapidly with CAS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E010-B23C-4523-9846-376C8E90265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ng th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gathered information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walk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means of implementing quality control early in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y and validate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findings from investigation and of models based on 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 responsible for system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s analyst, project manager are part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3274-0BF8-48DF-BFE2-18EECF59E12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phas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syste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type for feasibility and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and evaluate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recommendations with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ing syste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nd non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various stakeholders (users, clients, technical sta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kind of information do I n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business processes and oper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 business processes perform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information requir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information-gathering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existing reports, forms, and procedure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interviews and discussions with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and document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prototype working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and collect q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JAD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vendor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B477-3C02-4C51-946D-2D6ED88FC8A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the Analysis Ph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ir Key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152280" y="1601640"/>
            <a:ext cx="88394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1FA9-D518-4CC3-8A42-B8F17A8695B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ith interest in successful syste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primary groups of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Us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use syst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Clien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y for and own syst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Technical staf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nsure system oper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ype of stakeholder is identified by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8592-E9FB-4999-9E8E-410B88E04E1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Users as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 user r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flow across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user r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needs of clerical staff, middle management, and senior execu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users perform day-to-day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users need current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ment users need summary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ve users need strategic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users may have access to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22A6-7670-4C70-8ABA-2C27C60FFA9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Information 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phase done to understand business functions and develop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structured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model of existing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rive requirements from existing system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logical requirements for new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lance the review of current business functions with new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A756-FB2C-41F1-92AF-AD6790C572A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Information Gathering and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1" descr=""/>
          <p:cNvPicPr/>
          <p:nvPr/>
        </p:nvPicPr>
        <p:blipFill>
          <a:blip r:embed="rId1"/>
          <a:stretch/>
        </p:blipFill>
        <p:spPr>
          <a:xfrm>
            <a:off x="914400" y="110484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3852-CA47-4111-A00E-6B128605676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s for Information-Gath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Jeff Hedrington</dc:creator>
  <dc:description/>
  <dc:language>en-US</dc:language>
  <cp:lastModifiedBy>A</cp:lastModifiedBy>
  <cp:lastPrinted>2002-03-03T02:56:24Z</cp:lastPrinted>
  <dcterms:modified xsi:type="dcterms:W3CDTF">2012-11-11T19:32:24Z</dcterms:modified>
  <cp:revision>333</cp:revision>
  <dc:subject>Systems Analysis and Design</dc:subject>
  <dc:title>Chapter 4</dc:title>
</cp:coreProperties>
</file>