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6EC50-2F30-4FCF-BBF3-9A13AB3F0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F1A75-B50D-4CC4-859F-E148B52F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67087-D032-410D-92D1-C2D74013D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972CC-DB30-4F59-9153-953DAECF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40424-041E-4A93-9C6E-E35A51D65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37DFF-974F-4982-9882-BD6B95FD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217C0-398D-4031-83C2-9FB67CA0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1D4FE-22FA-423B-80AB-B75064B6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7C01D-7F6D-4C44-BF0B-02245E21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4884D-954D-453B-A57D-57321E87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FF7CD-2183-478B-99D7-E87E02F89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BF0B0-D82E-4302-AC27-EC3550A6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1E07B-3A5D-4BEB-AB25-B0683B2BA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C16FD-D2B6-4E9C-899D-F80A0FCAD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1DCBD-40E8-432E-89BD-D514AC2B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A6510-C588-4E00-B0E2-4BCDEE412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1718D-C89D-4BFD-9794-C05FCF07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CE641-11D0-4ED8-B678-D2AA20B6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FB1E4-E749-4C7F-8EE3-90A67F8AE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09D8E-544A-48F2-8FFA-3B42EA94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043B0-B622-4376-8243-BE01E0EE8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232159-5C3F-403E-84E3-532899F84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8C568-AA07-4878-B88A-046BFD9A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3C187-534F-4AA8-B6D3-E237D9F1B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D5CFF-BA8F-471A-9B55-A49B1856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BB09F-B11C-452C-BDE4-68C5371C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00FF3-88B1-4C63-AB78-7671CF468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D9E4B-6F80-4BC6-A9D4-BDA53BE04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BB83F-583C-49DA-89A0-DD2B5463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61A3F-92D5-4E6B-8487-E22AD415B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8CB02-2F2F-4F22-884C-98F405C2D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739E9-68D1-404B-9C8F-B43B6CFEE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CA521F-1960-4BF5-88D2-9152596AE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15E4A-5B9D-426A-9BC1-F4DB7C66A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D7E7D-1E6D-4E70-B772-9F91008B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2F7B7-48C9-4537-8008-D32CC3267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00B7-F82A-4557-A54F-245EED8A0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8100-3144-4639-B012-CCE37F7C0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4F25-DE11-48B1-9D23-CA3286092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CCAE-2564-47A0-9269-8181528A4D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B4CC-AB98-4D85-83C3-5E64D233C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C6A1-C8B8-4F3F-8178-F384CDA50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3EE2-2567-4B34-8101-38F61F997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BF86-176F-4F54-A164-A0C6E3785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0480-A8E0-404B-B9D0-F428CD824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4904-A4FA-4908-BB86-EB5BB3F15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EFA3-A382-4F97-BC8E-AC52A47A2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2729-17F1-40DB-851D-09BF0EF34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954B-B3FC-4A25-AB57-CDA41233C70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6E39-D131-424E-A2B7-D44E3BE902F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for Successful Requirement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mpar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nything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 to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0D7-3A3F-4852-BD76-FD2080DB1AB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is the process of systematically selecting representative elements of a population. We use sampling to make assumptions of the population as a wh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mp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ed up data gath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effect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71F1-44A8-4114-91E4-4C992830C4C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ign a good sample, analysts ne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data to b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opulation to be samp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type of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the sample size (not cov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6497-0FB0-4EB0-B666-74278F27689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-Find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xisting reports, forms, and procedur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 and discuss processes with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prot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joint application design (JAD)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7A0D-5A1A-4194-A027-3FA43B25E35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isting Reports, Form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cedur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External industry-wide professional organizations and trad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Existing business documents and procedure descriptions within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business rules, discrepancies, and redundanc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autious of outdated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 preliminary understanding of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 guidelines/visual cues to guide inter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C6B-0B12-4DFF-960B-FB9A06C1C67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Interviews and Discussions with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way to understand business functions an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nsuming and resourc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multiple session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all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all processing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eet with individuals or group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detailed questions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8636-AD12-4D39-869B-F831C2F75E7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Checklist to Prepare for User Inter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9E9E-2201-48B3-B488-15F501858E8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ng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he Interview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Application Design (J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76BA-E46F-458F-A630-E1C46304899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 at 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rviewe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new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resting for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onta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ing is easier for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them when not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4720" y="106668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sult in too much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lose control of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may take too mu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that objectives are l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7A04-4AA1-4E0F-BB8A-C76EBD20BBC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Closed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6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ar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ver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lots of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only releva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22840" y="1371600"/>
            <a:ext cx="4116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 to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main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 to build rapport with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2197-AFA5-4B1F-9F35-47AFF57F19C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activities of the systems analysis life cycl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effect of business process reengineering on activities of the analysis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ifference between functional and nonfunctional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kind of information that is required to develop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ystem requirements through review of documentation, interviews, observation, prototypes, questionnaires, vendor research, and joint application desig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need for validation of system requirements to ensure accuracy and completeness and the use of a structured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07E3-BF0C-4ED5-974C-F9F541BE5B6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get more meaning out of an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ither open or closed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that you are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B642-B67E-479C-A799-0A0FE8B514C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ea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double-barrel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mbiguity, especially in closed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 questions befor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A27F-11E8-4FA4-BED2-F872964FA77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mi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ith a specific question and close with a general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warm up the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reluctant interview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ith a general question and close with a specific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, non-threatening way to start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interviewee feels emotional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-shap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combination of the two approache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strengths of two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interviewee’s interest by using a variety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A687-800B-4D8C-92A2-DB526BD1335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Record of the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n Audio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ccurat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listen and respond more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better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ake interviewee nerv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locate messages on long 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(need to transcribe ta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1066680"/>
            <a:ext cx="453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interviewer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nterest in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s prep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e vital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 stops when notes are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attention to facts and little attention to feelings and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784F-4A19-4BE5-8C6D-83D263E8FAC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ing the Interview (my sugg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ke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interviewee how you will work (note taking, rec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open-ended questions to warm-up interview and get a feeling of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all questions in 45 min to 1 hour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back to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if something was no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and g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6FB9-7994-4501-AA19-C41C76285D4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Interview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report as soon as possibly after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main points of the interview and your own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report with the respondent at a follow-up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71D5-106D-48D6-9086-EE88F9E2968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ystem capabilities and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ies system must perform (use ca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procedures and business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ed in analysis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Non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environment or performance obj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bility, reliability, and security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22E3-0937-4EBA-8DD2-748988A0F6A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nd specific information from a large number of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insight int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ell suited for gathering detail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losed-ended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 person answering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Open-ended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discussion and e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875B-69C3-4020-A794-0CCBD9A8117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Joint Application Design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dites investigation of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to compress fact-finding, modeling, policy formation, and verification activities into shorter tim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actor is to have all important stakeholder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776C-1E78-4D92-87FA-E0A5C27C28C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pplication Desig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leader trained in group dynamics and JAD group fac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able business and system users and policy ma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taff representatives to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and network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ng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D5B9-E68F-4C3C-8FFC-61CBDF7EE9C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lysis Phase in More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d non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for feasibility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recommendations with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990720" y="3606840"/>
            <a:ext cx="70102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1D95-F6FE-4394-9C34-A496A7C7E7B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pplication Design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in special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interrup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off-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head projector, white board, flip charts, work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support (lapto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s (G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C0D2-F366-4D0E-A87B-11F80E4C703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AD Fac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4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1"/>
          <a:stretch/>
        </p:blipFill>
        <p:spPr>
          <a:xfrm>
            <a:off x="457200" y="1155600"/>
            <a:ext cx="83059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E633-BCC6-4025-89C2-8717C4C8668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toty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etitive process in which analysts and users build a rudimentary version of an information system based on 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ing is goo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s are unclear about their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ystem affects a relatively small number of us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s are compl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between users and analysts needs to be strength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application development tools are avail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8F96-2F22-466F-8847-5A0EC25936E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Prot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working model of a larger, more complex system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, design, evolving proto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model to provide “look and fe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 to accomplish single obj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and modified rapidly with CAS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E7CA-2CF1-483F-8732-84AAF2180FF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ng th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gathered information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walk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means of implementing quality control early in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y and validate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findings from investigation and of models based on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 responsible for system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nalyst, project manager are part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CCD2-DA03-4521-B5FA-AD3707B462F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ha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 for feasibility and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nd evaluate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recommendations wit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nd non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various stakeholders (users, clients, technical sta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kind of information do I n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business processes and oper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business processes per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information requir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information-gathering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existing reports, forms, and procedure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interviews and discussions with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prototype working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JAD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4E69-66C0-42D8-9ED8-0D65C530032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the Analysis Ph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ir Ke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152280" y="1601640"/>
            <a:ext cx="88394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25B7-653B-491E-99EB-470AB0CBB01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th interest in successful syste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primary groups of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Us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use sys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li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y for and own sys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Technical staf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nsure system ope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ype of stakeholder is identified by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23EB-A247-441F-83AE-FD852FDEB24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Users as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 user r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flow across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user r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needs of clerical staff, middle management, and senior execu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users perform day-to-day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users need curren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ment users need summary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users need strategic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users may have access to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8A45-7663-422E-BF0D-E1135DE0BF9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Information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phase done to understand business functions and develop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structured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model of existing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rive requirements from existing system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logical requirements for new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lance the review of current business functions with new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FB74-AC3D-412C-A019-8633C2FAD04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Information Gathering and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"/>
          <p:cNvPicPr/>
          <p:nvPr/>
        </p:nvPicPr>
        <p:blipFill>
          <a:blip r:embed="rId1"/>
          <a:stretch/>
        </p:blipFill>
        <p:spPr>
          <a:xfrm>
            <a:off x="914400" y="110484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3BF-5931-40C8-96FE-DAF4F12828C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s for Information-Gath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eff Hedrington</dc:creator>
  <dc:description/>
  <dc:language>en-US</dc:language>
  <cp:lastModifiedBy>A</cp:lastModifiedBy>
  <cp:lastPrinted>2002-03-03T02:56:24Z</cp:lastPrinted>
  <dcterms:modified xsi:type="dcterms:W3CDTF">2012-11-11T19:32:24Z</dcterms:modified>
  <cp:revision>333</cp:revision>
  <dc:subject>Systems Analysis and Design</dc:subject>
  <dc:title>Chapter 4</dc:title>
</cp:coreProperties>
</file>