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F9617C-4C42-4C0C-A196-B00A9533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93C81-8D4D-4633-A5F5-831AAB7F6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0D0F8-8753-4DFC-9395-AEA6BB846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40BC6-8BC9-4EC2-A563-5A4BA8CD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9E977-E93C-4AA9-8CB8-F8379AD3B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D75D9-5B10-4556-8AF1-87FE20E1A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261F0-905F-4FC3-8F99-2F83D51BF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87696D-68FB-48BA-BD4C-963B5271B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B968F2-934B-4E88-9A27-5E559F0DC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84A273-1D44-40F1-AC3C-6BD9BCEC8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C1822-0D61-474A-837D-B4FA08F79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DEE4F-E1E9-449A-B9E2-321016D94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984E2-355D-4A0D-96B0-D695D1F39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3E60F-4BC0-426E-900E-1494B6B3A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A0B2EC-05DE-42AE-B826-48B62E899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2E5BF3-A592-4C6B-BE94-0BC2A4C9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418EC-C80B-42AE-8808-BDEA86C9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65A8F-D98A-45FA-9FA5-9AD81ADF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19C0F8-AB6F-495C-AB47-EBF8E8743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9F36F-4135-49F4-AC3C-09E4891A6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BDC33-3A48-41A5-A574-30DC05C8A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0BF65-CDE8-4C01-853C-1FE1DFB90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E0F6F-639B-4C66-87BC-041E69C59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7D54F-2793-4556-A930-EA058FE73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587E9F-7488-4AB3-B405-9887270D5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02453-8878-4A1D-96F2-D819D893A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DA51B-22C6-49C7-A492-5DB0A8A8B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2DD9E-C073-4189-A128-A218F4C05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A41D7-3BB3-4979-BDCD-EDB43A870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4C12C-7839-4D88-94F3-6CB50B774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289F-D928-4AB6-881D-B9EDC8C08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AD1D-3A60-47C0-A596-222984169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9D31-E24E-44BD-B7A9-DB86A9B99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FB22-79FD-4876-9C71-0B0552DE9C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66B5-89F4-43A9-B253-2AA83BA250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4779-F8F4-4616-B560-5491FFBCD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E07D-891E-4F53-8252-370712691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B1B9-5C7C-4321-84B5-B94C38026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A0C7-D49A-462A-8D41-D19A13D76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11D8-C140-4456-9E49-A1CC237DB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B8B7-BEC5-4C22-A6EE-2A3A848DA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BF90-AC81-431C-A349-9A833DFC7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B58D-0AB2-4526-8E43-16F81520345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702C-7E99-430E-B348-6C589ED42D2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of RMO Order Entry Sub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package symb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457200" y="1468440"/>
            <a:ext cx="83818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838E-1B36-456C-9D0A-A71EA3A9284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&lt;Includes&gt;&gt;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situation in which one use case requires the services of a common sub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use case is developed for this common sub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on use case can be reused by multiple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1447920" y="2951280"/>
            <a:ext cx="609588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B838-67D4-4CE2-B724-D5663506CF7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D Analysis for Identifying/Confirming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RU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reate, read/report, update, de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ngineering (IE) technique to identify event table or directly develop use cas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identified use cases with domain mode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in class diagram must have use cases to support creating, reading, reporting, updating, and deleting objec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s system integr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9F79-A0EB-4933-87AF-E6CA8D327EC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Use cas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details of preconditions, postconditions, sequence of activities, and exception conditions in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acting with computer system step-by-step to carry out business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have several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cenar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use case, each a specific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use case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levels of detail: brief, intermediate, and fully developed de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nalysts prefer to write narrative descriptions of use cases instead of drawing activity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8746-DE59-4F72-94EE-09830DA5F45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etail from Fully Developed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2280" y="1447920"/>
            <a:ext cx="883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3103-10CC-4C18-8B14-5A9262ADBBA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Detail from Fully Developed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52280" y="1368360"/>
            <a:ext cx="88394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5553-5D6E-4715-AAED-00E6619ABE8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om Detail from Fully Developed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52280" y="1886040"/>
            <a:ext cx="8839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B199-607B-41C6-AF79-E490EDE2088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ocument workflow of business process activities for each use case o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ML 2.0 diagram as seen in 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upport any level of use case description; a supplement to use cas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in developing system sequenc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B589-ED2A-4047-A4DD-FCCCF75456E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ephone Order Scen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1">
            <a:lum bright="-6000"/>
          </a:blip>
          <a:srcRect l="38163" t="0" r="0" b="0"/>
          <a:stretch/>
        </p:blipFill>
        <p:spPr>
          <a:xfrm>
            <a:off x="3657600" y="152280"/>
            <a:ext cx="4791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1427-6F16-4412-9EEA-8D546DBA768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Inputs and Outpu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equen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ystem sequence diagram (SSD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ype of UML 2.0 interac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odel input and output messaging requirements for a use case o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actor interacting with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sequence of interactions as messages during flow of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is shown as one object: a “black bo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44EE-8BBD-4BCB-AC0D-4300D4F489E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use cas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use case and scenario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ctivity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ystem sequenc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UML diagrams work together to define functional requirements for the object-orien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0358-76AB-49CC-9675-3CB6454E1FE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09480" y="2286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Sequence Diagram (SSD)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609480" y="1322280"/>
            <a:ext cx="79250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C263-C2C3-45DA-A26B-B93E56629F7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D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ed by a stick figure – a person (or role) that interacts with system by entering input data and receiving outpu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Obje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rectangle with name of object underlined – shows individual object and not class of all similar objects (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S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Lifel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object life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ertical line under object or actor to show passage of time f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Mess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abeled on arrows to show messages sent to or received by actor 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8C1D-9C19-4025-831E-BCB9DCE202C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D Lif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line under object or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passage of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vertical line da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on and destruction of thing is not important for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narrow 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ation lifelines emphasize that object is active only during part of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5ECF-131E-4E84-BE73-8D6C9828D88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events identified by the flow of objects in a scen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from one actor or object to another to do som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a particula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84D2-A0FC-4BE1-8DA7-D8F337CF325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28195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ing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1">
            <a:lum bright="-6000"/>
          </a:blip>
          <a:srcRect l="31460" t="0" r="0" b="0"/>
          <a:stretch/>
        </p:blipFill>
        <p:spPr>
          <a:xfrm>
            <a:off x="3200400" y="152280"/>
            <a:ext cx="5638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E594-4707-4FAF-B5F7-836E9B4DF2B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a System Sequen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with detailed description of use case from fully developed form or activit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inpu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message from external actor to system using message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add any special conditions on input message, including iteration and true/fals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add output return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844F-7A55-47CD-B625-955E24CE48D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Diagram and Resulting SSD for Telephone Orde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648320" y="1219320"/>
            <a:ext cx="4144680" cy="525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04920" y="1219320"/>
            <a:ext cx="405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BF40-A359-4C87-B5E2-53F70387CC5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Object-Orient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use case diagram is needed to understand total scope of new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model class diagrams should also be as complete as possible for enti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erative approach, only construct use case descriptions, activity diagrams, and system sequence diagrams for use cases in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a new diagram often helps refine and correct previous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721C-932F-42A6-87AA-A8E240831B0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Between O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36" descr=""/>
          <p:cNvPicPr/>
          <p:nvPr/>
        </p:nvPicPr>
        <p:blipFill>
          <a:blip r:embed="rId1"/>
          <a:stretch/>
        </p:blipFill>
        <p:spPr>
          <a:xfrm>
            <a:off x="0" y="1523880"/>
            <a:ext cx="89917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DF40-4890-42ED-AAC6-55B90264295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approach has complete set of diagrams that define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specified using follow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 model class diagram (Chapter 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 diagrams (Chapter 7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 detailed models, either descriptive formats or activity diagrams (Chapter 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sequence diagrams (Chapter 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3608-AC4C-434B-A59B-869D687196C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modeling notation is Unified Modeling Language (UML 2.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was accepted by Object Management Group (OMG) as standard modeling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Object Manage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theory and practice of object-oriented technology for development of distribu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ommon architectural framework for 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system requirements are specified and documented through process of build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process starts with identification of use cases and problem domain classes (things in users’ work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events trigger elementary business processes (EBP) that new system must address as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s define 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B5B4-1B53-49F8-91F7-11184E3F71A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Requirement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Use case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tify actors and their use cases (goal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Use case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details of a use case and how actors use th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ystems sequence diagrams (SSD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inputs and outputs and sequence of interactions between user and system for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ctivity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user and system activities for a use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tate machine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ates of each object (we will not use these diagrams in MIS 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8E64-1B91-43F8-ADCC-320F2DFC4E1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e Case/Scenario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analysis used to identify and define all business processes that system mus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Use c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an activity a system carried out, usually in response to a user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 played by u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side automation bounda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F3DD-50C8-47A8-8FD8-38239255492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Identifying Use C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ew from Chapter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use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oal at the elementary business process (EBP) level is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sk performed by one user in one place and in response to business event that adds measurable business value, and leaves system and data in consist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ecomposition technique (event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D analysis technique (create, read/report, update, delete) to ensure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B4B8-A68B-4B80-9F0F-3032DE7B0DA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UML diagram that summarizes information about actors and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diagram shows overview of functional requir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multiple use cas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sub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8E73-6B88-4461-9A93-06498BD23B5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Use Case with an 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533520" y="1914480"/>
            <a:ext cx="81532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7446-D3F5-404F-95D7-BE72F1D293D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Diagram with Automation Bounda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lternate Actor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John Satzinger</dc:creator>
  <dc:description/>
  <dc:language>en-US</dc:language>
  <cp:lastModifiedBy>A</cp:lastModifiedBy>
  <cp:lastPrinted>2002-03-03T02:56:24Z</cp:lastPrinted>
  <dcterms:modified xsi:type="dcterms:W3CDTF">2012-09-23T23:22:16Z</dcterms:modified>
  <cp:revision>356</cp:revision>
  <dc:subject>Systems Analysis and Design</dc:subject>
  <dc:title>Chapter 7</dc:title>
</cp:coreProperties>
</file>