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A12F0-712E-4EF1-9935-CBDA0C24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668BA-2994-4DF8-8209-B6912C8B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B3F53-CE31-4AFE-899C-218D8DFE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8AE87-0D1E-4A5F-9AA8-0083AF17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3124F-9C05-4118-AC93-E8E3E00BA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4D1D5-18D8-4408-9232-41E34B73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F9F75-37D1-401A-8DA5-44B2D918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B564E-A576-4C2E-9D9A-F49966518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52276-9242-4858-BB30-503D39FA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3BFE6-8F83-4637-9796-942D20615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FBF08-9A52-405B-96DF-F8469604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E4AE3-DD83-43D0-A652-F2FE2217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DDE08-F7E3-4250-9E9A-48B0448C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A6822-DC20-416E-BD18-17840C38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93DEB-6C32-4C8D-B3DF-EEED935C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EC5CF-B589-43D9-902E-1B3CDEAD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4A811-9F94-452E-8862-B8051D78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1B922-5584-4DE2-96F3-ED782927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92F5D-5AB3-4E44-80DE-8C2570A1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DB14A-53D7-4FFB-A1AB-B02980AD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7BE75-5436-4422-A3DA-4B4C4A51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02190-49E2-4750-A33B-36CFA6E2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F66CB-8C5D-41AB-B1FD-C008E459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E6500-7EE1-44A3-936A-6D413B36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B6A27-80CB-4B81-B995-F9BA4349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89580-5C68-4D3A-A3E6-5687A489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6639D-0FF2-4E50-B7D1-0D5D7372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A1DBF-E2FF-481B-996D-FB276E5B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1A33F-8795-420F-BCF1-36E6FA76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4B20D-F09D-4407-9CB2-69D7AF89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F31E-67A2-4675-AC0C-CF3F29F34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0D6C-E452-4E50-9BBE-D97266F31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2D77-46A7-466B-AC97-5D3906AB4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DA4F-17E0-493A-972A-49755F6EF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B028-800C-46B6-B148-D659D3DC4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DA99-1C19-46A9-839D-2CFD4E81F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3BAD-69C5-4F30-B238-7FCC04174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2D15-6894-4E28-BF8B-6393F0CB6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A37F-8C13-4662-9AB4-7BDD3099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3D88-E3B1-4528-A0DC-B4483E979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FF6A-C1FE-4AF0-A73E-56122675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01D8-A3EC-4493-8792-898DB92C2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20D-ECCD-4366-B11A-2B369CAE8C9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23F-E39E-4471-8312-07367C65DD8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of RMO Order Entry Sub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package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3818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23C7-407F-49CD-B426-D8995D56A3A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Includes&gt;&gt;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situation in which one use case requires the services of a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case is developed for this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use case can be reused by multiple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1447920" y="2951280"/>
            <a:ext cx="60958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080-2FD4-48EF-9EA5-F54C9C50272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 Analysis for Identifying/Confirming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RU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, read/report, update, 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ngineering (IE) technique to identify event table or directly develop 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identified use cases with 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in class diagram must have use cases to support creating, reading, reporting, updating, and deleting objec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system integr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742E-07EA-469A-BF5C-7B7279C999A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details of preconditions, postconditions, sequence of activities, and exception conditions in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acting with computer system step-by-step to carry out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severa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use case, each a specific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detail: brief, intermediate, and fully developed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alysts prefer to write narrative descriptions of use cases instead of drawing activity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1E96-239E-493E-B91B-3811A9F3BAA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280" y="144792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370-9755-4CC3-A4AE-E21F4FC1190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368360"/>
            <a:ext cx="8839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EEE8-BD37-49FA-864D-6F408CBC0A3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52280" y="1886040"/>
            <a:ext cx="8839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4B7-F51F-4CBE-ABD2-C0E46EEC8F7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ocument workflow of business process activities for each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ML 2.0 diagram as seen in 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upport any level of use case description; a supplement to use cas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in developing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F56-26D1-4FB1-B2B9-AC97FDCC064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ephone Order Sce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>
            <a:lum bright="-6000"/>
          </a:blip>
          <a:srcRect l="38163" t="0" r="0" b="0"/>
          <a:stretch/>
        </p:blipFill>
        <p:spPr>
          <a:xfrm>
            <a:off x="3657600" y="152280"/>
            <a:ext cx="479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C317-E637-4067-855D-FAB993B6BCE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Inputs and Out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 sequence diagram (SS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e of UML 2.0 intera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input and output messaging requirements for a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tor interacting wi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equence of interactions as messages during flow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shown as one object: a “black 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2118-7A44-4C77-B91B-1DE2570502B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se case and scenario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ctivity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UML diagrams work together to define functional requirements for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D2B-A2D1-4927-A57E-E2935D35BAA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equence Diagram (SSD)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609480" y="1322280"/>
            <a:ext cx="79250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0D0-7D90-498F-A9FB-D866986B7F3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ed by a stick figure – a person (or role) that interacts with system by entering input data and receiving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ctangle with name of object underlined – shows individual object and not class of all similar objects (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S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Life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object 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ical line under object or actor to show passage of time f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beled on arrows to show messages sent to or received by actor 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2F2-43BE-4C4A-9FA0-5026275D2B4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Lif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 under object o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assage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ertical line da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and destruction of thing is not important for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narrow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 lifelines emphasize that object is active only during part of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E327-1688-496D-96CB-035495E59DE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vents identified by the flow of objects in a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rom one actor or object to another to do som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a particula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56A5-4969-47F8-A19B-EE2561EA3D0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>
            <a:lum bright="-6000"/>
          </a:blip>
          <a:srcRect l="31460" t="0" r="0" b="0"/>
          <a:stretch/>
        </p:blipFill>
        <p:spPr>
          <a:xfrm>
            <a:off x="3200400" y="152280"/>
            <a:ext cx="5638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C40-DFBE-4523-A482-8FEDD98B24C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detailed description of use case from fully developed form or activit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pu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message from external actor to system using messag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any special conditions on input message, including iteration and true/fal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output return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3707-25B9-4B16-A03B-19252030B3C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219320"/>
            <a:ext cx="414468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920" y="1219320"/>
            <a:ext cx="405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978-4936-4042-9706-7AF32A48D32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use case diagram is needed to understand total scope of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s should also be as complete as possible for enti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erative approach, only construct use case descriptions, activity diagrams, and system sequence diagrams for use cases in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new diagram often helps refine and correct previous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A25-A8AE-48CB-8BFE-9754CFA9E97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O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36" descr="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0CB-5C90-4F34-ACCB-9D4BDED2125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approach has complete set of diagrams that define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specified using follow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model class diagram (Chapter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s (Chapter 7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etailed models, either descriptive formats or activity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sequence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527-323E-4CA0-9037-DCADB4F3ED3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modeling notation is Unified Modeling Language (UML 2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was accepted by Object Management Group (OMG) as standard model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Object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ory and practice of object-oriented technology for development of distribu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mmon architectural framework for 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system requirements are specified and documented through process of build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process starts with identification of use cases and problem domain classes (things in users’ work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) that new system must address a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define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671-B7FD-46A4-A6CA-CEDA6979259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y actors and their use cases (go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details of a use case and how actors use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s sequence diagrams (SS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inputs and outputs and sequence of interactions between user and system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ivity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user and system activities for a 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 machin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es of each object (we will not use these diagram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37C-2176-4952-9CAE-7E2C7FAEE06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/Scenari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analysis used to identify and define all business processes that system mu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n activity a system carried out, usually in response to a us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played by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automation bound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1F85-8A19-4B81-B5B1-52F2074024F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dentifying Use C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 from Chapte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sk performed by one user in one place and in response to business event that adds measurable business value, and leaves system and data in 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technique (even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 analysis technique (create, read/report, update, delete) to ensure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710-2CA2-47CA-A5AE-0F79CBECDDB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UML diagram that summarizes information about actors and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iagram shows overview of functional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e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8F8-E935-4A30-8FB3-C6ECF1D1BC7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Case with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533520" y="1914480"/>
            <a:ext cx="81532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9BE-9484-4A9B-9A6E-33F403DAB0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iagram with Automation Bound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ternate Actor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22:16Z</dcterms:modified>
  <cp:revision>356</cp:revision>
  <dc:subject>Systems Analysis and Design</dc:subject>
  <dc:title>Chapter 7</dc:title>
</cp:coreProperties>
</file>