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6B1E-4A2A-43BD-88FB-645F66009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7F06-1B22-48DE-8EC1-91D5E13D89E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9B6B-5455-4566-9011-0AD064D3E295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5E8B-0795-49A7-A0F2-DDD10ECB524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58D3-6302-476E-9B3B-54ACAA14B4C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4559-4901-4979-8BD2-AC3984A5953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5084-47A3-4A4B-8271-A374261E3CA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246A-7FCF-4783-A06B-0DA29E14FA2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1823-63BF-4836-B876-8AAAA599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1D0-95E2-4336-BB18-F1D736E1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236-D134-4BA7-886A-97163E02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CB4-72A7-4E71-B8B0-913FA8DD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7E4A-F3B9-4E29-90F1-E2CBBA91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394D-B810-4BA2-A135-3008911A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5420-15B2-4068-A7BF-7780AD9C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F76E-4941-457A-A179-58B97647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0921-3F0E-4883-8AED-D578339B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9803-81C2-4BD3-A016-3063F411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C094-98FB-449B-A21F-325D54C8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B4C-128E-44E8-936E-69663D35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27EE-1913-4972-A77F-4E53EFB2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E170-D398-48D3-8AF1-812EA0FF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2105-E13A-482F-91EA-018B1620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2AA8-CA59-4672-95D4-B2BB98F9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945C-1CD0-4533-AC6F-68A0639C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0BE2E9-0E5C-46DE-8309-DA9F02085F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0AD7B-B3BB-4648-A1DB-24B06E1C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A0DEE-14D1-41DD-9A82-8503C0AB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A0C32-43C3-4DBD-8A44-132A17C6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0AE89-9EA8-4862-8705-151E96D3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2B9F-9ADA-4705-A316-0B45B4D7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087D5-C699-447B-B5E6-5A80D0B3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FF10E-9532-4943-811F-021D7EA2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03342-BC8C-43FD-BD1D-E8226D33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495DE-08E9-45A4-B0BC-1718AFD3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CB8F9-2F6D-4B19-82CF-5C2E30A0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0C71B-4015-4459-B105-9E779C57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5A6F40-574A-4F7B-ABF5-1256192869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4C2C64-E38C-4BE4-84BD-2A3ED179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0187D4-3ECC-43C8-9DF7-A552BCF2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AE7136-B1D2-419A-A965-00B53E48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0BD-5A66-4B5A-8F52-06D0D7AB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CCB48D-E430-496D-8474-ECF053A7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D9BE08-4CE6-4E54-889D-D68978FF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099DFC-DD42-4A59-8F1E-7F829A06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C12D8C-1203-405C-B49F-88189BE8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3D98CA-9A2A-40AF-AE7E-89CC9D48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9406F5-759A-410E-8982-8621C984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E31899-0D7B-41FE-A583-9785E255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3AC804-CEF1-441E-A975-E3E648DD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D41F83-F2E8-4A08-9C0E-0670F63D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D1DBFF-FCD2-43DA-A0DE-6E36728881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6F6-7F17-4FF3-ADEE-FFAD3A47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995807-BB7F-4038-BDE1-FF364BA1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C6A364-A6C6-4C4F-AEEF-6C38DF13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58977A-034B-4419-8B9E-C2F66203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81AF70-84AD-4E59-B4BB-16E71316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03BD76-6F04-45D3-93C4-FE9E9E83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1F1F38-B8DF-4190-BF55-B3D8FB4A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1CD0DC-DC4C-4773-95EC-AAC16913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D0AD13-8303-4603-966B-82BA1100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90BADA-4580-487B-8A88-C2892306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AAACD2-00C8-4DDF-8003-80D914DD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9D28-501D-4C9C-A045-B9E9C4AF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43D3FB-F894-45D3-BD9E-8822A84498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D00269-92AE-4BB1-A167-81506FAB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D10126-D638-469D-A701-6CDDF402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3C465B-E503-4043-BB54-46D57A46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0A4385-787E-4892-86BA-5DDB57F8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3771EF-99E6-4D50-A07B-5F993B7F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A07646-F554-410E-A80D-A0774750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D4A9CA-E7FA-4EC7-83A1-5F35F3A9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C2B326-A9C5-46E0-AEC8-F278C17A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8922A2-2B23-4DF1-B344-FAE1EFBD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92B-6361-4CFB-A30F-F972EF57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ACAB52-577B-47F0-B9F8-2D3E840B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7DBD8E-5BE0-4CFE-8567-87DAFD59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339232-EA8C-4A6B-BE8D-0B14195B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0E8F0C-9BC6-4B86-B41D-63125A37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6E9861-B280-4533-BBDA-731B7D1F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2A6896-1364-4D7D-BF2D-430AF223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0B1AE3-42E6-4272-BE87-2EB49F78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F93B83-D6CA-4BEB-94A5-1C85A163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54FD4A-357C-4881-A360-F099B9A5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5A90CF-7EB3-4974-AFE5-BC5349ED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8FD-BD43-4BAE-827F-8ED885F2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F05040-1E31-406B-B7D9-103E9C9F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827A7E-DED7-4E48-838B-100C3DE1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5A3C36-B546-4CA3-A9CB-89CEBA37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559BB9-D05E-40EC-8CC3-9DC2A707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09F752-6ED2-4091-BC9D-B3917F49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4075-5F68-4505-A08D-CF855802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978C-8CA0-4011-8299-2F5387C4D853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Second Semester 1430/14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D2FF-6129-4B96-9564-A782931BB01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EC19-C0C0-4CC2-A24B-639D0E0CD891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Second Semester 1430/14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9048-4E21-4904-827D-8243F198019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9"/>
          <p:cNvSpPr/>
          <p:nvPr/>
        </p:nvSpPr>
        <p:spPr>
          <a:xfrm>
            <a:off x="380880" y="380880"/>
            <a:ext cx="8382240" cy="5867640"/>
          </a:xfrm>
          <a:prstGeom prst="rect">
            <a:avLst/>
          </a:prstGeom>
          <a:solidFill>
            <a:srgbClr val="ffffff"/>
          </a:solidFill>
          <a:ln w="42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380880" y="380880"/>
            <a:ext cx="8382240" cy="1524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9B98-99B9-4875-A22D-51128DC05EA0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A6A3-B922-4106-9997-CD6F04FC476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38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2811-E867-4718-AF88-B0C66662FAAA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Second Semester 1430/14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3EFF-E362-4993-AD65-0C2A167DB6B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8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8F7D-C69E-4DE2-9797-D60955F26685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3409-842B-4028-B625-725D5C819F4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6267-A73E-41B3-89BD-3FEBEAA01976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Second Semester 1430/14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FC45-9A10-4B88-B0C7-5B19390D01A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1E36-EE5E-4F5B-9638-9DCBAAF13511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Second Semester 1430/14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42B1-AE0D-4A3A-BA90-8ED18D7F2DD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Welcome to GC311</a:t>
            </a:r>
            <a:br>
              <a:rPr sz="4100"/>
            </a:br>
            <a:r>
              <a:rPr b="1" lang="en-US" sz="4100" spc="-1" strike="noStrike">
                <a:solidFill>
                  <a:srgbClr val="ff8d3e"/>
                </a:solidFill>
                <a:latin typeface="Verdana"/>
              </a:rPr>
              <a:t>Database Concepts 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Footer Placeholder 7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First Semester 1437/1438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Exams &amp; Classes Polici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8116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You will be able to access the class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10 minutes </a:t>
            </a: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after the lecture starts, however, you will be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marked abs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Mobiles should be turned off/silent during class/ex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NO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make up exams</a:t>
            </a: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, exceptions will be considered with evidence and the approval of the depatment committe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No changes in the announced exam dates after 3rd wee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Exams are closed book so do not bring any external notes or pap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The using of dictionary is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llow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More than one answer is not acceptable </a:t>
            </a: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for a single question unless admitted by instruct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Academic dishonesty is strictly prohibited, and both parties will be penaliz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3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Assignments Polici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831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Verdana"/>
              </a:rPr>
              <a:t>No sheet will be accepted after due date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3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Verdana"/>
              </a:rPr>
              <a:t>Cheating is prohibited; so if we caught any identical assignments both will take 0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3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3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ourse Resources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extbook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832040"/>
            <a:ext cx="8183520" cy="4416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291960" indent="-291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-291960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24e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54524e"/>
                </a:solidFill>
                <a:latin typeface="Verdana"/>
              </a:rPr>
              <a:t>Database Systems: A Practical Approach to Design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-291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24e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54524e"/>
                </a:solidFill>
                <a:latin typeface="Verdana"/>
              </a:rPr>
              <a:t>Implementation and Management</a:t>
            </a:r>
            <a:r>
              <a:rPr b="0" lang="en-US" sz="1400" spc="-1" strike="noStrike">
                <a:solidFill>
                  <a:srgbClr val="54524e"/>
                </a:solidFill>
                <a:latin typeface="Verdana"/>
              </a:rPr>
              <a:t>.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-291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24e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54524e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54524e"/>
                </a:solidFill>
                <a:latin typeface="Verdana"/>
              </a:rPr>
              <a:t>Thomas Connolly, Carolyn Begg.</a:t>
            </a:r>
            <a:br>
              <a:rPr sz="1400"/>
            </a:br>
            <a:r>
              <a:rPr b="0" i="1" lang="en-US" sz="1400" spc="-1" strike="noStrike">
                <a:solidFill>
                  <a:srgbClr val="54524e"/>
                </a:solidFill>
                <a:latin typeface="Verdana"/>
              </a:rPr>
              <a:t>   5</a:t>
            </a:r>
            <a:r>
              <a:rPr b="0" i="1" lang="en-US" sz="1400" spc="-1" strike="noStrike" baseline="30000">
                <a:solidFill>
                  <a:srgbClr val="54524e"/>
                </a:solidFill>
                <a:latin typeface="Verdana"/>
              </a:rPr>
              <a:t>th</a:t>
            </a:r>
            <a:r>
              <a:rPr b="0" i="1" lang="en-US" sz="1400" spc="-1" strike="noStrike">
                <a:solidFill>
                  <a:srgbClr val="54524e"/>
                </a:solidFill>
                <a:latin typeface="Verdana"/>
              </a:rPr>
              <a:t> Edition, Addison-Wesley, 2009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-291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 algn="just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" name="Picture 5" descr="cover.jpg"/>
          <p:cNvPicPr/>
          <p:nvPr/>
        </p:nvPicPr>
        <p:blipFill>
          <a:blip r:embed="rId1"/>
          <a:stretch/>
        </p:blipFill>
        <p:spPr>
          <a:xfrm>
            <a:off x="5562720" y="2819520"/>
            <a:ext cx="24494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equired Softwar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831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291960" indent="-291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-291960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24e"/>
                </a:solidFill>
                <a:latin typeface="Verdana"/>
              </a:rPr>
              <a:t>Database Management Syst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530280" indent="-292320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4524e"/>
                </a:solidFill>
                <a:latin typeface="Verdana"/>
              </a:rPr>
              <a:t>Oracle SQL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-291960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-291960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24e"/>
                </a:solidFill>
                <a:latin typeface="Verdana"/>
              </a:rPr>
              <a:t>ER Diagram Too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530280" indent="-292320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4524e"/>
                </a:solidFill>
                <a:latin typeface="Verdana"/>
              </a:rPr>
              <a:t>Microsoft Visio 2007-2010 or upper  ( </a:t>
            </a:r>
            <a:r>
              <a:rPr b="0" lang="en-US" sz="1300" spc="-1" strike="noStrike">
                <a:solidFill>
                  <a:srgbClr val="54524e"/>
                </a:solidFill>
                <a:latin typeface="Verdana"/>
              </a:rPr>
              <a:t>Free trial – 60 days </a:t>
            </a:r>
            <a:r>
              <a:rPr b="1" lang="en-US" sz="1300" spc="-1" strike="noStrike">
                <a:solidFill>
                  <a:srgbClr val="54524e"/>
                </a:solidFill>
                <a:latin typeface="Verdana"/>
              </a:rPr>
              <a:t>)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530280" indent="-292320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54524e"/>
                </a:solidFill>
                <a:latin typeface="Verdana"/>
              </a:rPr>
              <a:t> </a:t>
            </a:r>
            <a:r>
              <a:rPr b="1" lang="en-US" sz="1300" spc="-1" strike="noStrike">
                <a:solidFill>
                  <a:srgbClr val="54524e"/>
                </a:solidFill>
                <a:latin typeface="Verdana"/>
              </a:rPr>
              <a:t>OR Easy Entity Relationship Diagram Software </a:t>
            </a:r>
            <a:r>
              <a:rPr b="0" lang="en-US" sz="1300" spc="-1" strike="noStrike">
                <a:solidFill>
                  <a:srgbClr val="54524e"/>
                </a:solidFill>
                <a:latin typeface="Verdana"/>
              </a:rPr>
              <a:t>from Smart draw.</a:t>
            </a:r>
            <a:br>
              <a:rPr sz="1300"/>
            </a:br>
            <a:br>
              <a:rPr sz="600"/>
            </a:br>
            <a:r>
              <a:rPr b="0" lang="en-US" sz="600" spc="-1" strike="noStrike">
                <a:solidFill>
                  <a:srgbClr val="54524e"/>
                </a:solidFill>
                <a:latin typeface="Verdan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How to Study for this Cours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324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24e"/>
                </a:solidFill>
                <a:latin typeface="Verdana"/>
              </a:rPr>
              <a:t>You are advised to follow the </a:t>
            </a:r>
            <a:r>
              <a:rPr b="0" lang="en-US" sz="2000" spc="-1" strike="noStrike" u="sng">
                <a:solidFill>
                  <a:srgbClr val="54524e"/>
                </a:solidFill>
                <a:uFillTx/>
                <a:latin typeface="Verdana"/>
              </a:rPr>
              <a:t>text book </a:t>
            </a:r>
            <a:r>
              <a:rPr b="0" lang="en-US" sz="2000" spc="-1" strike="noStrike">
                <a:solidFill>
                  <a:srgbClr val="54524e"/>
                </a:solidFill>
                <a:latin typeface="Verdana"/>
              </a:rPr>
              <a:t>for this course during the entire semester. In case the instructor is teaching some extra topics which are not covered in the text book, photocopy material will be provid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54524e"/>
                </a:solidFill>
                <a:uFillTx/>
                <a:latin typeface="Verdana"/>
              </a:rPr>
              <a:t>Daily studying</a:t>
            </a:r>
            <a:r>
              <a:rPr b="0" lang="en-GB" sz="2000" spc="-1" strike="noStrike">
                <a:solidFill>
                  <a:srgbClr val="54524e"/>
                </a:solidFill>
                <a:latin typeface="Verdana"/>
              </a:rPr>
              <a:t> and </a:t>
            </a:r>
            <a:r>
              <a:rPr b="0" lang="en-GB" sz="2000" spc="-1" strike="noStrike" u="sng">
                <a:solidFill>
                  <a:srgbClr val="54524e"/>
                </a:solidFill>
                <a:uFillTx/>
                <a:latin typeface="Verdana"/>
              </a:rPr>
              <a:t>doing your course work by yourself </a:t>
            </a:r>
            <a:r>
              <a:rPr b="0" lang="en-GB" sz="2000" spc="-1" strike="noStrike">
                <a:solidFill>
                  <a:srgbClr val="54524e"/>
                </a:solidFill>
                <a:latin typeface="Verdana"/>
              </a:rPr>
              <a:t>lead to successful</a:t>
            </a:r>
            <a:r>
              <a:rPr b="0" lang="en-US" sz="2000" spc="-1" strike="noStrike">
                <a:solidFill>
                  <a:srgbClr val="54524e"/>
                </a:solidFill>
                <a:latin typeface="Verdan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etting to know m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8284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24e"/>
                </a:solidFill>
                <a:latin typeface="Verdana"/>
              </a:rPr>
              <a:t>Instructor:Huda Alom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20000"/>
              </a:lnSpc>
              <a:spcBef>
                <a:spcPts val="249"/>
              </a:spcBef>
              <a:buClr>
                <a:srgbClr val="0070c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Office Location: BLd 26 ,  level # 1 , ward 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20000"/>
              </a:lnSpc>
              <a:spcBef>
                <a:spcPts val="249"/>
              </a:spcBef>
              <a:buClr>
                <a:srgbClr val="0070c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Email Address: halomair@ksu.edu.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just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ourse Descrip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ourse Descrip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831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Characteristics of the database approach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Database concepts and architecture; Data models, schemas and instances; Program data independence, Database languages and interfac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Data models for database systems; The E-R DM, Relational DM and Relational Algebr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Relational model constraints; Domain, key, and integrity constraint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SQL-relational DB language; Data definition, queries, update statements, and views in SQ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24e"/>
                </a:solidFill>
                <a:latin typeface="Verdana"/>
              </a:rPr>
              <a:t>Database design; functional dependencies, Normal form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What will we learn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832040"/>
            <a:ext cx="5410080" cy="479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4524e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4524e"/>
                </a:solidFill>
                <a:latin typeface="Verdana"/>
              </a:rPr>
              <a:t>    </a:t>
            </a:r>
            <a:r>
              <a:rPr b="1" lang="en-GB" sz="2400" spc="-1" strike="noStrike">
                <a:solidFill>
                  <a:srgbClr val="54524e"/>
                </a:solidFill>
                <a:latin typeface="Verdana"/>
              </a:rPr>
              <a:t>We will learn </a:t>
            </a:r>
            <a:br>
              <a:rPr sz="2400"/>
            </a:br>
            <a:r>
              <a:rPr b="1" lang="en-GB" sz="2400" spc="-1" strike="noStrike">
                <a:solidFill>
                  <a:srgbClr val="54524e"/>
                </a:solidFill>
                <a:latin typeface="Verdana"/>
              </a:rPr>
              <a:t>HOW to </a:t>
            </a:r>
            <a:br>
              <a:rPr sz="2400"/>
            </a:br>
            <a:r>
              <a:rPr b="1" lang="en-GB" sz="2400" spc="-1" strike="noStrike">
                <a:solidFill>
                  <a:srgbClr val="4ea5d8"/>
                </a:solidFill>
                <a:latin typeface="Verdana"/>
              </a:rPr>
              <a:t>Design  and implement Normalized Datab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24e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6" descr="Office Desktop Royalty Free Stock Photo"/>
          <p:cNvPicPr/>
          <p:nvPr/>
        </p:nvPicPr>
        <p:blipFill>
          <a:blip r:embed="rId1"/>
          <a:stretch/>
        </p:blipFill>
        <p:spPr>
          <a:xfrm>
            <a:off x="5715000" y="2362320"/>
            <a:ext cx="2400480" cy="361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ourse Syllabu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76520"/>
            <a:ext cx="8183520" cy="4876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Introduction to Databases and Database Environmen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Entity Relationship and Enhanced Entity Relationship Modeli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Relational Mod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Relational Algebr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SQL: Data Manipulation Langu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SQL: Data Definition Langu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Normaliz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Methodology – Conceptual Database Desig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Methodology – Logical Database Desig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Methodology – Physical Database Desig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Object Oriented DBMS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4524e"/>
                </a:solidFill>
                <a:latin typeface="Verdana"/>
              </a:rPr>
              <a:t>Object Relational DBMS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4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4" descr="C:\Users\Sooma\Desktop\IT222\Images\4.jpg"/>
          <p:cNvPicPr/>
          <p:nvPr/>
        </p:nvPicPr>
        <p:blipFill>
          <a:blip r:embed="rId1"/>
          <a:stretch/>
        </p:blipFill>
        <p:spPr>
          <a:xfrm>
            <a:off x="6264360" y="380988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Assessment &amp; Course Polici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licy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831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24e"/>
                </a:solidFill>
                <a:latin typeface="Verdana"/>
              </a:rPr>
              <a:t>No phone/chatting during class time, any violation will be asked to leave the classroom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24e"/>
                </a:solidFill>
                <a:latin typeface="Verdana"/>
              </a:rPr>
              <a:t>No talking or disturbing others during the cla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24e"/>
                </a:solidFill>
                <a:latin typeface="Verdana"/>
              </a:rPr>
              <a:t>It is better to contact me using “KSU-email”, form other domain , your name it should be clear , others will be deleted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24e"/>
                </a:solidFill>
                <a:latin typeface="Verdana"/>
              </a:rPr>
              <a:t>Email related to Labs should be sent to T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2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ff8d3e"/>
                </a:solidFill>
                <a:latin typeface="Verdana"/>
              </a:rPr>
              <a:t>Assessment Methods &amp; </a:t>
            </a:r>
            <a:br>
              <a:rPr sz="3400"/>
            </a:br>
            <a:r>
              <a:rPr b="1" lang="en-US" sz="3400" spc="-1" strike="noStrike">
                <a:solidFill>
                  <a:srgbClr val="ff8d3e"/>
                </a:solidFill>
                <a:latin typeface="Verdana"/>
              </a:rPr>
              <a:t>Grading Scheme</a:t>
            </a:r>
            <a:endParaRPr b="1" lang="en-US" sz="3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34" name="Picture 36" descr=""/>
          <p:cNvPicPr/>
          <p:nvPr/>
        </p:nvPicPr>
        <p:blipFill>
          <a:blip r:embed="rId1"/>
          <a:stretch/>
        </p:blipFill>
        <p:spPr>
          <a:xfrm>
            <a:off x="6553080" y="4724280"/>
            <a:ext cx="2233800" cy="17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5" name=""/>
          <p:cNvGraphicFramePr/>
          <p:nvPr/>
        </p:nvGraphicFramePr>
        <p:xfrm>
          <a:off x="380880" y="1981080"/>
          <a:ext cx="6324840" cy="3686400"/>
        </p:xfrm>
        <a:graphic>
          <a:graphicData uri="http://schemas.openxmlformats.org/drawingml/2006/table">
            <a:tbl>
              <a:tblPr/>
              <a:tblGrid>
                <a:gridCol w="2681280"/>
                <a:gridCol w="1820880"/>
                <a:gridCol w="1822680"/>
              </a:tblGrid>
              <a:tr h="441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7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Assignments , lab quizz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All wee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587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Quiz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10/10/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20</a:t>
                      </a: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/01/14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1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66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Mid  #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31/10/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11/02/14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466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Mid   #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12/12/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24/03/14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466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Final Ex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ced2"/>
                    </a:solidFill>
                  </a:tcPr>
                </a:tc>
              </a:tr>
              <a:tr h="466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040"/>
                          </a:solidFill>
                          <a:latin typeface="Verdana"/>
                          <a:ea typeface="Tahoma"/>
                        </a:rPr>
                        <a:t>10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0T08:02:37Z</dcterms:created>
  <dc:creator>Microsoft Office User</dc:creator>
  <dc:description/>
  <dc:language>en-US</dc:language>
  <cp:lastModifiedBy>Abdulrahman Abdullah O Alomair</cp:lastModifiedBy>
  <dcterms:modified xsi:type="dcterms:W3CDTF">2017-09-24T12:38:12Z</dcterms:modified>
  <cp:revision>9</cp:revision>
  <dc:subject/>
  <dc:title>Welcome to GC311 Database Concepts </dc:title>
</cp:coreProperties>
</file>