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2A04-E12C-4DB8-8584-F8C68FCBC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67B1-9995-419C-B16C-CE266DEF3C7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3D90-491F-40EA-BAAF-9FC0EE3EA5C8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B258-4FE2-4A35-ADEB-72AED6CBD9D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364E-E5B9-4E48-8EBF-DB4A665415F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8DB7-45CC-497E-86B6-27BC054C69F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BA77-FC9A-49CF-B17F-591A4292548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FA7F-959E-4F2B-86CC-94E87BD5400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1CD7-2690-4BF2-ABCC-A69C82C4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010-9BC6-48FF-9B1C-7C0ACC2F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4C5-DF95-454D-B5AB-F1D3716D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8226-9AE3-45DF-B471-B83C916C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22B4-97F8-4750-8FF5-C77FD207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EAF3-C747-4770-BB1C-AACAAC2D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7EBF-61CE-44F1-AD91-C65B69F0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64AB-72E1-49EF-BB3C-7EB8F5EB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E159-0783-4644-BCED-55873BA6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8079-C93B-4A67-B13F-EAF7F37C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FC0B-DDAB-4B29-9469-BEB57EB1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E6B1-5A56-43A0-9C51-A4EF6900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C4C8-2FE5-4E48-9F99-EFD6BCC6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39E1-EC13-44F1-8875-23340403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C0DC-0FA7-427F-B8C3-D3935E68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8BB1-D918-46BB-A849-D0BDDCF2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B9CC-FE42-4F95-B1EF-68FC4512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13DE3-3D2A-44BF-9E9C-2C41DF50E1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D3118-EF0A-469B-B1DD-68732627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2B705-BB74-43E0-A2D6-EEB04253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1ACCC-D0D4-47B9-8F26-054C586C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8D7D7F-1EF2-4AB2-93DE-8E310276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407-C5C3-48D7-B4DA-4B917766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134F4-5E26-4ED7-A782-E4B6DDCA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16C68-FFAD-484B-BCE0-B2EA4BDA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417FE-FBD4-4B29-BA13-1460A69B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87877-5D20-4897-A800-4B04D650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8DBBE-7AFF-43CA-BADC-7F4CA84D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4C5EA-156E-4FE3-803C-70416AD6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0768D-3050-4E21-B34F-448BB703B7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4B37AB-CDFD-4DEF-8B4D-0F7A834A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600D68-17A3-4302-95C5-8777E2A0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429F52-7240-476B-96EF-DBCBF71A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9A9-F923-47AB-B1E8-8156741B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0EA25D-3119-48A0-A030-D63991A9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87B5F7-C0FF-48FE-A98A-CD7C4F4C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6070FF-58A9-4CBD-A2E8-CB468860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149535-47EB-4483-B3D3-7FE35068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C6B4A9-A57D-4862-9EF7-AE2F7171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B551A-B655-45B9-B030-464A8F91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A26172-321A-401B-BF3C-FF727A05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2A249D-1196-4316-9F7F-E0AA949F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D2D96-BC8B-484F-9E61-8128EFDC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658F2E-C036-49C8-A1E3-4989EC01CC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CC7-B10F-45BA-BDBF-3D27050E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B7F79A-627C-4736-9673-DA45F792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FC2A0C-CF3E-49F2-84EF-C6581325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D92463-F7DC-4C5B-A29B-D631BEA3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E22D6B-B675-4E84-8E6B-C9CF0524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2F8487-FDC7-4B10-B3CA-E9BE691A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9406D5-78E5-492B-BC43-17C3F77C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7470EB-6AC2-4380-AA1E-3DB5BAB8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7E7E1A-581D-4738-A3E7-6A8EC7D0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B17C0D-CE72-4ACF-95E4-4B6621D7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2F9E1E-4973-4466-B2F6-E8716D40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DA5B-5F31-431C-B730-65F23F5C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F8CB73-FF07-4FD3-AE91-D683F0E3C4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8B87E1-C2A4-4EFA-892B-542C73B8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702A7B-407B-438E-916F-C9A66684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9085BC-60B9-4D07-AB28-061C406F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B52D4D-2691-4DFD-B6CD-1372F65F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580664-D123-41EB-97C4-594C387A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6B29B3-375C-4AF2-9F21-61F1B8E3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F6C239-E867-4E8C-B12B-B0B65AA5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FE00F4-190F-4190-9C85-3101D686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1DC9D0-7E37-46FE-B621-5A53417D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944A-44BA-400E-8FB7-2F9F94AD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D4C14D-CE15-4712-A2BE-354CD4B4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607E6E-A6B7-41EF-82DF-6E324D3C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8959BA-14CF-4EA3-959B-54F3FD67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96AF29-230B-45AA-85DE-8341328C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C0BBCA-37B3-4DAA-AD19-A09C3990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C176D6-3751-410F-8ED9-8F7BA1DB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F07842-F01C-4966-9B58-D4273D28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01EC5A-CB22-402C-A3C4-49D9219D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06BD1B-E232-43C0-860C-B5DC11C7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DD3AF3-E6DC-41A0-9EFD-B09C3DFB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FFCB-DAD7-42DD-BEA5-96306607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256905-04E6-4891-91AF-4F77E461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D8431E-D561-42B2-9855-9F860F2C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B9A370-05BB-416E-BFBD-A7332865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1F0C0E-C0A3-496F-A803-B1638F16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79B037-E5E9-49A6-B14C-381E64B4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786-AFF2-49C4-87F7-20AB4F22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C741-14D6-41B9-A678-506AFAABD839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Second Semester 1430/14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787D-01D6-4B69-B258-3E1B98323A0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2FC4-DFD9-4DD6-8C2C-ECC8A0A58858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Second Semester 1430/14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9862-BE73-4393-A884-B5DE86DB920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9"/>
          <p:cNvSpPr/>
          <p:nvPr/>
        </p:nvSpPr>
        <p:spPr>
          <a:xfrm>
            <a:off x="380880" y="380880"/>
            <a:ext cx="8382240" cy="5867640"/>
          </a:xfrm>
          <a:prstGeom prst="rect">
            <a:avLst/>
          </a:prstGeom>
          <a:solidFill>
            <a:srgbClr val="ffffff"/>
          </a:solidFill>
          <a:ln w="42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380880" y="380880"/>
            <a:ext cx="8382240" cy="1524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8AC9-717B-4C5E-A0BE-417D88ADEC63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E7BE-D186-4619-A535-90E1162374B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38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95EB-C94F-4DE2-BCA8-95786766EACB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Second Semester 1430/14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3775-86D4-41C0-9BB6-4D5C94B59D0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8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F47F-F9B8-4ABA-A5B6-3101ED231D59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3E46-10A1-4117-A356-F19E6FEE626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DF77-FEFB-4DF3-A0CD-D74C6F1B090C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Second Semester 1430/14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5884-A520-45A6-BED3-F99AD8C3006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4AF8-8339-4C72-B400-55585EFA4723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Second Semester 1430/14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D460-50D9-43B5-A661-ADDBDB18475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Welcome to GC311</a:t>
            </a:r>
            <a:br>
              <a:rPr sz="4100"/>
            </a:br>
            <a:r>
              <a:rPr b="1" lang="en-US" sz="4100" spc="-1" strike="noStrike">
                <a:solidFill>
                  <a:srgbClr val="ff8d3e"/>
                </a:solidFill>
                <a:latin typeface="Verdana"/>
              </a:rPr>
              <a:t>Database Concepts 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Footer Placeholder 7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First Semester 1437/1438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Exams &amp; Classes Polici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8116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You will be able to access the class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10 minutes </a:t>
            </a: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after the lecture starts, however, you will be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marked abs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Mobiles should be turned off/silent during class/ex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NO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make up exams</a:t>
            </a: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, exceptions will be considered with evidence and the approval of the depatment committe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No changes in the announced exam dates after 3rd wee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Exams are closed book so do not bring any external notes or pap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The using of dictionary is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llow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More than one answer is not acceptable </a:t>
            </a: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for a single question unless admitted by instruct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Academic dishonesty is strictly prohibited, and both parties will be penaliz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3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Assignments Polici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831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Verdana"/>
              </a:rPr>
              <a:t>No sheet will be accepted after due date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3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Verdana"/>
              </a:rPr>
              <a:t>Cheating is prohibited; so if we caught any identical assignments both will take 0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3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3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ourse Resources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extbook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832040"/>
            <a:ext cx="8183520" cy="4416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291960" indent="-291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-291960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24e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54524e"/>
                </a:solidFill>
                <a:latin typeface="Verdana"/>
              </a:rPr>
              <a:t>Database Systems: A Practical Approach to Design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-291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24e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54524e"/>
                </a:solidFill>
                <a:latin typeface="Verdana"/>
              </a:rPr>
              <a:t>Implementation and Management</a:t>
            </a:r>
            <a:r>
              <a:rPr b="0" lang="en-US" sz="1400" spc="-1" strike="noStrike">
                <a:solidFill>
                  <a:srgbClr val="54524e"/>
                </a:solidFill>
                <a:latin typeface="Verdana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-291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24e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4524e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54524e"/>
                </a:solidFill>
                <a:latin typeface="Verdana"/>
              </a:rPr>
              <a:t>Thomas Connolly, Carolyn Begg.</a:t>
            </a:r>
            <a:br>
              <a:rPr sz="1400"/>
            </a:br>
            <a:r>
              <a:rPr b="0" i="1" lang="en-US" sz="1400" spc="-1" strike="noStrike">
                <a:solidFill>
                  <a:srgbClr val="54524e"/>
                </a:solidFill>
                <a:latin typeface="Verdana"/>
              </a:rPr>
              <a:t>   5</a:t>
            </a:r>
            <a:r>
              <a:rPr b="0" i="1" lang="en-US" sz="1400" spc="-1" strike="noStrike" baseline="30000">
                <a:solidFill>
                  <a:srgbClr val="54524e"/>
                </a:solidFill>
                <a:latin typeface="Verdana"/>
              </a:rPr>
              <a:t>th</a:t>
            </a:r>
            <a:r>
              <a:rPr b="0" i="1" lang="en-US" sz="1400" spc="-1" strike="noStrike">
                <a:solidFill>
                  <a:srgbClr val="54524e"/>
                </a:solidFill>
                <a:latin typeface="Verdana"/>
              </a:rPr>
              <a:t> Edition, Addison-Wesley, 2009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-291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 algn="just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" name="Picture 5" descr="cover.jpg"/>
          <p:cNvPicPr/>
          <p:nvPr/>
        </p:nvPicPr>
        <p:blipFill>
          <a:blip r:embed="rId1"/>
          <a:stretch/>
        </p:blipFill>
        <p:spPr>
          <a:xfrm>
            <a:off x="5562720" y="2819520"/>
            <a:ext cx="24494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equired Softwar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831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291960" indent="-291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-291960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24e"/>
                </a:solidFill>
                <a:latin typeface="Verdana"/>
              </a:rPr>
              <a:t>Database Management 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530280" indent="-292320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4524e"/>
                </a:solidFill>
                <a:latin typeface="Verdana"/>
              </a:rPr>
              <a:t>Oracle SQL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-291960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-291960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24e"/>
                </a:solidFill>
                <a:latin typeface="Verdana"/>
              </a:rPr>
              <a:t>ER Diagram Too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530280" indent="-292320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4524e"/>
                </a:solidFill>
                <a:latin typeface="Verdana"/>
              </a:rPr>
              <a:t>Microsoft Visio 2007-2010 or upper  ( </a:t>
            </a:r>
            <a:r>
              <a:rPr b="0" lang="en-US" sz="1300" spc="-1" strike="noStrike">
                <a:solidFill>
                  <a:srgbClr val="54524e"/>
                </a:solidFill>
                <a:latin typeface="Verdana"/>
              </a:rPr>
              <a:t>Free trial – 60 days </a:t>
            </a:r>
            <a:r>
              <a:rPr b="1" lang="en-US" sz="1300" spc="-1" strike="noStrike">
                <a:solidFill>
                  <a:srgbClr val="54524e"/>
                </a:solidFill>
                <a:latin typeface="Verdana"/>
              </a:rPr>
              <a:t>)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530280" indent="-292320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4524e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54524e"/>
                </a:solidFill>
                <a:latin typeface="Verdana"/>
              </a:rPr>
              <a:t>OR Easy Entity Relationship Diagram Software </a:t>
            </a:r>
            <a:r>
              <a:rPr b="0" lang="en-US" sz="1300" spc="-1" strike="noStrike">
                <a:solidFill>
                  <a:srgbClr val="54524e"/>
                </a:solidFill>
                <a:latin typeface="Verdana"/>
              </a:rPr>
              <a:t>from Smart draw.</a:t>
            </a:r>
            <a:br>
              <a:rPr sz="1300"/>
            </a:br>
            <a:br>
              <a:rPr sz="600"/>
            </a:br>
            <a:r>
              <a:rPr b="0" lang="en-US" sz="600" spc="-1" strike="noStrike">
                <a:solidFill>
                  <a:srgbClr val="54524e"/>
                </a:solidFill>
                <a:latin typeface="Verdan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How to Study for this Cours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324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24e"/>
                </a:solidFill>
                <a:latin typeface="Verdana"/>
              </a:rPr>
              <a:t>You are advised to follow the </a:t>
            </a:r>
            <a:r>
              <a:rPr b="0" lang="en-US" sz="2000" spc="-1" strike="noStrike" u="sng">
                <a:solidFill>
                  <a:srgbClr val="54524e"/>
                </a:solidFill>
                <a:uFillTx/>
                <a:latin typeface="Verdana"/>
              </a:rPr>
              <a:t>text book </a:t>
            </a:r>
            <a:r>
              <a:rPr b="0" lang="en-US" sz="2000" spc="-1" strike="noStrike">
                <a:solidFill>
                  <a:srgbClr val="54524e"/>
                </a:solidFill>
                <a:latin typeface="Verdana"/>
              </a:rPr>
              <a:t>for this course during the entire semester. In case the instructor is teaching some extra topics which are not covered in the text book, photocopy material will be provid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54524e"/>
                </a:solidFill>
                <a:uFillTx/>
                <a:latin typeface="Verdana"/>
              </a:rPr>
              <a:t>Daily studying</a:t>
            </a:r>
            <a:r>
              <a:rPr b="0" lang="en-GB" sz="2000" spc="-1" strike="noStrike">
                <a:solidFill>
                  <a:srgbClr val="54524e"/>
                </a:solidFill>
                <a:latin typeface="Verdana"/>
              </a:rPr>
              <a:t> and </a:t>
            </a:r>
            <a:r>
              <a:rPr b="0" lang="en-GB" sz="2000" spc="-1" strike="noStrike" u="sng">
                <a:solidFill>
                  <a:srgbClr val="54524e"/>
                </a:solidFill>
                <a:uFillTx/>
                <a:latin typeface="Verdana"/>
              </a:rPr>
              <a:t>doing your course work by yourself </a:t>
            </a:r>
            <a:r>
              <a:rPr b="0" lang="en-GB" sz="2000" spc="-1" strike="noStrike">
                <a:solidFill>
                  <a:srgbClr val="54524e"/>
                </a:solidFill>
                <a:latin typeface="Verdana"/>
              </a:rPr>
              <a:t>lead to successful</a:t>
            </a:r>
            <a:r>
              <a:rPr b="0" lang="en-US" sz="2000" spc="-1" strike="noStrike">
                <a:solidFill>
                  <a:srgbClr val="54524e"/>
                </a:solidFill>
                <a:latin typeface="Verdan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etting to know m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8284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24e"/>
                </a:solidFill>
                <a:latin typeface="Verdana"/>
              </a:rPr>
              <a:t>Instructor:Huda Alom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20000"/>
              </a:lnSpc>
              <a:spcBef>
                <a:spcPts val="249"/>
              </a:spcBef>
              <a:buClr>
                <a:srgbClr val="0070c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Office Location: BLd 26 ,  level # 1 , ward 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20000"/>
              </a:lnSpc>
              <a:spcBef>
                <a:spcPts val="249"/>
              </a:spcBef>
              <a:buClr>
                <a:srgbClr val="0070c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Email Address: halomair@ksu.edu.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just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ourse Descrip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ourse Descrip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831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Characteristics of the database approach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Database concepts and architecture; Data models, schemas and instances; Program data independence, Database languages and interfac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Data models for database systems; The E-R DM, Relational DM and Relational Algebr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Relational model constraints; Domain, key, and integrity constraint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SQL-relational DB language; Data definition, queries, update statements, and views in SQ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Database design; functional dependencies, Normal form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What will we learn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832040"/>
            <a:ext cx="5410080" cy="479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4524e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4524e"/>
                </a:solidFill>
                <a:latin typeface="Verdana"/>
              </a:rPr>
              <a:t>    </a:t>
            </a:r>
            <a:r>
              <a:rPr b="1" lang="en-GB" sz="2400" spc="-1" strike="noStrike">
                <a:solidFill>
                  <a:srgbClr val="54524e"/>
                </a:solidFill>
                <a:latin typeface="Verdana"/>
              </a:rPr>
              <a:t>We will learn </a:t>
            </a:r>
            <a:br>
              <a:rPr sz="2400"/>
            </a:br>
            <a:r>
              <a:rPr b="1" lang="en-GB" sz="2400" spc="-1" strike="noStrike">
                <a:solidFill>
                  <a:srgbClr val="54524e"/>
                </a:solidFill>
                <a:latin typeface="Verdana"/>
              </a:rPr>
              <a:t>HOW to </a:t>
            </a:r>
            <a:br>
              <a:rPr sz="2400"/>
            </a:br>
            <a:r>
              <a:rPr b="1" lang="en-GB" sz="2400" spc="-1" strike="noStrike">
                <a:solidFill>
                  <a:srgbClr val="4ea5d8"/>
                </a:solidFill>
                <a:latin typeface="Verdana"/>
              </a:rPr>
              <a:t>Design  and implement Normalized Datab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24e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6" descr="Office Desktop Royalty Free Stock Photo"/>
          <p:cNvPicPr/>
          <p:nvPr/>
        </p:nvPicPr>
        <p:blipFill>
          <a:blip r:embed="rId1"/>
          <a:stretch/>
        </p:blipFill>
        <p:spPr>
          <a:xfrm>
            <a:off x="5715000" y="2362320"/>
            <a:ext cx="2400480" cy="361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ourse Syllabu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76520"/>
            <a:ext cx="8183520" cy="4876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Introduction to Databases and Database Environmen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Entity Relationship and Enhanced Entity Relationship Modeli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Relational Mod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Relational Algebr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SQL: Data Manipulation Langu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SQL: Data Definition Langu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Normaliz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Methodology – Conceptual Database Desig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Methodology – Logical Database Desig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Methodology – Physical Database Desig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Object Oriented DBMS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Object Relational DBMS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4" descr="C:\Users\Sooma\Desktop\IT222\Images\4.jpg"/>
          <p:cNvPicPr/>
          <p:nvPr/>
        </p:nvPicPr>
        <p:blipFill>
          <a:blip r:embed="rId1"/>
          <a:stretch/>
        </p:blipFill>
        <p:spPr>
          <a:xfrm>
            <a:off x="6264360" y="380988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Assessment &amp; Course Polici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licy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831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24e"/>
                </a:solidFill>
                <a:latin typeface="Verdana"/>
              </a:rPr>
              <a:t>No phone/chatting during class time, any violation will be asked to leave the classroom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24e"/>
                </a:solidFill>
                <a:latin typeface="Verdana"/>
              </a:rPr>
              <a:t>No talking or disturbing others during the cla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24e"/>
                </a:solidFill>
                <a:latin typeface="Verdana"/>
              </a:rPr>
              <a:t>It is better to contact me using “KSU-email”, form other domain , your name it should be clear , others will be deleted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24e"/>
                </a:solidFill>
                <a:latin typeface="Verdana"/>
              </a:rPr>
              <a:t>Email related to Labs should be sent to T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ff8d3e"/>
                </a:solidFill>
                <a:latin typeface="Verdana"/>
              </a:rPr>
              <a:t>Assessment Methods &amp; </a:t>
            </a:r>
            <a:br>
              <a:rPr sz="3400"/>
            </a:br>
            <a:r>
              <a:rPr b="1" lang="en-US" sz="3400" spc="-1" strike="noStrike">
                <a:solidFill>
                  <a:srgbClr val="ff8d3e"/>
                </a:solidFill>
                <a:latin typeface="Verdana"/>
              </a:rPr>
              <a:t>Grading Scheme</a:t>
            </a:r>
            <a:endParaRPr b="1" lang="en-US" sz="3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34" name="Picture 36" descr=""/>
          <p:cNvPicPr/>
          <p:nvPr/>
        </p:nvPicPr>
        <p:blipFill>
          <a:blip r:embed="rId1"/>
          <a:stretch/>
        </p:blipFill>
        <p:spPr>
          <a:xfrm>
            <a:off x="6553080" y="4724280"/>
            <a:ext cx="2233800" cy="17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5" name=""/>
          <p:cNvGraphicFramePr/>
          <p:nvPr/>
        </p:nvGraphicFramePr>
        <p:xfrm>
          <a:off x="380880" y="1981080"/>
          <a:ext cx="6324840" cy="3686400"/>
        </p:xfrm>
        <a:graphic>
          <a:graphicData uri="http://schemas.openxmlformats.org/drawingml/2006/table">
            <a:tbl>
              <a:tblPr/>
              <a:tblGrid>
                <a:gridCol w="2681280"/>
                <a:gridCol w="1820880"/>
                <a:gridCol w="1822680"/>
              </a:tblGrid>
              <a:tr h="441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7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Assignments , lab quizz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All wee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587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Quiz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10/10/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20</a:t>
                      </a: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/01/14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66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Mid  #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31/10/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11/02/14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466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Mid   #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12/12/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24/03/14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466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Final Ex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466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0T08:02:37Z</dcterms:created>
  <dc:creator>Microsoft Office User</dc:creator>
  <dc:description/>
  <dc:language>en-US</dc:language>
  <cp:lastModifiedBy>Abdulrahman Abdullah O Alomair</cp:lastModifiedBy>
  <dcterms:modified xsi:type="dcterms:W3CDTF">2017-09-24T12:38:12Z</dcterms:modified>
  <cp:revision>9</cp:revision>
  <dc:subject/>
  <dc:title>Welcome to GC311 Database Concepts </dc:title>
</cp:coreProperties>
</file>