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5.png" ContentType="image/png"/>
  <Override PartName="/ppt/media/image14.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633B-EBC4-4A1C-ABC3-628CE39E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24D8-5900-4945-BC44-6BD56406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9C519-B859-4E05-A0E0-D2053361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46716-C6AE-4A4A-8212-D14880E56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ECF40-B318-437B-8432-B921C7259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6E9D7-F53A-460E-A214-B560B27C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56D65-1BD2-4584-A4EA-BDC01F9B0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1F238-8752-4BAD-B874-FF8376CA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04C9E-E0A3-4D59-8769-B98CD233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5881F-E0C7-494A-854B-50DEE3188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EF218-E8F9-4B80-8A11-A0C6B8AC1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5A27-7FDC-4F8F-AAA9-BED94D794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0ED81-36F4-4511-B66E-C00B7FCFB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1FB94-49C3-4406-9D01-5B31193B8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18B55-2BA9-4E4F-9FEC-F5278E791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2086A-D6B5-42D9-8390-9D17442C5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EFF09-1B58-4E37-8735-0DC112AFE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E9C240-A9CF-4496-9ED5-7F65FA981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446B0-B437-4F63-BC8A-36BF80B14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9684D-DF54-453C-BF53-38EF8CB13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AC523-167A-4187-B181-10C66ED0E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71B7B-90B6-4909-BF76-2EFB0B382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A28B-2A57-4E32-8749-3A4AA4E7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54663-AAAE-473F-8394-480851885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6ECAC-3116-4547-8D52-16B5FBD99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53B63-D778-454D-B7A0-C19563FED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38D10-7DAF-4516-888F-93CD03DB0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F5813-F3A1-4D6B-829B-9D3BA520C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055BB5-CB43-45CB-8CE2-81F5D3230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F69F0-F744-4D91-932B-38D24A211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81DA2F-A897-4836-9E9B-AFC5AC3422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76556-07CA-4F65-B841-D0A20551B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82719-560D-487B-A2A1-777412DE2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292C-2033-47AE-A880-EEE30A0C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D3397-47EB-414B-B75D-96EEA0905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B506B-5FC3-4E53-86C1-A7AA9F183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64C9A-B138-4CAB-9708-B16FF64EE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2A826-1736-4D34-8FCB-53CA22D02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472D2-D5D0-44DB-A8A0-80F439A39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42B4C-E5C4-4FB6-956D-5FBE7ABA0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B27B1-4550-4263-BA19-2054DE16A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2CE801-E122-4645-BE6B-745A248DFA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05CDE-C9A5-4A61-8C59-79CC52803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A87EC-0011-4439-9404-8B5DB13B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6635-E98C-4C4C-93B7-FA0E4825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EF1C-2F77-4C52-83EC-B247125D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413B-204B-4099-B37E-4A329C98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129D-D2D3-41F9-97C8-9099F96FC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BB15-A4DF-41FB-9DB6-C3F394A5DA6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079-142A-4D47-9719-29CE95F8B672}"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2285-3137-4EEA-A731-32DC91D5DB43}"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9F0B-E46C-465B-9684-DF9865EB777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pr@ksu.edu.sa"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السلام عليكم ورحمة الله وبركاته </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تدريب عملي في العلاقات العامة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المشرف الأكاديمي / د.سعيد الغامدي</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endParaRPr b="0" lang="en-US" sz="3600" spc="-1" strike="noStrike">
              <a:solidFill>
                <a:srgbClr val="000000"/>
              </a:solidFill>
              <a:latin typeface="Constantia"/>
            </a:endParaRPr>
          </a:p>
          <a:p>
            <a:pPr marL="1143000" indent="-1143000" algn="ct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إعداد الطالب / وليد سعد عبدالله البيشي</a:t>
            </a:r>
            <a:endParaRPr b="0" lang="en-US" sz="3600" spc="-1" strike="noStrike">
              <a:solidFill>
                <a:srgbClr val="000000"/>
              </a:solidFill>
              <a:latin typeface="Constantia"/>
            </a:endParaRPr>
          </a:p>
        </p:txBody>
      </p:sp>
      <p:pic>
        <p:nvPicPr>
          <p:cNvPr id="197" name="Picture 4" descr="1007"/>
          <p:cNvPicPr/>
          <p:nvPr/>
        </p:nvPicPr>
        <p:blipFill>
          <a:blip r:embed="rId1"/>
          <a:stretch/>
        </p:blipFill>
        <p:spPr>
          <a:xfrm>
            <a:off x="7620120" y="990720"/>
            <a:ext cx="1228680" cy="1523880"/>
          </a:xfrm>
          <a:prstGeom prst="rect">
            <a:avLst/>
          </a:prstGeom>
          <a:ln w="0">
            <a:noFill/>
          </a:ln>
        </p:spPr>
      </p:pic>
      <p:pic>
        <p:nvPicPr>
          <p:cNvPr id="198" name="Picture 2" descr="C:\Users\ANB\Desktop\11.jpg"/>
          <p:cNvPicPr/>
          <p:nvPr/>
        </p:nvPicPr>
        <p:blipFill>
          <a:blip r:embed="rId2"/>
          <a:stretch/>
        </p:blipFill>
        <p:spPr>
          <a:xfrm>
            <a:off x="228600" y="990720"/>
            <a:ext cx="137160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المؤتمر السعودي للمحاسبة والمراجعة بتنظيم هيئة المحاسبة </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8000"/>
          </a:bodyPr>
          <a:p>
            <a:pPr marL="267120" indent="-267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قيم المؤتمر في يوم الثلاثاء بتاريخ </a:t>
            </a:r>
            <a:r>
              <a:rPr b="0" lang="ar-SA" sz="2600" spc="-1" strike="noStrike">
                <a:solidFill>
                  <a:srgbClr val="000000"/>
                </a:solidFill>
                <a:latin typeface="Constantia"/>
              </a:rPr>
              <a:t>16</a:t>
            </a:r>
            <a:r>
              <a:rPr b="0" lang="ar-SA" sz="2600" spc="-1" strike="noStrike">
                <a:solidFill>
                  <a:srgbClr val="000000"/>
                </a:solidFill>
                <a:latin typeface="Constantia"/>
              </a:rPr>
              <a:t>- </a:t>
            </a:r>
            <a:r>
              <a:rPr b="0" lang="ar-SA" sz="2600" spc="-1" strike="noStrike">
                <a:solidFill>
                  <a:srgbClr val="000000"/>
                </a:solidFill>
                <a:latin typeface="Constantia"/>
              </a:rPr>
              <a:t>11</a:t>
            </a:r>
            <a:r>
              <a:rPr b="0" lang="ar-SA" sz="2600" spc="-1" strike="noStrike">
                <a:solidFill>
                  <a:srgbClr val="000000"/>
                </a:solidFill>
                <a:latin typeface="Constantia"/>
              </a:rPr>
              <a:t>- </a:t>
            </a:r>
            <a:r>
              <a:rPr b="0" lang="ar-SA" sz="2600" spc="-1" strike="noStrike">
                <a:solidFill>
                  <a:srgbClr val="000000"/>
                </a:solidFill>
                <a:latin typeface="Constantia"/>
              </a:rPr>
              <a:t>1433</a:t>
            </a:r>
            <a:r>
              <a:rPr b="0" lang="ar-SA" sz="2600" spc="-1" strike="noStrike">
                <a:solidFill>
                  <a:srgbClr val="000000"/>
                </a:solidFill>
                <a:latin typeface="Constantia"/>
              </a:rPr>
              <a:t> هـ وذلك بحضور معالي وزير التجارة والصناعة الدكتور/ توفيق بن فوزان الربيعة ومعالي أ.الدكتور/ بدران بن عبدالرحمن العمر مدير جامعة الملك سعود ، وقمت بتنظيم وتوزيع الدروع ولقد قدمت درعا إلى معالي الوزير وبعض الدروع للمشاركين وتوزيع الأوراق للضيوف لكتابة الأسئلة وتوزيع البروشورات وتقديم الميكروفونات للحضور وتشغيل البروجكتر وذلك بوجود الفنيين ، والتنظيم للخروج من القاعة إلى بوفية الفطور والغداء . ومن السلبيات التي لوحظت - المبالغة في كثرة الورود على المنصة ، ومن الإيجابيات - وجود القماش على المنصة والأسماء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 </a:t>
            </a:r>
            <a:r>
              <a:rPr b="1" lang="ar-SA" sz="4500" spc="-1" strike="noStrike">
                <a:solidFill>
                  <a:srgbClr val="04617b"/>
                </a:solidFill>
                <a:latin typeface="Calibri"/>
              </a:rPr>
              <a:t>فعاليات منتدى الإعلام الجديد التحديات النظرية</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83000"/>
          </a:bodyPr>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   لقد تم في يوم الأحد والاثنين والثلاثاء من تاريخ </a:t>
            </a:r>
            <a:r>
              <a:rPr b="0" lang="ar-SA" sz="2000" spc="-1" strike="noStrike">
                <a:solidFill>
                  <a:srgbClr val="000000"/>
                </a:solidFill>
                <a:latin typeface="Constantia"/>
              </a:rPr>
              <a:t>18</a:t>
            </a:r>
            <a:r>
              <a:rPr b="0" lang="ar-SA" sz="2000" spc="-1" strike="noStrike">
                <a:solidFill>
                  <a:srgbClr val="000000"/>
                </a:solidFill>
                <a:latin typeface="Constantia"/>
              </a:rPr>
              <a:t> - </a:t>
            </a:r>
            <a:r>
              <a:rPr b="0" lang="ar-SA" sz="2000" spc="-1" strike="noStrike">
                <a:solidFill>
                  <a:srgbClr val="000000"/>
                </a:solidFill>
                <a:latin typeface="Constantia"/>
              </a:rPr>
              <a:t>20</a:t>
            </a:r>
            <a:r>
              <a:rPr b="0" lang="ar-SA" sz="2000" spc="-1" strike="noStrike">
                <a:solidFill>
                  <a:srgbClr val="000000"/>
                </a:solidFill>
                <a:latin typeface="Constantia"/>
              </a:rPr>
              <a:t> محرم فعاليات المنتدى وذلك بحضور وكيل الجامعة للجودة والتطوير الدكتور / فهد الكليبي الذي نظمته الجمعية السعودية للإعلام بقاعة الدرعية في فندق قصر الرياض وبمشاركة </a:t>
            </a:r>
            <a:r>
              <a:rPr b="0" lang="en-US" sz="2000" spc="-1" strike="noStrike">
                <a:solidFill>
                  <a:srgbClr val="000000"/>
                </a:solidFill>
                <a:latin typeface="Constantia"/>
              </a:rPr>
              <a:t>50</a:t>
            </a:r>
            <a:r>
              <a:rPr b="0" lang="ar-SA" sz="2000" spc="-1" strike="noStrike">
                <a:solidFill>
                  <a:srgbClr val="000000"/>
                </a:solidFill>
                <a:latin typeface="Constantia"/>
              </a:rPr>
              <a:t> متخصصا ومتخصصة ، وكنت إحدى المنظمين في هذا المنتدى وقمت بتوزيع الكتيبات والمنشورات وجداول الجلسات على الحضور المتعلقة بالمنتدى ، وتوزيع أيضا الأوراق لكتابة الأسئلة للحضور وتركيب وتوصيل مكبرات الصوت والتأكد من تشغيلها من قبل الفني المتخصص وتشغيل البروجكتر ، وعملت على تجهيز الأسماء على طاولة المحاضرين والتشييك على الورود والماء ، ومن جهة أخرى تم توصيل وتجهيز إجراءات الأوراق لدخول الفندق وهذا باليوم الأول والثاني ، وباليوم الثالث قمت بالتشييك على القاعة من جديد ولاحظت فيه نقص بالأوراق والماء في داخل القاعة ولكن النقطة التي سببت لنا إحراج من القسم النسائي والقسم الرجالي هو طلبهم إفادة الحضور ولكن الدكتور/ سعيد الغامدي أعطانا نموذج وقمنا بكتابة الأسماء وطباعتها ولله الحمد وساعدت على تنظيم الخروج من القاعة إلى بوفية الغداء. ومن السلبيات – في إحدى الجلسات لاحظت أكثر من خمسة اشخاص على طاولة المحاضرين وذلك يسبب عدم التميز لرئيس الجلسة ، ومن الإيجابيات - عدم المبالغة في الورود ، تنظيم الكراسي على شكل الفصل المدرسي للقسم النسائي والقسم الرجالي ، وجود شاشاتان لدى الرجال والنساء وتوفر المايكروفونات لدى النساء والرجال- وجود اللوحات الترحيبية للمؤتمر .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تابع صور من فعاليات منتدى الإعلام الجديد</a:t>
            </a:r>
            <a:endParaRPr b="0" lang="en-US" sz="5000" spc="-1" strike="noStrike">
              <a:solidFill>
                <a:srgbClr val="04617b"/>
              </a:solidFill>
              <a:latin typeface="Calibri"/>
            </a:endParaRPr>
          </a:p>
        </p:txBody>
      </p:sp>
      <p:pic>
        <p:nvPicPr>
          <p:cNvPr id="220" name="عنصر نائب للمحتوى 3" descr="CaptureNux 2012-12-26 00;11;38.jpg"/>
          <p:cNvPicPr/>
          <p:nvPr/>
        </p:nvPicPr>
        <p:blipFill>
          <a:blip r:embed="rId1"/>
          <a:stretch/>
        </p:blipFill>
        <p:spPr>
          <a:xfrm>
            <a:off x="1646280" y="1935000"/>
            <a:ext cx="5851440" cy="43894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تابع صور من فعاليات منتدى الإعلام الجديد</a:t>
            </a:r>
            <a:endParaRPr b="0" lang="en-US" sz="5000" spc="-1" strike="noStrike">
              <a:solidFill>
                <a:srgbClr val="04617b"/>
              </a:solidFill>
              <a:latin typeface="Calibri"/>
            </a:endParaRPr>
          </a:p>
        </p:txBody>
      </p:sp>
      <p:pic>
        <p:nvPicPr>
          <p:cNvPr id="222" name="عنصر نائب للمحتوى 5" descr="IMG-20121204-00219.jpg"/>
          <p:cNvPicPr/>
          <p:nvPr/>
        </p:nvPicPr>
        <p:blipFill>
          <a:blip r:embed="rId1"/>
          <a:stretch/>
        </p:blipFill>
        <p:spPr>
          <a:xfrm>
            <a:off x="457200" y="2286000"/>
            <a:ext cx="4038480" cy="4000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3" name="عنصر نائب للمحتوى 4" descr="IMG-20121204-00220.jpg"/>
          <p:cNvPicPr/>
          <p:nvPr/>
        </p:nvPicPr>
        <p:blipFill>
          <a:blip r:embed="rId2"/>
          <a:stretch/>
        </p:blipFill>
        <p:spPr>
          <a:xfrm>
            <a:off x="4648320" y="2286000"/>
            <a:ext cx="4038480" cy="4000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تابع صور من فعاليات منتدى الإعلام الجديد</a:t>
            </a:r>
            <a:endParaRPr b="0" lang="en-US" sz="5000" spc="-1" strike="noStrike">
              <a:solidFill>
                <a:srgbClr val="04617b"/>
              </a:solidFill>
              <a:latin typeface="Calibri"/>
            </a:endParaRPr>
          </a:p>
        </p:txBody>
      </p:sp>
      <p:pic>
        <p:nvPicPr>
          <p:cNvPr id="225" name="عنصر نائب للمحتوى 5" descr="IMG-20121202-00209.jpg"/>
          <p:cNvPicPr/>
          <p:nvPr/>
        </p:nvPicPr>
        <p:blipFill>
          <a:blip r:embed="rId1"/>
          <a:stretch/>
        </p:blipFill>
        <p:spPr>
          <a:xfrm>
            <a:off x="457200" y="2571840"/>
            <a:ext cx="4043520" cy="3429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6" name="عنصر نائب للمحتوى 4" descr="IMG-20121204-00224.jpg"/>
          <p:cNvPicPr/>
          <p:nvPr/>
        </p:nvPicPr>
        <p:blipFill>
          <a:blip r:embed="rId2"/>
          <a:stretch/>
        </p:blipFill>
        <p:spPr>
          <a:xfrm>
            <a:off x="4648320" y="2571840"/>
            <a:ext cx="403848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4617b"/>
                </a:solidFill>
                <a:latin typeface="Calibri"/>
              </a:rPr>
              <a:t> اللقاء السنوي مع معالي مدير الجامعة وأعضاء وعضوات هيئة التدريس    والموظفين والموظفات</a:t>
            </a: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2000"/>
          </a:bodyPr>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قد تم في يوم الاثنين بتاريخ </a:t>
            </a:r>
            <a:r>
              <a:rPr b="0" lang="ar-SA" sz="2600" spc="-1" strike="noStrike">
                <a:solidFill>
                  <a:srgbClr val="000000"/>
                </a:solidFill>
                <a:latin typeface="Constantia"/>
              </a:rPr>
              <a:t>4</a:t>
            </a:r>
            <a:r>
              <a:rPr b="0" lang="ar-SA" sz="2600" spc="-1" strike="noStrike">
                <a:solidFill>
                  <a:srgbClr val="000000"/>
                </a:solidFill>
                <a:latin typeface="Constantia"/>
              </a:rPr>
              <a:t>-</a:t>
            </a:r>
            <a:r>
              <a:rPr b="0" lang="ar-SA" sz="2600" spc="-1" strike="noStrike">
                <a:solidFill>
                  <a:srgbClr val="000000"/>
                </a:solidFill>
                <a:latin typeface="Constantia"/>
              </a:rPr>
              <a:t>2</a:t>
            </a:r>
            <a:r>
              <a:rPr b="0" lang="ar-SA" sz="2600" spc="-1" strike="noStrike">
                <a:solidFill>
                  <a:srgbClr val="000000"/>
                </a:solidFill>
                <a:latin typeface="Constantia"/>
              </a:rPr>
              <a:t>-</a:t>
            </a:r>
            <a:r>
              <a:rPr b="0" lang="ar-SA" sz="2600" spc="-1" strike="noStrike">
                <a:solidFill>
                  <a:srgbClr val="000000"/>
                </a:solidFill>
                <a:latin typeface="Constantia"/>
              </a:rPr>
              <a:t>1434</a:t>
            </a:r>
            <a:r>
              <a:rPr b="0" lang="ar-SA" sz="2600" spc="-1" strike="noStrike">
                <a:solidFill>
                  <a:srgbClr val="000000"/>
                </a:solidFill>
                <a:latin typeface="Constantia"/>
              </a:rPr>
              <a:t>هـ  في تمام الساعة العاشرة صباحاً افتتح معالي مدير جامعة الملك سعود الأستاذ الدكتور بدران بن عبدالرحمن العمر اللقاء السنوي مع أعضاء وعضوات هيئة التدريس والموظفين والموظفات في قاعة حمد الجاسر بحضور وكلاء وعمداء الجامعة ، ولقد ساهمت بتوزيع الأسئلة للضيوف وتجميع أوراق الأسئلة بعد الانتهاء من كتابتها وتوصيلها إلى مقدم البرنامج لطرحها والإجابة عليها فوراً ، والمشاركة في ترتيب المنصة وتقديم المايكروفونات للحضور ، وتنظيم عملية الخروج من القاعة . ومن السلبيات التي شاهدتها - عدم توزيع الأقلام أثناء كتابة الأسئلة وكان الاعتماد على قلمي بشكل كبير- صغر حجم المنصة وعدم وجود قماش عليها .   </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Calibri"/>
              </a:rPr>
              <a:t> </a:t>
            </a:r>
            <a:r>
              <a:rPr b="1" lang="ar-SA" sz="2800" spc="-1" strike="noStrike">
                <a:solidFill>
                  <a:srgbClr val="04617b"/>
                </a:solidFill>
                <a:latin typeface="Calibri"/>
              </a:rPr>
              <a:t>صور اللقاء السنوي مع معالي مدير الجامعة وأعضاء وعضوات هيئة التدريس والموظفين والموظفات</a:t>
            </a:r>
            <a:endParaRPr b="0" lang="en-US" sz="2800" spc="-1" strike="noStrike">
              <a:solidFill>
                <a:srgbClr val="04617b"/>
              </a:solidFill>
              <a:latin typeface="Calibri"/>
            </a:endParaRPr>
          </a:p>
        </p:txBody>
      </p:sp>
      <p:pic>
        <p:nvPicPr>
          <p:cNvPr id="230" name="عنصر نائب للمحتوى 5" descr="IMG-20121217-00007.jpg"/>
          <p:cNvPicPr/>
          <p:nvPr/>
        </p:nvPicPr>
        <p:blipFill>
          <a:blip r:embed="rId1"/>
          <a:stretch/>
        </p:blipFill>
        <p:spPr>
          <a:xfrm>
            <a:off x="457200" y="2357280"/>
            <a:ext cx="4038480" cy="3643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1" name="عنصر نائب للمحتوى 4" descr="IMG-20121217-00006.jpg"/>
          <p:cNvPicPr/>
          <p:nvPr/>
        </p:nvPicPr>
        <p:blipFill>
          <a:blip r:embed="rId2"/>
          <a:stretch/>
        </p:blipFill>
        <p:spPr>
          <a:xfrm>
            <a:off x="4648320" y="2357280"/>
            <a:ext cx="4038480" cy="36435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الأقتراحات والتوصيات على التدريب العملي للعلاقات العامة  </a:t>
            </a:r>
            <a:endParaRPr b="0" lang="en-US" sz="36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نسيق مع المؤتمرات بتبني الطالب ومشاركته في المؤتمرات داخل </a:t>
            </a:r>
            <a:r>
              <a:rPr b="0" lang="ar-SA" sz="2600" spc="-1" strike="noStrike" u="sng">
                <a:solidFill>
                  <a:srgbClr val="c00000"/>
                </a:solidFill>
                <a:uFillTx/>
                <a:latin typeface="Constantia"/>
              </a:rPr>
              <a:t>وخارج الجامعة </a:t>
            </a:r>
            <a:r>
              <a:rPr b="0" lang="ar-SA" sz="2600" spc="-1" strike="noStrike">
                <a:solidFill>
                  <a:srgbClr val="000000"/>
                </a:solidFill>
                <a:latin typeface="Constantia"/>
              </a:rPr>
              <a:t>وبالأشراف عليه من قبل موظف العلاقات العام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هيئة أماكن مخصصة للتدريب لأني كنت أعاني من ضيق المكاتب في الأقسام التي تدربنا فيها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م وجود أجهزة كمبيوتر إضافية لتدريب الطلاب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أن تكثف المؤتمرات في داخل الجامعة لكي يستفيد طالب العلاقات العامة أكثر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4000" spc="-1" strike="noStrike">
                <a:solidFill>
                  <a:srgbClr val="04617b"/>
                </a:solidFill>
                <a:latin typeface="Calibri"/>
              </a:rPr>
              <a:t>الفوائد التي تم الحصول عليها من تدريب العلاقات العامة </a:t>
            </a:r>
            <a:endParaRPr b="0" lang="en-US" sz="4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فدت من التطبيق العملي في التدريب أكثر من الجانب النظري ولكن موظفين العلاقات العامة كان تركيزهم على الجانب النظري أكثر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فدت من ناحية التنظيم كثيراً من المؤتمرات رغم قلتها في الجامعة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كوين العلاقات في كل المجالات مع المسؤلين كونك طالب متدرب من خلال المؤتمرات وغيرها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لمت كيفية إعداد البرنامج للضيوف والمشاركين في المؤتمرات . </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خصيص ترم كامل لتطبيق العلاقات العامة للطلاب المتدربين بدون وجود مواد أخرى في جدول الطالب لكي يستفيد بشكل أكبر من التدريب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عنوان 3" descr=""/>
          <p:cNvPicPr/>
          <p:nvPr/>
        </p:nvPicPr>
        <p:blipFill>
          <a:blip r:embed="rId1"/>
          <a:stretch/>
        </p:blipFill>
        <p:spPr>
          <a:xfrm>
            <a:off x="512640" y="523800"/>
            <a:ext cx="7796160" cy="2163960"/>
          </a:xfrm>
          <a:prstGeom prst="rect">
            <a:avLst/>
          </a:prstGeom>
          <a:ln w="0">
            <a:noFill/>
          </a:ln>
        </p:spPr>
      </p:pic>
      <p:sp>
        <p:nvSpPr>
          <p:cNvPr id="237"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onstantia"/>
              </a:rPr>
              <a:t>وأشكركم على حسن استماعكم</a:t>
            </a:r>
            <a:endParaRPr b="0" lang="en-US" sz="4000" spc="-1" strike="noStrike">
              <a:solidFill>
                <a:srgbClr val="ffffff"/>
              </a:solidFill>
              <a:latin typeface="Constanti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المقدمة </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89000"/>
          </a:bodyPr>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نّ الحمد لله، نحمده ونستعينه ونستغفره، ونعوذ بالله من شرور أنفسنا ومن سيئات أعمالنا، من يهده الله فلا مضل له، ومن يضلل فلا هادي له، وأشهد أن لا إله إلا الله وحده لا شريك له، وأشهد أن محمداً عبده ورسوله، صلوات الله وسلامه عليه وعلى آله وصحبه.</a:t>
            </a:r>
            <a:br>
              <a:rPr sz="2600"/>
            </a:br>
            <a:r>
              <a:rPr b="0" lang="ar-SA" sz="2600" spc="-1" strike="noStrike">
                <a:solidFill>
                  <a:srgbClr val="000000"/>
                </a:solidFill>
                <a:latin typeface="Constantia"/>
              </a:rPr>
              <a:t>أما بعد..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سوف أتحدث عن تدريبي مع المشرف والمسئول عن العلاقات العامة وليد السليم وعن برنامج التدريب وذلك بجامعة الملك سعود من تاريخ </a:t>
            </a:r>
            <a:r>
              <a:rPr b="0" lang="ar-SA" sz="2600" spc="-1" strike="noStrike">
                <a:solidFill>
                  <a:srgbClr val="000000"/>
                </a:solidFill>
                <a:latin typeface="Constantia"/>
              </a:rPr>
              <a:t>1433/10/14</a:t>
            </a:r>
            <a:r>
              <a:rPr b="0" lang="ar-SA" sz="2600" spc="-1" strike="noStrike">
                <a:solidFill>
                  <a:srgbClr val="000000"/>
                </a:solidFill>
                <a:latin typeface="Constantia"/>
              </a:rPr>
              <a:t>هـ  إلى </a:t>
            </a:r>
            <a:r>
              <a:rPr b="0" lang="ar-SA" sz="2600" spc="-1" strike="noStrike">
                <a:solidFill>
                  <a:srgbClr val="000000"/>
                </a:solidFill>
                <a:latin typeface="Constantia"/>
              </a:rPr>
              <a:t>1434/2/10</a:t>
            </a:r>
            <a:r>
              <a:rPr b="0" lang="ar-SA" sz="2600" spc="-1" strike="noStrike">
                <a:solidFill>
                  <a:srgbClr val="000000"/>
                </a:solidFill>
                <a:latin typeface="Constantia"/>
              </a:rPr>
              <a:t>هـ .</a:t>
            </a:r>
            <a:br>
              <a:rPr sz="2600"/>
            </a:b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نسأل الله عز و جل أن يوفقني و يجعل النجاح حليفي ....</a:t>
            </a:r>
            <a:br>
              <a:rPr sz="2600"/>
            </a:br>
            <a:r>
              <a:rPr b="0" lang="ar-SA" sz="2600" spc="-1" strike="noStrike">
                <a:solidFill>
                  <a:srgbClr val="000000"/>
                </a:solidFill>
                <a:latin typeface="Constantia"/>
              </a:rPr>
              <a:t>والله ولي التوفيق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سكرتارية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بالأسبوع الأول من التدريب وجهني الأستاذ وليد السليم الى قسم السكرتارية وقام بالإشراف على تدريبي الأستاذ مبارك الدوسري وأطلعني على الأقسام ومنها / قسم المراسم ، وقسم الإعلام ، وقسم المعلومات ، وقسم المؤتمرات والندوات ، وقسم القاعات والتشريفات ، وقسم الشؤون الإدارية والمالية ، وقسم الأساتذة الممتحنين ؛ وحدثنا بأن السكرتارية هي الساعد الأيمن للمدير والمسؤلين في إنجاز وأداء أعمالهم وكيفية ترتيب اعمالة وتسجيلها وأطلعنا على مركز الأتصالات الإدارية وصناديق الرسائل الخاصة بجميع أماكن الجامعة ، وقمت بالمشاركة مع السكرتير مبارك الدوسري بحفظ بعض المعاملات في الأرش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إعلام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89000"/>
          </a:bodyPr>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ثاني والثالث من التدريب توجهت إلى القسم وقام الأستاذ محمد النافع مسؤل قسم الإعلام في العلاقات العامة ويقوم عمله على البحث والإطلاع على الصحف اليومية وخاصة المواضيع التي تهم الجامعة سواء كان خبر أو مقال أو تقرير ويضعها في ملف ويرسلها إلى المدير للإطلاع عليها وهذا العمل كان يقوم به سابقا ، أما الآن مع تطور وسائل الإعلام فيقوم بالبحث بها عن طريق البريد الصحف الإلكترونية ويقوم بنسخها وتوثيقها ويقوم بأرسال نسخه إلكترونية عن طريق البريد البريد الإلكتروني إلى مدير العلاقات العامة ويقوم أيضا بعمل إحصائية سنوية بعدد الأخبار المتعلقة بالجامعة ، ومن الجوانب السلبية التي لوحظت على القسم – وهي تراكم الأوراق بشكل عشوائي وغير مرتب في المكتب وضيق المكان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راسم </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87000"/>
          </a:bodyPr>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توجهت في الأسبوع الرابع والخامس إلى قسم المراسم من التدريب وقام الأستاذ أحمد الحميدي مسئول قسم المراسم بشرح مهام القسم وقمت بعمل برنامج وهمي للزائرين من قبل جهة الدراسات العليا على حسب تخصصاتهم وطريقة عمل البرنامج كالتالي : أقوم بأعداد وصياغة جدول يبين الجهات التي سوف يقوم بالذهاب إليها الزائرين وفقا لتخصصاتهم ، ويتم تحديد وقت معين لكل جهة أعدة في البرنامج ومن ضمن البرنامج وجبة الغداء ومن ضمن الجوانب الرئيسية في البرنامج هو استقبالهم في قاعة التشريفات . وكلفني الأستاذ أحمد المسئول عن قسم المراسم مرافقة الشيخ / صالح بن عبدالله بن حميد من بداية قدومه إلى الجامعة وحتى توديعه أثناء خروجه في الملتقى العلمي بأعضاء هيئة العلماء بعنوان        ( سيرة الرسول صلى الله عليه وسلم ) تحت رعاية سماحة مفتي عام المملكة الشيخ / عبدالعزيز بن عبدالله آل الشيخ الذي أقيم بمبنى المؤتمرات قاعة (</a:t>
            </a:r>
            <a:r>
              <a:rPr b="0" lang="ar-SA" sz="2400" spc="-1" strike="noStrike">
                <a:solidFill>
                  <a:srgbClr val="000000"/>
                </a:solidFill>
                <a:latin typeface="Constantia"/>
              </a:rPr>
              <a:t>26</a:t>
            </a:r>
            <a:r>
              <a:rPr b="0" lang="ar-SA" sz="2400" spc="-1" strike="noStrike">
                <a:solidFill>
                  <a:srgbClr val="000000"/>
                </a:solidFill>
                <a:latin typeface="Constantia"/>
              </a:rPr>
              <a:t>ب) ومن الايجابيات في قسم المراسم – التطبيق العملي في تصميم جدول الزائرين ومرافقة الشيخ / صالح بن عبدالله بن حميد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ؤتمرات والندوات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سادس من التدريب قام الأستاذ سعود السيف مسئول قسم المؤتمرات بكيفية رفع الخطاب لمعالي وزير التعليم العالي لطلب الموافقة على عقد الفعالية فإذا تمت الموافقة من قبل معالي الوزير فيتم إصدار التأشيرات الخاصة بالمشاركين وأيضا يتم إصدار التذاكر ، والقيام بحجز الفندق للمشاركين بالفعالية ويتم التنسيق مع قسم المعلومات لإعداد بطاقات دعوة حفل الأفتتاح ، وكذالك يتم التنسيق مع قسم القاعات فيما يخص القاعة والحفل الخاص . ومن السلبيات التي لوحظت – عدم تطبيق المهام بشكل كامل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أساتذة الزائرين </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0000"/>
          </a:bodyPr>
          <a:p>
            <a:pPr marL="245520" indent="-2455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سبوع السابع من التدريب التقيت بالأستاذ محمد الغنام مسئول قسم الأساتذة الزائرين وقام بشرح مهام القسم وفي البداية لابُد من أخذ الموافقة من رئيس القسم ومجلس القسم على دعوة الأستاذ الزائر ومن ثم رفع خطاب إلى عميد الكلية ، وبعد الموافقة يتم رفع الخطاب إلى وكيل الجامعة للدراسات العليا والبحث العلمي ، ويتم بعد ذالك بإستضافة الزائر ويتم بعدها بتحويل المعاملة إلى مدير إدارة العلاقات العامة وبعد ذالك يتم تحويل الخطاب إلى قسم الأساتذة الزائرين وقام بتعليمي بكيفية تسجيل بيانات الأستاذ الزائر في موقع نظام الندوات والمؤتمرات التابع لوزارة التعليم العالي لأخذ موافقة وزير التعليم العالي لأن قسم العلاقات العامة يمتلك أسم مستخدم ويوزر خاص فيها بالموقع ، ومن السلبيات – عدم التطبيق على المعاملات وذلك بسبب أنها رسمية ولا يمكن التطبيق علي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a:t>
            </a:r>
            <a:r>
              <a:rPr b="1" lang="ar-SA" sz="5000" spc="-1" strike="noStrike">
                <a:solidFill>
                  <a:srgbClr val="04617b"/>
                </a:solidFill>
                <a:latin typeface="Calibri"/>
              </a:rPr>
              <a:t>قسم التشريفات والقاعات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ثامن والتاسع قام الأستاذ وليد السليم المسئول عن قسم التشريفات والقاعات بتعليمي على كيفية حجز القاعات لوحدات الجامعة لإقامة المؤتمرات ، والندوات ، واللقاءات ، والمحاضرات ، والمخاطبة ، والتنسيق مع الجهات المعنية ، ومن أمثلتها : كإدارة المرافقة والخدمات ، وعمادة شؤون الطلاب ، وقمت بالإشراف على تجهيز القاعات للمناسبات مثل النظافة والإشراف على العمالة ...إلخ ، ولابد من أعتماد الملصقات الإعلامية وذلك بالتنسيق مع إدارة الخدمات المساندة لتوزيعها في الجامعة وكيفية إعداد اللوحات الترحيبية ، وأيضا يتولى القسم الحجز والتنسيق للمعارض المقامة في الجامعة وتقديم الخدمات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algn="r" rtl="1">
              <a:buClr>
                <a:srgbClr val="0461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 قسم المعلومات </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6000"/>
          </a:bodyPr>
          <a:p>
            <a:pPr marL="261720" indent="-261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في الأسبوع الأخير من التدريب قام الأستاذ ناصر الزيد بالتعريف عن القسم والمهام التي يقوم بها ومنها إعداد التقارير السنوية للإدارة ، وإرسال واستقبال البريد الإلكتروني الخاص بالإدارة عبر العنوان </a:t>
            </a:r>
            <a:r>
              <a:rPr b="0" lang="en-US" sz="2600" spc="-1" strike="noStrike" u="sng">
                <a:solidFill>
                  <a:srgbClr val="e2d700"/>
                </a:solidFill>
                <a:uFillTx/>
                <a:latin typeface="Constantia"/>
                <a:hlinkClick r:id="rId1"/>
              </a:rPr>
              <a:t>pr@ksu.edu.sa</a:t>
            </a:r>
            <a:r>
              <a:rPr b="0" lang="en-US" sz="2600" spc="-1" strike="noStrike">
                <a:solidFill>
                  <a:srgbClr val="000000"/>
                </a:solidFill>
                <a:latin typeface="Constantia"/>
              </a:rPr>
              <a:t> </a:t>
            </a:r>
            <a:r>
              <a:rPr b="0" lang="ar-SA" sz="2600" spc="-1" strike="noStrike">
                <a:solidFill>
                  <a:srgbClr val="000000"/>
                </a:solidFill>
                <a:latin typeface="Constantia"/>
              </a:rPr>
              <a:t>، وأيضا قام بتعليمي على كيفية الأتفاق مع الشركات المنفذة للدروع والهدايا المقدمة في مناسبات الجامعة ولأشراف على شؤون الحاسب الآلي في الإدارة ومحتوى الإدارة على موقع الجامعة في شبكة الإنترنت وكيفية إعداد برنامج الحفل للمناسبات الكبرى وإعداد الخطابات والبرقيات الخاصة بمعالي مدير الجامعة – للمسؤلين في الدولة والقيام بالدراسات والأقتراحات التي تهدف إلى تطوير العمل في الإدارة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2:27:15Z</dcterms:created>
  <dc:creator>nHar</dc:creator>
  <dc:description/>
  <dc:language>en-US</dc:language>
  <cp:lastModifiedBy>ANB</cp:lastModifiedBy>
  <dcterms:modified xsi:type="dcterms:W3CDTF">2012-12-28T22:35:37Z</dcterms:modified>
  <cp:revision>81</cp:revision>
  <dc:subject/>
  <dc:title>ادارة التسويق</dc:title>
</cp:coreProperties>
</file>