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0E96-512D-4AE5-B69F-706F9A3FE03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عمل / حمود القحطان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8198-8E87-4C92-8F9A-9B5B21B5B12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عمل / حمود القحطان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CC65-3839-4C96-8B94-A9A26F43556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عمل / حمود القحطان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8BEB-91F7-4A09-A92B-D7FE323258D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عمل / حمود القحطان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CC9A-0D71-4D94-9DD3-B4AC0EAC25A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عمل / حمود القحطان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675A-9DDB-4618-B792-228FC64D9ED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عمل / حمود القحطان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A7B4-6B8B-4D0C-82EA-81F887206EB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C272-AEFC-470C-9C71-6C22E5CA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1E0-50DB-4F45-9245-B16DF490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246-0B9D-4323-86C3-D2CE94A9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A90-F671-43D5-9C0F-4B47FCA7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90F-D156-4AC4-AC68-D130AE6D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E36-E0F2-43CC-982C-B0CB38F9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80E-88AB-4480-8030-664E6BE0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03C-985E-4ED6-8033-C7867270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14F-2831-4DBF-866D-6DB100B9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94A-0F6A-47E4-B00A-83D69896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BA8-396F-4D14-AFB8-EC81E5BC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F63-C61A-4B00-9936-0E478602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805E-84B1-49B9-A266-9F83E5F6A03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15968"/>
                </a:solidFill>
                <a:latin typeface="Calibri"/>
              </a:rPr>
              <a:t>تهيئة الحاسب للعمل </a:t>
            </a:r>
            <a:r>
              <a:rPr b="0" lang="ar-SA" sz="2800" spc="-1" strike="noStrike">
                <a:solidFill>
                  <a:srgbClr val="215968"/>
                </a:solidFill>
                <a:latin typeface="Calibri"/>
              </a:rPr>
              <a:t>(بنظام تشغيل من منتجات </a:t>
            </a: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Microsoft</a:t>
            </a: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215968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1360" y="2428560"/>
            <a:ext cx="74293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r" rtl="1">
              <a:spcBef>
                <a:spcPts val="799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0d"/>
                </a:solidFill>
                <a:latin typeface="Calibri"/>
              </a:rPr>
              <a:t>توصيف الـ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Bios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</a:t>
            </a:r>
            <a:r>
              <a:rPr b="0" lang="ar-SA" sz="3200" spc="-1" strike="noStrike">
                <a:solidFill>
                  <a:srgbClr val="0d0d0d"/>
                </a:solidFill>
                <a:latin typeface="Calibri"/>
              </a:rPr>
              <a:t>  بحيث يتوافق مع عتاد الحاسب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0d"/>
                </a:solidFill>
                <a:latin typeface="Calibri"/>
              </a:rPr>
              <a:t>وضع خطة لاختيار أنظمة التشغيل التي سيعمل عليها الحاسب وتجهيز لوحة الاقلا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Calibri"/>
              </a:rPr>
              <a:t>برمجياً وبعد الحصول على نظام التشغيل (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CD-DVD-USB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-…..</a:t>
            </a:r>
            <a:r>
              <a:rPr b="1" lang="ar-SA" sz="28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r" rtl="1">
              <a:spcBef>
                <a:spcPts val="75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تحديد الاقلاع من الـ 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Bios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5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تقسيم القرص الصلب 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Partitions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)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5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تهيئة القسم (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Format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) واختيار نظام الملفات المناسب (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NTFS - FAT32 - FAT16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51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تنزيل (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Copy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)ملفات نظام التشغيل (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OS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)من حامل نظام التشغي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D - DVD - USB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…..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) على القسم المهيأ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5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. نوافق بين نظام التشغيل وعتاد الحاسب ( التعاريف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Drivers</a:t>
            </a:r>
            <a:r>
              <a:rPr b="0" lang="ar-SA" sz="3000" spc="-1" strike="noStrike">
                <a:solidFill>
                  <a:srgbClr val="10253f"/>
                </a:solidFill>
                <a:latin typeface="Calibri"/>
              </a:rPr>
              <a:t> 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spcBef>
                <a:spcPts val="751"/>
              </a:spcBef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70c0"/>
                </a:solidFill>
                <a:latin typeface="Calibri"/>
              </a:rPr>
              <a:t>مجموعة العمل(</a:t>
            </a: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orkgroup</a:t>
            </a:r>
            <a:r>
              <a:rPr b="0" lang="ar-SA" sz="4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Calibri"/>
              </a:rPr>
              <a:t>هي مجموعة من الحواسيب تعمل على مبدأ الند للند(</a:t>
            </a: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Peer to Peer</a:t>
            </a:r>
            <a:r>
              <a:rPr b="0" lang="ar-SA" sz="2400" spc="-1" strike="noStrike">
                <a:solidFill>
                  <a:srgbClr val="376092"/>
                </a:solidFill>
                <a:latin typeface="Calibri"/>
              </a:rPr>
              <a:t>) ويكون نظام التشغيل فيها نظام تشغيل شبكات من نوع </a:t>
            </a: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Client</a:t>
            </a: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)</a:t>
            </a:r>
            <a:r>
              <a:rPr b="0" lang="ar-SA" sz="2400" spc="-1" strike="noStrike">
                <a:solidFill>
                  <a:srgbClr val="376092"/>
                </a:solidFill>
                <a:latin typeface="Calibri"/>
              </a:rPr>
              <a:t>.ويكون فيها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كل حاسب يكون بآن واحد خادم وعمي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ب اعطاء الصلاحيات لكل من يريد الاستفادة من مشاركة الملف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نصح أن لا يكون عدد الحواسيب في مجموعة العمل كبيراً بين (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حاس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شكل بيضاوي 3"/>
          <p:cNvSpPr/>
          <p:nvPr/>
        </p:nvSpPr>
        <p:spPr>
          <a:xfrm>
            <a:off x="900000" y="4005360"/>
            <a:ext cx="3095640" cy="27367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mputr1"/>
          <p:cNvSpPr/>
          <p:nvPr/>
        </p:nvSpPr>
        <p:spPr>
          <a:xfrm>
            <a:off x="2405160" y="4087800"/>
            <a:ext cx="509400" cy="411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mputr1"/>
          <p:cNvSpPr/>
          <p:nvPr/>
        </p:nvSpPr>
        <p:spPr>
          <a:xfrm>
            <a:off x="2189160" y="5049720"/>
            <a:ext cx="509760" cy="409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mputr1"/>
          <p:cNvSpPr/>
          <p:nvPr/>
        </p:nvSpPr>
        <p:spPr>
          <a:xfrm>
            <a:off x="1230480" y="4556160"/>
            <a:ext cx="507960" cy="411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mputr1"/>
          <p:cNvSpPr/>
          <p:nvPr/>
        </p:nvSpPr>
        <p:spPr>
          <a:xfrm>
            <a:off x="3168720" y="4987800"/>
            <a:ext cx="507960" cy="409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mputr1"/>
          <p:cNvSpPr/>
          <p:nvPr/>
        </p:nvSpPr>
        <p:spPr>
          <a:xfrm>
            <a:off x="2405160" y="6107040"/>
            <a:ext cx="509400" cy="409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mputr1"/>
          <p:cNvSpPr/>
          <p:nvPr/>
        </p:nvSpPr>
        <p:spPr>
          <a:xfrm>
            <a:off x="1182600" y="5661000"/>
            <a:ext cx="509760" cy="411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رابط كسهم مستقيم 11"/>
          <p:cNvCxnSpPr>
            <a:stCxn id="55" idx="14"/>
            <a:endCxn id="57" idx="14"/>
          </p:cNvCxnSpPr>
          <p:nvPr/>
        </p:nvCxnSpPr>
        <p:spPr>
          <a:xfrm flipH="1">
            <a:off x="1738080" y="4498560"/>
            <a:ext cx="667440" cy="351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رابط كسهم مستقيم 13"/>
          <p:cNvCxnSpPr>
            <a:stCxn id="57" idx="15"/>
            <a:endCxn id="60" idx="14"/>
          </p:cNvCxnSpPr>
          <p:nvPr/>
        </p:nvCxnSpPr>
        <p:spPr>
          <a:xfrm flipH="1">
            <a:off x="1436400" y="4966920"/>
            <a:ext cx="48240" cy="69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" name="رابط كسهم مستقيم 15"/>
          <p:cNvCxnSpPr>
            <a:stCxn id="59" idx="14"/>
            <a:endCxn id="56" idx="14"/>
          </p:cNvCxnSpPr>
          <p:nvPr/>
        </p:nvCxnSpPr>
        <p:spPr>
          <a:xfrm flipH="1" flipV="1">
            <a:off x="2444040" y="5458680"/>
            <a:ext cx="2149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" name="رابط كسهم مستقيم 17"/>
          <p:cNvCxnSpPr>
            <a:stCxn id="55" idx="15"/>
            <a:endCxn id="58" idx="14"/>
          </p:cNvCxnSpPr>
          <p:nvPr/>
        </p:nvCxnSpPr>
        <p:spPr>
          <a:xfrm>
            <a:off x="2914560" y="4498560"/>
            <a:ext cx="254880" cy="84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5" name="رابط كسهم مستقيم 19"/>
          <p:cNvCxnSpPr>
            <a:stCxn id="60" idx="15"/>
            <a:endCxn id="56" idx="15"/>
          </p:cNvCxnSpPr>
          <p:nvPr/>
        </p:nvCxnSpPr>
        <p:spPr>
          <a:xfrm flipV="1">
            <a:off x="1692360" y="5458680"/>
            <a:ext cx="497520" cy="494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6" name="رابط كسهم مستقيم 21"/>
          <p:cNvCxnSpPr>
            <a:stCxn id="59" idx="15"/>
            <a:endCxn id="60" idx="16"/>
          </p:cNvCxnSpPr>
          <p:nvPr/>
        </p:nvCxnSpPr>
        <p:spPr>
          <a:xfrm flipH="1" flipV="1">
            <a:off x="1692000" y="6071760"/>
            <a:ext cx="762480" cy="293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" name="رابط كسهم مستقيم 23"/>
          <p:cNvCxnSpPr>
            <a:stCxn id="59" idx="16"/>
            <a:endCxn id="58" idx="15"/>
          </p:cNvCxnSpPr>
          <p:nvPr/>
        </p:nvCxnSpPr>
        <p:spPr>
          <a:xfrm flipV="1">
            <a:off x="2914200" y="5396760"/>
            <a:ext cx="508680" cy="1002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8" name="رابط كسهم مستقيم 25"/>
          <p:cNvCxnSpPr>
            <a:stCxn id="58" idx="16"/>
            <a:endCxn id="56" idx="16"/>
          </p:cNvCxnSpPr>
          <p:nvPr/>
        </p:nvCxnSpPr>
        <p:spPr>
          <a:xfrm flipH="1">
            <a:off x="2698200" y="5397480"/>
            <a:ext cx="470520" cy="62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9" name="رابط كسهم مستقيم 27"/>
          <p:cNvCxnSpPr>
            <a:stCxn id="56" idx="17"/>
            <a:endCxn id="57" idx="16"/>
          </p:cNvCxnSpPr>
          <p:nvPr/>
        </p:nvCxnSpPr>
        <p:spPr>
          <a:xfrm flipH="1" flipV="1">
            <a:off x="1738080" y="4966560"/>
            <a:ext cx="451440" cy="375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70" name="مربع نص 1039"/>
          <p:cNvSpPr/>
          <p:nvPr/>
        </p:nvSpPr>
        <p:spPr>
          <a:xfrm rot="18784200">
            <a:off x="501480" y="4217760"/>
            <a:ext cx="11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مجموعة ع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70c0"/>
                </a:solidFill>
                <a:latin typeface="Calibri"/>
              </a:rPr>
              <a:t>النطاق (</a:t>
            </a: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Domain</a:t>
            </a:r>
            <a:r>
              <a:rPr b="0" lang="ar-SA" sz="4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هو مجموعة من الحواسيب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ents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) تقاد من حاسب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), ونظام التشغيل في الحاسب القائد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) هو نظام تشغيل شبكات من نوع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أما بقية الحواسيب فتحمل نظام تشغيل شبكات من نوع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كل حاسب في النطاق له مهمته إما </a:t>
            </a:r>
            <a:r>
              <a:rPr b="0" lang="ar-SA" sz="3000" spc="-1" strike="noStrike">
                <a:solidFill>
                  <a:srgbClr val="0070c0"/>
                </a:solidFill>
                <a:latin typeface="Calibri"/>
              </a:rPr>
              <a:t>خادما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أو </a:t>
            </a:r>
            <a:r>
              <a:rPr b="0" lang="ar-SA" sz="3000" spc="-1" strike="noStrike">
                <a:solidFill>
                  <a:srgbClr val="0070c0"/>
                </a:solidFill>
                <a:latin typeface="Calibri"/>
              </a:rPr>
              <a:t>عميلا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يُقاد الحاسب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من قبل قائد الشبكة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minist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يُحدد عدد الحواسيب في النطا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   تبعاً لجودة الـ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وك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   البيانات المتبادلة في النطا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mputr1"/>
          <p:cNvSpPr/>
          <p:nvPr/>
        </p:nvSpPr>
        <p:spPr>
          <a:xfrm>
            <a:off x="627120" y="5013360"/>
            <a:ext cx="507960" cy="409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mputr1"/>
          <p:cNvSpPr/>
          <p:nvPr/>
        </p:nvSpPr>
        <p:spPr>
          <a:xfrm>
            <a:off x="3352680" y="5477040"/>
            <a:ext cx="509760" cy="411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mputr1"/>
          <p:cNvSpPr/>
          <p:nvPr/>
        </p:nvSpPr>
        <p:spPr>
          <a:xfrm>
            <a:off x="2367000" y="6091200"/>
            <a:ext cx="509400" cy="411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mputr1"/>
          <p:cNvSpPr/>
          <p:nvPr/>
        </p:nvSpPr>
        <p:spPr>
          <a:xfrm>
            <a:off x="325440" y="5886360"/>
            <a:ext cx="509760" cy="411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رابط كسهم مستقيم 7"/>
          <p:cNvCxnSpPr>
            <a:endCxn id="73" idx="14"/>
          </p:cNvCxnSpPr>
          <p:nvPr/>
        </p:nvCxnSpPr>
        <p:spPr>
          <a:xfrm flipH="1">
            <a:off x="1134720" y="4970520"/>
            <a:ext cx="984960" cy="335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رابط كسهم مستقيم 8"/>
          <p:cNvCxnSpPr>
            <a:stCxn id="75" idx="14"/>
          </p:cNvCxnSpPr>
          <p:nvPr/>
        </p:nvCxnSpPr>
        <p:spPr>
          <a:xfrm flipH="1" flipV="1">
            <a:off x="2118960" y="4969800"/>
            <a:ext cx="504000" cy="1121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رابط كسهم مستقيم 9"/>
          <p:cNvCxnSpPr>
            <a:endCxn id="74" idx="14"/>
          </p:cNvCxnSpPr>
          <p:nvPr/>
        </p:nvCxnSpPr>
        <p:spPr>
          <a:xfrm>
            <a:off x="2119320" y="4970160"/>
            <a:ext cx="1234080" cy="91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رابط كسهم مستقيم 10"/>
          <p:cNvCxnSpPr>
            <a:stCxn id="76" idx="14"/>
          </p:cNvCxnSpPr>
          <p:nvPr/>
        </p:nvCxnSpPr>
        <p:spPr>
          <a:xfrm flipV="1">
            <a:off x="834840" y="4970160"/>
            <a:ext cx="1284840" cy="1208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1" name="رابط كسهم مستقيم 11"/>
          <p:cNvCxnSpPr>
            <a:stCxn id="82" idx="14"/>
          </p:cNvCxnSpPr>
          <p:nvPr/>
        </p:nvCxnSpPr>
        <p:spPr>
          <a:xfrm flipV="1">
            <a:off x="1555560" y="4970160"/>
            <a:ext cx="564120" cy="1303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pic>
        <p:nvPicPr>
          <p:cNvPr id="83" name="Picture 4" descr="C:\Program Files\Microsoft Office\MEDIA\CAGCAT10\j0285750.wmf"/>
          <p:cNvPicPr/>
          <p:nvPr/>
        </p:nvPicPr>
        <p:blipFill>
          <a:blip r:embed="rId1"/>
          <a:stretch/>
        </p:blipFill>
        <p:spPr>
          <a:xfrm>
            <a:off x="1585800" y="4314960"/>
            <a:ext cx="1067040" cy="655560"/>
          </a:xfrm>
          <a:prstGeom prst="rect">
            <a:avLst/>
          </a:prstGeom>
          <a:ln w="0">
            <a:noFill/>
          </a:ln>
        </p:spPr>
      </p:pic>
      <p:sp>
        <p:nvSpPr>
          <p:cNvPr id="82" name="computr1"/>
          <p:cNvSpPr/>
          <p:nvPr/>
        </p:nvSpPr>
        <p:spPr>
          <a:xfrm>
            <a:off x="1300320" y="6273720"/>
            <a:ext cx="509400" cy="409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مربع نص 14"/>
          <p:cNvSpPr/>
          <p:nvPr/>
        </p:nvSpPr>
        <p:spPr>
          <a:xfrm rot="18875400">
            <a:off x="-43200" y="457596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شبكة ذات نطا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مهام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الخادم (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Server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ومهام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الـ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Administrator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في الشبك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86160" y="1500120"/>
            <a:ext cx="4857840" cy="51436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70c0"/>
                </a:solidFill>
                <a:uFillTx/>
                <a:latin typeface="Calibri"/>
              </a:rPr>
              <a:t>Serv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ستقبال المستخدم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ؤمن الاتصال بين عناصر الشبكة ويؤمن عملية تبادل البيان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خدمة النسخ الاحتياطي للنطاق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up Domain Control (BD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خدمة حل اسم الحاسب بالشبكة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main Name Server (DNS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ndows Internet Name services (WI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خدمة تصفح صفحات انترنت تسمى بخدم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خدمة نقل الملفات إلى الخادم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e Transfer Protocol (FT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مربع نص 3"/>
          <p:cNvSpPr/>
          <p:nvPr/>
        </p:nvSpPr>
        <p:spPr>
          <a:xfrm>
            <a:off x="0" y="1500120"/>
            <a:ext cx="4286160" cy="58834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Calibri"/>
              </a:rPr>
              <a:t>Administ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وصيف ال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بحيث يقوم بعمله ك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are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على أكمل وج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نشاء حسابات المستخدمين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name+Password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عطاء صلاحيات للمستخدم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ختار استراتيجية 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</a:rPr>
              <a:t>عنونة الحواسيب (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P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4f6228"/>
                </a:solidFill>
                <a:latin typeface="Calibri"/>
              </a:rPr>
              <a:t>وتسميته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e46c0a"/>
                </a:solidFill>
                <a:latin typeface="Calibri"/>
              </a:rPr>
              <a:t>واختيار اسم مجموعة العمل وبالتالي النطا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هوية الحاسب في الشبك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سم الحاسب (لايجوز تكرار الاسم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نوان ال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(لا يجوز تكرار العنوان في الشبكة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سم مجموعة العمل وبالتالي نطاق (اسم مجموعة العمل يتكرر في كل حاسب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مربع نص 3"/>
          <p:cNvSpPr/>
          <p:nvPr/>
        </p:nvSpPr>
        <p:spPr>
          <a:xfrm>
            <a:off x="-160560" y="1071720"/>
            <a:ext cx="880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خدم الرئيسي  و المخدمات الملحق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05:44:12Z</dcterms:created>
  <dc:creator>user</dc:creator>
  <dc:description/>
  <dc:language>en-US</dc:language>
  <cp:lastModifiedBy>Dr. Hisham Abhari</cp:lastModifiedBy>
  <dcterms:modified xsi:type="dcterms:W3CDTF">2002-06-07T20:39:16Z</dcterms:modified>
  <cp:revision>16</cp:revision>
  <dc:subject/>
  <dc:title>تهيئة الحاسب للعمل (من منتجات Microsoft )</dc:title>
</cp:coreProperties>
</file>