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D31-22A0-44B5-8426-51C3A14BCB8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D2C-622B-4373-A22C-63B2A13DDF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0B2-DB5B-4BB7-B5F4-4A3921E8668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9F1C-47EF-4D33-AC61-39324DFD54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AAB-00F4-4614-B98B-79E4A447D4E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472-8FC8-4D88-960D-53EE0AAE9AB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F155-CFBD-4171-9533-FCD5103007E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353-C40C-4AAA-970E-46AA4D71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5E3-A07C-4C57-98D1-0D6F304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2E3-E58A-44B4-AF0E-1EDE8F04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09A-F0CE-4927-9B66-095983CC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9C9-6A04-4340-B935-E561CA83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354-2006-4D78-9FA6-DD8E4610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180-2960-4494-9FE1-05722DAB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5D5-A27C-4F03-8F75-DB09D96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5A6-FE6D-4941-B9E4-B085C6D2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F13-A976-42E2-8C3B-E845D66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A53-3351-407F-9230-2C22586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EC8-D77A-4FC8-AEF4-47D7185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3D6-3633-4F05-AB7A-DBBC601641D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</a:rPr>
              <a:t>تهيئة الحاسب للعمل </a:t>
            </a:r>
            <a:r>
              <a:rPr b="0" lang="ar-SA" sz="2800" spc="-1" strike="noStrike">
                <a:solidFill>
                  <a:srgbClr val="215968"/>
                </a:solidFill>
                <a:latin typeface="Calibri"/>
              </a:rPr>
              <a:t>(بنظام تشغيل من منتجات 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Microsoft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215968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2428560"/>
            <a:ext cx="74293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Calibri"/>
              </a:rPr>
              <a:t>توصيف الـ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ios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0" lang="ar-SA" sz="3200" spc="-1" strike="noStrike">
                <a:solidFill>
                  <a:srgbClr val="0d0d0d"/>
                </a:solidFill>
                <a:latin typeface="Calibri"/>
              </a:rPr>
              <a:t>  بحيث يتوافق مع عتاد الحاس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Calibri"/>
              </a:rPr>
              <a:t>وضع خطة لاختيار أنظمة التشغيل التي سيعمل عليها الحاسب وتجهيز لوحة الاقلا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برمجياً وبعد الحصول على نظام التشغيل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D-DVD-USB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-…..</a:t>
            </a: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حديد الاقلاع من الـ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Bios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قسيم القرص الصلب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Partitions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)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هيئة القسم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Format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 واختيار نظام الملفات المناسب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NTFS - FAT32 - FAT16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نزيل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Copy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ملفات نظام التشغيل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OS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من حامل نظام التشغي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D - DVD - US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…..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 على القسم المهي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5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. نوافق بين نظام التشغيل وعتاد الحاسب ( التعاريف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Drivers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 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مجموعة العمل(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orkgroup</a:t>
            </a: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Calibri"/>
              </a:rPr>
              <a:t>هي مجموعة من الحواسيب تعمل على مبدأ الند للند(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Peer to Peer</a:t>
            </a:r>
            <a:r>
              <a:rPr b="0" lang="ar-SA" sz="2400" spc="-1" strike="noStrike">
                <a:solidFill>
                  <a:srgbClr val="376092"/>
                </a:solidFill>
                <a:latin typeface="Calibri"/>
              </a:rPr>
              <a:t>) ويكون نظام التشغيل فيها نظام تشغيل شبكات من نوع 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Client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)</a:t>
            </a:r>
            <a:r>
              <a:rPr b="0" lang="ar-SA" sz="2400" spc="-1" strike="noStrike">
                <a:solidFill>
                  <a:srgbClr val="376092"/>
                </a:solidFill>
                <a:latin typeface="Calibri"/>
              </a:rPr>
              <a:t>.ويكون في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كل حاسب يكون بآن واحد خادم وعمي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اعطاء الصلاحيات لكل من يريد الاستفادة من مشاركة الملف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نصح أن لا يكون عدد الحواسيب في مجموعة العمل كبيراً بين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حاس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شكل بيضاوي 3"/>
          <p:cNvSpPr/>
          <p:nvPr/>
        </p:nvSpPr>
        <p:spPr>
          <a:xfrm>
            <a:off x="900000" y="4005360"/>
            <a:ext cx="3095640" cy="2736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mputr1"/>
          <p:cNvSpPr/>
          <p:nvPr/>
        </p:nvSpPr>
        <p:spPr>
          <a:xfrm>
            <a:off x="2405160" y="4087800"/>
            <a:ext cx="50940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mputr1"/>
          <p:cNvSpPr/>
          <p:nvPr/>
        </p:nvSpPr>
        <p:spPr>
          <a:xfrm>
            <a:off x="2189160" y="5049720"/>
            <a:ext cx="50976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mputr1"/>
          <p:cNvSpPr/>
          <p:nvPr/>
        </p:nvSpPr>
        <p:spPr>
          <a:xfrm>
            <a:off x="1230480" y="4556160"/>
            <a:ext cx="5079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1"/>
          <p:cNvSpPr/>
          <p:nvPr/>
        </p:nvSpPr>
        <p:spPr>
          <a:xfrm>
            <a:off x="3168720" y="4987800"/>
            <a:ext cx="50796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mputr1"/>
          <p:cNvSpPr/>
          <p:nvPr/>
        </p:nvSpPr>
        <p:spPr>
          <a:xfrm>
            <a:off x="2405160" y="6107040"/>
            <a:ext cx="50940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mputr1"/>
          <p:cNvSpPr/>
          <p:nvPr/>
        </p:nvSpPr>
        <p:spPr>
          <a:xfrm>
            <a:off x="1182600" y="5661000"/>
            <a:ext cx="5097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رابط كسهم مستقيم 11"/>
          <p:cNvCxnSpPr>
            <a:stCxn id="55" idx="14"/>
            <a:endCxn id="57" idx="14"/>
          </p:cNvCxnSpPr>
          <p:nvPr/>
        </p:nvCxnSpPr>
        <p:spPr>
          <a:xfrm flipH="1">
            <a:off x="1738080" y="4498560"/>
            <a:ext cx="66744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رابط كسهم مستقيم 13"/>
          <p:cNvCxnSpPr>
            <a:stCxn id="57" idx="15"/>
            <a:endCxn id="60" idx="14"/>
          </p:cNvCxnSpPr>
          <p:nvPr/>
        </p:nvCxnSpPr>
        <p:spPr>
          <a:xfrm flipH="1">
            <a:off x="1436400" y="4966920"/>
            <a:ext cx="48240" cy="69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" name="رابط كسهم مستقيم 15"/>
          <p:cNvCxnSpPr>
            <a:stCxn id="59" idx="14"/>
            <a:endCxn id="56" idx="14"/>
          </p:cNvCxnSpPr>
          <p:nvPr/>
        </p:nvCxnSpPr>
        <p:spPr>
          <a:xfrm flipH="1" flipV="1">
            <a:off x="2444040" y="5458680"/>
            <a:ext cx="2149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" name="رابط كسهم مستقيم 17"/>
          <p:cNvCxnSpPr>
            <a:stCxn id="55" idx="15"/>
            <a:endCxn id="58" idx="14"/>
          </p:cNvCxnSpPr>
          <p:nvPr/>
        </p:nvCxnSpPr>
        <p:spPr>
          <a:xfrm>
            <a:off x="2914560" y="4498560"/>
            <a:ext cx="254880" cy="84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رابط كسهم مستقيم 19"/>
          <p:cNvCxnSpPr>
            <a:stCxn id="60" idx="15"/>
            <a:endCxn id="56" idx="15"/>
          </p:cNvCxnSpPr>
          <p:nvPr/>
        </p:nvCxnSpPr>
        <p:spPr>
          <a:xfrm flipV="1">
            <a:off x="1692360" y="5458680"/>
            <a:ext cx="497520" cy="49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رابط كسهم مستقيم 21"/>
          <p:cNvCxnSpPr>
            <a:stCxn id="59" idx="15"/>
            <a:endCxn id="60" idx="16"/>
          </p:cNvCxnSpPr>
          <p:nvPr/>
        </p:nvCxnSpPr>
        <p:spPr>
          <a:xfrm flipH="1" flipV="1">
            <a:off x="1692000" y="6071760"/>
            <a:ext cx="762480" cy="29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رابط كسهم مستقيم 23"/>
          <p:cNvCxnSpPr>
            <a:stCxn id="59" idx="16"/>
            <a:endCxn id="58" idx="15"/>
          </p:cNvCxnSpPr>
          <p:nvPr/>
        </p:nvCxnSpPr>
        <p:spPr>
          <a:xfrm flipV="1">
            <a:off x="2914200" y="5396760"/>
            <a:ext cx="508680" cy="100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رابط كسهم مستقيم 25"/>
          <p:cNvCxnSpPr>
            <a:stCxn id="58" idx="16"/>
            <a:endCxn id="56" idx="16"/>
          </p:cNvCxnSpPr>
          <p:nvPr/>
        </p:nvCxnSpPr>
        <p:spPr>
          <a:xfrm flipH="1">
            <a:off x="2698200" y="5397480"/>
            <a:ext cx="470520" cy="6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رابط كسهم مستقيم 27"/>
          <p:cNvCxnSpPr>
            <a:stCxn id="56" idx="17"/>
            <a:endCxn id="57" idx="16"/>
          </p:cNvCxnSpPr>
          <p:nvPr/>
        </p:nvCxnSpPr>
        <p:spPr>
          <a:xfrm flipH="1" flipV="1">
            <a:off x="1738080" y="4966560"/>
            <a:ext cx="451440" cy="375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مربع نص 1039"/>
          <p:cNvSpPr/>
          <p:nvPr/>
        </p:nvSpPr>
        <p:spPr>
          <a:xfrm rot="18784200">
            <a:off x="501480" y="421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مجموعة 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النطاق (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Domain</a:t>
            </a: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هو مجموعة من الحواسيب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s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تقاد من حاسب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, ونظام التشغيل في الحاسب القائد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هو نظام تشغيل شبكات من نو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ما بقية الحواسيب فتحمل نظام تشغيل شبكات من نو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كل حاسب في النطاق له مهمته إما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</a:rPr>
              <a:t>خادما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أو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</a:rPr>
              <a:t>عميل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يُقاد الحاسب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من قبل قائد الشبكة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يُحدد عدد الحواسيب في النط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   تبعاً لجودة الـ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وك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   البيانات المتبادلة في النطا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mputr1"/>
          <p:cNvSpPr/>
          <p:nvPr/>
        </p:nvSpPr>
        <p:spPr>
          <a:xfrm>
            <a:off x="627120" y="5013360"/>
            <a:ext cx="50796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mputr1"/>
          <p:cNvSpPr/>
          <p:nvPr/>
        </p:nvSpPr>
        <p:spPr>
          <a:xfrm>
            <a:off x="3352680" y="5477040"/>
            <a:ext cx="5097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mputr1"/>
          <p:cNvSpPr/>
          <p:nvPr/>
        </p:nvSpPr>
        <p:spPr>
          <a:xfrm>
            <a:off x="2367000" y="6091200"/>
            <a:ext cx="50940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mputr1"/>
          <p:cNvSpPr/>
          <p:nvPr/>
        </p:nvSpPr>
        <p:spPr>
          <a:xfrm>
            <a:off x="325440" y="5886360"/>
            <a:ext cx="5097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رابط كسهم مستقيم 7"/>
          <p:cNvCxnSpPr>
            <a:endCxn id="73" idx="14"/>
          </p:cNvCxnSpPr>
          <p:nvPr/>
        </p:nvCxnSpPr>
        <p:spPr>
          <a:xfrm flipH="1">
            <a:off x="1134720" y="4970520"/>
            <a:ext cx="984960" cy="335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رابط كسهم مستقيم 8"/>
          <p:cNvCxnSpPr>
            <a:stCxn id="75" idx="14"/>
          </p:cNvCxnSpPr>
          <p:nvPr/>
        </p:nvCxnSpPr>
        <p:spPr>
          <a:xfrm flipH="1" flipV="1">
            <a:off x="2118960" y="4969800"/>
            <a:ext cx="504000" cy="1121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رابط كسهم مستقيم 9"/>
          <p:cNvCxnSpPr>
            <a:endCxn id="74" idx="14"/>
          </p:cNvCxnSpPr>
          <p:nvPr/>
        </p:nvCxnSpPr>
        <p:spPr>
          <a:xfrm>
            <a:off x="2119320" y="4970160"/>
            <a:ext cx="1234080" cy="91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رابط كسهم مستقيم 10"/>
          <p:cNvCxnSpPr>
            <a:stCxn id="76" idx="14"/>
          </p:cNvCxnSpPr>
          <p:nvPr/>
        </p:nvCxnSpPr>
        <p:spPr>
          <a:xfrm flipV="1">
            <a:off x="834840" y="4970160"/>
            <a:ext cx="1284840" cy="120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" name="رابط كسهم مستقيم 11"/>
          <p:cNvCxnSpPr>
            <a:stCxn id="82" idx="14"/>
          </p:cNvCxnSpPr>
          <p:nvPr/>
        </p:nvCxnSpPr>
        <p:spPr>
          <a:xfrm flipV="1">
            <a:off x="1555560" y="4970160"/>
            <a:ext cx="564120" cy="130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pic>
        <p:nvPicPr>
          <p:cNvPr id="83" name="Picture 4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1585800" y="4314960"/>
            <a:ext cx="1067040" cy="655560"/>
          </a:xfrm>
          <a:prstGeom prst="rect">
            <a:avLst/>
          </a:prstGeom>
          <a:ln w="0">
            <a:noFill/>
          </a:ln>
        </p:spPr>
      </p:pic>
      <p:sp>
        <p:nvSpPr>
          <p:cNvPr id="82" name="computr1"/>
          <p:cNvSpPr/>
          <p:nvPr/>
        </p:nvSpPr>
        <p:spPr>
          <a:xfrm>
            <a:off x="1300320" y="6273720"/>
            <a:ext cx="50940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ربع نص 14"/>
          <p:cNvSpPr/>
          <p:nvPr/>
        </p:nvSpPr>
        <p:spPr>
          <a:xfrm rot="18875400">
            <a:off x="-43200" y="457596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شبكة ذات نط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ها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خادم (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erve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ها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ـ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Administrato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في الشبك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6160" y="1500120"/>
            <a:ext cx="4857840" cy="51436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70c0"/>
                </a:solidFill>
                <a:uFillTx/>
                <a:latin typeface="Calibri"/>
              </a:rPr>
              <a:t>Serv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ستقبال المستخدم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ؤمن الاتصال بين عناصر الشبكة ويؤمن عملية تبادل البيان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دمة النسخ الاحتياطي للنطاق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up Domain Control (BD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خدمة حل اسم الحاسب بالشبكة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 Name Server (DNS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ows Internet Name services (W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دمة تصفح صفحات انترنت تسمى بخدم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دمة نقل الملفات إلى الخاد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Transfer Protocol (F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مربع نص 3"/>
          <p:cNvSpPr/>
          <p:nvPr/>
        </p:nvSpPr>
        <p:spPr>
          <a:xfrm>
            <a:off x="0" y="1500120"/>
            <a:ext cx="4286160" cy="58834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Calibri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وصيف ال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حيث يقوم بعمله ك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على أكمل وج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نشاء حسابات المستخدمين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+Passwor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طاء صلاحيات للمستخد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ختار استراتيجية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عنونة الحواسيب 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P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4f6228"/>
                </a:solidFill>
                <a:latin typeface="Calibri"/>
              </a:rPr>
              <a:t>وتسميته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e46c0a"/>
                </a:solidFill>
                <a:latin typeface="Calibri"/>
              </a:rPr>
              <a:t>واختيار اسم مجموعة العمل وبالتالي النطا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هوية الحاسب في الشبك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م الحاسب (لايجوز تكرار الاسم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وان ال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لا يجوز تكرار العنوان في الشبكة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م مجموعة العمل وبالتالي نطاق (اسم مجموعة العمل يتكرر في كل حاسب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ربع نص 3"/>
          <p:cNvSpPr/>
          <p:nvPr/>
        </p:nvSpPr>
        <p:spPr>
          <a:xfrm>
            <a:off x="-160560" y="1071720"/>
            <a:ext cx="880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دم الرئيسي  و المخدمات الملحق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5:44:12Z</dcterms:created>
  <dc:creator>user</dc:creator>
  <dc:description/>
  <dc:language>en-US</dc:language>
  <cp:lastModifiedBy>Dr. Hisham Abhari</cp:lastModifiedBy>
  <dcterms:modified xsi:type="dcterms:W3CDTF">2002-06-07T20:39:16Z</dcterms:modified>
  <cp:revision>16</cp:revision>
  <dc:subject/>
  <dc:title>تهيئة الحاسب للعمل (من منتجات Microsoft )</dc:title>
</cp:coreProperties>
</file>